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1B55-0EC0-4E77-881E-250D87AA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14A-F935-4C2B-A86A-0BC2015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1F4-4333-4BA5-970B-D4512523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B58-6860-4907-813F-888B37D1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08AA-20BE-4AD0-AF23-3CADA570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56B7-64E0-42E5-96EF-28126B3A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80FA-D4B0-4DE1-8343-0C6E92A3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E33-D01C-45B5-9580-6109DD9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A5D2-8F76-4BA7-A38F-F4DC7EFD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1594-7DC4-4B38-B951-ABC44B3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99A2-2E51-4B6C-B5FC-C60D04B0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6B1-5C30-438F-B448-D2D19CE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D29C-178F-48C0-89C1-E4C1187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8614-B725-4670-A75C-B7BEE49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6BC-D194-4729-B1AE-DA03C6B7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D02D-D6F7-4F59-9896-A7355AC6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BE63-D56C-4D18-B4C6-BD30BFD3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B64-0D6C-45CB-B9A8-0DE18F7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A0C-D951-484D-B110-7B770CE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998-602F-47FB-AF2A-3A02F41E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707-0619-4F83-A852-4BE5066C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C18-0AE2-4AC8-88CF-1B70D4F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F4C-D4DA-4665-9195-456D0D42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8EC-4C52-420B-BC35-2A083E7F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6CCE-3E19-428B-B348-A343E9A850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3C84-BF9C-48FA-9639-8A98D875CE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зыка, как средство воспитания культурного человека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рограммы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ЦРТДЮ г. Черногорс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еханова Ольга Степан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едметно-развивающая сред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могающие при слушании музыкального произ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оизведен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обия, побуждающие к певческой, танцевальной, театраль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творческая деятельность 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обия, побуждающие к песенному, танцевальному, музыкально-игровому творчеству, импров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игрушки, наглядный музыкально-дидактический материал, аудиовизуальные средства (магнитофон, набор кассет, дисков), телевиз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жидаемый результа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Любовь и интерес к музы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нать начальные элементы музыкальной грам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Развитие общей музыкальности (сенсорные способности, ладовый слух, чувство ритм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Развитие творческих отношений к музыке средствами передачи образа в музыкальных играх, хороводах, танцевальных движений, импровизации песен и попев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ыступление на концертах и праздник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ды и формы контрол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вод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межут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того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итерии оценки ЗУН </a:t>
            </a: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по Б.М.Теплову)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довое чув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слушанию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узыкальное вним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ысказывание о музы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знавание мелодии по музыкальному фрагмен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о-слуховые предст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дбор мелодии по слух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без сопровождения знакомых песен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 с сопровожде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высоты, длительности зву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увство рит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ь движений в ритме музы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роизведение ритмического рисунка (хлопки, притоп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ответствие эмоциональной окраски движений характеру музыки с контрастными част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блиц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26920" y="1844640"/>
          <a:ext cx="7796520" cy="3282840"/>
        </p:xfrm>
        <a:graphic>
          <a:graphicData uri="http://schemas.openxmlformats.org/drawingml/2006/table">
            <a:tbl>
              <a:tblPr/>
              <a:tblGrid>
                <a:gridCol w="398520"/>
                <a:gridCol w="1185840"/>
                <a:gridCol w="611280"/>
                <a:gridCol w="828720"/>
                <a:gridCol w="649440"/>
                <a:gridCol w="792000"/>
                <a:gridCol w="863640"/>
                <a:gridCol w="863640"/>
                <a:gridCol w="1603440"/>
              </a:tblGrid>
              <a:tr h="1618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.и.р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адов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зыкально-слуховые представл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вств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тм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пертуа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тров Вас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са по лесу ходила. Р.н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ктура пла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чебны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Учеб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Содержание программы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лендарно – тематический план на 1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ывод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юда следуе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грамма по музыке в ШРР «Буратино»  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,  помогает детям слышать, любить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мать музыку, чувствовать её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писок литератур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етлугина Н.А. Музыкальное развитие ребёнка – М: Просвещение, 1968. – 412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етлугина Н.А. Методика музыкального воспитания в детском саду – М: Просвещение 1982. – 270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етлугина Н.А., Кенеман А.В. Методика и теория музыкального воспитания – Просвещение, 1983. – 25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Метлов Н.А. Музыка детям – М: Просвещение, 1985. – 144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Радынова О.П. Музыкальное воспитание дошкольников – М: Просвещение. Владос, 1994. – 22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од создания программы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по музыке «Родничок» ШРР «Буратин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детей 6 – 7 лет разработана в 2003 году, доработ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05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снове программы лежит методика обучения грам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. Шулешко, программа О.А. Куревиной «Синте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», методика знакомства с музыкой Д.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балевского, а так же многолетний опыт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ьми данного возра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нятия проводятс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раз в неделю для четырёх групп по 1 ч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 35 минут с перерывом на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у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– 144 ча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 – 10 челов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нност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нятие проводится в игров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ети учатся слышать и слушать музык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личать современную, классическую, народную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оходит знакомство с русской народной культур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пециальной програм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 занятиях используется методика Арт – терап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терапия, изо – тера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инцип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ари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реатив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Гума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ль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музыкальных способностей детей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м средств музыкаль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рази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дачи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Накапливать и систематизировать жизненный опыт детей средствами музы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Воспитывать личность ребёнка через музыкальную культу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Развивать музыкальные и творческие способности детей с учётом возрастных особен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Способствовать формированию общей духовной и музыкальн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Активизировать детское исполнительство через концертную дея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словия реализации программ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риятие музы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уш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гры и хоро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музыкально – дидактические иг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ехнические средст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глядный материа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ветлое помещ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доброе отношение к де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редства музыкального искусств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6" name="Diagram 5"/>
          <p:cNvGrpSpPr/>
          <p:nvPr/>
        </p:nvGrpSpPr>
        <p:grpSpPr>
          <a:xfrm>
            <a:off x="1343880" y="2021760"/>
            <a:ext cx="7248600" cy="3455280"/>
            <a:chOff x="1343880" y="2021760"/>
            <a:chExt cx="7248600" cy="3455280"/>
          </a:xfrm>
        </p:grpSpPr>
        <p:sp>
          <p:nvSpPr>
            <p:cNvPr id="127" name="_s1028"/>
            <p:cNvSpPr/>
            <p:nvPr/>
          </p:nvSpPr>
          <p:spPr>
            <a:xfrm flipH="1">
              <a:off x="3155400" y="3749760"/>
              <a:ext cx="90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_s1029"/>
            <p:cNvSpPr/>
            <p:nvPr/>
          </p:nvSpPr>
          <p:spPr>
            <a:xfrm>
              <a:off x="1343880" y="3317760"/>
              <a:ext cx="181188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Инструмент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ркестро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0"/>
            <p:cNvSpPr/>
            <p:nvPr/>
          </p:nvSpPr>
          <p:spPr>
            <a:xfrm>
              <a:off x="4968360" y="4181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1"/>
            <p:cNvSpPr/>
            <p:nvPr/>
          </p:nvSpPr>
          <p:spPr>
            <a:xfrm>
              <a:off x="4061880" y="461340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Концертная деятельность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2"/>
            <p:cNvSpPr/>
            <p:nvPr/>
          </p:nvSpPr>
          <p:spPr>
            <a:xfrm>
              <a:off x="5874480" y="3749760"/>
              <a:ext cx="90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33"/>
            <p:cNvSpPr/>
            <p:nvPr/>
          </p:nvSpPr>
          <p:spPr>
            <a:xfrm>
              <a:off x="678024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арш. Танец. Песня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 flipV="1">
              <a:off x="4968360" y="288540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35"/>
            <p:cNvSpPr/>
            <p:nvPr/>
          </p:nvSpPr>
          <p:spPr>
            <a:xfrm>
              <a:off x="4061880" y="2021760"/>
              <a:ext cx="1812240" cy="863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кальны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(сольные, ансамблевые)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4061880" y="3317760"/>
              <a:ext cx="181224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 искусство 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его жанры.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42:07Z</dcterms:created>
  <dc:creator>Admin</dc:creator>
  <dc:description/>
  <dc:language>en-US</dc:language>
  <cp:lastModifiedBy>1</cp:lastModifiedBy>
  <dcterms:modified xsi:type="dcterms:W3CDTF">2013-07-24T04:27:38Z</dcterms:modified>
  <cp:revision>17</cp:revision>
  <dc:subject/>
  <dc:title>Музыка, как средство воспитания культурного человека.</dc:title>
</cp:coreProperties>
</file>