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B1D-F2D9-4A57-82BF-EA6370FC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AE5-9B5E-4AE9-BA9B-D24006F9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632-1E27-4939-A008-58BCF694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0DE-E7BD-4391-B7CE-1D929E86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66D2-466A-4655-B56B-708293B4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F240-8ABF-45E7-AE63-8A81B91C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97B2-63E4-45E3-BC85-34897B0D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74B5-57B4-4C6D-B7F5-DFEF3A0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2276-3269-4C55-84E6-62F25339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8524-10C2-46B6-850D-ED59906E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2F18-4347-4033-A917-9E9B29F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813-1382-4C8E-BA6C-0AB3F3D8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BE5C-9346-4CE0-876A-CB5ED1B9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0730-2D4C-4AFF-96BA-46CA2B3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2153-7403-470D-9277-FBFE3A18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EDCF-5BF8-444C-82E7-4036E12A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CDF4-4502-451C-B08B-5AD9332C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F6F-68F9-4855-A884-CC6D64E8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76E-628A-47AE-A5DC-7F19D17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023-DD33-40F6-B025-0A39C963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2A7-7004-4471-9102-DA4CB8C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060-A680-4528-9216-A8C58302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2B3-7883-4CE7-B397-6A2D996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1CD-99BC-42DD-B009-284050D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8ED-2178-4B79-84C7-DD9C240829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1EDC-F43C-4AFB-8065-C3D91570D9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узыка, как средство воспитания культурного челове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программы по музыке «Родничок» ШРР «Бурати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ЦРТДЮ г. Черногорс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еханова Ольга Степано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едметно-развивающая сред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иятие музыки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обия, помогающие при слушании музыкального произ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оизведен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обия, побуждающие к певческой, танцевальной, театра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о-творческая деятельность 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обия, побуждающие к песенному, танцевальному, музыкально-игровому творчеству, импров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е игрушки, наглядный музыкально-дидактический материал, аудиовизуальные средства (магнитофон, набор кассет, дисков), телевиз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жидаемый результат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Любовь и интерес к музы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нать начальные элементы музыкальной грам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Развитие общей музыкальности (сенсорные способности, ладовый слух, чувство ритм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Развитие творческих отношений к музыке средствами передачи образа в музыкальных играх, хороводах, танцевальных движений, импровизации песен и попев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ыступление на концертах и праздни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иды и формы контрол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вод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межут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того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ритерии оценки ЗУН </a:t>
            </a: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по Б.М.Теплову)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довое чув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слушанию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узыкальное вним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сказывание о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знавание мелодии по музыкальному фрагмен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о-слуховые предст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бор мелодии по слух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 без сопровождения знакомых песен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 с сопровожден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ение высоты, длительности зву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увство рит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ь движений в ритме музы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роизведение ритмического рисунка (хлопки, притоп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ответствие эмоциональной окраски движений характеру музыки с контрастными ча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блиц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26920" y="1844640"/>
          <a:ext cx="7796520" cy="3282840"/>
        </p:xfrm>
        <a:graphic>
          <a:graphicData uri="http://schemas.openxmlformats.org/drawingml/2006/table">
            <a:tbl>
              <a:tblPr/>
              <a:tblGrid>
                <a:gridCol w="398520"/>
                <a:gridCol w="1185840"/>
                <a:gridCol w="611280"/>
                <a:gridCol w="828720"/>
                <a:gridCol w="649440"/>
                <a:gridCol w="792000"/>
                <a:gridCol w="863640"/>
                <a:gridCol w="863640"/>
                <a:gridCol w="1603440"/>
              </a:tblGrid>
              <a:tr h="1618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.и.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адов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зыкально-слуховые предст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тм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пертуа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ов Вас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са по лесу ходила. Р.н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ктура план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чебны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Учебно – тематически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Содержание программы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алендарно – тематически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вод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следует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грамма по музыке в ШРР «Буратино»  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м средств музыкаль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и,  помогает детям слышать, любить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ть музыку, чувствовать её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писок литератур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етлугина Н.А. Музыкальное развитие ребёнка – М: Просвещение, 1968. – 412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етлугина Н.А. Методика музыкального воспитания в детском саду – М: Просвещение 1982. – 270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етлугина Н.А., Кенеман А.В. Методика и теория музыкального воспитания – Просвещение, 1983. – 254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Метлов Н.А. Музыка детям – М: Просвещение, 1985. – 144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Радынова О.П. Музыкальное воспитание дошкольников – М: Просвещение. Владос, 1994. – 22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од создания программы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по музыке «Родничок» ШРР «Бурати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тей 6 – 7 лет разработана в 2003 году, доработ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5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программы лежит методика обучения грам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. Шулешко, программа О.А. Куревиной «Синте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», методика знакомства с музыкой Д.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балевского, а так же многолетний опыт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ьми данного возра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нятия проводятс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раз в неделю для четырёх групп по 1 ч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  35 минут с перерывом на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– 144 ча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 – 10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нность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анятие проводится в игров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ти учатся слышать и слушать музы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личать современную, классическую, народну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оходит знакомство с русской народной культур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пециальной програм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 занятиях используется методика Арт – терап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терапия, изо – тера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нцип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ари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ре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Гума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ль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музыкальных способностей детей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м средств музыкаль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дачи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капливать и систематизировать жизненный опыт детей средствами музы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оспитывать личность ребёнка через музыкальную культу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Развивать музыкальные и творческие способности детей с учётом возрастных особенн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Способствовать формированию общей духовной и музыкальн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Активизировать детское исполнительство через концертную дея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ловия реализации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иятие музы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уш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гры и хоро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узыкально – дидактические иг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хнические сред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глядный материа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етлое помещ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брое отношение к де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едства музыкального искусств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6" name="Diagram 5"/>
          <p:cNvGrpSpPr/>
          <p:nvPr/>
        </p:nvGrpSpPr>
        <p:grpSpPr>
          <a:xfrm>
            <a:off x="1343880" y="2021760"/>
            <a:ext cx="7248600" cy="3455280"/>
            <a:chOff x="1343880" y="2021760"/>
            <a:chExt cx="7248600" cy="3455280"/>
          </a:xfrm>
        </p:grpSpPr>
        <p:sp>
          <p:nvSpPr>
            <p:cNvPr id="127" name="_s1028"/>
            <p:cNvSpPr/>
            <p:nvPr/>
          </p:nvSpPr>
          <p:spPr>
            <a:xfrm flipH="1">
              <a:off x="3155400" y="3749760"/>
              <a:ext cx="906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_s1029"/>
            <p:cNvSpPr/>
            <p:nvPr/>
          </p:nvSpPr>
          <p:spPr>
            <a:xfrm>
              <a:off x="1343880" y="3317760"/>
              <a:ext cx="181188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Инструментальны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(сольные, ансамблевые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ркестровые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0"/>
            <p:cNvSpPr/>
            <p:nvPr/>
          </p:nvSpPr>
          <p:spPr>
            <a:xfrm>
              <a:off x="4968360" y="418140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1"/>
            <p:cNvSpPr/>
            <p:nvPr/>
          </p:nvSpPr>
          <p:spPr>
            <a:xfrm>
              <a:off x="4061880" y="461340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Концертная деятельность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2"/>
            <p:cNvSpPr/>
            <p:nvPr/>
          </p:nvSpPr>
          <p:spPr>
            <a:xfrm>
              <a:off x="5874480" y="3749760"/>
              <a:ext cx="90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6780240" y="331776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арш. Танец. Песня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 flipV="1">
              <a:off x="4968360" y="288540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1035"/>
            <p:cNvSpPr/>
            <p:nvPr/>
          </p:nvSpPr>
          <p:spPr>
            <a:xfrm>
              <a:off x="4061880" y="2021760"/>
              <a:ext cx="1812240" cy="863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кальны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(сольные, ансамблевые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4061880" y="331776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 искусство 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его жанры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42:07Z</dcterms:created>
  <dc:creator>Admin</dc:creator>
  <dc:description/>
  <dc:language>en-US</dc:language>
  <cp:lastModifiedBy>1</cp:lastModifiedBy>
  <dcterms:modified xsi:type="dcterms:W3CDTF">2013-07-24T04:27:38Z</dcterms:modified>
  <cp:revision>17</cp:revision>
  <dc:subject/>
  <dc:title>Музыка, как средство воспитания культурного человека.</dc:title>
</cp:coreProperties>
</file>