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E29-78EF-46F1-A888-D4CBBEDC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4BE-40D8-4F65-B5C4-E402790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D9B-664C-4F12-9315-D776206D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FE2-5D70-4FE7-8ECE-1FEAB324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C9BD-5D24-444A-8868-6D546CD8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A549-EF84-45D0-B0EE-7E5FA47D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E8A2-30D4-4621-BD9A-C497ECD7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A1FE-5BCB-46F6-B65B-598CA785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95C-F325-4746-B7E2-3E963349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3380-17CA-4B69-A21E-65875F11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9B94-32B3-424F-B0D6-E06F4EF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0A5-F4C2-4346-941F-45D3709D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3A83-DA1D-435C-93E6-C31877E4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8FEF-8039-40B3-AD92-1EF9903A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51A4-353F-4145-8538-0EF9A423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FB79-94EB-4D35-85F4-D43D5BED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660F-C7B3-4E31-A9D6-4FD82B8C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D72-5DD8-4836-93BE-CC38739A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64B-A50A-4EAA-8EA3-A805254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08A-1463-46D1-B2F2-4EB2974F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B6A-4286-4DBA-A655-5F6C56BD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6C1-D15E-44B9-8D05-132EFFE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857-9315-4588-B9A9-6A114D0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8C0-9144-4386-B478-0BC210A8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B928-A45A-497C-A0D3-12A5262847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6260-2106-4C52-9EC1-AE3D7FADC3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узыка, как средство воспитания культурного челове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программы по музыке «Родничок» ШРР «Буратин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ЦРТДЮ г. Черногорс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еханова Ольга Степано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едметно-развивающая сред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иятие музыки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обия, помогающие при слушании музыкального произ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оизведен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обия, побуждающие к певческой, танцевальной, театраль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о-творческая деятельность 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обия, побуждающие к песенному, танцевальному, музыкально-игровому творчеству, импров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и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е игрушки, наглядный музыкально-дидактический материал, аудиовизуальные средства (магнитофон, набор кассет, дисков), телевиз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жидаемый результат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Любовь и интерес к музы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нать начальные элементы музыкальной грам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Развитие общей музыкальности (сенсорные способности, ладовый слух, чувство ритм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Развитие творческих отношений к музыке средствами передачи образа в музыкальных играх, хороводах, танцевальных движений, импровизации песен и попев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ыступление на концертах и праздни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иды и формы контрол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вод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межуточ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того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ритерии оценки ЗУН </a:t>
            </a:r>
            <a:br>
              <a:rPr sz="4000"/>
            </a:b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по Б.М.Теплову)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довое чув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 к слушанию музы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узыкальное вним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сказывание о музы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знавание мелодии по музыкальному фрагмен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о-слуховые предст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дбор мелодии по слух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ние без сопровождения знакомых песен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ние с сопровождени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ение высоты, длительности зву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увство рит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льность движений в ритме музы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роизведение ритмического рисунка (хлопки, притоп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ответствие эмоциональной окраски движений характеру музыки с контрастными част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аблиц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26920" y="1844640"/>
          <a:ext cx="7796520" cy="3282840"/>
        </p:xfrm>
        <a:graphic>
          <a:graphicData uri="http://schemas.openxmlformats.org/drawingml/2006/table">
            <a:tbl>
              <a:tblPr/>
              <a:tblGrid>
                <a:gridCol w="398520"/>
                <a:gridCol w="1185840"/>
                <a:gridCol w="611280"/>
                <a:gridCol w="828720"/>
                <a:gridCol w="649440"/>
                <a:gridCol w="792000"/>
                <a:gridCol w="863640"/>
                <a:gridCol w="863640"/>
                <a:gridCol w="1603440"/>
              </a:tblGrid>
              <a:tr h="1618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.и.р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адов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зыкально-слуховые предст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тм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пертуа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ров Вас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са по лесу ходила. Р.н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ктура план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Учебный план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Учебно – тематический план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Содержание программы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алендарно – тематический план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ывод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 следует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грамма по музыке в ШРР «Буратино»  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м средств музыкаль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льности,  помогает детям слышать, любить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ть музыку, чувствовать её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писок литератур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Ветлугина Н.А. Музыкальное развитие ребёнка – М: Просвещение, 1968. – 412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Ветлугина Н.А. Методика музыкального воспитания в детском саду – М: Просвещение 1982. – 270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етлугина Н.А., Кенеман А.В. Методика и теория музыкального воспитания – Просвещение, 1983. – 254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Метлов Н.А. Музыка детям – М: Просвещение, 1985. – 144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Радынова О.П. Музыкальное воспитание дошкольников – М: Просвещение. Владос, 1994. – 22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од создания программы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по музыке «Родничок» ШРР «Буратин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етей 6 – 7 лет разработана в 2003 году, доработ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05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е программы лежит методика обучения грам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. Шулешко, программа О.А. Куревиной «Синте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ств», методика знакомства с музыкой Д.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балевского, а так же многолетний опыт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ьми данного возра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нятия проводятс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раз в неделю для четырёх групп по 1 ча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льность  35 минут с перерывом на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– 144 ча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 – 10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енность програм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занятие проводится в игров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ти учатся слышать и слушать музы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личать современную, классическую, народну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оходит знакомство с русской народной культур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пециальной програм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 занятиях используется методика Арт – терап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а терапия, изо – тера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нцип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ариатив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реатив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Гума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ель програм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музыкальных способностей детей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м средств музыкаль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дачи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Накапливать и систематизировать жизненный опыт детей средствами музы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Воспитывать личность ребёнка через музыкальную культу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Развивать музыкальные и творческие способности детей с учётом возрастных особенно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Способствовать формированию общей духовной и музыкальн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Активизировать детское исполнительство через концертную дея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словия реализации програм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иятие музы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уш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гры и хоро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узыкально – дидактические иг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ехнические сред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глядный материа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ветлое помещ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брое отношение к дет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редства музыкального искусств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6" name="Diagram 5"/>
          <p:cNvGrpSpPr/>
          <p:nvPr/>
        </p:nvGrpSpPr>
        <p:grpSpPr>
          <a:xfrm>
            <a:off x="1343880" y="2021760"/>
            <a:ext cx="7248600" cy="3455280"/>
            <a:chOff x="1343880" y="2021760"/>
            <a:chExt cx="7248600" cy="3455280"/>
          </a:xfrm>
        </p:grpSpPr>
        <p:sp>
          <p:nvSpPr>
            <p:cNvPr id="127" name="_s1028"/>
            <p:cNvSpPr/>
            <p:nvPr/>
          </p:nvSpPr>
          <p:spPr>
            <a:xfrm flipH="1">
              <a:off x="3155400" y="3749760"/>
              <a:ext cx="906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_s1029"/>
            <p:cNvSpPr/>
            <p:nvPr/>
          </p:nvSpPr>
          <p:spPr>
            <a:xfrm>
              <a:off x="1343880" y="3317760"/>
              <a:ext cx="181188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Инструментальны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(сольные, ансамблевые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ркестровые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0"/>
            <p:cNvSpPr/>
            <p:nvPr/>
          </p:nvSpPr>
          <p:spPr>
            <a:xfrm>
              <a:off x="4968360" y="4181400"/>
              <a:ext cx="0" cy="43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_s1031"/>
            <p:cNvSpPr/>
            <p:nvPr/>
          </p:nvSpPr>
          <p:spPr>
            <a:xfrm>
              <a:off x="4061880" y="4613400"/>
              <a:ext cx="181224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Концертная деятельность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2"/>
            <p:cNvSpPr/>
            <p:nvPr/>
          </p:nvSpPr>
          <p:spPr>
            <a:xfrm>
              <a:off x="5874480" y="3749760"/>
              <a:ext cx="90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6780240" y="3317760"/>
              <a:ext cx="181224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арш. Танец. Песня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34"/>
            <p:cNvSpPr/>
            <p:nvPr/>
          </p:nvSpPr>
          <p:spPr>
            <a:xfrm flipV="1">
              <a:off x="4968360" y="2885400"/>
              <a:ext cx="0" cy="43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1035"/>
            <p:cNvSpPr/>
            <p:nvPr/>
          </p:nvSpPr>
          <p:spPr>
            <a:xfrm>
              <a:off x="4061880" y="2021760"/>
              <a:ext cx="1812240" cy="863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кальны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(сольные, ансамблевые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1036"/>
            <p:cNvSpPr/>
            <p:nvPr/>
          </p:nvSpPr>
          <p:spPr>
            <a:xfrm>
              <a:off x="4061880" y="3317760"/>
              <a:ext cx="181224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 искусство 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его жанры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42:07Z</dcterms:created>
  <dc:creator>Admin</dc:creator>
  <dc:description/>
  <dc:language>en-US</dc:language>
  <cp:lastModifiedBy>1</cp:lastModifiedBy>
  <dcterms:modified xsi:type="dcterms:W3CDTF">2013-07-24T04:27:38Z</dcterms:modified>
  <cp:revision>17</cp:revision>
  <dc:subject/>
  <dc:title>Музыка, как средство воспитания культурного человека.</dc:title>
</cp:coreProperties>
</file>