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3B7-23A3-40BC-9427-44F50054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480-6B47-45D5-9FBD-AB97BA9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C05-076F-4770-B039-519E0629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F48-8014-48B5-9A13-91CA9473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6EED-A4D9-44BC-A9D3-8D81C8F9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7A62-7137-4766-AEA7-4E025DD0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6D4-4028-4297-AEB6-B892D2CF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01E7-45CD-4704-AF1C-A1F813B9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FD32-4C05-4806-8BAC-C2521533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6FA1-8D48-4E3D-8F06-AA319C1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E116-459E-49AA-B30D-884504B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BE5-B529-4E07-8847-BE2D5EC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474A-FE4D-4134-9BA6-FE5BA3C1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C450-B7F5-4AE5-9FF5-D8B135A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CE4F-4CFD-4A07-9841-95D7EB1B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3074-9ACF-4F71-9BB8-F828167F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0FEF-3808-4C23-8F3B-66D30958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0E37-CBE6-4D06-BF11-45A8AB90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D109-FECC-4791-BBB7-2C6E4D6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BF2F-910C-4D3F-882D-62E7F3A2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778B-28B9-4EBB-892F-78FA2F7B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AD8E-AF25-4C3A-B63A-04929E3F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C46-3086-4856-92B6-1BBFBB1C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E28E-314B-40F8-88D3-40876F2A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10B0-C9C1-457F-A8DA-B235CF2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A7EC-1C3C-4F59-AF5A-AFDBED5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069F-AA10-49F9-8753-94F12A13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A774-9E3A-46F6-943C-A94D0536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BFD5-6C6C-4BA8-B758-9A28004C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B1D8-81A5-4932-8801-8AE3BB02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5F74-8A94-4912-9E04-33ABA6D8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9C53-3AC7-48CC-9C9B-D4228C2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8847-2FF0-4A3A-B64B-676DEF6D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2B6-98F1-4545-919E-C0C4871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4170-CE22-4708-BA6A-872AAFE6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33D7-2911-4BFE-A758-88BA7C61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A7FE-EF00-40C8-9552-4540004C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4E8D-C041-418B-8948-595857C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2F6D-3C1D-428E-A2B1-76FBD2ED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0454-28F4-48FC-9082-EE8FAB3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0591C-5B3D-4D0D-B927-FD439EDF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5705-FDA3-4E4C-84B1-CD423F5F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44BB-B5C6-4AF3-9A77-FD08253A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2C4E-587F-4855-B47B-9C36A472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36E-835F-4F48-B330-D7C5F92B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D1D16-02C9-4598-9E75-AEAC7544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29DF-F8C0-4CDE-91A5-331E2C8B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B3FEB-E197-4626-93E9-51F5B9C3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11E9-686A-41C8-8C3A-25C41FDA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3750-6959-4D90-B501-612F187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0F1ED-A8FF-4530-A1F3-D3F7117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BE690-A0AB-4095-A7A3-04A212E9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681C-3A79-4AB3-9DF2-4D6B31D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E2B65-4E8D-4521-BB3C-57C35AFD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8891-0307-42E6-BD14-F7B8D1E7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105-3524-474B-8C14-CB7D0863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8DF2-0105-4962-8AB8-A2810F4C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B8AE5-1BC3-4BB8-8528-BCBC5603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E143-2F8D-418A-ABCF-75DE8C86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E35F2-C7E8-4825-8F58-B964D4AB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09802-542E-401B-8B71-DA3086D2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4F91-D128-48AD-B7C6-EA1B7A9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6E090-9E00-41FF-BE5D-AE8F349D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F817A-B7E1-437F-832B-6EAF5B4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67E1-94F3-4059-9BFD-F051A043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9DE6D-B85D-41E8-828B-0D35A1A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B06-2A3D-4DAE-9AE9-FB72E3F1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C7D2-D7D8-4C8A-9FF7-5E768C21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62D37-0817-4453-B413-AC132053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682AD-40CE-4792-BD96-711583F6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08C19-7868-4164-B053-F6F44986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3A441-CD94-4A76-A052-6776F3F9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1645-BD5F-4B58-9C81-D3AED19E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7327-CC99-43EF-91A0-5CA55AD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7F70-C954-4C60-892A-0B4DC118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DBB3-86CD-485D-A640-8BE9306C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2C28-B14A-4526-A908-94116784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268-188C-47CE-8A43-24AEF3E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B0CB3-A354-4564-BF6B-07946B8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2025-3077-4C7B-8C67-1282E29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58CE-BF98-4B4E-A292-9273CF6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D12B6-29D0-43D4-8B72-DDB69F9A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E6F10-778F-4B67-B278-3F09DB41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E7B-8D0A-4105-8B88-0E4520D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4017-A104-4275-80F1-FA41D8E1FC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F58-20C8-4D8D-84DB-E16BFC18DBD0}" type="slidenum">
              <a:rPr b="0" lang="ru-RU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BA36-F3C8-401F-A635-E5BBBE2B10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34EB-7AF6-4E84-9B9D-FA3CEA7492C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35B2-F4D4-4FE8-BA5D-43AC5C7DE8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58B6-E4FC-49F0-9226-E1F51B028D9D}" type="slidenum">
              <a:rPr b="0" lang="ru-RU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B1DF-76EE-452C-BD54-6B940CBCAE79}" type="slidenum">
              <a:rPr b="0" lang="ru-RU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781200" y="777960"/>
            <a:ext cx="8502480" cy="147456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1359000" y="2163600"/>
            <a:ext cx="7480080" cy="18226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214200" y="327348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ез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чителя физической куль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МОУ «Гимназия №1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города Балак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инокуровой Т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" descr="E:\СпортПраздник\DSC_0022.JPG"/>
          <p:cNvPicPr/>
          <p:nvPr/>
        </p:nvPicPr>
        <p:blipFill>
          <a:blip r:embed="rId3"/>
          <a:stretch/>
        </p:blipFill>
        <p:spPr>
          <a:xfrm>
            <a:off x="4529160" y="3460680"/>
            <a:ext cx="42800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Спортивный праздник, 24.04.2007 г. 1 (4).jpg"/>
          <p:cNvPicPr/>
          <p:nvPr/>
        </p:nvPicPr>
        <p:blipFill>
          <a:blip r:embed="rId1"/>
          <a:stretch/>
        </p:blipFill>
        <p:spPr>
          <a:xfrm>
            <a:off x="414360" y="334800"/>
            <a:ext cx="4187880" cy="3346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портивный праздник, 24.04.2007 г. 1 (5).jpg"/>
          <p:cNvPicPr/>
          <p:nvPr/>
        </p:nvPicPr>
        <p:blipFill>
          <a:blip r:embed="rId2"/>
          <a:stretch/>
        </p:blipFill>
        <p:spPr>
          <a:xfrm>
            <a:off x="4492800" y="328680"/>
            <a:ext cx="4230360" cy="343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Спортивный праздник, 24.04.2007 г. 1 (6).jpg"/>
          <p:cNvPicPr/>
          <p:nvPr/>
        </p:nvPicPr>
        <p:blipFill>
          <a:blip r:embed="rId3"/>
          <a:stretch/>
        </p:blipFill>
        <p:spPr>
          <a:xfrm>
            <a:off x="2206800" y="3352680"/>
            <a:ext cx="4370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Спортивный праздник, 24.04.2007 г. 1 (15).jpg"/>
          <p:cNvPicPr/>
          <p:nvPr/>
        </p:nvPicPr>
        <p:blipFill>
          <a:blip r:embed="rId1"/>
          <a:stretch/>
        </p:blipFill>
        <p:spPr>
          <a:xfrm rot="20826600">
            <a:off x="599760" y="705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Спортивный праздник, 24.04.2007 г. 118 (19).jpg"/>
          <p:cNvPicPr/>
          <p:nvPr/>
        </p:nvPicPr>
        <p:blipFill>
          <a:blip r:embed="rId2"/>
          <a:stretch/>
        </p:blipFill>
        <p:spPr>
          <a:xfrm rot="495600">
            <a:off x="5292360" y="72828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Спортивный праздник, 24.04.2007 г. 118 (24).jpg"/>
          <p:cNvPicPr/>
          <p:nvPr/>
        </p:nvPicPr>
        <p:blipFill>
          <a:blip r:embed="rId3"/>
          <a:stretch/>
        </p:blipFill>
        <p:spPr>
          <a:xfrm rot="20802000">
            <a:off x="2857680" y="3126960"/>
            <a:ext cx="39290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Спортивный праздник, 24.04.2007 г. 145 (10).jpg"/>
          <p:cNvPicPr/>
          <p:nvPr/>
        </p:nvPicPr>
        <p:blipFill>
          <a:blip r:embed="rId1"/>
          <a:stretch/>
        </p:blipFill>
        <p:spPr>
          <a:xfrm>
            <a:off x="291960" y="281160"/>
            <a:ext cx="4011840" cy="3309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Спортивный праздник, 24.04.2007 г. 166 (20).jpg"/>
          <p:cNvPicPr/>
          <p:nvPr/>
        </p:nvPicPr>
        <p:blipFill>
          <a:blip r:embed="rId2"/>
          <a:stretch/>
        </p:blipFill>
        <p:spPr>
          <a:xfrm>
            <a:off x="2706840" y="3565440"/>
            <a:ext cx="4017960" cy="3011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Спортивный праздник, 24.04.2007 г. 192.jpg"/>
          <p:cNvPicPr/>
          <p:nvPr/>
        </p:nvPicPr>
        <p:blipFill>
          <a:blip r:embed="rId3"/>
          <a:stretch/>
        </p:blipFill>
        <p:spPr>
          <a:xfrm>
            <a:off x="4608360" y="139680"/>
            <a:ext cx="42609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атрализованный спортивно – музыкальный праздник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Путешествие в мир музыки и движений»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оведение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нкетировани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E:\СпортПраздник\DSC_0071.JPG"/>
          <p:cNvPicPr/>
          <p:nvPr/>
        </p:nvPicPr>
        <p:blipFill>
          <a:blip r:embed="rId2"/>
          <a:stretch/>
        </p:blipFill>
        <p:spPr>
          <a:xfrm>
            <a:off x="4389480" y="3475080"/>
            <a:ext cx="45957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гапова И.А.Мир музыкальных праздников: Методические разработки и сценарии; Начальная школа. –М.,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елоножкина О.В.Спортивно оздоровительные мероприятия в школе. Волгоград «Учитель», 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Трушкин А.Г.Спортивные праздники круглый год. МарТ. –М.,200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акарова О.С.Игра, спорт, диалог в физической культуре начальной школы. М.: Школьная пресса,2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ова связь спорта и музык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1" descr="E:\СпортПраздник\DSC_0146.JPG"/>
          <p:cNvPicPr/>
          <p:nvPr/>
        </p:nvPicPr>
        <p:blipFill>
          <a:blip r:embed="rId2"/>
          <a:stretch/>
        </p:blipFill>
        <p:spPr>
          <a:xfrm>
            <a:off x="3456000" y="2908440"/>
            <a:ext cx="50976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3292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 сформировать сильную спортивную команду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 достичь положительного эмоционального настроя в команде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«Лицо команды»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ие виды спорта не существуют без музык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«Волшебство музыки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Физическая культур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узык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ори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ополнительное образовани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ченики 4-х классов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ворческое объединение «Галактика»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дител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1" descr="E:\СпортПраздник\DSC_0159.JPG"/>
          <p:cNvPicPr/>
          <p:nvPr/>
        </p:nvPicPr>
        <p:blipFill>
          <a:blip r:embed="rId2"/>
          <a:stretch/>
        </p:blipFill>
        <p:spPr>
          <a:xfrm>
            <a:off x="6175440" y="122400"/>
            <a:ext cx="2944800" cy="2127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E:\СпортПраздник\DSC_0035.JPG"/>
          <p:cNvPicPr/>
          <p:nvPr/>
        </p:nvPicPr>
        <p:blipFill>
          <a:blip r:embed="rId3"/>
          <a:stretch/>
        </p:blipFill>
        <p:spPr>
          <a:xfrm>
            <a:off x="4175280" y="3260880"/>
            <a:ext cx="3951000" cy="2798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E:\СпортПраздник\DSC_0042.JPG"/>
          <p:cNvPicPr/>
          <p:nvPr/>
        </p:nvPicPr>
        <p:blipFill>
          <a:blip r:embed="rId4"/>
          <a:stretch/>
        </p:blipFill>
        <p:spPr>
          <a:xfrm>
            <a:off x="171360" y="4406760"/>
            <a:ext cx="31575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сширить двигательный режим школьников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лечь к систематическим занятиям физической культурой и спортом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ить любовь к музыке, осознать её роль в познании мира, в том числе в двигательной деятельност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знакомление в игровой форме с музыкальной грамотой, с музыкальными стиля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Формирование у детей понимания музыки. Соединение движения с музыкой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вершенствование навыков работы в коллективе, закрепление знаний и навыков, полученных на занятиях физической культуры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Связь музыки и спорт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ие виды спорта не существуют без музыкального сопровожд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нты и спорт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льная грамот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льные стили и направл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омплектация спортивной команды: от чего зависит успех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601120" cy="17492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143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ются спортивные команды и творческие групп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1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яют исследовательскую и творческую рабо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2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товят сценарий, костюмы, нестандартный инвент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3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здни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последний день 3 четверти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6:55:58Z</dcterms:created>
  <dc:creator>User</dc:creator>
  <dc:description/>
  <dc:language>en-US</dc:language>
  <cp:lastModifiedBy>Коля</cp:lastModifiedBy>
  <dcterms:modified xsi:type="dcterms:W3CDTF">2013-03-20T19:22:16Z</dcterms:modified>
  <cp:revision>16</cp:revision>
  <dc:subject/>
  <dc:title>Спорт и музыка</dc:title>
</cp:coreProperties>
</file>