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F9F5-B1F6-4396-B0E7-E04083C1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727-3EF3-4430-B9C2-113DB6B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48E-261F-4334-B911-B206A4DE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EF6-E5CB-447F-A8D4-078CE125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E96D-6F9D-4108-B55F-639CDD08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E3B3-F8B1-4CDD-93F7-DD65270F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CAC9-703A-487B-B2AC-3246716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615B-2196-4A7F-BFF7-0DFA625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2B0D-4B97-4362-AE75-2C922643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7C09-4D04-4E2A-B3DB-1A0E493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BF04-2394-49CF-AE1D-B267EE80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340-5A77-4DD2-82F5-F0AD2F5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F700-56DE-4197-B5B8-4A47C02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FAB3-BDB0-4ECE-BC5D-F9BCD04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7337-E865-4A07-AFD9-CFC63DB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6741-2CA5-46EF-8236-78ADD2EC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CA8E-D681-41BA-870F-D53F09E3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D75B-B210-48E9-9FA7-C4CD840A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E4D4-63E8-49DC-BFEF-EF649B2C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B788-D895-4C1A-A8A0-46F158C9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BDD4-139B-48B4-990A-A043412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D0EF-7703-4308-ACC0-C12488FE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549-13A1-49C8-A20C-35D92D08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2339-FBB5-4AB1-844A-008A3AB7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CC96-53AF-4B1E-B5FF-64525C8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F693-4EFC-4417-B505-719D98F9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0FF3-4459-4E15-9B2E-0ACF66E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48BD-8065-489D-BF5E-98800F4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0947-BA2C-45EF-8F00-C8C99384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5EA0-CB4D-4112-9E5C-CE5CB865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6DA9-CBFB-4295-9851-06133244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7030-0AC4-44E0-9A22-E0CB1D76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9FE2-14A0-4FB7-A3A0-CC140667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2A6-5A7D-4B97-9768-F0FD01EB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4155-C9AB-47FE-ACE4-1EEA01A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7EEC-19FF-4735-B257-38E0E27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CE5B-9E5D-43FB-B98F-07745C53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F7DE-486E-4710-8741-068BF77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E1B9-5BE6-4181-B260-8271E8C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AFBA-5EF8-47A2-84BF-F01488C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1866-8734-491C-AE8B-D1A81C0B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D5A4-C1A7-460D-B0C0-CEC486D2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B1CB-1390-41C1-A2A7-B86DAA8D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5B97-B0F1-4BC3-B518-41F5F778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943-4E47-4D89-84EB-B6C439AA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E759-20E0-4E61-AEF5-C6CAB954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1918-7F69-42CB-B528-2AE90B62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5229-4A0B-443A-86CF-69CCE0B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4705-2B53-43A2-9E6A-59F0DFA3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201F-4C18-4FDA-9B13-13034116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CF28-6E6A-4B37-9091-92E7336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68145-F690-4C20-9D65-7072214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2E58-8E37-45FF-8795-0F3738F1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F155-67FE-44BE-BB9F-9A9F51E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9C71-9993-469A-A37C-1B1E1EF3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D50-4A2D-4E7F-9B91-A09F1359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B11D-3653-4CAB-99E6-E4FDD774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CC681-5357-4119-8190-7DB6CF9E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5489-B509-409F-BB4B-D9D18A8C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1FB69-05AA-46D4-9F9E-666BF931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8CD1-C7E2-4F40-A65D-BCE686D1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7D49D-E809-42FE-BDDD-E610FAD7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672AB-3FB1-4B8A-8080-EB6CF8D6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0C51-0F5B-4A5F-9413-D56074D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03DA-7F81-498C-B31B-96DFA50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0E15-B669-4788-B1CE-305ED6A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53C-D961-411D-BFD3-690B8362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B2A9-71F6-4DAE-990F-228A04E2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38E43-ED47-4B84-9371-645A4C55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0326-3D07-4E44-80DC-5D4A778F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F8BE0-0D3C-4720-9C16-5A4DDE64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B42B4-CC4B-45D4-BB32-D826F6B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3C5C-2572-42C1-8C43-7C6CC08F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24B51-C668-4FD0-B183-081EF469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CA77F-6631-4ADE-BDE6-E79250CC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D4B3E-9D05-452D-A3C5-4373B3D2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6162-8CEE-4272-AB49-7413A05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B42-9BFE-42A2-BC0B-F9C1096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58D88-882E-4400-AB42-A3693D6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D9636-4745-4D5A-924C-5422210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66AD0-9349-4CAA-B3A9-EAB1921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5A1C-E291-4105-A50C-4D9C6015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54F7-7C61-43BF-B786-726862CA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690-D4E4-4DFB-9350-E64C06B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003-AB48-48D9-A1EC-87E8313E39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F707-94AA-4AC5-AD8D-F930F14F76DA}" type="slidenum">
              <a:rPr b="0" lang="ru-RU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97F2-A1FC-4A02-931B-815A15E659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EF31-0469-451B-BCFB-006D2AA364F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395-C5CF-4827-BD55-016F858DA0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78F-A454-40FE-9779-48E6BFAF812E}" type="slidenum">
              <a:rPr b="0" lang="ru-RU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6711-6E3F-4D5E-BEA6-31581E07F1FD}" type="slidenum">
              <a:rPr b="0" lang="ru-RU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781200" y="777960"/>
            <a:ext cx="8502480" cy="147456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1359000" y="2163600"/>
            <a:ext cx="7480080" cy="18226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214200" y="327348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ез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чителя физической куль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МОУ «Гимназия №1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города Балак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инокуровой Т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" descr="E:\СпортПраздник\DSC_0022.JPG"/>
          <p:cNvPicPr/>
          <p:nvPr/>
        </p:nvPicPr>
        <p:blipFill>
          <a:blip r:embed="rId3"/>
          <a:stretch/>
        </p:blipFill>
        <p:spPr>
          <a:xfrm>
            <a:off x="4529160" y="3460680"/>
            <a:ext cx="42800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Спортивный праздник, 24.04.2007 г. 1 (4).jpg"/>
          <p:cNvPicPr/>
          <p:nvPr/>
        </p:nvPicPr>
        <p:blipFill>
          <a:blip r:embed="rId1"/>
          <a:stretch/>
        </p:blipFill>
        <p:spPr>
          <a:xfrm>
            <a:off x="414360" y="334800"/>
            <a:ext cx="4187880" cy="3346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портивный праздник, 24.04.2007 г. 1 (5).jpg"/>
          <p:cNvPicPr/>
          <p:nvPr/>
        </p:nvPicPr>
        <p:blipFill>
          <a:blip r:embed="rId2"/>
          <a:stretch/>
        </p:blipFill>
        <p:spPr>
          <a:xfrm>
            <a:off x="4492800" y="328680"/>
            <a:ext cx="4230360" cy="343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Спортивный праздник, 24.04.2007 г. 1 (6).jpg"/>
          <p:cNvPicPr/>
          <p:nvPr/>
        </p:nvPicPr>
        <p:blipFill>
          <a:blip r:embed="rId3"/>
          <a:stretch/>
        </p:blipFill>
        <p:spPr>
          <a:xfrm>
            <a:off x="2206800" y="3352680"/>
            <a:ext cx="4370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Спортивный праздник, 24.04.2007 г. 1 (15).jpg"/>
          <p:cNvPicPr/>
          <p:nvPr/>
        </p:nvPicPr>
        <p:blipFill>
          <a:blip r:embed="rId1"/>
          <a:stretch/>
        </p:blipFill>
        <p:spPr>
          <a:xfrm rot="20826600">
            <a:off x="599760" y="705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Спортивный праздник, 24.04.2007 г. 118 (19).jpg"/>
          <p:cNvPicPr/>
          <p:nvPr/>
        </p:nvPicPr>
        <p:blipFill>
          <a:blip r:embed="rId2"/>
          <a:stretch/>
        </p:blipFill>
        <p:spPr>
          <a:xfrm rot="495600">
            <a:off x="5292360" y="72828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Спортивный праздник, 24.04.2007 г. 118 (24).jpg"/>
          <p:cNvPicPr/>
          <p:nvPr/>
        </p:nvPicPr>
        <p:blipFill>
          <a:blip r:embed="rId3"/>
          <a:stretch/>
        </p:blipFill>
        <p:spPr>
          <a:xfrm rot="20802000">
            <a:off x="2857680" y="3126960"/>
            <a:ext cx="39290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Спортивный праздник, 24.04.2007 г. 145 (10).jpg"/>
          <p:cNvPicPr/>
          <p:nvPr/>
        </p:nvPicPr>
        <p:blipFill>
          <a:blip r:embed="rId1"/>
          <a:stretch/>
        </p:blipFill>
        <p:spPr>
          <a:xfrm>
            <a:off x="291960" y="281160"/>
            <a:ext cx="4011840" cy="3309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Спортивный праздник, 24.04.2007 г. 166 (20).jpg"/>
          <p:cNvPicPr/>
          <p:nvPr/>
        </p:nvPicPr>
        <p:blipFill>
          <a:blip r:embed="rId2"/>
          <a:stretch/>
        </p:blipFill>
        <p:spPr>
          <a:xfrm>
            <a:off x="2706840" y="3565440"/>
            <a:ext cx="4017960" cy="3011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Спортивный праздник, 24.04.2007 г. 192.jpg"/>
          <p:cNvPicPr/>
          <p:nvPr/>
        </p:nvPicPr>
        <p:blipFill>
          <a:blip r:embed="rId3"/>
          <a:stretch/>
        </p:blipFill>
        <p:spPr>
          <a:xfrm>
            <a:off x="4608360" y="139680"/>
            <a:ext cx="42609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атрализованный спортивно – музыкальный праздник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Путешествие в мир музыки и движений»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оведение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нкетировани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E:\СпортПраздник\DSC_0071.JPG"/>
          <p:cNvPicPr/>
          <p:nvPr/>
        </p:nvPicPr>
        <p:blipFill>
          <a:blip r:embed="rId2"/>
          <a:stretch/>
        </p:blipFill>
        <p:spPr>
          <a:xfrm>
            <a:off x="4389480" y="3475080"/>
            <a:ext cx="45957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гапова И.А.Мир музыкальных праздников: Методические разработки и сценарии; Начальная школа. –М.,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елоножкина О.В.Спортивно оздоровительные мероприятия в школе. Волгоград «Учитель», 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Трушкин А.Г.Спортивные праздники круглый год. МарТ. –М.,200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акарова О.С.Игра, спорт, диалог в физической культуре начальной школы. М.: Школьная пресса,2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ова связь спорта и музык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1" descr="E:\СпортПраздник\DSC_0146.JPG"/>
          <p:cNvPicPr/>
          <p:nvPr/>
        </p:nvPicPr>
        <p:blipFill>
          <a:blip r:embed="rId2"/>
          <a:stretch/>
        </p:blipFill>
        <p:spPr>
          <a:xfrm>
            <a:off x="3456000" y="2908440"/>
            <a:ext cx="50976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3292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 сформировать сильную спортивную команду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 достичь положительного эмоционального настроя в команде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«Лицо команды»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ие виды спорта не существуют без музык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«Волшебство музыки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Физическая культур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узык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ори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ополнительное образовани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ченики 4-х классов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ворческое объединение «Галактика»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дител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1" descr="E:\СпортПраздник\DSC_0159.JPG"/>
          <p:cNvPicPr/>
          <p:nvPr/>
        </p:nvPicPr>
        <p:blipFill>
          <a:blip r:embed="rId2"/>
          <a:stretch/>
        </p:blipFill>
        <p:spPr>
          <a:xfrm>
            <a:off x="6175440" y="122400"/>
            <a:ext cx="2944800" cy="2127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E:\СпортПраздник\DSC_0035.JPG"/>
          <p:cNvPicPr/>
          <p:nvPr/>
        </p:nvPicPr>
        <p:blipFill>
          <a:blip r:embed="rId3"/>
          <a:stretch/>
        </p:blipFill>
        <p:spPr>
          <a:xfrm>
            <a:off x="4175280" y="3260880"/>
            <a:ext cx="3951000" cy="2798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E:\СпортПраздник\DSC_0042.JPG"/>
          <p:cNvPicPr/>
          <p:nvPr/>
        </p:nvPicPr>
        <p:blipFill>
          <a:blip r:embed="rId4"/>
          <a:stretch/>
        </p:blipFill>
        <p:spPr>
          <a:xfrm>
            <a:off x="171360" y="4406760"/>
            <a:ext cx="31575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сширить двигательный режим школьников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лечь к систематическим занятиям физической культурой и спортом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ить любовь к музыке, осознать её роль в познании мира, в том числе в двигательной деятельност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знакомление в игровой форме с музыкальной грамотой, с музыкальными стиля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Формирование у детей понимания музыки. Соединение движения с музыкой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вершенствование навыков работы в коллективе, закрепление знаний и навыков, полученных на занятиях физической культуры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Связь музыки и спорт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ие виды спорта не существуют без музыкального сопровожд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нты и спорт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льная грамот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льные стили и направл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омплектация спортивной команды: от чего зависит успех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601120" cy="17492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143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ются спортивные команды и творческие групп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1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яют исследовательскую и творческую рабо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2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товят сценарий, костюмы, нестандартный инвент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3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здни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последний день 3 четверти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6:55:58Z</dcterms:created>
  <dc:creator>User</dc:creator>
  <dc:description/>
  <dc:language>en-US</dc:language>
  <cp:lastModifiedBy>Коля</cp:lastModifiedBy>
  <dcterms:modified xsi:type="dcterms:W3CDTF">2013-03-20T19:22:16Z</dcterms:modified>
  <cp:revision>16</cp:revision>
  <dc:subject/>
  <dc:title>Спорт и музыка</dc:title>
</cp:coreProperties>
</file>