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570-C4D3-4DDA-AF47-550419BB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A4A-E88A-4CB3-9345-ED89E4EC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2C8-AEAF-441D-8658-AA2571D3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B88-709C-44D2-B8C4-DE8A845B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21E0-E016-43C5-98B2-9090F05F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EF89-96B8-4C6B-B527-5D1B2D9F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B81C-43AF-4C3E-A308-9651471C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D6C4-A9F4-4AE8-9286-9C76185C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28AA-173F-4DD0-8F01-972DF0FF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D844-1849-480E-A006-AB0AB5C2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029E-F973-44D8-8E69-03D1B4A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148-8EA5-4F2E-A632-39B191A8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E766-4C8C-44B5-B9FE-2C0F990A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4734-92A6-4A12-85A7-65AF11D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C3E1-7A28-48F1-A487-AA046D85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1B6A-A51C-4DAE-9B23-863696EA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B3DD-EF40-4B5A-99AD-EC717806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0582-3231-486B-BEBA-3BC1FDF4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8943-98C6-4094-8E28-D749365B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90DF-BDE5-4E46-A4C5-766D78F9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63E5-4784-4447-81BF-A0AAC13F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C4815-98F1-496B-9DC7-963C3332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272-0E42-46BE-AB2C-68347544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B9BB-CC31-4A8E-B3D0-D23AC564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75B3-936B-4F8C-BC7C-01141A63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EFE3-337E-4103-809C-C5262B03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A23B-61E5-41A6-B7BD-B827B42C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6AEA-AFC1-482C-B816-03B028E3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B4E1-6729-41AF-99D0-127B69AC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CBD3-35F5-4840-B6A6-5DB4BC39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109BD-09D2-4B64-A3B7-5D7265F7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4008B-5A24-4874-BA87-5E486BAF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CF53-8B67-4C00-9130-AAE16D5D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D0F-42D6-447D-9B87-52D7CA37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564FC-F73C-478C-98ED-314D6ED5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9E3B-973B-4235-99F0-D69F021E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7A4C-C2C5-4AD4-9854-32FAEDE3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D6605-CCB8-4C0F-A59A-545AE4B8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640B7-7F29-497A-8F49-6C15E5C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905B6-8F8B-4435-AA66-A9750C4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C488-F8E7-4B01-AA8A-92BAAF42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DDE6-F91B-49A4-875F-D3B8BB15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C114-8A18-4A51-8242-B07E6E58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8548-A714-45A0-AC47-A6FA8C94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0B9-EE4A-4DAF-82C3-CE8A978A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6567-82CA-45C5-9385-60255A31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374AF-8E6B-4F78-ABAB-F1FCFD0D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2BEA-BC6E-4BE3-A6F8-19906D27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65E7B-3518-4DD7-B1F6-C587F64E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FD60-4913-4CA8-829C-664BFAD2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8908E-7F75-406F-85C7-47E7E303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E3FEF-0F6B-4956-9EEF-A9ADD42B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16398-31BC-4BBB-9EF3-2D927F6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4B168-7247-4E2B-9C80-44C8D315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1353D-8535-4805-A1D4-791A849C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F57-2824-4803-B6F0-1220A42B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0FE54-A763-445A-9B3F-875373FD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DB31B-369A-4CC0-A8EB-609E6EEB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F38E6-483E-496F-883B-2DEE1A2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A7C4B-14FA-4524-BA65-F041F2BF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E31C0-E1DF-42DB-8106-76435A3E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AAD89-10D4-475C-97A7-1BE6D6C4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806F0-484C-42ED-B00C-9D1314E4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A68B-C308-4BB5-BEC9-769D75B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DBE9-3700-4ABF-86D5-BEA2D11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B80BE-1678-4E69-AEF2-3588EF9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175-B147-4F5F-9A15-2A55E5B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3D9F7-2F0A-4A9C-9DAA-E68124E5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5B666-F10A-4D11-9348-A3E06763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854C-404A-4542-BCAC-319C4DF1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80042-2A86-4A3E-891E-41214922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B3FF8-5FBA-4A29-BCFC-D3DFC878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EA1EC-CB6D-49E5-8D33-49196F5F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C950B-A934-4CB1-82D2-D2BFC12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9635B-B0BB-4873-9316-CF1DEC09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F8CE7-4684-41ED-9999-0E50835A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70294-25A8-4444-8A21-FD6746D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234-FD8C-4BD6-A250-7E424DB5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B9476-BC31-4B79-8D39-E83FE461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9EB68-D1CE-4ADE-8565-39DB28F1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6B522-1098-42B0-A8A9-96671326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A8913-FF51-4F49-8C42-EABE7811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076C-8356-4FAC-87E2-C609E441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360-2A1B-476D-82B7-49BEA57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71C2-8B80-40AF-AB31-6BDBA0B8099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4213-0B19-4FDC-8162-42439B281BC0}" type="slidenum">
              <a:rPr b="0" lang="ru-RU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57C0-1232-471E-8788-E00FF35912B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22ED-8BEA-46F9-9109-9EBB9120A59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3B0-BA8B-4BF2-8EBD-EC755C0CCD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0BB-5560-4EC2-AF30-EA9AC661785E}" type="slidenum">
              <a:rPr b="0" lang="ru-RU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9B1E-19D8-4E1B-8A2B-890BD4A61694}" type="slidenum">
              <a:rPr b="0" lang="ru-RU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781200" y="777960"/>
            <a:ext cx="8502480" cy="147456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1359000" y="2163600"/>
            <a:ext cx="7480080" cy="18226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"/>
          <p:cNvSpPr/>
          <p:nvPr/>
        </p:nvSpPr>
        <p:spPr>
          <a:xfrm>
            <a:off x="214200" y="327348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езен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чителя физической куль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МОУ «Гимназия №1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города Балак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инокуровой Т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" descr="E:\СпортПраздник\DSC_0022.JPG"/>
          <p:cNvPicPr/>
          <p:nvPr/>
        </p:nvPicPr>
        <p:blipFill>
          <a:blip r:embed="rId3"/>
          <a:stretch/>
        </p:blipFill>
        <p:spPr>
          <a:xfrm>
            <a:off x="4529160" y="3460680"/>
            <a:ext cx="42800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Спортивный праздник, 24.04.2007 г. 1 (4).jpg"/>
          <p:cNvPicPr/>
          <p:nvPr/>
        </p:nvPicPr>
        <p:blipFill>
          <a:blip r:embed="rId1"/>
          <a:stretch/>
        </p:blipFill>
        <p:spPr>
          <a:xfrm>
            <a:off x="414360" y="334800"/>
            <a:ext cx="4187880" cy="3346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портивный праздник, 24.04.2007 г. 1 (5).jpg"/>
          <p:cNvPicPr/>
          <p:nvPr/>
        </p:nvPicPr>
        <p:blipFill>
          <a:blip r:embed="rId2"/>
          <a:stretch/>
        </p:blipFill>
        <p:spPr>
          <a:xfrm>
            <a:off x="4492800" y="328680"/>
            <a:ext cx="4230360" cy="3432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Спортивный праздник, 24.04.2007 г. 1 (6).jpg"/>
          <p:cNvPicPr/>
          <p:nvPr/>
        </p:nvPicPr>
        <p:blipFill>
          <a:blip r:embed="rId3"/>
          <a:stretch/>
        </p:blipFill>
        <p:spPr>
          <a:xfrm>
            <a:off x="2206800" y="3352680"/>
            <a:ext cx="437004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Спортивный праздник, 24.04.2007 г. 1 (15).jpg"/>
          <p:cNvPicPr/>
          <p:nvPr/>
        </p:nvPicPr>
        <p:blipFill>
          <a:blip r:embed="rId1"/>
          <a:stretch/>
        </p:blipFill>
        <p:spPr>
          <a:xfrm rot="20826600">
            <a:off x="599760" y="7059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Спортивный праздник, 24.04.2007 г. 118 (19).jpg"/>
          <p:cNvPicPr/>
          <p:nvPr/>
        </p:nvPicPr>
        <p:blipFill>
          <a:blip r:embed="rId2"/>
          <a:stretch/>
        </p:blipFill>
        <p:spPr>
          <a:xfrm rot="495600">
            <a:off x="5292360" y="72828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Спортивный праздник, 24.04.2007 г. 118 (24).jpg"/>
          <p:cNvPicPr/>
          <p:nvPr/>
        </p:nvPicPr>
        <p:blipFill>
          <a:blip r:embed="rId3"/>
          <a:stretch/>
        </p:blipFill>
        <p:spPr>
          <a:xfrm rot="20802000">
            <a:off x="2857680" y="3126960"/>
            <a:ext cx="39290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Спортивный праздник, 24.04.2007 г. 145 (10).jpg"/>
          <p:cNvPicPr/>
          <p:nvPr/>
        </p:nvPicPr>
        <p:blipFill>
          <a:blip r:embed="rId1"/>
          <a:stretch/>
        </p:blipFill>
        <p:spPr>
          <a:xfrm>
            <a:off x="291960" y="281160"/>
            <a:ext cx="4011840" cy="3309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Спортивный праздник, 24.04.2007 г. 166 (20).jpg"/>
          <p:cNvPicPr/>
          <p:nvPr/>
        </p:nvPicPr>
        <p:blipFill>
          <a:blip r:embed="rId2"/>
          <a:stretch/>
        </p:blipFill>
        <p:spPr>
          <a:xfrm>
            <a:off x="2706840" y="3565440"/>
            <a:ext cx="4017960" cy="3011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Спортивный праздник, 24.04.2007 г. 192.jpg"/>
          <p:cNvPicPr/>
          <p:nvPr/>
        </p:nvPicPr>
        <p:blipFill>
          <a:blip r:embed="rId3"/>
          <a:stretch/>
        </p:blipFill>
        <p:spPr>
          <a:xfrm>
            <a:off x="4608360" y="139680"/>
            <a:ext cx="42609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атрализованный спортивно – музыкальный праздник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Путешествие в мир музыки и движений»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оведение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нкетирования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Picture 2" descr="E:\СпортПраздник\DSC_0071.JPG"/>
          <p:cNvPicPr/>
          <p:nvPr/>
        </p:nvPicPr>
        <p:blipFill>
          <a:blip r:embed="rId2"/>
          <a:stretch/>
        </p:blipFill>
        <p:spPr>
          <a:xfrm>
            <a:off x="4389480" y="3475080"/>
            <a:ext cx="459576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749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гапова И.А.Мир музыкальных праздников: Методические разработки и сценарии; Начальная школа. –М.,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Белоножкина О.В.Спортивно оздоровительные мероприятия в школе. Волгоград «Учитель», 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Трушкин А.Г.Спортивные праздники круглый год. МарТ. –М.,200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акарова О.С.Игра, спорт, диалог в физической культуре начальной школы. М.: Школьная пресса,200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749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ова связь спорта и музыки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1" descr="E:\СпортПраздник\DSC_0146.JPG"/>
          <p:cNvPicPr/>
          <p:nvPr/>
        </p:nvPicPr>
        <p:blipFill>
          <a:blip r:embed="rId2"/>
          <a:stretch/>
        </p:blipFill>
        <p:spPr>
          <a:xfrm>
            <a:off x="3456000" y="2908440"/>
            <a:ext cx="509760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3292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 сформировать сильную спортивную команду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 достичь положительного эмоционального настроя в команде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«Лицо команды»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ие виды спорта не существуют без музыки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«Волшебство музыки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Физическая культур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узыка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ория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ополнительное образование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ченики 4-х классов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ворческое объединение «Галактика»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одител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1" descr="E:\СпортПраздник\DSC_0159.JPG"/>
          <p:cNvPicPr/>
          <p:nvPr/>
        </p:nvPicPr>
        <p:blipFill>
          <a:blip r:embed="rId2"/>
          <a:stretch/>
        </p:blipFill>
        <p:spPr>
          <a:xfrm>
            <a:off x="6175440" y="122400"/>
            <a:ext cx="2944800" cy="2127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E:\СпортПраздник\DSC_0035.JPG"/>
          <p:cNvPicPr/>
          <p:nvPr/>
        </p:nvPicPr>
        <p:blipFill>
          <a:blip r:embed="rId3"/>
          <a:stretch/>
        </p:blipFill>
        <p:spPr>
          <a:xfrm>
            <a:off x="4175280" y="3260880"/>
            <a:ext cx="3951000" cy="2798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E:\СпортПраздник\DSC_0042.JPG"/>
          <p:cNvPicPr/>
          <p:nvPr/>
        </p:nvPicPr>
        <p:blipFill>
          <a:blip r:embed="rId4"/>
          <a:stretch/>
        </p:blipFill>
        <p:spPr>
          <a:xfrm>
            <a:off x="171360" y="4406760"/>
            <a:ext cx="315756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сширить двигательный режим школьников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лечь к систематическим занятиям физической культурой и спортом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ить любовь к музыке, осознать её роль в познании мира, в том числе в двигательной деятельност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знакомление в игровой форме с музыкальной грамотой, с музыкальными стиля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Формирование у детей понимания музыки. Соединение движения с музыкой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вершенствование навыков работы в коллективе, закрепление знаний и навыков, полученных на занятиях физической культуры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749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Связь музыки и спорта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акие виды спорта не существуют без музыкального сопровожден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Музыканты и спорт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Музыкальная грамота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Музыкальные стили и направлен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Verdana"/>
              </a:rPr>
              <a:t>Комплектация спортивной команды: от чего зависит успех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601120" cy="17492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143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здаются спортивные команды и творческие групп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1 неделя 3 четверт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яют исследовательскую и творческую работ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2 неделя 3 четверт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товят сценарий, костюмы, нестандартный инвентар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3 неделя 3 четверти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здни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последний день 3 четверти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6:55:58Z</dcterms:created>
  <dc:creator>User</dc:creator>
  <dc:description/>
  <dc:language>en-US</dc:language>
  <cp:lastModifiedBy>Коля</cp:lastModifiedBy>
  <dcterms:modified xsi:type="dcterms:W3CDTF">2013-03-20T19:22:16Z</dcterms:modified>
  <cp:revision>16</cp:revision>
  <dc:subject/>
  <dc:title>Спорт и музыка</dc:title>
</cp:coreProperties>
</file>