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AF62-9898-4608-A95C-ECDC68EF0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DC5E-91C9-4A70-9CAA-7097A0721A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C7D-4E9F-415A-9689-CC4BBC48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4D0-B500-4874-8907-4B0DF097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6FD-3B25-41A0-8F62-4F07D039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B5D-C125-420D-8D8E-9D07D954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22FFF-E12D-4527-8B23-47C24318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8974D-89F4-4D8E-9420-268F2525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B2CA8-B99E-4812-817A-960DAA6A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C76A6-BA21-4DA9-9A92-B746716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4891E-5FF9-40DE-BC85-5FD39F20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5E18A-5805-41EB-8FBD-3BC7362D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2A2DB-6413-453D-A1E6-60E95B6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E0B-1134-4C90-9CFE-8DDF913C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2B19D-FFE7-4042-9D19-37775B78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01760-E04A-4FFF-B326-3D6B892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5FDB7-9ADE-4A9D-AB5A-AC39403E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D30D2-D56C-4102-8797-2F2D00A7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B1F09-86B8-40B8-9449-4223FA2C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34D-0726-4333-9885-FCB9B079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CE1-CA35-4D0B-9863-40848283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BDF-8EBC-4849-A1C7-213F4FA9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793-3971-43B1-91FC-42290816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DD2-8DEC-4D0C-9C2F-E1A4E24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6BD-05F0-4ED5-B516-6640052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90C-BAE5-46B5-A3D6-8911DAD3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B89E-668E-4477-85F5-766870C27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229E-A5C3-42D6-B2A2-8E4B18FFDB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152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</a:rPr>
              <a:t>2006 год - год Вольфганга Амадея Моцарт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Путешествие длиною в десять лет (Моцарту 6 лет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еопольд Моцарт считал своей миссией познакомить мир со своими детьми, и в январе 1762 года началось путешествие. За это время Вольфганг, Наннерль и Леопольд увидели Мюнхен, Вену, Париж, Лондон, Гаагу, Цюрих и Неап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Вене Вольфганг и Наннерль выступали перед императором Иосифом. Император не слишком разбирался в музыке и обращался с Вольфгангом как с маленьким чародеем: кроме игры на клавире он желал от него всякого рода фокусов вроде игры вслепую — на закрытой платком клавиат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сторженные приемы во дворцах, в великосветских салонах, покровительство знати, общение с выдающимися людьми искусства и науки, шквал оваций, похвал и подарков — все это придает детским путешествиям Моцарта по Европе сказочно-феерический характер. Но на самом деле это был тяжкий, зачастую просто непосильный для маленького ребенка тр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2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ти без отдыха разъезжали по разным городам и странам, играли и импровизировали по многу часов подряд (концерты в то время длились 4-5 часов). Все это было крайне изнурительно для хрупкого организма ребенка. Тяжелая скарлатина положила конец венским триумф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возвращении домой Леопольд Моцарт позаботился о том, чтобы занятия детей шли строго и планомерно. И не только музыкой, но и обычными школьными предметами. Вольфгангу семь лет. У мальчика живой, пытливый ум. Музыкой он занимается уже всерьез. Своим чередом идут занятия чтением, правописанием, французским языком. Самый любимый предмет - арифметика. Считать Вольфганг учится охотно и скоро усваивает все четыре арифметических правила. Каждый день он исписывает примерами и задачками обе стороны грифельной доски. И, если места на доске не хватает, мальчик продолжает выводить большие кривые цифры прямо на столе и даже на полу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Выступления в Париже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 (Моцарту 7 лет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ленький ростом, одетый в лиловый атласный камзол с миниатюрной шпагой на боку и треуголкой под мышкой, в парике с косичкой, маленький Моцарт смело подходил к клавесину и с милой непринужденностью отвешивал направо и налево поклоны. Он виртуозно исполнял свои и чужие сочинения, читал с листа незнакомые произведения с такой легкостью, как будто они были ему давно известны, импровизировал на заданные темы, чисто и безошибочно играл трудные пьесы на клавиатуре, накрытой платко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м Моцарт много сочинял в Париже. В начале 1764 года вышли из печати его первые четыре сонаты для скрипки и клавесина. На титульном листе было обозначено, что они написаны семилетним мальчиком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73551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Юный Моцарт – импровизато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льхиор Гримм, австрийский посланник в Париже, писал о юном Моцарте: «Это феномен столь необычайный, что, глядя и слушая его, не веришь глазам и ушам своим. Он не только исполняет с безупречной чистотой труднейшие пьесы своими ручонками, едва могущими взять сексту, но еще — и это всего невероятнее — импровизирует целыми часами, повинуясь влечению своего гения. Самый опытный музыкант не может обладать более глубокими познаниями в гармонии и в модуляциях, чем те, с помощью которых этот ребенок открывает новые пути, вполне согласные, однако, со строгими правилами искусства… Я боюсь, что у меня голова закружится, если я еще буду его слушать… я теперь понимаю, что можно сойти с ума от созерцания чуд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Путешествие в Англию 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(Моцарту 8 лет).</a:t>
            </a:r>
            <a:br>
              <a:rPr sz="4000"/>
            </a:b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Знакомство с И.Х.Бах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XVII веке Лондон был городом высокого развития музыкальной культуры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Лондоне Моцарт познакомился с Иоганном Христианом Бахом, сыном великого Иоганна Себастьяна. Мастерская игра Баха на клавесине произвела на мальчика большое впечатление. Понравились ему и клавирные сонаты И. X. Баха светлые и жизнерадостные, похожие на арии итальянских опер. Несмотря на разницу лет, оба вскоре стали большими друзьями. Нередко они импровизировали на одну и ту же музыкальную тему одновременно на двух клавесинах, немало удивляя всех, кому приходилось их слыш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803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Творчество в Лондон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Лондоне восьмилетний мальчик пишет еще шесть сонат для клавесина с сопровождением скрипки или флейты и  берется за сочинение симфонии. В течение года, проведенного в Англии, музыкальное развитие ребенка заметно продвинулось вперед. Несмотря на переезды с места на место, мальчик систематически занимался под руководством отца и музыкой, и общеобразовательными предметами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6923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О музыке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царт является представителем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енской классической школы, одним из основоположников классического стиля в музы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 центре художественного мира Моцарта — человеческая личность, которую он раскрывает как лирик и одновременно как драматург, стремясь к художественному воссозданию сущности человеческого характ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Жанры в творчестве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250920" y="999720"/>
            <a:ext cx="8675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царт создал более 600 произведений различных жанров, среди них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фо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мерные ансамб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церты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Музыкальный театр в  творчестве 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ажнейшая сфера творчества Моцарта — 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музыкальный театр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. Его творчество составило эпоху в развитии оперы. Моцарт сочинял оперы в разных стилях, среди них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опера – зингшпиль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,                                                                                             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опера – буфф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опера – сери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mozart_wolfgang"/>
          <p:cNvPicPr/>
          <p:nvPr/>
        </p:nvPicPr>
        <p:blipFill>
          <a:blip r:embed="rId1"/>
          <a:stretch/>
        </p:blipFill>
        <p:spPr>
          <a:xfrm>
            <a:off x="2771640" y="1484280"/>
            <a:ext cx="3300480" cy="4105440"/>
          </a:xfrm>
          <a:prstGeom prst="rect">
            <a:avLst/>
          </a:prstGeom>
          <a:ln w="0">
            <a:noFill/>
          </a:ln>
        </p:spPr>
      </p:pic>
      <p:pic>
        <p:nvPicPr>
          <p:cNvPr id="92" name="04 Дорожка 4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6394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Моцарт и Сальери"/>
          <p:cNvPicPr/>
          <p:nvPr/>
        </p:nvPicPr>
        <p:blipFill>
          <a:blip r:embed="rId1"/>
          <a:stretch/>
        </p:blipFill>
        <p:spPr>
          <a:xfrm>
            <a:off x="684360" y="3645000"/>
            <a:ext cx="2663640" cy="259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© Равиль Акмаев. Моцарт! Ты солнца сын! (2001) холст, масло 65х65 - http://www.ravil.ru"/>
          <p:cNvPicPr/>
          <p:nvPr/>
        </p:nvPicPr>
        <p:blipFill>
          <a:blip r:embed="rId2"/>
          <a:stretch/>
        </p:blipFill>
        <p:spPr>
          <a:xfrm>
            <a:off x="4859280" y="549360"/>
            <a:ext cx="3699000" cy="3924360"/>
          </a:xfrm>
          <a:prstGeom prst="rect">
            <a:avLst/>
          </a:prstGeom>
          <a:ln w="0">
            <a:noFill/>
          </a:ln>
        </p:spPr>
      </p:pic>
      <p:pic>
        <p:nvPicPr>
          <p:cNvPr id="126" name="Ink 9" descr=""/>
          <p:cNvPicPr/>
          <p:nvPr/>
        </p:nvPicPr>
        <p:blipFill>
          <a:blip r:embed="rId3"/>
          <a:stretch/>
        </p:blipFill>
        <p:spPr>
          <a:xfrm>
            <a:off x="8080200" y="5948280"/>
            <a:ext cx="28800" cy="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Клавирная музыка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11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лавирной музыке Моцарта отражены черты нового исполнительского стиля, связанного с переходом от клавесина к фортепьяно. Сочинения для клавира, главным образом концерты для фортепьяно с оркестром, дают представление об исполнительском искусстве самого Моцарта с присущей ему блестящей виртуозностью и вместе с тем одухотворённостью, поэтичностью, изяществом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13-biography-mozart-1"/>
          <p:cNvPicPr/>
          <p:nvPr/>
        </p:nvPicPr>
        <p:blipFill>
          <a:blip r:embed="rId1"/>
          <a:stretch/>
        </p:blipFill>
        <p:spPr>
          <a:xfrm>
            <a:off x="6300720" y="2205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03 Дорожка 3.wma" descr=""/>
          <p:cNvPicPr/>
          <p:nvPr/>
        </p:nvPicPr>
        <p:blipFill>
          <a:blip r:embed="rId2"/>
          <a:stretch/>
        </p:blipFill>
        <p:spPr>
          <a:xfrm>
            <a:off x="8839080" y="28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Ink 7" descr=""/>
          <p:cNvPicPr/>
          <p:nvPr/>
        </p:nvPicPr>
        <p:blipFill>
          <a:blip r:embed="rId3"/>
          <a:stretch/>
        </p:blipFill>
        <p:spPr>
          <a:xfrm>
            <a:off x="1089000" y="6424560"/>
            <a:ext cx="28440" cy="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725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Оперы В.А.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5545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еры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уховный зингшпиль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«Долг первой заповеди», школьная опера « Аполлон и Гиацинт» , или «Превращение Гиацинта»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олшебная флейта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еры 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сери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«Митридат – царь Понтийский», «Дон Жуан», «Идоменей», «Милосердие Тита» и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еры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буфф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 «Свадьба Фигаро», «Так поступают все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13-biography-mozart-3"/>
          <p:cNvPicPr/>
          <p:nvPr/>
        </p:nvPicPr>
        <p:blipFill>
          <a:blip r:embed="rId1"/>
          <a:stretch/>
        </p:blipFill>
        <p:spPr>
          <a:xfrm>
            <a:off x="6516720" y="270828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35" name="25 Дорожка 25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23291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Венский период творчества В.А.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енский период был самым плодовитым в творчестве Моцарта. Среди прочих произведений он написал свою знаменитую оперу "Свадьба Фигаро". Ее премьера состоялась в венском оперном театре 1 мая 1786 года. Успех был огромный. Многие арии по желанию публики приходилось повторять на би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Главный соперник Вольфганг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85640"/>
            <a:ext cx="519408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перь о главном сопернике Вольфганга Амадея — Антонио Саль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встрийский император Иосиф II,  пригласил к венскому двору 28-летнего маэстро Антонио Сальери, королевского композитора и капельмейстера итальянской оперы. Его оперы «Тарар» и «Аксур» стали кульминацией успеха итальянского маэстро. Но далее он уже ничего не мог противопоставить шедеврам Моцарта. С 1788 года Сальери был личным советником императора и приобрел исключительное могущество на музыкальном поприще в Вене. Но с появлением Моцарта исключительность Сальери оказалась под сомне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Антонио Сальери"/>
          <p:cNvPicPr/>
          <p:nvPr/>
        </p:nvPicPr>
        <p:blipFill>
          <a:blip r:embed="rId1"/>
          <a:stretch/>
        </p:blipFill>
        <p:spPr>
          <a:xfrm>
            <a:off x="6084720" y="2492280"/>
            <a:ext cx="21481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008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царт прогневил свое окружение крепкими шутками, в чем был большим мастером. Сальери мог узнать себя в «Волшебной флейте» в образе Моностатоса, в котором высвечен не отталкивающий и даже в какой-то степени смешной образ врага. Сцена с ним исполнена чувством ненависти к пересмешни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ahoma"/>
              </a:rPr>
              <a:t>Последние годы жизни В.А.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ая неуверенность в завтрашнем дне, заботы и треволнения год от году подтачивали и без того слабое здоровье Моцарта. В последние годы своей жизни он написал оперу "Волшебная флейта" и обессмертивший его "Реквием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нуренный тяжелой болезнью Моцарт скончался 5 декабря 1791 года. Поскольку денег на погребение музыканта у семьи не было, расходы на похороны взял на себя барон  Свитен - известный в то время покровитель музыкантов. Моцарт был погребен по третьему разряду в наспех сколоченном гробу в общей могиле, где хоронили бедняков, бродяг и преступников. Близких не было рядом, поэтому место захоронения Моцарта неизвест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35 Дорожка 35.wma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24999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Праздник спустя 250 лет после рождения 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устя 250 лет после рождения Моцарта трудно создать отчетливое представление о его личности. В натуре Моцарта парадоксально сочетались самые противоположные качества: великодушие и склонность к едкому сарказму, ребячливость и житейская искушенность, веселость и склонность к глубокой меланхолии – вплоть до патологической, остроумие, высокая нравственность, рационализм, реалистический взгляд на жизнь. Без тени самолюбия он восторженно говорил о тех, кем восхищался, например о Гайдне, зато был беспощаден к тем, кого считал дилетантами. Отец однажды написал ему: «У тебя сплошные крайности, ты не знаешь золотой середины». И по прошествии столетий личность его представляется нам подвижной и неуловимой, как рту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ahoma"/>
              </a:rPr>
              <a:t>В дни празднования юбилея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b_57792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690800"/>
          </a:xfrm>
          <a:prstGeom prst="rect">
            <a:avLst/>
          </a:prstGeom>
          <a:ln w="0">
            <a:noFill/>
          </a:ln>
        </p:spPr>
      </p:pic>
      <p:pic>
        <p:nvPicPr>
          <p:cNvPr id="149" name="07 Дорожка 7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28747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287479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езентация о жизни и творчестве В.А.Моцарта создана ученицей 7 класса школы № 654 Мавчун Екатериной для проведения урока-лектория детской филарм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7 января 2006 года исполнилось 250 лет со дня рождения гениального композитора Вольфганга Амадея Моцарта. Музыка великого австрийца до сих пор пользуется большой популярностью во всем ми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айна Моцарта окутана мраком и спустя столетия личность великого композитора становится объектом исследования историков, музыковедов, мист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встрийский композитор. Обладал феноменальным музыкальным слухом и памятью. Играл на клавесине, скрипке, органе. Дирижировал оркестром, блестяще импровизиров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нятия музыкой начал под руководством отца — Л. Моцарта. Первые сочинения появились в 1761 году. С 5-летнего возраста с триумфом гастролировал в Германии, Австрии, Франции, Великобритании, Швейцарии, Италии. В 1765 году в Лондоне были исполнены его первые симфони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Город Зальцбург – родной город Вольфганга Амадея Моцар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Зальцбург сверху []"/>
          <p:cNvPicPr/>
          <p:nvPr/>
        </p:nvPicPr>
        <p:blipFill>
          <a:blip r:embed="rId1"/>
          <a:stretch/>
        </p:blipFill>
        <p:spPr>
          <a:xfrm>
            <a:off x="1619280" y="1989000"/>
            <a:ext cx="6121440" cy="39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Зальцбург"/>
          <p:cNvPicPr/>
          <p:nvPr/>
        </p:nvPicPr>
        <p:blipFill>
          <a:blip r:embed="rId1"/>
          <a:stretch/>
        </p:blipFill>
        <p:spPr>
          <a:xfrm>
            <a:off x="3708360" y="2708280"/>
            <a:ext cx="4880160" cy="3889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Сад Мирабель"/>
          <p:cNvPicPr/>
          <p:nvPr/>
        </p:nvPicPr>
        <p:blipFill>
          <a:blip r:embed="rId2"/>
          <a:stretch/>
        </p:blipFill>
        <p:spPr>
          <a:xfrm>
            <a:off x="539640" y="2708280"/>
            <a:ext cx="2664000" cy="392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1808_168_panorama_na_proshchane"/>
          <p:cNvPicPr/>
          <p:nvPr/>
        </p:nvPicPr>
        <p:blipFill>
          <a:blip r:embed="rId3"/>
          <a:stretch/>
        </p:blipFill>
        <p:spPr>
          <a:xfrm>
            <a:off x="468360" y="333360"/>
            <a:ext cx="8353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Tahoma"/>
              </a:rPr>
              <a:t>В.А.Моцарт- великий австрийский композито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одился 27 января 1756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да в Зальцбурге. Мать – Мария Анна,  отец – Леопольд Моцарт (1719–1787), композитор и теоретик. Из семерых детей Моцартов выжили двое: Вольфганг и его старшая сестра Наннерль. Леопольд начал давать дочери уроки игры на клавесине, когда ей исполнилось восемь лет, и сочиненная отцом в 1759 году для Наннерль нотная тетрадь с легкими пьесками пригодилась затем при обучении маленького Вольфганг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4" descr="mozart_187"/>
          <p:cNvPicPr/>
          <p:nvPr/>
        </p:nvPicPr>
        <p:blipFill>
          <a:blip r:embed="rId1"/>
          <a:stretch/>
        </p:blipFill>
        <p:spPr>
          <a:xfrm>
            <a:off x="5477040" y="1701720"/>
            <a:ext cx="33429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Детство Моцар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еопольд Моцарт, рано распознавший талант ребенка, всю свою энергию стал вкладывать в его развитие. Заниматься музыкой Вольфганг начал в два с половиной года, а через пару лет отец взялся за его систематическое образование. В три года Моцарт уже играл на клавесине, в пять показал себя выдающимся исполнителем на этом инструменте, а в шесть — принялся сочинять музыку. В восемь лет Вольфганг сочинил три симфонии. В четырнадцать лет Вольфганг становится академиком самой авторитетной в Европе Болонской музыкальной академ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8899714"/>
          <p:cNvPicPr/>
          <p:nvPr/>
        </p:nvPicPr>
        <p:blipFill>
          <a:blip r:embed="rId1"/>
          <a:stretch/>
        </p:blipFill>
        <p:spPr>
          <a:xfrm>
            <a:off x="2268360" y="549360"/>
            <a:ext cx="42483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4:52:05Z</dcterms:created>
  <dc:creator>Людмила Ивановна</dc:creator>
  <dc:description/>
  <dc:language>en-US</dc:language>
  <cp:lastModifiedBy>Коля</cp:lastModifiedBy>
  <dcterms:modified xsi:type="dcterms:W3CDTF">2013-03-20T19:18:39Z</dcterms:modified>
  <cp:revision>144</cp:revision>
  <dc:subject/>
  <dc:title>2006 год-год Моцарта.</dc:title>
</cp:coreProperties>
</file>