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3.gif" ContentType="image/gif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8.png" ContentType="image/png"/>
  <Override PartName="/ppt/media/image25.gif" ContentType="image/gif"/>
  <Override PartName="/ppt/media/image4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11.gif" ContentType="image/gif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32.jpeg" ContentType="image/jpeg"/>
  <Override PartName="/ppt/media/image17.png" ContentType="image/png"/>
  <Override PartName="/ppt/media/image15.jpeg" ContentType="image/jpeg"/>
  <Override PartName="/ppt/media/image29.gif" ContentType="image/gif"/>
  <Override PartName="/ppt/media/image16.jpeg" ContentType="image/jpeg"/>
  <Override PartName="/ppt/media/image39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7EB-067E-4146-93E6-A2F77DBB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C9B-6178-4CFB-9CE7-FAFEC9AE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178-7415-49D6-9826-03D98F1C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E6C-52BE-4C93-A716-60A90538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686D-AC2D-463E-BF59-05B9ACC8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E8F-E04C-4BCC-A66F-70658C2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1949-5AB5-410B-9E20-B8080CAB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2ED-F72C-4C19-8574-66FE81E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90E7-11A0-4299-81FB-CB410027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4826-92ED-434D-B8DB-781043C5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E7C-D629-488A-872F-F2B7739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943-4844-4218-ABB7-D8314037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DBB-8158-428C-9D02-FABCA3BB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DE4C-0D10-4D08-8B38-246A23B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461-1330-4217-90DB-ED7AA999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489B-249C-4099-8395-D7D2B016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DB5-CE4D-45AD-9AB0-2689F637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604-6F18-481A-9BC3-402DE4F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EDC-C47D-473B-9A53-37F20F4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3F8-1F2F-4B4C-8A05-1460B08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093-A966-46A1-8984-BC5ACBD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421-3EAB-455C-AF2B-A74A307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5AA-EDA1-4F30-94FB-C9EC189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16E-3896-454A-8F99-4484481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960-D349-4EF1-B429-BCF51E32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B2CA-3C38-4763-9023-F17EEFF4D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44440"/>
            <a:ext cx="82706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Урок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Игра - соревнование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0" name="Picture 13" descr="P1030109"/>
          <p:cNvPicPr/>
          <p:nvPr/>
        </p:nvPicPr>
        <p:blipFill>
          <a:blip r:embed="rId1"/>
          <a:stretch/>
        </p:blipFill>
        <p:spPr>
          <a:xfrm>
            <a:off x="5072040" y="3573360"/>
            <a:ext cx="3498840" cy="262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SS851083"/>
          <p:cNvPicPr/>
          <p:nvPr/>
        </p:nvPicPr>
        <p:blipFill>
          <a:blip r:embed="rId2"/>
          <a:stretch/>
        </p:blipFill>
        <p:spPr>
          <a:xfrm>
            <a:off x="539640" y="3573360"/>
            <a:ext cx="3746520" cy="2859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227640" y="6165720"/>
            <a:ext cx="26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Times New Roman"/>
              </a:rPr>
              <a:t>Автор: Малюшенко О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826920" y="1413000"/>
            <a:ext cx="74296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Час весёлой математики»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И ещё одно задание Льва Алекса: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Georgia"/>
              </a:rPr>
              <a:t>рассмотрите рисунки и назовите геометрические фигуры, которые были использованы для этих рисунков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6" name="Picture 7" descr="SS851097"/>
          <p:cNvPicPr/>
          <p:nvPr/>
        </p:nvPicPr>
        <p:blipFill>
          <a:blip r:embed="rId1"/>
          <a:stretch/>
        </p:blipFill>
        <p:spPr>
          <a:xfrm>
            <a:off x="5148360" y="1916280"/>
            <a:ext cx="3598920" cy="29844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2"/>
          <p:cNvGrpSpPr/>
          <p:nvPr/>
        </p:nvGrpSpPr>
        <p:grpSpPr>
          <a:xfrm>
            <a:off x="324000" y="1773360"/>
            <a:ext cx="5829120" cy="5976720"/>
            <a:chOff x="324000" y="1773360"/>
            <a:chExt cx="5829120" cy="5976720"/>
          </a:xfrm>
        </p:grpSpPr>
        <p:sp>
          <p:nvSpPr>
            <p:cNvPr id="138" name="AutoShape 43"/>
            <p:cNvSpPr/>
            <p:nvPr/>
          </p:nvSpPr>
          <p:spPr>
            <a:xfrm>
              <a:off x="324000" y="1773360"/>
              <a:ext cx="5829120" cy="59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44"/>
            <p:cNvSpPr/>
            <p:nvPr/>
          </p:nvSpPr>
          <p:spPr>
            <a:xfrm>
              <a:off x="1009440" y="1867680"/>
              <a:ext cx="2171160" cy="85428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1352880" y="2722320"/>
              <a:ext cx="1599840" cy="1138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46"/>
            <p:cNvSpPr/>
            <p:nvPr/>
          </p:nvSpPr>
          <p:spPr>
            <a:xfrm>
              <a:off x="2038320" y="2436840"/>
              <a:ext cx="228240" cy="18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1923480" y="3101400"/>
              <a:ext cx="57132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2152800" y="31014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49"/>
            <p:cNvSpPr/>
            <p:nvPr/>
          </p:nvSpPr>
          <p:spPr>
            <a:xfrm>
              <a:off x="2152800" y="32914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781200" y="3860640"/>
              <a:ext cx="1371240" cy="28440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2152800" y="3860640"/>
              <a:ext cx="1371240" cy="283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2"/>
            <p:cNvSpPr/>
            <p:nvPr/>
          </p:nvSpPr>
          <p:spPr>
            <a:xfrm rot="16200000">
              <a:off x="900360" y="4822560"/>
              <a:ext cx="952920" cy="7351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1695240" y="4619160"/>
              <a:ext cx="1600560" cy="123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3295800" y="5093640"/>
              <a:ext cx="2285280" cy="758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2266920" y="4745520"/>
              <a:ext cx="5713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56"/>
            <p:cNvSpPr/>
            <p:nvPr/>
          </p:nvSpPr>
          <p:spPr>
            <a:xfrm>
              <a:off x="1809360" y="5852520"/>
              <a:ext cx="68544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57"/>
            <p:cNvSpPr/>
            <p:nvPr/>
          </p:nvSpPr>
          <p:spPr>
            <a:xfrm>
              <a:off x="4895640" y="5852520"/>
              <a:ext cx="68544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58"/>
            <p:cNvSpPr/>
            <p:nvPr/>
          </p:nvSpPr>
          <p:spPr>
            <a:xfrm>
              <a:off x="3866760" y="5852520"/>
              <a:ext cx="68616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59"/>
            <p:cNvSpPr/>
            <p:nvPr/>
          </p:nvSpPr>
          <p:spPr>
            <a:xfrm>
              <a:off x="2838240" y="5852520"/>
              <a:ext cx="685440" cy="57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2-й конкурс.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Georgia"/>
              </a:rPr>
              <a:t>«Помогите Пингвинам»</a:t>
            </a:r>
            <a:br>
              <a:rPr sz="2800"/>
            </a:br>
            <a:r>
              <a:rPr b="0" lang="en-US" sz="2600" spc="-1" strike="noStrike">
                <a:solidFill>
                  <a:srgbClr val="ffffb7"/>
                </a:solidFill>
                <a:latin typeface="Georgia"/>
              </a:rPr>
              <a:t>Они смастерили счётные машины для своих друзей. Но вот беда - они сломались! Помогите Пингвинам найти результат математических действий.</a:t>
            </a:r>
            <a:endParaRPr b="1" lang="en-US" sz="26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56" name="Picture 4" descr="SS851077"/>
          <p:cNvPicPr/>
          <p:nvPr/>
        </p:nvPicPr>
        <p:blipFill>
          <a:blip r:embed="rId1"/>
          <a:stretch/>
        </p:blipFill>
        <p:spPr>
          <a:xfrm>
            <a:off x="-8174160" y="2608200"/>
            <a:ext cx="7705800" cy="42498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30"/>
          <p:cNvGrpSpPr/>
          <p:nvPr/>
        </p:nvGrpSpPr>
        <p:grpSpPr>
          <a:xfrm>
            <a:off x="1116000" y="7750080"/>
            <a:ext cx="7132320" cy="3171600"/>
            <a:chOff x="1116000" y="7750080"/>
            <a:chExt cx="7132320" cy="3171600"/>
          </a:xfrm>
        </p:grpSpPr>
        <p:grpSp>
          <p:nvGrpSpPr>
            <p:cNvPr id="158" name="Group 48"/>
            <p:cNvGrpSpPr/>
            <p:nvPr/>
          </p:nvGrpSpPr>
          <p:grpSpPr>
            <a:xfrm>
              <a:off x="1116000" y="7750080"/>
              <a:ext cx="2927160" cy="3085920"/>
              <a:chOff x="1116000" y="7750080"/>
              <a:chExt cx="2927160" cy="3085920"/>
            </a:xfrm>
          </p:grpSpPr>
          <p:sp>
            <p:nvSpPr>
              <p:cNvPr id="159" name="Rectangle 8"/>
              <p:cNvSpPr/>
              <p:nvPr/>
            </p:nvSpPr>
            <p:spPr>
              <a:xfrm>
                <a:off x="1342440" y="10264680"/>
                <a:ext cx="426960" cy="57132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AutoShape 9"/>
              <p:cNvSpPr/>
              <p:nvPr/>
            </p:nvSpPr>
            <p:spPr>
              <a:xfrm>
                <a:off x="2283480" y="10150200"/>
                <a:ext cx="598320" cy="685440"/>
              </a:xfrm>
              <a:prstGeom prst="triangle">
                <a:avLst>
                  <a:gd name="adj" fmla="val 50000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10"/>
              <p:cNvSpPr/>
              <p:nvPr/>
            </p:nvSpPr>
            <p:spPr>
              <a:xfrm>
                <a:off x="3310560" y="10150200"/>
                <a:ext cx="512640" cy="68508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12"/>
              <p:cNvSpPr/>
              <p:nvPr/>
            </p:nvSpPr>
            <p:spPr>
              <a:xfrm>
                <a:off x="1256760" y="7978680"/>
                <a:ext cx="514080" cy="68508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3"/>
              <p:cNvSpPr/>
              <p:nvPr/>
            </p:nvSpPr>
            <p:spPr>
              <a:xfrm>
                <a:off x="1256760" y="9120960"/>
                <a:ext cx="514080" cy="68544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14"/>
              <p:cNvSpPr/>
              <p:nvPr/>
            </p:nvSpPr>
            <p:spPr>
              <a:xfrm>
                <a:off x="2283480" y="7978680"/>
                <a:ext cx="428760" cy="57204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2283480" y="9120960"/>
                <a:ext cx="428760" cy="57204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16"/>
              <p:cNvSpPr/>
              <p:nvPr/>
            </p:nvSpPr>
            <p:spPr>
              <a:xfrm>
                <a:off x="3309480" y="9120960"/>
                <a:ext cx="428760" cy="57240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utoShape 17"/>
              <p:cNvSpPr/>
              <p:nvPr/>
            </p:nvSpPr>
            <p:spPr>
              <a:xfrm>
                <a:off x="3224880" y="7864200"/>
                <a:ext cx="598320" cy="686160"/>
              </a:xfrm>
              <a:prstGeom prst="triangle">
                <a:avLst>
                  <a:gd name="adj" fmla="val 50000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1855080" y="832140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2796480" y="8321400"/>
                <a:ext cx="34200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20"/>
              <p:cNvSpPr/>
              <p:nvPr/>
            </p:nvSpPr>
            <p:spPr>
              <a:xfrm>
                <a:off x="1342440" y="775008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>
                <a:off x="1855080" y="946512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>
                <a:off x="3480120" y="8664480"/>
                <a:ext cx="1080" cy="342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3"/>
              <p:cNvSpPr/>
              <p:nvPr/>
            </p:nvSpPr>
            <p:spPr>
              <a:xfrm>
                <a:off x="3566520" y="9807480"/>
                <a:ext cx="36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4"/>
              <p:cNvSpPr/>
              <p:nvPr/>
            </p:nvSpPr>
            <p:spPr>
              <a:xfrm flipH="1">
                <a:off x="2882160" y="1049328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H="1">
                <a:off x="1941480" y="10493280"/>
                <a:ext cx="34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 flipV="1">
                <a:off x="1513080" y="992124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7" name="Group 67"/>
              <p:cNvGrpSpPr/>
              <p:nvPr/>
            </p:nvGrpSpPr>
            <p:grpSpPr>
              <a:xfrm>
                <a:off x="1915560" y="7978680"/>
                <a:ext cx="226440" cy="227880"/>
                <a:chOff x="1915560" y="7978680"/>
                <a:chExt cx="226440" cy="227880"/>
              </a:xfrm>
            </p:grpSpPr>
            <p:sp>
              <p:nvSpPr>
                <p:cNvPr id="178" name="Line 68"/>
                <p:cNvSpPr/>
                <p:nvPr/>
              </p:nvSpPr>
              <p:spPr>
                <a:xfrm>
                  <a:off x="2028600" y="7978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Line 69"/>
                <p:cNvSpPr/>
                <p:nvPr/>
              </p:nvSpPr>
              <p:spPr>
                <a:xfrm>
                  <a:off x="1915560" y="8092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70"/>
              <p:cNvGrpSpPr/>
              <p:nvPr/>
            </p:nvGrpSpPr>
            <p:grpSpPr>
              <a:xfrm>
                <a:off x="2970360" y="7978680"/>
                <a:ext cx="226440" cy="227880"/>
                <a:chOff x="2970360" y="7978680"/>
                <a:chExt cx="226440" cy="227880"/>
              </a:xfrm>
            </p:grpSpPr>
            <p:sp>
              <p:nvSpPr>
                <p:cNvPr id="181" name="Line 71"/>
                <p:cNvSpPr/>
                <p:nvPr/>
              </p:nvSpPr>
              <p:spPr>
                <a:xfrm>
                  <a:off x="3083400" y="7978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2"/>
                <p:cNvSpPr/>
                <p:nvPr/>
              </p:nvSpPr>
              <p:spPr>
                <a:xfrm>
                  <a:off x="2970360" y="8092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73"/>
              <p:cNvGrpSpPr/>
              <p:nvPr/>
            </p:nvGrpSpPr>
            <p:grpSpPr>
              <a:xfrm>
                <a:off x="3625560" y="8664480"/>
                <a:ext cx="226440" cy="227880"/>
                <a:chOff x="3625560" y="8664480"/>
                <a:chExt cx="226440" cy="227880"/>
              </a:xfrm>
            </p:grpSpPr>
            <p:sp>
              <p:nvSpPr>
                <p:cNvPr id="184" name="Line 74"/>
                <p:cNvSpPr/>
                <p:nvPr/>
              </p:nvSpPr>
              <p:spPr>
                <a:xfrm>
                  <a:off x="3738600" y="8664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Line 75"/>
                <p:cNvSpPr/>
                <p:nvPr/>
              </p:nvSpPr>
              <p:spPr>
                <a:xfrm>
                  <a:off x="3625560" y="8778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3011760" y="10149480"/>
                <a:ext cx="226440" cy="227880"/>
                <a:chOff x="3011760" y="10149480"/>
                <a:chExt cx="226440" cy="227880"/>
              </a:xfrm>
            </p:grpSpPr>
            <p:sp>
              <p:nvSpPr>
                <p:cNvPr id="187" name="Line 77"/>
                <p:cNvSpPr/>
                <p:nvPr/>
              </p:nvSpPr>
              <p:spPr>
                <a:xfrm>
                  <a:off x="3124800" y="10149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78"/>
                <p:cNvSpPr/>
                <p:nvPr/>
              </p:nvSpPr>
              <p:spPr>
                <a:xfrm>
                  <a:off x="3011760" y="10263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79"/>
              <p:cNvGrpSpPr/>
              <p:nvPr/>
            </p:nvGrpSpPr>
            <p:grpSpPr>
              <a:xfrm>
                <a:off x="2027160" y="10149480"/>
                <a:ext cx="226440" cy="227880"/>
                <a:chOff x="2027160" y="10149480"/>
                <a:chExt cx="226440" cy="227880"/>
              </a:xfrm>
            </p:grpSpPr>
            <p:sp>
              <p:nvSpPr>
                <p:cNvPr id="190" name="Line 80"/>
                <p:cNvSpPr/>
                <p:nvPr/>
              </p:nvSpPr>
              <p:spPr>
                <a:xfrm>
                  <a:off x="2140200" y="10149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81"/>
                <p:cNvSpPr/>
                <p:nvPr/>
              </p:nvSpPr>
              <p:spPr>
                <a:xfrm>
                  <a:off x="2027160" y="10263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82"/>
              <p:cNvGrpSpPr/>
              <p:nvPr/>
            </p:nvGrpSpPr>
            <p:grpSpPr>
              <a:xfrm>
                <a:off x="1116000" y="9921600"/>
                <a:ext cx="226440" cy="227880"/>
                <a:chOff x="1116000" y="9921600"/>
                <a:chExt cx="226440" cy="227880"/>
              </a:xfrm>
            </p:grpSpPr>
            <p:sp>
              <p:nvSpPr>
                <p:cNvPr id="193" name="Line 83"/>
                <p:cNvSpPr/>
                <p:nvPr/>
              </p:nvSpPr>
              <p:spPr>
                <a:xfrm>
                  <a:off x="1229040" y="992160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84"/>
                <p:cNvSpPr/>
                <p:nvPr/>
              </p:nvSpPr>
              <p:spPr>
                <a:xfrm>
                  <a:off x="1116000" y="1003572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85"/>
              <p:cNvGrpSpPr/>
              <p:nvPr/>
            </p:nvGrpSpPr>
            <p:grpSpPr>
              <a:xfrm>
                <a:off x="1835640" y="9120960"/>
                <a:ext cx="304560" cy="113040"/>
                <a:chOff x="1835640" y="9120960"/>
                <a:chExt cx="304560" cy="113040"/>
              </a:xfrm>
            </p:grpSpPr>
            <p:sp>
              <p:nvSpPr>
                <p:cNvPr id="196" name="Line 86"/>
                <p:cNvSpPr/>
                <p:nvPr/>
              </p:nvSpPr>
              <p:spPr>
                <a:xfrm>
                  <a:off x="1835640" y="91209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7"/>
                <p:cNvSpPr/>
                <p:nvPr/>
              </p:nvSpPr>
              <p:spPr>
                <a:xfrm>
                  <a:off x="1835640" y="923400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88"/>
              <p:cNvSpPr/>
              <p:nvPr/>
            </p:nvSpPr>
            <p:spPr>
              <a:xfrm>
                <a:off x="3738600" y="9902520"/>
                <a:ext cx="304560" cy="1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90"/>
            <p:cNvGrpSpPr/>
            <p:nvPr/>
          </p:nvGrpSpPr>
          <p:grpSpPr>
            <a:xfrm>
              <a:off x="5221080" y="7750080"/>
              <a:ext cx="3027240" cy="3171600"/>
              <a:chOff x="5221080" y="7750080"/>
              <a:chExt cx="3027240" cy="3171600"/>
            </a:xfrm>
          </p:grpSpPr>
          <p:grpSp>
            <p:nvGrpSpPr>
              <p:cNvPr id="200" name="Group 91"/>
              <p:cNvGrpSpPr/>
              <p:nvPr/>
            </p:nvGrpSpPr>
            <p:grpSpPr>
              <a:xfrm>
                <a:off x="7102800" y="9072360"/>
                <a:ext cx="304560" cy="112680"/>
                <a:chOff x="7102800" y="9072360"/>
                <a:chExt cx="304560" cy="112680"/>
              </a:xfrm>
            </p:grpSpPr>
            <p:sp>
              <p:nvSpPr>
                <p:cNvPr id="201" name="Line 92"/>
                <p:cNvSpPr/>
                <p:nvPr/>
              </p:nvSpPr>
              <p:spPr>
                <a:xfrm>
                  <a:off x="7102800" y="90723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93"/>
                <p:cNvSpPr/>
                <p:nvPr/>
              </p:nvSpPr>
              <p:spPr>
                <a:xfrm>
                  <a:off x="7102800" y="9185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8"/>
              <p:cNvGrpSpPr/>
              <p:nvPr/>
            </p:nvGrpSpPr>
            <p:grpSpPr>
              <a:xfrm>
                <a:off x="5378400" y="7750080"/>
                <a:ext cx="2869920" cy="3171600"/>
                <a:chOff x="5378400" y="7750080"/>
                <a:chExt cx="2869920" cy="3171600"/>
              </a:xfrm>
            </p:grpSpPr>
            <p:sp>
              <p:nvSpPr>
                <p:cNvPr id="204" name="AutoShape 29"/>
                <p:cNvSpPr/>
                <p:nvPr/>
              </p:nvSpPr>
              <p:spPr>
                <a:xfrm>
                  <a:off x="5378400" y="7750080"/>
                  <a:ext cx="2869920" cy="31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30"/>
                <p:cNvGrpSpPr/>
                <p:nvPr/>
              </p:nvGrpSpPr>
              <p:grpSpPr>
                <a:xfrm>
                  <a:off x="5537520" y="7855560"/>
                  <a:ext cx="2471400" cy="2856600"/>
                  <a:chOff x="5537520" y="7855560"/>
                  <a:chExt cx="2471400" cy="2856600"/>
                </a:xfrm>
              </p:grpSpPr>
              <p:sp>
                <p:nvSpPr>
                  <p:cNvPr id="206" name="Oval 31"/>
                  <p:cNvSpPr/>
                  <p:nvPr/>
                </p:nvSpPr>
                <p:spPr>
                  <a:xfrm>
                    <a:off x="7530840" y="7961400"/>
                    <a:ext cx="478080" cy="633240"/>
                  </a:xfrm>
                  <a:prstGeom prst="ellipse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9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32"/>
                  <p:cNvSpPr/>
                  <p:nvPr/>
                </p:nvSpPr>
                <p:spPr>
                  <a:xfrm>
                    <a:off x="5617440" y="8066880"/>
                    <a:ext cx="398520" cy="5284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Rectangle 33"/>
                  <p:cNvSpPr/>
                  <p:nvPr/>
                </p:nvSpPr>
                <p:spPr>
                  <a:xfrm>
                    <a:off x="6573960" y="9124200"/>
                    <a:ext cx="399240" cy="5284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?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tangle 34"/>
                  <p:cNvSpPr/>
                  <p:nvPr/>
                </p:nvSpPr>
                <p:spPr>
                  <a:xfrm>
                    <a:off x="6653880" y="10181880"/>
                    <a:ext cx="398520" cy="5302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35"/>
                  <p:cNvSpPr/>
                  <p:nvPr/>
                </p:nvSpPr>
                <p:spPr>
                  <a:xfrm>
                    <a:off x="6494400" y="8066880"/>
                    <a:ext cx="557280" cy="635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36"/>
                  <p:cNvSpPr/>
                  <p:nvPr/>
                </p:nvSpPr>
                <p:spPr>
                  <a:xfrm>
                    <a:off x="7451280" y="9018720"/>
                    <a:ext cx="557640" cy="633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37"/>
                  <p:cNvSpPr/>
                  <p:nvPr/>
                </p:nvSpPr>
                <p:spPr>
                  <a:xfrm>
                    <a:off x="7530840" y="10076400"/>
                    <a:ext cx="478080" cy="633240"/>
                  </a:xfrm>
                  <a:prstGeom prst="ellipse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38"/>
                  <p:cNvSpPr/>
                  <p:nvPr/>
                </p:nvSpPr>
                <p:spPr>
                  <a:xfrm>
                    <a:off x="6095880" y="10499040"/>
                    <a:ext cx="318240" cy="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39"/>
                  <p:cNvSpPr/>
                  <p:nvPr/>
                </p:nvSpPr>
                <p:spPr>
                  <a:xfrm flipH="1">
                    <a:off x="7052400" y="8278560"/>
                    <a:ext cx="318960" cy="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40"/>
                  <p:cNvSpPr/>
                  <p:nvPr/>
                </p:nvSpPr>
                <p:spPr>
                  <a:xfrm flipH="1">
                    <a:off x="6095880" y="8278560"/>
                    <a:ext cx="318960" cy="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41"/>
                  <p:cNvSpPr/>
                  <p:nvPr/>
                </p:nvSpPr>
                <p:spPr>
                  <a:xfrm flipV="1">
                    <a:off x="7770240" y="9758520"/>
                    <a:ext cx="360" cy="212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42"/>
                  <p:cNvSpPr/>
                  <p:nvPr/>
                </p:nvSpPr>
                <p:spPr>
                  <a:xfrm>
                    <a:off x="5537520" y="9018720"/>
                    <a:ext cx="557640" cy="633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43"/>
                  <p:cNvSpPr/>
                  <p:nvPr/>
                </p:nvSpPr>
                <p:spPr>
                  <a:xfrm>
                    <a:off x="7131960" y="10499040"/>
                    <a:ext cx="318240" cy="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44"/>
                  <p:cNvSpPr/>
                  <p:nvPr/>
                </p:nvSpPr>
                <p:spPr>
                  <a:xfrm flipH="1">
                    <a:off x="7052400" y="9335880"/>
                    <a:ext cx="318960" cy="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530840" y="7855560"/>
                    <a:ext cx="318960" cy="2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6"/>
                  <p:cNvSpPr/>
                  <p:nvPr/>
                </p:nvSpPr>
                <p:spPr>
                  <a:xfrm>
                    <a:off x="5776920" y="8701200"/>
                    <a:ext cx="360" cy="211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5776920" y="9758520"/>
                    <a:ext cx="0" cy="211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Oval 69"/>
              <p:cNvSpPr/>
              <p:nvPr/>
            </p:nvSpPr>
            <p:spPr>
              <a:xfrm>
                <a:off x="5378400" y="10101240"/>
                <a:ext cx="648000" cy="64944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Group 115"/>
              <p:cNvGrpSpPr/>
              <p:nvPr/>
            </p:nvGrpSpPr>
            <p:grpSpPr>
              <a:xfrm>
                <a:off x="6165360" y="7970040"/>
                <a:ext cx="226800" cy="227880"/>
                <a:chOff x="6165360" y="7970040"/>
                <a:chExt cx="226800" cy="227880"/>
              </a:xfrm>
            </p:grpSpPr>
            <p:sp>
              <p:nvSpPr>
                <p:cNvPr id="225" name="Line 116"/>
                <p:cNvSpPr/>
                <p:nvPr/>
              </p:nvSpPr>
              <p:spPr>
                <a:xfrm>
                  <a:off x="6278760" y="797004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17"/>
                <p:cNvSpPr/>
                <p:nvPr/>
              </p:nvSpPr>
              <p:spPr>
                <a:xfrm>
                  <a:off x="6165360" y="8084160"/>
                  <a:ext cx="226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118"/>
              <p:cNvGrpSpPr/>
              <p:nvPr/>
            </p:nvGrpSpPr>
            <p:grpSpPr>
              <a:xfrm>
                <a:off x="5492160" y="8844120"/>
                <a:ext cx="226440" cy="227880"/>
                <a:chOff x="5492160" y="8844120"/>
                <a:chExt cx="226440" cy="227880"/>
              </a:xfrm>
            </p:grpSpPr>
            <p:sp>
              <p:nvSpPr>
                <p:cNvPr id="228" name="Line 119"/>
                <p:cNvSpPr/>
                <p:nvPr/>
              </p:nvSpPr>
              <p:spPr>
                <a:xfrm>
                  <a:off x="5605200" y="884412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0"/>
                <p:cNvSpPr/>
                <p:nvPr/>
              </p:nvSpPr>
              <p:spPr>
                <a:xfrm>
                  <a:off x="5492160" y="895824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21"/>
              <p:cNvGrpSpPr/>
              <p:nvPr/>
            </p:nvGrpSpPr>
            <p:grpSpPr>
              <a:xfrm>
                <a:off x="6165360" y="10101240"/>
                <a:ext cx="226800" cy="227880"/>
                <a:chOff x="6165360" y="10101240"/>
                <a:chExt cx="226800" cy="227880"/>
              </a:xfrm>
            </p:grpSpPr>
            <p:sp>
              <p:nvSpPr>
                <p:cNvPr id="231" name="Line 122"/>
                <p:cNvSpPr/>
                <p:nvPr/>
              </p:nvSpPr>
              <p:spPr>
                <a:xfrm>
                  <a:off x="6278760" y="1010124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23"/>
                <p:cNvSpPr/>
                <p:nvPr/>
              </p:nvSpPr>
              <p:spPr>
                <a:xfrm>
                  <a:off x="6165360" y="10215360"/>
                  <a:ext cx="226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124"/>
              <p:cNvGrpSpPr/>
              <p:nvPr/>
            </p:nvGrpSpPr>
            <p:grpSpPr>
              <a:xfrm>
                <a:off x="7953840" y="9796680"/>
                <a:ext cx="226440" cy="227880"/>
                <a:chOff x="7953840" y="9796680"/>
                <a:chExt cx="226440" cy="227880"/>
              </a:xfrm>
            </p:grpSpPr>
            <p:sp>
              <p:nvSpPr>
                <p:cNvPr id="234" name="Line 125"/>
                <p:cNvSpPr/>
                <p:nvPr/>
              </p:nvSpPr>
              <p:spPr>
                <a:xfrm>
                  <a:off x="8066880" y="9796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6"/>
                <p:cNvSpPr/>
                <p:nvPr/>
              </p:nvSpPr>
              <p:spPr>
                <a:xfrm>
                  <a:off x="7953840" y="9910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Line 127"/>
              <p:cNvSpPr/>
              <p:nvPr/>
            </p:nvSpPr>
            <p:spPr>
              <a:xfrm>
                <a:off x="7093800" y="809856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28"/>
              <p:cNvSpPr/>
              <p:nvPr/>
            </p:nvSpPr>
            <p:spPr>
              <a:xfrm>
                <a:off x="5221080" y="991080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29"/>
              <p:cNvSpPr/>
              <p:nvPr/>
            </p:nvSpPr>
            <p:spPr>
              <a:xfrm>
                <a:off x="7093800" y="1010124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01042 L 0.99427 -0.02199 E">
                                      <p:cBhvr>
                                        <p:cTn id="37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36134 L 0.01163 -0.69467 E">
                                      <p:cBhvr>
                                        <p:cTn id="37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в стихах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40" name="Picture 4" descr="SS851092"/>
          <p:cNvPicPr/>
          <p:nvPr/>
        </p:nvPicPr>
        <p:blipFill>
          <a:blip r:embed="rId1"/>
          <a:stretch/>
        </p:blipFill>
        <p:spPr>
          <a:xfrm rot="21277800">
            <a:off x="468360" y="27810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352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ужно муравьи жив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без дела не сн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несут трави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несут былин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и несут иго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колько их под ёлко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 воде две у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 дворе две кур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гуся в пру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индюк в са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колько птиц всего? Счита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а ответ мне называй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093080" y="306864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7"/>
          <p:cNvPicPr/>
          <p:nvPr/>
        </p:nvPicPr>
        <p:blipFill>
          <a:blip r:embed="rId1"/>
          <a:stretch/>
        </p:blipFill>
        <p:spPr>
          <a:xfrm>
            <a:off x="6227640" y="3068640"/>
            <a:ext cx="1440000" cy="29527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ответ на 3 конкурс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45" name="Picture 4" descr="P1030113"/>
          <p:cNvPicPr/>
          <p:nvPr/>
        </p:nvPicPr>
        <p:blipFill>
          <a:blip r:embed="rId2"/>
          <a:stretch/>
        </p:blipFill>
        <p:spPr>
          <a:xfrm rot="318000">
            <a:off x="4524480" y="2913120"/>
            <a:ext cx="4103640" cy="323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-0.48021 -0.0787 E">
                                      <p:cBhvr>
                                        <p:cTn id="38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9but"/>
          <p:cNvPicPr/>
          <p:nvPr/>
        </p:nvPicPr>
        <p:blipFill>
          <a:blip r:embed="rId1"/>
          <a:stretch/>
        </p:blipFill>
        <p:spPr>
          <a:xfrm>
            <a:off x="6300720" y="278136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3927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адила мама в п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роги с капустой п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Наташи, Коли, Во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роги уже гото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 ещё один пи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т под лавку ува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 ещё из печки п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ме нужно выним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можешь – помог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читай все пирог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SS851094"/>
          <p:cNvPicPr/>
          <p:nvPr/>
        </p:nvPicPr>
        <p:blipFill>
          <a:blip r:embed="rId2"/>
          <a:stretch/>
        </p:blipFill>
        <p:spPr>
          <a:xfrm rot="327000">
            <a:off x="5003640" y="2060640"/>
            <a:ext cx="3706920" cy="2989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588240" y="4986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в стих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8663 0.35653 E">
                                      <p:cBhvr>
                                        <p:cTn id="38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SS851087"/>
          <p:cNvPicPr/>
          <p:nvPr/>
        </p:nvPicPr>
        <p:blipFill>
          <a:blip r:embed="rId1"/>
          <a:stretch/>
        </p:blipFill>
        <p:spPr>
          <a:xfrm rot="21292200">
            <a:off x="610920" y="2276640"/>
            <a:ext cx="3456000" cy="31413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284720" y="1557000"/>
            <a:ext cx="4535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грела чайка чай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гласила 9 чае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ходите, все на ча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чашек, отвеча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и гуся летят над н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и других за облак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а спустились на ру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было всех гус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73200" y="333360"/>
            <a:ext cx="805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в стих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0" descr="8t"/>
          <p:cNvPicPr/>
          <p:nvPr/>
        </p:nvPicPr>
        <p:blipFill>
          <a:blip r:embed="rId1"/>
          <a:stretch/>
        </p:blipFill>
        <p:spPr>
          <a:xfrm>
            <a:off x="1258920" y="2565360"/>
            <a:ext cx="1595520" cy="2016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8"/>
          <p:cNvGrpSpPr/>
          <p:nvPr/>
        </p:nvGrpSpPr>
        <p:grpSpPr>
          <a:xfrm>
            <a:off x="2195640" y="2276640"/>
            <a:ext cx="1685880" cy="1655640"/>
            <a:chOff x="2195640" y="2276640"/>
            <a:chExt cx="1685880" cy="1655640"/>
          </a:xfrm>
        </p:grpSpPr>
        <p:pic>
          <p:nvPicPr>
            <p:cNvPr id="255" name="Picture 6" descr="1but"/>
            <p:cNvPicPr/>
            <p:nvPr/>
          </p:nvPicPr>
          <p:blipFill>
            <a:blip r:embed="rId2"/>
            <a:stretch/>
          </p:blipFill>
          <p:spPr>
            <a:xfrm>
              <a:off x="2195640" y="2276640"/>
              <a:ext cx="8636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8" descr="0but"/>
            <p:cNvPicPr/>
            <p:nvPr/>
          </p:nvPicPr>
          <p:blipFill>
            <a:blip r:embed="rId3"/>
            <a:stretch/>
          </p:blipFill>
          <p:spPr>
            <a:xfrm>
              <a:off x="2700360" y="2492640"/>
              <a:ext cx="1181160" cy="141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 р о в е р к а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ответы на 3-й конкурс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58" name="Picture 4" descr="P1030115"/>
          <p:cNvPicPr/>
          <p:nvPr/>
        </p:nvPicPr>
        <p:blipFill>
          <a:blip r:embed="rId4"/>
          <a:stretch/>
        </p:blipFill>
        <p:spPr>
          <a:xfrm rot="21259200">
            <a:off x="733320" y="2125800"/>
            <a:ext cx="4346640" cy="342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12139E-006 L 0.43542 -0.12046 E">
                                      <p:cBhvr>
                                        <p:cTn id="393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2775E-006 L 0.54288 0.23075 E">
                                      <p:cBhvr>
                                        <p:cTn id="39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SS851083"/>
          <p:cNvPicPr/>
          <p:nvPr/>
        </p:nvPicPr>
        <p:blipFill>
          <a:blip r:embed="rId1"/>
          <a:stretch/>
        </p:blipFill>
        <p:spPr>
          <a:xfrm rot="20936400">
            <a:off x="826920" y="620640"/>
            <a:ext cx="3360960" cy="252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SS851080"/>
          <p:cNvPicPr/>
          <p:nvPr/>
        </p:nvPicPr>
        <p:blipFill>
          <a:blip r:embed="rId2"/>
          <a:stretch/>
        </p:blipFill>
        <p:spPr>
          <a:xfrm rot="20763000">
            <a:off x="4932360" y="4759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SS851079"/>
          <p:cNvPicPr/>
          <p:nvPr/>
        </p:nvPicPr>
        <p:blipFill>
          <a:blip r:embed="rId3"/>
          <a:stretch/>
        </p:blipFill>
        <p:spPr>
          <a:xfrm rot="726600">
            <a:off x="1116000" y="393372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SS851091"/>
          <p:cNvPicPr/>
          <p:nvPr/>
        </p:nvPicPr>
        <p:blipFill>
          <a:blip r:embed="rId4"/>
          <a:stretch/>
        </p:blipFill>
        <p:spPr>
          <a:xfrm rot="634200">
            <a:off x="5364000" y="4076280"/>
            <a:ext cx="3364200" cy="25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4-й конкурс. «Лесенка Мелмана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т по этой лесенке вам предстоит подняться. Но ступеньки, как видите, не простые, на каждой из них пример. Какая команда быстрее выполнит это задание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4" name="Picture 4" descr="SS851090"/>
          <p:cNvPicPr/>
          <p:nvPr/>
        </p:nvPicPr>
        <p:blipFill>
          <a:blip r:embed="rId1"/>
          <a:stretch/>
        </p:blipFill>
        <p:spPr>
          <a:xfrm>
            <a:off x="-4068720" y="836640"/>
            <a:ext cx="3168720" cy="33559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7"/>
          <p:cNvSpPr/>
          <p:nvPr/>
        </p:nvSpPr>
        <p:spPr>
          <a:xfrm>
            <a:off x="2387880" y="1880280"/>
            <a:ext cx="316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1"/>
          <p:cNvGrpSpPr/>
          <p:nvPr/>
        </p:nvGrpSpPr>
        <p:grpSpPr>
          <a:xfrm>
            <a:off x="4284720" y="2565360"/>
            <a:ext cx="5255640" cy="3457080"/>
            <a:chOff x="4284720" y="2565360"/>
            <a:chExt cx="5255640" cy="3457080"/>
          </a:xfrm>
        </p:grpSpPr>
        <p:sp>
          <p:nvSpPr>
            <p:cNvPr id="267" name="Line 6"/>
            <p:cNvSpPr/>
            <p:nvPr/>
          </p:nvSpPr>
          <p:spPr>
            <a:xfrm>
              <a:off x="4723920" y="5722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4723920" y="5722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0"/>
            <p:cNvSpPr/>
            <p:nvPr/>
          </p:nvSpPr>
          <p:spPr>
            <a:xfrm>
              <a:off x="5100840" y="49345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5477400" y="47851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6"/>
            <p:cNvSpPr/>
            <p:nvPr/>
          </p:nvSpPr>
          <p:spPr>
            <a:xfrm>
              <a:off x="5853960" y="40050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6230520" y="3355920"/>
              <a:ext cx="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6607440" y="25653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26"/>
            <p:cNvSpPr/>
            <p:nvPr/>
          </p:nvSpPr>
          <p:spPr>
            <a:xfrm>
              <a:off x="6984000" y="25653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>
              <a:off x="7360920" y="3355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7737120" y="41439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8114040" y="49345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8490600" y="5722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1"/>
            <p:cNvSpPr/>
            <p:nvPr/>
          </p:nvSpPr>
          <p:spPr>
            <a:xfrm>
              <a:off x="5100840" y="49345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5853960" y="400500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6230520" y="3355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607440" y="25653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2"/>
            <p:cNvSpPr/>
            <p:nvPr/>
          </p:nvSpPr>
          <p:spPr>
            <a:xfrm>
              <a:off x="6984000" y="3355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60920" y="41439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7737120" y="49345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8114040" y="57229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4728240" y="2693520"/>
              <a:ext cx="270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+1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7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9"/>
            <p:cNvSpPr/>
            <p:nvPr/>
          </p:nvSpPr>
          <p:spPr>
            <a:xfrm>
              <a:off x="4728240" y="3415320"/>
              <a:ext cx="304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+3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0"/>
            <p:cNvSpPr/>
            <p:nvPr/>
          </p:nvSpPr>
          <p:spPr>
            <a:xfrm>
              <a:off x="4723920" y="4135320"/>
              <a:ext cx="363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+2                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5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1"/>
            <p:cNvSpPr/>
            <p:nvPr/>
          </p:nvSpPr>
          <p:spPr>
            <a:xfrm>
              <a:off x="4730400" y="4854600"/>
              <a:ext cx="372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+1                                  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4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2"/>
            <p:cNvSpPr/>
            <p:nvPr/>
          </p:nvSpPr>
          <p:spPr>
            <a:xfrm>
              <a:off x="4284720" y="5390280"/>
              <a:ext cx="52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+1                                                                                      3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C 0.01042 -0.00902 0.0467 -0.01805 0.05937 -0.01805 C 0.13958 -0.01805 0.22205 0.12361 0.22205 0.26551 C 0.22205 0.19399 0.26337 0.12361 0.30226 0.12361 C 0.3434 0.12361 0.38247 0.19514 0.38247 0.26551 C 0.38247 0.2301 0.40313 0.19399 0.42378 0.19399 C 0.44444 0.19399 0.46493 0.22917 0.46493 0.26551 C 0.46493 0.24723 0.47535 0.2301 0.48559 0.2301 C 0.49601 0.2301 0.50625 0.24815 0.50625 0.26551 C 0.50625 0.25625 0.51163 0.24723 0.51667 0.24723 C 0.51927 0.24723 0.52691 0.25625 0.52691 0.26551 C 0.52691 0.26088 0.52951 0.25625 0.53229 0.25625 C 0.53229 0.25741 0.53767 0.26088 0.53767 0.26551 C 0.53767 0.26297 0.53767 0.26088 0.54028 0.26088 C 0.54028 0.26204 0.54306 0.2632 0.54306 0.26551 C 0.54306 0.26412 0.54306 0.26297 0.54306 0.26204 C 0.54566 0.26204 0.54566 0.2632 0.54566 0.26436 C 0.54844 0.26436 0.54844 0.2632 0.54844 0.26204 C 0.55122 0.26204 0.55122 0.2632 0.55122 0.26436 E">
                                      <p:cBhvr>
                                        <p:cTn id="43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-й конкур. «Шифрограмма Глории».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Задание: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сшифровать то, что хотела сообщить вам Глория. Подумайте, как найти ключ к шифр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Кто быстрее прочитает шифрограмму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2349360"/>
          <a:ext cx="3927600" cy="15955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0" y="7893000"/>
          <a:ext cx="8497800" cy="1673280"/>
        </p:xfrm>
        <a:graphic>
          <a:graphicData uri="http://schemas.openxmlformats.org/drawingml/2006/table">
            <a:tbl>
              <a:tblPr/>
              <a:tblGrid>
                <a:gridCol w="942840"/>
                <a:gridCol w="947880"/>
                <a:gridCol w="942840"/>
                <a:gridCol w="944640"/>
                <a:gridCol w="941400"/>
                <a:gridCol w="944640"/>
                <a:gridCol w="942840"/>
                <a:gridCol w="947880"/>
                <a:gridCol w="9428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Ц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4" descr="SS851076"/>
          <p:cNvPicPr/>
          <p:nvPr/>
        </p:nvPicPr>
        <p:blipFill>
          <a:blip r:embed="rId1"/>
          <a:stretch/>
        </p:blipFill>
        <p:spPr>
          <a:xfrm>
            <a:off x="539640" y="19890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062 -0.01134 L 0.50017 -0.01134 E">
                                      <p:cBhvr>
                                        <p:cTn id="457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4.81481E-006 L 0.01181 -0.43703 E">
                                      <p:cBhvr>
                                        <p:cTn id="460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Беритесь, ребята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Скорей за работу!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Учитесь считать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Чтоб не сбиться со счёту!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5" name="Picture 8" descr="SS851072"/>
          <p:cNvPicPr/>
          <p:nvPr/>
        </p:nvPicPr>
        <p:blipFill>
          <a:blip r:embed="rId1"/>
          <a:stretch/>
        </p:blipFill>
        <p:spPr>
          <a:xfrm>
            <a:off x="250920" y="404640"/>
            <a:ext cx="2077920" cy="19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P1030102"/>
          <p:cNvPicPr/>
          <p:nvPr/>
        </p:nvPicPr>
        <p:blipFill>
          <a:blip r:embed="rId2"/>
          <a:stretch/>
        </p:blipFill>
        <p:spPr>
          <a:xfrm>
            <a:off x="2408400" y="3357720"/>
            <a:ext cx="4235400" cy="29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            </a:t>
            </a: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П о з д р а в л я е м !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97" name="Picture 4" descr="SS851081"/>
          <p:cNvPicPr/>
          <p:nvPr/>
        </p:nvPicPr>
        <p:blipFill>
          <a:blip r:embed="rId1"/>
          <a:stretch/>
        </p:blipFill>
        <p:spPr>
          <a:xfrm>
            <a:off x="2411280" y="306864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36_2_25"/>
          <p:cNvPicPr/>
          <p:nvPr/>
        </p:nvPicPr>
        <p:blipFill>
          <a:blip r:embed="rId2"/>
          <a:stretch/>
        </p:blipFill>
        <p:spPr>
          <a:xfrm>
            <a:off x="468360" y="907920"/>
            <a:ext cx="1190520" cy="1146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36_2_53"/>
          <p:cNvPicPr/>
          <p:nvPr/>
        </p:nvPicPr>
        <p:blipFill>
          <a:blip r:embed="rId3"/>
          <a:stretch/>
        </p:blipFill>
        <p:spPr>
          <a:xfrm>
            <a:off x="7308720" y="5300640"/>
            <a:ext cx="1297080" cy="1111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2124000" y="191628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Garamond"/>
              </a:rPr>
              <a:t>Ребята вы молодцы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7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8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3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Разминка для ума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3592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1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ль поставил спинку брат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т взобрался не спеш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ли новой цифрой брат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найти нам в ней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ернуть её ты може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й поставить вн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фра будет всё такой 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подумай, разбер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7960" y="1197000"/>
            <a:ext cx="3927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2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гадайте-ка, ребя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за цифра-акробат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на голову встан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вно на 3 меньше станет.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P1030114"/>
          <p:cNvPicPr/>
          <p:nvPr/>
        </p:nvPicPr>
        <p:blipFill>
          <a:blip r:embed="rId1"/>
          <a:stretch/>
        </p:blipFill>
        <p:spPr>
          <a:xfrm>
            <a:off x="5429160" y="4508640"/>
            <a:ext cx="3035520" cy="209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8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3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8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3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8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300"/>
                            </p:stCondLst>
                            <p:childTnLst>
                              <p:par>
                                <p:cTn id="1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8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300"/>
                            </p:stCondLst>
                            <p:childTnLst>
                              <p:par>
                                <p:cTn id="13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80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30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60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30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1-й                                             Ответ 2-й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02" name="Picture 4" descr="9"/>
          <p:cNvPicPr/>
          <p:nvPr/>
        </p:nvPicPr>
        <p:blipFill>
          <a:blip r:embed="rId1"/>
          <a:stretch/>
        </p:blipFill>
        <p:spPr>
          <a:xfrm>
            <a:off x="7020000" y="-269244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8t"/>
          <p:cNvPicPr/>
          <p:nvPr/>
        </p:nvPicPr>
        <p:blipFill>
          <a:blip r:embed="rId2"/>
          <a:stretch/>
        </p:blipFill>
        <p:spPr>
          <a:xfrm>
            <a:off x="826920" y="-233208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P1030112"/>
          <p:cNvPicPr/>
          <p:nvPr/>
        </p:nvPicPr>
        <p:blipFill>
          <a:blip r:embed="rId3"/>
          <a:stretch/>
        </p:blipFill>
        <p:spPr>
          <a:xfrm>
            <a:off x="2143080" y="3332160"/>
            <a:ext cx="444492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24195 L 0.00798 0.57567 E">
                                      <p:cBhvr>
                                        <p:cTn id="1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18934 L -2.77778E-007 0.59908 E">
                                      <p:cBhvr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39272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её как запят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вост крючком, и не секр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всех она лентяе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лентяи её –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3640" y="1700280"/>
            <a:ext cx="392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 цифра – как замоч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рху крюк, внизу кружочек.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258920" y="33336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Разминка для у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111640" y="4292640"/>
            <a:ext cx="3637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так цифра – кочерг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51640" y="386064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116000" y="119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867280" y="119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4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9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0" lang="en-US" sz="2800" spc="-1" strike="noStrike">
                <a:solidFill>
                  <a:srgbClr val="99ff66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3-й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4-й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3" name="Picture 4" descr="2"/>
          <p:cNvPicPr/>
          <p:nvPr/>
        </p:nvPicPr>
        <p:blipFill>
          <a:blip r:embed="rId1"/>
          <a:stretch/>
        </p:blipFill>
        <p:spPr>
          <a:xfrm>
            <a:off x="-1908000" y="2060640"/>
            <a:ext cx="1296720" cy="208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but"/>
          <p:cNvPicPr/>
          <p:nvPr/>
        </p:nvPicPr>
        <p:blipFill>
          <a:blip r:embed="rId2"/>
          <a:stretch/>
        </p:blipFill>
        <p:spPr>
          <a:xfrm>
            <a:off x="9901080" y="2421000"/>
            <a:ext cx="151308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7t"/>
          <p:cNvPicPr/>
          <p:nvPr/>
        </p:nvPicPr>
        <p:blipFill>
          <a:blip r:embed="rId3"/>
          <a:stretch/>
        </p:blipFill>
        <p:spPr>
          <a:xfrm>
            <a:off x="3348000" y="7605720"/>
            <a:ext cx="2879640" cy="89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1030108"/>
          <p:cNvPicPr/>
          <p:nvPr/>
        </p:nvPicPr>
        <p:blipFill>
          <a:blip r:embed="rId4"/>
          <a:stretch/>
        </p:blipFill>
        <p:spPr>
          <a:xfrm>
            <a:off x="2786040" y="1874880"/>
            <a:ext cx="4143240" cy="2849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348000" y="4797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5-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051 L 0.26267 -0.00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0532 L -0.29045 -0.00532 E">
                                      <p:cBhvr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8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Задание:</a:t>
            </a:r>
            <a:r>
              <a:rPr b="0" lang="en-US" sz="18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Times New Roman"/>
              </a:rPr>
              <a:t>Сосчитайте все предметы, которые купил герой стихотворения С. Маршака.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27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ад я к бабушке пошё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копейку там нашё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 купил 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у, кеп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придачу тряпку, щеп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жку, плошку, шайку, лейк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ё купил я за копей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57480" y="856800"/>
            <a:ext cx="39272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P1030102"/>
          <p:cNvPicPr/>
          <p:nvPr/>
        </p:nvPicPr>
        <p:blipFill>
          <a:blip r:embed="rId1"/>
          <a:stretch/>
        </p:blipFill>
        <p:spPr>
          <a:xfrm>
            <a:off x="5003640" y="4076640"/>
            <a:ext cx="37720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                                         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на задание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3" name="Picture 4" descr="8but"/>
          <p:cNvPicPr/>
          <p:nvPr/>
        </p:nvPicPr>
        <p:blipFill>
          <a:blip r:embed="rId1"/>
          <a:stretch/>
        </p:blipFill>
        <p:spPr>
          <a:xfrm>
            <a:off x="3780000" y="2708280"/>
            <a:ext cx="1800000" cy="29512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7"/>
          <p:cNvGrpSpPr/>
          <p:nvPr/>
        </p:nvGrpSpPr>
        <p:grpSpPr>
          <a:xfrm>
            <a:off x="344160" y="1842480"/>
            <a:ext cx="5360040" cy="4492080"/>
            <a:chOff x="344160" y="1842480"/>
            <a:chExt cx="5360040" cy="4492080"/>
          </a:xfrm>
        </p:grpSpPr>
        <p:sp>
          <p:nvSpPr>
            <p:cNvPr id="125" name="AutoShape 6"/>
            <p:cNvSpPr/>
            <p:nvPr/>
          </p:nvSpPr>
          <p:spPr>
            <a:xfrm rot="21372600">
              <a:off x="475920" y="2006280"/>
              <a:ext cx="5095800" cy="416412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6" descr="P1030106"/>
            <p:cNvPicPr/>
            <p:nvPr/>
          </p:nvPicPr>
          <p:blipFill>
            <a:blip r:embed="rId2"/>
            <a:stretch/>
          </p:blipFill>
          <p:spPr>
            <a:xfrm rot="21372600">
              <a:off x="973440" y="2419560"/>
              <a:ext cx="4102200" cy="338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2 0.00556 L 0.30902 0.00556 E">
                                      <p:cBhvr>
                                        <p:cTn id="33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-й конкурс. «Загадки льва Алекса».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Задание: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Соединить точки в нужном порядке и получить изображение какого-то предмета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8" name="Picture 4" descr="SS851074"/>
          <p:cNvPicPr/>
          <p:nvPr/>
        </p:nvPicPr>
        <p:blipFill>
          <a:blip r:embed="rId1"/>
          <a:stretch/>
        </p:blipFill>
        <p:spPr>
          <a:xfrm rot="21325200">
            <a:off x="324000" y="2276640"/>
            <a:ext cx="3348000" cy="27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41"/>
          <p:cNvGraphicFramePr/>
          <p:nvPr/>
        </p:nvGraphicFramePr>
        <p:xfrm>
          <a:off x="3995640" y="2421000"/>
          <a:ext cx="197352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2421000"/>
                    <a:ext cx="19735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2"/>
          <p:cNvGraphicFramePr/>
          <p:nvPr/>
        </p:nvGraphicFramePr>
        <p:xfrm>
          <a:off x="6588000" y="2060640"/>
          <a:ext cx="2124360" cy="20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88000" y="2060640"/>
                    <a:ext cx="2124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3"/>
          <p:cNvGraphicFramePr/>
          <p:nvPr/>
        </p:nvGraphicFramePr>
        <p:xfrm>
          <a:off x="6443640" y="4508640"/>
          <a:ext cx="2374920" cy="23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4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4508640"/>
                    <a:ext cx="23749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4:52:24Z</dcterms:created>
  <dc:creator>Катя</dc:creator>
  <dc:description/>
  <dc:language>en-US</dc:language>
  <cp:lastModifiedBy>Катя</cp:lastModifiedBy>
  <dcterms:modified xsi:type="dcterms:W3CDTF">2009-05-14T12:34:32Z</dcterms:modified>
  <cp:revision>31</cp:revision>
  <dc:subject/>
  <dc:title>Игра - соревнование</dc:title>
</cp:coreProperties>
</file>