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24.gif" ContentType="image/gif"/>
  <Override PartName="/ppt/media/image16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4.gif" ContentType="image/gif"/>
  <Override PartName="/ppt/media/image48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5.png" ContentType="image/png"/>
  <Override PartName="/ppt/media/image27.jpeg" ContentType="image/jpeg"/>
  <Override PartName="/ppt/media/image46.png" ContentType="image/png"/>
  <Override PartName="/ppt/media/image19.jpeg" ContentType="image/jpeg"/>
  <Override PartName="/ppt/media/image41.png" ContentType="image/png"/>
  <Override PartName="/ppt/media/image6.png" ContentType="image/png"/>
  <Override PartName="/ppt/media/image3.gif" ContentType="image/gif"/>
  <Override PartName="/ppt/media/image35.jpeg" ContentType="image/jpeg"/>
  <Override PartName="/ppt/media/image10.png" ContentType="image/png"/>
  <Override PartName="/ppt/media/image47.png" ContentType="image/png"/>
  <Override PartName="/ppt/media/image4.png" ContentType="image/png"/>
  <Override PartName="/ppt/media/image12.png" ContentType="image/png"/>
  <Override PartName="/ppt/media/image49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56D-A239-43DA-B06E-A591843E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5F1-83B8-40B0-9DDC-3FAA7767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A0C-B8DA-4058-BF29-117E4B3C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D34-752E-4521-A09E-0CEDBA5E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C94-DB02-4AD2-93AF-3821D3D2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E46-D604-4468-B4F8-B7D5749D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CE2-AADA-4CF3-A5E7-5DFCE4FE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4D6-34F4-43AA-8856-92103C80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C2F-50B6-4991-B933-BBE52B98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F54-1C81-4AF0-BD53-3C7F0CB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70C-8B2B-4083-BF7C-44497305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D41-0F3A-450E-B150-4BF3979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B19-CF5A-4859-8655-E8AC82C6D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72880" y="2835360"/>
            <a:ext cx="936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ДРОБЛ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77760" y="546732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лекция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2cell"/>
          <p:cNvPicPr/>
          <p:nvPr/>
        </p:nvPicPr>
        <p:blipFill>
          <a:blip r:embed="rId1"/>
          <a:stretch/>
        </p:blipFill>
        <p:spPr>
          <a:xfrm>
            <a:off x="560520" y="260280"/>
            <a:ext cx="2057400" cy="246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morulam"/>
          <p:cNvPicPr/>
          <p:nvPr/>
        </p:nvPicPr>
        <p:blipFill>
          <a:blip r:embed="rId2"/>
          <a:stretch/>
        </p:blipFill>
        <p:spPr>
          <a:xfrm>
            <a:off x="6927840" y="4130640"/>
            <a:ext cx="2057400" cy="246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cleave"/>
          <p:cNvPicPr/>
          <p:nvPr/>
        </p:nvPicPr>
        <p:blipFill>
          <a:blip r:embed="rId3"/>
          <a:stretch/>
        </p:blipFill>
        <p:spPr>
          <a:xfrm>
            <a:off x="7985160" y="396720"/>
            <a:ext cx="143172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00160" y="692280"/>
            <a:ext cx="95058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характеру образования и расположению бластоме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лобластическ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характерно для мезо- и изолецитальных яиц, при этом борозды дробления проходят через все яйцо, а имеющийся у них желток включается в вегетативные бласто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пол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робластическ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характерно для зигот, содержащих большие запасы белков желтка (полилецитальные яйца), при этом борозды дробления не проникают в богатую желтком область цитопла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размеров образовавшихся бластоме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вном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бластомеры на анимальном и вегетативном полюсе имеют одинаковые раз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вном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 анимальном полюсе сосредоточены более мелкие бластомеры, чем на вегетатив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корости формирования бластомер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хрон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и одинаковой скорости образования бластомеров на обоих полюсах зиг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инхрон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 анимальном полюсе скорость образования бластомеров выше, чем на вегетатив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72880" y="666720"/>
            <a:ext cx="42483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д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ир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илатерально-симметри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редующе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правильное (анархическ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808520" y="1052640"/>
            <a:ext cx="48243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основана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заимном пространственном расположе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ласто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72880" y="2637000"/>
            <a:ext cx="85680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диаль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хордовые (ланцетник, круглоротые, осетровые рыбы, амфибии), иглокожие и некоторые другие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меры разных широтных ярусов располагаются, по крайней мере на ранних стадиях, довольно точно один над другим, так что полярная ось яйца служит осью поворотной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88880" y="6323040"/>
            <a:ext cx="626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бластическое дробление иглокож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Гилбе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09_C_DroblenieIglokozie"/>
          <p:cNvPicPr/>
          <p:nvPr/>
        </p:nvPicPr>
        <p:blipFill>
          <a:blip r:embed="rId1"/>
          <a:stretch/>
        </p:blipFill>
        <p:spPr>
          <a:xfrm>
            <a:off x="272880" y="4218120"/>
            <a:ext cx="6696360" cy="194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0_C_DroblenieLyagushka"/>
          <p:cNvPicPr/>
          <p:nvPr/>
        </p:nvPicPr>
        <p:blipFill>
          <a:blip r:embed="rId2"/>
          <a:stretch/>
        </p:blipFill>
        <p:spPr>
          <a:xfrm>
            <a:off x="7400880" y="4221000"/>
            <a:ext cx="191124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7257960" y="6264360"/>
            <a:ext cx="244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ление яйца лягу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Гилбе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8840880" y="27082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8904240" y="304020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8520" y="673200"/>
            <a:ext cx="9361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пираль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изуется утерей элементов симметрии уже на стадии четырех, а иногда и двух бластомеров и присущ беспозвоночным (моллюски, кольчатые и ресничные черви), объединяемым в группу 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Spirali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089240" y="1700280"/>
            <a:ext cx="56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личия от радиального ти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йца не делятся параллельно или перпен-дикулярно анимально-вегетативной ос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лоскости делений дробления ориентированы наклонно, что приводит к спиральному расположению дочерних бластоме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сло контактов между клетками б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родыши проходят меньше делений до начала гастр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никающие бластулы обычно не имеют бластоце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рр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272880" y="170172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2217600" y="1701720"/>
            <a:ext cx="1656000" cy="16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3"/>
          <a:stretch/>
        </p:blipFill>
        <p:spPr>
          <a:xfrm>
            <a:off x="272880" y="3451320"/>
            <a:ext cx="1727280" cy="170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2144880" y="3429000"/>
            <a:ext cx="1766880" cy="1703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00160" y="5373720"/>
            <a:ext cx="9505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згляде с анимального полюса последовательно отделяющиеся четверки (квартеты) бластомеров поворачиваются относительно анимально-вегетативной оси то в правую, то в левую сторону, как бы образуя при наложении друг на друга спираль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к спирального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его дексио-(право-) или лео-(лево-) тропность (“закрученность”) определяется геномом матери данной ос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rad"/>
          <p:cNvPicPr/>
          <p:nvPr/>
        </p:nvPicPr>
        <p:blipFill>
          <a:blip r:embed="rId5"/>
          <a:stretch/>
        </p:blipFill>
        <p:spPr>
          <a:xfrm>
            <a:off x="401760" y="2060640"/>
            <a:ext cx="33843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289080" y="716040"/>
            <a:ext cx="444816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илатераль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руглые черви, оболочники) характеризуется налич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й плоскости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00160" y="5105520"/>
            <a:ext cx="784836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нархическ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сущ кишечнополос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аразитическим плоским червям 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меры сла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аны между собой и располагаются неправи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почками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распад приводит к образ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ценных зародышей, а результатом плотного объединения друг с другом буд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р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28520" y="3357720"/>
            <a:ext cx="532944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Чередующий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млекопитающие, круглые чер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своеобраз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м бласт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-за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дования борозд др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и бластомеров одн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87480" y="2097000"/>
            <a:ext cx="97614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оскость перв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станавливает единственную плоскость симметрии зародыша, а каждое последующее деление ориентируется по отношению к ней так, что половина зародыша по одну сторону от первой борозды представляет собой зеркальное отражение половины зародыша по другую ее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09_Droblenie_Askarida_1bl"/>
          <p:cNvPicPr/>
          <p:nvPr/>
        </p:nvPicPr>
        <p:blipFill>
          <a:blip r:embed="rId1"/>
          <a:stretch/>
        </p:blipFill>
        <p:spPr>
          <a:xfrm>
            <a:off x="4592520" y="3500280"/>
            <a:ext cx="1363680" cy="125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09_Droblenie_Askarida_3bl"/>
          <p:cNvPicPr/>
          <p:nvPr/>
        </p:nvPicPr>
        <p:blipFill>
          <a:blip r:embed="rId2"/>
          <a:stretch/>
        </p:blipFill>
        <p:spPr>
          <a:xfrm>
            <a:off x="6094440" y="3500280"/>
            <a:ext cx="946080" cy="12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09_Droblenie_Askarida_4bl_FigT"/>
          <p:cNvPicPr/>
          <p:nvPr/>
        </p:nvPicPr>
        <p:blipFill>
          <a:blip r:embed="rId3"/>
          <a:stretch/>
        </p:blipFill>
        <p:spPr>
          <a:xfrm>
            <a:off x="7184880" y="3463920"/>
            <a:ext cx="1212840" cy="12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09_Droblenie_Askarida_4bl_Povorot"/>
          <p:cNvPicPr/>
          <p:nvPr/>
        </p:nvPicPr>
        <p:blipFill>
          <a:blip r:embed="rId4"/>
          <a:stretch/>
        </p:blipFill>
        <p:spPr>
          <a:xfrm>
            <a:off x="8489880" y="3465360"/>
            <a:ext cx="1216080" cy="12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01_AsinkhronDroblenie"/>
          <p:cNvPicPr/>
          <p:nvPr/>
        </p:nvPicPr>
        <p:blipFill>
          <a:blip r:embed="rId5"/>
          <a:stretch/>
        </p:blipFill>
        <p:spPr>
          <a:xfrm>
            <a:off x="7329600" y="5075280"/>
            <a:ext cx="2457360" cy="116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6"/>
          <a:stretch/>
        </p:blipFill>
        <p:spPr>
          <a:xfrm>
            <a:off x="4822920" y="649440"/>
            <a:ext cx="1352520" cy="143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"/>
          <p:cNvPicPr/>
          <p:nvPr/>
        </p:nvPicPr>
        <p:blipFill>
          <a:blip r:embed="rId7"/>
          <a:stretch/>
        </p:blipFill>
        <p:spPr>
          <a:xfrm>
            <a:off x="6307200" y="563400"/>
            <a:ext cx="1528560" cy="1519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"/>
          <p:cNvPicPr/>
          <p:nvPr/>
        </p:nvPicPr>
        <p:blipFill>
          <a:blip r:embed="rId8"/>
          <a:stretch/>
        </p:blipFill>
        <p:spPr>
          <a:xfrm>
            <a:off x="7961400" y="474840"/>
            <a:ext cx="1657440" cy="1628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2"/>
          <p:cNvSpPr/>
          <p:nvPr/>
        </p:nvSpPr>
        <p:spPr>
          <a:xfrm>
            <a:off x="3981600" y="39402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4044960" y="427212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4010040" y="12826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4073400" y="161460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16000" y="189000"/>
            <a:ext cx="3873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р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8520" y="1185840"/>
            <a:ext cx="453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верхност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искоид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44360" y="1628640"/>
            <a:ext cx="4160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верхност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л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насекомые) после слияния прону-клеусов ядро зиготы делится на много ядер, которые с небольшим количеством цитоплазмы по цито-плазматическим мостикам перехо-дят во внешний слой свободной от желтка цитоплазмы (периплазму). Здесь ядра несколько раз синхрон-но делятся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цитиальная бла-стодер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Базальная мембрана отделяет периплазму от желтка. Борозды дробления не заходят глубоко в яй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390920" y="4005360"/>
            <a:ext cx="545796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искоидаль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и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обления присущ полилецитальным и телолецитальным яйцам рыб, рептилий и птиц. Первые две борозды проходят перпендикулярно друг другу, далее порядок прохождения борозд наруш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1"/>
          <a:stretch/>
        </p:blipFill>
        <p:spPr>
          <a:xfrm>
            <a:off x="4665600" y="117360"/>
            <a:ext cx="5162760" cy="37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nsect"/>
          <p:cNvPicPr/>
          <p:nvPr/>
        </p:nvPicPr>
        <p:blipFill>
          <a:blip r:embed="rId2"/>
          <a:stretch/>
        </p:blipFill>
        <p:spPr>
          <a:xfrm>
            <a:off x="4737240" y="404640"/>
            <a:ext cx="4968720" cy="3105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14_PoverkhDrobleniePtizy"/>
          <p:cNvPicPr/>
          <p:nvPr/>
        </p:nvPicPr>
        <p:blipFill>
          <a:blip r:embed="rId3"/>
          <a:stretch/>
        </p:blipFill>
        <p:spPr>
          <a:xfrm>
            <a:off x="4376880" y="5533920"/>
            <a:ext cx="5472000" cy="1182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200160" y="5877000"/>
            <a:ext cx="4105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ластомеры делится лиш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ди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расположенный на анимальном полю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72880" y="765000"/>
            <a:ext cx="9433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частую, на ранних стадиях дробления внутренние концы бластомеров расходятся и между ними возникает небольшая, постепенно увеличивающаяся полость дробления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44520" y="150840"/>
            <a:ext cx="878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ласт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00160" y="3859200"/>
            <a:ext cx="96328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бластоце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возмо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ткам при гаструляци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грировать внут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роды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ование бластоцел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отвращает взаимодейств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жду клетками, которые находятся выше и ниже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89080" y="1773360"/>
            <a:ext cx="696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дыш на этой стадии развития называется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ластул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44520" y="2211480"/>
            <a:ext cx="698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евращ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ервичную полость т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ая является основной полостью тела у низших беспозвоночных. У высших беспозвоночных и позвоночных она почти полностью вытесняется возникающей позже  вторичной полостью тела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м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00160" y="5373720"/>
            <a:ext cx="9289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цель – первый отсек внутренней среды организма, отличающийся по ионному составу от наружной среды (клетки стенок бластоцеля, отгораживают его от наружной среды, образуют между собой плотные контакты). В нём возникает избыток Nа</a:t>
            </a:r>
            <a:r>
              <a:rPr b="1" lang="ru-RU" sz="1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 baseline="5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овышенное осмотическое давление обеспечивает перенос воды, а тургорное давление растягивает поверхность зародыш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11_Blastula_Am4"/>
          <p:cNvPicPr/>
          <p:nvPr/>
        </p:nvPicPr>
        <p:blipFill>
          <a:blip r:embed="rId1"/>
          <a:stretch/>
        </p:blipFill>
        <p:spPr>
          <a:xfrm>
            <a:off x="7473960" y="1628640"/>
            <a:ext cx="2289240" cy="21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157320" y="534960"/>
            <a:ext cx="95932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Цел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oilo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устой) характерна для иглокожих и ланцетника. Бластомеры на анимальном и вегетативном полюсе почти одинаковы по размеру, тонкая бластодерма формирует один слой клеток, окружающих бластоц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промежуточную зону, крышу и 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57320" y="1731960"/>
            <a:ext cx="959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ерробластул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erro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твердый, плотный): стенка равномерной толщины и очень маленьким центрально расположенным бластоцелем (некоторые кишечнополостные, моллюски и черв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8360" y="2624040"/>
            <a:ext cx="959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ор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ru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тутовая ягода). У некоторых кишечнополостных, а также у млекопитающих на ранних стадиях развития бластоцель вообще не возникает, и дробление приводит к образованию плотного скопления кле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30040" y="3540240"/>
            <a:ext cx="959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лакула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l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лоскость: имеет вид двуслойной пластинки, образован-ной однородными клетками (черви, асцидий). Между слоями – бластоц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212760" y="4159080"/>
            <a:ext cx="95932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ом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om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рот), характерная для известковых губок. Полость в центре и отверстие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алоп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на анимальном полюсе. По окончании дробления стомобластула выворачивается наизнанку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скурва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и в результате образуется покрытая жгутиками амфибласт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16000" y="73080"/>
            <a:ext cx="39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09_B_BlastulaIglokozie"/>
          <p:cNvPicPr/>
          <p:nvPr/>
        </p:nvPicPr>
        <p:blipFill>
          <a:blip r:embed="rId1"/>
          <a:stretch/>
        </p:blipFill>
        <p:spPr>
          <a:xfrm>
            <a:off x="574560" y="5330880"/>
            <a:ext cx="1658880" cy="144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9_Sterroblastula"/>
          <p:cNvPicPr/>
          <p:nvPr/>
        </p:nvPicPr>
        <p:blipFill>
          <a:blip r:embed="rId2"/>
          <a:stretch/>
        </p:blipFill>
        <p:spPr>
          <a:xfrm>
            <a:off x="2674800" y="5329080"/>
            <a:ext cx="1486080" cy="14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20_Stomoblastula"/>
          <p:cNvPicPr/>
          <p:nvPr/>
        </p:nvPicPr>
        <p:blipFill>
          <a:blip r:embed="rId3"/>
          <a:stretch/>
        </p:blipFill>
        <p:spPr>
          <a:xfrm>
            <a:off x="7424640" y="5289480"/>
            <a:ext cx="1849680" cy="1438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13_DroblenieMlekopit"/>
          <p:cNvPicPr/>
          <p:nvPr/>
        </p:nvPicPr>
        <p:blipFill>
          <a:blip r:embed="rId4"/>
          <a:stretch/>
        </p:blipFill>
        <p:spPr>
          <a:xfrm>
            <a:off x="4562640" y="5318280"/>
            <a:ext cx="1670040" cy="143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5"/>
          <a:stretch/>
        </p:blipFill>
        <p:spPr>
          <a:xfrm>
            <a:off x="6608880" y="5302080"/>
            <a:ext cx="434880" cy="14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272880" y="4292640"/>
            <a:ext cx="5904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ластоцис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st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узырь) характерна для млекопитающих. Образуется после прохождения стадии морулы. Представлена в виде пузыр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72880" y="13320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200160" y="704880"/>
            <a:ext cx="38890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мфибластул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а для амфибий и некоторых известковых губок. Бластоцель смещена к анимальному полюсу вследствие большего количества желтка на вегетативном полю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"/>
          <p:cNvPicPr/>
          <p:nvPr/>
        </p:nvPicPr>
        <p:blipFill>
          <a:blip r:embed="rId1"/>
          <a:stretch/>
        </p:blipFill>
        <p:spPr>
          <a:xfrm>
            <a:off x="4232160" y="144360"/>
            <a:ext cx="5556240" cy="299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"/>
          <p:cNvPicPr/>
          <p:nvPr/>
        </p:nvPicPr>
        <p:blipFill>
          <a:blip r:embed="rId2"/>
          <a:stretch/>
        </p:blipFill>
        <p:spPr>
          <a:xfrm>
            <a:off x="6392880" y="3284640"/>
            <a:ext cx="316872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272880" y="5516640"/>
            <a:ext cx="921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оит из 2-х ч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офо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формирует однослойную стенку (светлые клет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мбриоблас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ноокрашенные клетки внутренней зародышевой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00160" y="3284640"/>
            <a:ext cx="604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анимальном полюсе находятся меньшие по размеру клетки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кр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области вегетативного полюса располага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кр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00160" y="2459160"/>
            <a:ext cx="3960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ыш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ме-жуточн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раевую) з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7240" y="6524640"/>
            <a:ext cx="993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фобласт обеспечивает питание, эмбриобласт идет на построение тела эмбр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72880" y="619200"/>
            <a:ext cx="395928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иск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на для костистых рыб, рептилий и птиц. В результате дискоидального дробления образуется однослойная бластодерма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ди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из которого затем возникает трех или четырех клеточный пл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дерма дискобластулы выгибается над желтком, и между ними формиру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зародышевая пол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72880" y="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3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5921280" y="4079880"/>
            <a:ext cx="1479600" cy="129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5951520" y="5416560"/>
            <a:ext cx="1449360" cy="136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7473960" y="4076640"/>
            <a:ext cx="2216160" cy="269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4"/>
          <a:stretch/>
        </p:blipFill>
        <p:spPr>
          <a:xfrm>
            <a:off x="4376880" y="115920"/>
            <a:ext cx="5400360" cy="37688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200160" y="4076640"/>
            <a:ext cx="55450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этой стадии четко различимы две области бластодиска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етлое п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ea pellucid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часть, расположенная над полостью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ное п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ea opac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состоит из клеток, прилежащих к желтку по краю бласто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00160" y="5654520"/>
            <a:ext cx="56163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бластодермы, выселяясь в подзародышевую полость разделяют зародыш н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пи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о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между которыми находи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72880" y="11592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4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72880" y="765000"/>
            <a:ext cx="46800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и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на для насекомых и представляет собой заключительную стадию поверхностного дро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нерг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ядра с окружающими их островками цитоплазмы) мигрируют на поверхность яйца, где они окружаются новыми плазматическими мембранами. Первыми претерпевают изменения ядра, мигрировавшие к заднему полюсу яйца и образующ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ярные клетки зародыш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ые дают начало половым клеткам взрослого организма. Клетки образующейся бластодермы формируют скопление на вентральной поверхности, обозначая место, где возникнут зародышевые листки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родышевая поло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Эта область дает начало всем клеткам насекомого. Остальные клетки бластодермы образуют внезародышевые обо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eriblastula_MalUv"/>
          <p:cNvPicPr/>
          <p:nvPr/>
        </p:nvPicPr>
        <p:blipFill>
          <a:blip r:embed="rId1"/>
          <a:stretch/>
        </p:blipFill>
        <p:spPr>
          <a:xfrm>
            <a:off x="5168880" y="117360"/>
            <a:ext cx="4511520" cy="63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71440" y="681120"/>
            <a:ext cx="95058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ерия митотических делений, в результате которых объём цитоплазмы яйца разделяется на многочисленные содержащие ядро клетки меньшего размера (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ласт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Приводит к созданию многоклеточного организма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орозды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еретяжки, разделяющие яйцеклетку на бласто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0160" y="115920"/>
            <a:ext cx="8497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иологическое значение и опре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00160" y="4892760"/>
            <a:ext cx="36734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ая ро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разование многокле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становление ядерно-плазматическо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00160" y="2244600"/>
            <a:ext cx="4897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делений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вшиеся клетки зародыша не расту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уммарный объем и масса всех возникших клеток не превышает объема и массы неоплодотворённой яйцеклет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о ДНК в ядре удваивается после кажд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все клетки сохраняют диплои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232160" y="4581360"/>
            <a:ext cx="55450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овые особенности дробл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ом и распределением желт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желток подавляет дроб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итоплазматическими фактор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лияющими на ориентацию митотического веретена и время 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2" descr="cleavrat"/>
          <p:cNvPicPr/>
          <p:nvPr/>
        </p:nvPicPr>
        <p:blipFill>
          <a:blip r:embed="rId1"/>
          <a:stretch/>
        </p:blipFill>
        <p:spPr>
          <a:xfrm>
            <a:off x="5386320" y="2076480"/>
            <a:ext cx="367020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849240" y="404640"/>
            <a:ext cx="813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полнительная литература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55520" y="46080"/>
            <a:ext cx="16668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119480" y="3376440"/>
            <a:ext cx="166680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72880" y="1773360"/>
            <a:ext cx="511344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ileston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specially written series of short articles on the main discoveries that have shaped the field of cell divi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onic resour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nature.com/celldivision/milestones/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1"/>
          <a:stretch/>
        </p:blipFill>
        <p:spPr>
          <a:xfrm>
            <a:off x="5529240" y="1025640"/>
            <a:ext cx="380988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cleavcyc"/>
          <p:cNvPicPr/>
          <p:nvPr/>
        </p:nvPicPr>
        <p:blipFill>
          <a:blip r:embed="rId1"/>
          <a:stretch/>
        </p:blipFill>
        <p:spPr>
          <a:xfrm>
            <a:off x="4952880" y="2205000"/>
            <a:ext cx="4033800" cy="2651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44520" y="189000"/>
            <a:ext cx="7561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личие дробления от деления (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2880" y="785880"/>
            <a:ext cx="9490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иод дробления зиготы объем цитоплазмы не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аждым следующим делением бластомеры становятся всё более мелкими (увеличивается их количество, а зародыш в целом не раст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при дроблении мало дифференцированы и сравнительно одноро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0160" y="4962600"/>
            <a:ext cx="948996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скорость делений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исходит благодар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ранее запасён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яйцеклетках (в ходе оогенеза) предшественникам ДНК (цитидин, тимитидин-3-фосфаты, гистоны), м-, и-, р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ольшему числу точек инициации репликации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Н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нхронно делящихся бластомеров по сравнению с другими клетками эукари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44520" y="2558880"/>
            <a:ext cx="4537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синхронных делений дробления характеризу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короченными клеточными цикл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ически выпадают пресинтетический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и постсинтетический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пери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824520" y="3646440"/>
            <a:ext cx="20163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ельная доля митоза – 50% (иногда до 70-75%) генерацио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376880" y="3424320"/>
            <a:ext cx="5400360" cy="2668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344520" y="189000"/>
            <a:ext cx="7488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личие дробления от деления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16000" y="793800"/>
            <a:ext cx="63212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координированных процесс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риоки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тотическое деление яд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распределение хромосом клетки по центриолям при помощи митотическое веретено с его микротрубочками, состоящими из тубул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токи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ение клет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сократимое кольцо актиновых микрофиламентов, обеспечивающих перешнуровывание цитоплаз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01600" y="3429000"/>
            <a:ext cx="41036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е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еточных мембр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тез мембран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de nov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ягивание плазматической мембраны ооци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15800" y="5229360"/>
            <a:ext cx="2089440" cy="145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F1"/>
          <p:cNvPicPr/>
          <p:nvPr/>
        </p:nvPicPr>
        <p:blipFill>
          <a:blip r:embed="rId3"/>
          <a:stretch/>
        </p:blipFill>
        <p:spPr>
          <a:xfrm>
            <a:off x="6608880" y="765000"/>
            <a:ext cx="2958840" cy="2319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icture-of-cell-division-600-453-27"/>
          <p:cNvPicPr/>
          <p:nvPr/>
        </p:nvPicPr>
        <p:blipFill>
          <a:blip r:embed="rId4"/>
          <a:stretch/>
        </p:blipFill>
        <p:spPr>
          <a:xfrm>
            <a:off x="2649600" y="5216400"/>
            <a:ext cx="1871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2" descr=""/>
          <p:cNvPicPr/>
          <p:nvPr/>
        </p:nvPicPr>
        <p:blipFill>
          <a:blip r:embed="rId1"/>
          <a:stretch/>
        </p:blipFill>
        <p:spPr>
          <a:xfrm>
            <a:off x="128520" y="3141720"/>
            <a:ext cx="5438880" cy="277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43080" y="61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ханизм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271440" y="620640"/>
            <a:ext cx="950580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орочение клеточных циклов при дроблении – в фаз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обящихся эмбрионов отсутствует экспрессия генов, т. е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еном зародыша полностью неактив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у животных с асинхронным дроблением (млекопитающие) некоторые гены эмбриона начинают экспрессироваться уже на стадии двух бластоме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9" descr=""/>
          <p:cNvPicPr/>
          <p:nvPr/>
        </p:nvPicPr>
        <p:blipFill>
          <a:blip r:embed="rId2"/>
          <a:stretch/>
        </p:blipFill>
        <p:spPr>
          <a:xfrm>
            <a:off x="6105600" y="1866960"/>
            <a:ext cx="345600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0"/>
          <p:cNvSpPr/>
          <p:nvPr/>
        </p:nvSpPr>
        <p:spPr>
          <a:xfrm>
            <a:off x="272880" y="1771560"/>
            <a:ext cx="5616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, стимулирующий созревание (maturation promoting factor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P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тостатический фактор 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tostatic fact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S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кальция 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</a:t>
            </a:r>
            <a:r>
              <a:rPr b="1" lang="ru-RU" sz="1800" spc="-1" strike="noStrike" baseline="50000">
                <a:solidFill>
                  <a:srgbClr val="0000ff"/>
                </a:solidFill>
                <a:latin typeface="Arial"/>
              </a:rPr>
              <a:t>2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1"/>
          <p:cNvSpPr/>
          <p:nvPr/>
        </p:nvSpPr>
        <p:spPr>
          <a:xfrm>
            <a:off x="5673600" y="4483080"/>
            <a:ext cx="411804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терпевает цикли-ческие изменения (наивысшая в М-фа-зе и не выявляется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фазе)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-билизирует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PF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ерживает клетки в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зе), а Са</a:t>
            </a:r>
            <a:r>
              <a:rPr b="1" lang="ru-RU" sz="1600" spc="-1" strike="noStrike" baseline="50000">
                <a:solidFill>
                  <a:srgbClr val="000000"/>
                </a:solidFill>
                <a:latin typeface="Arial"/>
              </a:rPr>
              <a:t>2+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активирует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-реход к S-фазе из-за инактив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200160" y="5959440"/>
            <a:ext cx="9505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теря синхронности дробления связана с активацией генома зароды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нскрипционная активность генома зародыша, контролируемая ядерно-цитоплазматическим отношением, увеличивающимся при дроблении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>
            <a:off x="5205240" y="186696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7301"/>
                </a:moveTo>
                <a:lnTo>
                  <a:pt x="4715" y="7301"/>
                </a:lnTo>
                <a:lnTo>
                  <a:pt x="5098" y="7667"/>
                </a:lnTo>
                <a:lnTo>
                  <a:pt x="14306" y="7667"/>
                </a:lnTo>
                <a:lnTo>
                  <a:pt x="14863" y="8224"/>
                </a:lnTo>
                <a:lnTo>
                  <a:pt x="14863" y="8772"/>
                </a:lnTo>
                <a:lnTo>
                  <a:pt x="16708" y="8772"/>
                </a:lnTo>
                <a:lnTo>
                  <a:pt x="17074" y="8224"/>
                </a:lnTo>
                <a:lnTo>
                  <a:pt x="17814" y="8224"/>
                </a:lnTo>
                <a:lnTo>
                  <a:pt x="17814" y="13376"/>
                </a:lnTo>
                <a:lnTo>
                  <a:pt x="17074" y="13376"/>
                </a:lnTo>
                <a:lnTo>
                  <a:pt x="16708" y="12828"/>
                </a:lnTo>
                <a:lnTo>
                  <a:pt x="14863" y="12828"/>
                </a:lnTo>
                <a:lnTo>
                  <a:pt x="14863" y="14107"/>
                </a:lnTo>
                <a:lnTo>
                  <a:pt x="5280" y="14107"/>
                </a:lnTo>
                <a:lnTo>
                  <a:pt x="5280" y="9877"/>
                </a:lnTo>
                <a:lnTo>
                  <a:pt x="5098" y="9877"/>
                </a:lnTo>
                <a:lnTo>
                  <a:pt x="4715" y="10243"/>
                </a:lnTo>
                <a:lnTo>
                  <a:pt x="380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5268960" y="219852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8520" y="692280"/>
            <a:ext cx="3616560" cy="1930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28520" y="61920"/>
            <a:ext cx="4610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ханизм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952880" y="128520"/>
            <a:ext cx="4789440" cy="4740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6969240" y="633240"/>
            <a:ext cx="2663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Цитостатический факто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продукт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-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а) блокирует развития мейоза, предотвращая деградацию циклина и сохраняя активность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040520" y="2478240"/>
            <a:ext cx="2664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мплекс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APC/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phase promoting complex / cyclosom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посредует деградацию циклина-В в протеосомах (убиквитинизация бел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449297a-f2"/>
          <p:cNvPicPr/>
          <p:nvPr/>
        </p:nvPicPr>
        <p:blipFill>
          <a:blip r:embed="rId3"/>
          <a:stretch/>
        </p:blipFill>
        <p:spPr>
          <a:xfrm>
            <a:off x="128520" y="2771640"/>
            <a:ext cx="3603600" cy="3826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865600" y="1628640"/>
            <a:ext cx="237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P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циклин и циклин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исимая протеин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наза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dk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укт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873600" y="4869000"/>
            <a:ext cx="590544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лодотворение приводит к высвобождению цитоплазматическо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активирующе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K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фосфатаз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calcineurin)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цинейрин снимает блок мейоз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ямое или опосредованное действие 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90Rsk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илированные последовательнос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p1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фосфорилирование компонен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PC/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белк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илированных в М-фазе, дефосфорилирование циклина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ингибирование активнос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k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00160" y="2998800"/>
            <a:ext cx="129672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aMKII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GB" sz="1400" spc="-1" strike="noStrike" baseline="5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льмодулинзависимая протеин киназа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360520" y="2825640"/>
            <a:ext cx="31687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цинейрин контролирует деконденсацию хроматина, формирование оболочки ядра, миграцию пронуклеусов, перестройку кортикального цитоскел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157320" y="5618160"/>
            <a:ext cx="1296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альцинейрин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сфатаза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70000" y="115920"/>
            <a:ext cx="8931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странственная организация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72880" y="692280"/>
            <a:ext cx="928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Гертвига–Сакса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еточное яд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емится расположиться в центре чистой, свободной от желтка цитопла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ретено клеточн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емится расположиться по направлению наибольшего протяжения свободной от желтка цитопла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72880" y="2349360"/>
            <a:ext cx="928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сть прохождения борозд дробления обратно пропорциональна количеству желтка в клетке («третье правило дробления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72880" y="3106800"/>
            <a:ext cx="928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ление зависит от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поло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лтка в яй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ежит в основе классификации типов дроб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00160" y="5786280"/>
            <a:ext cx="5761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голобластического дробления мезо- и олиго-лецитальных яиц – ортогональность первых трех борозд (две первые меридиональные, третья – экваториаль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200160" y="3755880"/>
            <a:ext cx="5688000" cy="1978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6392880" y="3530520"/>
            <a:ext cx="324000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озды дро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ридион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от анимального полюса к вегетатив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кватор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о экватору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рот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мещена в направлении к анимальному полюс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нгенц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параллельно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0160" y="641520"/>
            <a:ext cx="956124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оличеству жел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безжелтковые (плацентарные млекопитающие, некоторые беспозвоночные – первичнотрахейн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лиг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маложелтковые (черви, моллюски, иглокож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з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среднее количество желтка (осетровые, амфиб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и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многожелтковые (членистоногие, рыбы, птиц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72880" y="61920"/>
            <a:ext cx="58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яйце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72880" y="4686480"/>
            <a:ext cx="7129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иболее крупные яй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стречаются у сельдевых акул и птиц – свыше 20 см в диаметре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именьш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 некоторых насекомых (до 7 мк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Epiornis"/>
          <p:cNvPicPr/>
          <p:nvPr/>
        </p:nvPicPr>
        <p:blipFill>
          <a:blip r:embed="rId1"/>
          <a:stretch/>
        </p:blipFill>
        <p:spPr>
          <a:xfrm>
            <a:off x="7570800" y="4500720"/>
            <a:ext cx="2062080" cy="231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16000" y="2946240"/>
            <a:ext cx="956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иннее эмбриональный пери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ьше жел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но быть накоплено в яйцеклетке (исключение – млекопитающ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00160" y="3625920"/>
            <a:ext cx="963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эмбрионального периода зависит от стадии, на которой зародыш переходит к самостоятельному существованию. Если постэмбриональ-ное развитие ид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ым пут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жел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яйцеклетке должно бы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72880" y="5661000"/>
            <a:ext cx="7056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человека яйцеклетка имеет размер около 150–200 мкм в диаметре, у мыши – 60 мкм, у коровы – 100 мкм, у лягушки – 2 мм (величина типичной соматической клетки составляет около 20 мк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00160" y="752400"/>
            <a:ext cx="956124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асположени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носительно полярной оси яйц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л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мо- (изо-) 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желток в яйцеклетке распределен равномерно и ядро располагается примерно в цент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низ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одразделяютс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л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основная масса желтка скапливается у вегетативного полю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нтр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центре яйца расположено ядро, а по периферии – свободный от желтка ободок цитоплазмы. Центр и периферия яйца связаны тонкими цитоплазматическими мостиками, а все промежуточное пространство заполнено жел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43080" y="115920"/>
            <a:ext cx="5833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яйце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673600" y="4365720"/>
            <a:ext cx="3743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хема строения из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ел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 и центр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 лецитальной яйце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ным цветом обозначено ядро, серым – желток, белым – цитоплазма, свободная от жел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72880" y="4403880"/>
            <a:ext cx="5185080" cy="154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20:38:30Z</dcterms:created>
  <dc:creator>Alexander Sidorov</dc:creator>
  <dc:description/>
  <dc:language>en-US</dc:language>
  <cp:lastModifiedBy>Пользователь</cp:lastModifiedBy>
  <dcterms:modified xsi:type="dcterms:W3CDTF">2013-09-10T19:47:18Z</dcterms:modified>
  <cp:revision>134</cp:revision>
  <dc:subject/>
  <dc:title>Определения. Ткани</dc:title>
</cp:coreProperties>
</file>