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3F6-C538-4175-A1AE-FDB6C047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271-F014-4BDA-8A9D-037167C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D1D-C3C0-4E73-ADE5-0E32080A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F23-479E-4FC8-B992-0DB62CC7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312-4496-440A-AD3E-0D67A21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7A9-1641-495B-8C95-B0775B7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235-2FDE-4BCE-B22C-486840C3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EB2-9095-43E0-AB8A-0656D1B5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127-CD3A-41F6-938A-6BF15B7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8C0-4A86-4483-9AB3-ED3ACEA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D37-1BEA-4CF9-BAB8-F45FDAE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651-337C-4897-B056-CB60CE1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F62B-0CEE-4F6D-8FAB-0B03AF9D1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Спортсмены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Чувашской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41148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подготовила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Канаш МОУ СОШ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«а» класса Семёнова Анаста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Майя Петровна Ко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парашютному спорту. Пятикратная чемпионка мира; обладательница 38 рекордов мира, Европы и СССР; абсолютная чемпионка Европы (1975) и Спартакиады народов СССР (1967, 1971). Совершила около 7000 прыжков с парашю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-2"/>
          <p:cNvPicPr/>
          <p:nvPr/>
        </p:nvPicPr>
        <p:blipFill>
          <a:blip r:embed="rId2"/>
          <a:stretch/>
        </p:blipFill>
        <p:spPr>
          <a:xfrm>
            <a:off x="6324480" y="1600200"/>
            <a:ext cx="2514600" cy="458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69ab"/>
                </a:solidFill>
                <a:latin typeface="Arial"/>
              </a:rPr>
              <a:t>Владимир Петрович Ворон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ыжному спорту. Участник Х зимних Олимпийских игр (1968); победитель Х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зимних Олимпийских игр (1972); чемпион СССР (1965-1973); чемпион мира (1970); победитель Кубка мира (196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ig1_HDKZPJ9J0AM4B1B8CE7B"/>
          <p:cNvPicPr/>
          <p:nvPr/>
        </p:nvPicPr>
        <p:blipFill>
          <a:blip r:embed="rId2"/>
          <a:stretch/>
        </p:blipFill>
        <p:spPr>
          <a:xfrm>
            <a:off x="533520" y="1981080"/>
            <a:ext cx="2381040" cy="319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Иванович Пукл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5-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егкой атлетике. Чемпион Всемирной Универсиады (1970); участник ХХ Олимпийских игр (1972); чемпион России (197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yklakov"/>
          <p:cNvPicPr/>
          <p:nvPr/>
        </p:nvPicPr>
        <p:blipFill>
          <a:blip r:embed="rId2"/>
          <a:stretch/>
        </p:blipFill>
        <p:spPr>
          <a:xfrm>
            <a:off x="5562720" y="1905120"/>
            <a:ext cx="279216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алериан Сергеевич Сок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. Чемпион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в Мехико (1968); чемпион СССР (1968, 1971, 1973); победитель кубка СССР (1967, 1970, 19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-4"/>
          <p:cNvPicPr/>
          <p:nvPr/>
        </p:nvPicPr>
        <p:blipFill>
          <a:blip r:embed="rId2"/>
          <a:stretch/>
        </p:blipFill>
        <p:spPr>
          <a:xfrm>
            <a:off x="5867280" y="1828800"/>
            <a:ext cx="3105360" cy="407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алерий Николаевич Яр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8-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велосипедному спорту. Участни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(1968); чемпион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лимпийских игр (1972); чемпион и рекордсмен СССР (1969-1972); чемпион мира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Yardy"/>
          <p:cNvPicPr/>
          <p:nvPr/>
        </p:nvPicPr>
        <p:blipFill>
          <a:blip r:embed="rId2"/>
          <a:stretch/>
        </p:blipFill>
        <p:spPr>
          <a:xfrm>
            <a:off x="1219320" y="2057400"/>
            <a:ext cx="21859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Виктор Семёнович Семё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Заслуженный тренер РСФСР  и СССР. Чемпион СССР (1976, 1978, 1980); обладатель Кубка СССР (2975, 1978, 1983); рекордсмен СССР по спортивной ходьбе на 20 км; неоднократный чемпион мира, Европы и СССР среди ветеранов; участник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летних Олимпийских игр (197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emenov_viktor_1000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430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Валерий Константинович Льв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5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, чемпион мира (1978), чемпион СССР (1975, 1978), победитель VI Спартакиады народов СССР (197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lvov"/>
          <p:cNvPicPr/>
          <p:nvPr/>
        </p:nvPicPr>
        <p:blipFill>
          <a:blip r:embed="rId2"/>
          <a:stretch/>
        </p:blipFill>
        <p:spPr>
          <a:xfrm>
            <a:off x="152280" y="1600200"/>
            <a:ext cx="317520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иана Александровна Ром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егкой атлетике. Чемпионка Европы (1978); серебряный призёр Кубка мира (1979); победительница Кросса Наций (1976, 1977,1980,1981); победительница, бронзовый и серебряный призёр спартакиады народов СССР (1975, 1979); призёр чемпионата России (197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23_skanirovanie0009"/>
          <p:cNvPicPr/>
          <p:nvPr/>
        </p:nvPicPr>
        <p:blipFill>
          <a:blip r:embed="rId2"/>
          <a:stretch/>
        </p:blipFill>
        <p:spPr>
          <a:xfrm>
            <a:off x="6315120" y="0"/>
            <a:ext cx="282888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9880" y="1519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лерий Янович Лапт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бедитель Кубка мира (1983), чемпион Европы, СССР (1982,1983). Президент Федерации бокс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Untitled-45"/>
          <p:cNvPicPr/>
          <p:nvPr/>
        </p:nvPicPr>
        <p:blipFill>
          <a:blip r:embed="rId2"/>
          <a:stretch/>
        </p:blipFill>
        <p:spPr>
          <a:xfrm>
            <a:off x="0" y="0"/>
            <a:ext cx="273204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everinskaya_aleksandra_timofeevna"/>
          <p:cNvPicPr/>
          <p:nvPr/>
        </p:nvPicPr>
        <p:blipFill>
          <a:blip r:embed="rId2"/>
          <a:stretch/>
        </p:blipFill>
        <p:spPr>
          <a:xfrm>
            <a:off x="6811920" y="3657600"/>
            <a:ext cx="233208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0319deverinskaya1"/>
          <p:cNvPicPr/>
          <p:nvPr/>
        </p:nvPicPr>
        <p:blipFill>
          <a:blip r:embed="rId3"/>
          <a:stretch/>
        </p:blipFill>
        <p:spPr>
          <a:xfrm>
            <a:off x="0" y="914400"/>
            <a:ext cx="298440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лександра Тимофеевна Девери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Чемпионка СССР (1981,1985,1986); победительница Кубка СССР (1981,1982), мира(1981); рекордсменка мира, Европы и СССР по спортивной ходьбе на 5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828800" y="1676520"/>
            <a:ext cx="5486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Из истории...</a:t>
            </a:r>
            <a:endParaRPr b="1" lang="en-US" sz="3200" spc="1" strike="noStrike">
              <a:ln w="9360">
                <a:solidFill>
                  <a:srgbClr val="33cc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адимир Максимович М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боксу. Чемпион Европы (1983), СССР (1982, 1983), Польши (1988, 1989). Заслуженный работник физкультуры и спорт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elnik"/>
          <p:cNvPicPr/>
          <p:nvPr/>
        </p:nvPicPr>
        <p:blipFill>
          <a:blip r:embed="rId2"/>
          <a:stretch/>
        </p:blipFill>
        <p:spPr>
          <a:xfrm>
            <a:off x="228600" y="1523880"/>
            <a:ext cx="317484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Юрий Кириллович Леон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стрельбе из лука. Чемпион Европы (1985, 1988), СССР (1985); победитель Кубка СССР (1985); чемпион России (1997,1999,2000,2003); рекордсмен мира (1988); бронзовый призёр чемпионата мира (1997); участник XXIV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88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LeoIou"/>
          <p:cNvPicPr/>
          <p:nvPr/>
        </p:nvPicPr>
        <p:blipFill>
          <a:blip r:embed="rId2"/>
          <a:stretch/>
        </p:blipFill>
        <p:spPr>
          <a:xfrm>
            <a:off x="6972480" y="1752480"/>
            <a:ext cx="1847520" cy="266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Борис Николаевич Глин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гиревому спорту. Чемпион Европы (1992), призёр чемпионата и Кубка мира (1994); победитель Кубка России (1991 ,1992). Результат его выступлений в Чехии занесен в Книгу рекордов Гинн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Юрий Георгиевич Иль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. Десятикратный чемпион России по лыжесанному спорту среди инвалидов (1987-1997); призёр первенства России (1998) и Европы (1997); участник зимних Параолимпийских игр (1994, 1998, 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2"/>
          <p:cNvPicPr/>
          <p:nvPr/>
        </p:nvPicPr>
        <p:blipFill>
          <a:blip r:embed="rId2"/>
          <a:stretch/>
        </p:blipFill>
        <p:spPr>
          <a:xfrm>
            <a:off x="304920" y="1981080"/>
            <a:ext cx="2158920" cy="33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дежда Николаевна Па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велосипедному спорту. Чемпионка СССР (1989) и России (1991); участница XXVI летних Олимпийских игр по маунтинбайку (19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алентина Михайловна Ег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. Чемпионк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по марафонскому бегу (1992); серебряный призё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лимпийских игр (1996). Почётный гражданин г. Чебоксары и г. Токио. Награждена медалью ордена «За заслуги перед Отечеством»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gorova"/>
          <p:cNvPicPr/>
          <p:nvPr/>
        </p:nvPicPr>
        <p:blipFill>
          <a:blip r:embed="rId2"/>
          <a:stretch/>
        </p:blipFill>
        <p:spPr>
          <a:xfrm>
            <a:off x="152280" y="76320"/>
            <a:ext cx="168912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oldatova"/>
          <p:cNvPicPr/>
          <p:nvPr/>
        </p:nvPicPr>
        <p:blipFill>
          <a:blip r:embed="rId2"/>
          <a:stretch/>
        </p:blipFill>
        <p:spPr>
          <a:xfrm>
            <a:off x="0" y="1447920"/>
            <a:ext cx="4495680" cy="356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рина Борисовна Солд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5-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стрельбе из лука. Чемпионка мира, СССР (1985), обладательница Кубка СССР (198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cademy Italic"/>
              </a:rPr>
              <a:t>Владимир Васильевич Андр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лёгкой атлетике. Чемпион СССР по спортивной ходьбе (1989,1991); чемпион России (1994,1995,1998); участник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92); бронзов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0)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Кубка Европы (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reev_1000"/>
          <p:cNvPicPr/>
          <p:nvPr/>
        </p:nvPicPr>
        <p:blipFill>
          <a:blip r:embed="rId2"/>
          <a:stretch/>
        </p:blipFill>
        <p:spPr>
          <a:xfrm>
            <a:off x="0" y="0"/>
            <a:ext cx="2781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nicolaeva_elena_1000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666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Елена Николаевна Никола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Серебрян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(1992) и чемпионк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96); чемпионка СССР и России (1988,1992,1995,1996); чемпионка мира (2003); рекордсменка Европы и мира. Награждена медалью ордена «За заслуги перед Отечеством»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степени, орденом Почё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Елена Николаевна Грузи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международного класса по спортивной ходьбе; бронзовый призёр Кубка мира (1994); обладательница Кубка России; участниц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(19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gruzinova_e_n_1000"/>
          <p:cNvPicPr/>
          <p:nvPr/>
        </p:nvPicPr>
        <p:blipFill>
          <a:blip r:embed="rId2"/>
          <a:stretch/>
        </p:blipFill>
        <p:spPr>
          <a:xfrm>
            <a:off x="152280" y="0"/>
            <a:ext cx="3048120" cy="417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27333308_6b776827725b25b14b9c2f9eca1afb05"/>
          <p:cNvPicPr/>
          <p:nvPr/>
        </p:nvPicPr>
        <p:blipFill>
          <a:blip r:embed="rId2"/>
          <a:stretch/>
        </p:blipFill>
        <p:spPr>
          <a:xfrm>
            <a:off x="5935680" y="1371600"/>
            <a:ext cx="320832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Tahoma"/>
              </a:rPr>
              <a:t>Тернистый путь к Олимп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cademy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Известно, что Олимпийские игры, спортивные состязания в честь владыки богов и людей – Зевса, зародились в 776 году до н.э. в Древней Греции. Раз в 4 года прекращались все распри, наступало перемирие и Олимпия тонула в пылу спортивных страстей и зрительского восхи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cademy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В 394 году с развитием христианства игры были отмен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09Petrova2"/>
          <p:cNvPicPr/>
          <p:nvPr/>
        </p:nvPicPr>
        <p:blipFill>
          <a:blip r:embed="rId2"/>
          <a:stretch/>
        </p:blipFill>
        <p:spPr>
          <a:xfrm>
            <a:off x="6324480" y="152280"/>
            <a:ext cx="2656080" cy="33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age_9474"/>
          <p:cNvPicPr/>
          <p:nvPr/>
        </p:nvPicPr>
        <p:blipFill>
          <a:blip r:embed="rId3"/>
          <a:stretch/>
        </p:blipFill>
        <p:spPr>
          <a:xfrm>
            <a:off x="6400800" y="3505320"/>
            <a:ext cx="259560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Georgia"/>
              </a:rPr>
              <a:t>Людмила Николаевна Пет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Четырёхкратная чемпионка России в беге на стайерские дистанции; победительница Кубка Европы по марафонском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егу в командном зачёте (1996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етних Олимпийских игр в беге на 1000 м (1996); победительница Нью-Йоркского марафона (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лина Петровна Ива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Чемпионка мира (1991), Европы (1992 год) по спортивной ходьбе; участница XXV Олимпийских игр по спортивной ходьбе (1992); победительница международных марафонских турниров в США, Европе. Заслуженный работник физической культуры и спорт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vanova_a_p_%20150"/>
          <p:cNvPicPr/>
          <p:nvPr/>
        </p:nvPicPr>
        <p:blipFill>
          <a:blip r:embed="rId2"/>
          <a:stretch/>
        </p:blipFill>
        <p:spPr>
          <a:xfrm>
            <a:off x="0" y="0"/>
            <a:ext cx="13622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етлана Владимировна Заха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России международного класса по лёгкой атлетике (марафон). Бронзовый призёр чемпионата мира (2001); серебряный и бронзовый призёр кубка мира (2001,2003); победительница Бостонского и Чикагского марафонов (2003); рекордсменка России (200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zakharova_1"/>
          <p:cNvPicPr/>
          <p:nvPr/>
        </p:nvPicPr>
        <p:blipFill>
          <a:blip r:embed="rId2"/>
          <a:stretch/>
        </p:blipFill>
        <p:spPr>
          <a:xfrm>
            <a:off x="7064280" y="0"/>
            <a:ext cx="207972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Олимпиада Владимировна Ив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лёгкой атлетике. Победительница Игр доброй воли (1994, 2002); победительница Кубка мира (1997); обладательница Кубка Европы (2000); рекордсменка мира (1995; 2001); чемпионка Европы (2002); серебрян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4); рекордсменка мира (2005); чемпионка мира (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1"/>
          <p:cNvPicPr/>
          <p:nvPr/>
        </p:nvPicPr>
        <p:blipFill>
          <a:blip r:embed="rId2"/>
          <a:stretch/>
        </p:blipFill>
        <p:spPr>
          <a:xfrm>
            <a:off x="6858000" y="152280"/>
            <a:ext cx="2158920" cy="3416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mage015"/>
          <p:cNvPicPr/>
          <p:nvPr/>
        </p:nvPicPr>
        <p:blipFill>
          <a:blip r:embed="rId3"/>
          <a:stretch/>
        </p:blipFill>
        <p:spPr>
          <a:xfrm>
            <a:off x="6916680" y="3733920"/>
            <a:ext cx="222732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талья Геннадьевна Шеход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Участниц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 (1996)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2000) Олимпийских игр; двукратная чемпионка России (1996,2000); бронзовый призёр чемпионата России (2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SheNat"/>
          <p:cNvPicPr/>
          <p:nvPr/>
        </p:nvPicPr>
        <p:blipFill>
          <a:blip r:embed="rId2"/>
          <a:stretch/>
        </p:blipFill>
        <p:spPr>
          <a:xfrm>
            <a:off x="380880" y="228600"/>
            <a:ext cx="19036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Николаевна Ег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Чемпионка мира в беге на 3000м (2001); в беге на 5000м (2001); победительница Кубка Европы (1998); чемпионка России (1998,1999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летних Олимпийских игр (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eon"/>
          <p:cNvPicPr/>
          <p:nvPr/>
        </p:nvPicPr>
        <p:blipFill>
          <a:blip r:embed="rId2"/>
          <a:stretch/>
        </p:blipFill>
        <p:spPr>
          <a:xfrm>
            <a:off x="457200" y="2209680"/>
            <a:ext cx="187488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лексей Иванович Соловьё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кикбоксингу. Трёхкратный чемпион мира (1997, 1999,2000); чемпион Европы (1998), России(1992,1996-1999). Чемпион России(1998), Европы(1999,2003,2004) и мира(2002) среди профессионалов. Президент Ассоциации кикбоксинга Чувашской Республ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eb0459ae2ea38f62430b380b32ece26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Academy Italic"/>
              </a:rPr>
              <a:t>Лидия Николаевна Григо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РФ международного класса по лёгкой атлетике. Чемпионка России (1998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0); чемпионка мира по полумарафону (2003); победительница Кубка европейских чемпионов (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57070"/>
          <p:cNvPicPr/>
          <p:nvPr/>
        </p:nvPicPr>
        <p:blipFill>
          <a:blip r:embed="rId2"/>
          <a:stretch/>
        </p:blipFill>
        <p:spPr>
          <a:xfrm>
            <a:off x="0" y="1522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Image2655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mage2654"/>
          <p:cNvPicPr/>
          <p:nvPr/>
        </p:nvPicPr>
        <p:blipFill>
          <a:blip r:embed="rId3"/>
          <a:stretch/>
        </p:blipFill>
        <p:spPr>
          <a:xfrm>
            <a:off x="0" y="0"/>
            <a:ext cx="4343400" cy="1963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к концу Х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века спортивные соревнования вернули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е Олимпийские игры в Афинах собрали 300 мужчин из 13 стран. Женщинам доступ был закрыт. В тех стартах Россия не участвовала из-за отсутствия сред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в 1908 г. в Лондоне состоялся их удачный деб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et_img"/>
          <p:cNvPicPr/>
          <p:nvPr/>
        </p:nvPicPr>
        <p:blipFill>
          <a:blip r:embed="rId2"/>
          <a:stretch/>
        </p:blipFill>
        <p:spPr>
          <a:xfrm rot="21316200">
            <a:off x="1523520" y="304920"/>
            <a:ext cx="6667560" cy="2342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начале ХХ века о подлинном спорте в чувашском крае ещё и понятия не имели. Но мальчишки азартно гоняли в пыли тряпичный мяч, играли в лап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шь в начале 20-х годов зародилось в Чувашии физкультурное движение. Самые первые большие соревнования назвали олимпиадой. В программу состязаний входило два вида спорта: гимнастика и лёгкая атлетика. Стартовало 139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delphin1"/>
          <p:cNvPicPr/>
          <p:nvPr/>
        </p:nvPicPr>
        <p:blipFill>
          <a:blip r:embed="rId2"/>
          <a:stretch/>
        </p:blipFill>
        <p:spPr>
          <a:xfrm>
            <a:off x="0" y="0"/>
            <a:ext cx="25621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гда началась война, ушли на фронт прекрасные спортсмены республики и руководители спорта. Многие не вернулись с поля бра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карте России наша республика – одна из самых маленьких по территории. А в масштабе планеты -  совсем крошечная. Но Чувашия дала миру несколько олимпийских чемпионов и призё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х имена золотыми строками вписаны в историю мирового спор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1219320" y="1371600"/>
            <a:ext cx="6095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дость Чувашии.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А.В.Игнат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А.Андр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М.П.Ко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П.Воро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Н.И.Пукл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С.Сок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Н.Я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С.Семё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К.Ль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Г.А.Ром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Я.Лапт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А.Т.Девери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М.Ме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Ю.К.Леонт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Б.Н.Гл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00600" y="152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Ю.Г.Иль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.Н.Паш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.М.Ег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.Б.Солд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.В.Андр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Е.Н.Никол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Е.Н.Грузи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.Н.Пе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.П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.В.Зах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.В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.Г.Шехо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.Н.Ег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.И.Соловь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.Н.Григорь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Tahoma"/>
              </a:rPr>
              <a:t>Ардалион Васильевич Игнатье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358128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мпион, рекордсмен Европы (1945); участник 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52) и бронзовый призёр 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лимпийских игр (1956); шестнадцатикратный рекордсмен СССР; пятнадцатикратный чемпион СССР. Награждён орденами Трудового Красного Знамени и «Знак Почё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gnatev"/>
          <p:cNvPicPr/>
          <p:nvPr/>
        </p:nvPicPr>
        <p:blipFill>
          <a:blip r:embed="rId2"/>
          <a:stretch/>
        </p:blipFill>
        <p:spPr>
          <a:xfrm>
            <a:off x="7467480" y="1600200"/>
            <a:ext cx="13860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gnatev1"/>
          <p:cNvPicPr/>
          <p:nvPr/>
        </p:nvPicPr>
        <p:blipFill>
          <a:blip r:embed="rId3"/>
          <a:stretch/>
        </p:blipFill>
        <p:spPr>
          <a:xfrm>
            <a:off x="152280" y="152280"/>
            <a:ext cx="2381400" cy="3248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95120" y="205704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930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Виктор Андреевич Андр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36-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по тяжёлой  атле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мпион СССР (1996); рекордсмен мира в тяжёлой весовой категории (196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ndreev_v_a"/>
          <p:cNvPicPr/>
          <p:nvPr/>
        </p:nvPicPr>
        <p:blipFill>
          <a:blip r:embed="rId2"/>
          <a:stretch/>
        </p:blipFill>
        <p:spPr>
          <a:xfrm>
            <a:off x="533520" y="1828800"/>
            <a:ext cx="230184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55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