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37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0.jpeg" ContentType="image/jpeg"/>
  <Override PartName="/ppt/media/image29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EE3F-1086-41DD-BBBE-6B7AF9F25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C92D-38C0-48B1-A930-247FA1AF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173B-3751-4BA0-9B36-5D15BA0A1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54A7-88BC-4795-BF13-776291896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B98E-02AC-4D25-9317-CC7C2D6B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06E9-A35C-490B-9CB0-D45194DE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8CE4-C9E9-415D-A086-F6816323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F0ED-B5F6-4B1A-87AB-35BB8B45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F671-B765-4197-8AB5-FEA83F55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CECC-C373-44A1-B42D-204CEC87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50A1-426F-4D4D-B9C5-B154BC4E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0FBE-09CE-45F1-92E1-1BF2C36D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3A65-E1B2-43F1-B290-6A8ECEE024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99"/>
                </a:solidFill>
                <a:latin typeface="Monotype Corsiva"/>
              </a:rPr>
              <a:t>Спортсмены </a:t>
            </a:r>
            <a:br>
              <a:rPr sz="4400"/>
            </a:br>
            <a:r>
              <a:rPr b="0" i="1" lang="ru-RU" sz="4400" spc="-1" strike="noStrike">
                <a:solidFill>
                  <a:srgbClr val="333399"/>
                </a:solidFill>
                <a:latin typeface="Monotype Corsiva"/>
              </a:rPr>
              <a:t>Чувашской Республи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8840" y="4114800"/>
            <a:ext cx="4267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зентацию подготовила учени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. Канаш МОУ СОШ №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9 «а» класса Семёнова Анаста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34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cademy Italic"/>
              </a:rPr>
              <a:t>Майя Петровна Кост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19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Заслуженный мастер спорта СССР по парашютному спорту. Пятикратная чемпионка мира; обладательница 38 рекордов мира, Европы и СССР; абсолютная чемпионка Европы (1975) и Спартакиады народов СССР (1967, 1971). Совершила около 7000 прыжков с парашю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8-2"/>
          <p:cNvPicPr/>
          <p:nvPr/>
        </p:nvPicPr>
        <p:blipFill>
          <a:blip r:embed="rId2"/>
          <a:stretch/>
        </p:blipFill>
        <p:spPr>
          <a:xfrm>
            <a:off x="6324480" y="1600200"/>
            <a:ext cx="2514600" cy="4584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2169ab"/>
                </a:solidFill>
                <a:latin typeface="Arial"/>
              </a:rPr>
              <a:t>Владимир Петрович Ворон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049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194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Заслуженный мастер спорта СССР по лыжному спорту. Участник Х зимних Олимпийских игр (1968); победитель Х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зимних Олимпийских игр (1972); чемпион СССР (1965-1973); чемпион мира (1970); победитель Кубка мира (1969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big1_HDKZPJ9J0AM4B1B8CE7B"/>
          <p:cNvPicPr/>
          <p:nvPr/>
        </p:nvPicPr>
        <p:blipFill>
          <a:blip r:embed="rId2"/>
          <a:stretch/>
        </p:blipFill>
        <p:spPr>
          <a:xfrm>
            <a:off x="533520" y="1981080"/>
            <a:ext cx="2381040" cy="3191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иколай Иванович Пукла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1945-200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астер спорта СССР международного класса по легкой атлетике. Чемпион Всемирной Универсиады (1970); участник ХХ Олимпийских игр (1972); чемпион России (197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pyklakov"/>
          <p:cNvPicPr/>
          <p:nvPr/>
        </p:nvPicPr>
        <p:blipFill>
          <a:blip r:embed="rId2"/>
          <a:stretch/>
        </p:blipFill>
        <p:spPr>
          <a:xfrm>
            <a:off x="5562720" y="1905120"/>
            <a:ext cx="2792160" cy="342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алериан Сергеевич Соко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194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служенный мастер спорта СССР по боксу. Чемпион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XIX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Олимпийских игр в Мехико (1968); чемпион СССР (1968, 1971, 1973); победитель кубка СССР (1967, 1970, 197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pr-4"/>
          <p:cNvPicPr/>
          <p:nvPr/>
        </p:nvPicPr>
        <p:blipFill>
          <a:blip r:embed="rId2"/>
          <a:stretch/>
        </p:blipFill>
        <p:spPr>
          <a:xfrm>
            <a:off x="5867280" y="1828800"/>
            <a:ext cx="3105360" cy="4070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Валерий Николаевич Яр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73392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1948-199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служенный мастер спорта СССР по велосипедному спорту. Участник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XIX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Олимпийских игр (1968); чемпион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XX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лимпийских игр (1972); чемпион и рекордсмен СССР (1969-1972); чемпион мира (197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Yardy"/>
          <p:cNvPicPr/>
          <p:nvPr/>
        </p:nvPicPr>
        <p:blipFill>
          <a:blip r:embed="rId2"/>
          <a:stretch/>
        </p:blipFill>
        <p:spPr>
          <a:xfrm>
            <a:off x="1219320" y="2057400"/>
            <a:ext cx="2185920" cy="2895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Arial"/>
              </a:rPr>
              <a:t>Виктор Семёнович Семё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6216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(194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астер спорта СССР международного класса по лёгкой атлетике. Заслуженный тренер РСФСР  и СССР. Чемпион СССР (1976, 1978, 1980); обладатель Кубка СССР (2975, 1978, 1983); рекордсмен СССР по спортивной ходьбе на 20 км; неоднократный чемпион мира, Европы и СССР среди ветеранов; участник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XXI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летних Олимпийских игр (197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semenov_viktor_1000"/>
          <p:cNvPicPr/>
          <p:nvPr/>
        </p:nvPicPr>
        <p:blipFill>
          <a:blip r:embed="rId2"/>
          <a:stretch/>
        </p:blipFill>
        <p:spPr>
          <a:xfrm>
            <a:off x="457200" y="1752480"/>
            <a:ext cx="3048120" cy="4300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cademy Italic"/>
              </a:rPr>
              <a:t>Валерий Константинович Льв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85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1953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служенный мастер спорта СССР по боксу, чемпион мира (1978), чемпион СССР (1975, 1978), победитель VI Спартакиады народов СССР (1975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lvov"/>
          <p:cNvPicPr/>
          <p:nvPr/>
        </p:nvPicPr>
        <p:blipFill>
          <a:blip r:embed="rId2"/>
          <a:stretch/>
        </p:blipFill>
        <p:spPr>
          <a:xfrm>
            <a:off x="152280" y="1600200"/>
            <a:ext cx="3175200" cy="4699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Гиана Александровна Роман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195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Заслуженный мастер спорта СССР по легкой атлетике. Чемпионка Европы (1978); серебряный призёр Кубка мира (1979); победительница Кросса Наций (1976, 1977,1980,1981); победительница, бронзовый и серебряный призёр спартакиады народов СССР (1975, 1979); призёр чемпионата России (197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p23_skanirovanie0009"/>
          <p:cNvPicPr/>
          <p:nvPr/>
        </p:nvPicPr>
        <p:blipFill>
          <a:blip r:embed="rId2"/>
          <a:stretch/>
        </p:blipFill>
        <p:spPr>
          <a:xfrm>
            <a:off x="6315120" y="0"/>
            <a:ext cx="2828880" cy="4038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9880" y="151920"/>
            <a:ext cx="4724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алерий Янович Лапт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743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195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служенный мастер спорта СССР по бок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бедитель Кубка мира (1983), чемпион Европы, СССР (1982,1983). Президент Федерации бокса Чувашской Республ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Untitled-45"/>
          <p:cNvPicPr/>
          <p:nvPr/>
        </p:nvPicPr>
        <p:blipFill>
          <a:blip r:embed="rId2"/>
          <a:stretch/>
        </p:blipFill>
        <p:spPr>
          <a:xfrm>
            <a:off x="0" y="0"/>
            <a:ext cx="273204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deverinskaya_aleksandra_timofeevna"/>
          <p:cNvPicPr/>
          <p:nvPr/>
        </p:nvPicPr>
        <p:blipFill>
          <a:blip r:embed="rId2"/>
          <a:stretch/>
        </p:blipFill>
        <p:spPr>
          <a:xfrm>
            <a:off x="6811920" y="3657600"/>
            <a:ext cx="2332080" cy="3200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0319deverinskaya1"/>
          <p:cNvPicPr/>
          <p:nvPr/>
        </p:nvPicPr>
        <p:blipFill>
          <a:blip r:embed="rId3"/>
          <a:stretch/>
        </p:blipFill>
        <p:spPr>
          <a:xfrm>
            <a:off x="0" y="914400"/>
            <a:ext cx="2984400" cy="41338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Александра Тимофеевна Деверин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3200" y="167652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196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Мастер спорта СССР международного класса по лёгкой атлетике. Чемпионка СССР (1981,1985,1986); победительница Кубка СССР (1981,1982), мира(1981); рекордсменка мира, Европы и СССР по спортивной ходьбе на 5 к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7" dur="1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38" dur="1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39" dur="1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1828800" y="1676520"/>
            <a:ext cx="54864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33cccc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Georgia"/>
              </a:rPr>
              <a:t>Из истории...</a:t>
            </a:r>
            <a:endParaRPr b="1" lang="en-US" sz="3200" spc="1" strike="noStrike">
              <a:ln w="9360">
                <a:solidFill>
                  <a:srgbClr val="33cccc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ладимир Максимович Мель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04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196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астер спорта СССР международного класса по боксу. Чемпион Европы (1983), СССР (1982, 1983), Польши (1988, 1989). Заслуженный работник физкультуры и спорта Чувашской Республ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melnik"/>
          <p:cNvPicPr/>
          <p:nvPr/>
        </p:nvPicPr>
        <p:blipFill>
          <a:blip r:embed="rId2"/>
          <a:stretch/>
        </p:blipFill>
        <p:spPr>
          <a:xfrm>
            <a:off x="228600" y="1523880"/>
            <a:ext cx="3174840" cy="4699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Юрий Кириллович Леонть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196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Мастер спорта СССР международного класса по стрельбе из лука. Чемпион Европы (1985, 1988), СССР (1985); победитель Кубка СССР (1985); чемпион России (1997,1999,2000,2003); рекордсмен мира (1988); бронзовый призёр чемпионата мира (1997); участник XXIV и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XXVII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Олимпийских игр (1988, 200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LeoIou"/>
          <p:cNvPicPr/>
          <p:nvPr/>
        </p:nvPicPr>
        <p:blipFill>
          <a:blip r:embed="rId2"/>
          <a:stretch/>
        </p:blipFill>
        <p:spPr>
          <a:xfrm>
            <a:off x="6972480" y="1752480"/>
            <a:ext cx="1847520" cy="2667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cademy Italic"/>
              </a:rPr>
              <a:t>Борис Николаевич Глинк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196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астер спорта СССР международного класса по гиревому спорту. Чемпион Европы (1992), призёр чемпионата и Кубка мира (1994); победитель Кубка России (1991 ,1992). Результат его выступлений в Чехии занесен в Книгу рекордов Гиннес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1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4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Юрий Георгиевич Иль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196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астер спорта СССР международного класса. Десятикратный чемпион России по лыжесанному спорту среди инвалидов (1987-1997); призёр первенства России (1998) и Европы (1997); участник зимних Параолимпийских игр (1994, 1998, 200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102"/>
          <p:cNvPicPr/>
          <p:nvPr/>
        </p:nvPicPr>
        <p:blipFill>
          <a:blip r:embed="rId2"/>
          <a:stretch/>
        </p:blipFill>
        <p:spPr>
          <a:xfrm>
            <a:off x="304920" y="1981080"/>
            <a:ext cx="2158920" cy="3314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Надежда Николаевна Пашк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196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астер спорта СССР международного класса по велосипедному спорту. Чемпионка СССР (1989) и России (1991); участница XXVI летних Олимпийских игр по маунтинбайку (1996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46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Валентина Михайловна Егор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196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служенный мастер спорта СССР. Чемпионка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XXV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Олимпийских игр по марафонскому бегу (1992); серебряный призёр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XXVI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лимпийских игр (1996). Почётный гражданин г. Чебоксары и г. Токио. Награждена медалью ордена «За заслуги перед Отечеством»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степ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egorova"/>
          <p:cNvPicPr/>
          <p:nvPr/>
        </p:nvPicPr>
        <p:blipFill>
          <a:blip r:embed="rId2"/>
          <a:stretch/>
        </p:blipFill>
        <p:spPr>
          <a:xfrm>
            <a:off x="152280" y="76320"/>
            <a:ext cx="1689120" cy="2361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0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Soldatova"/>
          <p:cNvPicPr/>
          <p:nvPr/>
        </p:nvPicPr>
        <p:blipFill>
          <a:blip r:embed="rId2"/>
          <a:stretch/>
        </p:blipFill>
        <p:spPr>
          <a:xfrm>
            <a:off x="0" y="1447920"/>
            <a:ext cx="4495680" cy="35607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Ирина Борисовна Солдат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1965-200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служенный мастер спорта СССР по стрельбе из лука. Чемпионка мира, СССР (1985), обладательница Кубка СССР (1987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480"/>
                            </p:stCondLst>
                            <p:childTnLst>
                              <p:par>
                                <p:cTn id="4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cademy Italic"/>
              </a:rPr>
              <a:t>Владимир Васильевич Андре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12408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199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Заслуженный мастер спорта РФ по лёгкой атлетике. Чемпион СССР по спортивной ходьбе (1989,1991); чемпион России (1994,1995,1998); участник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XXV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Олимпийских игр (1992); бронзовый призёр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XXVII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Олимпийских игр (2000) и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Кубка Европы (200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andreev_1000"/>
          <p:cNvPicPr/>
          <p:nvPr/>
        </p:nvPicPr>
        <p:blipFill>
          <a:blip r:embed="rId2"/>
          <a:stretch/>
        </p:blipFill>
        <p:spPr>
          <a:xfrm>
            <a:off x="0" y="0"/>
            <a:ext cx="2781360" cy="388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nicolaeva_elena_1000"/>
          <p:cNvPicPr/>
          <p:nvPr/>
        </p:nvPicPr>
        <p:blipFill>
          <a:blip r:embed="rId2"/>
          <a:stretch/>
        </p:blipFill>
        <p:spPr>
          <a:xfrm>
            <a:off x="6500880" y="0"/>
            <a:ext cx="2643120" cy="36669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imes New Roman"/>
              </a:rPr>
              <a:t>Елена Николаевна Никола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199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Заслуженный мастер спорта СССР по лёгкой атлетике. Серебряный призёр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XXV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(1992) и чемпионка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XXVI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Олимпийских игр (1996); чемпионка СССР и России (1988,1992,1995,1996); чемпионка мира (2003); рекордсменка Европы и мира. Награждена медалью ордена «За заслуги перед Отечеством»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степени, орденом Почё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7920" y="1519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cademy Italic"/>
              </a:rPr>
              <a:t>Елена Николаевна Грузин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7672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199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астер спорта международного класса по спортивной ходьбе; бронзовый призёр Кубка мира (1994); обладательница Кубка России; участница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XXVI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Олимпийских игр (1996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gruzinova_e_n_1000"/>
          <p:cNvPicPr/>
          <p:nvPr/>
        </p:nvPicPr>
        <p:blipFill>
          <a:blip r:embed="rId2"/>
          <a:stretch/>
        </p:blipFill>
        <p:spPr>
          <a:xfrm>
            <a:off x="152280" y="0"/>
            <a:ext cx="3048120" cy="4170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50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27333308_6b776827725b25b14b9c2f9eca1afb05"/>
          <p:cNvPicPr/>
          <p:nvPr/>
        </p:nvPicPr>
        <p:blipFill>
          <a:blip r:embed="rId2"/>
          <a:stretch/>
        </p:blipFill>
        <p:spPr>
          <a:xfrm>
            <a:off x="5935680" y="1371600"/>
            <a:ext cx="3208320" cy="4952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9999"/>
                </a:solidFill>
                <a:latin typeface="Tahoma"/>
              </a:rPr>
              <a:t>Тернистый путь к Олимп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cademy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cademy Italic"/>
              </a:rPr>
              <a:t>Известно, что Олимпийские игры, спортивные состязания в честь владыки богов и людей – Зевса, зародились в 776 году до н.э. в Древней Греции. Раз в 4 года прекращались все распри, наступало перемирие и Олимпия тонула в пылу спортивных страстей и зрительского восхи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cademy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cademy Italic"/>
              </a:rPr>
              <a:t>В 394 году с развитием христианства игры были отмен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2009Petrova2"/>
          <p:cNvPicPr/>
          <p:nvPr/>
        </p:nvPicPr>
        <p:blipFill>
          <a:blip r:embed="rId2"/>
          <a:stretch/>
        </p:blipFill>
        <p:spPr>
          <a:xfrm>
            <a:off x="6324480" y="152280"/>
            <a:ext cx="2656080" cy="3324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image_9474"/>
          <p:cNvPicPr/>
          <p:nvPr/>
        </p:nvPicPr>
        <p:blipFill>
          <a:blip r:embed="rId3"/>
          <a:stretch/>
        </p:blipFill>
        <p:spPr>
          <a:xfrm>
            <a:off x="6400800" y="3505320"/>
            <a:ext cx="2595600" cy="30859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99ff"/>
                </a:solidFill>
                <a:latin typeface="Georgia"/>
              </a:rPr>
              <a:t>Людмила Николаевна Петр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196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Мастер спорта СССР международного класса по лёгкой атлетике. Четырёхкратная чемпионка России в беге на стайерские дистанции; победительница Кубка Европы по марафонскому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бегу в командном зачёте (1996); участница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XXVI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летних Олимпийских игр в беге на 1000 м (1996); победительница Нью-Йоркского марафона (200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Алина Петровна Иван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196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служенный мастер спорта СССР по лёгкой атлетике. Чемпионка мира (1991), Европы (1992 год) по спортивной ходьбе; участница XXV Олимпийских игр по спортивной ходьбе (1992); победительница международных марафонских турниров в США, Европе. Заслуженный работник физической культуры и спорта Чувашской Республ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ivanova_a_p_%20150"/>
          <p:cNvPicPr/>
          <p:nvPr/>
        </p:nvPicPr>
        <p:blipFill>
          <a:blip r:embed="rId2"/>
          <a:stretch/>
        </p:blipFill>
        <p:spPr>
          <a:xfrm>
            <a:off x="0" y="0"/>
            <a:ext cx="1362240" cy="198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ветлана Владимировна Захар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19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Мастер спорта России международного класса по лёгкой атлетике (марафон). Бронзовый призёр чемпионата мира (2001); серебряный и бронзовый призёр кубка мира (2001,2003); победительница Бостонского и Чикагского марафонов (2003); рекордсменка России (200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zakharova_1"/>
          <p:cNvPicPr/>
          <p:nvPr/>
        </p:nvPicPr>
        <p:blipFill>
          <a:blip r:embed="rId2"/>
          <a:stretch/>
        </p:blipFill>
        <p:spPr>
          <a:xfrm>
            <a:off x="7064280" y="0"/>
            <a:ext cx="2079720" cy="3200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cademy Italic"/>
              </a:rPr>
              <a:t>Олимпиада Владимировна Иван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19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Заслуженный мастер спорта РФ по лёгкой атлетике. Победительница Игр доброй воли (1994, 2002); победительница Кубка мира (1997); обладательница Кубка Европы (2000); рекордсменка мира (1995; 2001); чемпионка Европы (2002); серебряный призёр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XXVIII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Олимпийских игр (2004); рекордсменка мира (2005); чемпионка мира (2005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11"/>
          <p:cNvPicPr/>
          <p:nvPr/>
        </p:nvPicPr>
        <p:blipFill>
          <a:blip r:embed="rId2"/>
          <a:stretch/>
        </p:blipFill>
        <p:spPr>
          <a:xfrm>
            <a:off x="6858000" y="152280"/>
            <a:ext cx="2158920" cy="3416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image015"/>
          <p:cNvPicPr/>
          <p:nvPr/>
        </p:nvPicPr>
        <p:blipFill>
          <a:blip r:embed="rId3"/>
          <a:stretch/>
        </p:blipFill>
        <p:spPr>
          <a:xfrm>
            <a:off x="6916680" y="3733920"/>
            <a:ext cx="2227320" cy="3124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Наталья Геннадьевна Шеходан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197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астер спорта СССР международного класса по лёгкой атлетике. Участница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XXVI (1996)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XXVII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2000) Олимпийских игр; двукратная чемпионка России (1996,2000); бронзовый призёр чемпионата России (200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SheNat"/>
          <p:cNvPicPr/>
          <p:nvPr/>
        </p:nvPicPr>
        <p:blipFill>
          <a:blip r:embed="rId2"/>
          <a:stretch/>
        </p:blipFill>
        <p:spPr>
          <a:xfrm>
            <a:off x="380880" y="228600"/>
            <a:ext cx="1903680" cy="2666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льга Николаевна Егор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12408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197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Заслуженный мастер спорта СССР по лёгкой атлетике. Чемпионка мира в беге на 3000м (2001); в беге на 5000м (2001); победительница Кубка Европы (1998); чемпионка России (1998,1999); участница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XXVII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летних Олимпийских игр (200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eon"/>
          <p:cNvPicPr/>
          <p:nvPr/>
        </p:nvPicPr>
        <p:blipFill>
          <a:blip r:embed="rId2"/>
          <a:stretch/>
        </p:blipFill>
        <p:spPr>
          <a:xfrm>
            <a:off x="457200" y="2209680"/>
            <a:ext cx="1874880" cy="2819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Алексей Иванович Соловьё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197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Заслуженный мастер спорта РФ по кикбоксингу. Трёхкратный чемпион мира (1997, 1999,2000); чемпион Европы (1998), России(1992,1996-1999). Чемпион России(1998), Европы(1999,2003,2004) и мира(2002) среди профессионалов. Президент Ассоциации кикбоксинга Чувашской Республ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eeb0459ae2ea38f62430b380b32ece26"/>
          <p:cNvPicPr/>
          <p:nvPr/>
        </p:nvPicPr>
        <p:blipFill>
          <a:blip r:embed="rId2"/>
          <a:stretch/>
        </p:blipFill>
        <p:spPr>
          <a:xfrm>
            <a:off x="6222960" y="0"/>
            <a:ext cx="2921040" cy="380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19520" y="1519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cc"/>
                </a:solidFill>
                <a:latin typeface="Academy Italic"/>
              </a:rPr>
              <a:t>Лидия Николаевна Григорье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197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Мастер спорта РФ международного класса по лёгкой атлетике. Чемпионка России (1998); участница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XXVII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Олимпийских игр (2000); чемпионка мира по полумарафону (2003); победительница Кубка европейских чемпионов (200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557070"/>
          <p:cNvPicPr/>
          <p:nvPr/>
        </p:nvPicPr>
        <p:blipFill>
          <a:blip r:embed="rId2"/>
          <a:stretch/>
        </p:blipFill>
        <p:spPr>
          <a:xfrm>
            <a:off x="0" y="152280"/>
            <a:ext cx="2857680" cy="3810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Image2655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1940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Image2654"/>
          <p:cNvPicPr/>
          <p:nvPr/>
        </p:nvPicPr>
        <p:blipFill>
          <a:blip r:embed="rId3"/>
          <a:stretch/>
        </p:blipFill>
        <p:spPr>
          <a:xfrm>
            <a:off x="0" y="0"/>
            <a:ext cx="4343400" cy="1963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Лишь к концу Х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IX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века спортивные соревнования вернулись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ервые Олимпийские игры в Афинах собрали 300 мужчин из 13 стран. Женщинам доступ был закрыт. В тех стартах Россия не участвовала из-за отсутствия средст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Лишь в 1908 г. в Лондоне состоялся их удачный деб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get_img"/>
          <p:cNvPicPr/>
          <p:nvPr/>
        </p:nvPicPr>
        <p:blipFill>
          <a:blip r:embed="rId2"/>
          <a:stretch/>
        </p:blipFill>
        <p:spPr>
          <a:xfrm rot="21316200">
            <a:off x="1523520" y="304920"/>
            <a:ext cx="6667560" cy="23428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начале ХХ века о подлинном спорте в чувашском крае ещё и понятия не имели. Но мальчишки азартно гоняли в пыли тряпичный мяч, играли в лапт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Лишь в начале 20-х годов зародилось в Чувашии физкультурное движение. Самые первые большие соревнования назвали олимпиадой. В программу состязаний входило два вида спорта: гимнастика и лёгкая атлетика. Стартовало 139 челов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1delphin1"/>
          <p:cNvPicPr/>
          <p:nvPr/>
        </p:nvPicPr>
        <p:blipFill>
          <a:blip r:embed="rId2"/>
          <a:stretch/>
        </p:blipFill>
        <p:spPr>
          <a:xfrm>
            <a:off x="0" y="0"/>
            <a:ext cx="2562120" cy="32004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Когда началась война, ушли на фронт прекрасные спортсмены республики и руководители спорта. Многие не вернулись с поля бран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На карте России наша республика – одна из самых маленьких по территории. А в масштабе планеты -  совсем крошечная. Но Чувашия дала миру несколько олимпийских чемпионов и призё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Их имена золотыми строками вписаны в историю мирового спорт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5"/>
          <p:cNvSpPr txBox="1"/>
          <p:nvPr/>
        </p:nvSpPr>
        <p:spPr>
          <a:xfrm>
            <a:off x="1219320" y="1371600"/>
            <a:ext cx="6095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рдость Чувашии.</a:t>
            </a:r>
            <a:endParaRPr b="0" i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920" y="152280"/>
            <a:ext cx="40384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Georgia"/>
              </a:rPr>
              <a:t>А.В.Игнать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Georgia"/>
              </a:rPr>
              <a:t>В.А.Андре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Georgia"/>
              </a:rPr>
              <a:t>М.П.Кост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Georgia"/>
              </a:rPr>
              <a:t>В.П.Ворон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Georgia"/>
              </a:rPr>
              <a:t>Н.И.Пукла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Georgia"/>
              </a:rPr>
              <a:t>В.С.Соко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Georgia"/>
              </a:rPr>
              <a:t>В.Н.Яр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Georgia"/>
              </a:rPr>
              <a:t>В.С.Семё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Georgia"/>
              </a:rPr>
              <a:t>В.К.Льв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Georgia"/>
              </a:rPr>
              <a:t>Г.А.Рома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Georgia"/>
              </a:rPr>
              <a:t>В.Я.Лапт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Georgia"/>
              </a:rPr>
              <a:t>А.Т.Деверин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Georgia"/>
              </a:rPr>
              <a:t>В.М.Ме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Georgia"/>
              </a:rPr>
              <a:t>Ю.К.Леонть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Georgia"/>
              </a:rPr>
              <a:t>Б.Н.Гли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00600" y="152280"/>
            <a:ext cx="4038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Ю.Г.Иль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Н.Н.Паш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В.М.Его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И.Б.Солдат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В.В.Андре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Е.Н.Никола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Е.Н.Грузи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Л.Н.Пет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А.П.Ива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С.В.Заха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О.В.Ива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Н.Г.Шехода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О.Н.Его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А.И.Соловьё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Л.Н.Григорь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5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500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500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1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500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500"/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2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2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2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2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5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50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2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500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500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500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71800" y="1519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cc"/>
                </a:solidFill>
                <a:latin typeface="Tahoma"/>
              </a:rPr>
              <a:t>Ардалион Васильевич Игнатье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3581280"/>
            <a:ext cx="78483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Чемпион, рекордсмен Европы (1945); участник Х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(1952) и бронзовый призёр Х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VI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лимпийских игр (1956); шестнадцатикратный рекордсмен СССР; пятнадцатикратный чемпион СССР. Награждён орденами Трудового Красного Знамени и «Знак Почёт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ignatev"/>
          <p:cNvPicPr/>
          <p:nvPr/>
        </p:nvPicPr>
        <p:blipFill>
          <a:blip r:embed="rId2"/>
          <a:stretch/>
        </p:blipFill>
        <p:spPr>
          <a:xfrm>
            <a:off x="7467480" y="1600200"/>
            <a:ext cx="1386000" cy="1676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ignatev1"/>
          <p:cNvPicPr/>
          <p:nvPr/>
        </p:nvPicPr>
        <p:blipFill>
          <a:blip r:embed="rId3"/>
          <a:stretch/>
        </p:blipFill>
        <p:spPr>
          <a:xfrm>
            <a:off x="152280" y="152280"/>
            <a:ext cx="2381400" cy="3248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95120" y="2057040"/>
            <a:ext cx="40388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(1930-19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Заслуженный мастер спорта СССР по лёгкой атлети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cademy Italic"/>
              </a:rPr>
              <a:t>Виктор Андреевич Андре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(1936-20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астер спорта СССР по тяжёлой  атлети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Чемпион СССР (1996); рекордсмен мира в тяжёлой весовой категории (1965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andreev_v_a"/>
          <p:cNvPicPr/>
          <p:nvPr/>
        </p:nvPicPr>
        <p:blipFill>
          <a:blip r:embed="rId2"/>
          <a:stretch/>
        </p:blipFill>
        <p:spPr>
          <a:xfrm>
            <a:off x="533520" y="1828800"/>
            <a:ext cx="2301840" cy="3048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oM</cp:lastModifiedBy>
  <dcterms:modified xsi:type="dcterms:W3CDTF">2013-12-03T20:55:4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