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A0C-923B-466E-8A2E-AA13D6AE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032-F210-4C9F-9A4D-B4238012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9A0-CE0B-4D97-AAB6-9C0C2233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A94-11A8-4E55-BCF5-BCFC7F40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7B2-7F84-4871-A599-05DA6B6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559-CE71-4611-90A4-18983B7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99F-1347-4924-9155-C73A566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81B-BB55-4624-BFEE-BAC4264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248-4C67-4DEE-B5D6-908A344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CC0-7DFD-4360-8CAD-FE664ED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D16-1E74-4527-9834-0761F97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D92-4DF6-4AB2-B72E-1793421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ABC-1FBE-491F-8B40-467BA0B78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Спортсмены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Чувашской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41148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Канаш МОУ СОШ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«а» класса Семёнова Анаста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Майя Петровна Ко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парашютному спорту. Пятикратная чемпионка мира; обладательница 38 рекордов мира, Европы и СССР; абсолютная чемпионка Европы (1975) и Спартакиады народов СССР (1967, 1971). Совершила около 7000 прыжков с парашю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-2"/>
          <p:cNvPicPr/>
          <p:nvPr/>
        </p:nvPicPr>
        <p:blipFill>
          <a:blip r:embed="rId2"/>
          <a:stretch/>
        </p:blipFill>
        <p:spPr>
          <a:xfrm>
            <a:off x="6324480" y="1600200"/>
            <a:ext cx="2514600" cy="45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69ab"/>
                </a:solidFill>
                <a:latin typeface="Arial"/>
              </a:rPr>
              <a:t>Владимир Петрович Воро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ыжному спорту. Участник Х зимних Олимпийских игр (1968); победитель Х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зимних Олимпийских игр (1972); чемпион СССР (1965-1973); чемпион мира (1970); победитель Кубка мира (196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ig1_HDKZPJ9J0AM4B1B8CE7B"/>
          <p:cNvPicPr/>
          <p:nvPr/>
        </p:nvPicPr>
        <p:blipFill>
          <a:blip r:embed="rId2"/>
          <a:stretch/>
        </p:blipFill>
        <p:spPr>
          <a:xfrm>
            <a:off x="533520" y="1981080"/>
            <a:ext cx="2381040" cy="319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Иванович Пукл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5-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егкой атлетике. Чемпион Всемирной Универсиады (1970); участник ХХ Олимпийских игр (1972); чемпион России (197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yklakov"/>
          <p:cNvPicPr/>
          <p:nvPr/>
        </p:nvPicPr>
        <p:blipFill>
          <a:blip r:embed="rId2"/>
          <a:stretch/>
        </p:blipFill>
        <p:spPr>
          <a:xfrm>
            <a:off x="5562720" y="1905120"/>
            <a:ext cx="27921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алериан Сергеевич Сок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в Мехико (1968); чемпион СССР (1968, 1971, 1973); победитель кубка СССР (1967, 1970, 19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-4"/>
          <p:cNvPicPr/>
          <p:nvPr/>
        </p:nvPicPr>
        <p:blipFill>
          <a:blip r:embed="rId2"/>
          <a:stretch/>
        </p:blipFill>
        <p:spPr>
          <a:xfrm>
            <a:off x="5867280" y="1828800"/>
            <a:ext cx="3105360" cy="407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алерий Николаевич Яр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8-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велосипедному спорту. Участни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68);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72); чемпион и рекордсмен СССР (1969-1972); чемпион мира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Yardy"/>
          <p:cNvPicPr/>
          <p:nvPr/>
        </p:nvPicPr>
        <p:blipFill>
          <a:blip r:embed="rId2"/>
          <a:stretch/>
        </p:blipFill>
        <p:spPr>
          <a:xfrm>
            <a:off x="1219320" y="2057400"/>
            <a:ext cx="21859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Виктор Семёнович Семё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Заслуженный тренер РСФСР  и СССР. Чемпион СССР (1976, 1978, 1980); обладатель Кубка СССР (2975, 1978, 1983); рекордсмен СССР по спортивной ходьбе на 20 км; неоднократный чемпион мира, Европы и СССР среди ветеранов; участник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летних Олимпийских игр (197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emenov_viktor_1000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43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алерий Константинович Льв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, чемпион мира (1978), чемпион СССР (1975, 1978), победитель VI Спартакиады народов СССР (197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vov"/>
          <p:cNvPicPr/>
          <p:nvPr/>
        </p:nvPicPr>
        <p:blipFill>
          <a:blip r:embed="rId2"/>
          <a:stretch/>
        </p:blipFill>
        <p:spPr>
          <a:xfrm>
            <a:off x="152280" y="1600200"/>
            <a:ext cx="317520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ана Александровна Ром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егкой атлетике. Чемпионка Европы (1978); серебряный призёр Кубка мира (1979); победительница Кросса Наций (1976, 1977,1980,1981); победительница, бронзовый и серебряный призёр спартакиады народов СССР (1975, 1979); призёр чемпионата России (197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23_skanirovanie0009"/>
          <p:cNvPicPr/>
          <p:nvPr/>
        </p:nvPicPr>
        <p:blipFill>
          <a:blip r:embed="rId2"/>
          <a:stretch/>
        </p:blipFill>
        <p:spPr>
          <a:xfrm>
            <a:off x="6315120" y="0"/>
            <a:ext cx="28288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лерий Янович Лапт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бедитель Кубка мира (1983), чемпион Европы, СССР (1982,1983). Президент Федерации бокс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Untitled-45"/>
          <p:cNvPicPr/>
          <p:nvPr/>
        </p:nvPicPr>
        <p:blipFill>
          <a:blip r:embed="rId2"/>
          <a:stretch/>
        </p:blipFill>
        <p:spPr>
          <a:xfrm>
            <a:off x="0" y="0"/>
            <a:ext cx="273204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everinskaya_aleksandra_timofeevna"/>
          <p:cNvPicPr/>
          <p:nvPr/>
        </p:nvPicPr>
        <p:blipFill>
          <a:blip r:embed="rId2"/>
          <a:stretch/>
        </p:blipFill>
        <p:spPr>
          <a:xfrm>
            <a:off x="6811920" y="3657600"/>
            <a:ext cx="233208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0319deverinskaya1"/>
          <p:cNvPicPr/>
          <p:nvPr/>
        </p:nvPicPr>
        <p:blipFill>
          <a:blip r:embed="rId3"/>
          <a:stretch/>
        </p:blipFill>
        <p:spPr>
          <a:xfrm>
            <a:off x="0" y="914400"/>
            <a:ext cx="298440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андра Тимофеевна Девери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мпионка СССР (1981,1985,1986); победительница Кубка СССР (1981,1982), мира(1981); рекордсменка мира, Европы и СССР по спортивной ходьбе на 5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828800" y="1676520"/>
            <a:ext cx="5486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Из истории...</a:t>
            </a:r>
            <a:endParaRPr b="1" lang="en-US" sz="3200" spc="1" strike="noStrike">
              <a:ln w="9360">
                <a:solidFill>
                  <a:srgbClr val="33cc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адимир Максимович М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боксу. Чемпион Европы (1983), СССР (1982, 1983), Польши (1988, 1989). Заслуженный работник физ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elnik"/>
          <p:cNvPicPr/>
          <p:nvPr/>
        </p:nvPicPr>
        <p:blipFill>
          <a:blip r:embed="rId2"/>
          <a:stretch/>
        </p:blipFill>
        <p:spPr>
          <a:xfrm>
            <a:off x="228600" y="1523880"/>
            <a:ext cx="317484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Кириллович Леон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стрельбе из лука. Чемпион Европы (1985, 1988), СССР (1985); победитель Кубка СССР (1985); чемпион России (1997,1999,2000,2003); рекордсмен мира (1988); бронзовый призёр чемпионата мира (1997); участник XXIV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88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eoIou"/>
          <p:cNvPicPr/>
          <p:nvPr/>
        </p:nvPicPr>
        <p:blipFill>
          <a:blip r:embed="rId2"/>
          <a:stretch/>
        </p:blipFill>
        <p:spPr>
          <a:xfrm>
            <a:off x="6972480" y="1752480"/>
            <a:ext cx="1847520" cy="26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Борис Николаевич Гли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гиревому спорту. Чемпион Европы (1992), призёр чемпионата и Кубка мира (1994); победитель Кубка России (1991 ,1992). Результат его выступлений в Чехии занесен в Книгу рекордов Гинн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Георгиевич Иль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. Десятикратный чемпион России по лыжесанному спорту среди инвалидов (1987-1997); призёр первенства России (1998) и Европы (1997); участник зимних Параолимпийских игр (1994, 1998, 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2"/>
          <p:cNvPicPr/>
          <p:nvPr/>
        </p:nvPicPr>
        <p:blipFill>
          <a:blip r:embed="rId2"/>
          <a:stretch/>
        </p:blipFill>
        <p:spPr>
          <a:xfrm>
            <a:off x="304920" y="1981080"/>
            <a:ext cx="2158920" cy="33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дежда Николаевна Па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велосипедному спорту. Чемпионка СССР (1989) и России (1991); участница XXVI летних Олимпийских игр по маунтинбайку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алентина Михайловна Ег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. Чемпионк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по марафонскому бегу (1992); серебряный призё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96). Почётный гражданин г. Чебоксары и г. Токио. Награждена медалью ордена «За заслуги перед Отечеством»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gorova"/>
          <p:cNvPicPr/>
          <p:nvPr/>
        </p:nvPicPr>
        <p:blipFill>
          <a:blip r:embed="rId2"/>
          <a:stretch/>
        </p:blipFill>
        <p:spPr>
          <a:xfrm>
            <a:off x="152280" y="76320"/>
            <a:ext cx="168912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oldatova"/>
          <p:cNvPicPr/>
          <p:nvPr/>
        </p:nvPicPr>
        <p:blipFill>
          <a:blip r:embed="rId2"/>
          <a:stretch/>
        </p:blipFill>
        <p:spPr>
          <a:xfrm>
            <a:off x="0" y="1447920"/>
            <a:ext cx="4495680" cy="356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рина Борисовна Солд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5-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стрельбе из лука. Чемпионка мира, СССР (1985), обладательница Кубка СССР (19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cademy Italic"/>
              </a:rPr>
              <a:t>Владимир Васильевич Андр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Чемпион СССР по спортивной ходьбе (1989,1991); чемпион России (1994,1995,1998); участник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2); бронзов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Кубка Европы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reev_1000"/>
          <p:cNvPicPr/>
          <p:nvPr/>
        </p:nvPicPr>
        <p:blipFill>
          <a:blip r:embed="rId2"/>
          <a:stretch/>
        </p:blipFill>
        <p:spPr>
          <a:xfrm>
            <a:off x="0" y="0"/>
            <a:ext cx="2781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nicolaeva_elena_1000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Елена Николаевна Никола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(1992) и чемпионк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6); чемпионка СССР и России (1988,1992,1995,1996); чемпионка мира (2003); рекордсменка Европы и мира. Награждена медалью ордена «За заслуги перед Отечеством»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степени, орденом Почё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Елена Николаевна Грузи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международного класса по спортивной ходьбе; бронзовый призёр Кубка мира (1994); обладательница Кубка России;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gruzinova_e_n_1000"/>
          <p:cNvPicPr/>
          <p:nvPr/>
        </p:nvPicPr>
        <p:blipFill>
          <a:blip r:embed="rId2"/>
          <a:stretch/>
        </p:blipFill>
        <p:spPr>
          <a:xfrm>
            <a:off x="152280" y="0"/>
            <a:ext cx="3048120" cy="417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27333308_6b776827725b25b14b9c2f9eca1afb05"/>
          <p:cNvPicPr/>
          <p:nvPr/>
        </p:nvPicPr>
        <p:blipFill>
          <a:blip r:embed="rId2"/>
          <a:stretch/>
        </p:blipFill>
        <p:spPr>
          <a:xfrm>
            <a:off x="5935680" y="1371600"/>
            <a:ext cx="320832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Tahoma"/>
              </a:rPr>
              <a:t>Тернистый путь к Олимп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Известно, что Олимпийские игры, спортивные состязания в честь владыки богов и людей – Зевса, зародились в 776 году до н.э. в Древней Греции. Раз в 4 года прекращались все распри, наступало перемирие и Олимпия тонула в пылу спортивных страстей и зрительского восхи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В 394 году с развитием христианства игры были отмен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9Petrova2"/>
          <p:cNvPicPr/>
          <p:nvPr/>
        </p:nvPicPr>
        <p:blipFill>
          <a:blip r:embed="rId2"/>
          <a:stretch/>
        </p:blipFill>
        <p:spPr>
          <a:xfrm>
            <a:off x="6324480" y="152280"/>
            <a:ext cx="2656080" cy="33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age_9474"/>
          <p:cNvPicPr/>
          <p:nvPr/>
        </p:nvPicPr>
        <p:blipFill>
          <a:blip r:embed="rId3"/>
          <a:stretch/>
        </p:blipFill>
        <p:spPr>
          <a:xfrm>
            <a:off x="6400800" y="3505320"/>
            <a:ext cx="259560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Georgia"/>
              </a:rPr>
              <a:t>Людмила Николаевна Пе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тырёхкратная чемпионка России в беге на стайерские дистанции; победительница Кубка Европы по марафонском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егу в командном зачёте (1996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етних Олимпийских игр в беге на 1000 м (1996); победительница Нью-Йоркского марафона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лина Петровна Ива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(1991), Европы (1992 год) по спортивной ходьбе; участница XXV Олимпийских игр по спортивной ходьбе (1992); победительница международных марафонских турниров в США, Европе. Заслуженный работник физической 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vanova_a_p_%20150"/>
          <p:cNvPicPr/>
          <p:nvPr/>
        </p:nvPicPr>
        <p:blipFill>
          <a:blip r:embed="rId2"/>
          <a:stretch/>
        </p:blipFill>
        <p:spPr>
          <a:xfrm>
            <a:off x="0" y="0"/>
            <a:ext cx="13622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етлана Владимировна Заха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оссии международного класса по лёгкой атлетике (марафон). Бронзовый призёр чемпионата мира (2001); серебряный и бронзовый призёр кубка мира (2001,2003); победительница Бостонского и Чикагского марафонов (2003); рекордсменка России (200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akharova_1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Олимпиада Владимировна Ив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Победительница Игр доброй воли (1994, 2002); победительница Кубка мира (1997); обладательница Кубка Европы (2000); рекордсменка мира (1995; 2001); чемпионка Европы (2002);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4); рекордсменка мира (2005); чемпионка мира (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1"/>
          <p:cNvPicPr/>
          <p:nvPr/>
        </p:nvPicPr>
        <p:blipFill>
          <a:blip r:embed="rId2"/>
          <a:stretch/>
        </p:blipFill>
        <p:spPr>
          <a:xfrm>
            <a:off x="6858000" y="152280"/>
            <a:ext cx="2158920" cy="3416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age015"/>
          <p:cNvPicPr/>
          <p:nvPr/>
        </p:nvPicPr>
        <p:blipFill>
          <a:blip r:embed="rId3"/>
          <a:stretch/>
        </p:blipFill>
        <p:spPr>
          <a:xfrm>
            <a:off x="6916680" y="3733920"/>
            <a:ext cx="222732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талья Геннадьевна Шеход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(1996)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000) Олимпийских игр; двукратная чемпионка России (1996,2000); бронзовый призёр чемпионата России (2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heNat"/>
          <p:cNvPicPr/>
          <p:nvPr/>
        </p:nvPicPr>
        <p:blipFill>
          <a:blip r:embed="rId2"/>
          <a:stretch/>
        </p:blipFill>
        <p:spPr>
          <a:xfrm>
            <a:off x="380880" y="228600"/>
            <a:ext cx="19036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Николаевна Ег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в беге на 3000м (2001); в беге на 5000м (2001); победительница Кубка Европы (1998); чемпионка России (1998,1999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летних Олимпийских игр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eon"/>
          <p:cNvPicPr/>
          <p:nvPr/>
        </p:nvPicPr>
        <p:blipFill>
          <a:blip r:embed="rId2"/>
          <a:stretch/>
        </p:blipFill>
        <p:spPr>
          <a:xfrm>
            <a:off x="457200" y="2209680"/>
            <a:ext cx="187488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ей Иванович Соловь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кикбоксингу. Трёхкратный чемпион мира (1997, 1999,2000); чемпион Европы (1998), России(1992,1996-1999). Чемпион России(1998), Европы(1999,2003,2004) и мира(2002) среди профессионалов. Президент Ассоциации кикбоксинга Чувашской Республ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eb0459ae2ea38f62430b380b32ece26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Academy Italic"/>
              </a:rPr>
              <a:t>Лидия Николаевна Григо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Ф международного класса по лёгкой атлетике. Чемпионка России (1998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; чемпионка мира по полумарафону (2003); победительница Кубка европейских чемпионов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57070"/>
          <p:cNvPicPr/>
          <p:nvPr/>
        </p:nvPicPr>
        <p:blipFill>
          <a:blip r:embed="rId2"/>
          <a:stretch/>
        </p:blipFill>
        <p:spPr>
          <a:xfrm>
            <a:off x="0" y="1522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Image265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mage2654"/>
          <p:cNvPicPr/>
          <p:nvPr/>
        </p:nvPicPr>
        <p:blipFill>
          <a:blip r:embed="rId3"/>
          <a:stretch/>
        </p:blipFill>
        <p:spPr>
          <a:xfrm>
            <a:off x="0" y="0"/>
            <a:ext cx="4343400" cy="1963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к концу Х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века спортивные соревнования вернули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е Олимпийские игры в Афинах собрали 300 мужчин из 13 стран. Женщинам доступ был закрыт. В тех стартах Россия не участвовала из-за отсутствия сред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в 1908 г. в Лондоне состоялся их удачный деб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et_img"/>
          <p:cNvPicPr/>
          <p:nvPr/>
        </p:nvPicPr>
        <p:blipFill>
          <a:blip r:embed="rId2"/>
          <a:stretch/>
        </p:blipFill>
        <p:spPr>
          <a:xfrm rot="21316200">
            <a:off x="1523520" y="304920"/>
            <a:ext cx="6667560" cy="2342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начале ХХ века о подлинном спорте в чувашском крае ещё и понятия не имели. Но мальчишки азартно гоняли в пыли тряпичный мяч, играли в лап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шь в начале 20-х годов зародилось в Чувашии физкультурное движение. Самые первые большие соревнования назвали олимпиадой. В программу состязаний входило два вида спорта: гимнастика и лёгкая атлетика. Стартовало 139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delphin1"/>
          <p:cNvPicPr/>
          <p:nvPr/>
        </p:nvPicPr>
        <p:blipFill>
          <a:blip r:embed="rId2"/>
          <a:stretch/>
        </p:blipFill>
        <p:spPr>
          <a:xfrm>
            <a:off x="0" y="0"/>
            <a:ext cx="25621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гда началась война, ушли на фронт прекрасные спортсмены республики и руководители спорта. Многие не вернулись с поля бра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карте России наша республика – одна из самых маленьких по территории. А в масштабе планеты -  совсем крошечная. Но Чувашия дала миру несколько олимпийских чемпионов и призё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х имена золотыми строками вписаны в историю мирового спор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1219320" y="1371600"/>
            <a:ext cx="6095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дость Чувашии.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В.Игна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А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М.П.Ко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П.Воро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Н.И.Пукл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ок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Н.Я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емё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К.Ль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Г.А.Ром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Я.Лапт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Т.Девери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М.Ме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Ю.К.Леон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Б.Н.Гл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0600" y="152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Ю.Г.Иль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Н.Паш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М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.Б.Солд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В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Никол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Грузи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Пе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П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.В.Зах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В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Г.Шехо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Н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И.Соловь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Григорь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Ардалион Васильевич Игнатье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358128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мпион, рекордсмен Европы (1945); участник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52) и бронзовый призёр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лимпийских игр (1956); шестнадцатикратный рекордсмен СССР; пятнадцатикратный чемпион СССР. Награждён орденами Трудового Красного Знамени и «Знак Почё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gnatev"/>
          <p:cNvPicPr/>
          <p:nvPr/>
        </p:nvPicPr>
        <p:blipFill>
          <a:blip r:embed="rId2"/>
          <a:stretch/>
        </p:blipFill>
        <p:spPr>
          <a:xfrm>
            <a:off x="7467480" y="1600200"/>
            <a:ext cx="1386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gnatev1"/>
          <p:cNvPicPr/>
          <p:nvPr/>
        </p:nvPicPr>
        <p:blipFill>
          <a:blip r:embed="rId3"/>
          <a:stretch/>
        </p:blipFill>
        <p:spPr>
          <a:xfrm>
            <a:off x="152280" y="152280"/>
            <a:ext cx="2381400" cy="3248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95120" y="205704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30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иктор Андреевич Андр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36-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по тяжёлой  атле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мпион СССР (1996); рекордсмен мира в тяжёлой весовой категории (196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ndreev_v_a"/>
          <p:cNvPicPr/>
          <p:nvPr/>
        </p:nvPicPr>
        <p:blipFill>
          <a:blip r:embed="rId2"/>
          <a:stretch/>
        </p:blipFill>
        <p:spPr>
          <a:xfrm>
            <a:off x="533520" y="1828800"/>
            <a:ext cx="230184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55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