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explode.wav" ContentType="audio/x-wav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6879-5C85-4BC2-80D5-4A035CCB7C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8CC3-F9D7-4AA0-B54A-25FFB74589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улканы  Камч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B17-FDBA-495F-BC1C-7D20FE3A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457-C6CB-4A2C-873E-53D233AF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97C9A-0E98-46DA-8990-23B0847C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51486-E791-4AA2-BDBD-C602458D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84678-8094-4580-9654-6644000F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283B9-B604-45B1-836A-481D80FE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0A563-8E20-40D9-AB6E-A6CFBCF0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F6A2F-6AC5-4D6E-80B1-21FFE1D7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F247A-E91C-4316-A15D-47C76C90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AB8BF-B9E1-466C-9B30-8F0EDE07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711A8-187D-43B0-9F97-CC88559F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35B-2311-4A9C-9453-4836B52C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D83-FEE3-4F80-BBF7-BCDFFB10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64A4-EDA2-49CC-A2F7-F940064F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09B6-6854-467B-A2D9-E11066B7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E1BE-3DB8-4378-8B56-8BA4EBF8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ECF5-5B53-43B5-8790-363283DF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9F80-07A5-42F8-B129-672BC81E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F37F-03A5-417F-863A-001BA23D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B915-5914-42C6-A7A9-9B8DCDF9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1DC-B08B-4623-822F-63031DC1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110B-3863-4B78-B97F-6F954656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23B2-AD69-413B-BFBC-E9134895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0280-E7D4-4A1E-A3E1-9FA2ED6C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6FE3-3E3F-4AF5-8642-4734D0FC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8B93-15C9-448B-BBE8-E589BFBF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35EE-DCE2-4210-9D6E-F29CFC47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81456-00D3-48C7-9E81-A73A239C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1E89-21C4-4667-920C-0858783A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DE54-AAC2-4A20-9B46-65768093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5261-16EE-4CC2-A436-2F2A2C8A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612-4E10-475E-B48B-B634C67B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8869E-3820-4993-93CC-C0AA7D12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9C95-AFCA-4F03-AC19-29A65C2D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6E546-E5DE-4B0D-9357-D1CC6C2B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9CF8-E5FB-47BF-809C-A72EA26E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E960B-3860-4BFC-8B10-B00A6ADF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D0CB-ECAE-4DFB-9591-615D3D9B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E3C9-92C7-45B0-8879-4B158603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D8413-F995-4915-9735-A5B66D7F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2423D-A5B5-40B6-82F9-41511022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495CD-4E56-4F04-B760-7E75B51F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028-01BB-4B34-A69F-064CBE36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A290E-DCAB-4D2A-9421-654E9324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E5074-F4D6-4D60-B64A-39B8D3D7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465C-5B72-4567-B7FE-3C2BDA59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4ACA3-BE41-4348-9DC0-E1AA7869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E141-024B-4FA8-9F9A-D8BC2445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1F35F-6C3F-481B-9788-851B12BD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9970-8E31-4149-9B4F-C48DF3C6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562E2-9688-4491-847D-3C191373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90D69-F732-4BD9-A3E9-A4985599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49930-5473-436D-92E8-E190A9EB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288-7C87-4FDA-9B25-60B62A64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BF06-C70A-47D0-87CB-41941720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4DF96-EBF2-4960-856A-8B6803FF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EEBE2-C16B-4747-82E6-B2AB81D0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6A523-0F1D-4738-9ACC-860CC838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1AB50-8760-4A43-90CC-59BFFF42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90342-7BBA-4A13-AF82-3401D02D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2A3A7-86B3-469F-A17D-D67A9503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A510F-65BF-4991-87B3-370593D7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A0E22-AA36-406E-B12D-5CA5A490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DB2F-81CB-4721-A4D3-4C93247A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919-1629-42EC-B0E2-9ED28F17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32CF0-B0CF-4B4E-B052-AB798B5B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37CB4-C998-470B-885E-CA65959E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F05DB7-DD0D-4E9D-9684-7F0EFDBE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D5CB4-6283-41F0-AC64-43E85ABB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5DE17-9CBF-407B-8664-D1157AA4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D5B58-0C6D-4DED-B754-08525E60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52EB9-3098-42C9-8E5D-EDC2677D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4A0DD-7756-4EF1-96FA-99F41F43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370FC-A83E-4784-A0F7-43EE8FB4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29EB03-7773-4A9C-9780-A04DA9CB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CD7-F416-4163-8932-601C219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8E9DB-3F97-4C7C-B403-E0E35952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372F3-F5F6-49C3-8B2B-DFBCF820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4E2EB-B832-4F8C-AB70-D75537BF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14B97-A4AE-46C1-83B2-0BEBE3B3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DE76C-CD2D-4F41-854D-F5E9F283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7EDF7-A154-4B78-A9AA-1F67E38B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DED4F-B1E5-4581-A23C-D4732FEF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E7D22-5966-47AC-9028-A8C03DFD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CDA36-6A1F-470A-8FE4-780E2CC6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47DD9-3B69-47DF-B934-B0229D0E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4D2-7F48-44BE-82E0-AFBBB874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B1D5E-099E-4351-8E29-950A4C48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40319-751A-4EFD-AE1C-84092B64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11AE7-AD45-490F-9CF1-2C8B3C0A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CF06D-2232-4B89-8B51-CE2B6942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D8A3A-FE70-4C64-86A4-D984BF55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4FE56-39F7-455F-BCB1-44D67543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BE817-B0A6-4718-9EB8-248DBACB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E1F30-3BED-4098-BB3F-0CD266E1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EFBB4-85B8-4A29-9881-3F816087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43A86-2493-48F5-8273-F5FE1F38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5FC-9098-43DA-8C31-0124EACB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43C59-A733-405F-A374-C0D88568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1B241-FED1-483D-8A86-2DB9398C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0419D-BB0D-445F-A466-54542CAD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410DD-E0CA-4509-AA23-D9AE86B9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26900-D0DF-4508-B637-4A860D9A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59D70-F478-4935-86D2-482DA3F1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AB8E5-8F74-480B-A6FF-3B56DAF7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364EA-4B69-4D44-9A2B-8AC14777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0E7DE-08AD-4193-82E8-BBEDE6A3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819E4-DCC3-48C4-A94C-B97F66D6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B409-612F-42FC-9115-96807528E7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6799-D62F-498B-A49C-E098ECDFAFE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0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30B9-7265-4881-B7F6-715E411C52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9FAD-17E8-4026-B53C-B9B2E0B78B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1724-F7DC-4E5E-83F6-3B1A35814A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3BFE-FF87-4D9E-ACAA-AB0792D421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97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0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01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26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AE4F-70F2-42BC-A576-498776E4229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A813-60A7-429A-A089-C3A1C194A9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6038-F739-453F-8CD3-6B4D305391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www.izmaylovo.ru/wiki/geo/detail.php?ID=2686" TargetMode="External"/><Relationship Id="rId4" Type="http://schemas.openxmlformats.org/officeDocument/2006/relationships/image" Target="../media/image15.jpeg"/><Relationship Id="rId5" Type="http://schemas.openxmlformats.org/officeDocument/2006/relationships/hyperlink" Target="file:///&#1042;&#1080;&#1076;&#1077;&#1086;%20&#1080;%20&#1084;&#1091;&#1079;&#1099;&#1082;&#1072;%20&#1042;&#1091;&#1083;&#1082;&#1072;&#1085;&#1099;/VTS_03_2.VOB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www.travel.ru/news/2007/05/25/110002.html" TargetMode="External"/><Relationship Id="rId8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WordArt 5"/>
          <p:cNvSpPr txBox="1"/>
          <p:nvPr/>
        </p:nvSpPr>
        <p:spPr>
          <a:xfrm>
            <a:off x="324000" y="765000"/>
            <a:ext cx="882000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0033cc"/>
                    </a:gs>
                    <a:gs pos="100000">
                      <a:srgbClr val="ff006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50000">
                    <a:srgbClr val="0033cc"/>
                  </a:gs>
                  <a:gs pos="100000">
                    <a:srgbClr val="ff0066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Конусообразный</a:t>
            </a: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вулкан  Ключевская  Сопка  (Камчатка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4" name="Picture 3" descr="Kliuchevskoi_big"/>
          <p:cNvPicPr/>
          <p:nvPr/>
        </p:nvPicPr>
        <p:blipFill>
          <a:blip r:embed="rId1"/>
          <a:stretch/>
        </p:blipFill>
        <p:spPr>
          <a:xfrm>
            <a:off x="533520" y="1981080"/>
            <a:ext cx="7848360" cy="483264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4"/>
          <p:cNvSpPr/>
          <p:nvPr/>
        </p:nvSpPr>
        <p:spPr>
          <a:xfrm>
            <a:off x="8028000" y="6308640"/>
            <a:ext cx="1116000" cy="549360"/>
          </a:xfrm>
          <a:custGeom>
            <a:avLst/>
            <a:gdLst>
              <a:gd name="textAreaLeft" fmla="*/ 35280 w 1116000"/>
              <a:gd name="textAreaRight" fmla="*/ 1080720 w 111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3865" h="21600">
                <a:moveTo>
                  <a:pt x="0" y="0"/>
                </a:moveTo>
                <a:lnTo>
                  <a:pt x="43865" y="0"/>
                </a:lnTo>
                <a:lnTo>
                  <a:pt x="43865" y="21600"/>
                </a:lnTo>
                <a:lnTo>
                  <a:pt x="0" y="21600"/>
                </a:lnTo>
                <a:close/>
              </a:path>
              <a:path fill="lightenLess" w="43865" h="21600">
                <a:moveTo>
                  <a:pt x="0" y="0"/>
                </a:moveTo>
                <a:lnTo>
                  <a:pt x="43865" y="0"/>
                </a:lnTo>
                <a:lnTo>
                  <a:pt x="42465" y="1400"/>
                </a:lnTo>
                <a:lnTo>
                  <a:pt x="1400" y="1400"/>
                </a:lnTo>
                <a:close/>
              </a:path>
              <a:path fill="darken" w="43865" h="21600">
                <a:moveTo>
                  <a:pt x="43865" y="0"/>
                </a:moveTo>
                <a:lnTo>
                  <a:pt x="43865" y="21600"/>
                </a:lnTo>
                <a:lnTo>
                  <a:pt x="42465" y="20200"/>
                </a:lnTo>
                <a:lnTo>
                  <a:pt x="42465" y="1400"/>
                </a:lnTo>
                <a:close/>
              </a:path>
              <a:path fill="darkenLess" w="43865" h="21600">
                <a:moveTo>
                  <a:pt x="43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65" y="20200"/>
                </a:lnTo>
                <a:close/>
              </a:path>
              <a:path fill="lighten" w="43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65" h="21600">
                <a:moveTo>
                  <a:pt x="25431" y="10800"/>
                </a:moveTo>
                <a:lnTo>
                  <a:pt x="14926" y="17806"/>
                </a:lnTo>
                <a:lnTo>
                  <a:pt x="14926" y="3794"/>
                </a:lnTo>
                <a:close/>
              </a:path>
              <a:path fill="darken" w="43865" h="21600">
                <a:moveTo>
                  <a:pt x="27276" y="3794"/>
                </a:moveTo>
                <a:lnTo>
                  <a:pt x="27276" y="17806"/>
                </a:lnTo>
                <a:lnTo>
                  <a:pt x="28939" y="17806"/>
                </a:lnTo>
                <a:lnTo>
                  <a:pt x="28939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Щитообразный</a:t>
            </a: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вулкан  Килауэа  ( Гаваи 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7" name="Picture 3" descr="вулкан  гавайского  типа(Килауэа)"/>
          <p:cNvPicPr/>
          <p:nvPr/>
        </p:nvPicPr>
        <p:blipFill>
          <a:blip r:embed="rId1"/>
          <a:stretch/>
        </p:blipFill>
        <p:spPr>
          <a:xfrm>
            <a:off x="900000" y="2209680"/>
            <a:ext cx="7543800" cy="464832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4"/>
          <p:cNvSpPr/>
          <p:nvPr/>
        </p:nvSpPr>
        <p:spPr>
          <a:xfrm>
            <a:off x="8028000" y="6308640"/>
            <a:ext cx="1116000" cy="549360"/>
          </a:xfrm>
          <a:custGeom>
            <a:avLst/>
            <a:gdLst>
              <a:gd name="textAreaLeft" fmla="*/ 35280 w 1116000"/>
              <a:gd name="textAreaRight" fmla="*/ 1080720 w 111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3865" h="21600">
                <a:moveTo>
                  <a:pt x="0" y="0"/>
                </a:moveTo>
                <a:lnTo>
                  <a:pt x="43865" y="0"/>
                </a:lnTo>
                <a:lnTo>
                  <a:pt x="43865" y="21600"/>
                </a:lnTo>
                <a:lnTo>
                  <a:pt x="0" y="21600"/>
                </a:lnTo>
                <a:close/>
              </a:path>
              <a:path fill="lightenLess" w="43865" h="21600">
                <a:moveTo>
                  <a:pt x="0" y="0"/>
                </a:moveTo>
                <a:lnTo>
                  <a:pt x="43865" y="0"/>
                </a:lnTo>
                <a:lnTo>
                  <a:pt x="42465" y="1400"/>
                </a:lnTo>
                <a:lnTo>
                  <a:pt x="1400" y="1400"/>
                </a:lnTo>
                <a:close/>
              </a:path>
              <a:path fill="darken" w="43865" h="21600">
                <a:moveTo>
                  <a:pt x="43865" y="0"/>
                </a:moveTo>
                <a:lnTo>
                  <a:pt x="43865" y="21600"/>
                </a:lnTo>
                <a:lnTo>
                  <a:pt x="42465" y="20200"/>
                </a:lnTo>
                <a:lnTo>
                  <a:pt x="42465" y="1400"/>
                </a:lnTo>
                <a:close/>
              </a:path>
              <a:path fill="darkenLess" w="43865" h="21600">
                <a:moveTo>
                  <a:pt x="43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65" y="20200"/>
                </a:lnTo>
                <a:close/>
              </a:path>
              <a:path fill="lighten" w="43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65" h="21600">
                <a:moveTo>
                  <a:pt x="25431" y="10800"/>
                </a:moveTo>
                <a:lnTo>
                  <a:pt x="14926" y="17806"/>
                </a:lnTo>
                <a:lnTo>
                  <a:pt x="14926" y="3794"/>
                </a:lnTo>
                <a:close/>
              </a:path>
              <a:path fill="darken" w="43865" h="21600">
                <a:moveTo>
                  <a:pt x="27276" y="3794"/>
                </a:moveTo>
                <a:lnTo>
                  <a:pt x="27276" y="17806"/>
                </a:lnTo>
                <a:lnTo>
                  <a:pt x="28939" y="17806"/>
                </a:lnTo>
                <a:lnTo>
                  <a:pt x="28939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Куполообразный</a:t>
            </a: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вулкан Пай  де Дум  ( Франция 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40" name="Picture 3" descr="куполовидный  вулкан(юг  Франции)"/>
          <p:cNvPicPr/>
          <p:nvPr/>
        </p:nvPicPr>
        <p:blipFill>
          <a:blip r:embed="rId1"/>
          <a:stretch/>
        </p:blipFill>
        <p:spPr>
          <a:xfrm>
            <a:off x="1042920" y="2209680"/>
            <a:ext cx="7543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3" name="Organization Chart 6"/>
          <p:cNvGrpSpPr/>
          <p:nvPr/>
        </p:nvGrpSpPr>
        <p:grpSpPr>
          <a:xfrm>
            <a:off x="457200" y="404640"/>
            <a:ext cx="8228880" cy="5719680"/>
            <a:chOff x="457200" y="404640"/>
            <a:chExt cx="8228880" cy="5719680"/>
          </a:xfrm>
        </p:grpSpPr>
        <p:cxnSp>
          <p:nvCxnSpPr>
            <p:cNvPr id="544" name="_s3076"/>
            <p:cNvCxnSpPr>
              <a:stCxn id="545" idx="0"/>
              <a:endCxn id="546" idx="2"/>
            </p:cNvCxnSpPr>
            <p:nvPr/>
          </p:nvCxnSpPr>
          <p:spPr>
            <a:xfrm flipV="1" rot="16200000">
              <a:off x="5439240" y="1823400"/>
              <a:ext cx="1144440" cy="2880720"/>
            </a:xfrm>
            <a:prstGeom prst="bentConnector3">
              <a:avLst>
                <a:gd name="adj1" fmla="val 997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7" name="_s3077"/>
            <p:cNvCxnSpPr>
              <a:stCxn id="548" idx="0"/>
              <a:endCxn id="546" idx="2"/>
            </p:cNvCxnSpPr>
            <p:nvPr/>
          </p:nvCxnSpPr>
          <p:spPr>
            <a:xfrm flipV="1">
              <a:off x="4571280" y="2691720"/>
              <a:ext cx="3240" cy="114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9" name="_s3078"/>
            <p:cNvCxnSpPr>
              <a:stCxn id="550" idx="0"/>
              <a:endCxn id="546" idx="2"/>
            </p:cNvCxnSpPr>
            <p:nvPr/>
          </p:nvCxnSpPr>
          <p:spPr>
            <a:xfrm flipH="1" flipV="1" rot="5400000">
              <a:off x="2559240" y="1823760"/>
              <a:ext cx="1144440" cy="2880720"/>
            </a:xfrm>
            <a:prstGeom prst="bentConnector3">
              <a:avLst>
                <a:gd name="adj1" fmla="val 997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6" name="_s3079"/>
            <p:cNvSpPr/>
            <p:nvPr/>
          </p:nvSpPr>
          <p:spPr>
            <a:xfrm>
              <a:off x="3337200" y="404640"/>
              <a:ext cx="2468520" cy="2287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ипы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улканических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звержен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3080"/>
            <p:cNvSpPr/>
            <p:nvPr/>
          </p:nvSpPr>
          <p:spPr>
            <a:xfrm>
              <a:off x="457200" y="3836520"/>
              <a:ext cx="2468520" cy="2287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99ff66"/>
                  </a:solidFill>
                  <a:uFillTx/>
                  <a:latin typeface="Arial"/>
                  <a:hlinkClick r:id="rId3"/>
                </a:rPr>
                <a:t>Гавайск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3081"/>
            <p:cNvSpPr/>
            <p:nvPr/>
          </p:nvSpPr>
          <p:spPr>
            <a:xfrm>
              <a:off x="3337200" y="3836520"/>
              <a:ext cx="2468520" cy="22878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99ff66"/>
                  </a:solidFill>
                  <a:uFillTx/>
                  <a:latin typeface="Arial"/>
                  <a:hlinkClick r:id="rId5"/>
                </a:rPr>
                <a:t>Пелейск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3082"/>
            <p:cNvSpPr/>
            <p:nvPr/>
          </p:nvSpPr>
          <p:spPr>
            <a:xfrm>
              <a:off x="6217560" y="3836520"/>
              <a:ext cx="2468520" cy="228780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99ff66"/>
                  </a:solidFill>
                  <a:uFillTx/>
                  <a:latin typeface="Arial"/>
                  <a:hlinkClick r:id="rId7"/>
                </a:rPr>
                <a:t>Везувианск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Black"/>
              </a:rPr>
              <a:t>Типы вулканических извержений: Гавайский тип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52" name="Гаваийские изыержения.wmv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11308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15"/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7000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vulcan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Black"/>
              </a:rPr>
              <a:t>Типы вулканических извержений: Пелейский тип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061640" y="541512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БОМБОМЕТАНИЕ» ВУЛК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7667640" y="6237360"/>
            <a:ext cx="1225440" cy="620640"/>
          </a:xfrm>
          <a:custGeom>
            <a:avLst/>
            <a:gdLst>
              <a:gd name="textAreaLeft" fmla="*/ 39960 w 1225440"/>
              <a:gd name="textAreaRight" fmla="*/ 1185480 w 1225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2637" h="21600">
                <a:moveTo>
                  <a:pt x="0" y="0"/>
                </a:moveTo>
                <a:lnTo>
                  <a:pt x="42637" y="0"/>
                </a:lnTo>
                <a:lnTo>
                  <a:pt x="42637" y="21600"/>
                </a:lnTo>
                <a:lnTo>
                  <a:pt x="0" y="21600"/>
                </a:lnTo>
                <a:close/>
              </a:path>
              <a:path fill="lightenLess" w="42637" h="21600">
                <a:moveTo>
                  <a:pt x="0" y="0"/>
                </a:moveTo>
                <a:lnTo>
                  <a:pt x="42637" y="0"/>
                </a:lnTo>
                <a:lnTo>
                  <a:pt x="41237" y="1400"/>
                </a:lnTo>
                <a:lnTo>
                  <a:pt x="1400" y="1400"/>
                </a:lnTo>
                <a:close/>
              </a:path>
              <a:path fill="darken" w="42637" h="21600">
                <a:moveTo>
                  <a:pt x="42637" y="0"/>
                </a:moveTo>
                <a:lnTo>
                  <a:pt x="42637" y="21600"/>
                </a:lnTo>
                <a:lnTo>
                  <a:pt x="41237" y="20200"/>
                </a:lnTo>
                <a:lnTo>
                  <a:pt x="41237" y="1400"/>
                </a:lnTo>
                <a:close/>
              </a:path>
              <a:path fill="darkenLess" w="42637" h="21600">
                <a:moveTo>
                  <a:pt x="4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237" y="20200"/>
                </a:lnTo>
                <a:close/>
              </a:path>
              <a:path fill="lighten" w="4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637" h="21600">
                <a:moveTo>
                  <a:pt x="17819" y="10800"/>
                </a:moveTo>
                <a:lnTo>
                  <a:pt x="28325" y="3794"/>
                </a:lnTo>
                <a:lnTo>
                  <a:pt x="28325" y="17806"/>
                </a:lnTo>
                <a:close/>
              </a:path>
              <a:path fill="darken" w="42637" h="21600">
                <a:moveTo>
                  <a:pt x="14312" y="3794"/>
                </a:moveTo>
                <a:lnTo>
                  <a:pt x="15974" y="3794"/>
                </a:lnTo>
                <a:lnTo>
                  <a:pt x="15974" y="17806"/>
                </a:lnTo>
                <a:lnTo>
                  <a:pt x="1431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250920" y="6453360"/>
            <a:ext cx="7345440" cy="404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izmaylovo.ru/wiki/geo/detail.php?ID=26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50560" y="-5300280"/>
            <a:ext cx="136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Text Box 4"/>
          <p:cNvSpPr/>
          <p:nvPr/>
        </p:nvSpPr>
        <p:spPr>
          <a:xfrm>
            <a:off x="4896000" y="260280"/>
            <a:ext cx="424800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езувий зев открыл – дым хлынул клубом – пла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Широко развилось, как боевое зна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Земля волнуется – с шатнувшихся колон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Кумиры падают! Народ, гонимый страх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Толпами, стар и млад, под воспалённым прах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од каменным дождём бежит из града в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(А.С. Пушки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451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Типы вулканическ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звержений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езувианский ти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Beethoven's Symphony No. 9 (Scherzo).wma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7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ео и музыка Вулканы\VTS_03_2.V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Oval 9"/>
          <p:cNvSpPr/>
          <p:nvPr/>
        </p:nvSpPr>
        <p:spPr>
          <a:xfrm>
            <a:off x="1332000" y="5950080"/>
            <a:ext cx="6840360" cy="907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ые извержения Вулк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75742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илауэа (Килауэ) на Гавайя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68" name="Picture 3" descr="Извержение вулкана - захватывающее зрелище. // Mignews.com"/>
          <p:cNvPicPr/>
          <p:nvPr/>
        </p:nvPicPr>
        <p:blipFill>
          <a:blip r:embed="rId2"/>
          <a:stretch/>
        </p:blipFill>
        <p:spPr>
          <a:xfrm>
            <a:off x="900000" y="1268280"/>
            <a:ext cx="7056720" cy="4969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2411280" y="6381720"/>
            <a:ext cx="51483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travel.ru/news/2007/05/25/110002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нство вулканов Земли сосредоточено на островах и берегах самого древнего из океанов – Тихого. Если внимательно посмотреть на карту, то можно заметить, что они как бы кольцом окружают океан. Самые мощные и разрушительные извержения вулканов и землетрясения наблюдались именно в этом районе: Сан-Франциско (1960), Токио (1923), Чили (1960), Мехико (1985)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571" name="Object 3"/>
          <p:cNvGraphicFramePr/>
          <p:nvPr/>
        </p:nvGraphicFramePr>
        <p:xfrm>
          <a:off x="250920" y="1773360"/>
          <a:ext cx="8497800" cy="508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73360"/>
                    <a:ext cx="84978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Вулкан Килиманджар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79280" y="0"/>
            <a:ext cx="8964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авьте с ключевыми словами расск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г ог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а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зу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ихоокеанское огненное кольц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авьте логические цепоч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г огня ------……..--------…..------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ава-----……….---------………-------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атер-----……..--------………--------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зувий-------……..--------…….------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ихоокеанское огненное кольцо ------…...------.......-------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 Black"/>
              </a:rPr>
              <a:t>Цели и задачи урока 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Сформировать знания о вулканах и вулканических извержениях как опасных природных явл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Сформировать представления о разнообразии вулканических извержений, видах и типах вулк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Сформировать знания о районах распространения вулканов в ми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img 5"/>
          <p:cNvPicPr/>
          <p:nvPr/>
        </p:nvPicPr>
        <p:blipFill>
          <a:blip r:embed="rId1"/>
          <a:stretch/>
        </p:blipFill>
        <p:spPr>
          <a:xfrm>
            <a:off x="179280" y="1197000"/>
            <a:ext cx="8964720" cy="56610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7921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улкан-это геологическое образование, возникающее над трещинами в земной коре и по форме напоминающее конусообразную го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то такое вулкан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?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(Стр. 61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3743280" y="5373720"/>
            <a:ext cx="540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еримской мифологии слово «вулкан» означает – Бог ог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5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82600"/>
            <a:ext cx="838512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0" i="1" lang="ru-RU" sz="4400" spc="-1" strike="noStrike">
                <a:solidFill>
                  <a:srgbClr val="ff0000"/>
                </a:solidFill>
                <a:latin typeface="Arial Black"/>
              </a:rPr>
              <a:t>ЭЛЕМЕНТЫ ВУЛКА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487" name="Picture 3" descr="схема  строения  куполовидного  вулкана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609480" y="1600200"/>
            <a:ext cx="1447920" cy="457200"/>
          </a:xfrm>
          <a:prstGeom prst="wedgeRoundRectCallout">
            <a:avLst>
              <a:gd name="adj1" fmla="val 34208"/>
              <a:gd name="adj2" fmla="val 151736"/>
              <a:gd name="adj3" fmla="val 16667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УП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2666880" y="1828800"/>
            <a:ext cx="1752840" cy="762120"/>
          </a:xfrm>
          <a:prstGeom prst="wedgeRoundRectCallout">
            <a:avLst>
              <a:gd name="adj1" fmla="val -81791"/>
              <a:gd name="adj2" fmla="val 167499"/>
              <a:gd name="adj3" fmla="val 16667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ЛАВО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ОБ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4572000" y="2514600"/>
            <a:ext cx="1447920" cy="1066680"/>
          </a:xfrm>
          <a:prstGeom prst="wedgeRoundRectCallout">
            <a:avLst>
              <a:gd name="adj1" fmla="val 54935"/>
              <a:gd name="adj2" fmla="val 21726"/>
              <a:gd name="adj3" fmla="val 16667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ЛО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ЕПЛА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ШЛ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6934320" y="1371600"/>
            <a:ext cx="1371600" cy="457200"/>
          </a:xfrm>
          <a:prstGeom prst="wedgeRoundRectCallout">
            <a:avLst>
              <a:gd name="adj1" fmla="val -38888"/>
              <a:gd name="adj2" fmla="val 273263"/>
              <a:gd name="adj3" fmla="val 16667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роение  вулкана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( внешнее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3" name="Picture 3" descr="строение  вулкана"/>
          <p:cNvPicPr/>
          <p:nvPr/>
        </p:nvPicPr>
        <p:blipFill>
          <a:blip r:embed="rId1"/>
          <a:srcRect l="13818" t="0" r="8555" b="0"/>
          <a:stretch/>
        </p:blipFill>
        <p:spPr>
          <a:xfrm>
            <a:off x="0" y="1989000"/>
            <a:ext cx="9144000" cy="4343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94" name="Freeform 4"/>
          <p:cNvSpPr/>
          <p:nvPr/>
        </p:nvSpPr>
        <p:spPr>
          <a:xfrm>
            <a:off x="2590920" y="4051440"/>
            <a:ext cx="1922400" cy="290520"/>
          </a:xfrm>
          <a:prstGeom prst="pie">
            <a:avLst/>
          </a:prstGeom>
          <a:noFill/>
          <a:ln cap="sq"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5"/>
          <p:cNvSpPr/>
          <p:nvPr/>
        </p:nvSpPr>
        <p:spPr>
          <a:xfrm flipH="1">
            <a:off x="3657240" y="3137040"/>
            <a:ext cx="762120" cy="761760"/>
          </a:xfrm>
          <a:prstGeom prst="line">
            <a:avLst/>
          </a:prstGeom>
          <a:ln cap="sq" w="57240">
            <a:solidFill>
              <a:srgbClr val="33cc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4573080" y="28195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ра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reeform 7"/>
          <p:cNvSpPr/>
          <p:nvPr/>
        </p:nvSpPr>
        <p:spPr>
          <a:xfrm>
            <a:off x="457200" y="4356000"/>
            <a:ext cx="1981080" cy="1028880"/>
          </a:xfrm>
          <a:prstGeom prst="pie">
            <a:avLst/>
          </a:prstGeom>
          <a:noFill/>
          <a:ln cap="sq"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1066680" y="3289320"/>
            <a:ext cx="609840" cy="1295280"/>
          </a:xfrm>
          <a:prstGeom prst="line">
            <a:avLst/>
          </a:prstGeom>
          <a:ln cap="sq" w="57240">
            <a:solidFill>
              <a:srgbClr val="33cc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230400" y="274320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Конус  вулк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0"/>
          <p:cNvSpPr/>
          <p:nvPr/>
        </p:nvSpPr>
        <p:spPr>
          <a:xfrm>
            <a:off x="1981080" y="5727600"/>
            <a:ext cx="586080" cy="444600"/>
          </a:xfrm>
          <a:prstGeom prst="pie">
            <a:avLst/>
          </a:prstGeom>
          <a:noFill/>
          <a:ln cap="sq" w="2844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2590920" y="5956200"/>
            <a:ext cx="990360" cy="0"/>
          </a:xfrm>
          <a:prstGeom prst="line">
            <a:avLst/>
          </a:prstGeom>
          <a:ln cap="sq" w="57240">
            <a:solidFill>
              <a:srgbClr val="33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3643200" y="56926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оковой  кра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Freeform 13"/>
          <p:cNvSpPr/>
          <p:nvPr/>
        </p:nvSpPr>
        <p:spPr>
          <a:xfrm>
            <a:off x="4572000" y="4221000"/>
            <a:ext cx="4176720" cy="194472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4"/>
          <p:cNvSpPr/>
          <p:nvPr/>
        </p:nvSpPr>
        <p:spPr>
          <a:xfrm flipH="1">
            <a:off x="6443640" y="3716280"/>
            <a:ext cx="1224000" cy="144144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7885080" y="350028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Л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УТРЕННЕЕ СТРОЕНИЕ ВУЛК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Picture 3" descr="Вулкан"/>
          <p:cNvPicPr/>
          <p:nvPr/>
        </p:nvPicPr>
        <p:blipFill>
          <a:blip r:embed="rId1"/>
          <a:srcRect l="13082" t="0" r="0" b="0"/>
          <a:stretch/>
        </p:blipFill>
        <p:spPr>
          <a:xfrm>
            <a:off x="0" y="8380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4"/>
          <p:cNvSpPr/>
          <p:nvPr/>
        </p:nvSpPr>
        <p:spPr>
          <a:xfrm>
            <a:off x="3962520" y="762120"/>
            <a:ext cx="3047760" cy="761760"/>
          </a:xfrm>
          <a:prstGeom prst="wedgeRoundRectCallout">
            <a:avLst>
              <a:gd name="adj1" fmla="val -74217"/>
              <a:gd name="adj2" fmla="val 272500"/>
              <a:gd name="adj3" fmla="val 16667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Р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УЛК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7086600" y="914400"/>
            <a:ext cx="2057400" cy="838080"/>
          </a:xfrm>
          <a:prstGeom prst="wedgeRoundRectCallout">
            <a:avLst>
              <a:gd name="adj1" fmla="val -67050"/>
              <a:gd name="adj2" fmla="val 46023"/>
              <a:gd name="adj3" fmla="val 16667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КО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7"/>
          <p:cNvSpPr/>
          <p:nvPr/>
        </p:nvSpPr>
        <p:spPr>
          <a:xfrm>
            <a:off x="1447920" y="5867280"/>
            <a:ext cx="2209680" cy="762120"/>
          </a:xfrm>
          <a:prstGeom prst="wedgeRoundRectCallout">
            <a:avLst>
              <a:gd name="adj1" fmla="val 6467"/>
              <a:gd name="adj2" fmla="val -133541"/>
              <a:gd name="adj3" fmla="val 16667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Г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3" name="Organization Chart 6"/>
          <p:cNvGrpSpPr/>
          <p:nvPr/>
        </p:nvGrpSpPr>
        <p:grpSpPr>
          <a:xfrm>
            <a:off x="457200" y="836640"/>
            <a:ext cx="8228880" cy="5288040"/>
            <a:chOff x="457200" y="836640"/>
            <a:chExt cx="8228880" cy="5288040"/>
          </a:xfrm>
        </p:grpSpPr>
        <p:cxnSp>
          <p:nvCxnSpPr>
            <p:cNvPr id="514" name="_s1028"/>
            <p:cNvCxnSpPr>
              <a:stCxn id="515" idx="0"/>
              <a:endCxn id="516" idx="2"/>
            </p:cNvCxnSpPr>
            <p:nvPr/>
          </p:nvCxnSpPr>
          <p:spPr>
            <a:xfrm flipV="1" rot="16200000">
              <a:off x="5484960" y="2039760"/>
              <a:ext cx="1053000" cy="2880720"/>
            </a:xfrm>
            <a:prstGeom prst="bentConnector3">
              <a:avLst>
                <a:gd name="adj1" fmla="val 108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7" name="_s1029"/>
            <p:cNvCxnSpPr>
              <a:stCxn id="518" idx="0"/>
              <a:endCxn id="516" idx="2"/>
            </p:cNvCxnSpPr>
            <p:nvPr/>
          </p:nvCxnSpPr>
          <p:spPr>
            <a:xfrm flipV="1">
              <a:off x="4571280" y="2953800"/>
              <a:ext cx="3240" cy="105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9" name="_s1030"/>
            <p:cNvCxnSpPr>
              <a:stCxn id="520" idx="0"/>
              <a:endCxn id="516" idx="2"/>
            </p:cNvCxnSpPr>
            <p:nvPr/>
          </p:nvCxnSpPr>
          <p:spPr>
            <a:xfrm flipH="1" flipV="1" rot="5400000">
              <a:off x="2604960" y="2040120"/>
              <a:ext cx="1053000" cy="2880720"/>
            </a:xfrm>
            <a:prstGeom prst="bentConnector3">
              <a:avLst>
                <a:gd name="adj1" fmla="val 108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16" name="_s1031"/>
            <p:cNvSpPr/>
            <p:nvPr/>
          </p:nvSpPr>
          <p:spPr>
            <a:xfrm>
              <a:off x="3337200" y="836640"/>
              <a:ext cx="2468520" cy="211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вулкано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_s1032"/>
            <p:cNvSpPr/>
            <p:nvPr/>
          </p:nvSpPr>
          <p:spPr>
            <a:xfrm>
              <a:off x="457200" y="4006800"/>
              <a:ext cx="2468520" cy="211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ействующ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_s1033"/>
            <p:cNvSpPr/>
            <p:nvPr/>
          </p:nvSpPr>
          <p:spPr>
            <a:xfrm>
              <a:off x="3337200" y="4006800"/>
              <a:ext cx="2468520" cy="211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тухш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_s1034"/>
            <p:cNvSpPr/>
            <p:nvPr/>
          </p:nvSpPr>
          <p:spPr>
            <a:xfrm>
              <a:off x="6217560" y="4006800"/>
              <a:ext cx="2468520" cy="211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снувш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324000" y="701640"/>
            <a:ext cx="8569080" cy="62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йдите на карте полушарий вулкан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илиманджа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Везу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йдите на физической карте Росси вулкан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Эльб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азб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лючевская Со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кие из этих вулканов действующие, а какие потухш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к вы это определи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Organization Chart 5"/>
          <p:cNvGrpSpPr/>
          <p:nvPr/>
        </p:nvGrpSpPr>
        <p:grpSpPr>
          <a:xfrm>
            <a:off x="395280" y="476280"/>
            <a:ext cx="8228880" cy="6046560"/>
            <a:chOff x="395280" y="476280"/>
            <a:chExt cx="8228880" cy="6046560"/>
          </a:xfrm>
        </p:grpSpPr>
        <p:cxnSp>
          <p:nvCxnSpPr>
            <p:cNvPr id="526" name="_s2052"/>
            <p:cNvCxnSpPr>
              <a:stCxn id="527" idx="0"/>
              <a:endCxn id="528" idx="2"/>
            </p:cNvCxnSpPr>
            <p:nvPr/>
          </p:nvCxnSpPr>
          <p:spPr>
            <a:xfrm flipV="1" rot="16200000">
              <a:off x="5344560" y="2058480"/>
              <a:ext cx="1209960" cy="288072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9" name="_s2053"/>
            <p:cNvCxnSpPr>
              <a:stCxn id="530" idx="0"/>
              <a:endCxn id="528" idx="2"/>
            </p:cNvCxnSpPr>
            <p:nvPr/>
          </p:nvCxnSpPr>
          <p:spPr>
            <a:xfrm flipV="1">
              <a:off x="4509360" y="2894040"/>
              <a:ext cx="3240" cy="1209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1" name="_s2054"/>
            <p:cNvCxnSpPr>
              <a:stCxn id="532" idx="0"/>
              <a:endCxn id="528" idx="2"/>
            </p:cNvCxnSpPr>
            <p:nvPr/>
          </p:nvCxnSpPr>
          <p:spPr>
            <a:xfrm flipH="1" flipV="1" rot="5400000">
              <a:off x="2464560" y="2058840"/>
              <a:ext cx="1209960" cy="2880720"/>
            </a:xfrm>
            <a:prstGeom prst="bentConnector3">
              <a:avLst>
                <a:gd name="adj1" fmla="val 943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8" name="_s2055"/>
            <p:cNvSpPr/>
            <p:nvPr/>
          </p:nvSpPr>
          <p:spPr>
            <a:xfrm>
              <a:off x="3275280" y="476280"/>
              <a:ext cx="2468520" cy="2418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Типы вулкано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2056"/>
            <p:cNvSpPr/>
            <p:nvPr/>
          </p:nvSpPr>
          <p:spPr>
            <a:xfrm>
              <a:off x="395280" y="4104360"/>
              <a:ext cx="2468520" cy="2418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cc66"/>
                  </a:solidFill>
                  <a:uFillTx/>
                  <a:latin typeface="Arial"/>
                  <a:hlinkClick r:id="rId1" action="ppaction://hlinksldjump"/>
                </a:rPr>
                <a:t>Конусообразн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2057"/>
            <p:cNvSpPr/>
            <p:nvPr/>
          </p:nvSpPr>
          <p:spPr>
            <a:xfrm>
              <a:off x="3275280" y="4104360"/>
              <a:ext cx="2468520" cy="2418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cc66"/>
                  </a:solidFill>
                  <a:uFillTx/>
                  <a:latin typeface="Arial"/>
                  <a:hlinkClick r:id="rId2" action="ppaction://hlinksldjump"/>
                </a:rPr>
                <a:t>Щитообразн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2058"/>
            <p:cNvSpPr/>
            <p:nvPr/>
          </p:nvSpPr>
          <p:spPr>
            <a:xfrm>
              <a:off x="6155640" y="4104360"/>
              <a:ext cx="2468520" cy="24184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cc66"/>
                  </a:solidFill>
                  <a:uFillTx/>
                  <a:latin typeface="Arial"/>
                  <a:hlinkClick r:id="rId3" action="ppaction://hlinksldjump"/>
                </a:rPr>
                <a:t>Куполообразны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7:45:57Z</dcterms:created>
  <dc:creator>Мама</dc:creator>
  <dc:description/>
  <dc:language>en-US</dc:language>
  <cp:lastModifiedBy>COMP</cp:lastModifiedBy>
  <dcterms:modified xsi:type="dcterms:W3CDTF">2011-10-06T19:28:20Z</dcterms:modified>
  <cp:revision>2</cp:revision>
  <dc:subject/>
  <dc:title>Слайд 1</dc:title>
</cp:coreProperties>
</file>