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explode.wav" ContentType="audio/x-wav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E2E7-890B-40DB-A658-FB82ACAAE4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38C2-55F7-4A93-BCA6-4ABD7345D0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улканы  Камча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06F-AAEE-49B1-90CF-C92DC95D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F0B-0BED-4322-838F-4F49A177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AEEBD-DB19-4E7D-8F8B-8F712D7F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F86BF-C285-4063-899B-C54181A1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E96EA-7DEE-46EC-8271-8DF14290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D7E39-3D36-47D5-B3AB-A5F1EFCF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6232D-01C2-40E7-94BA-9F475AA3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4E4FB-B9D0-4F94-95F5-4F1F1A54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255CF-D4E6-4CC2-96C9-401B8528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9591C-07D9-4673-B762-21560939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0683C-522E-4F08-BD69-19ECF9FB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414-EDF0-4857-BE4C-752BFB21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83A-40B3-4DA0-92F2-134EF2F3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2596-5032-4A99-8449-3F064FD3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9F5A-221A-4291-8039-D1BF4C2A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7482-A157-4F61-8A96-21962A3A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FC6E-26F0-4988-9C10-83545159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8414-427F-45FA-ADF2-53EA083D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D730-7DA0-41A9-86F5-99F02A20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89EB-BE0E-4954-A9AD-68EF7CFE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661-49FA-4CDD-B501-53E8EA58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4A56-CAA5-4810-B1FE-89FFAFD0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8992-41B0-49FE-BA82-E4870AB3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269D-D0B7-4C48-8A49-3FB4C89A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021A-E781-4FA5-A3B2-12B5D4A8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4949-0F55-4F1F-BC69-B8F22F10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6840-BC7C-4896-A779-893F9207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C09A8-261B-45E5-BC5A-5388C7A7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88727-2CA2-48E6-9E4D-DC22E0A0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5A74-F1A1-43B6-A3ED-39F7067C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26D17-A703-4228-B3E8-11F34C97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482-66F9-4DA5-9EF1-C9AB8244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B88BD-A363-4E96-9FEA-3CEF6DC9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3BDC-2C7F-4242-8488-5C19C7EF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41106-AA93-459A-8414-93C8B584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6C305-12F7-4EF6-AE92-AE328AE7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42237-95A0-4BD5-8C6B-5D2B2B93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F94CF-2E74-4BA3-A8D0-B2A406EC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9691A-84F0-46F6-B1DC-4C6B1A96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25D1E-CBCC-4EB4-94BB-74358EDD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1F2DC-F6C9-4D5D-9F2A-61109146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9FA3B-B0F3-4262-9FF5-AA6B65DF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0FB-E293-4BCA-8991-6E77D2BB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CF621-116E-4CE7-ACF1-EAD0EFCF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51779-EAB6-4EDA-B049-60AA8C89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68084-5B66-4EC4-B843-47310F7D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92008-574F-40CF-AA17-1ED1386F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98FAE-9DC8-4050-B195-8750F06C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E519E-DBFC-4193-BDA4-BAAECD70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15A57-A08D-42D4-8CBE-D0C1F28F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F9E5F-3C65-479B-83C3-46E68D4C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8C63-EB2E-4D4A-93A5-FB67C5C4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B9B87-16DD-4073-B6DB-18860915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39A-B163-4035-A6D1-AE0FC590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7CEB4-13DC-4D8F-888B-78A27135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F96EA-7037-44CB-AEAD-3BB76DF2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EC05C-C93D-4B83-9B4A-5F217665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E90BA-C96A-4C5E-BED5-9DEDB765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129ED-B840-4459-9E5D-56826339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EAE57-9250-482A-A8C0-F15709D0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59B46-A738-4417-8729-728DF61C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6AB91-0D27-471C-A838-3E59F92B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23356-FD50-4E8D-ABFA-8BDBE74C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08E0D-A1B9-48A5-A233-019D65C5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40F-3832-4D2D-88D9-AB4A288C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EDFC7-1DC4-49D0-A856-42A291EF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A12C8-C824-4896-BFB7-F449633E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6919A-AD14-4B39-A593-381D44A3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525E75-C6A8-40B0-94FE-4A2E558A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C302B-4141-4CA3-BF69-F6028B2B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B046F-68F8-4731-8D20-ACEC6AC9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ED365-C53C-4476-8EDF-084774AF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77813A-476C-4320-BCD4-77F787FB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B8ABC-ECBA-4025-AF44-F8CBF533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5C091-953B-4035-A727-F6B4B193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ED1-0227-4E04-B812-78E0ECDA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B1693-6C93-40D1-A6B9-11FBE53B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CF749E-2BB5-4C39-8583-CD9A85A7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6936F-D608-41A8-BF11-39139208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3F8C1-6AE1-45FC-86DF-40726AF3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2E94D-76F1-409D-86D6-07E66B55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452EA-F1B7-4364-A6D2-9B2A938F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E4D5A-7720-49BA-968F-57138E14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FA936-57F3-4766-A380-1331AAA9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BC645-1A5C-4EEA-AE02-F3DE233B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F0049-9F16-4A47-99AB-6DBADDB9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EFA3-D230-42CB-949A-5294BDD6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8465A-329A-4183-955A-7ACC46E8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452AF-1584-44CB-9BC7-1EBA2EC8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7F2B3-83D1-4169-A8A1-1A9D9222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F26D0-E445-4848-8AE6-8CC580CC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675D0-58F6-406A-9641-ABE69430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1E7E8-7CCB-47F3-B7F1-048E4D9A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309A9-C6EC-4BC3-BA97-96AC70FE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F40D2-7CCC-4037-857F-2B2A9EC6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475A3-9999-409F-81A5-845010B5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38136-3B89-4E21-8690-E575E605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57A-33FC-4344-9A26-5911DEBF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95FF3-1339-43AC-860A-DD8DDE63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0E305-A1D8-4408-B215-5996A1A8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BA53D-2BDB-4AF1-8D38-5034642C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92A05-4730-458D-ADE5-981C9761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46FBF-D3C3-4E9B-8175-CA063AAB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FAFB2-E8AD-4FDC-B55D-BEFC1E3D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590BC-1B1D-4F63-AAF1-AEA0E739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3D65D-FA02-41E3-BB77-0C8AB7C0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55075-500E-43F6-8FD7-B838E194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9A4F5-0A59-4B14-B5F4-17CE4A8F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FC23-7B93-4697-9549-2D1C9295C7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BB04-BABC-465D-9E01-FDBB989D015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20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B7B6-E3A8-48EF-B5E8-A83083861E0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F93C-4ABA-4303-9695-AC7D9C248C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5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69D8-A061-4994-9E84-BFD3758986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AED8-4E06-4D27-9935-EB695BBA44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97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0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01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4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26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22E5-04EA-48F6-9994-46CBF499F15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7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A1F9-747C-4A16-8E78-E8D335A6B60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5278-0241-4AFD-AADC-D12846F4D8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www.izmaylovo.ru/wiki/geo/detail.php?ID=2686" TargetMode="External"/><Relationship Id="rId4" Type="http://schemas.openxmlformats.org/officeDocument/2006/relationships/image" Target="../media/image15.jpeg"/><Relationship Id="rId5" Type="http://schemas.openxmlformats.org/officeDocument/2006/relationships/hyperlink" Target="file:///&#1042;&#1080;&#1076;&#1077;&#1086;%20&#1080;%20&#1084;&#1091;&#1079;&#1099;&#1082;&#1072;%20&#1042;&#1091;&#1083;&#1082;&#1072;&#1085;&#1099;/VTS_03_2.VOB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www.travel.ru/news/2007/05/25/110002.html" TargetMode="External"/><Relationship Id="rId8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WordArt 5"/>
          <p:cNvSpPr txBox="1"/>
          <p:nvPr/>
        </p:nvSpPr>
        <p:spPr>
          <a:xfrm>
            <a:off x="324000" y="765000"/>
            <a:ext cx="882000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0033cc"/>
                    </a:gs>
                    <a:gs pos="100000">
                      <a:srgbClr val="ff006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66"/>
                  </a:gs>
                  <a:gs pos="50000">
                    <a:srgbClr val="0033cc"/>
                  </a:gs>
                  <a:gs pos="100000">
                    <a:srgbClr val="ff0066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Конусообразный</a:t>
            </a:r>
            <a:br>
              <a:rPr sz="3200"/>
            </a:b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вулкан  Ключевская  Сопка  (Камчатка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4" name="Picture 3" descr="Kliuchevskoi_big"/>
          <p:cNvPicPr/>
          <p:nvPr/>
        </p:nvPicPr>
        <p:blipFill>
          <a:blip r:embed="rId1"/>
          <a:stretch/>
        </p:blipFill>
        <p:spPr>
          <a:xfrm>
            <a:off x="533520" y="1981080"/>
            <a:ext cx="7848360" cy="483264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4"/>
          <p:cNvSpPr/>
          <p:nvPr/>
        </p:nvSpPr>
        <p:spPr>
          <a:xfrm>
            <a:off x="8028000" y="6308640"/>
            <a:ext cx="1116000" cy="549360"/>
          </a:xfrm>
          <a:custGeom>
            <a:avLst/>
            <a:gdLst>
              <a:gd name="textAreaLeft" fmla="*/ 35280 w 1116000"/>
              <a:gd name="textAreaRight" fmla="*/ 1080720 w 111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3865" h="21600">
                <a:moveTo>
                  <a:pt x="0" y="0"/>
                </a:moveTo>
                <a:lnTo>
                  <a:pt x="43865" y="0"/>
                </a:lnTo>
                <a:lnTo>
                  <a:pt x="43865" y="21600"/>
                </a:lnTo>
                <a:lnTo>
                  <a:pt x="0" y="21600"/>
                </a:lnTo>
                <a:close/>
              </a:path>
              <a:path fill="lightenLess" w="43865" h="21600">
                <a:moveTo>
                  <a:pt x="0" y="0"/>
                </a:moveTo>
                <a:lnTo>
                  <a:pt x="43865" y="0"/>
                </a:lnTo>
                <a:lnTo>
                  <a:pt x="42465" y="1400"/>
                </a:lnTo>
                <a:lnTo>
                  <a:pt x="1400" y="1400"/>
                </a:lnTo>
                <a:close/>
              </a:path>
              <a:path fill="darken" w="43865" h="21600">
                <a:moveTo>
                  <a:pt x="43865" y="0"/>
                </a:moveTo>
                <a:lnTo>
                  <a:pt x="43865" y="21600"/>
                </a:lnTo>
                <a:lnTo>
                  <a:pt x="42465" y="20200"/>
                </a:lnTo>
                <a:lnTo>
                  <a:pt x="42465" y="1400"/>
                </a:lnTo>
                <a:close/>
              </a:path>
              <a:path fill="darkenLess" w="43865" h="21600">
                <a:moveTo>
                  <a:pt x="43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65" y="20200"/>
                </a:lnTo>
                <a:close/>
              </a:path>
              <a:path fill="lighten" w="43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865" h="21600">
                <a:moveTo>
                  <a:pt x="25431" y="10800"/>
                </a:moveTo>
                <a:lnTo>
                  <a:pt x="14926" y="17806"/>
                </a:lnTo>
                <a:lnTo>
                  <a:pt x="14926" y="3794"/>
                </a:lnTo>
                <a:close/>
              </a:path>
              <a:path fill="darken" w="43865" h="21600">
                <a:moveTo>
                  <a:pt x="27276" y="3794"/>
                </a:moveTo>
                <a:lnTo>
                  <a:pt x="27276" y="17806"/>
                </a:lnTo>
                <a:lnTo>
                  <a:pt x="28939" y="17806"/>
                </a:lnTo>
                <a:lnTo>
                  <a:pt x="28939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Щитообразный</a:t>
            </a:r>
            <a:br>
              <a:rPr sz="3200"/>
            </a:b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вулкан  Килауэа  ( Гаваи 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7" name="Picture 3" descr="вулкан  гавайского  типа(Килауэа)"/>
          <p:cNvPicPr/>
          <p:nvPr/>
        </p:nvPicPr>
        <p:blipFill>
          <a:blip r:embed="rId1"/>
          <a:stretch/>
        </p:blipFill>
        <p:spPr>
          <a:xfrm>
            <a:off x="900000" y="2209680"/>
            <a:ext cx="7543800" cy="464832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4"/>
          <p:cNvSpPr/>
          <p:nvPr/>
        </p:nvSpPr>
        <p:spPr>
          <a:xfrm>
            <a:off x="8028000" y="6308640"/>
            <a:ext cx="1116000" cy="549360"/>
          </a:xfrm>
          <a:custGeom>
            <a:avLst/>
            <a:gdLst>
              <a:gd name="textAreaLeft" fmla="*/ 35280 w 1116000"/>
              <a:gd name="textAreaRight" fmla="*/ 1080720 w 111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3865" h="21600">
                <a:moveTo>
                  <a:pt x="0" y="0"/>
                </a:moveTo>
                <a:lnTo>
                  <a:pt x="43865" y="0"/>
                </a:lnTo>
                <a:lnTo>
                  <a:pt x="43865" y="21600"/>
                </a:lnTo>
                <a:lnTo>
                  <a:pt x="0" y="21600"/>
                </a:lnTo>
                <a:close/>
              </a:path>
              <a:path fill="lightenLess" w="43865" h="21600">
                <a:moveTo>
                  <a:pt x="0" y="0"/>
                </a:moveTo>
                <a:lnTo>
                  <a:pt x="43865" y="0"/>
                </a:lnTo>
                <a:lnTo>
                  <a:pt x="42465" y="1400"/>
                </a:lnTo>
                <a:lnTo>
                  <a:pt x="1400" y="1400"/>
                </a:lnTo>
                <a:close/>
              </a:path>
              <a:path fill="darken" w="43865" h="21600">
                <a:moveTo>
                  <a:pt x="43865" y="0"/>
                </a:moveTo>
                <a:lnTo>
                  <a:pt x="43865" y="21600"/>
                </a:lnTo>
                <a:lnTo>
                  <a:pt x="42465" y="20200"/>
                </a:lnTo>
                <a:lnTo>
                  <a:pt x="42465" y="1400"/>
                </a:lnTo>
                <a:close/>
              </a:path>
              <a:path fill="darkenLess" w="43865" h="21600">
                <a:moveTo>
                  <a:pt x="43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65" y="20200"/>
                </a:lnTo>
                <a:close/>
              </a:path>
              <a:path fill="lighten" w="43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865" h="21600">
                <a:moveTo>
                  <a:pt x="25431" y="10800"/>
                </a:moveTo>
                <a:lnTo>
                  <a:pt x="14926" y="17806"/>
                </a:lnTo>
                <a:lnTo>
                  <a:pt x="14926" y="3794"/>
                </a:lnTo>
                <a:close/>
              </a:path>
              <a:path fill="darken" w="43865" h="21600">
                <a:moveTo>
                  <a:pt x="27276" y="3794"/>
                </a:moveTo>
                <a:lnTo>
                  <a:pt x="27276" y="17806"/>
                </a:lnTo>
                <a:lnTo>
                  <a:pt x="28939" y="17806"/>
                </a:lnTo>
                <a:lnTo>
                  <a:pt x="28939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Куполообразный</a:t>
            </a:r>
            <a:br>
              <a:rPr sz="3200"/>
            </a:b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вулкан Пай  де Дум  ( Франция 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40" name="Picture 3" descr="куполовидный  вулкан(юг  Франции)"/>
          <p:cNvPicPr/>
          <p:nvPr/>
        </p:nvPicPr>
        <p:blipFill>
          <a:blip r:embed="rId1"/>
          <a:stretch/>
        </p:blipFill>
        <p:spPr>
          <a:xfrm>
            <a:off x="1042920" y="2209680"/>
            <a:ext cx="7543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3" name="Organization Chart 6"/>
          <p:cNvGrpSpPr/>
          <p:nvPr/>
        </p:nvGrpSpPr>
        <p:grpSpPr>
          <a:xfrm>
            <a:off x="457200" y="404640"/>
            <a:ext cx="8228880" cy="5719680"/>
            <a:chOff x="457200" y="404640"/>
            <a:chExt cx="8228880" cy="5719680"/>
          </a:xfrm>
        </p:grpSpPr>
        <p:cxnSp>
          <p:nvCxnSpPr>
            <p:cNvPr id="544" name="_s3076"/>
            <p:cNvCxnSpPr>
              <a:stCxn id="545" idx="0"/>
              <a:endCxn id="546" idx="2"/>
            </p:cNvCxnSpPr>
            <p:nvPr/>
          </p:nvCxnSpPr>
          <p:spPr>
            <a:xfrm flipV="1" rot="16200000">
              <a:off x="5439240" y="1823400"/>
              <a:ext cx="1144440" cy="2880720"/>
            </a:xfrm>
            <a:prstGeom prst="bentConnector3">
              <a:avLst>
                <a:gd name="adj1" fmla="val 997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7" name="_s3077"/>
            <p:cNvCxnSpPr>
              <a:stCxn id="548" idx="0"/>
              <a:endCxn id="546" idx="2"/>
            </p:cNvCxnSpPr>
            <p:nvPr/>
          </p:nvCxnSpPr>
          <p:spPr>
            <a:xfrm flipV="1">
              <a:off x="4571280" y="2691720"/>
              <a:ext cx="3240" cy="114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9" name="_s3078"/>
            <p:cNvCxnSpPr>
              <a:stCxn id="550" idx="0"/>
              <a:endCxn id="546" idx="2"/>
            </p:cNvCxnSpPr>
            <p:nvPr/>
          </p:nvCxnSpPr>
          <p:spPr>
            <a:xfrm flipH="1" flipV="1" rot="5400000">
              <a:off x="2559240" y="1823760"/>
              <a:ext cx="1144440" cy="2880720"/>
            </a:xfrm>
            <a:prstGeom prst="bentConnector3">
              <a:avLst>
                <a:gd name="adj1" fmla="val 997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6" name="_s3079"/>
            <p:cNvSpPr/>
            <p:nvPr/>
          </p:nvSpPr>
          <p:spPr>
            <a:xfrm>
              <a:off x="3337200" y="404640"/>
              <a:ext cx="2468520" cy="2287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ипы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улканических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звержен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3080"/>
            <p:cNvSpPr/>
            <p:nvPr/>
          </p:nvSpPr>
          <p:spPr>
            <a:xfrm>
              <a:off x="457200" y="3836520"/>
              <a:ext cx="2468520" cy="2287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99ff66"/>
                  </a:solidFill>
                  <a:uFillTx/>
                  <a:latin typeface="Arial"/>
                  <a:hlinkClick r:id="rId3"/>
                </a:rPr>
                <a:t>Гавайск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_s3081"/>
            <p:cNvSpPr/>
            <p:nvPr/>
          </p:nvSpPr>
          <p:spPr>
            <a:xfrm>
              <a:off x="3337200" y="3836520"/>
              <a:ext cx="2468520" cy="22878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 u="sng">
                  <a:solidFill>
                    <a:srgbClr val="99ff66"/>
                  </a:solidFill>
                  <a:uFillTx/>
                  <a:latin typeface="Arial"/>
                  <a:hlinkClick r:id="rId5"/>
                </a:rPr>
                <a:t>Пелейск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3082"/>
            <p:cNvSpPr/>
            <p:nvPr/>
          </p:nvSpPr>
          <p:spPr>
            <a:xfrm>
              <a:off x="6217560" y="3836520"/>
              <a:ext cx="2468520" cy="228780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 u="sng">
                  <a:solidFill>
                    <a:srgbClr val="99ff66"/>
                  </a:solidFill>
                  <a:uFillTx/>
                  <a:latin typeface="Arial"/>
                  <a:hlinkClick r:id="rId7"/>
                </a:rPr>
                <a:t>Везувианск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 Black"/>
              </a:rPr>
              <a:t>Типы вулканических извержений: Гавайский тип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52" name="Гаваийские изыержения.wmv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5113080"/>
          </a:xfrm>
          <a:prstGeom prst="rect">
            <a:avLst/>
          </a:prstGeom>
          <a:ln w="0">
            <a:noFill/>
          </a:ln>
        </p:spPr>
      </p:pic>
      <p:sp>
        <p:nvSpPr>
          <p:cNvPr id="553" name="AutoShape 15"/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47000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vulcan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Black"/>
              </a:rPr>
              <a:t>Типы вулканических извержений: Пелейский тип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061640" y="5415120"/>
            <a:ext cx="67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БОМБОМЕТАНИЕ»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7667640" y="6237360"/>
            <a:ext cx="1225440" cy="620640"/>
          </a:xfrm>
          <a:custGeom>
            <a:avLst/>
            <a:gdLst>
              <a:gd name="textAreaLeft" fmla="*/ 39960 w 1225440"/>
              <a:gd name="textAreaRight" fmla="*/ 1185480 w 12254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2637" h="21600">
                <a:moveTo>
                  <a:pt x="0" y="0"/>
                </a:moveTo>
                <a:lnTo>
                  <a:pt x="42637" y="0"/>
                </a:lnTo>
                <a:lnTo>
                  <a:pt x="42637" y="21600"/>
                </a:lnTo>
                <a:lnTo>
                  <a:pt x="0" y="21600"/>
                </a:lnTo>
                <a:close/>
              </a:path>
              <a:path fill="lightenLess" w="42637" h="21600">
                <a:moveTo>
                  <a:pt x="0" y="0"/>
                </a:moveTo>
                <a:lnTo>
                  <a:pt x="42637" y="0"/>
                </a:lnTo>
                <a:lnTo>
                  <a:pt x="41237" y="1400"/>
                </a:lnTo>
                <a:lnTo>
                  <a:pt x="1400" y="1400"/>
                </a:lnTo>
                <a:close/>
              </a:path>
              <a:path fill="darken" w="42637" h="21600">
                <a:moveTo>
                  <a:pt x="42637" y="0"/>
                </a:moveTo>
                <a:lnTo>
                  <a:pt x="42637" y="21600"/>
                </a:lnTo>
                <a:lnTo>
                  <a:pt x="41237" y="20200"/>
                </a:lnTo>
                <a:lnTo>
                  <a:pt x="41237" y="1400"/>
                </a:lnTo>
                <a:close/>
              </a:path>
              <a:path fill="darkenLess" w="42637" h="21600">
                <a:moveTo>
                  <a:pt x="4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237" y="20200"/>
                </a:lnTo>
                <a:close/>
              </a:path>
              <a:path fill="lighten" w="4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637" h="21600">
                <a:moveTo>
                  <a:pt x="17819" y="10800"/>
                </a:moveTo>
                <a:lnTo>
                  <a:pt x="28325" y="3794"/>
                </a:lnTo>
                <a:lnTo>
                  <a:pt x="28325" y="17806"/>
                </a:lnTo>
                <a:close/>
              </a:path>
              <a:path fill="darken" w="42637" h="21600">
                <a:moveTo>
                  <a:pt x="14312" y="3794"/>
                </a:moveTo>
                <a:lnTo>
                  <a:pt x="15974" y="3794"/>
                </a:lnTo>
                <a:lnTo>
                  <a:pt x="15974" y="17806"/>
                </a:lnTo>
                <a:lnTo>
                  <a:pt x="1431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250920" y="6453360"/>
            <a:ext cx="7345440" cy="404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izmaylovo.ru/wiki/geo/detail.php?ID=268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50560" y="-5300280"/>
            <a:ext cx="136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Text Box 4"/>
          <p:cNvSpPr/>
          <p:nvPr/>
        </p:nvSpPr>
        <p:spPr>
          <a:xfrm>
            <a:off x="4896000" y="260280"/>
            <a:ext cx="4248000" cy="63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езувий зев открыл – дым хлынул клубом – пла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Широко развилось, как боевое знам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Земля волнуется – с шатнувшихся колон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умиры падают! Народ, гонимый страх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Толпами, стар и млад, под воспалённым прах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Под каменным дождём бежит из града в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(А.С. Пушки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451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Типы вулканическ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звержений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езувианский 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Beethoven's Symphony No. 9 (Scherzo).wma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7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ео и музыка Вулканы\VTS_03_2.V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Oval 9"/>
          <p:cNvSpPr/>
          <p:nvPr/>
        </p:nvSpPr>
        <p:spPr>
          <a:xfrm>
            <a:off x="1332000" y="5950080"/>
            <a:ext cx="6840360" cy="907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ые извержения Вулк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75742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илауэа (Килауэ) на Гавайя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68" name="Picture 3" descr="Извержение вулкана - захватывающее зрелище. // Mignews.com"/>
          <p:cNvPicPr/>
          <p:nvPr/>
        </p:nvPicPr>
        <p:blipFill>
          <a:blip r:embed="rId2"/>
          <a:stretch/>
        </p:blipFill>
        <p:spPr>
          <a:xfrm>
            <a:off x="900000" y="1268280"/>
            <a:ext cx="7056720" cy="49690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4"/>
          <p:cNvSpPr/>
          <p:nvPr/>
        </p:nvSpPr>
        <p:spPr>
          <a:xfrm>
            <a:off x="2411280" y="6381720"/>
            <a:ext cx="51483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travel.ru/news/2007/05/25/110002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инство вулканов Земли сосредоточено на островах и берегах самого древнего из океанов – Тихого. Если внимательно посмотреть на карту, то можно заметить, что они как бы кольцом окружают океан. Самые мощные и разрушительные извержения вулканов и землетрясения наблюдались именно в этом районе: Сан-Франциско (1960), Токио (1923), Чили (1960), Мехико (1985)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571" name="Object 3"/>
          <p:cNvGraphicFramePr/>
          <p:nvPr/>
        </p:nvGraphicFramePr>
        <p:xfrm>
          <a:off x="250920" y="1773360"/>
          <a:ext cx="8497800" cy="508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73360"/>
                    <a:ext cx="849780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Вулкан Килиманджар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79280" y="0"/>
            <a:ext cx="8964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ставьте с ключевыми словами расск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г ог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а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зу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ихоокеанское огненное кольц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ставьте логические цепоч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г огня ------……..--------…..------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ава-----……….---------………-------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атер-----……..--------………--------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зувий-------……..--------…….------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ихоокеанское огненное кольцо ------…...------.......-------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5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5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 Black"/>
              </a:rPr>
              <a:t>Цели и задачи урока 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Сформировать знания о вулканах и вулканических извержениях как опасных природных явл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Сформировать представления о разнообразии вулканических извержений, видах и типах вулк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Сформировать знания о районах распространения вулканов в ми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img 5"/>
          <p:cNvPicPr/>
          <p:nvPr/>
        </p:nvPicPr>
        <p:blipFill>
          <a:blip r:embed="rId1"/>
          <a:stretch/>
        </p:blipFill>
        <p:spPr>
          <a:xfrm>
            <a:off x="179280" y="1197000"/>
            <a:ext cx="8964720" cy="56610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7921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улкан-это геологическое образование, возникающее над трещинами в земной коре и по форме напоминающее конусообразную го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то такое вулкан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?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(Стр. 61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3743280" y="5373720"/>
            <a:ext cx="540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5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еримской мифологии слово «вулкан» означает – Бог ог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5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82600"/>
            <a:ext cx="838512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0" i="1" lang="ru-RU" sz="4400" spc="-1" strike="noStrike">
                <a:solidFill>
                  <a:srgbClr val="ff0000"/>
                </a:solidFill>
                <a:latin typeface="Arial Black"/>
              </a:rPr>
              <a:t>ЭЛЕМЕНТЫ ВУЛКА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487" name="Picture 3" descr="схема  строения  куполовидного  вулкана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609480" y="1600200"/>
            <a:ext cx="1447920" cy="457200"/>
          </a:xfrm>
          <a:prstGeom prst="wedgeRoundRectCallout">
            <a:avLst>
              <a:gd name="adj1" fmla="val 34208"/>
              <a:gd name="adj2" fmla="val 151736"/>
              <a:gd name="adj3" fmla="val 16667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УП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2666880" y="1828800"/>
            <a:ext cx="1752840" cy="762120"/>
          </a:xfrm>
          <a:prstGeom prst="wedgeRoundRectCallout">
            <a:avLst>
              <a:gd name="adj1" fmla="val -81791"/>
              <a:gd name="adj2" fmla="val 167499"/>
              <a:gd name="adj3" fmla="val 16667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ЛАВО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ОБ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AutoShape 6"/>
          <p:cNvSpPr/>
          <p:nvPr/>
        </p:nvSpPr>
        <p:spPr>
          <a:xfrm>
            <a:off x="4572000" y="2514600"/>
            <a:ext cx="1447920" cy="1066680"/>
          </a:xfrm>
          <a:prstGeom prst="wedgeRoundRectCallout">
            <a:avLst>
              <a:gd name="adj1" fmla="val 54935"/>
              <a:gd name="adj2" fmla="val 21726"/>
              <a:gd name="adj3" fmla="val 16667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ЛО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ЕПЛА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ШЛА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6934320" y="1371600"/>
            <a:ext cx="1371600" cy="457200"/>
          </a:xfrm>
          <a:prstGeom prst="wedgeRoundRectCallout">
            <a:avLst>
              <a:gd name="adj1" fmla="val -38888"/>
              <a:gd name="adj2" fmla="val 273263"/>
              <a:gd name="adj3" fmla="val 16667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троение  вулкана</a:t>
            </a:r>
            <a:br>
              <a:rPr sz="44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( внешнее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3" name="Picture 3" descr="строение  вулкана"/>
          <p:cNvPicPr/>
          <p:nvPr/>
        </p:nvPicPr>
        <p:blipFill>
          <a:blip r:embed="rId1"/>
          <a:srcRect l="13818" t="0" r="8555" b="0"/>
          <a:stretch/>
        </p:blipFill>
        <p:spPr>
          <a:xfrm>
            <a:off x="0" y="1989000"/>
            <a:ext cx="9144000" cy="4343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94" name="Freeform 4"/>
          <p:cNvSpPr/>
          <p:nvPr/>
        </p:nvSpPr>
        <p:spPr>
          <a:xfrm>
            <a:off x="2590920" y="4051440"/>
            <a:ext cx="1922400" cy="290520"/>
          </a:xfrm>
          <a:prstGeom prst="pie">
            <a:avLst/>
          </a:prstGeom>
          <a:noFill/>
          <a:ln cap="sq"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5"/>
          <p:cNvSpPr/>
          <p:nvPr/>
        </p:nvSpPr>
        <p:spPr>
          <a:xfrm flipH="1">
            <a:off x="3657240" y="3137040"/>
            <a:ext cx="762120" cy="761760"/>
          </a:xfrm>
          <a:prstGeom prst="line">
            <a:avLst/>
          </a:prstGeom>
          <a:ln cap="sq" w="57240">
            <a:solidFill>
              <a:srgbClr val="33cc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4573080" y="28195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ра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Freeform 7"/>
          <p:cNvSpPr/>
          <p:nvPr/>
        </p:nvSpPr>
        <p:spPr>
          <a:xfrm>
            <a:off x="457200" y="4356000"/>
            <a:ext cx="1981080" cy="1028880"/>
          </a:xfrm>
          <a:prstGeom prst="pie">
            <a:avLst/>
          </a:prstGeom>
          <a:noFill/>
          <a:ln cap="sq"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1066680" y="3289320"/>
            <a:ext cx="609840" cy="1295280"/>
          </a:xfrm>
          <a:prstGeom prst="line">
            <a:avLst/>
          </a:prstGeom>
          <a:ln cap="sq" w="57240">
            <a:solidFill>
              <a:srgbClr val="33cc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230400" y="274320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онус  вулк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10"/>
          <p:cNvSpPr/>
          <p:nvPr/>
        </p:nvSpPr>
        <p:spPr>
          <a:xfrm>
            <a:off x="1981080" y="5727600"/>
            <a:ext cx="586080" cy="444600"/>
          </a:xfrm>
          <a:prstGeom prst="pie">
            <a:avLst/>
          </a:prstGeom>
          <a:noFill/>
          <a:ln cap="sq"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11"/>
          <p:cNvSpPr/>
          <p:nvPr/>
        </p:nvSpPr>
        <p:spPr>
          <a:xfrm>
            <a:off x="2590920" y="5956200"/>
            <a:ext cx="990360" cy="0"/>
          </a:xfrm>
          <a:prstGeom prst="line">
            <a:avLst/>
          </a:prstGeom>
          <a:ln cap="sq" w="57240">
            <a:solidFill>
              <a:srgbClr val="33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2"/>
          <p:cNvSpPr/>
          <p:nvPr/>
        </p:nvSpPr>
        <p:spPr>
          <a:xfrm>
            <a:off x="3643200" y="569268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Боковой  кра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Freeform 13"/>
          <p:cNvSpPr/>
          <p:nvPr/>
        </p:nvSpPr>
        <p:spPr>
          <a:xfrm>
            <a:off x="4572000" y="4221000"/>
            <a:ext cx="4176720" cy="194472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4"/>
          <p:cNvSpPr/>
          <p:nvPr/>
        </p:nvSpPr>
        <p:spPr>
          <a:xfrm flipH="1">
            <a:off x="6443640" y="3716280"/>
            <a:ext cx="1224000" cy="144144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5"/>
          <p:cNvSpPr/>
          <p:nvPr/>
        </p:nvSpPr>
        <p:spPr>
          <a:xfrm>
            <a:off x="7885080" y="350028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Л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УТРЕННЕЕ СТРОЕНИЕ ВУЛК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Picture 3" descr="Вулкан"/>
          <p:cNvPicPr/>
          <p:nvPr/>
        </p:nvPicPr>
        <p:blipFill>
          <a:blip r:embed="rId1"/>
          <a:srcRect l="13082" t="0" r="0" b="0"/>
          <a:stretch/>
        </p:blipFill>
        <p:spPr>
          <a:xfrm>
            <a:off x="0" y="8380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4"/>
          <p:cNvSpPr/>
          <p:nvPr/>
        </p:nvSpPr>
        <p:spPr>
          <a:xfrm>
            <a:off x="3962520" y="762120"/>
            <a:ext cx="3047760" cy="761760"/>
          </a:xfrm>
          <a:prstGeom prst="wedgeRoundRectCallout">
            <a:avLst>
              <a:gd name="adj1" fmla="val -74217"/>
              <a:gd name="adj2" fmla="val 272500"/>
              <a:gd name="adj3" fmla="val 16667"/>
            </a:avLst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Р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УЛК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7086600" y="914400"/>
            <a:ext cx="2057400" cy="838080"/>
          </a:xfrm>
          <a:prstGeom prst="wedgeRoundRectCallout">
            <a:avLst>
              <a:gd name="adj1" fmla="val -67050"/>
              <a:gd name="adj2" fmla="val 46023"/>
              <a:gd name="adj3" fmla="val 16667"/>
            </a:avLst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КО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7"/>
          <p:cNvSpPr/>
          <p:nvPr/>
        </p:nvSpPr>
        <p:spPr>
          <a:xfrm>
            <a:off x="1447920" y="5867280"/>
            <a:ext cx="2209680" cy="762120"/>
          </a:xfrm>
          <a:prstGeom prst="wedgeRoundRectCallout">
            <a:avLst>
              <a:gd name="adj1" fmla="val 6467"/>
              <a:gd name="adj2" fmla="val -133541"/>
              <a:gd name="adj3" fmla="val 16667"/>
            </a:avLst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ЧА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Г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3" name="Organization Chart 6"/>
          <p:cNvGrpSpPr/>
          <p:nvPr/>
        </p:nvGrpSpPr>
        <p:grpSpPr>
          <a:xfrm>
            <a:off x="457200" y="836640"/>
            <a:ext cx="8228880" cy="5288040"/>
            <a:chOff x="457200" y="836640"/>
            <a:chExt cx="8228880" cy="5288040"/>
          </a:xfrm>
        </p:grpSpPr>
        <p:cxnSp>
          <p:nvCxnSpPr>
            <p:cNvPr id="514" name="_s1028"/>
            <p:cNvCxnSpPr>
              <a:stCxn id="515" idx="0"/>
              <a:endCxn id="516" idx="2"/>
            </p:cNvCxnSpPr>
            <p:nvPr/>
          </p:nvCxnSpPr>
          <p:spPr>
            <a:xfrm flipV="1" rot="16200000">
              <a:off x="5484960" y="2039760"/>
              <a:ext cx="1053000" cy="2880720"/>
            </a:xfrm>
            <a:prstGeom prst="bentConnector3">
              <a:avLst>
                <a:gd name="adj1" fmla="val 108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7" name="_s1029"/>
            <p:cNvCxnSpPr>
              <a:stCxn id="518" idx="0"/>
              <a:endCxn id="516" idx="2"/>
            </p:cNvCxnSpPr>
            <p:nvPr/>
          </p:nvCxnSpPr>
          <p:spPr>
            <a:xfrm flipV="1">
              <a:off x="4571280" y="2953800"/>
              <a:ext cx="3240" cy="1053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9" name="_s1030"/>
            <p:cNvCxnSpPr>
              <a:stCxn id="520" idx="0"/>
              <a:endCxn id="516" idx="2"/>
            </p:cNvCxnSpPr>
            <p:nvPr/>
          </p:nvCxnSpPr>
          <p:spPr>
            <a:xfrm flipH="1" flipV="1" rot="5400000">
              <a:off x="2604960" y="2040120"/>
              <a:ext cx="1053000" cy="2880720"/>
            </a:xfrm>
            <a:prstGeom prst="bentConnector3">
              <a:avLst>
                <a:gd name="adj1" fmla="val 108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16" name="_s1031"/>
            <p:cNvSpPr/>
            <p:nvPr/>
          </p:nvSpPr>
          <p:spPr>
            <a:xfrm>
              <a:off x="3337200" y="836640"/>
              <a:ext cx="2468520" cy="211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вулканов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_s1032"/>
            <p:cNvSpPr/>
            <p:nvPr/>
          </p:nvSpPr>
          <p:spPr>
            <a:xfrm>
              <a:off x="457200" y="4006800"/>
              <a:ext cx="2468520" cy="211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ействующ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_s1033"/>
            <p:cNvSpPr/>
            <p:nvPr/>
          </p:nvSpPr>
          <p:spPr>
            <a:xfrm>
              <a:off x="3337200" y="4006800"/>
              <a:ext cx="2468520" cy="211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тухш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_s1034"/>
            <p:cNvSpPr/>
            <p:nvPr/>
          </p:nvSpPr>
          <p:spPr>
            <a:xfrm>
              <a:off x="6217560" y="4006800"/>
              <a:ext cx="2468520" cy="211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снувш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5"/>
          <p:cNvSpPr/>
          <p:nvPr/>
        </p:nvSpPr>
        <p:spPr>
          <a:xfrm>
            <a:off x="324000" y="701640"/>
            <a:ext cx="8569080" cy="62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йдите на карте полушарий вулкан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илиманджа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Везу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йдите на физической карте Росси вулкан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Эльбр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азб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лючевская Соп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кие из этих вулканов действующие, а какие потухш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к вы это определи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Organization Chart 5"/>
          <p:cNvGrpSpPr/>
          <p:nvPr/>
        </p:nvGrpSpPr>
        <p:grpSpPr>
          <a:xfrm>
            <a:off x="395280" y="476280"/>
            <a:ext cx="8228880" cy="6046560"/>
            <a:chOff x="395280" y="476280"/>
            <a:chExt cx="8228880" cy="6046560"/>
          </a:xfrm>
        </p:grpSpPr>
        <p:cxnSp>
          <p:nvCxnSpPr>
            <p:cNvPr id="526" name="_s2052"/>
            <p:cNvCxnSpPr>
              <a:stCxn id="527" idx="0"/>
              <a:endCxn id="528" idx="2"/>
            </p:cNvCxnSpPr>
            <p:nvPr/>
          </p:nvCxnSpPr>
          <p:spPr>
            <a:xfrm flipV="1" rot="16200000">
              <a:off x="5344560" y="2058480"/>
              <a:ext cx="1209960" cy="2880720"/>
            </a:xfrm>
            <a:prstGeom prst="bentConnector3">
              <a:avLst>
                <a:gd name="adj1" fmla="val 943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9" name="_s2053"/>
            <p:cNvCxnSpPr>
              <a:stCxn id="530" idx="0"/>
              <a:endCxn id="528" idx="2"/>
            </p:cNvCxnSpPr>
            <p:nvPr/>
          </p:nvCxnSpPr>
          <p:spPr>
            <a:xfrm flipV="1">
              <a:off x="4509360" y="2894040"/>
              <a:ext cx="3240" cy="1209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1" name="_s2054"/>
            <p:cNvCxnSpPr>
              <a:stCxn id="532" idx="0"/>
              <a:endCxn id="528" idx="2"/>
            </p:cNvCxnSpPr>
            <p:nvPr/>
          </p:nvCxnSpPr>
          <p:spPr>
            <a:xfrm flipH="1" flipV="1" rot="5400000">
              <a:off x="2464560" y="2058840"/>
              <a:ext cx="1209960" cy="2880720"/>
            </a:xfrm>
            <a:prstGeom prst="bentConnector3">
              <a:avLst>
                <a:gd name="adj1" fmla="val 943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8" name="_s2055"/>
            <p:cNvSpPr/>
            <p:nvPr/>
          </p:nvSpPr>
          <p:spPr>
            <a:xfrm>
              <a:off x="3275280" y="476280"/>
              <a:ext cx="2468520" cy="24184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Типы вулканов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_s2056"/>
            <p:cNvSpPr/>
            <p:nvPr/>
          </p:nvSpPr>
          <p:spPr>
            <a:xfrm>
              <a:off x="395280" y="4104360"/>
              <a:ext cx="2468520" cy="24184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cc66"/>
                  </a:solidFill>
                  <a:uFillTx/>
                  <a:latin typeface="Arial"/>
                  <a:hlinkClick r:id="rId1" action="ppaction://hlinksldjump"/>
                </a:rPr>
                <a:t>Конусообразны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2057"/>
            <p:cNvSpPr/>
            <p:nvPr/>
          </p:nvSpPr>
          <p:spPr>
            <a:xfrm>
              <a:off x="3275280" y="4104360"/>
              <a:ext cx="2468520" cy="24184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cc66"/>
                  </a:solidFill>
                  <a:uFillTx/>
                  <a:latin typeface="Arial"/>
                  <a:hlinkClick r:id="rId2" action="ppaction://hlinksldjump"/>
                </a:rPr>
                <a:t>Щитообразны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2058"/>
            <p:cNvSpPr/>
            <p:nvPr/>
          </p:nvSpPr>
          <p:spPr>
            <a:xfrm>
              <a:off x="6155640" y="4104360"/>
              <a:ext cx="2468520" cy="24184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cc66"/>
                  </a:solidFill>
                  <a:uFillTx/>
                  <a:latin typeface="Arial"/>
                  <a:hlinkClick r:id="rId3" action="ppaction://hlinksldjump"/>
                </a:rPr>
                <a:t>Куполообразны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07:45:57Z</dcterms:created>
  <dc:creator>Мама</dc:creator>
  <dc:description/>
  <dc:language>en-US</dc:language>
  <cp:lastModifiedBy>COMP</cp:lastModifiedBy>
  <dcterms:modified xsi:type="dcterms:W3CDTF">2011-10-06T19:28:20Z</dcterms:modified>
  <cp:revision>2</cp:revision>
  <dc:subject/>
  <dc:title>Слайд 1</dc:title>
</cp:coreProperties>
</file>