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explode.wav" ContentType="audio/x-wav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0B95-EECA-47D3-95A9-DA66F58EA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74F-B4D0-47E6-9543-E730143287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улканы  Камч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71B-B78E-4EB8-8F0B-E2A1A3DC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592-92AB-4793-A251-BCD2FD3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46A20-27D9-4704-B557-B101FB94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BB4D6-9FBA-4D51-BF64-9EECC95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60E66-BE9E-4B5A-9E79-1A478E61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2B42D-6E00-427A-95A4-C3CA33F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2035C-631D-430C-880F-C88ECDC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82C1-3B1D-4E79-A621-9288EF6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21606-3C50-4C5E-8430-5EDA619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216ED-AD17-4670-9E19-93034BAD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8CC74-4E87-4889-ABC1-5C136067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211-E9A6-4E44-A3E7-8AF740AD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81A-EDB4-43C7-8514-243DA260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63E9-4577-4A89-B2E9-4C1C1666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BA9-3436-4CB7-A80D-73A1D79A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C85A-EF15-410C-9CD5-5325CD3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3996-4547-43DE-BF0C-D86A0CC7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009C-9C8B-4640-9A81-D54499D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2DE3-08BD-4A61-85A6-92ED6C6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BB84-0E61-4199-9967-B99E2AA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FAC-9046-44C6-8131-EC1928F4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0E93-8A38-44D4-9BBF-DABD386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674-686A-4AFC-B5BD-8230B05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9A91-058A-4108-B8B3-65E6A4B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A35B-1FCB-436C-A9AB-6792CDAC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1AF7-44E8-4E9D-BD60-37DAE0F9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298F-A5B9-4372-A6CD-C222845F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998E-1E9E-4A61-91AB-9F1C8A13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4C2C-AAB0-46B0-82BB-E0DEA68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80C6-4F3C-46CB-B041-320C9FE7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4A91-9609-4586-8F98-785F0143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E1A-D8A8-40CF-96A9-C8C84B0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5F1C-C81C-4121-A5A9-D6F174E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869D-9595-49D7-85ED-2CF9AD4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78B6-22F9-47EB-A38B-CEFD0C9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215E-E291-41A3-8896-E7DA6A8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91A7-673F-4A3F-8F5E-1F33AB0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93CB-2EFC-4700-AE43-33613980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8DFF-EA01-46AE-A333-D00C0DC3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A346-1243-4428-8766-63A4AD1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E3E8-10CE-4667-9350-1C3ADAF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29E9-CAB7-4439-BEDB-35E8E71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882-8A1C-4EDC-A066-71F459A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9ED2-3243-4C05-9CFA-B5CF516D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764D-8F99-45B6-8391-28461A6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1E95-9F3D-4D07-994E-6E32320E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6248-86F8-4B68-B684-BCA2569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D372-069E-4B5F-9E3E-6F12AB7E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EF4E-047C-497E-BA94-F30F8C4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AD1E-65F8-4234-B6E3-EB63A55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1FAA-80C4-4712-9A06-F84EE3BD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AFBF-70BD-42BC-9F46-46660B36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B2F34-B71F-46AB-8612-2C452A3E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901-60E3-4C80-BADA-947FAA63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FAE7-524E-4702-A812-DD8A9156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FF13-EAEA-427C-9EA0-31BE863F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EA68-2CF8-4508-B856-B17213A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93E3-B6BF-4AA2-918B-59B50CEC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4F72-506C-47D3-9306-65FADD7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DA3C-669D-4E03-9EC6-FE901B90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9EB5-6837-407B-8515-0B03CE7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8E1B-921C-49CF-BABE-5BD24CB5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85C9D-D6DA-4374-A941-F1E293E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5382-18DF-4409-A2D9-41066EB6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2E7-FFD5-4E29-AE0C-FCC6136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3A60-DE4C-40B6-8F3F-DDD6031B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970AA-0DF6-497D-9112-ABC1CB8E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7E247-0989-43DD-8DD3-1029E88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C260E-7C67-4594-AE6C-067D7FF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49BAE-07DE-443E-BF9A-23C0165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4070C-1EC3-442A-95DB-19A90D5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93828-99DD-4B80-A990-736825AA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9D31D-8059-4933-A8FE-11886C2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10F31-0884-424B-855B-46D5C0D4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66789-1938-4AEE-8328-F69D066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E98-F80C-4498-8F82-2C487F9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81234-8574-4F64-A5B8-3A317E6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83C96-EC75-4C83-BD89-1C5C5E1F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58AE2-1068-46EB-97C9-2D2DAFEC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EDDF-D0F6-4A82-ADE3-374931E8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DC9C-8EA4-4E42-8647-6A22725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AD3F7-8A49-4892-847D-8D8A711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820E-BCB7-4D1E-858D-86790E4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E975-7022-420E-8847-2358651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8969-E111-4DF2-8748-25AD90A1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D942-35D0-48B7-81E3-30B45958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DDE-2958-43D6-9F27-2FBD9FC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33E3-1722-4BD4-AFDA-EAE5D94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4244-AF32-4495-A96A-3369709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7454-9475-423F-A235-5EB4920D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5E75-3F23-463E-AB04-E440BEBC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0782-2C7B-42F4-9026-FD41A304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5337-6F5B-4A7C-AEAA-9D813ECB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B8BF-F249-455A-8845-4A2E601F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59B8-AC74-4949-A4CE-2F7CB73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399E-9040-45FC-9FF9-166E98E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BC55C-1266-4DE1-B5F9-CC8870CB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5ED-F256-4118-8E51-554769D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2CF3-B181-4E10-9DDF-12A4B293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20632-D808-418E-AC39-C1F1D16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7A142-CA46-4C39-992B-6A0F51D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0AA10-C27E-4063-8F7E-7DBD41C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8CA84-8A39-474E-8F9B-128E4E87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371B1-CE0B-417B-BE0E-1851C99C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AAFE9-38B2-408A-8872-66A3469F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A771E-FE5A-41F0-9F4B-6A221E14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AD3E-976C-453A-B7AB-751F3118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7ABE-6FD2-4AC3-9064-C2BC908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7664-48C8-4C7F-803D-D270AB560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C9A3-3306-4740-A7FA-F1EFF1F5BA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0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D404-C0E9-4CC2-9935-615232CF65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A6F-9DC8-4D0C-9770-803AD60CAF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3E6-81A5-4663-A7CE-6E6527CDE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089-080E-4385-8764-098F9C2CA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7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1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9ACD-08C1-43CC-A685-538396C354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D31E-943C-49F6-B678-C943683C87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5303-0F35-4268-A29F-9D4288C33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izmaylovo.ru/wiki/geo/detail.php?ID=26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file:///&#1042;&#1080;&#1076;&#1077;&#1086;%20&#1080;%20&#1084;&#1091;&#1079;&#1099;&#1082;&#1072;%20&#1042;&#1091;&#1083;&#1082;&#1072;&#1085;&#1099;/VTS_03_2.VOB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travel.ru/news/2007/05/25/110002.html" TargetMode="External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WordArt 5"/>
          <p:cNvSpPr txBox="1"/>
          <p:nvPr/>
        </p:nvSpPr>
        <p:spPr>
          <a:xfrm>
            <a:off x="324000" y="765000"/>
            <a:ext cx="882000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33cc"/>
                    </a:gs>
                    <a:gs pos="100000">
                      <a:srgbClr val="ff00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0033cc"/>
                  </a:gs>
                  <a:gs pos="100000">
                    <a:srgbClr val="ff0066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онус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лючевская  Сопка  (Камчатка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4" name="Picture 3" descr="Kliuchevskoi_big"/>
          <p:cNvPicPr/>
          <p:nvPr/>
        </p:nvPicPr>
        <p:blipFill>
          <a:blip r:embed="rId1"/>
          <a:stretch/>
        </p:blipFill>
        <p:spPr>
          <a:xfrm>
            <a:off x="533520" y="1981080"/>
            <a:ext cx="7848360" cy="48326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Щит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илауэа  ( Гаваи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Picture 3" descr="вулкан  гавайского  типа(Килауэа)"/>
          <p:cNvPicPr/>
          <p:nvPr/>
        </p:nvPicPr>
        <p:blipFill>
          <a:blip r:embed="rId1"/>
          <a:stretch/>
        </p:blipFill>
        <p:spPr>
          <a:xfrm>
            <a:off x="900000" y="2209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упол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Пай  де Дум  ( Франция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0" name="Picture 3" descr="куполовидный  вулкан(юг  Франции)"/>
          <p:cNvPicPr/>
          <p:nvPr/>
        </p:nvPicPr>
        <p:blipFill>
          <a:blip r:embed="rId1"/>
          <a:stretch/>
        </p:blipFill>
        <p:spPr>
          <a:xfrm>
            <a:off x="1042920" y="22096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3" name="Organization Chart 6"/>
          <p:cNvGrpSpPr/>
          <p:nvPr/>
        </p:nvGrpSpPr>
        <p:grpSpPr>
          <a:xfrm>
            <a:off x="457200" y="404640"/>
            <a:ext cx="8228880" cy="5719680"/>
            <a:chOff x="457200" y="404640"/>
            <a:chExt cx="8228880" cy="5719680"/>
          </a:xfrm>
        </p:grpSpPr>
        <p:cxnSp>
          <p:nvCxnSpPr>
            <p:cNvPr id="544" name="_s3076"/>
            <p:cNvCxnSpPr>
              <a:stCxn id="545" idx="0"/>
              <a:endCxn id="546" idx="2"/>
            </p:cNvCxnSpPr>
            <p:nvPr/>
          </p:nvCxnSpPr>
          <p:spPr>
            <a:xfrm flipV="1" rot="16200000">
              <a:off x="5439240" y="182340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3077"/>
            <p:cNvCxnSpPr>
              <a:stCxn id="548" idx="0"/>
              <a:endCxn id="546" idx="2"/>
            </p:cNvCxnSpPr>
            <p:nvPr/>
          </p:nvCxnSpPr>
          <p:spPr>
            <a:xfrm flipV="1">
              <a:off x="4571280" y="2691720"/>
              <a:ext cx="3240" cy="114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9" name="_s3078"/>
            <p:cNvCxnSpPr>
              <a:stCxn id="550" idx="0"/>
              <a:endCxn id="546" idx="2"/>
            </p:cNvCxnSpPr>
            <p:nvPr/>
          </p:nvCxnSpPr>
          <p:spPr>
            <a:xfrm flipH="1" flipV="1" rot="5400000">
              <a:off x="2559240" y="182376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6" name="_s3079"/>
            <p:cNvSpPr/>
            <p:nvPr/>
          </p:nvSpPr>
          <p:spPr>
            <a:xfrm>
              <a:off x="3337200" y="404640"/>
              <a:ext cx="2468520" cy="2287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улканическ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верже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3080"/>
            <p:cNvSpPr/>
            <p:nvPr/>
          </p:nvSpPr>
          <p:spPr>
            <a:xfrm>
              <a:off x="45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99ff66"/>
                  </a:solidFill>
                  <a:uFillTx/>
                  <a:latin typeface="Arial"/>
                  <a:hlinkClick r:id="rId3"/>
                </a:rPr>
                <a:t>Гава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3081"/>
            <p:cNvSpPr/>
            <p:nvPr/>
          </p:nvSpPr>
          <p:spPr>
            <a:xfrm>
              <a:off x="333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5"/>
                </a:rPr>
                <a:t>Пеле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3082"/>
            <p:cNvSpPr/>
            <p:nvPr/>
          </p:nvSpPr>
          <p:spPr>
            <a:xfrm>
              <a:off x="621756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7"/>
                </a:rPr>
                <a:t>Везувиан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Гавайский ти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52" name="Гаваийские изыержения.wmv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1308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15"/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000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vulca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Пелейский тип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61640" y="541512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БОМБОМЕТАНИЕ»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7667640" y="6237360"/>
            <a:ext cx="1225440" cy="620640"/>
          </a:xfrm>
          <a:custGeom>
            <a:avLst/>
            <a:gdLst>
              <a:gd name="textAreaLeft" fmla="*/ 39960 w 1225440"/>
              <a:gd name="textAreaRight" fmla="*/ 1185480 w 1225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2637" h="21600">
                <a:moveTo>
                  <a:pt x="0" y="0"/>
                </a:moveTo>
                <a:lnTo>
                  <a:pt x="42637" y="0"/>
                </a:lnTo>
                <a:lnTo>
                  <a:pt x="42637" y="21600"/>
                </a:lnTo>
                <a:lnTo>
                  <a:pt x="0" y="21600"/>
                </a:lnTo>
                <a:close/>
              </a:path>
              <a:path fill="lightenLess" w="42637" h="21600">
                <a:moveTo>
                  <a:pt x="0" y="0"/>
                </a:moveTo>
                <a:lnTo>
                  <a:pt x="42637" y="0"/>
                </a:lnTo>
                <a:lnTo>
                  <a:pt x="41237" y="1400"/>
                </a:lnTo>
                <a:lnTo>
                  <a:pt x="1400" y="1400"/>
                </a:lnTo>
                <a:close/>
              </a:path>
              <a:path fill="darken" w="42637" h="21600">
                <a:moveTo>
                  <a:pt x="42637" y="0"/>
                </a:moveTo>
                <a:lnTo>
                  <a:pt x="42637" y="21600"/>
                </a:lnTo>
                <a:lnTo>
                  <a:pt x="41237" y="20200"/>
                </a:lnTo>
                <a:lnTo>
                  <a:pt x="41237" y="1400"/>
                </a:lnTo>
                <a:close/>
              </a:path>
              <a:path fill="darkenLess" w="42637" h="21600">
                <a:moveTo>
                  <a:pt x="4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37" y="20200"/>
                </a:lnTo>
                <a:close/>
              </a:path>
              <a:path fill="lighten" w="4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37" h="21600">
                <a:moveTo>
                  <a:pt x="17819" y="10800"/>
                </a:moveTo>
                <a:lnTo>
                  <a:pt x="28325" y="3794"/>
                </a:lnTo>
                <a:lnTo>
                  <a:pt x="28325" y="17806"/>
                </a:lnTo>
                <a:close/>
              </a:path>
              <a:path fill="darken" w="42637" h="21600">
                <a:moveTo>
                  <a:pt x="14312" y="3794"/>
                </a:moveTo>
                <a:lnTo>
                  <a:pt x="15974" y="3794"/>
                </a:lnTo>
                <a:lnTo>
                  <a:pt x="15974" y="17806"/>
                </a:lnTo>
                <a:lnTo>
                  <a:pt x="143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50920" y="6453360"/>
            <a:ext cx="7345440" cy="404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izmaylovo.ru/wiki/geo/detail.php?ID=26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0560" y="-5300280"/>
            <a:ext cx="136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Text Box 4"/>
          <p:cNvSpPr/>
          <p:nvPr/>
        </p:nvSpPr>
        <p:spPr>
          <a:xfrm>
            <a:off x="4896000" y="260280"/>
            <a:ext cx="4248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зувий зев открыл – дым хлынул клубом – пла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умиры падают! Народ, гонимый ст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Толпами, стар и млад, под воспалённым п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од каменным дождём бежит из града в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451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ипы вулканичес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звержени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езувианский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Beethoven's Symphony No. 9 (Scherzo).wma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ео и музыка Вулканы\VTS_03_2.V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1332000" y="5950080"/>
            <a:ext cx="6840360" cy="90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е извержения Вулк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75742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илауэа (Килауэ) на Гавай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68" name="Picture 3" descr="Извержение вулкана - захватывающее зрелище. // Mignews.com"/>
          <p:cNvPicPr/>
          <p:nvPr/>
        </p:nvPicPr>
        <p:blipFill>
          <a:blip r:embed="rId2"/>
          <a:stretch/>
        </p:blipFill>
        <p:spPr>
          <a:xfrm>
            <a:off x="900000" y="1268280"/>
            <a:ext cx="7056720" cy="4969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2411280" y="6381720"/>
            <a:ext cx="51483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travel.ru/news/2007/05/25/11000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улканов Земли сосредоточено на островах и берегах самого древнего из океанов – Тихого. Если внимательно посмотреть на карту, то можно заметить, что они как бы кольцом окружают океан. Самые мощные и разрушительные извержения вулканов и землетрясения наблюдались именно в этом районе: Сан-Франциско (1960), Токио (1923), Чили (1960), Мехико (1985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71" name="Object 3"/>
          <p:cNvGraphicFramePr/>
          <p:nvPr/>
        </p:nvGraphicFramePr>
        <p:xfrm>
          <a:off x="250920" y="1773360"/>
          <a:ext cx="8497800" cy="50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84978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Вулкан Килиманджа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9280" y="0"/>
            <a:ext cx="8964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с ключевыми словами расс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логические цепоч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 ------……..--------…..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-----……….---------………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-----……..--------………-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-------……..--------…….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 ------…...------.......-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 Black"/>
              </a:rPr>
              <a:t>Цели и задачи урока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вулканах и вулканических извержениях как опасных природных явл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представления о разнообразии вулканических извержений, видах и типах ву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районах распространения вулканов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792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улкан-это геологическое образование, возникающее над трещинами в земной коре и по форме напоминающее конусообразную г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то такое вулкан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Стр. 6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82600"/>
            <a:ext cx="8385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Arial Black"/>
              </a:rPr>
              <a:t>ЭЛЕМЕНТЫ ВУЛК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87" name="Picture 3" descr="схема  строения  куполовидного  вулкана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609480" y="1600200"/>
            <a:ext cx="1447920" cy="457200"/>
          </a:xfrm>
          <a:prstGeom prst="wedgeRoundRectCallout">
            <a:avLst>
              <a:gd name="adj1" fmla="val 34208"/>
              <a:gd name="adj2" fmla="val 15173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УП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666880" y="1828800"/>
            <a:ext cx="1752840" cy="762120"/>
          </a:xfrm>
          <a:prstGeom prst="wedgeRoundRectCallout">
            <a:avLst>
              <a:gd name="adj1" fmla="val -81791"/>
              <a:gd name="adj2" fmla="val 167499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АВ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ОБ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572000" y="2514600"/>
            <a:ext cx="1447920" cy="1066680"/>
          </a:xfrm>
          <a:prstGeom prst="wedgeRoundRectCallout">
            <a:avLst>
              <a:gd name="adj1" fmla="val 54935"/>
              <a:gd name="adj2" fmla="val 2172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Л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ЕПЛ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ШЛ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6934320" y="1371600"/>
            <a:ext cx="1371600" cy="457200"/>
          </a:xfrm>
          <a:prstGeom prst="wedgeRoundRectCallout">
            <a:avLst>
              <a:gd name="adj1" fmla="val -38888"/>
              <a:gd name="adj2" fmla="val 273263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 вулкана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 внешне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Picture 3" descr="строение  вулкана"/>
          <p:cNvPicPr/>
          <p:nvPr/>
        </p:nvPicPr>
        <p:blipFill>
          <a:blip r:embed="rId1"/>
          <a:srcRect l="13818" t="0" r="8555" b="0"/>
          <a:stretch/>
        </p:blipFill>
        <p:spPr>
          <a:xfrm>
            <a:off x="0" y="1989000"/>
            <a:ext cx="9144000" cy="434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94" name="Freeform 4"/>
          <p:cNvSpPr/>
          <p:nvPr/>
        </p:nvSpPr>
        <p:spPr>
          <a:xfrm>
            <a:off x="2590920" y="4051440"/>
            <a:ext cx="1922400" cy="29052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5"/>
          <p:cNvSpPr/>
          <p:nvPr/>
        </p:nvSpPr>
        <p:spPr>
          <a:xfrm flipH="1">
            <a:off x="3657240" y="3137040"/>
            <a:ext cx="762120" cy="76176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73080" y="28195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7"/>
          <p:cNvSpPr/>
          <p:nvPr/>
        </p:nvSpPr>
        <p:spPr>
          <a:xfrm>
            <a:off x="457200" y="4356000"/>
            <a:ext cx="1981080" cy="102888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066680" y="3289320"/>
            <a:ext cx="609840" cy="129528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230400" y="27432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онус  вулк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0"/>
          <p:cNvSpPr/>
          <p:nvPr/>
        </p:nvSpPr>
        <p:spPr>
          <a:xfrm>
            <a:off x="1981080" y="5727600"/>
            <a:ext cx="586080" cy="444600"/>
          </a:xfrm>
          <a:prstGeom prst="pie">
            <a:avLst/>
          </a:prstGeom>
          <a:noFill/>
          <a:ln cap="sq"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590920" y="5956200"/>
            <a:ext cx="990360" cy="0"/>
          </a:xfrm>
          <a:prstGeom prst="line">
            <a:avLst/>
          </a:prstGeom>
          <a:ln cap="sq"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3643200" y="56926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ой  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13"/>
          <p:cNvSpPr/>
          <p:nvPr/>
        </p:nvSpPr>
        <p:spPr>
          <a:xfrm>
            <a:off x="4572000" y="4221000"/>
            <a:ext cx="4176720" cy="194472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4"/>
          <p:cNvSpPr/>
          <p:nvPr/>
        </p:nvSpPr>
        <p:spPr>
          <a:xfrm flipH="1">
            <a:off x="6443640" y="3716280"/>
            <a:ext cx="1224000" cy="144144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7885080" y="35002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УТРЕННЕЕ СТРОЕНИЕ ВУЛК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80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Organization Chart 6"/>
          <p:cNvGrpSpPr/>
          <p:nvPr/>
        </p:nvGrpSpPr>
        <p:grpSpPr>
          <a:xfrm>
            <a:off x="457200" y="836640"/>
            <a:ext cx="8228880" cy="5288040"/>
            <a:chOff x="457200" y="836640"/>
            <a:chExt cx="8228880" cy="5288040"/>
          </a:xfrm>
        </p:grpSpPr>
        <p:cxnSp>
          <p:nvCxnSpPr>
            <p:cNvPr id="514" name="_s1028"/>
            <p:cNvCxnSpPr>
              <a:stCxn id="515" idx="0"/>
              <a:endCxn id="516" idx="2"/>
            </p:cNvCxnSpPr>
            <p:nvPr/>
          </p:nvCxnSpPr>
          <p:spPr>
            <a:xfrm flipV="1" rot="16200000">
              <a:off x="5484960" y="203976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7" name="_s1029"/>
            <p:cNvCxnSpPr>
              <a:stCxn id="518" idx="0"/>
              <a:endCxn id="516" idx="2"/>
            </p:cNvCxnSpPr>
            <p:nvPr/>
          </p:nvCxnSpPr>
          <p:spPr>
            <a:xfrm flipV="1">
              <a:off x="4571280" y="2953800"/>
              <a:ext cx="3240" cy="105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9" name="_s1030"/>
            <p:cNvCxnSpPr>
              <a:stCxn id="520" idx="0"/>
              <a:endCxn id="516" idx="2"/>
            </p:cNvCxnSpPr>
            <p:nvPr/>
          </p:nvCxnSpPr>
          <p:spPr>
            <a:xfrm flipH="1" flipV="1" rot="5400000">
              <a:off x="2604960" y="204012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6" name="_s1031"/>
            <p:cNvSpPr/>
            <p:nvPr/>
          </p:nvSpPr>
          <p:spPr>
            <a:xfrm>
              <a:off x="3337200" y="83664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_s1032"/>
            <p:cNvSpPr/>
            <p:nvPr/>
          </p:nvSpPr>
          <p:spPr>
            <a:xfrm>
              <a:off x="45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йствующ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_s1033"/>
            <p:cNvSpPr/>
            <p:nvPr/>
          </p:nvSpPr>
          <p:spPr>
            <a:xfrm>
              <a:off x="333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тух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_s1034"/>
            <p:cNvSpPr/>
            <p:nvPr/>
          </p:nvSpPr>
          <p:spPr>
            <a:xfrm>
              <a:off x="621756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нув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324000" y="701640"/>
            <a:ext cx="8569080" cy="62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карте полушарий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илиманджа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физической карте Росси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Эльб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зб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лючевская Со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ие из этих вулканов действующие, а какие потухш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 вы это определ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Organization Chart 5"/>
          <p:cNvGrpSpPr/>
          <p:nvPr/>
        </p:nvGrpSpPr>
        <p:grpSpPr>
          <a:xfrm>
            <a:off x="395280" y="476280"/>
            <a:ext cx="8228880" cy="6046560"/>
            <a:chOff x="395280" y="476280"/>
            <a:chExt cx="8228880" cy="6046560"/>
          </a:xfrm>
        </p:grpSpPr>
        <p:cxnSp>
          <p:nvCxnSpPr>
            <p:cNvPr id="526" name="_s2052"/>
            <p:cNvCxnSpPr>
              <a:stCxn id="527" idx="0"/>
              <a:endCxn id="528" idx="2"/>
            </p:cNvCxnSpPr>
            <p:nvPr/>
          </p:nvCxnSpPr>
          <p:spPr>
            <a:xfrm flipV="1" rot="16200000">
              <a:off x="5344560" y="205848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9" name="_s2053"/>
            <p:cNvCxnSpPr>
              <a:stCxn id="530" idx="0"/>
              <a:endCxn id="528" idx="2"/>
            </p:cNvCxnSpPr>
            <p:nvPr/>
          </p:nvCxnSpPr>
          <p:spPr>
            <a:xfrm flipV="1">
              <a:off x="4509360" y="2894040"/>
              <a:ext cx="3240" cy="120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2054"/>
            <p:cNvCxnSpPr>
              <a:stCxn id="532" idx="0"/>
              <a:endCxn id="528" idx="2"/>
            </p:cNvCxnSpPr>
            <p:nvPr/>
          </p:nvCxnSpPr>
          <p:spPr>
            <a:xfrm flipH="1" flipV="1" rot="5400000">
              <a:off x="2464560" y="205884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8" name="_s2055"/>
            <p:cNvSpPr/>
            <p:nvPr/>
          </p:nvSpPr>
          <p:spPr>
            <a:xfrm>
              <a:off x="3275280" y="47628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Тип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2056"/>
            <p:cNvSpPr/>
            <p:nvPr/>
          </p:nvSpPr>
          <p:spPr>
            <a:xfrm>
              <a:off x="39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1" action="ppaction://hlinksldjump"/>
                </a:rPr>
                <a:t>Конус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2057"/>
            <p:cNvSpPr/>
            <p:nvPr/>
          </p:nvSpPr>
          <p:spPr>
            <a:xfrm>
              <a:off x="327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2" action="ppaction://hlinksldjump"/>
                </a:rPr>
                <a:t>Щит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2058"/>
            <p:cNvSpPr/>
            <p:nvPr/>
          </p:nvSpPr>
          <p:spPr>
            <a:xfrm>
              <a:off x="615564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3" action="ppaction://hlinksldjump"/>
                </a:rPr>
                <a:t>Купол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7:45:57Z</dcterms:created>
  <dc:creator>Мама</dc:creator>
  <dc:description/>
  <dc:language>en-US</dc:language>
  <cp:lastModifiedBy>COMP</cp:lastModifiedBy>
  <dcterms:modified xsi:type="dcterms:W3CDTF">2011-10-06T19:28:20Z</dcterms:modified>
  <cp:revision>2</cp:revision>
  <dc:subject/>
  <dc:title>Слайд 1</dc:title>
</cp:coreProperties>
</file>