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4DF-40F2-491D-8453-3AD37CE0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E0E-207E-40BD-8FB4-7F82D12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7B2-2AD9-4DE9-A810-DB950B6B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01F-ECF2-401C-B661-EC6C94EB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B81D-29AC-445B-8056-A6017224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5999-F852-4B4D-8D61-6DE3678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973B-BADC-4961-8EC6-32294C2F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0C04-F09C-4285-AB75-CB6E20D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6C79-4CDE-4255-873A-DF6D5DF0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F551-D4F4-43FF-BECD-76D06099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049E-4070-495F-83F5-225070F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217-87EE-4039-BFEA-4A2E5F92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AED8-7AFF-4533-A060-064CEDC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E7CE-B60C-43BB-8BA3-AB9B95B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96B3-A63C-4BD0-858F-82F4956F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501-7634-40BD-9A3F-A053085C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6DC-8333-40C6-AAF3-CC117FF0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DCD-119F-4341-8953-99E49B48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F14-8104-4A59-BFEB-1E133780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E1E-887C-4D67-BFF9-A775A31D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D04-44CC-4139-ACC8-9BF2976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704-1D60-423B-9269-AA9527A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DC6-9E2F-47F9-8AA3-2C9B5D72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A12-8CC1-42DC-8E8A-4C07CCCF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5D0-B79E-4A4A-995C-48A6E2B856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07A-05F0-4C12-A348-67CF19443F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В. А. Моцар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284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жалуй, в музыке нет имени, перед которым человечество так благосклонно склонялось, так радовалось и умилялось. Моцарт — символ самой музы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орис Асафь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смотря на успех Моцарта, его материальное положение было не блестящим. Оставив место органиста в Зальцбурге и пользуясь скудными щедротами венского двора, Моцарт для обеспечения своей семьи должен был давать уроки, сочинять контрдансы, вальсы и даже пьесы для стенных часов с музыкой, играть на вечерах венской аристократии…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32000" y="907920"/>
            <a:ext cx="3754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щины в жизни Моцарт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4787640" cy="37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57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3160" y="4149720"/>
            <a:ext cx="367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люблённость Моц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дохновляла  его на новые тво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38181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царт зарабатывал преподаванием, публикацией своих произведений, выступлениями в аристократических салонах или в открытых концертах («академиях»), сочинением музыки по заказа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5400" y="476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нтонио Сальери (1750-1825), друг и соперник Моцарт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572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тальянский композ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1766 жил в В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р многих оп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ники: Л. Бетховен, Ф. Шуберт, Ф. Л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генда об отравлении им В. А. Моцарта, использованная А. С. Пушкиным («Моцарт и Сальери»), не имеет под собой реальных осн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5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4720" y="27432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царт и Сальер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981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еквием (лат. - покой)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заупокойное католическое    богослужение;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заупокойная месса;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муз. произведение траурного характера для хора с оркестр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260280"/>
            <a:ext cx="88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етом 1791 Моцарт получил анонимный заказ на сочинение Реквиема (как выяснилось позднее, заказчиком был граф Вальзегг-Штуппах, овдовевший в феврале того же года). Моцарт долго не решался взяться за выполнение этого заказа не только из-за загруженности другой работой, но и из суевер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урное предчувствие Моцарта сбылось: он умер от скоротечной болезни (по-видимому, от почечной недостаточности), успев написать только первые шесть частей Реквиема и оставив недописанной седьмую часть (Lacrimosa). Реквием был завершен его учеником Ф. К. Зюсмайром (1766-1803) согласно указаниям, полученным от умирающего композитор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ервое исполнение Реквиема Моцар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амятник маленькому Моцарт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4869000"/>
            <a:ext cx="3960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вю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11480" cy="446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077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96108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идный представитель Венской классической школы композиции. Был также виртуозным скрипачом, клавесинистом, органистом, дирижёром.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о свидетельству современников, обладал феноменальным музыкальным слухом, памятью и способностью к импровизации.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659120" cy="518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661000"/>
            <a:ext cx="36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ьфганг Амадей Моцарт (1756 – 17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900600" cy="504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0320" y="476280"/>
            <a:ext cx="4591080" cy="5113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589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ронзовые скульптуры Моц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 шиллинга 1931 г. — австрийская памятная монета, посвящённая 175-летию со дня рождения Моцар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96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084640"/>
            <a:ext cx="505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ный компози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2617560" cy="36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27672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48360" y="2492280"/>
            <a:ext cx="3095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5229360"/>
            <a:ext cx="497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царт в творческом раздумь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14840" y="2322360"/>
            <a:ext cx="3629160" cy="453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38680" cy="417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2938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39956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амятник Моцарту в Зальцбурге, на родине композитор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7466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декабря 1791 года – Вольфганг Амадей Моцарт умирает в Вен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ьфганг Моцарт похоронен в Вене, на кладбище Св. Марка в общей могиле, поэтому само место захоронения осталось неизвест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амять о композиторе на девятый день после его смерти в Праге при огромном скоплении народа 120 музыкантами исполнялся «Реквием» Антонио Розет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мятник Моцарту в В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756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Моцарт – это молодость музыки, это вечно юный родник, несущий человечеству радость весеннего обновления и душевной гармонии. Бездонная глубина его человечнейших образов, поразительная смелость его новаторских открытий, двинувших на десятилетия вперёд музыкальное искусство, совершенная гармоничность и стройность формы – вот сила Моцарта, вот величие его искусства, на увядаемого в веках. Вот почему мы так горячо, так нежно любим этого удивительного композитора".       Дмитрий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ные произвед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опер ( Свадьба Фигаро, Дон Жуан, Волшебная флейта, Похищение из сераля и друг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9 симфо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месс, среди которых: «Коронационная» (1779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Реквием» (1791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2 концерта для разных инстр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серенад для струнного оркестра, в том числ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аленькая ночная музыка» (17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дивертисментов для орке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личные ансамбли духовых инстр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наты для различных инструментов, трио, дуэ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сонат для фортепи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 циклов вариаций для фортепи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ндо, фантазии, пье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ее 50 ар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самбли хоры, п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4436640"/>
            <a:ext cx="8218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Моцарт – это молодость музыки, вечно юный родник, несущий человечеству радость весеннего обновления и душевной гармонии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митрий Шостак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ольфганг Амадей Моцар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88000" y="1052280"/>
            <a:ext cx="435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лся 27 января 1756 года в гор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ьцбург (Австр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льные способности Моцарта проявились в очень раннем возрасте, когда ему было около трёх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789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21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отец Леопольд был одним из ведущих европейских музыкальных педагог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ец обучил Вольфганга основам игры на клавесине, скрипке и орг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46880" cy="619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6093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опольд Моц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03280" y="260280"/>
            <a:ext cx="396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я Моцартов четыре года путешествовала с концертами по всей Евро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церты маленького Моцарта, где он выступал вместе с сестрой, вызывали бурю восторга, удивление и восхищ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753080" cy="461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589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рия Анна Моцар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ршая сестра Вольфганга Амад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43280" y="1125000"/>
            <a:ext cx="450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емилетний Моцарт с отцом и сестрой  Марией Анной на концерте в Париже (176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6888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емья Моцарт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64000" y="188640"/>
            <a:ext cx="3780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4 лет Вольфганг посетил Италию, где его концерты проходили с потрясающим успех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Болоньи впервые в истории Академии её членом  стал столь юный компози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1544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67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ьцбур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рети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царта неприветливо, счастливое детство и юность закончились… началась жизнь, полная творческих свершений и несбывшихся надеж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5046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5:24Z</dcterms:created>
  <dc:creator>Alina</dc:creator>
  <dc:description/>
  <dc:language>en-US</dc:language>
  <cp:lastModifiedBy>Alina</cp:lastModifiedBy>
  <dcterms:modified xsi:type="dcterms:W3CDTF">2009-03-10T06:47:29Z</dcterms:modified>
  <cp:revision>9</cp:revision>
  <dc:subject/>
  <dc:title>В чём сила музыки  В. А. Моцарта?</dc:title>
</cp:coreProperties>
</file>