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2092-3064-4B0E-A5D0-C965A77C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531-69B4-420D-8F10-6EA006B2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F31-714A-4532-B581-35CBEE50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125A-CBF1-4039-96E6-E2C0E522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9608-189B-49E8-81FD-599173B3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5741-F964-43BC-8A6F-9D25F4DE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E520-44B0-45B6-9F81-3ECAA435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4A31-7761-4D08-AD00-92977CEC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651E-16F7-4F9B-BCA3-3DEBD630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8C6C-EF5A-4AA7-930E-5B02E566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E102-5F99-44E0-8786-0D2DA79F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8E9-5004-4C90-82D7-D89FB1DD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3D33-952C-4BFD-9933-3B6E0CDA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9995-5759-4CCD-9C0C-542919D3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D7EE-13BC-47AD-BE1D-66BCEA0D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D59F-DCD7-49C7-8930-B7CA0F4F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7DCA-E9BD-48F3-A0A7-FF5550B5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D6BD-3BD8-4416-AB88-2FAE5878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EDF8-F538-455F-88D3-DA9B87BC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A3C9-FEB2-41AE-B043-AA8136A8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8F8-BDB4-4DAF-B1BD-8053450F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380-91AF-4BBF-B2C4-E423332D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393-3E65-4474-A5C6-F6AF0D7E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D7E-6D42-4D8C-B45A-7BDC7CEA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1B9C-0026-4F0F-AF85-540D76C40B0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6A88-238E-4781-9EF1-CED123B258B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Жизнь и творчество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В. А. Моцарт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328428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жалуй, в музыке нет имени, перед которым человечество так благосклонно склонялось, так радовалось и умилялось. Моцарт — символ самой музы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Борис Асафь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есмотря на успех Моцарта, его материальное положение было не блестящим. Оставив место органиста в Зальцбурге и пользуясь скудными щедротами венского двора, Моцарт для обеспечения своей семьи должен был давать уроки, сочинять контрдансы, вальсы и даже пьесы для стенных часов с музыкой, играть на вечерах венской аристократии…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932000" y="907920"/>
            <a:ext cx="37544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енщины в жизни Моцарт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140360" y="2852640"/>
            <a:ext cx="4787640" cy="370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608720" cy="3573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3160" y="4149720"/>
            <a:ext cx="367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люблённость Моц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дохновляла  его на новые тво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38181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царт зарабатывал преподаванием, публикацией своих произведений, выступлениями в аристократических салонах или в открытых концертах («академиях»), сочинением музыки по заказа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65400" y="476280"/>
            <a:ext cx="5178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Антонио Сальери (1750-1825), друг и соперник Моцарт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572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тальянский компози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1766 жил в В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втор многих оп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ченики: Л. Бетховен, Ф. Шуберт, Ф. Ли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егенда об отравлении им В. А. Моцарта, использованная А. С. Пушкиным («Моцарт и Сальери»), не имеет под собой реальных основ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959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4720" y="274320"/>
            <a:ext cx="485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Моцарт и Сальер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9816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еквием (лат. - покой)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- заупокойное католическое    богослужение;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- заупокойная месса;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- муз. произведение траурного характера для хора с оркестро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260280"/>
            <a:ext cx="8893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Летом 1791 Моцарт получил анонимный заказ на сочинение Реквиема (как выяснилось позднее, заказчиком был граф Вальзегг-Штуппах, овдовевший в феврале того же года). Моцарт долго не решался взяться за выполнение этого заказа не только из-за загруженности другой работой, но и из суеверия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урное предчувствие Моцарта сбылось: он умер от скоротечной болезни (по-видимому, от почечной недостаточности), успев написать только первые шесть частей Реквиема и оставив недописанной седьмую часть (Lacrimosa). Реквием был завершен его учеником Ф. К. Зюсмайром (1766-1803) согласно указаниям, полученным от умирающего композитор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ервое исполнение Реквиема Моцар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56908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амятник маленькому Моцарту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4869000"/>
            <a:ext cx="3960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равю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011480" cy="4464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077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3280" y="274320"/>
            <a:ext cx="396108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Видный представитель Венской классической школы композиции. Был также виртуозным скрипачом, клавесинистом, органистом, дирижёром.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По свидетельству современников, обладал феноменальным музыкальным слухом, памятью и способностью к импровизации.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659120" cy="518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55640" y="5661000"/>
            <a:ext cx="363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льфганг Амадей Моцарт (1756 – 179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3900600" cy="504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0320" y="476280"/>
            <a:ext cx="4591080" cy="5113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0920" y="589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ронзовые скульптуры Моц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2 шиллинга 1931 г. — австрийская памятная монета, посвящённая 175-летию со дня рождения Моцар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496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084640"/>
            <a:ext cx="5051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Юный компози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19640" y="1197000"/>
            <a:ext cx="2617560" cy="3600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276720" cy="4319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048360" y="2492280"/>
            <a:ext cx="30956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5229360"/>
            <a:ext cx="497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царт в творческом раздумь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514840" y="2322360"/>
            <a:ext cx="3629160" cy="4535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38680" cy="4176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987640" y="1341360"/>
            <a:ext cx="2938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399564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амятник Моцарту в Зальцбурге, на родине композитор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067280" y="260280"/>
            <a:ext cx="47466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21928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 декабря 1791 года – Вольфганг Амадей Моцарт умирает в Вен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льфганг Моцарт похоронен в Вене, на кладбище Св. Марка в общей могиле, поэтому само место захоронения осталось неизвестны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память о композиторе на девятый день после его смерти в Праге при огромном скоплении народа 120 музыкантами исполнялся «Реквием» Антонио Розет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69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6021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мятник Моцарту в Ве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7564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Моцарт – это молодость музыки, это вечно юный родник, несущий человечеству радость весеннего обновления и душевной гармонии. Бездонная глубина его человечнейших образов, поразительная смелость его новаторских открытий, двинувших на десятилетия вперёд музыкальное искусство, совершенная гармоничность и стройность формы – вот сила Моцарта, вот величие его искусства, на увядаемого в веках. Вот почему мы так горячо, так нежно любим этого удивительного композитора".       Дмитрий Шостак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сновные произведени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 опер ( Свадьба Фигаро, Дон Жуан, Волшебная флейта, Похищение из сераля и други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9 симфо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7 месс, среди которых: «Коронационная» (1779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Реквием» (1791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2 концерта для разных инструмен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 серенад для струнного оркестра, в том числ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Маленькая ночная музыка» (178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 дивертисментов для оркест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личные ансамбли духовых инструмен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наты для различных инструментов, трио, дуэ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 сонат для фортепиа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 циклов вариаций для фортепиа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ондо, фантазии, пье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лее 50 ар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самбли хоры, пес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000" y="4436640"/>
            <a:ext cx="821844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Моцарт – это молодость музыки, вечно юный родник, несущий человечеству радость весеннего обновления и душевной гармонии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митрий Шостак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184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ольфганг Амадей Моцар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88000" y="1052280"/>
            <a:ext cx="435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дился 27 января 1756 года в горо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льцбург (Австр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узыкальные способности Моцарта проявились в очень раннем возрасте, когда ему было около трёх л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7894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43214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го отец Леопольд был одним из ведущих европейских музыкальных педагог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ец обучил Вольфганга основам игры на клавесине, скрипке и орга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646880" cy="6193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32360" y="6093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еопольд Моца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003280" y="260280"/>
            <a:ext cx="3961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мья Моцартов четыре года путешествовала с концертами по всей Европ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церты маленького Моцарта, где он выступал вместе с сестрой, вызывали бурю восторга, удивление и восхищ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4753080" cy="4618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589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рия Анна Моцар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аршая сестра Вольфганга Амад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43280" y="1125000"/>
            <a:ext cx="4500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Семилетний Моцарт с отцом и сестрой  Марией Анной на концерте в Париже (1763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268880" cy="65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емья Моцартов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84872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64000" y="188640"/>
            <a:ext cx="3780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4 лет Вольфганг посетил Италию, где его концерты проходили с потрясающим успех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Болоньи впервые в истории Академии её членом  стал столь юный компози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51544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40672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льцбург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трети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царта неприветливо, счастливое детство и юность закончились… началась жизнь, полная творческих свершений и несбывшихся надеж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24360" y="620640"/>
            <a:ext cx="5046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45:24Z</dcterms:created>
  <dc:creator>Alina</dc:creator>
  <dc:description/>
  <dc:language>en-US</dc:language>
  <cp:lastModifiedBy>Alina</cp:lastModifiedBy>
  <dcterms:modified xsi:type="dcterms:W3CDTF">2009-03-10T06:47:29Z</dcterms:modified>
  <cp:revision>9</cp:revision>
  <dc:subject/>
  <dc:title>В чём сила музыки  В. А. Моцарта?</dc:title>
</cp:coreProperties>
</file>