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20.png" ContentType="image/png"/>
  <Override PartName="/ppt/media/image28.jpeg" ContentType="image/jpeg"/>
  <Override PartName="/ppt/media/image30.png" ContentType="image/png"/>
  <Override PartName="/ppt/media/image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4CA-8BFA-476C-9E3D-424FC9E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A99-EA79-4D60-9320-B5C3ECE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348B-0512-4F87-AB63-23FC201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5874F-B796-4003-AD83-4065B7E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8A12-5123-45FF-8668-4E72E5A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9ACE6-EE26-4071-832B-4DB380A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70BEF-B4DB-4279-9EDE-271CBE9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B7A8-1B90-4B81-9637-DFA9EE8B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305BB-2B29-4A9B-A6E3-B3E9E03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0FAA-CC91-4C5B-BD63-37695A0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DD3A1-3EF6-435F-AD44-F58908DB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622FF-83E0-44DD-ADD2-A09812C4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661-070B-4579-A3D3-8F79FD53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B5A7A-4D7B-4DAF-B820-CFE623C7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CAE14-9518-4A02-9F44-6355A5EE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60718-659A-40CA-8C93-481776F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4F16F-3FE8-427E-B892-778A81F8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97207-BD81-4727-B90E-E08F7DD7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ED3A1-8742-47EB-ABEF-BCA30FC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CBF7F-9DBF-448D-9D59-5DDEFB0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79FD2-8B0F-435B-A604-227399C6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149A-9E62-454C-9EEF-FBEB8EAF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05BD9-1D0E-4968-B23C-000DCD99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39B-ED5B-4B6D-9947-5194B76E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55E5D-EC42-478E-9061-878FEB46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38A95-7CCA-4BFB-85F0-B74A1FFA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DC1F2-55C8-4025-9178-FF9E6E40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01F45-C9C2-4281-B5AF-1ACC63BE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49E00-CE0F-46C1-AC72-8096D1B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E10E3-F2BB-474B-A00F-B1ED734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9723-CBFF-4A52-A4FC-F0A3E01A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A3530-909A-406D-984B-3D02A3FB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3126A-3635-4A9A-B209-C78B7750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03B6-93C9-48F4-BB5A-592AE273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7D2-4DBD-42C6-9541-51AD301E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535AB-8E58-42EA-BA86-A787FC1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DC3CE-3E89-433C-84C7-6C647A1D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EC9C6-2A66-4112-98CE-799A672C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50398-82CB-4112-B8FC-2B2C07F3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133F6-FBD1-4D3F-920D-AB07BA3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427D-D922-4A77-AFF0-9F36E7C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12954-F236-4652-A38B-20093153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787B8-C775-4AF9-9D73-C36CDEE3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DD03F-2B36-4426-A673-1AF4A35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3C079-BBBE-4480-BFD0-9C2FFA5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DBC-AE80-44DC-8D22-7E975D4B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F2CC4-E065-417A-B574-DD7D5AF0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16EB4-30D6-42E7-8B39-88D928D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4AA97-1C27-4AF1-BBB2-87DF2DCE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CA170-FF4D-4E1C-87A2-CC12D5E2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448D6-79D8-4996-9D44-7FE29271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51A7D-7123-45CA-A618-E09F840D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78F81-A04E-447D-88B7-3A83DBD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00805-8215-4F7D-9293-F49D19E2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71DC0-6240-4037-ADF7-FCFEB1F8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32B73-A74B-4B2C-9A14-E7FEEF41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7F8-EE57-4127-B9FA-FEDBAD2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FADA3-A682-44B3-BBCA-92620CD9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8921A-4B66-4662-8C2F-1D41F93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4E78D-B863-48CB-9606-A5D3683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1C935-A7DF-42C0-8F72-76D5010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67DDF-B44E-4D60-B533-CC2FD53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CC6D9-2B91-4894-B00C-6DBD913D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D2F0F-661A-4245-BB14-74AAD019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8329F-6FF2-4D3C-B4F0-050210E4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07E23-DB55-4A13-9D7F-EB66337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8441E-BB80-4089-8A0E-F074F44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B567-042E-46FF-9191-C46AFABC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73BEA-87E4-4889-909C-9FA8F871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B01A8-5DBE-42ED-9603-FADB2A6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C75A9-72A6-4389-978B-8B7ECF84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A5B078-E7C3-4867-84C9-72F61F07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99C64-EB87-41BB-81D0-AB6BAA6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35B5C-1AF3-4FF2-A78D-988EC89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54548-E606-4C33-97CB-D4D2F72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ADADD-0B69-4ADD-8ACC-006DE166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9C6F4-365A-43EF-A79C-DAF75085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E8AFD-148D-4E75-8B23-89679113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3D1-F3D8-4C95-935D-A9F017D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B2E20-09DC-4528-8BC4-A81090E7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F595D-4057-4020-9DED-023D1C8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D58F0-F5BA-4589-A824-1C5BC096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FA190-905B-4C29-980D-6D412E6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9454D-8ECB-4AB5-8FEA-2C42DB3A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E158D-72B3-44E4-8B1A-2807037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2E08C-0247-457E-B73B-CA55111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DAA75-BC0C-4D95-9A53-671AC3C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BD05E-FB09-430A-94CC-33719B2B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017FF-235D-407E-A9B7-C961B721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C1C3-C1C4-492E-AEE9-0821781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5E076-67E0-4CC2-925C-5EAB05CD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96862D-97BF-461F-B0EB-0828AE35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EBB2C-F402-446F-9A7A-EF107DA0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72EDE3-534A-48C1-9F4A-956FBA81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FFF16-82CC-49A8-B00D-D4C2469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752E7-070B-46E6-9114-9F113053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F85F0-7623-462E-87A9-38F9CC8F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65A1A-1E48-458E-950E-FBD26CC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94A2C-E1E5-4E53-B0FE-492CDB4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6F032-4887-4A97-8408-8E60F75B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C9AD-0C24-4F65-BF4B-89B4BBA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45E10-093D-4786-89B6-E0CE8082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FE119-5EC6-4A54-A94D-7DB9DE89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57784-7194-4B16-B2B8-0198B037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40BF3-8F31-46D1-9B1B-8C50869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0ACFF3-0ADB-4851-B634-05DB538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892FA-76C5-4BF9-9349-3FBF0A5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38CD4-B668-4BD3-BBF0-B5263C58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C5898-2873-4094-BC46-3A383CAB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6E37D-4BF8-4147-A8D1-35331F3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4E54A-477A-4A82-8E5D-988F59CA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B24-ACA1-4779-B8D9-0E923A89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610-545A-4C97-94BF-195E2C0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D4255-9313-43B5-A36D-02A93B3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0DBAA-114E-4231-81BF-6000020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C5562-8549-4512-8DAA-E3ECA7B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D1496-5994-467E-8C97-46A04AAB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A659C-B130-49A3-9504-9CA21BDB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98B85-507C-484F-9214-4935E6C3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A348E-D9D8-4B47-AAC4-FE2082DE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C5D8F-321D-45F3-AF85-0D8194D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A362A-429F-48C1-B186-86BACAF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5F510-27B6-4730-BABD-4F5746E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6C55-A9AE-4BD3-AC77-7CB8215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34EDD-0D87-4061-B494-35359E09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4A86F-4059-4143-9F51-AC86DFCD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C5982-2B23-4FBF-A4F7-03E5E71C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992EF-A05D-4C46-B285-825886C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F5FA8-55F3-4700-AA81-14BD475C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114A5-4237-4C49-BBA0-F62E2909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9C16B-B734-4078-B65A-5EE692FA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BF2D7-3A5E-48FA-BC6C-687A527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026AD-88D5-42F6-9FB5-BE659431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2F43D-8852-4EC5-80CA-F748CBE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A07B-1689-40D3-8BD9-13E8C953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34F86-5491-48F4-856A-E25249A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610CB-D8D0-473E-90F9-664BD15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6A159-D084-49AC-B4E8-D3A84FF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D2D99-976D-4B3A-B4CC-0A27243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1151C4-6103-4CC2-801F-A4269A66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714EA-42D1-40D4-B405-94BB29F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527E4-8C20-4994-8E00-8F2DB2C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5BB7B-892C-4333-9201-779CC6B2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ECC91-2899-4415-BFFF-8358FE97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DF100-5CEC-474F-9B72-7A40683F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316C-3FCF-46EC-A12F-C007AA49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D7C4F-1E4F-45D7-AA47-13FF0AB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B6B71-C979-4575-8885-FBC02745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302D35-F90E-4DDF-A4F2-D60B40A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15C39-FE50-424E-BE65-2F42C931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0F98B-2E00-4569-B011-84AE09F0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D3668-9665-4FD3-ABAD-627A788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A82D3-D7ED-4C77-B8FA-84D98E42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841D5-363F-4CDD-BF0F-DE6E3A93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1D7F9-625C-4042-A2DA-208A33B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B7911-DC6B-4FBE-A69B-B34FA069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8AAE-FF7A-4B40-B04F-F4FBDB9E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3A54B6-A906-458D-B11E-92D1CF17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35375-6248-4019-AB54-EB772971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03DE0-F998-48B3-9D57-090F9897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1BD53E-9FC5-496E-B4F1-4981533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5A11F-496B-423F-B108-7593666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297D6-A392-40ED-9CA6-15C41A09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91762C-443F-4CF6-A5C2-40DAAB4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9109B-6FC2-4F67-8E71-27A3ACC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25B66-A8E0-4F3E-9853-2946D45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B56B5-7427-4B89-86DC-4B4C5C1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7D74-4A13-4F22-9DCD-61B3EB32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6237E-B032-4B51-A9DA-6303887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F66DC2-3C1E-4F3E-8F85-E39C980E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FD0A6-E64F-461D-A73C-480BBB20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41FF0-40BD-4CD7-8C67-EC9FE007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950D3D-255C-4450-A2C5-0A6EEC7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802A7-F2B1-4B17-922A-570DFA8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95C6ED-0772-43F6-8BE2-F99A5163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EC8680-BF7C-43D6-8827-415CCD7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6EEA52-039C-4CEC-9B47-6F07372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427FF-2931-4140-9C31-7F9DD87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9A92-C24A-44E2-B7AD-D6459F7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9E34BF-325B-4498-BEA4-9B947DA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0BC18F-2EC8-46BC-B68C-8B81DC8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98606-C3D5-4B3D-B014-EC965943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4F28F-AF64-46A5-887C-10FF6500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5CC48B-BF3C-4327-95D1-02E2F194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E64E53-A7B6-4A8C-BA13-36F07DBC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B49A8-D530-49B7-8979-6374BC2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F7A227-E0F7-4FBF-8B76-3792F91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8A9CF-E60C-425D-8A19-9D66F23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668933-174E-4BFE-A014-51912BE7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FFFC-681B-4A52-8548-BAB5BF4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17FCC7-F790-434D-9423-7BCCB9E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B901C-97DF-4A74-BF79-784BF1A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F2476-FCF5-486D-8A07-4FA3D85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20A8D7-7CDD-44E7-8D99-1EBFA8E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3EB4FC-8672-4235-A1B4-61BE0FEF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0126B9-A9C1-4BC2-BFEE-A3969B44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AC071C-A458-49F5-BFA2-0886A93A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801A5F-462A-4D11-B41B-49E1AAB6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B8081-7A9D-4A90-B3DE-1B0738F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2BE98-14A2-439E-A027-4BE59800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41BF-F3F3-4582-9DA1-9EAC58D9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B1B6AC-3331-457A-A0B8-AD152CF8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661D58-A6A3-4395-95CB-8F77D25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6FC77A-995C-4DC4-B4F7-92AB62B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145510-B57A-4D93-9355-C2E233F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069559-767D-4007-8F37-07B50A6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78778-0B10-448D-9C78-93E46F36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9EBB62-45E6-46B4-9DEF-2E09D1C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40C691-C7BD-4D0F-9725-0DE86B70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C3AFE3-90C8-431A-B7F5-F299D1E9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FA0EA8-5836-4F67-A8A0-CC9549C7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B67D-D781-4929-8E04-4F88C9E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C831EC-47C5-4CC9-A5D5-BFA855CD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5AC3B2-EABD-4EC2-B054-001D404F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E5DA8B-B5A6-4875-9AAB-C519456F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8D27D5-6656-44F8-8E1E-2F1C669F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BC6D25-716F-4951-B000-8C06C28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360D48-0FAF-4480-870C-08E7867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66D168-CB0B-4839-B5EE-19E97C5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D0F4A-FFD7-414A-B9CE-69DCAE7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F6E50D-D0D7-40C1-BB8C-D8110BE7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B71F69-BFF8-4B7A-B2C5-1A14CE60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094-CA06-4A72-8682-66C182DC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37EA-176C-4CCD-B4AF-3BAD6FE8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8F8041-8FE9-4772-94DC-1DD9B272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5AC5DF-9249-483F-B4E8-8D20910F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BFD947-CF21-4FA1-97B7-DB3399F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872614-C1E8-4D26-ABBA-3314BDD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F7C6B0-79C0-4408-8F5D-E43FC875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1C252B-BAAE-4BE7-AF67-A3639AE2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16673C-1A39-4FE4-8F0C-08C9D16C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6F1FF-09C2-4264-9328-9E6191D7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C2A4F2-C75C-41AC-8221-DDA0362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DF906B-12A5-4881-ABFA-98A3B62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E295-C0D2-4B9A-8312-AABFABB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E814BD-EEE3-4B08-8653-C9F6F05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B3110-F6CC-43F3-B02B-0C42D280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8EDB0E-7693-4220-AB2B-D6C1E0F5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7D4D74-347A-4C0D-AD82-09D6C15B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8BA963-4263-40E1-B834-E376DABD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A77FA-FC7C-4273-8E52-79D9C40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317B68-7936-4B66-B464-5AE2EF0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D8E27F-EEC9-46F6-966F-C09879D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FF0EF2-F382-4AFA-975E-A4D1CDD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F61364-346D-41F6-9CB3-D9B57B1F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298F-E33E-43E6-8419-1A62558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BF3E48-F2AD-4A1B-9C4F-5B57C6E9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F3B773-87EE-4A31-9889-7422456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CBEB9E-38F6-4A81-A932-1C840C7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4F3068-C24E-4614-8680-D31A5E5C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902290-6BAA-4A54-BB82-4A1435C3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4A0039-5E61-4374-8A78-62927365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41A25-34F7-48FF-98EF-05FDA6D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50CBD6-8A0E-4152-BE0B-7F5DEC20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1D05AA-C5F9-44A0-8653-C0720C3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FC0133-40B2-418D-8A7D-D5B6919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5578-B2D4-494B-A267-93E198C2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876C3A-A5A0-4C6C-B598-9901D9F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223132-197D-416A-978A-B520B95E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BEE153-C272-4569-AC05-9B4774AC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F106BD-F21D-447F-890A-414BDD83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A927C4-F6BE-471F-A58E-3EFCC54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1A3630-01F9-4D6C-BB92-065DF976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6648CF-F75F-415D-8CAA-B3513B49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6E66-2268-4D85-808F-59CED9EC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CB67-D04D-4285-9223-6B4440F4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1B81-9D2D-4284-885D-7A74EE4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C470-BB2B-4BC1-8EE1-80FBEFDA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57C0-D6A1-4B66-A5A5-C59EB40E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07A0-2E22-4670-943B-3D97A99B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90A-FDA0-4A05-9A22-395055FC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0D419-E4A2-4733-BD59-9A24DA63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5A3D0-5EBB-496E-A53D-F5558E57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7FA87-18B7-4666-B5C8-75BA7CC2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9AA3-C542-4361-9FF2-D40216F1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0072-8406-422D-A56C-4D87FEE8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284D-6041-4083-A052-A470FE9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86E6-884D-4848-AE92-530AABA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F6719-4101-4370-A849-AF7DCC88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3E76-8ABD-477E-9E0E-E96352A6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FF5C6-D0F2-4DE1-84CB-AEF3EC25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ACD-975F-4D1F-BCBE-A402D99E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31CF5-729D-49C6-A89D-654D39D7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A60D-01BD-482A-8ABD-1713E44E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906A-1850-4E57-9D57-F758268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E4A5-7196-447A-9CE2-1EA2557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F426-8253-472C-BFB9-A2EEDB3F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07B88-A0D8-4548-9907-5E1AAB8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D9CB-D669-4B17-9830-4DFC15C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BCB5E-6D70-4F1C-A7CB-1754B4F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C2E0-9A72-4E06-87CF-DD301A25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930E-380E-42DE-B487-09270CF0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3C5-53A8-456B-93C7-0FE0181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6612-7D3A-4BBA-AFDE-D985C07F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8A18B-81F0-49CE-B073-03F286EC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540E-B926-401C-888B-44D2AEBF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0538-4F9D-45C4-98AA-89FDE82C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75019-73AA-413C-A036-FC508BC0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A03C7-4138-464A-B607-B4C06070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A47F-D5CD-413B-ACED-932184B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1A6C-4C15-407C-A599-FEC9309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C0AD4-0606-457F-9BE5-EFC6D62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4FD84-E42B-4324-95EE-E895CB4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F92-E42C-444C-AEAB-5477021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652CE-45E1-4415-BE8F-C896358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553A-D45C-44D3-B414-ED32014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D2EF2-7AF7-4CAA-A4D0-87A8F270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01AD8-34E7-443C-A5D5-63B4E74B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B85F-881B-4D77-95A9-9D23DC9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4861-AB4D-42B0-86E1-5B981B1A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9781-B2C5-4472-8207-4CD00125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7F7D5-7E4C-4D3A-B560-B6721BDD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EF45-D3D1-476F-A9C5-7DD5E22F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C7E9-069E-492A-BABB-6EC3167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116-167C-4383-BB1D-9FB51C30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83516-7506-4CB3-9775-2EFE6F3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E1DC-6F6E-4A83-8D6F-C717E8A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B0F0C-3284-4F7E-8195-A035D673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BBB1-6876-424C-AE93-EF30330A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13EC-7BCF-4512-BA44-F1A63881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DE23-74D4-48CB-BADA-97F5D96D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3547-C843-4CE6-87F0-FE38706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600C1-90B7-4969-B6B1-1EFDD0B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0F833-BCDB-4085-859A-4FB8674D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EB3D-7CC3-443D-87CC-A0757D01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16A-6135-483E-9064-B70F46D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5128-5E9C-4EF5-AA0A-F90C2CD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8A32A-6CAB-4C6B-BCF4-E9DC65C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6D1A9-449F-4D98-8348-613DA907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9A232-9BDD-4D0A-8161-5C2C00B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2BA24-96BF-4AD3-83A2-9943A9E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438A-C477-48B0-BB47-3154D8EE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1DCA-C6A1-4D34-A675-290E36D9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2190-DC43-4528-87C1-A2FC10BA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5DC37-46BC-4272-AA32-258D66FD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7309-B6D8-4FF1-A073-E6BB959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E5DD-AE96-46F5-9098-C426B4D9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50E8-62E8-4DFC-A04D-B6812FA0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D65-CDC0-461B-ACC9-3CFE4F49A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7C9-843C-419E-BADE-A8499E556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FA73-BCB8-4E14-9732-FE6A0B9F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08E4-456F-403B-953E-8F1CF8BF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92D8-57B3-43FE-9BFD-6EC5B4255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A64-1D2C-4461-A020-20AD0859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F99A-481E-4CC5-A5F1-0887D2DBF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F021-2390-4176-96CF-AAFE0223E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B0B-3EB6-4D0B-A0CD-6CF4FB896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AAA-876F-4A1B-B08A-4400F48B2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A61D-7BBA-4C02-B69C-DC775CBA1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836-477E-4B60-9430-0816E049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CDC3-6152-4C5D-9C1E-9AB8EB9E9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2A94-48D7-4712-9822-866E62B68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E950-E285-4830-9990-DB37AF6F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8347-FDD1-4782-A142-07A282FC4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06A-D5D2-4960-978F-9D42AEAC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F68A-AF2E-4B90-AA00-89B8F0A7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D38-99C2-4312-82C7-B51D6ACE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972B-CA29-4C92-AA7A-3BAB4D64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2DBB-D002-404D-9A7E-BD65E900F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136A-C2B2-4F1F-A930-8D7B45466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332-C203-4A50-A336-A9F97FAE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869B-036B-41EA-97C9-D2C805A48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12F-E2A9-45AE-93E6-914BFF27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6ABC-4BC2-4733-B5D7-43D6EF8FF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0" y="143640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ма урока:</a:t>
            </a:r>
            <a:r>
              <a:rPr b="1" lang="en-US" sz="40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40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«Второе путешествие </a:t>
            </a:r>
            <a:br>
              <a:rPr sz="7200"/>
            </a:br>
            <a:r>
              <a:rPr b="0" lang="en-US" sz="7200" spc="-1" strike="noStrike">
                <a:solidFill>
                  <a:srgbClr val="663300"/>
                </a:solidFill>
                <a:latin typeface="Monotype Corsiva"/>
              </a:rPr>
              <a:t>в музыкальный театр»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r>
              <a:rPr b="0" lang="en-US" sz="5400" spc="-1" strike="noStrike">
                <a:solidFill>
                  <a:srgbClr val="77491f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980" fill="hold"/>
                                        <p:tgtEl>
                                          <p:spTgt spid="1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65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вучит полонез и танцует поляк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1045440" y="1197000"/>
            <a:ext cx="59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 хота – конечно испанец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975600" y="1844640"/>
            <a:ext cx="74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А если «Камаринская» зазвучит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975240" y="256536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сполнят для вас русский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2"/>
          <a:srcRect l="613" t="19874" r="0" b="7112"/>
          <a:stretch/>
        </p:blipFill>
        <p:spPr>
          <a:xfrm>
            <a:off x="2438280" y="1903320"/>
            <a:ext cx="4365720" cy="433404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1" name="Picture 9" descr="Хоакин Соролла е Бастида Арагонская хота 1914 г"/>
          <p:cNvPicPr/>
          <p:nvPr/>
        </p:nvPicPr>
        <p:blipFill>
          <a:blip r:embed="rId3"/>
          <a:srcRect l="3137" t="16861" r="4352" b="5663"/>
          <a:stretch/>
        </p:blipFill>
        <p:spPr>
          <a:xfrm>
            <a:off x="2411280" y="1909800"/>
            <a:ext cx="4368960" cy="4327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372" name="" descr=""/>
          <p:cNvPicPr/>
          <p:nvPr/>
        </p:nvPicPr>
        <p:blipFill>
          <a:blip r:embed="rId4"/>
          <a:srcRect l="688" t="4594" r="860" b="0"/>
          <a:stretch/>
        </p:blipFill>
        <p:spPr>
          <a:xfrm>
            <a:off x="2340000" y="3213000"/>
            <a:ext cx="4537080" cy="30006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74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46"/>
          <p:cNvSpPr/>
          <p:nvPr/>
        </p:nvSpPr>
        <p:spPr>
          <a:xfrm>
            <a:off x="4284720" y="3952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Т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   Н   Е   Ц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19" name="Rectangle 3"/>
          <p:cNvSpPr/>
          <p:nvPr/>
        </p:nvSpPr>
        <p:spPr>
          <a:xfrm>
            <a:off x="0" y="69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БАЛЕ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4"/>
          <p:cNvSpPr/>
          <p:nvPr/>
        </p:nvSpPr>
        <p:spPr>
          <a:xfrm>
            <a:off x="826920" y="2273400"/>
            <a:ext cx="763272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(француз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ball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буквально - тан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льно   –      хореографический спектакль,   в     котором         органически сочетаются музыка, танец, драматическое действие   и   элементы  изобразите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2" name="Rectangle 3"/>
          <p:cNvSpPr/>
          <p:nvPr/>
        </p:nvSpPr>
        <p:spPr>
          <a:xfrm>
            <a:off x="0" y="84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ЛИБРЕТ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"/>
          <p:cNvSpPr/>
          <p:nvPr/>
        </p:nvSpPr>
        <p:spPr>
          <a:xfrm>
            <a:off x="1187280" y="2363760"/>
            <a:ext cx="7632720" cy="31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ита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ьянское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bretto, буквально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 книжечка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ткое изложение содержания оперы,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перетты,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балета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Л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бретт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представляет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обой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литературно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-драматическую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основу оп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25" name="Text Box 3"/>
          <p:cNvSpPr/>
          <p:nvPr/>
        </p:nvSpPr>
        <p:spPr>
          <a:xfrm>
            <a:off x="4211640" y="1125360"/>
            <a:ext cx="47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Театр уж полон; ложи блещу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Партер и кресла, всё кипит;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В райке нетерпеливо плещут,</a:t>
            </a:r>
            <a:br>
              <a:rPr sz="2200"/>
            </a:br>
            <a:r>
              <a:rPr b="1" i="1" lang="en-US" sz="2200" spc="-1" strike="noStrike">
                <a:solidFill>
                  <a:srgbClr val="663300"/>
                </a:solidFill>
                <a:latin typeface="Times New Roman"/>
              </a:rPr>
              <a:t>И, взвившись, занавес шумит.</a:t>
            </a:r>
            <a:r>
              <a:rPr b="1" lang="en-US" sz="2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663300"/>
                </a:solidFill>
                <a:latin typeface="Times New Roman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6" name="Picture 4" descr="Кипренский1"/>
          <p:cNvPicPr/>
          <p:nvPr/>
        </p:nvPicPr>
        <p:blipFill>
          <a:blip r:embed="rId2">
            <a:lum bright="-6000"/>
          </a:blip>
          <a:srcRect l="3160" t="0" r="0" b="0"/>
          <a:stretch/>
        </p:blipFill>
        <p:spPr>
          <a:xfrm>
            <a:off x="828720" y="1197000"/>
            <a:ext cx="3421080" cy="44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27" name="Picture 5" descr="napishi"/>
          <p:cNvPicPr/>
          <p:nvPr/>
        </p:nvPicPr>
        <p:blipFill>
          <a:blip r:embed="rId3"/>
          <a:stretch/>
        </p:blipFill>
        <p:spPr>
          <a:xfrm>
            <a:off x="4861080" y="3795840"/>
            <a:ext cx="3024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Пётр Ильич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Чайковский </a:t>
            </a:r>
            <a:br>
              <a:rPr sz="6600"/>
            </a:b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Балет – сказка «Щелкунчик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31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Горизонтальный свиток 3"/>
          <p:cNvSpPr/>
          <p:nvPr/>
        </p:nvSpPr>
        <p:spPr>
          <a:xfrm>
            <a:off x="2771640" y="476280"/>
            <a:ext cx="374508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1892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г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5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вторая половина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XIX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6" descr="mt_3"/>
          <p:cNvPicPr/>
          <p:nvPr/>
        </p:nvPicPr>
        <p:blipFill>
          <a:blip r:embed="rId2">
            <a:grayscl/>
            <a:lum contrast="6000"/>
          </a:blip>
          <a:srcRect l="0" t="0" r="0" b="16248"/>
          <a:stretch/>
        </p:blipFill>
        <p:spPr>
          <a:xfrm>
            <a:off x="826920" y="1484280"/>
            <a:ext cx="7561440" cy="40845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1435" name="Rectangle 8"/>
          <p:cNvSpPr/>
          <p:nvPr/>
        </p:nvSpPr>
        <p:spPr>
          <a:xfrm>
            <a:off x="6070320" y="1557360"/>
            <a:ext cx="2440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2d00"/>
                </a:solidFill>
                <a:latin typeface="Monotype Corsiva"/>
              </a:rPr>
              <a:t>П. И.Чайковский</a:t>
            </a:r>
            <a:br>
              <a:rPr sz="2000"/>
            </a:br>
            <a:r>
              <a:rPr b="1" lang="en-US" sz="1600" spc="-1" strike="noStrike">
                <a:solidFill>
                  <a:srgbClr val="5a2d00"/>
                </a:solidFill>
                <a:latin typeface="Times New Roman"/>
              </a:rPr>
              <a:t>Компози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9"/>
          <p:cNvSpPr/>
          <p:nvPr/>
        </p:nvSpPr>
        <p:spPr>
          <a:xfrm>
            <a:off x="716400" y="2565360"/>
            <a:ext cx="2242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2d00"/>
                </a:solidFill>
                <a:latin typeface="Monotype Corsiva"/>
              </a:rPr>
              <a:t>Мариус Петипа</a:t>
            </a:r>
            <a:br>
              <a:rPr sz="3200"/>
            </a:b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Балетмейстер 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4"/>
          <p:cNvSpPr/>
          <p:nvPr/>
        </p:nvSpPr>
        <p:spPr>
          <a:xfrm>
            <a:off x="1187280" y="4437000"/>
            <a:ext cx="1081080" cy="11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Picture 18" descr="М"/>
          <p:cNvPicPr/>
          <p:nvPr/>
        </p:nvPicPr>
        <p:blipFill>
          <a:blip r:embed="rId3"/>
          <a:srcRect l="0" t="0" r="0" b="22282"/>
          <a:stretch/>
        </p:blipFill>
        <p:spPr>
          <a:xfrm>
            <a:off x="826920" y="3049560"/>
            <a:ext cx="2278080" cy="2540160"/>
          </a:xfrm>
          <a:prstGeom prst="rect">
            <a:avLst/>
          </a:prstGeom>
          <a:ln w="0">
            <a:noFill/>
          </a:ln>
        </p:spPr>
      </p:pic>
      <p:sp>
        <p:nvSpPr>
          <p:cNvPr id="1439" name="Oval 19"/>
          <p:cNvSpPr/>
          <p:nvPr/>
        </p:nvSpPr>
        <p:spPr>
          <a:xfrm>
            <a:off x="6948360" y="3429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Picture 22" descr="Чайковский 8 "/>
          <p:cNvPicPr/>
          <p:nvPr/>
        </p:nvPicPr>
        <p:blipFill>
          <a:blip r:embed="rId4"/>
          <a:srcRect l="0" t="0" r="7310" b="5703"/>
          <a:stretch/>
        </p:blipFill>
        <p:spPr>
          <a:xfrm>
            <a:off x="6361200" y="2205000"/>
            <a:ext cx="19857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42" name="Text Box 3"/>
          <p:cNvSpPr/>
          <p:nvPr/>
        </p:nvSpPr>
        <p:spPr>
          <a:xfrm>
            <a:off x="5003640" y="1484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AutoShape 4"/>
          <p:cNvSpPr/>
          <p:nvPr/>
        </p:nvSpPr>
        <p:spPr>
          <a:xfrm>
            <a:off x="3276720" y="333360"/>
            <a:ext cx="2808000" cy="309708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74360 h 3097080"/>
              <a:gd name="textAreaBottom" fmla="*/ 232308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3227400" y="1125360"/>
            <a:ext cx="278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Пётр Ильич Чайковский         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Балет                        «Щелкунч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AutoShape 6"/>
          <p:cNvSpPr/>
          <p:nvPr/>
        </p:nvSpPr>
        <p:spPr>
          <a:xfrm>
            <a:off x="3276720" y="3429000"/>
            <a:ext cx="2808000" cy="3168720"/>
          </a:xfrm>
          <a:custGeom>
            <a:avLst/>
            <a:gdLst>
              <a:gd name="textAreaLeft" fmla="*/ 351000 w 2808000"/>
              <a:gd name="textAreaRight" fmla="*/ 2457000 w 2808000"/>
              <a:gd name="textAreaTop" fmla="*/ 792000 h 3168720"/>
              <a:gd name="textAreaBottom" fmla="*/ 23767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276720" y="4076640"/>
            <a:ext cx="266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Monotype Corsiva"/>
              </a:rPr>
              <a:t>Эрнст Теодор Амадей Гофман</a:t>
            </a:r>
            <a:r>
              <a:rPr b="1" lang="en-US" sz="2000" spc="-1" strike="noStrike">
                <a:solidFill>
                  <a:srgbClr val="ffffcc"/>
                </a:solidFill>
                <a:latin typeface="Monotype Corsiva"/>
              </a:rPr>
              <a:t>  Сказка            «Щелкунчик и мышиный коро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Picture 8" descr="75847portrait-of-piotr-ilyich-tchaikovsky-1840-93-russian-composer-1893-posters"/>
          <p:cNvPicPr/>
          <p:nvPr/>
        </p:nvPicPr>
        <p:blipFill>
          <a:blip r:embed="rId2"/>
          <a:srcRect l="4439" t="6224" r="5032" b="11028"/>
          <a:stretch/>
        </p:blipFill>
        <p:spPr>
          <a:xfrm>
            <a:off x="1176480" y="836640"/>
            <a:ext cx="2095200" cy="254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48" name="Picture 9" descr="908"/>
          <p:cNvPicPr/>
          <p:nvPr/>
        </p:nvPicPr>
        <p:blipFill>
          <a:blip r:embed="rId3">
            <a:lum bright="-6000"/>
          </a:blip>
          <a:srcRect l="0" t="0" r="0" b="1016"/>
          <a:stretch/>
        </p:blipFill>
        <p:spPr>
          <a:xfrm>
            <a:off x="6075360" y="692280"/>
            <a:ext cx="1952640" cy="277956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pic>
        <p:nvPicPr>
          <p:cNvPr id="1449" name="Picture 10" descr="3200"/>
          <p:cNvPicPr/>
          <p:nvPr/>
        </p:nvPicPr>
        <p:blipFill>
          <a:blip r:embed="rId4">
            <a:lum bright="-12000"/>
          </a:blip>
          <a:srcRect l="4660" t="0" r="2156" b="0"/>
          <a:stretch/>
        </p:blipFill>
        <p:spPr>
          <a:xfrm>
            <a:off x="1173240" y="3500280"/>
            <a:ext cx="2070000" cy="2594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0" name="Picture 11" descr="exmo9016522big"/>
          <p:cNvPicPr/>
          <p:nvPr/>
        </p:nvPicPr>
        <p:blipFill>
          <a:blip r:embed="rId5">
            <a:lum bright="-6000"/>
          </a:blip>
          <a:srcRect l="0" t="0" r="0" b="366"/>
          <a:stretch/>
        </p:blipFill>
        <p:spPr>
          <a:xfrm>
            <a:off x="6084720" y="3573360"/>
            <a:ext cx="1930680" cy="2583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3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664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2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4360" y="498960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5a2d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5a2d00"/>
                </a:solidFill>
                <a:latin typeface="Monotype Corsiva"/>
              </a:rPr>
              <a:t>«Битва с мышами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Picture 5" descr="467px-Porträt_des_Komponisten_Pjotr_I"/>
          <p:cNvPicPr/>
          <p:nvPr/>
        </p:nvPicPr>
        <p:blipFill>
          <a:blip r:embed="rId2"/>
          <a:srcRect l="-688" t="0" r="-1222" b="0"/>
          <a:stretch/>
        </p:blipFill>
        <p:spPr>
          <a:xfrm>
            <a:off x="2843280" y="546120"/>
            <a:ext cx="354816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55" name="Picture 7" descr="movie-projector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82986" fill="hold"/>
                                        <p:tgtEl>
                                          <p:spTgt spid="1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2520" y="4971600"/>
            <a:ext cx="8245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Monotype Corsiva"/>
              </a:rPr>
              <a:t>Пётр Ильич Чайковский</a:t>
            </a:r>
            <a:br>
              <a:rPr sz="32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(1840-1893)</a:t>
            </a: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Вальс снежных хлопьев» из балета «Щелкун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6" descr="movie-projector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748720" y="6453360"/>
            <a:ext cx="395280" cy="3711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467px-Porträt_des_Komponisten_Pjotr_I"/>
          <p:cNvPicPr/>
          <p:nvPr/>
        </p:nvPicPr>
        <p:blipFill>
          <a:blip r:embed="rId3"/>
          <a:srcRect l="-688" t="0" r="-1222" b="0"/>
          <a:stretch/>
        </p:blipFill>
        <p:spPr>
          <a:xfrm>
            <a:off x="2881440" y="547560"/>
            <a:ext cx="3547800" cy="4465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5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545840" y="41400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 основу оперы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5211000" y="669960"/>
            <a:ext cx="159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6"/>
          <p:cNvSpPr/>
          <p:nvPr/>
        </p:nvSpPr>
        <p:spPr>
          <a:xfrm>
            <a:off x="1311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"/>
          <p:cNvSpPr/>
          <p:nvPr/>
        </p:nvSpPr>
        <p:spPr>
          <a:xfrm>
            <a:off x="1550160" y="1214280"/>
            <a:ext cx="57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ерётся «книжечка» -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8" descr="sadko_big"/>
          <p:cNvPicPr/>
          <p:nvPr/>
        </p:nvPicPr>
        <p:blipFill>
          <a:blip r:embed="rId2"/>
          <a:srcRect l="8590" t="0" r="324" b="0"/>
          <a:stretch/>
        </p:blipFill>
        <p:spPr>
          <a:xfrm>
            <a:off x="1044720" y="1989000"/>
            <a:ext cx="4017960" cy="248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158" name="Picture 9" descr="nutcr18"/>
          <p:cNvPicPr/>
          <p:nvPr/>
        </p:nvPicPr>
        <p:blipFill>
          <a:blip r:embed="rId3"/>
          <a:srcRect l="0" t="7710" r="0" b="0"/>
          <a:stretch/>
        </p:blipFill>
        <p:spPr>
          <a:xfrm>
            <a:off x="4070520" y="3573360"/>
            <a:ext cx="4030560" cy="2479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3300"/>
                </a:solidFill>
                <a:latin typeface="Monotype Corsiva"/>
              </a:rPr>
              <a:t>ХО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066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-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латинско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horus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буквально – толпа, собрание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евческий коллектив, исполняющий вокальную   музыку,   преимущественно многоголосну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ором     называют        музыкальное произведение,    предназначенное     для исполнения певческим коллекти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3300"/>
                </a:solidFill>
                <a:latin typeface="Monotype Corsiva"/>
              </a:rPr>
              <a:t>ВОКАЛИ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a2d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 (французское vocalize,  от   латинского vocalis-гласный звук, звучащий, поющий), специальное   упражнение    для     голоса, исполняемое без слов, на гласный звук.                    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     Однако встречаются вокализы, имеющие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большое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художественное  знач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" descr=""/>
          <p:cNvPicPr/>
          <p:nvPr/>
        </p:nvPicPr>
        <p:blipFill>
          <a:blip r:embed="rId2"/>
          <a:srcRect l="8958" t="26794" r="33152" b="17478"/>
          <a:stretch/>
        </p:blipFill>
        <p:spPr>
          <a:xfrm>
            <a:off x="468360" y="939960"/>
            <a:ext cx="8207280" cy="49370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47516" fill="hold"/>
                                        <p:tgtEl>
                                          <p:spTgt spid="1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47516" fill="hold"/>
                                        <p:tgtEl>
                                          <p:spTgt spid="1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2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755640" y="472428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Мариинский театр                  Санкт-Петербург              Театральная площадь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5" name="Picture 16" descr="mariinka1"/>
          <p:cNvPicPr/>
          <p:nvPr/>
        </p:nvPicPr>
        <p:blipFill>
          <a:blip r:embed="rId2"/>
          <a:stretch/>
        </p:blipFill>
        <p:spPr>
          <a:xfrm>
            <a:off x="755640" y="2060640"/>
            <a:ext cx="3816360" cy="2530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476" name="Picture 17" descr="p_f"/>
          <p:cNvPicPr/>
          <p:nvPr/>
        </p:nvPicPr>
        <p:blipFill>
          <a:blip r:embed="rId3"/>
          <a:stretch/>
        </p:blipFill>
        <p:spPr>
          <a:xfrm>
            <a:off x="4716360" y="2081160"/>
            <a:ext cx="3743280" cy="2498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sp>
        <p:nvSpPr>
          <p:cNvPr id="1477" name="Text Box 18"/>
          <p:cNvSpPr/>
          <p:nvPr/>
        </p:nvSpPr>
        <p:spPr>
          <a:xfrm>
            <a:off x="4788000" y="472284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Михайловский театр         Санкт-Петербург                Площадь Искусств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479" name="Text Box 3"/>
          <p:cNvSpPr/>
          <p:nvPr/>
        </p:nvSpPr>
        <p:spPr>
          <a:xfrm>
            <a:off x="762120" y="5486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Горизонтальный свиток 3"/>
          <p:cNvSpPr/>
          <p:nvPr/>
        </p:nvSpPr>
        <p:spPr>
          <a:xfrm>
            <a:off x="1116000" y="836640"/>
            <a:ext cx="6840720" cy="936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5"/>
          <p:cNvSpPr/>
          <p:nvPr/>
        </p:nvSpPr>
        <p:spPr>
          <a:xfrm>
            <a:off x="1042920" y="2062080"/>
            <a:ext cx="69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йти имена композиторов, которые писали музыку к балету на сказочный сюж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то эти композито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Какие балет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На чьи сказ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Привести в тетради 2-3 примера.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483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Я"/>
          <p:cNvPicPr/>
          <p:nvPr/>
        </p:nvPicPr>
        <p:blipFill>
          <a:blip r:embed="rId2">
            <a:lum bright="-6000"/>
          </a:blip>
          <a:srcRect l="12788" t="3141" r="0" b="2874"/>
          <a:stretch/>
        </p:blipFill>
        <p:spPr>
          <a:xfrm>
            <a:off x="3132000" y="2271600"/>
            <a:ext cx="2909880" cy="4181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16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6"/>
          <p:cNvSpPr/>
          <p:nvPr/>
        </p:nvSpPr>
        <p:spPr>
          <a:xfrm>
            <a:off x="3419640" y="2152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   И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   Е   Т   Т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05" name="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98200" y="404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Бах, Чайковский, Моцарт, Глинка,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6348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54000" y="1197000"/>
            <a:ext cx="74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Арфа, флейта, рояль, скрип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962280" y="1773360"/>
            <a:ext cx="480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ор, солистов голо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973800" y="2349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Всех подружи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2"/>
          <a:srcRect l="3389" t="550" r="2110" b="1101"/>
          <a:stretch/>
        </p:blipFill>
        <p:spPr>
          <a:xfrm>
            <a:off x="755640" y="1989000"/>
            <a:ext cx="2109960" cy="2665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2" name="" descr=""/>
          <p:cNvPicPr/>
          <p:nvPr/>
        </p:nvPicPr>
        <p:blipFill>
          <a:blip r:embed="rId3"/>
          <a:srcRect l="0" t="5466" r="3851" b="0"/>
          <a:stretch/>
        </p:blipFill>
        <p:spPr>
          <a:xfrm>
            <a:off x="2556000" y="2381400"/>
            <a:ext cx="2141280" cy="2703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3" name="" descr=""/>
          <p:cNvPicPr/>
          <p:nvPr/>
        </p:nvPicPr>
        <p:blipFill>
          <a:blip r:embed="rId4">
            <a:lum bright="-6000"/>
          </a:blip>
          <a:srcRect l="14751" t="6605" r="27231" b="42931"/>
          <a:stretch/>
        </p:blipFill>
        <p:spPr>
          <a:xfrm>
            <a:off x="4226040" y="2800440"/>
            <a:ext cx="2138400" cy="2716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4" name="" descr=""/>
          <p:cNvPicPr/>
          <p:nvPr/>
        </p:nvPicPr>
        <p:blipFill>
          <a:blip r:embed="rId5"/>
          <a:srcRect l="14808" t="4528" r="20531" b="0"/>
          <a:stretch/>
        </p:blipFill>
        <p:spPr>
          <a:xfrm>
            <a:off x="6035760" y="3225960"/>
            <a:ext cx="2149560" cy="2724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15" name="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114480" y="2349360"/>
            <a:ext cx="2873160" cy="367200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7">
            <a:lum bright="-6000"/>
          </a:blip>
          <a:stretch/>
        </p:blipFill>
        <p:spPr>
          <a:xfrm rot="19546200">
            <a:off x="1618920" y="393192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8"/>
          <a:stretch/>
        </p:blipFill>
        <p:spPr>
          <a:xfrm>
            <a:off x="3059280" y="2133720"/>
            <a:ext cx="3925800" cy="4390920"/>
          </a:xfrm>
          <a:prstGeom prst="rect">
            <a:avLst/>
          </a:prstGeom>
          <a:ln w="0">
            <a:noFill/>
          </a:ln>
        </p:spPr>
      </p:pic>
      <p:pic>
        <p:nvPicPr>
          <p:cNvPr id="1218" name="" descr=""/>
          <p:cNvPicPr/>
          <p:nvPr/>
        </p:nvPicPr>
        <p:blipFill>
          <a:blip r:embed="rId9">
            <a:lum bright="-6000"/>
          </a:blip>
          <a:stretch/>
        </p:blipFill>
        <p:spPr>
          <a:xfrm rot="21020400">
            <a:off x="6424200" y="3341160"/>
            <a:ext cx="21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219" name="" descr=""/>
          <p:cNvPicPr/>
          <p:nvPr/>
        </p:nvPicPr>
        <p:blipFill>
          <a:blip r:embed="rId10"/>
          <a:srcRect l="8220" t="14696" r="0" b="0"/>
          <a:stretch/>
        </p:blipFill>
        <p:spPr>
          <a:xfrm>
            <a:off x="820800" y="2400480"/>
            <a:ext cx="3887640" cy="2709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0" name="" descr=""/>
          <p:cNvPicPr/>
          <p:nvPr/>
        </p:nvPicPr>
        <p:blipFill>
          <a:blip r:embed="rId11"/>
          <a:srcRect l="0" t="0" r="4596" b="0"/>
          <a:stretch/>
        </p:blipFill>
        <p:spPr>
          <a:xfrm>
            <a:off x="4324320" y="3244680"/>
            <a:ext cx="3887640" cy="2710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1221" name="Picture 10" descr="CC000552"/>
          <p:cNvPicPr/>
          <p:nvPr/>
        </p:nvPicPr>
        <p:blipFill>
          <a:blip r:embed="rId12"/>
          <a:stretch/>
        </p:blipFill>
        <p:spPr>
          <a:xfrm>
            <a:off x="3276720" y="353700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23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6"/>
          <p:cNvSpPr/>
          <p:nvPr/>
        </p:nvSpPr>
        <p:spPr>
          <a:xfrm>
            <a:off x="2050920" y="26114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   У   З   Ы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7"/>
          <p:cNvSpPr/>
          <p:nvPr/>
        </p:nvSpPr>
        <p:spPr>
          <a:xfrm>
            <a:off x="3340080" y="537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69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драматический, 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бывает музыкальный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му сопутствует успех, обычно,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колоссальный!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Его придумал режиссёр,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грают в нём артисты.</a:t>
            </a:r>
            <a:br>
              <a:rPr sz="4000"/>
            </a:b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Идёт в театре и порой - на сцене 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сё, как в жизн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272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46"/>
          <p:cNvSpPr/>
          <p:nvPr/>
        </p:nvSpPr>
        <p:spPr>
          <a:xfrm>
            <a:off x="1224000" y="306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  П   Е   К    Т   А   К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17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552680" y="286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Спектакль на славу удался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И публика довольна вся!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Художнику особые овации</a:t>
            </a:r>
            <a:br>
              <a:rPr sz="4000"/>
            </a:b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За красочные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1320" name="Text Box 3"/>
          <p:cNvSpPr/>
          <p:nvPr/>
        </p:nvSpPr>
        <p:spPr>
          <a:xfrm>
            <a:off x="755640" y="551664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4"/>
          <p:cNvSpPr/>
          <p:nvPr/>
        </p:nvSpPr>
        <p:spPr>
          <a:xfrm>
            <a:off x="1600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5"/>
          <p:cNvSpPr/>
          <p:nvPr/>
        </p:nvSpPr>
        <p:spPr>
          <a:xfrm>
            <a:off x="1143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20574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7"/>
          <p:cNvSpPr/>
          <p:nvPr/>
        </p:nvSpPr>
        <p:spPr>
          <a:xfrm>
            <a:off x="7543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8"/>
          <p:cNvSpPr/>
          <p:nvPr/>
        </p:nvSpPr>
        <p:spPr>
          <a:xfrm>
            <a:off x="7086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9"/>
          <p:cNvSpPr/>
          <p:nvPr/>
        </p:nvSpPr>
        <p:spPr>
          <a:xfrm>
            <a:off x="66294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0"/>
          <p:cNvSpPr/>
          <p:nvPr/>
        </p:nvSpPr>
        <p:spPr>
          <a:xfrm>
            <a:off x="6172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1"/>
          <p:cNvSpPr/>
          <p:nvPr/>
        </p:nvSpPr>
        <p:spPr>
          <a:xfrm>
            <a:off x="5715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52578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3"/>
          <p:cNvSpPr/>
          <p:nvPr/>
        </p:nvSpPr>
        <p:spPr>
          <a:xfrm>
            <a:off x="48006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4"/>
          <p:cNvSpPr/>
          <p:nvPr/>
        </p:nvSpPr>
        <p:spPr>
          <a:xfrm>
            <a:off x="34290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5"/>
          <p:cNvSpPr/>
          <p:nvPr/>
        </p:nvSpPr>
        <p:spPr>
          <a:xfrm>
            <a:off x="3886200" y="2133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6"/>
          <p:cNvSpPr/>
          <p:nvPr/>
        </p:nvSpPr>
        <p:spPr>
          <a:xfrm>
            <a:off x="4343400" y="39625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7"/>
          <p:cNvSpPr/>
          <p:nvPr/>
        </p:nvSpPr>
        <p:spPr>
          <a:xfrm>
            <a:off x="4343400" y="35053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8"/>
          <p:cNvSpPr/>
          <p:nvPr/>
        </p:nvSpPr>
        <p:spPr>
          <a:xfrm>
            <a:off x="4343400" y="30481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9"/>
          <p:cNvSpPr/>
          <p:nvPr/>
        </p:nvSpPr>
        <p:spPr>
          <a:xfrm>
            <a:off x="4343400" y="25909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20"/>
          <p:cNvSpPr/>
          <p:nvPr/>
        </p:nvSpPr>
        <p:spPr>
          <a:xfrm>
            <a:off x="4343400" y="2133720"/>
            <a:ext cx="457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6294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22"/>
          <p:cNvSpPr/>
          <p:nvPr/>
        </p:nvSpPr>
        <p:spPr>
          <a:xfrm>
            <a:off x="6172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23"/>
          <p:cNvSpPr/>
          <p:nvPr/>
        </p:nvSpPr>
        <p:spPr>
          <a:xfrm>
            <a:off x="57150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4"/>
          <p:cNvSpPr/>
          <p:nvPr/>
        </p:nvSpPr>
        <p:spPr>
          <a:xfrm>
            <a:off x="52578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5"/>
          <p:cNvSpPr/>
          <p:nvPr/>
        </p:nvSpPr>
        <p:spPr>
          <a:xfrm>
            <a:off x="48006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6"/>
          <p:cNvSpPr/>
          <p:nvPr/>
        </p:nvSpPr>
        <p:spPr>
          <a:xfrm>
            <a:off x="3886200" y="350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7"/>
          <p:cNvSpPr/>
          <p:nvPr/>
        </p:nvSpPr>
        <p:spPr>
          <a:xfrm>
            <a:off x="20574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8"/>
          <p:cNvSpPr/>
          <p:nvPr/>
        </p:nvSpPr>
        <p:spPr>
          <a:xfrm>
            <a:off x="25146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9"/>
          <p:cNvSpPr/>
          <p:nvPr/>
        </p:nvSpPr>
        <p:spPr>
          <a:xfrm>
            <a:off x="29718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0"/>
          <p:cNvSpPr/>
          <p:nvPr/>
        </p:nvSpPr>
        <p:spPr>
          <a:xfrm>
            <a:off x="34290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31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32"/>
          <p:cNvSpPr/>
          <p:nvPr/>
        </p:nvSpPr>
        <p:spPr>
          <a:xfrm>
            <a:off x="2514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33"/>
          <p:cNvSpPr/>
          <p:nvPr/>
        </p:nvSpPr>
        <p:spPr>
          <a:xfrm>
            <a:off x="29718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34"/>
          <p:cNvSpPr/>
          <p:nvPr/>
        </p:nvSpPr>
        <p:spPr>
          <a:xfrm>
            <a:off x="34290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5"/>
          <p:cNvSpPr/>
          <p:nvPr/>
        </p:nvSpPr>
        <p:spPr>
          <a:xfrm>
            <a:off x="38862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6"/>
          <p:cNvSpPr/>
          <p:nvPr/>
        </p:nvSpPr>
        <p:spPr>
          <a:xfrm>
            <a:off x="61722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7"/>
          <p:cNvSpPr/>
          <p:nvPr/>
        </p:nvSpPr>
        <p:spPr>
          <a:xfrm>
            <a:off x="57150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38"/>
          <p:cNvSpPr/>
          <p:nvPr/>
        </p:nvSpPr>
        <p:spPr>
          <a:xfrm>
            <a:off x="52578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39"/>
          <p:cNvSpPr/>
          <p:nvPr/>
        </p:nvSpPr>
        <p:spPr>
          <a:xfrm>
            <a:off x="4800600" y="39625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40"/>
          <p:cNvSpPr/>
          <p:nvPr/>
        </p:nvSpPr>
        <p:spPr>
          <a:xfrm>
            <a:off x="4800600" y="30481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41"/>
          <p:cNvSpPr/>
          <p:nvPr/>
        </p:nvSpPr>
        <p:spPr>
          <a:xfrm>
            <a:off x="3411360" y="2117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2"/>
          <p:cNvSpPr/>
          <p:nvPr/>
        </p:nvSpPr>
        <p:spPr>
          <a:xfrm>
            <a:off x="2038320" y="257508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3"/>
          <p:cNvSpPr/>
          <p:nvPr/>
        </p:nvSpPr>
        <p:spPr>
          <a:xfrm>
            <a:off x="1128600" y="3032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4"/>
          <p:cNvSpPr/>
          <p:nvPr/>
        </p:nvSpPr>
        <p:spPr>
          <a:xfrm>
            <a:off x="3871800" y="34894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45"/>
          <p:cNvSpPr/>
          <p:nvPr/>
        </p:nvSpPr>
        <p:spPr>
          <a:xfrm>
            <a:off x="4329000" y="3946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 Box 46"/>
          <p:cNvSpPr/>
          <p:nvPr/>
        </p:nvSpPr>
        <p:spPr>
          <a:xfrm>
            <a:off x="3859200" y="3521160"/>
            <a:ext cx="41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К   О   Р   А   Ц   И 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52:06Z</dcterms:created>
  <dc:creator>239</dc:creator>
  <dc:description/>
  <dc:language>en-US</dc:language>
  <cp:lastModifiedBy>Татьяна Федоровна</cp:lastModifiedBy>
  <dcterms:modified xsi:type="dcterms:W3CDTF">2012-01-05T10:13:15Z</dcterms:modified>
  <cp:revision>29</cp:revision>
  <dc:subject/>
  <dc:title>Тема урока:  «Второе путешествие  в музыкальный театр»    </dc:title>
</cp:coreProperties>
</file>