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20.png" ContentType="image/png"/>
  <Override PartName="/ppt/media/image28.jpeg" ContentType="image/jpeg"/>
  <Override PartName="/ppt/media/image30.png" ContentType="image/png"/>
  <Override PartName="/ppt/media/image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351-4EF2-4249-9330-E9F935BF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EE7-D6C3-4B12-9BFE-B5E6AA63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26ED5-09CB-46DC-8174-68C1D490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93D1A-1CD0-4B5D-90E0-BC600C0D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E7DA0-ABAC-42FF-82FA-AAE350E2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9D606-593B-4050-8CC0-441E8CEA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BEB59-091A-41B2-AF57-D8FE7291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7C971-9C33-4AE4-9FFF-82DB812B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C1213-5169-4C0E-88BD-DD25F4B4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D7B1E-3338-4FB7-A9AF-CA8DDA66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B12CB-9333-44C6-AAAB-65658D07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BF536-E4DC-484F-9B25-72C1F90F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83B-ABB5-407C-846C-66B5728E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91607-AA85-4F2C-8449-3F22799E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ED2C3-F281-4FCF-9863-3720BB99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E6128-02C1-4A06-9348-5C8BC9BD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0D460-BEC6-4EF1-BB8B-52807834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1485E-922D-4BEC-8827-B3808F74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ED7A0-9ECD-4577-B14D-ACF8B52A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B7C91-B610-406B-88B6-1DAAEB7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179F9-428A-463D-9181-16E5D597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C2FA5-C3E4-4ADD-9FCC-433BB04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DD296-1579-43AF-B38F-3CFFA241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3A2-99A5-4049-98F6-6C81C235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29EE4-1E41-4BD5-9A8F-3AB0EF32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0572F-F78C-4074-BA29-BE0DB8E2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78E36-C670-469B-B877-C78C2582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352BC-A3A1-4101-8F03-1EA1887D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10756-9EF4-4AE3-966F-F585F5F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92489-DA58-4207-8AD4-F97CB738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4DD6D-CECC-4E90-9D41-BD0244E4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6E3BE-04F8-4F0D-82DB-1783ACD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461D8-5D4A-4B81-B7DA-E6E4E9D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DAF62-CDDB-414D-B25F-7ED611F4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20C1-31CC-4808-A2F0-14653DD1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79F93-0463-40AE-BB32-58885585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FA20F-7E93-45D8-B1D0-3B3379D0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98345-507E-425D-8FCA-D6C4E889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7BD95-219F-4CE9-A572-50526436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4BAE2-D498-42EF-B101-A9336839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93D43-AF3D-43F5-82E7-FFDF4846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E77E0-917E-4D10-BC3F-6517D011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F3D46-93E7-46F0-980B-B5CF573C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6AFFA-5456-4F89-B0EF-76C04566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FED6E-9398-463F-B605-FF9ABBCB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3F27-F871-4DD8-83CA-F3D9B40C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599B9-3702-4256-92F9-3B5F254F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237F2-343E-4D65-8A4E-30B5F39A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2C3FF-B596-4C88-BA5F-49BCA36D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05B28-C58B-4803-8AA1-D9A8B0D2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F93BA-A06A-488D-987C-5CBF33D2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FAEEE-E3A3-4879-9B3F-7D73CE91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35170-7FC5-4C3A-A1E8-72303471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3038A-8515-460A-9A45-690CD166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38D4A-8562-476D-87E7-EC8E10C8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1C8DA-E5FA-479B-8D89-46E9E3D2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6276-34D6-4F0B-9BE4-4B5385BF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447EF-BCAA-4456-BDF5-42560604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B9CDA-E36B-42C5-BF29-688493E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00EEB-C111-449F-9BDE-E5F57714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38434-A8C4-4AD8-AE25-C1278305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F80F8-9BD5-4BE1-882C-735A64DF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547F1-BA12-40B8-BBD4-DE618798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0849D-9D1E-4DE7-B862-483A7A5B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25990-5EB2-45B5-A730-65DBFA14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2379C-9FF1-4E96-B173-F985E98E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DD581-72D6-412B-BD3C-48510AB0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58A8-F2F1-4472-82A0-206F4DE3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21C2B-7E74-4D95-8B97-57FEEBE9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CB634-E122-4713-998A-F0003158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3754C-CD0F-4DA1-B5E4-BB47780C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2AC1E-AFF2-49C3-8032-45B349F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9A971-82C7-4B13-9851-D536A618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8991C-FCCB-4697-A5E2-FEBEEB0F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BA1BA-2B83-4C4E-A197-778ADA4B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63BCB-8902-4F8B-845C-9BA246AC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8ABC8-D0E2-4B41-AEFA-94D4CACA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A115C-AEBB-49C9-866B-1588125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3050-4CC8-4135-B647-291343D0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7BFEA-7839-4F2F-85C7-3CA06891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512BE-8A4E-4AD5-9EA2-CAAC7547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B7E78-6942-43A7-9871-0F590368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DB020-128A-4962-983F-2AEB0DD0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08DE4-6A85-4084-93C4-8DF6076F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1D4F8-F65C-4B16-8774-BAC986DE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6C8D8-7172-4685-A8FC-86EECE2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DC9FA-D34C-44BF-B250-ED4790F6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E4D276-5780-4665-802C-AE1A13C5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E4D27-18CE-403D-82CC-14135ACE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D515-E9B5-4166-8190-CC62DC9F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DC16A-F826-41A8-80AC-F4B31C65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4D505-84B9-42DF-BBDC-F39DEE58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88171-4965-4EA5-AEAC-505E6F33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3F5A4-0401-41B6-81A6-AEFA2C0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B13D5-CD58-42AB-880A-B81F1C1A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14F41-B86E-4236-8731-AADEC5FA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100AF-FAFC-453A-A535-1986CE69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2BA8C-B8F6-43AF-A104-B7F9CFE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F96BB-6787-4FFA-8519-80447BF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F3884-A3AA-4189-B750-397AC8AF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FC97-1402-47AC-B3F5-7EA5B5AB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33ECB-D2E2-4E04-A97A-F4E4D5E1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DCF9F-69BD-424E-AD5F-76349B73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C2410-DB10-44E9-84C6-569CB001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E36E4-D69B-4348-AAB1-A75A226D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B3C8F0-F339-4ED4-8BCE-1AE22CED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D6C80-0ED0-483E-89C3-9E66E40C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3E84D-F7A8-4B81-8F6A-F7260C42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B5DCC-FE0B-4AFA-8967-9A0D40AA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C4107-D260-4CCD-9477-F954E778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D1F99-0625-4E50-9215-D95F9073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84A-D041-43CD-9BB8-40890A32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A421-9A40-417B-B0FF-F8D4E6A2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93E3F-2E4D-48AA-A5CF-A737BFF5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F2626-D709-4119-AF97-E9EEBEA4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E7C00-BBA7-472F-AAC8-11277978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336A0-A4AF-4A94-AFF6-8F2B17E0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F0F9B-90BB-464A-B42A-E72B47DC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3AA45-4E4A-4601-B7C9-FB9B68FE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E01A72-09FF-4D57-9969-5ED6AD16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92FCB-DD6B-49C2-B6FC-CC4E8528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4B1C0-693E-4E51-86D0-4B2C6549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BA06E-885B-46DD-8726-7C557D1F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0A36-3EC2-4D4D-80F0-FB625C9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1F9C4-A07F-459E-B599-9BFF0CE1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EC6B7-D155-4AE6-A5B4-5749AC10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8BA73-C13E-48DA-A74D-74FABF44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0C742-6493-4D82-AD64-F2A072B9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FC95D-3C21-437B-9DE4-41C32CD0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B51BB-E518-4B97-882D-752557BE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ACD77-7D6B-45F0-ABA3-9DCC3AC3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39B719-379F-4058-9982-5693315C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029EF-7FF1-48A0-A65D-BCAC9CA9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1173D6-08D9-49B7-A962-3C94D43B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4528-427D-44DF-AE0E-25FC82BB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EFC0A-93C7-4994-884D-1C993311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3F91A-802D-4B23-A6C4-B242E105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2C300-864A-4827-B33B-E53DF93F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9A4013-5C22-4798-BF04-50FEEF6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4CE51-2C21-4563-9559-41E35C90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992C59-7F46-4346-88D8-8A209BA3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BC6DEF-283A-4F07-BD38-BB1ACA9C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6FC47B-CFA7-4B24-BD4F-5F08CECC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0468D-935F-4A1D-A59D-2B8D304F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91621B-F6E2-43F8-A1E9-A2176FD9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4C9B-5F21-4051-885C-039E8524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D41B3D-DB39-4ED2-8D36-24DACA32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E73EB-E10C-4576-98DC-39BF9FC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97E1B-4293-490A-B37B-B642FAF0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0B9CB-406B-4D63-A0AB-1BE1FBA2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157D41-4D3A-4A12-AB0B-73DB9CDA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A0347-2D54-4112-AC72-4D4033BF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8F9CB-C5BD-478C-AC56-505DD609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5DE64-7196-4B26-8B79-96AB95A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8A03A2-BC64-4A9A-9E68-F2C0278E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4C6A9-78BF-40F7-8A9D-D264FC5F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DD84-6629-4C58-ACFA-E0B7EA49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94C48-6089-466B-9DB1-47B922DF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E09CE7-C655-4B90-94F6-C7DA0253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979D0A-B8B7-4678-80DA-0ACADE8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5B90E-5D73-4B92-946C-257E0652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48F7F-1643-449F-A73D-8469EDBA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61815-62CC-4CC6-90C5-883BB023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E639A9-0F30-4099-BAE8-3B03E4BD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29F04-1191-43FF-A036-2C9260F4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C521F8-038F-4E6D-B50A-86401EF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101B58-E862-47C8-8710-552B46A4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3DF2-4567-42AD-B011-06AB1656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5AB5CE-555E-4655-9C95-92D1DBB3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D3DA5-F3FB-426B-93C7-D175615A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902AF7-CA39-40D7-9705-5F4BBDA0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30F497-F21C-40B2-8D10-1271A338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FC275A-80E8-460C-BBB8-654D9764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E89AF3-84D3-4262-8BCD-64D7785F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F4810D-32FE-40B3-A2ED-795294AD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A4C1B-EE16-4BB2-AA4F-12C3DA7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F013AE-EADA-46F4-B54D-36E67307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A7C044-BBFA-411E-B489-24F6D3BF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4F1D-2E2C-4ED0-A744-03B938C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93BD7D-ACDA-4CD3-A06D-A56566B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DD387C-C5BF-488B-A44D-2EA040C4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F9F1A3-3D85-493C-9B82-C5AE8304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21B8F5-D7EB-4E5C-AC35-3F1B0F45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BAED47-C0BB-4817-AF13-1B5B4BE6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E683BB-9FB8-4A93-B1A1-D2599171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D5EA47-40FB-42CF-A690-AE998D73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9275F3-DDE5-48D9-A353-5564CC73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7F7F5A-4D89-4B63-A3E5-8180CDA5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AA9AD0-A5CB-416F-AFE9-41E92001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8D6F-FC39-4D5E-987E-C41BBFDC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534250-6DD9-4A05-B248-BAA310C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C48DAA-C757-448B-B7BC-9128DD63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E2A9C-32FC-4481-A456-8B92B8F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90A898-43EB-4FDE-992A-6C73E60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44F02D-6A4B-4967-8672-366A4D31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8C5638-3E4A-4E5D-990F-6461E276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660E4B-37DF-4A64-ADCE-FD78B8CE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47D821-7620-4842-836A-EDD189F8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E4CF16-035B-4912-888C-4DF86B65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C4DACA-D92D-4470-8945-8220AC0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B7B7-A6B2-432F-823B-4DDFA87F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89694E-DD8A-4CB9-A365-6BB53835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8FFD02-96D8-48EB-A683-A9174482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5A5C66-F08E-4FAF-9827-0E714EF8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B9A535-E62F-4B3E-92A9-CB8254F6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AAF930-2FF6-4DFC-9BC4-86F956A2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8ECEBD-A08F-4C24-BB06-2546C8E0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E878A0-D6C0-4381-861B-87CBAAFE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046B5B-4DC7-4C2F-AF46-2CA4F92C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3828C7-2C0A-475D-993D-D71007E2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849183-F2D3-4E23-ACD6-D213E6A6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51A1-866C-46D1-A4CF-4E7932E9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8B346F-DABD-4797-B525-46AE3C18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2DBEE2-3192-4D86-9837-8F03F725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6D95A1-436F-4783-BF44-43652F5A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37331E-3E06-41FA-9B65-564C633C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756FB8-0AF7-4C99-B96B-4DA5D6A3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4BFCBF-3906-4C7E-94A7-3EB0C2D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BDD134-4B1A-4A00-B0DC-4EE262E4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403924-120C-4D28-998E-D512367F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09048A-FC5D-48EC-99E9-00201AEE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CDF42C-CB19-484B-9998-1D57A36B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993-8E03-4B94-A728-13F78A83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0F97-2762-47D1-A783-A88388D0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3B7381-5C7C-4F19-BF30-CA347EAB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B01762-0637-4776-A3E0-5A27F4D8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ACFA2D-FBF6-49A2-94B0-70915AF4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60CF96-9806-4504-A2FD-D00912FA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238986-FB32-450A-AD03-35184A17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7A132C-D397-4637-9C8E-E952FB16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37397-5588-4170-850D-4DBA6B54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765515-9ECE-4315-9C4A-962DAB91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A54BBC-1E65-4858-8FE4-17ED1439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7B8124-124E-45F1-B151-340C28FB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A932-94E0-4800-9327-74B48AA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B86E4A-9588-4AAF-ADEF-B3358BBE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F916AB-4766-4D9F-8DD2-06EAB97F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70E9C8-ACED-4618-8B4E-00BB1001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BE672A-0402-4757-BA26-13C22C5A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7594D4-A52D-4EEC-9041-CA217049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747F36-36F8-4ADB-95A5-66B118DF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0BAF0F-2670-434F-B7A7-1B94528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F13163-B1EF-4035-A9F1-AAE4C6FE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772DF3-3388-4524-B3C8-D1FDF9D7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3C69B0-E054-448E-9B45-9BD529B6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351E-C192-4C55-895B-B48BA93B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653FFF-B53C-4B99-8CC0-2724E136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304B5B-5D07-4294-AD6A-7464A49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4288BF-C2E0-4D72-B107-72E6DD36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79F67B-9666-481F-99C4-5E49528A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C58AD5-899B-41D1-BE7B-4DE70A1C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A60EA6-2F0C-442E-9087-C5CCEA8B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07AB24-C460-4850-9EF2-A7BC6D57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5F3A7E-0FBC-47E8-8683-8A181EA4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DAC6E7-1431-43BC-A4E0-3CAA64A8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6B901E-A21D-436F-BA1E-438EE0CB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95E6-0D78-41A3-A1BD-892DB0E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0E917A-4B05-4AA3-9585-8BE53271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BF8300-8E8F-41F3-A9C7-386C17F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37C079-C374-4932-9543-30CBB741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B8EA67-4335-4F99-BC32-F65936F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85A15B-3536-4CAF-9FB9-57A087C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14C4F7-6445-404C-B55E-0B411B2A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D0BBE6-9208-4ACA-86F5-801B68F9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F513-C139-4CBB-BE90-44465334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0FFB-A9D9-44B6-BF4E-50807406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0D32-AF51-4E55-9C93-8037CF3E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DDE0-6531-4BE8-A175-E2277C67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DF33-7664-4FBF-B169-9D97B373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F843-F2B3-4CF9-91C3-AAD7ED68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AC6-1126-4EB0-B99A-863870E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CE7BD-D1EE-4FB8-965C-8D9572B3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3419-2C9D-4698-B749-49FCED60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0CEC-1769-4510-8D8A-83C34D85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DCA2-AFA1-4FFF-BBF6-F38ED168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DEF8-FA6F-4799-AC7D-B7A97A0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72D3-9592-4CCC-9744-5786978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247C-D578-4540-BFD8-6136F3C5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6CAF-84BB-4C8E-8ABB-43D4B348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9093-2B35-46AD-8788-999DBFDE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4B6B-E021-4F02-A377-C0E29BD6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FC3-3B22-434E-813C-9E8135A4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793C0-504F-4CA6-B225-F9D40A7D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C39C9-2C1C-4967-836F-F7ECC52C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1DC8-9A09-43E8-B9CF-5C6D46F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1E14A-C21D-454C-A27A-68DA9ED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647D-5A90-4878-83F1-2198D9B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22D7F-218C-4740-A213-36917752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E156B-D9A7-4BFE-8687-74767DED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A186-7BB8-444D-B668-8F77B99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DA603-A969-4A62-9B36-17C61992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65A6F-F94E-4112-9698-565D25D0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186-3DC9-495E-949A-12B5E87F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0696F-F72C-414F-B517-882EF387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32424-47B2-48B1-90B4-948AB4E6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52049-40F5-4A36-B637-5FA030D0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6AA56-CC9D-40AD-B86E-78A0CE09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F2C3-D51C-481C-8511-5936B912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A4C2E-9F96-40C6-A3AF-E4608D4B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C730C-45AB-4EF3-BA05-C3E6AB77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A4C55-1BE8-4A2E-96E6-F08B96BE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ECA1-1E82-411F-9A98-093E3C67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DC0E-61AA-46FF-B2DE-1E9636AA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668-5CF7-435D-A068-E304A109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443B6-80CC-422D-8EFB-7985275D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E7F26-BA06-41CB-B03D-55BCB285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3646-2A0E-433D-90E4-FA9B67F1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43290-6836-4987-940A-74D4781B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AC172-1FF6-4A37-A3D7-95501071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FA4E-36BA-4804-BB06-EA80688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BAF4E-3E59-40FB-9F61-EF5F443A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95E19-3781-4D70-B583-E5C7D222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8DB9-E8B4-4141-9A31-5F5009AA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64A29-109F-4713-A997-5EFEEC5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364-1F83-43E1-816B-90FAFC35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754A0-4BD5-41D8-9265-1DDC4ECC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7C7E1-ECAA-4CB7-AC11-8B2431C2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8ACBE-E49D-4905-8A98-3DFE7EFB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DE0D9-4542-4AD0-B6CA-E2FC4A42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8632A-DB9B-4418-A549-1C67E45F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64F3A-B2A8-4C06-831D-7A6E6625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02E7B-436B-4CD9-AD8A-D68FB82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75C6D-63B0-4C82-BEB3-93172134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314A7-3B34-47E1-A433-FC72C727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5F7C5-C143-436C-AF62-5D597C77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644-D919-446F-AE43-D99850A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E25C0-D5F2-4A4E-BE17-824ED7B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353C-75A1-4FAA-9DB6-E1E22DE8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A858B-96B6-471F-99FD-0EF17D6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2D05C-E8E1-4456-AF64-87897BC4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1A312-5EFB-46B5-9704-56BCF15B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72637-D683-4FCA-9442-9F01FBBA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FB78A-57B1-47BC-9399-3DC2F920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86AAC-C11A-464E-94F1-56DB0078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5A221-7254-48BC-B638-F7C9B36C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60373-5387-44D3-BCA0-F63EC878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B7C9-A44D-4F18-BC1F-8FB57BA2E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E076-54E9-4FC1-BBDD-C5D33147C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F3E3-80F3-45D2-B751-C85017272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B049-9C5B-4F6E-9A98-CFBDDC82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B901-AE1C-4166-BD30-04935F78D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50A9-477A-4725-852F-9DE12F3D8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84D2-C092-428E-AFE5-7E67F1E6B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F46C-AE32-445C-AB98-A233D6A9D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9A7-32A7-4BA4-8886-18589C492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DDCF-943A-49BE-B648-514C9BC06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BCB7-5FBC-47B6-8710-FC9404F79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FD7A-2A02-4DAF-851E-09B560AA9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42F5-7893-43F6-BF54-D992D5BD8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83E8-390D-457B-BD40-B483F516C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BE71-D4E0-48DD-A941-75FBA5BF9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EA3E-AC1D-4AED-9DFE-35F1B88E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839-0B5B-4C68-83B2-4984613CA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C200-B116-485E-9511-4D400C062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F8F8-3FCA-4CEA-8DBA-F892F2F01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E51E-FA1D-41EB-8444-4B0A058D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6DB1-F310-4595-8D20-C2F2BE2D0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1350-E9C1-4A96-812B-D6A5308AC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E344-D315-4C8D-86DC-6AEAF52CF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35BA-FE5E-45C7-A407-688C10E3F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6FAC-B142-4BE2-B4B6-B5845F796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7EA4-7EFA-4B41-A9E1-D6739A1D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D7FC-1CC2-4656-911C-3684CEAF9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9AC4-AC46-4BAC-829B-26C5CE624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143640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ма урока:</a:t>
            </a:r>
            <a:r>
              <a:rPr b="1" lang="en-US" sz="40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«Второе путешествие </a:t>
            </a:r>
            <a:br>
              <a:rPr sz="7200"/>
            </a:b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в музыкальный театр»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77491f"/>
                </a:solidFill>
                <a:latin typeface="Monotype Corsiva"/>
              </a:rPr>
              <a:t>	</a:t>
            </a:r>
            <a:r>
              <a:rPr b="0" lang="en-US" sz="5400" spc="-1" strike="noStrike">
                <a:solidFill>
                  <a:srgbClr val="77491f"/>
                </a:solidFill>
                <a:latin typeface="Monotype Corsiv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1980" fill="hold"/>
                                        <p:tgtEl>
                                          <p:spTgt spid="1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65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Звучит полонез и танцует поляк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"/>
          <p:cNvSpPr/>
          <p:nvPr/>
        </p:nvSpPr>
        <p:spPr>
          <a:xfrm>
            <a:off x="1045440" y="1197000"/>
            <a:ext cx="593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А хота – конечно испанец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975600" y="1844640"/>
            <a:ext cx="74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А если «Камаринская» зазвучит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7"/>
          <p:cNvSpPr/>
          <p:nvPr/>
        </p:nvSpPr>
        <p:spPr>
          <a:xfrm>
            <a:off x="975240" y="256536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Исполнят для вас русский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2"/>
          <a:srcRect l="613" t="19874" r="0" b="7112"/>
          <a:stretch/>
        </p:blipFill>
        <p:spPr>
          <a:xfrm>
            <a:off x="2438280" y="1903320"/>
            <a:ext cx="4365720" cy="433404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371" name="Picture 9" descr="Хоакин Соролла е Бастида Арагонская хота 1914 г"/>
          <p:cNvPicPr/>
          <p:nvPr/>
        </p:nvPicPr>
        <p:blipFill>
          <a:blip r:embed="rId3"/>
          <a:srcRect l="3137" t="16861" r="4352" b="5663"/>
          <a:stretch/>
        </p:blipFill>
        <p:spPr>
          <a:xfrm>
            <a:off x="2411280" y="1909800"/>
            <a:ext cx="4368960" cy="4327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372" name="" descr=""/>
          <p:cNvPicPr/>
          <p:nvPr/>
        </p:nvPicPr>
        <p:blipFill>
          <a:blip r:embed="rId4"/>
          <a:srcRect l="688" t="4594" r="860" b="0"/>
          <a:stretch/>
        </p:blipFill>
        <p:spPr>
          <a:xfrm>
            <a:off x="2340000" y="3213000"/>
            <a:ext cx="4537080" cy="30006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74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46"/>
          <p:cNvSpPr/>
          <p:nvPr/>
        </p:nvSpPr>
        <p:spPr>
          <a:xfrm>
            <a:off x="4284720" y="3952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Т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   Н   Е   Ц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19" name="Rectangle 3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БАЛЕ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4"/>
          <p:cNvSpPr/>
          <p:nvPr/>
        </p:nvSpPr>
        <p:spPr>
          <a:xfrm>
            <a:off x="826920" y="2273400"/>
            <a:ext cx="763272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(француз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allo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буквально - тане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Музыкально   –      хореографический спектакль,   в     котором         органически сочетаются музыка, танец, драматическое действие   и   элементы  изобразитель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22" name="Rectangle 3"/>
          <p:cNvSpPr/>
          <p:nvPr/>
        </p:nvSpPr>
        <p:spPr>
          <a:xfrm>
            <a:off x="0" y="84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ЛИБРЕТ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"/>
          <p:cNvSpPr/>
          <p:nvPr/>
        </p:nvSpPr>
        <p:spPr>
          <a:xfrm>
            <a:off x="1187280" y="2363760"/>
            <a:ext cx="763272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итал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ьянское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bretto, буквально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книжечка)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ткое изложение содержания оперы,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перетты,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алета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бретто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едставляет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обой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литературно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драматическую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основу оп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25" name="Text Box 3"/>
          <p:cNvSpPr/>
          <p:nvPr/>
        </p:nvSpPr>
        <p:spPr>
          <a:xfrm>
            <a:off x="4211640" y="1125360"/>
            <a:ext cx="47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Театр уж полон; ложи блещут;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Партер и кресла, всё кипит;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В райке нетерпеливо плещут,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И, взвившись, занавес шумит.</a:t>
            </a:r>
            <a:r>
              <a:rPr b="1" lang="en-US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Picture 4" descr="Кипренский1"/>
          <p:cNvPicPr/>
          <p:nvPr/>
        </p:nvPicPr>
        <p:blipFill>
          <a:blip r:embed="rId2">
            <a:lum bright="-6000"/>
          </a:blip>
          <a:srcRect l="3160" t="0" r="0" b="0"/>
          <a:stretch/>
        </p:blipFill>
        <p:spPr>
          <a:xfrm>
            <a:off x="828720" y="1197000"/>
            <a:ext cx="3421080" cy="44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27" name="Picture 5" descr="napishi"/>
          <p:cNvPicPr/>
          <p:nvPr/>
        </p:nvPicPr>
        <p:blipFill>
          <a:blip r:embed="rId3"/>
          <a:stretch/>
        </p:blipFill>
        <p:spPr>
          <a:xfrm>
            <a:off x="4861080" y="3795840"/>
            <a:ext cx="3024000" cy="18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Пётр Ильич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Чайковский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Балет – сказка «Щелкунчик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31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Горизонтальный свиток 3"/>
          <p:cNvSpPr/>
          <p:nvPr/>
        </p:nvSpPr>
        <p:spPr>
          <a:xfrm>
            <a:off x="2771640" y="476280"/>
            <a:ext cx="374508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1892 </a:t>
            </a: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г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5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ариинский театр вторая половина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XIX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4" name="Picture 6" descr="mt_3"/>
          <p:cNvPicPr/>
          <p:nvPr/>
        </p:nvPicPr>
        <p:blipFill>
          <a:blip r:embed="rId2">
            <a:grayscl/>
            <a:lum contrast="6000"/>
          </a:blip>
          <a:srcRect l="0" t="0" r="0" b="16248"/>
          <a:stretch/>
        </p:blipFill>
        <p:spPr>
          <a:xfrm>
            <a:off x="826920" y="1484280"/>
            <a:ext cx="7561440" cy="40845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1435" name="Rectangle 8"/>
          <p:cNvSpPr/>
          <p:nvPr/>
        </p:nvSpPr>
        <p:spPr>
          <a:xfrm>
            <a:off x="6070320" y="1557360"/>
            <a:ext cx="2440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Monotype Corsiva"/>
              </a:rPr>
              <a:t>П. И.Чайковский</a:t>
            </a:r>
            <a:br>
              <a:rPr sz="2000"/>
            </a:br>
            <a:r>
              <a:rPr b="1" lang="en-US" sz="1600" spc="-1" strike="noStrike">
                <a:solidFill>
                  <a:srgbClr val="5a2d00"/>
                </a:solidFill>
                <a:latin typeface="Times New Roman"/>
              </a:rPr>
              <a:t>Компози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9"/>
          <p:cNvSpPr/>
          <p:nvPr/>
        </p:nvSpPr>
        <p:spPr>
          <a:xfrm>
            <a:off x="716400" y="2565360"/>
            <a:ext cx="2242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Monotype Corsiva"/>
              </a:rPr>
              <a:t>Мариус Петипа</a:t>
            </a:r>
            <a:br>
              <a:rPr sz="3200"/>
            </a:b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Балетмейстер 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4"/>
          <p:cNvSpPr/>
          <p:nvPr/>
        </p:nvSpPr>
        <p:spPr>
          <a:xfrm>
            <a:off x="1187280" y="4437000"/>
            <a:ext cx="1081080" cy="11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Picture 18" descr="М"/>
          <p:cNvPicPr/>
          <p:nvPr/>
        </p:nvPicPr>
        <p:blipFill>
          <a:blip r:embed="rId3"/>
          <a:srcRect l="0" t="0" r="0" b="22282"/>
          <a:stretch/>
        </p:blipFill>
        <p:spPr>
          <a:xfrm>
            <a:off x="826920" y="3049560"/>
            <a:ext cx="2278080" cy="2540160"/>
          </a:xfrm>
          <a:prstGeom prst="rect">
            <a:avLst/>
          </a:prstGeom>
          <a:ln w="0">
            <a:noFill/>
          </a:ln>
        </p:spPr>
      </p:pic>
      <p:sp>
        <p:nvSpPr>
          <p:cNvPr id="1439" name="Oval 19"/>
          <p:cNvSpPr/>
          <p:nvPr/>
        </p:nvSpPr>
        <p:spPr>
          <a:xfrm>
            <a:off x="6948360" y="342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22" descr="Чайковский 8 "/>
          <p:cNvPicPr/>
          <p:nvPr/>
        </p:nvPicPr>
        <p:blipFill>
          <a:blip r:embed="rId4"/>
          <a:srcRect l="0" t="0" r="7310" b="5703"/>
          <a:stretch/>
        </p:blipFill>
        <p:spPr>
          <a:xfrm>
            <a:off x="6361200" y="2205000"/>
            <a:ext cx="19857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42" name="Text Box 3"/>
          <p:cNvSpPr/>
          <p:nvPr/>
        </p:nvSpPr>
        <p:spPr>
          <a:xfrm>
            <a:off x="5003640" y="148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4"/>
          <p:cNvSpPr/>
          <p:nvPr/>
        </p:nvSpPr>
        <p:spPr>
          <a:xfrm>
            <a:off x="3276720" y="333360"/>
            <a:ext cx="2808000" cy="3097080"/>
          </a:xfrm>
          <a:custGeom>
            <a:avLst/>
            <a:gdLst>
              <a:gd name="textAreaLeft" fmla="*/ 351000 w 2808000"/>
              <a:gd name="textAreaRight" fmla="*/ 2457000 w 2808000"/>
              <a:gd name="textAreaTop" fmla="*/ 774360 h 3097080"/>
              <a:gd name="textAreaBottom" fmla="*/ 232308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3227400" y="1125360"/>
            <a:ext cx="2784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Пётр Ильич Чайковский         </a:t>
            </a:r>
            <a:r>
              <a:rPr b="1" lang="en-US" sz="2000" spc="-1" strike="noStrike">
                <a:solidFill>
                  <a:srgbClr val="ffffcc"/>
                </a:solidFill>
                <a:latin typeface="Monotype Corsiva"/>
              </a:rPr>
              <a:t>Балет                        «Щелкунч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AutoShape 6"/>
          <p:cNvSpPr/>
          <p:nvPr/>
        </p:nvSpPr>
        <p:spPr>
          <a:xfrm>
            <a:off x="3276720" y="3429000"/>
            <a:ext cx="2808000" cy="3168720"/>
          </a:xfrm>
          <a:custGeom>
            <a:avLst/>
            <a:gdLst>
              <a:gd name="textAreaLeft" fmla="*/ 351000 w 2808000"/>
              <a:gd name="textAreaRight" fmla="*/ 2457000 w 2808000"/>
              <a:gd name="textAreaTop" fmla="*/ 792000 h 3168720"/>
              <a:gd name="textAreaBottom" fmla="*/ 23767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7"/>
          <p:cNvSpPr/>
          <p:nvPr/>
        </p:nvSpPr>
        <p:spPr>
          <a:xfrm>
            <a:off x="3276720" y="4076640"/>
            <a:ext cx="266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Эрнст Теодор Амадей Гофман</a:t>
            </a:r>
            <a:r>
              <a:rPr b="1" lang="en-US" sz="2000" spc="-1" strike="noStrike">
                <a:solidFill>
                  <a:srgbClr val="ffffcc"/>
                </a:solidFill>
                <a:latin typeface="Monotype Corsiva"/>
              </a:rPr>
              <a:t>  Сказка            «Щелкунчик и мышиный коро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Picture 8" descr="75847portrait-of-piotr-ilyich-tchaikovsky-1840-93-russian-composer-1893-posters"/>
          <p:cNvPicPr/>
          <p:nvPr/>
        </p:nvPicPr>
        <p:blipFill>
          <a:blip r:embed="rId2"/>
          <a:srcRect l="4439" t="6224" r="5032" b="11028"/>
          <a:stretch/>
        </p:blipFill>
        <p:spPr>
          <a:xfrm>
            <a:off x="1176480" y="836640"/>
            <a:ext cx="2095200" cy="254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48" name="Picture 9" descr="908"/>
          <p:cNvPicPr/>
          <p:nvPr/>
        </p:nvPicPr>
        <p:blipFill>
          <a:blip r:embed="rId3">
            <a:lum bright="-6000"/>
          </a:blip>
          <a:srcRect l="0" t="0" r="0" b="1016"/>
          <a:stretch/>
        </p:blipFill>
        <p:spPr>
          <a:xfrm>
            <a:off x="6075360" y="692280"/>
            <a:ext cx="1952640" cy="2779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449" name="Picture 10" descr="3200"/>
          <p:cNvPicPr/>
          <p:nvPr/>
        </p:nvPicPr>
        <p:blipFill>
          <a:blip r:embed="rId4">
            <a:lum bright="-12000"/>
          </a:blip>
          <a:srcRect l="4660" t="0" r="2156" b="0"/>
          <a:stretch/>
        </p:blipFill>
        <p:spPr>
          <a:xfrm>
            <a:off x="1173240" y="3500280"/>
            <a:ext cx="2070000" cy="2594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50" name="Picture 11" descr="exmo9016522big"/>
          <p:cNvPicPr/>
          <p:nvPr/>
        </p:nvPicPr>
        <p:blipFill>
          <a:blip r:embed="rId5">
            <a:lum bright="-6000"/>
          </a:blip>
          <a:srcRect l="0" t="0" r="0" b="366"/>
          <a:stretch/>
        </p:blipFill>
        <p:spPr>
          <a:xfrm>
            <a:off x="6084720" y="3573360"/>
            <a:ext cx="1930680" cy="25830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3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52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4360" y="498960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00"/>
                </a:solidFill>
                <a:latin typeface="Monotype Corsiva"/>
              </a:rPr>
              <a:t>Пётр Ильич Чайковский</a:t>
            </a:r>
            <a:br>
              <a:rPr sz="3200"/>
            </a:br>
            <a:r>
              <a:rPr b="0" lang="en-US" sz="2400" spc="-1" strike="noStrike">
                <a:solidFill>
                  <a:srgbClr val="5a2d00"/>
                </a:solidFill>
                <a:latin typeface="Monotype Corsiva"/>
              </a:rPr>
              <a:t>(1840-1893)</a:t>
            </a:r>
            <a:br>
              <a:rPr sz="2400"/>
            </a:br>
            <a:r>
              <a:rPr b="1" lang="en-US" sz="2800" spc="-1" strike="noStrike">
                <a:solidFill>
                  <a:srgbClr val="5a2d00"/>
                </a:solidFill>
                <a:latin typeface="Monotype Corsiva"/>
              </a:rPr>
              <a:t>«Битва с мышами» из балета «Щелкун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Picture 5" descr="467px-Porträt_des_Komponisten_Pjotr_I"/>
          <p:cNvPicPr/>
          <p:nvPr/>
        </p:nvPicPr>
        <p:blipFill>
          <a:blip r:embed="rId2"/>
          <a:srcRect l="-688" t="0" r="-1222" b="0"/>
          <a:stretch/>
        </p:blipFill>
        <p:spPr>
          <a:xfrm>
            <a:off x="2843280" y="546120"/>
            <a:ext cx="3548160" cy="446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55" name="Picture 7" descr="movie-projector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4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82986" fill="hold"/>
                                        <p:tgtEl>
                                          <p:spTgt spid="1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2520" y="4971600"/>
            <a:ext cx="8245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Monotype Corsiva"/>
              </a:rPr>
              <a:t>Пётр Ильич Чайковский</a:t>
            </a:r>
            <a:br>
              <a:rPr sz="32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(1840-1893)</a:t>
            </a: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«Вальс снежных хлопьев» из балета «Щелкун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6" descr="movie-projector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8" descr="467px-Porträt_des_Komponisten_Pjotr_I"/>
          <p:cNvPicPr/>
          <p:nvPr/>
        </p:nvPicPr>
        <p:blipFill>
          <a:blip r:embed="rId3"/>
          <a:srcRect l="-688" t="0" r="-1222" b="0"/>
          <a:stretch/>
        </p:blipFill>
        <p:spPr>
          <a:xfrm>
            <a:off x="2881440" y="547560"/>
            <a:ext cx="3547800" cy="4465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152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545840" y="41400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В основу оперы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"/>
          <p:cNvSpPr/>
          <p:nvPr/>
        </p:nvSpPr>
        <p:spPr>
          <a:xfrm>
            <a:off x="5211000" y="6699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а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6"/>
          <p:cNvSpPr/>
          <p:nvPr/>
        </p:nvSpPr>
        <p:spPr>
          <a:xfrm>
            <a:off x="131112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7"/>
          <p:cNvSpPr/>
          <p:nvPr/>
        </p:nvSpPr>
        <p:spPr>
          <a:xfrm>
            <a:off x="1550160" y="1214280"/>
            <a:ext cx="57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ерётся «книжечка» -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8" descr="sadko_big"/>
          <p:cNvPicPr/>
          <p:nvPr/>
        </p:nvPicPr>
        <p:blipFill>
          <a:blip r:embed="rId2"/>
          <a:srcRect l="8590" t="0" r="324" b="0"/>
          <a:stretch/>
        </p:blipFill>
        <p:spPr>
          <a:xfrm>
            <a:off x="1044720" y="1989000"/>
            <a:ext cx="4017960" cy="2489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158" name="Picture 9" descr="nutcr18"/>
          <p:cNvPicPr/>
          <p:nvPr/>
        </p:nvPicPr>
        <p:blipFill>
          <a:blip r:embed="rId3"/>
          <a:srcRect l="0" t="7710" r="0" b="0"/>
          <a:stretch/>
        </p:blipFill>
        <p:spPr>
          <a:xfrm>
            <a:off x="4070520" y="3573360"/>
            <a:ext cx="4030560" cy="2479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3300"/>
                </a:solidFill>
                <a:latin typeface="Monotype Corsiva"/>
              </a:rPr>
              <a:t>ХО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066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латин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horus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 буквально – толпа, собрание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евческий коллектив, исполняющий вокальную   музыку,   преимущественно многоголосну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Хором     называют        музыкальное произведение,    предназначенное     для исполнения певческим коллекти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ВОКАЛИ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2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  (французское vocalize,  от   латинского vocalis-гласный звук, звучащий, поющий), специальное   упражнение    для     голоса, исполняемое без слов, на гласный звук.                       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 Однако встречаются вокализы, имеющи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большое 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художественное  знач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" descr=""/>
          <p:cNvPicPr/>
          <p:nvPr/>
        </p:nvPicPr>
        <p:blipFill>
          <a:blip r:embed="rId2"/>
          <a:srcRect l="8958" t="26794" r="33152" b="17478"/>
          <a:stretch/>
        </p:blipFill>
        <p:spPr>
          <a:xfrm>
            <a:off x="468360" y="939960"/>
            <a:ext cx="8207280" cy="49370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4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47516" fill="hold"/>
                                        <p:tgtEl>
                                          <p:spTgt spid="1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47516" fill="hold"/>
                                        <p:tgtEl>
                                          <p:spTgt spid="1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72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Горизонтальный свиток 3"/>
          <p:cNvSpPr/>
          <p:nvPr/>
        </p:nvSpPr>
        <p:spPr>
          <a:xfrm>
            <a:off x="1116000" y="836640"/>
            <a:ext cx="684072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5"/>
          <p:cNvSpPr/>
          <p:nvPr/>
        </p:nvSpPr>
        <p:spPr>
          <a:xfrm>
            <a:off x="755640" y="472428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ариинский театр                  Санкт-Петербург              Театральная площадь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5" name="Picture 16" descr="mariinka1"/>
          <p:cNvPicPr/>
          <p:nvPr/>
        </p:nvPicPr>
        <p:blipFill>
          <a:blip r:embed="rId2"/>
          <a:stretch/>
        </p:blipFill>
        <p:spPr>
          <a:xfrm>
            <a:off x="755640" y="2060640"/>
            <a:ext cx="3816360" cy="2530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76" name="Picture 17" descr="p_f"/>
          <p:cNvPicPr/>
          <p:nvPr/>
        </p:nvPicPr>
        <p:blipFill>
          <a:blip r:embed="rId3"/>
          <a:stretch/>
        </p:blipFill>
        <p:spPr>
          <a:xfrm>
            <a:off x="4716360" y="2081160"/>
            <a:ext cx="3743280" cy="249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sp>
        <p:nvSpPr>
          <p:cNvPr id="1477" name="Text Box 18"/>
          <p:cNvSpPr/>
          <p:nvPr/>
        </p:nvSpPr>
        <p:spPr>
          <a:xfrm>
            <a:off x="4788000" y="472284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Михайловский театр         Санкт-Петербург                Площадь Искусств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79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Горизонтальный свиток 3"/>
          <p:cNvSpPr/>
          <p:nvPr/>
        </p:nvSpPr>
        <p:spPr>
          <a:xfrm>
            <a:off x="1116000" y="836640"/>
            <a:ext cx="684072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5"/>
          <p:cNvSpPr/>
          <p:nvPr/>
        </p:nvSpPr>
        <p:spPr>
          <a:xfrm>
            <a:off x="1042920" y="2062080"/>
            <a:ext cx="69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Найти имена композиторов, которые писали музыку к балету на сказочный сюж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Кто эти композитор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Какие бале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На чьи сказ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Привести в тетради 2-3 примера.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83" name="Text Box 3"/>
          <p:cNvSpPr/>
          <p:nvPr/>
        </p:nvSpPr>
        <p:spPr>
          <a:xfrm>
            <a:off x="385128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4"/>
          <p:cNvSpPr/>
          <p:nvPr/>
        </p:nvSpPr>
        <p:spPr>
          <a:xfrm>
            <a:off x="0" y="26028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тор проекта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Никифорова Наталья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 музыки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Физико-математического лицея №239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Picture 5" descr="Я"/>
          <p:cNvPicPr/>
          <p:nvPr/>
        </p:nvPicPr>
        <p:blipFill>
          <a:blip r:embed="rId2">
            <a:lum bright="-6000"/>
          </a:blip>
          <a:srcRect l="12788" t="3141" r="0" b="2874"/>
          <a:stretch/>
        </p:blipFill>
        <p:spPr>
          <a:xfrm>
            <a:off x="3132000" y="2271600"/>
            <a:ext cx="2909880" cy="4181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160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6"/>
          <p:cNvSpPr/>
          <p:nvPr/>
        </p:nvSpPr>
        <p:spPr>
          <a:xfrm>
            <a:off x="3419640" y="2152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   И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   Е   Т   Т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05" name="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98200" y="404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ах, Чайковский, Моцарт, Глинка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6348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954000" y="1197000"/>
            <a:ext cx="74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Арфа, флейта, рояль, скрип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962280" y="1773360"/>
            <a:ext cx="480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Хор, солистов голо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73800" y="2349360"/>
            <a:ext cx="42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Всех подружил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2"/>
          <a:srcRect l="3389" t="550" r="2110" b="1101"/>
          <a:stretch/>
        </p:blipFill>
        <p:spPr>
          <a:xfrm>
            <a:off x="755640" y="1989000"/>
            <a:ext cx="2109960" cy="2665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2" name="" descr=""/>
          <p:cNvPicPr/>
          <p:nvPr/>
        </p:nvPicPr>
        <p:blipFill>
          <a:blip r:embed="rId3"/>
          <a:srcRect l="0" t="5466" r="3851" b="0"/>
          <a:stretch/>
        </p:blipFill>
        <p:spPr>
          <a:xfrm>
            <a:off x="2556000" y="2381400"/>
            <a:ext cx="2141280" cy="2703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3" name="" descr=""/>
          <p:cNvPicPr/>
          <p:nvPr/>
        </p:nvPicPr>
        <p:blipFill>
          <a:blip r:embed="rId4">
            <a:lum bright="-6000"/>
          </a:blip>
          <a:srcRect l="14751" t="6605" r="27231" b="42931"/>
          <a:stretch/>
        </p:blipFill>
        <p:spPr>
          <a:xfrm>
            <a:off x="4226040" y="2800440"/>
            <a:ext cx="2138400" cy="2716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4" name="" descr=""/>
          <p:cNvPicPr/>
          <p:nvPr/>
        </p:nvPicPr>
        <p:blipFill>
          <a:blip r:embed="rId5"/>
          <a:srcRect l="14808" t="4528" r="20531" b="0"/>
          <a:stretch/>
        </p:blipFill>
        <p:spPr>
          <a:xfrm>
            <a:off x="6035760" y="3225960"/>
            <a:ext cx="2149560" cy="2724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5" name="" descr="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114480" y="2349360"/>
            <a:ext cx="2873160" cy="367200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7">
            <a:lum bright="-6000"/>
          </a:blip>
          <a:stretch/>
        </p:blipFill>
        <p:spPr>
          <a:xfrm rot="19546200">
            <a:off x="1618920" y="393192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8"/>
          <a:stretch/>
        </p:blipFill>
        <p:spPr>
          <a:xfrm>
            <a:off x="3059280" y="2133720"/>
            <a:ext cx="3925800" cy="439092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9">
            <a:lum bright="-6000"/>
          </a:blip>
          <a:stretch/>
        </p:blipFill>
        <p:spPr>
          <a:xfrm rot="21020400">
            <a:off x="6424200" y="3341160"/>
            <a:ext cx="2179800" cy="266400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10"/>
          <a:srcRect l="8220" t="14696" r="0" b="0"/>
          <a:stretch/>
        </p:blipFill>
        <p:spPr>
          <a:xfrm>
            <a:off x="820800" y="2400480"/>
            <a:ext cx="3887640" cy="2709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20" name="" descr=""/>
          <p:cNvPicPr/>
          <p:nvPr/>
        </p:nvPicPr>
        <p:blipFill>
          <a:blip r:embed="rId11"/>
          <a:srcRect l="0" t="0" r="4596" b="0"/>
          <a:stretch/>
        </p:blipFill>
        <p:spPr>
          <a:xfrm>
            <a:off x="4324320" y="3244680"/>
            <a:ext cx="3887640" cy="2710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21" name="Picture 10" descr="CC000552"/>
          <p:cNvPicPr/>
          <p:nvPr/>
        </p:nvPicPr>
        <p:blipFill>
          <a:blip r:embed="rId12"/>
          <a:stretch/>
        </p:blipFill>
        <p:spPr>
          <a:xfrm>
            <a:off x="3276720" y="353700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23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46"/>
          <p:cNvSpPr/>
          <p:nvPr/>
        </p:nvSpPr>
        <p:spPr>
          <a:xfrm>
            <a:off x="2050920" y="26114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   У   З   Ы   К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47"/>
          <p:cNvSpPr/>
          <p:nvPr/>
        </p:nvSpPr>
        <p:spPr>
          <a:xfrm>
            <a:off x="334008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69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55280" y="285228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Бывает драматический, 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бывает музыкальный.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Ему сопутствует успех, обычно, 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колоссальный!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Его придумал режиссёр,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играют в нём артисты.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Идёт в театре и порой - на сцене 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всё, как в жизн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72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46"/>
          <p:cNvSpPr/>
          <p:nvPr/>
        </p:nvSpPr>
        <p:spPr>
          <a:xfrm>
            <a:off x="1224000" y="306864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  П   Е   К    Т   А   К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17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52680" y="286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Спектакль на славу удался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И публика довольна вся!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Художнику особые овации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За красочные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20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46"/>
          <p:cNvSpPr/>
          <p:nvPr/>
        </p:nvSpPr>
        <p:spPr>
          <a:xfrm>
            <a:off x="3859200" y="352116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Е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   О   Р   А   Ц   И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52:06Z</dcterms:created>
  <dc:creator>239</dc:creator>
  <dc:description/>
  <dc:language>en-US</dc:language>
  <cp:lastModifiedBy>Татьяна Федоровна</cp:lastModifiedBy>
  <dcterms:modified xsi:type="dcterms:W3CDTF">2012-01-05T10:13:15Z</dcterms:modified>
  <cp:revision>29</cp:revision>
  <dc:subject/>
  <dc:title>Тема урока:  «Второе путешествие  в музыкальный театр»    </dc:title>
</cp:coreProperties>
</file>