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20.png" ContentType="image/png"/>
  <Override PartName="/ppt/media/image28.jpeg" ContentType="image/jpeg"/>
  <Override PartName="/ppt/media/image30.png" ContentType="image/png"/>
  <Override PartName="/ppt/media/image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775-6F1C-40AA-8C77-5CDCCD0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AFC-94B6-40C9-B1CE-E5877D4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2507-55F8-451B-9D68-C01DF27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8F627-29FD-4F1E-A906-E7D491BC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1FAB7-B050-42B5-A6E2-79C078C1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86B8D-C888-4C06-A8EE-D452EEE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379BF-183C-43C0-843B-35E59E9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C51E9-8355-4882-91B0-1B908D4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2B51F-F83B-4579-9126-C46C452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0A8AC-C9EC-4DE8-8EEE-0A24E8E3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AACD5-1EE3-4A72-B730-F9BD215C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5C11F-F19F-416E-A488-ED0A303F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9D8-9F69-4023-9920-95188204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08FD9-7675-44E6-BAE1-661FC38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77C99-51FF-4AAA-B35E-6AF76B71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ABE00-5969-4ADA-A0E4-A7FED91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6205F-9299-4952-9350-1156F56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2493-6C10-4DEE-93F2-4C6D21C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218E0-D351-42BF-9D9E-F37929A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D592-F537-4BDF-ABC6-C628851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E2187-2EAF-4926-A423-D19805A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62049-8DBF-4E75-B861-0453E77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69F39-50F7-458B-80CF-47B15EC9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F3B-9034-46F9-BCB0-84EB32D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B4C7-A379-4EAE-9B8A-A2A60EF5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D122F-70EB-4333-B9AB-ADE28ACB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72FF-BDAB-4AC9-B461-AEF05D7E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8A318-7FF5-43A5-9600-4A656BF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94FB-C7AA-4B78-9591-0EF26D36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963F4-EE0A-4170-9A04-F1A5DA9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3798-0402-45A1-A311-711F9FA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0FCEB-2896-4FA0-8DDD-5C1869B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32C6-57A4-494B-9C52-F5C16A3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CA4A-5D6F-4E89-AF7A-9787F03E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F715-08B6-4C27-B431-F1367F9C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1383-8B90-4239-9D91-5DFFCB9F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9A9F0-4244-4A35-8016-51B36A24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AA41A-07B3-4D1E-AA2C-5AEA14C4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FC69C-165F-4058-A9E6-FB9BE617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F8163-6E79-4FF0-9B52-806E1B46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ACBB4-CB89-40C5-BD12-AECA8C9C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23E6C-180A-4A3D-A1BC-18E3026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32C75-C4A8-45AC-AC35-033216A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72B72-B067-4DF9-87D7-48350838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70A99-0840-4875-B415-8F39629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4D6E-8BC3-4386-8891-DD0E7BF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01A8D-3F0C-4436-91C9-0F0605B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33E8B-5509-4490-A65E-C35F8D3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CFC7-0B8F-440A-9C94-4BEE8044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55DAD-3EF8-4366-97F0-87B67DB8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D1155-5B69-4D65-BA3E-38742938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9481B-33EC-4455-BC58-8325A6FD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BEFA7-CE10-4853-9867-C6802028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FED26-C68E-4A23-BCB5-FEACC78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1063A-721D-47D7-A93E-ACF0894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D9E64-1EE3-43CF-BC9A-28DCA0AC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2A5A-5CA2-4C76-92C3-6D47C54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EB022-18B7-4039-8FBE-9AC4169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D43C4-D73F-4B68-A2B3-3F10AB3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1FEE5-BA94-4AC1-A593-9557021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5362D-7975-424F-B07F-55B0381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D3E84-FE29-48EA-889D-F53696A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98317-9C65-4D97-99EB-BE8D6796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CE3DF-1630-45C8-B2B7-36278BEA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000C7-3B8C-4C6C-AC92-B6B95A9C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2E5D1-5CB3-484B-8B0B-EE0145C5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910C9-3091-4E4C-B429-83DFB1E2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B1AD-786A-4DD2-BD7E-6A168ED6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A5136-D476-46C3-8E5D-E76829F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BFA93-4212-4360-8421-857CFFCA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0F882-BAD4-46EC-B91A-F3BE591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ED703-5A80-4B73-9963-18E8AFED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BC992-2A20-4D5B-B903-8D96DD9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18AD2-779F-42C2-897F-6D4AEBB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B19C7-2D51-4A15-AA85-5A600CCC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86762-61BA-4462-981B-7803776F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F5A90-8282-4377-98E9-58113112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F1AF7-9C7B-4687-8084-FCAAAF7A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70BB-C538-4BC5-BDF7-DC36659F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3BD33-A253-40FE-BB31-1DEAE409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84613-DE34-45EC-BBB8-AFC1DBF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EA1B8-3842-4C8F-AE8B-23A7BFA0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CEFC3-445D-43C3-9AF0-6A70177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953D8-39A1-4273-BDE3-87B79154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14CD7-AF4F-4FA6-A9BB-F7B9BDF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D504D-526D-41A8-980E-83581ED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8AB9B-DCD3-4D14-9734-96A2FA64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FE7A9-3A1F-464B-9B50-194A131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3A75F-CF76-4D63-BCCB-72907137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A151-1137-4605-B43D-2C532851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3F936-9CFE-4F7F-A690-F1EA72BE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17283-3F0B-4249-BFAA-77D1D525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D9300-1AA4-4D8A-AEAB-0103213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023FB-D079-4921-8A3E-3C68FE9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3DEC8-6BDF-404C-9F15-5DF1E2C2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293D3-EE62-4502-9069-DCE70001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7D9C2-AF58-47D4-8ABE-9CBD35A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D1E01-0BE9-4D50-93CF-8187E19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00858-2E6C-4503-A47A-B32E432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E06CD-CF0A-4696-9D36-1F297CF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BA56-AAAB-4342-9218-C01F6FE5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5BF35-EA78-4CB9-90E4-C510E4B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65495-8B8D-4AAE-8F71-195C90EA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F8BCD-7861-492D-9944-35414338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A763D-84C3-4E76-8AF1-3BC863A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80A0E-F1A2-48C0-ACA0-234DEAA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DD818-8F54-4CD6-BB76-C2A35CB3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738D5-8758-4C3F-9EFB-D91257C9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0EC2C-7727-42A5-B3F7-ED9062A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89046-7623-4006-B806-2C727E1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0C1F6-8844-4BDD-BB34-CA19222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857-B6AB-4B81-B20F-3E9F8804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3BF7-89A3-4C74-82DE-04AE28D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8E38A-A9DE-483A-993B-8A001D19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65AED-665A-477A-99B0-1D4B972C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EAB53-6611-46F4-A9DF-FB045C8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5ACD0-8C0B-40CD-B29C-16371AA3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15D4F-951A-4849-9F80-C4B76406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70B59-98A5-4EE7-81A6-A32A5466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8BE4A-2B8D-441B-BED1-88935899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1F7B1-F07F-40F6-B149-EE38817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01A8C-45F5-44BE-9759-AD7FDE5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D81FC-0A3A-4B44-A699-C23ED35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5EE9-2488-48AF-B0CA-9563516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D1663-87E4-4382-907E-8317612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B99E2-E69D-44A3-A22F-ED4F0CF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541A2-D968-4459-B23C-40772A5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4336F-450A-4233-A860-7A484C3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FD52C-F310-461C-B851-0697DAB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18A5A-7650-4B8E-BCC8-17C9EEDA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C884B-E039-4167-8A24-77166255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6BFB7-4895-4A7B-8F25-4CE485F3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05A0D-F0CA-4A70-98BF-87220D3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72334-3D91-4335-AD8A-9F39CA1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83FA-8135-4206-9867-9FD8CC9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C23F0-D25A-4BED-950B-0F6FCBFB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6C53F-4B13-49EF-889C-8639B7D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2D0CA-C0DA-4C8B-8D5C-01952096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03A08-4DE0-4726-A2F7-90BFE8AC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A8CA8-4A95-4392-8C4E-F4DCD13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F1D41-98BA-4FF7-BCCC-D4FC0B53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4656D-329E-445A-969B-5304640E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09409-F117-490A-A2D6-20CD09B6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B48E7-CFB5-4615-A275-CD9C5B81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A4659-8CB2-47EF-B4B4-B39AA2D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E825-D7E4-4B3A-9F59-A53797FC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6098A-2B3B-4540-ABF8-9EDB3DF8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82E40-EC80-44B3-B284-A43406A7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2B4D4-E7F2-4780-952A-F30D6F29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2C1A6-9715-4A8B-91DB-DEF6C5C9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23D84-1A3D-4415-B19D-B10B9BF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48690-A966-4A0F-AFE9-A11D733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11407-E346-44DA-8B17-5FEC595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79116-4012-4885-91BB-ED1A08AE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20C40-EA0D-4A1C-A8D7-4E0706D5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5C65A-DA23-48EA-AA8A-357B06DA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9E36-5D2E-49B2-94B4-9DB6C6D6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72311-9E79-4B83-BCA5-7ABB6E72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F0733-B8F6-4C53-8A02-7B9E2A3E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8CA9A-4F36-49D4-9574-16FAA13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D9571-5A9B-458B-A700-1D4CA91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47EB6-5921-49BB-B6D4-905A91A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DF088-D2AA-40DA-9047-F9881F8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24DEE-33F8-40D6-BD42-FAFF623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083604-AFC4-46FA-8444-89641A7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D6F07B-C51D-447B-BF86-9D4CA54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05AA6-DC38-44CC-9DC5-4710B76B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DC93-CB02-4236-8EEF-A13248AA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C9DD9-8C41-46A4-A9F3-53D2775E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A21D1-E437-4F93-B558-C18C9C8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518D5-59DE-4CFD-A6D2-A3BF3113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48CD5-A80C-441A-B975-D373C52D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46FA9B-ABDF-4B11-865A-981EB6D4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541C7-42AE-4726-BDB6-047FA00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6CE58-5194-41F4-AA61-03F5F05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984D7-7E19-478F-963D-F3842DF2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DBCF4-FD47-41FA-869B-3857A67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DCA09F-3149-410F-B81E-7390C3C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66D9-A04A-47A8-9AA0-3C4F371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35889C-97DF-4C39-AA23-2162294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F8180-76C7-46A4-B8EB-B351521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03E6E-1112-4297-9634-8C91E823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44BFEF-173A-48A3-B736-E0A6FCCD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1AC31F-E4F5-4F8E-B054-C815CE82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30D52-1016-4DAC-B717-142CF33B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6FE9D-ADF8-41A5-88C4-9A2D31B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6C423-5213-4B6E-BF60-F34628F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5E2BC-FD01-4F8A-93BD-5AECABE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BFF9D8-C132-4C0A-B441-1242025A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A00B-D3AF-4773-99BB-D8D76C0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97F12-129E-4A52-98D0-AE6605B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F8E8EF-1A05-44C2-BA82-053D6A0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938AE-FA32-474D-8E86-8B60898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CD32F-3CA5-41E8-BE62-BBB8FD5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496048-4223-40CF-8019-2C7FDE9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1AF8B-BE02-44E5-88A4-EFF384B3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8EFFC3-24B2-4371-9757-CD61B1CC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AF8052-7E6C-4E93-B8D6-67091435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462E4-A5C0-4B37-92E8-7B6E44D0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4DFB68-ABBA-40B9-9AE1-1507E8C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C98E-46C8-4ADC-924C-36DA7E67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96DD14-96AC-4EE5-A729-362E3620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F0CF6D-F4BA-46BE-8E9A-66535B6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7B839-CF84-4995-8955-E18F8A79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A51935-EA8D-483F-AC10-4950C82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E3CFB-6820-4AB4-B814-2B7ACD6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5DDFF-C12B-4BDE-91F6-DB4F8C49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9491AD-2D09-4927-BE03-6A44551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866004-D48A-428C-85FE-DFE0AFBB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68E446-1117-4223-866F-A137793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622F38-1D2E-47B8-82B5-1963B112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9FE8-5B0C-4D27-AF52-538FCD2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9E4DCB-5658-49F2-9EC8-F33B8A77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E35592-8E52-4DD0-B9F2-0F6ECB5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B7EE30-2ED2-4CC1-9884-A234D54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D15B1-EC4C-4252-9B0E-F7312B5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BE09FB-4E46-46DD-92E9-9D7EE364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076BF3-0DBA-45C0-AB5A-DA6CBFC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B28710-59C0-4147-AB28-BD065BD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C0D49-A33D-44E0-8475-9219D1CF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8BB936-726A-46FA-8E8A-C94B462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93EA44-1220-4AB9-92F4-DA711444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761-5D62-45AF-B2CD-E013EC5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1A29-481B-4C5E-B165-DF6BF4A4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D968C1-6DFB-4A91-9C42-A2874E9C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2BBE3-703D-4454-9692-F9D347EA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B089A5-33C6-4F47-9BA1-BB8A2C67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86AA82-199A-4268-9F6B-90595D4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1B20C-FC1C-4D0F-A887-32FAACD9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CD7BFB-9E35-4FF2-A0D2-88C5DF19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FE26F4-09C5-4499-85D5-236C3F1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37683A-E03E-41CE-8AD9-5564E1B7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3312B-EF80-4169-93DA-15653E8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50B170-3FF4-4C66-80D9-7C4637C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A377-E172-42A3-BDA9-72C8595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66A36D-0012-459A-9A32-1030AE5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319C05-77DD-494C-80D8-ED4DFA7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FAF131-65B6-49AB-9BC5-933FDC78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B41A06-2E59-40FB-A206-7912D85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540ABB-7CE4-4C90-82BC-46ECD34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0272E7-6AB4-4FF8-8AF0-B98D3C7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A940E0-89B0-4BE7-B29F-34DFEAEF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5B02CE-8BFB-47B2-AE32-AD4EAF8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55BDB0-B90F-4A0C-B83E-86DBA900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938588-A58D-4BA3-8EDD-9630A16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CDA0-CC77-488E-9BF7-A68FD85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AE5BFB-F0A0-4B15-9B6A-E6AA8B4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E6CCE4-358B-4CF4-BB16-9FA1FE74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737D68-0939-4AF8-AA1E-8DA3D350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9389B7-88C7-4DAB-B520-C9FDA34A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C685A-9DD4-4625-BB81-645259B4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36B57C-D4AE-422B-937D-BF74F6C0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2B9166-9B81-4C83-AEED-131EC98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D97B31-1DA7-4A09-AF3C-8342E66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50D20E-0400-4FD9-91AB-338524A4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2C5969-CEB8-4915-AC4C-F5C381A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F897-8742-4D0E-B288-5EF00C37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BD0967-35C6-40CB-B79B-202956F8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1214B6-9D7B-4AF0-A3E6-54E8FA7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7A2ED4-D1DE-49C8-81C9-FBD1CCF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86696A-74E0-4B86-807C-D2810C3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27EFD6-7EA9-4AE3-8CD1-7DA81D3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068665-C5F4-47A8-A6D0-CE828A9D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CF6411-3386-449D-99A7-417881BE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5C42-D3C1-4999-997F-43AE346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4483-01D7-456A-AAC3-CF376EC2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42FD-BED1-44BF-96BD-6AD2AE8F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EF6A-58BA-47CE-B125-57BE373B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FFF7-9DC2-4973-807D-0755B33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9267-4277-4368-9EF5-B07B9CA0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8A4-70E3-4218-9CF5-F769E16B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CA2D-807F-465E-BDBB-CA245B1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6D96-46D6-4E23-A041-4D98498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3F7B-AFB6-4674-B211-EDC50520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49D1-8C78-4B49-B9F5-E3E6631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8E56-80D2-4ED4-9771-A72E108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E998-3A78-4024-A359-0971742D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8DF8-5671-44D3-B27D-CABEFB7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3189-E452-469E-893D-CD2635BE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FB49-93E9-4DAD-8834-47080105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95D2-220F-47A6-93FB-1442A7A8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1D4-A1B0-4E1E-94BA-69E126CD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2C7F-C23E-4B10-BA3F-A348DA7B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FC3E-64F2-4887-A8A9-ED18045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A36B-753B-45F0-9E8E-0C228B4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D347-E6C9-46E6-9D64-13BE0394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C5D0-B9E3-48BA-97C7-DEE06E90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5A78-7F18-46AC-ACDF-34CDCF0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962C-B2D7-44B6-850A-FBE2A37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73939-A1F1-44E2-BDFC-5B395CA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8CE1-0D55-4C5E-AED5-909008A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C2DB-4674-4E75-BF1D-122F8141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1E7-6CE2-46F6-95D0-FF7ECF5D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A994-7FAC-401F-994C-AEBB0FB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E163-09C0-4B10-A543-86DF3F9D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066A-33DB-4B44-A1E9-01401E71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A8E8-80B3-4105-B142-1A2D389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11E07-5A16-4089-9D20-205BF26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F50D-795A-41DC-B622-F17CE4D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3188-5627-438C-9500-55FFC8AB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495D0-7B44-4579-A04F-05AB203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1AB6-5F8A-4D0D-9B3C-BCF2EEF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D6D6B-3B38-4ECA-8353-75416F8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8D1-3DB1-4256-AED7-60775ED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958F1-E704-4AF6-8FAE-80F8038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4E715-1D70-422E-B7DF-7110AFA3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DB3F8-8FCF-4F5C-98E0-7ED231E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39D8-2F96-4AE4-8ACD-43887FD2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EE71-B2A8-4267-85BF-AD57740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AEF2-B340-4C2C-B9AD-03EE0AC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897E0-19F5-4975-97E3-91798A5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5EE5-61A6-4B6A-B362-BC08A510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930FB-6955-41DB-ABC3-572B8DA7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27A8-B09F-4AC6-8E94-D842869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4B2-E5E6-4208-9ED4-A6F764E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682C-F34A-4E40-9857-C618333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55C7-4920-4108-923D-A8BF7C8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A6276-4012-4E62-8449-B2B2BA43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D0C39-1125-4E9A-8AD6-10F1113A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E308-B24F-40FD-B446-C33D0F06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F53A0-BFEE-42E0-B30C-B1D00D21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BE52-6D5C-441D-A07D-B32010C0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3998-8D49-4639-B9F2-CDC5A013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860E-E55B-4253-9C47-090ECFE4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AEBBD-B29E-4412-A82D-6CDE611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A5C-1658-4E3B-AC15-667AFEC7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88FF2-C36C-4071-9ABF-D3369959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83067-8F65-46CF-AE3C-B78472D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7E6F8-35AB-4AFC-8EFC-DDA8D10A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AC40-560E-4F2B-B480-599E04F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BBED-FF7F-48C4-B302-F18283B3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2AC0-0DFE-4E7C-98FA-57E9B5F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10138-67C4-4F64-AEC2-F688F51D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49EFE-F765-4A08-9609-30BCC03A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DE4EC-6649-41F0-8841-0114722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F2BE9-D435-4C3A-B809-96D1432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9EA-9EE8-453B-A2E0-A1818F217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C21-3AAB-414D-A8C1-2662DF5F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743-4C1C-439F-BC23-E37CF6D9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541-47DB-4452-965F-00A1181E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E1B-B481-4F21-A645-8CCD2805F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918-822C-413C-963C-72B42AF48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A4B2-52A5-4AB2-BE38-F35B5B21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5B4C-B4E8-4C7D-94A1-DE2E7C5B8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58D7-7E5A-45DB-9C94-9A32D485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B423-6054-4344-A2DC-F3BA8BAB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15EF-B984-4736-9C1A-A5A4E9EB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7B5-0644-4F3D-9E0F-F6867798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F24E-DD61-4B83-ACFD-BAA750D5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92F7-C768-4042-B501-3D9B3229A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8E8A-958F-4384-A6CA-8B64DD97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789D-B71D-41E3-A7E4-4355B574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82D-7EEE-4DFC-B5BD-F9257DC19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5FE-5EFF-429A-9F0E-81CA9768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2290-BF1C-4CAC-9C60-D256F8E2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B96-F280-4CED-8960-C68D392B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F86-5502-414E-BDBE-C6B18E06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535-0A61-4ECE-B353-2A5F7BD4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391-0301-4206-AB05-360DF1E6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638-7C81-442E-B4A0-EFA2572E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ADF2-D216-4708-97D2-3942E8A58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4DD4-286A-4741-9945-48BE7596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462-132D-48CC-9EE4-7C35E149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006A-518E-4253-85E3-60AB4B4A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143640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ма урока:</a:t>
            </a:r>
            <a:r>
              <a:rPr b="1" lang="en-US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«Второе путешествие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в музыкальный театр»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980" fill="hold"/>
                                        <p:tgtEl>
                                          <p:spTgt spid="1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65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вучит полонез и танцует поляк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1045440" y="1197000"/>
            <a:ext cx="59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 хота – конечно испанец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975600" y="1844640"/>
            <a:ext cx="74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А если «Камаринская» зазвучит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975240" y="256536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сполнят для вас русский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2"/>
          <a:srcRect l="613" t="19874" r="0" b="7112"/>
          <a:stretch/>
        </p:blipFill>
        <p:spPr>
          <a:xfrm>
            <a:off x="2438280" y="1903320"/>
            <a:ext cx="4365720" cy="43340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1" name="Picture 9" descr="Хоакин Соролла е Бастида Арагонская хота 1914 г"/>
          <p:cNvPicPr/>
          <p:nvPr/>
        </p:nvPicPr>
        <p:blipFill>
          <a:blip r:embed="rId3"/>
          <a:srcRect l="3137" t="16861" r="4352" b="5663"/>
          <a:stretch/>
        </p:blipFill>
        <p:spPr>
          <a:xfrm>
            <a:off x="2411280" y="1909800"/>
            <a:ext cx="4368960" cy="4327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2" name="" descr=""/>
          <p:cNvPicPr/>
          <p:nvPr/>
        </p:nvPicPr>
        <p:blipFill>
          <a:blip r:embed="rId4"/>
          <a:srcRect l="688" t="4594" r="860" b="0"/>
          <a:stretch/>
        </p:blipFill>
        <p:spPr>
          <a:xfrm>
            <a:off x="2340000" y="3213000"/>
            <a:ext cx="4537080" cy="3000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74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46"/>
          <p:cNvSpPr/>
          <p:nvPr/>
        </p:nvSpPr>
        <p:spPr>
          <a:xfrm>
            <a:off x="4284720" y="3952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   Н   Е   Ц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19" name="Rectangle 3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БАЛ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4"/>
          <p:cNvSpPr/>
          <p:nvPr/>
        </p:nvSpPr>
        <p:spPr>
          <a:xfrm>
            <a:off x="826920" y="2273400"/>
            <a:ext cx="763272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(француз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all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 тан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льно   –      хореографический спектакль,   в     котором         органически сочетаются музыка, танец, драматическое действие   и   элементы 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2" name="Rectangle 3"/>
          <p:cNvSpPr/>
          <p:nvPr/>
        </p:nvSpPr>
        <p:spPr>
          <a:xfrm>
            <a:off x="0" y="84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ЛИБРЕТ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"/>
          <p:cNvSpPr/>
          <p:nvPr/>
        </p:nvSpPr>
        <p:spPr>
          <a:xfrm>
            <a:off x="1187280" y="2363760"/>
            <a:ext cx="763272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ита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ьянское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bretto, буквально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книжечка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ткое изложение содержания оперы,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етты,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алет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бретт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едставляет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обо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литературн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драматическую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основу оп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5" name="Text Box 3"/>
          <p:cNvSpPr/>
          <p:nvPr/>
        </p:nvSpPr>
        <p:spPr>
          <a:xfrm>
            <a:off x="4211640" y="112536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Театр уж полон; ложи блещу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Партер и кресла, всё кипи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В райке нетерпеливо плещут,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И, взвившись, занавес шумит.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4" descr="Кипренский1"/>
          <p:cNvPicPr/>
          <p:nvPr/>
        </p:nvPicPr>
        <p:blipFill>
          <a:blip r:embed="rId2">
            <a:lum bright="-6000"/>
          </a:blip>
          <a:srcRect l="3160" t="0" r="0" b="0"/>
          <a:stretch/>
        </p:blipFill>
        <p:spPr>
          <a:xfrm>
            <a:off x="828720" y="1197000"/>
            <a:ext cx="3421080" cy="44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27" name="Picture 5" descr="napishi"/>
          <p:cNvPicPr/>
          <p:nvPr/>
        </p:nvPicPr>
        <p:blipFill>
          <a:blip r:embed="rId3"/>
          <a:stretch/>
        </p:blipFill>
        <p:spPr>
          <a:xfrm>
            <a:off x="4861080" y="3795840"/>
            <a:ext cx="3024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Пётр Ильич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Чайковский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Балет – сказка «Щелкунчик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31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Горизонтальный свиток 3"/>
          <p:cNvSpPr/>
          <p:nvPr/>
        </p:nvSpPr>
        <p:spPr>
          <a:xfrm>
            <a:off x="2771640" y="476280"/>
            <a:ext cx="374508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1892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5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вторая половина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XIX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6" descr="mt_3"/>
          <p:cNvPicPr/>
          <p:nvPr/>
        </p:nvPicPr>
        <p:blipFill>
          <a:blip r:embed="rId2">
            <a:grayscl/>
            <a:lum contrast="6000"/>
          </a:blip>
          <a:srcRect l="0" t="0" r="0" b="16248"/>
          <a:stretch/>
        </p:blipFill>
        <p:spPr>
          <a:xfrm>
            <a:off x="826920" y="1484280"/>
            <a:ext cx="7561440" cy="40845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435" name="Rectangle 8"/>
          <p:cNvSpPr/>
          <p:nvPr/>
        </p:nvSpPr>
        <p:spPr>
          <a:xfrm>
            <a:off x="6070320" y="1557360"/>
            <a:ext cx="2440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Monotype Corsiva"/>
              </a:rPr>
              <a:t>П. И.Чайковский</a:t>
            </a:r>
            <a:br>
              <a:rPr sz="2000"/>
            </a:br>
            <a:r>
              <a:rPr b="1" lang="en-US" sz="1600" spc="-1" strike="noStrike">
                <a:solidFill>
                  <a:srgbClr val="5a2d00"/>
                </a:solidFill>
                <a:latin typeface="Times New Roman"/>
              </a:rPr>
              <a:t>Компози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716400" y="2565360"/>
            <a:ext cx="2242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Monotype Corsiva"/>
              </a:rPr>
              <a:t>Мариус Петипа</a:t>
            </a:r>
            <a:br>
              <a:rPr sz="3200"/>
            </a:b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алетмейстер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4"/>
          <p:cNvSpPr/>
          <p:nvPr/>
        </p:nvSpPr>
        <p:spPr>
          <a:xfrm>
            <a:off x="1187280" y="4437000"/>
            <a:ext cx="1081080" cy="11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18" descr="М"/>
          <p:cNvPicPr/>
          <p:nvPr/>
        </p:nvPicPr>
        <p:blipFill>
          <a:blip r:embed="rId3"/>
          <a:srcRect l="0" t="0" r="0" b="22282"/>
          <a:stretch/>
        </p:blipFill>
        <p:spPr>
          <a:xfrm>
            <a:off x="826920" y="3049560"/>
            <a:ext cx="2278080" cy="2540160"/>
          </a:xfrm>
          <a:prstGeom prst="rect">
            <a:avLst/>
          </a:prstGeom>
          <a:ln w="0">
            <a:noFill/>
          </a:ln>
        </p:spPr>
      </p:pic>
      <p:sp>
        <p:nvSpPr>
          <p:cNvPr id="1439" name="Oval 19"/>
          <p:cNvSpPr/>
          <p:nvPr/>
        </p:nvSpPr>
        <p:spPr>
          <a:xfrm>
            <a:off x="694836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22" descr="Чайковский 8 "/>
          <p:cNvPicPr/>
          <p:nvPr/>
        </p:nvPicPr>
        <p:blipFill>
          <a:blip r:embed="rId4"/>
          <a:srcRect l="0" t="0" r="7310" b="5703"/>
          <a:stretch/>
        </p:blipFill>
        <p:spPr>
          <a:xfrm>
            <a:off x="6361200" y="2205000"/>
            <a:ext cx="1985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42" name="Text Box 3"/>
          <p:cNvSpPr/>
          <p:nvPr/>
        </p:nvSpPr>
        <p:spPr>
          <a:xfrm>
            <a:off x="500364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"/>
          <p:cNvSpPr/>
          <p:nvPr/>
        </p:nvSpPr>
        <p:spPr>
          <a:xfrm>
            <a:off x="3276720" y="333360"/>
            <a:ext cx="2808000" cy="309708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74360 h 3097080"/>
              <a:gd name="textAreaBottom" fmla="*/ 232308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3227400" y="1125360"/>
            <a:ext cx="278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ётр Ильич Чайковский         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Балет                        «Щелку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AutoShape 6"/>
          <p:cNvSpPr/>
          <p:nvPr/>
        </p:nvSpPr>
        <p:spPr>
          <a:xfrm>
            <a:off x="3276720" y="3429000"/>
            <a:ext cx="2808000" cy="316872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92000 h 3168720"/>
              <a:gd name="textAreaBottom" fmla="*/ 23767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276720" y="4076640"/>
            <a:ext cx="266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Эрнст Теодор Амадей Гофман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  Сказка            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Picture 8" descr="75847portrait-of-piotr-ilyich-tchaikovsky-1840-93-russian-composer-1893-posters"/>
          <p:cNvPicPr/>
          <p:nvPr/>
        </p:nvPicPr>
        <p:blipFill>
          <a:blip r:embed="rId2"/>
          <a:srcRect l="4439" t="6224" r="5032" b="11028"/>
          <a:stretch/>
        </p:blipFill>
        <p:spPr>
          <a:xfrm>
            <a:off x="1176480" y="836640"/>
            <a:ext cx="2095200" cy="254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48" name="Picture 9" descr="908"/>
          <p:cNvPicPr/>
          <p:nvPr/>
        </p:nvPicPr>
        <p:blipFill>
          <a:blip r:embed="rId3">
            <a:lum bright="-6000"/>
          </a:blip>
          <a:srcRect l="0" t="0" r="0" b="1016"/>
          <a:stretch/>
        </p:blipFill>
        <p:spPr>
          <a:xfrm>
            <a:off x="6075360" y="692280"/>
            <a:ext cx="1952640" cy="277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449" name="Picture 10" descr="3200"/>
          <p:cNvPicPr/>
          <p:nvPr/>
        </p:nvPicPr>
        <p:blipFill>
          <a:blip r:embed="rId4">
            <a:lum bright="-12000"/>
          </a:blip>
          <a:srcRect l="4660" t="0" r="2156" b="0"/>
          <a:stretch/>
        </p:blipFill>
        <p:spPr>
          <a:xfrm>
            <a:off x="1173240" y="3500280"/>
            <a:ext cx="2070000" cy="2594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0" name="Picture 11" descr="exmo9016522big"/>
          <p:cNvPicPr/>
          <p:nvPr/>
        </p:nvPicPr>
        <p:blipFill>
          <a:blip r:embed="rId5">
            <a:lum bright="-6000"/>
          </a:blip>
          <a:srcRect l="0" t="0" r="0" b="366"/>
          <a:stretch/>
        </p:blipFill>
        <p:spPr>
          <a:xfrm>
            <a:off x="6084720" y="3573360"/>
            <a:ext cx="1930680" cy="2583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2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4360" y="498960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5a2d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5a2d00"/>
                </a:solidFill>
                <a:latin typeface="Monotype Corsiva"/>
              </a:rPr>
              <a:t>«Битва с мышами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5" descr="467px-Porträt_des_Komponisten_Pjotr_I"/>
          <p:cNvPicPr/>
          <p:nvPr/>
        </p:nvPicPr>
        <p:blipFill>
          <a:blip r:embed="rId2"/>
          <a:srcRect l="-688" t="0" r="-1222" b="0"/>
          <a:stretch/>
        </p:blipFill>
        <p:spPr>
          <a:xfrm>
            <a:off x="2843280" y="546120"/>
            <a:ext cx="354816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5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82986" fill="hold"/>
                                        <p:tgtEl>
                                          <p:spTgt spid="1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2520" y="4971600"/>
            <a:ext cx="8245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Вальс снежных хлопьев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6" descr="movie-projector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467px-Porträt_des_Komponisten_Pjotr_I"/>
          <p:cNvPicPr/>
          <p:nvPr/>
        </p:nvPicPr>
        <p:blipFill>
          <a:blip r:embed="rId3"/>
          <a:srcRect l="-688" t="0" r="-1222" b="0"/>
          <a:stretch/>
        </p:blipFill>
        <p:spPr>
          <a:xfrm>
            <a:off x="2881440" y="547560"/>
            <a:ext cx="3547800" cy="4465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5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45840" y="41400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 основу оперы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5211000" y="6699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6"/>
          <p:cNvSpPr/>
          <p:nvPr/>
        </p:nvSpPr>
        <p:spPr>
          <a:xfrm>
            <a:off x="1311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"/>
          <p:cNvSpPr/>
          <p:nvPr/>
        </p:nvSpPr>
        <p:spPr>
          <a:xfrm>
            <a:off x="1550160" y="121428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ерётся «книжечка» -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8" descr="sadko_big"/>
          <p:cNvPicPr/>
          <p:nvPr/>
        </p:nvPicPr>
        <p:blipFill>
          <a:blip r:embed="rId2"/>
          <a:srcRect l="8590" t="0" r="324" b="0"/>
          <a:stretch/>
        </p:blipFill>
        <p:spPr>
          <a:xfrm>
            <a:off x="1044720" y="1989000"/>
            <a:ext cx="4017960" cy="248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158" name="Picture 9" descr="nutcr18"/>
          <p:cNvPicPr/>
          <p:nvPr/>
        </p:nvPicPr>
        <p:blipFill>
          <a:blip r:embed="rId3"/>
          <a:srcRect l="0" t="7710" r="0" b="0"/>
          <a:stretch/>
        </p:blipFill>
        <p:spPr>
          <a:xfrm>
            <a:off x="4070520" y="3573360"/>
            <a:ext cx="4030560" cy="2479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Х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066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horus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буквально – толпа, собрание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вческий коллектив, исполняющий вокальную   музыку,   преимущественно многоголосну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ором     называют        музыкальное произведение,    предназначенное     для исполнения певческим коллекти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ВОКАЛИ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2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 (французское vocalize,  от   латинского vocalis-гласный звук, звучащий, поющий), специальное   упражнение    для     голоса, исполняемое без слов, на гласный звук.                    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Однако встречаются вокализы, имеющи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большое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удожественное  зна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"/>
          <p:cNvPicPr/>
          <p:nvPr/>
        </p:nvPicPr>
        <p:blipFill>
          <a:blip r:embed="rId2"/>
          <a:srcRect l="8958" t="26794" r="33152" b="17478"/>
          <a:stretch/>
        </p:blipFill>
        <p:spPr>
          <a:xfrm>
            <a:off x="468360" y="939960"/>
            <a:ext cx="8207280" cy="49370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47516" fill="hold"/>
                                        <p:tgtEl>
                                          <p:spTgt spid="1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47516" fill="hold"/>
                                        <p:tgtEl>
                                          <p:spTgt spid="1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2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755640" y="47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                 Санкт-Петербург              Театральная площадь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Picture 16" descr="mariinka1"/>
          <p:cNvPicPr/>
          <p:nvPr/>
        </p:nvPicPr>
        <p:blipFill>
          <a:blip r:embed="rId2"/>
          <a:stretch/>
        </p:blipFill>
        <p:spPr>
          <a:xfrm>
            <a:off x="755640" y="2060640"/>
            <a:ext cx="3816360" cy="2530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76" name="Picture 17" descr="p_f"/>
          <p:cNvPicPr/>
          <p:nvPr/>
        </p:nvPicPr>
        <p:blipFill>
          <a:blip r:embed="rId3"/>
          <a:stretch/>
        </p:blipFill>
        <p:spPr>
          <a:xfrm>
            <a:off x="4716360" y="2081160"/>
            <a:ext cx="3743280" cy="249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477" name="Text Box 18"/>
          <p:cNvSpPr/>
          <p:nvPr/>
        </p:nvSpPr>
        <p:spPr>
          <a:xfrm>
            <a:off x="4788000" y="472284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Михайловский театр         Санкт-Петербург                Площадь Искусств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9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1042920" y="20620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йти имена композиторов, которые писали музыку к балету на сказочный сюж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то эти композито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акие бале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 чьи сказ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Привести в тетради 2-3 примера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83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Я"/>
          <p:cNvPicPr/>
          <p:nvPr/>
        </p:nvPicPr>
        <p:blipFill>
          <a:blip r:embed="rId2">
            <a:lum bright="-6000"/>
          </a:blip>
          <a:srcRect l="12788" t="3141" r="0" b="2874"/>
          <a:stretch/>
        </p:blipFill>
        <p:spPr>
          <a:xfrm>
            <a:off x="3132000" y="2271600"/>
            <a:ext cx="2909880" cy="418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6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6"/>
          <p:cNvSpPr/>
          <p:nvPr/>
        </p:nvSpPr>
        <p:spPr>
          <a:xfrm>
            <a:off x="3419640" y="2152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   И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   Е   Т   Т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98200" y="404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х, Чайковский, Моцарт, Глинка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348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54000" y="1197000"/>
            <a:ext cx="74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рфа, флейта, рояль, скри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962280" y="1773360"/>
            <a:ext cx="480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ор, солистов голо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73800" y="2349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сех подружи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2"/>
          <a:srcRect l="3389" t="550" r="2110" b="1101"/>
          <a:stretch/>
        </p:blipFill>
        <p:spPr>
          <a:xfrm>
            <a:off x="755640" y="1989000"/>
            <a:ext cx="2109960" cy="266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2" name="" descr=""/>
          <p:cNvPicPr/>
          <p:nvPr/>
        </p:nvPicPr>
        <p:blipFill>
          <a:blip r:embed="rId3"/>
          <a:srcRect l="0" t="5466" r="3851" b="0"/>
          <a:stretch/>
        </p:blipFill>
        <p:spPr>
          <a:xfrm>
            <a:off x="2556000" y="2381400"/>
            <a:ext cx="2141280" cy="270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3" name="" descr=""/>
          <p:cNvPicPr/>
          <p:nvPr/>
        </p:nvPicPr>
        <p:blipFill>
          <a:blip r:embed="rId4">
            <a:lum bright="-6000"/>
          </a:blip>
          <a:srcRect l="14751" t="6605" r="27231" b="42931"/>
          <a:stretch/>
        </p:blipFill>
        <p:spPr>
          <a:xfrm>
            <a:off x="4226040" y="2800440"/>
            <a:ext cx="2138400" cy="2716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4" name="" descr=""/>
          <p:cNvPicPr/>
          <p:nvPr/>
        </p:nvPicPr>
        <p:blipFill>
          <a:blip r:embed="rId5"/>
          <a:srcRect l="14808" t="4528" r="20531" b="0"/>
          <a:stretch/>
        </p:blipFill>
        <p:spPr>
          <a:xfrm>
            <a:off x="6035760" y="3225960"/>
            <a:ext cx="2149560" cy="2724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5" name="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114480" y="2349360"/>
            <a:ext cx="287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>
            <a:lum bright="-6000"/>
          </a:blip>
          <a:stretch/>
        </p:blipFill>
        <p:spPr>
          <a:xfrm rot="19546200">
            <a:off x="1618920" y="393192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3059280" y="2133720"/>
            <a:ext cx="3925800" cy="43909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>
            <a:lum bright="-6000"/>
          </a:blip>
          <a:stretch/>
        </p:blipFill>
        <p:spPr>
          <a:xfrm rot="21020400">
            <a:off x="6424200" y="3341160"/>
            <a:ext cx="21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rcRect l="8220" t="14696" r="0" b="0"/>
          <a:stretch/>
        </p:blipFill>
        <p:spPr>
          <a:xfrm>
            <a:off x="820800" y="2400480"/>
            <a:ext cx="3887640" cy="2709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0" name="" descr=""/>
          <p:cNvPicPr/>
          <p:nvPr/>
        </p:nvPicPr>
        <p:blipFill>
          <a:blip r:embed="rId11"/>
          <a:srcRect l="0" t="0" r="4596" b="0"/>
          <a:stretch/>
        </p:blipFill>
        <p:spPr>
          <a:xfrm>
            <a:off x="4324320" y="3244680"/>
            <a:ext cx="3887640" cy="271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1" name="Picture 10" descr="CC000552"/>
          <p:cNvPicPr/>
          <p:nvPr/>
        </p:nvPicPr>
        <p:blipFill>
          <a:blip r:embed="rId12"/>
          <a:stretch/>
        </p:blipFill>
        <p:spPr>
          <a:xfrm>
            <a:off x="3276720" y="353700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23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6"/>
          <p:cNvSpPr/>
          <p:nvPr/>
        </p:nvSpPr>
        <p:spPr>
          <a:xfrm>
            <a:off x="2050920" y="26114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   У   З   Ы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7"/>
          <p:cNvSpPr/>
          <p:nvPr/>
        </p:nvSpPr>
        <p:spPr>
          <a:xfrm>
            <a:off x="33400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69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драматический,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музыкальный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му сопутствует успех, обычно,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колоссальный!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го придумал режиссёр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грают в нём артисты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дёт в театре и порой - на сцене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сё, как в жизн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7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6"/>
          <p:cNvSpPr/>
          <p:nvPr/>
        </p:nvSpPr>
        <p:spPr>
          <a:xfrm>
            <a:off x="1224000" y="306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  П   Е   К    Т   А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17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52680" y="286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Спектакль на славу удался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 публика довольна вся!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удожнику особые овации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а красочные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2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6"/>
          <p:cNvSpPr/>
          <p:nvPr/>
        </p:nvSpPr>
        <p:spPr>
          <a:xfrm>
            <a:off x="3859200" y="352116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   О   Р   А   Ц   И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52:06Z</dcterms:created>
  <dc:creator>239</dc:creator>
  <dc:description/>
  <dc:language>en-US</dc:language>
  <cp:lastModifiedBy>Татьяна Федоровна</cp:lastModifiedBy>
  <dcterms:modified xsi:type="dcterms:W3CDTF">2012-01-05T10:13:15Z</dcterms:modified>
  <cp:revision>29</cp:revision>
  <dc:subject/>
  <dc:title>Тема урока:  «Второе путешествие  в музыкальный театр»    </dc:title>
</cp:coreProperties>
</file>