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13.jpeg" ContentType="image/jpeg"/>
  <Override PartName="/ppt/media/image21.gif" ContentType="image/gif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5.png" ContentType="image/png"/>
  <Override PartName="/ppt/media/image8.jpeg" ContentType="image/jpeg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82CE-8E9D-4452-A4E2-41B885994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04FA-BCC3-4C61-B3D2-2F618DD78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C806CA-75AD-4545-89A0-F2CD4065C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67298F-D895-48C0-B419-D03396CE5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2D49B9-4183-406E-9792-64DC83294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02357A-820F-404B-A7C6-754C1E6C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11EEB4-C1D2-4FD7-872F-706C718C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214ED9-B81F-4F60-AECD-93A8A24F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6C6902-0321-4D72-8567-320554995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CDB79D-25D1-4C1D-887D-097707660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19B7EE-9A99-4AB5-BB1A-1C006BCBD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A03A86-D995-4201-B71A-326412D56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6469-11AD-4862-A869-238B92184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A4D36B-F600-4709-8F44-192339961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AD8338-E6FE-4C95-A42C-3DDE48BFA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AEB663-2F6E-4DD1-869F-DEF5F6962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F405A8-16C2-4CA8-A36F-4717B0CF4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E7A340-EA07-42D9-9658-0DEB6F676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284B65-3542-4430-A18F-8E7E5DA9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ADAD38-D6F5-47D4-8067-4F81A28F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522A86-3EB1-42A5-BE10-F041EDBD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341C5A-3B69-4D5E-B84A-6C1C7786F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F27399-501A-4F89-8750-9B9A4DEF2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2E75-8134-4085-A875-1455CFED1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062125-935F-4565-9103-E7D8E347A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4A20CD-B29F-4B54-9685-9C97CCCC2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260A71-BFB3-45C0-8BF0-A42928790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684FF5-866D-4866-AA66-F8579C495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701140-9243-4371-BA25-3F5A684EF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6A2036-0667-4C53-B553-F54BFA7F7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00B8C1-4881-4467-8B2C-28A45C6FC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59BEB9-5E10-419F-9EA7-A961E4E1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F3A0A5-B60D-4E3C-A0EB-2DF138E6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827A92-5985-464E-82E1-F76DC203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3E66F-14CC-4B71-928C-92746DCBE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80C101-CEDA-4EC8-9E25-288F02E89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2A079C-28D3-49C8-91B4-E00526D6D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D0F46B-53AE-4503-BC1A-C19736099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730229-198B-4032-98DB-27D246AC2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BB4E3F-983A-4D00-83D7-3A15D9C12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63FE8E-A85A-4AC7-8226-301A19D3B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DF48AE-20A8-40BF-9FE1-EE190B28A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012227-36E6-4A35-82E3-17C847457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43BB9C-5367-465B-83F5-A4D89EDA5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A531BD-8586-4B51-9443-98A86F66E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0CA6D-2E71-4825-AC36-23662C080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6E3DFC-9F62-4DCC-9C7E-0B37510A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91DCB5-A05B-48ED-8AE0-16D1AE64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5E85A0-D193-454E-8B57-6AE7104F5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416D60-7E74-4BAF-A3E1-210A2456B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0C9B67-76A4-4DF5-8AA3-4282CDA48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EC9B1C-D214-4066-AA2E-5B1C2E643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58C8C0-ADE7-47BB-B627-5D7B7F312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E88A62-6C60-44AC-832D-A4B9A1856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33EB22-85D5-4934-898F-2DF6A352A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B82D56-4DDB-48C1-99FE-911BC0017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BD176-4BED-4040-9A0E-6A39A8B35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41C46D-6AC3-44ED-A6B7-DD6BEB7AC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A727E3-B200-43BA-B8AC-B55AAD33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87ED61-77C3-4034-B349-2E942021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A98625-71CC-47FD-B446-2060F793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1CC833-170E-4573-9BE9-41282B0D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3B569D-94B4-47F2-9AB8-6468F60CA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B7B072-1399-486D-84EB-D702AC8B2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D8BDDA-607D-4AFE-9BCD-629183C15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D0BD48-C72E-4789-84EE-1146F4C6B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E33DAD-3DD8-40ED-A244-8100B85BF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85776-0F63-4A7D-A283-D1DAFE5AA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EA1C66-7123-4B9A-9DE8-38ADBBD55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1F457D-BAD2-4A7E-98C0-AAC93AD4B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316F8E-FFE4-46E3-8D0A-A42841C0E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1001A0-60C5-4782-AB95-1693F4B0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0A08A6-176A-4ABC-AB17-981BE939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EB7BFA-C83E-4A68-8C9D-F76C588C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D75565-963E-4734-84A4-C9FC79042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A56D9D-13F5-4760-BE51-0DA2BE87B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854128-A2B9-4D35-83B9-24E6E58D8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7A264EE-DA05-4AA5-B992-C8B10B8A0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DA6D0-0D04-40FC-8017-69726EC23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8578F0B-D9E1-4D49-9FC7-5154A656B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6730964-AC81-49DA-AD68-7D7D996DB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ED709F1-D26E-440E-8E85-79F92187E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27F962E-165C-4E52-8A6E-70677DAE8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1AD6831-5871-4AB8-90CB-7CC1FC875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09FFD95-D834-4258-AEE1-1F75CB46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642E4BB-EFF3-4ACF-B518-534D098F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FFB1F4D-C648-4EF6-9C38-5AA463A7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DBEBFA3-2493-40A7-9A39-946371B84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EF93ED1-2F3F-419F-963B-CDD8AE9DB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14B8B-498E-45EE-88F8-F78C190BA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1B730D6-C94D-4963-968C-1E19801BF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BA60CD-68CA-44BD-A0CD-3831BCC55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C2F6A4-C0BC-4E57-AD8E-4571074B1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64D516-7CCB-465B-A139-7B393B1CB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EC0638-7920-4D4B-98F1-EF4D790B7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CA79FD-0A86-490D-BA3C-B40648152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4CA151-6EBD-4B51-94F3-98AF33EB2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857C95-1D15-49CD-BD31-AAB43131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C01157-CF65-42A5-B95E-9B6051EE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A34E08-83B5-4D08-B398-096DC5A2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4233C-29B8-4E30-9F35-E3819614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531982-94D6-4F6A-A3C5-F5CD49909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00C1E1-557D-4A5A-94EF-246BC9E70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A3B748-99A0-4643-8F6C-9AB589045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D3E577-5E73-45BD-8745-9105E3319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520F0B-D081-415E-A1B4-344666AFF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F79937-7B73-4BB6-9B6F-622E7A538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67425C-16B8-4A64-879F-220A2A361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D20160-79A0-4910-9D68-F6C788FE3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8DC8AE-03D2-4E45-A8AB-55502A93E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E36927-A2D2-4525-A57B-760EA616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AC88-915E-4F84-B1F4-487DFE934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A051E-3632-41EB-98F3-01037CE7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7CDDA2-844B-454E-AD1F-BFE0AE9A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812D2A-22F0-4F73-96E9-B65EAA51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E737C7-51E5-4A3B-B94E-DA1D35063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192AFC-D54C-459F-B52F-1CF6F2733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63508B-4AF2-4590-B34F-2E5326822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0E4BA2-8C01-4527-AF91-6761825CF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D2DF70-124A-4C05-B9CC-59708AC55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5E23BF-0E63-4806-9A14-DC503C9D4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D805DA-3E21-4939-9D62-0C4A69582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5E6B50-B2EC-4D8E-AACC-C8E13DA7D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A188C-F873-410E-A955-5DBA2F48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789AC9-3F88-4FBF-9764-822A8B4C8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19D8BA-15B9-4E93-935A-2E59F995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FB5427-D4DE-4680-8691-11E37810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7564AD-42A9-41BB-B3D5-F221D2FF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FEE4FA-D279-486C-AA06-0DBEECF5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82358D-03B4-41CD-8E15-B7C680F9B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4C7B80-9A32-4075-97C2-0EF3B2149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858126-5C14-4AE8-870B-C4A39D47B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7E8D15-6A5F-48D3-96E0-1F99590B6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06E9B7-D782-4AF2-8751-C42E903C2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F4492-903B-4CDF-8A78-1E0A1642F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F9A571-2B10-4E46-B6CD-01B6BFE01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5B2CD0-B6FF-46FC-8DC5-997013778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7CD64F-5100-463B-A342-87D757DAD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CC4878-2ABB-49BF-BD2E-A0EB9735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DD39C5-D887-4225-805B-2701ED3F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A2CF14-17B9-48A4-8463-3D4452D4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5EDFB1-9AB0-4A0E-B2A9-6853678F0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BC0609-5503-42CA-AE3E-EA8424441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D7946B-2118-4D30-A1F8-490185F94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2ACBED-06F6-4013-9A24-862069A80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EA546-5949-486B-A998-8D93D40CB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766714-5C0E-4C33-A72C-C10E9F1F2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F55C7E-5E1B-404D-B753-96DAD46CC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C9CA8D-F2C6-410E-9059-4DF55EC99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C424C7-2A9B-45D2-BF65-3865ED29E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E406F9-809C-4F39-BD33-417977787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D68137-6AA9-4B40-987D-8E8FB87D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99FCDD-5E55-4C76-A535-C773676E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40E4AE-5846-4813-AE56-196B6ABE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EFE6A9-6781-4E43-A642-3833E9200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B405D0-A58C-46A6-97AB-633309976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39FD7-1E31-4CF5-A76C-E9E510B19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4C7EE9-D26E-41C2-9C13-A81451DF2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3ED284-93D2-4EE3-87B1-C15CE5C93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30D653-F118-4AF5-B0B3-F033766CC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0A43F3-4969-43D5-9F10-C7D87093B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DAE366-14FB-4F5E-8C51-BB42959AF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154D24-08AA-48B5-855C-0A67CD46A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5FF951-305A-4B31-803A-B681032DB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05FD69-3F27-4407-889D-1B7F3F12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5620CA-9591-4475-836D-738B7BD6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E3277B-B277-416B-8D42-BB3EEE15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5F131-2FBB-48BE-84B4-8158EF658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522266-09B6-472B-ACD4-FA0D64A24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2F444D-6D8C-4F13-BF6E-50A467005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678318-C280-4067-B4D9-F83A33EC2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90B986B-0ED5-4932-B095-423EFBC41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DBB9441-D3E5-4C5E-8240-4BB6D0998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B1AD939-090F-40CC-9A1A-6E5AB29F0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5E36C32-F959-4AB6-B22D-D90DFB0E0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4928510-D4CD-42EB-8A1E-CC73839A9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01DAEB5-44ED-4118-9432-50841D328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82E6729-BCB2-4BC1-9D73-B977AC66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33C2F-DDA6-4662-89AD-4F41C4144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464BCF9-CED9-40A3-998F-9AD3E67D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675B7D4-CBF4-498C-8406-38B3D4BC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012B54B-C71B-4FAC-B177-6AC1015CD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56E25B2-370E-477C-995F-32B6513CE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877BF25-D1EB-44F1-BDCB-3962D61BF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9175E2C-C403-4A87-80FD-35684AB24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3B71CC3-71DE-4E96-985A-DABF3C254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4AEEB31-438B-4BD3-B4BD-BE79C1A92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727638D-35AE-4428-8CE7-7EB3B9642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A7BFD0E-0E58-42B8-A046-81327D250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DF97C-887C-42D1-860E-4CC4B1307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78FECEE-ECAA-42D1-9F72-B392B5EF1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E95CB68-33E9-4971-8F56-3F9E6066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D7CC4BC-FA02-46BF-83AF-C6B4C609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3AA6C7C-9625-4ED5-8920-C5FBEB3A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FFC0B4C-A3C9-416E-B87A-E9F28C622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D9F84D2-8962-493D-AF12-39BB666A1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A59DA74-0B99-46F9-881D-DF797C750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0B0D401-8D31-4604-90D3-0302609A5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4D27356-3F58-4A26-8FCB-9F4EA64E0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5434649-FB2A-42FA-B23F-30B99FD0F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A684D-B433-414F-8D85-20125464B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FA7C115-ECC0-417E-A012-487A8325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FD923F1-3DD3-4E09-A992-ED6709ED9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12A9A75-6E9D-4431-BF02-D51D839EF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A586398-1E8D-4C89-BDD4-E90C7677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3A42A4E-140D-4036-99A3-42FD10EC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3598B6F-2327-47CD-AC19-CA265214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CDA168E-97D2-4D80-AEC2-C9197C272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1D87ED7-80F8-4C9E-BC95-27DC5D86B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D170C99-DD69-448A-914E-0F68F0DAD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F6E2C40-0024-458D-BFD1-8AD88FA55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5BCD6-FF8A-4B3C-A929-29E8BA84B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DCB2BD9-28D4-4F0E-AA4D-B6DB5E897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2A24E2B-606B-4194-B367-0B38D1F32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09F0CB7-0929-4D31-BF1F-313EF9DFD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C8B578A-EDFD-4C97-9967-15D9B4206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5AD6AE3-B2C8-4D76-A2F3-0BBE25F00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608B68B-B735-41EB-A4B9-D30708FD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A38E0D6-F2C8-498C-B36A-DF201499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0BC8370-19D1-42B0-A7D9-AF14E58F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A0E8996-5FD5-4EBD-9175-B92329D54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410C8D7-9104-4066-A132-B5C313BA7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D004-B1DC-40B9-9E78-90513BE8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31BAB-D07B-43B9-93A3-C1217322C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9000AB4-592E-42B7-9B92-34F86D4AF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719390D-D245-4F5D-A515-50D698AD9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0A4484F-690F-4FCD-B2F2-7357C797B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101C688-8154-4C1C-A7BD-9CC79B2E3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32A010F-9200-454F-A64A-826CD725E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E480F00-91CB-42DA-ABF2-08A2B474D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0ACB982-7FB9-4967-86EC-87F0863F7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8682A2C-91FB-4F7E-BF1B-AA73B9A7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3FE1483-204E-4F32-9D78-27D4301A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8D3367D-8507-4326-8C2E-42617225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F36C4-943F-464B-85F1-986DCB16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AA317AA-6A77-4F01-936A-0B26CCB6B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5F473BD-FAC9-49E6-A6F5-6204A79B7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DA80494-9016-44A2-8CE5-E0E68640B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9483FE7-203A-4F4C-9B88-BF0D5D4AA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9C73B47-89B8-4AA2-9DE0-E947DAA9A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6DE80A7-7E53-4AB3-BD55-70C8BA789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3B3DEFF-377F-4F67-9FCF-F79C6994E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E88F719-F1F8-4A3A-8112-FA6E78B61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AC09C34-A2A5-437C-8982-BCB0D7D81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8468882-CE98-4481-A907-4D475BA1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CF90D-8364-41F6-879C-97D12050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617BBA4-C977-4469-872A-5F210C85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6FC91E6-5556-4744-8DB0-1385EAC5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CF0AA80-CACE-4EB0-AED7-43E89BA6E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5FAA42C-123A-4BC3-A844-1D50BE84A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F282D89-1904-46DE-A9FD-A0AFF9A4E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73650-BB41-4383-8D1E-C0128269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A0899-FA0E-4E64-BABC-F5A8DD57D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12004-F299-4D5A-A559-36A30B882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6698F-0C6D-4B36-AFEF-5CB5A1C2A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6972E-CD5A-4973-9B61-E19C61173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7E126-FD0D-4BC8-AA1B-DA158A436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D0B93-D9BD-4F84-A4D8-B6DABE93A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288F-0C07-4AF0-9EC3-01ACD164F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B1909-A2A6-404D-B55A-03FF2974E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7DD4E-DB5D-4617-AEA3-BE48951AC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0EFC1-D4D2-4E2A-AFE7-6AD123CD8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3B286-0716-4212-A09D-264954A5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7775C-5C2B-465C-B48F-4FE5571D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C3C65-EA46-436B-8E06-9CD8DDA5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9C8A7-C8BF-4600-A150-B86AF623D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B78ED-1E39-47CF-9711-9395464B1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250FA-D7E1-46AA-BD65-43261D5DC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D325D-B6A4-4765-BE8F-40E583329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80F2-D937-49DB-9043-235F43BA0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01CD1-8D5D-432A-AF70-3EF9CD1BB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896A1-64A6-4941-85B6-FD129873A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53272-50D3-4198-B6F6-4FF0BAF56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DD156-D81C-4D23-8F29-D50B2BA71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E98E1-050B-4A6A-A3C5-25428FF1B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AF7BF-C8D4-4E9F-8559-915E0D41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53BBC-EFA0-426B-802E-761B424C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DF603-FAE2-41C6-AEAF-81863E87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9B704-7B88-4835-A5A4-7740BF16E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7B6BA-136B-471B-B0FB-31EF37350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8C3D-0119-4FB0-8CEA-97317EC08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1486E-9BFD-4FEF-9E88-A0FB970C3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4CECB-9E19-489B-8178-8C43FA781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500D9-261C-4865-8DD0-9E54F2F35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D0D75-C2E1-4642-86E7-33BA77BF2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D302E-B978-4856-ADFA-61C573EA1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54B13C-AC2E-496C-AA64-69FBC5F60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CF1A6-DB77-47B5-904A-171F3B753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704432-24D9-4287-BFE1-8F0BC4A6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E8DF5-3E97-4EC3-9DC3-4EC267F2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524AB7-C91C-44A5-B4EE-D2F3987B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0110-50A2-4CDD-A7FA-65978D24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5ADC3-8675-4A62-83C6-2B614EBE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5D2075-C95A-4F84-B627-6F536F39F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9E138-231E-4C94-BB33-B63550106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F7BD7E-5A70-4067-A106-A972F2057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801F9-85CF-49A7-8062-85590283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9A14B8-EF1D-41C2-84A2-F7FEC148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1B93D-6933-4120-BC3D-A249A5F7E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D81C4-815F-4E23-A3B6-AD3882FA8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9E25D0-8FF0-4F71-BDBB-AB02EE051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E7239-8D1B-4463-ACC9-3CE9061C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B0F1-5AB8-4BD3-8765-685452A6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76A8B-2101-45CD-B839-F2ECB600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ECE5F6-EFEA-4528-A158-02C09EA9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064AB-273E-4901-95E3-27703E9CB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18B9B-AF20-477F-B515-0B7E7FAF0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96960-C583-4073-A663-AF9221400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BBFCD9-5EDE-4D60-B84D-C480F4EE1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DFB377-D644-4686-8E78-55370D74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BA6A9B-3D77-49C7-83C0-19CFA3D56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9DDEF7-E3F0-4DCB-93DE-6512EE614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F2F869-E795-4E1E-9774-7563D1A00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CEB8-9F45-4BD8-82A0-EAD6F413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D023A0-DBDD-4924-8B1D-B5CB51C4D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F61D7-4557-4FA3-8C41-0A48721F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BF3367-7CC1-42C4-941E-6B95DACF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89FE68-25AA-4A3C-BEA0-396DA982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D098B4-C463-402F-9409-4C6E92AE6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39F6E0-1E49-4B11-AF39-C4881348B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334ADC-8FB2-4E83-BDED-056A038AB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41B708-4D2C-4C2C-8B46-B93D45605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E61135-A8B5-48C3-B05F-FF014D74D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0EA2F3-0594-427C-8B59-4409247CE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8DF74-DE7C-4890-A33C-255098FFC8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0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945D1-A8DD-4944-9A27-F95F33E36EF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18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460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61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3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64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6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67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9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470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471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2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3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474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475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7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478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0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481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3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484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6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487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9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490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2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493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5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496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8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499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1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502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4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505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7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508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0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511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3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14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6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17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9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520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2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523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5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526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8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529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1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532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4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535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37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39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540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2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543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5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546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8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549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1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552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4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555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7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558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0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561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3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564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6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567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9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570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72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Arc 123"/>
              <p:cNvSpPr/>
              <p:nvPr/>
            </p:nvSpPr>
            <p:spPr>
              <a:xfrm>
                <a:off x="785772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Arc 128"/>
              <p:cNvSpPr/>
              <p:nvPr/>
            </p:nvSpPr>
            <p:spPr>
              <a:xfrm>
                <a:off x="7722360" y="657000"/>
                <a:ext cx="390240" cy="118188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2C40F-A90A-4BC1-862A-F873C962694F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636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4" name="PlaceHolder 1"/>
          <p:cNvSpPr>
            <a:spLocks noGrp="1"/>
          </p:cNvSpPr>
          <p:nvPr>
            <p:ph type="dt" idx="3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ftr" idx="3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B1BFD-E795-47BF-9CFF-2947CDC1B8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 type="dt" idx="3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FC5E2-0386-4FBA-95E1-E9BE190E889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8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729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B9C5A-D811-4B5E-89F2-98847461E21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 type="ftr" idx="4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 type="sldNum" idx="4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F7F32-A14A-4377-BDCC-019FA59A3A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 type="dt" idx="4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7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818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D0288-6A5D-41CB-9210-8D18887580CE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2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863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A839E-0B64-4C42-99A6-DE4D4CAC3E81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907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 type="dt" idx="52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 type="ftr" idx="53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 type="sldNum" idx="54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916F8-BACC-4AB3-8592-5EB539BA835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1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52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953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55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956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99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9900ff"/>
                  </a:gs>
                  <a:gs pos="100000">
                    <a:srgbClr val="0000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58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ff33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000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94"/>
                </a:gs>
                <a:gs pos="100000">
                  <a:srgbClr val="00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 type="dt" idx="55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 type="ftr" idx="56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 type="sldNum" idx="57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50145-C8B1-44E4-9038-ABC7BDECB08D}" type="slidenum">
              <a:rPr b="0" lang="ru-RU" sz="1400" spc="-1" strike="noStrike">
                <a:solidFill>
                  <a:srgbClr val="000094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1D429-4F0B-4369-B09B-AC13CDE1E92A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 type="dt" idx="5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 type="ftr" idx="5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A7769-8CD0-46AC-B7D1-228E4B28EE2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 type="dt" idx="6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 type="ftr" idx="62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 type="sldNum" idx="63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FF423-E99A-403B-83A1-AC96AC26E6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9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90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2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3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94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95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96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01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2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03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 type="sldNum" idx="6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901DA-431B-4056-99EF-EDA7E8FAE9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 type="ftr" idx="6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1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1152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 type="dt" idx="6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5FF5D-DAF0-4C41-97EF-2FBBD02EF3DC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9" name="Group 2"/>
          <p:cNvGrpSpPr/>
          <p:nvPr/>
        </p:nvGrpSpPr>
        <p:grpSpPr>
          <a:xfrm>
            <a:off x="2010960" y="245160"/>
            <a:ext cx="6895800" cy="5452200"/>
            <a:chOff x="2010960" y="245160"/>
            <a:chExt cx="6895800" cy="5452200"/>
          </a:xfrm>
        </p:grpSpPr>
        <p:grpSp>
          <p:nvGrpSpPr>
            <p:cNvPr id="1200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201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Oval 5"/>
              <p:cNvSpPr/>
              <p:nvPr/>
            </p:nvSpPr>
            <p:spPr>
              <a:xfrm>
                <a:off x="3823920" y="1265760"/>
                <a:ext cx="22896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3" name="Group 6"/>
            <p:cNvGrpSpPr/>
            <p:nvPr/>
          </p:nvGrpSpPr>
          <p:grpSpPr>
            <a:xfrm>
              <a:off x="2010960" y="245160"/>
              <a:ext cx="6895800" cy="5452200"/>
              <a:chOff x="2010960" y="245160"/>
              <a:chExt cx="6895800" cy="5452200"/>
            </a:xfrm>
          </p:grpSpPr>
          <p:grpSp>
            <p:nvGrpSpPr>
              <p:cNvPr id="1204" name="Group 7"/>
              <p:cNvGrpSpPr/>
              <p:nvPr/>
            </p:nvGrpSpPr>
            <p:grpSpPr>
              <a:xfrm>
                <a:off x="2010960" y="245160"/>
                <a:ext cx="6891120" cy="5452200"/>
                <a:chOff x="2010960" y="245160"/>
                <a:chExt cx="6891120" cy="5452200"/>
              </a:xfrm>
            </p:grpSpPr>
            <p:grpSp>
              <p:nvGrpSpPr>
                <p:cNvPr id="1205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206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7" name="Oval 10"/>
                  <p:cNvSpPr/>
                  <p:nvPr/>
                </p:nvSpPr>
                <p:spPr>
                  <a:xfrm>
                    <a:off x="5109480" y="223560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8" name="Group 11"/>
                <p:cNvGrpSpPr/>
                <p:nvPr/>
              </p:nvGrpSpPr>
              <p:grpSpPr>
                <a:xfrm>
                  <a:off x="2010960" y="245160"/>
                  <a:ext cx="6891120" cy="5452200"/>
                  <a:chOff x="2010960" y="245160"/>
                  <a:chExt cx="6891120" cy="5452200"/>
                </a:xfrm>
              </p:grpSpPr>
              <p:grpSp>
                <p:nvGrpSpPr>
                  <p:cNvPr id="1209" name="Group 12"/>
                  <p:cNvGrpSpPr/>
                  <p:nvPr/>
                </p:nvGrpSpPr>
                <p:grpSpPr>
                  <a:xfrm>
                    <a:off x="5761440" y="2322360"/>
                    <a:ext cx="2558880" cy="2742480"/>
                    <a:chOff x="5761440" y="2322360"/>
                    <a:chExt cx="2558880" cy="2742480"/>
                  </a:xfrm>
                </p:grpSpPr>
                <p:sp>
                  <p:nvSpPr>
                    <p:cNvPr id="1210" name="Freeform 13"/>
                    <p:cNvSpPr/>
                    <p:nvPr/>
                  </p:nvSpPr>
                  <p:spPr>
                    <a:xfrm rot="2711400">
                      <a:off x="5583960" y="3020040"/>
                      <a:ext cx="21276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1" name="Freeform 14"/>
                    <p:cNvSpPr/>
                    <p:nvPr/>
                  </p:nvSpPr>
                  <p:spPr>
                    <a:xfrm rot="2711400">
                      <a:off x="7134120" y="4145400"/>
                      <a:ext cx="114012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12" name="Group 15"/>
                  <p:cNvGrpSpPr/>
                  <p:nvPr/>
                </p:nvGrpSpPr>
                <p:grpSpPr>
                  <a:xfrm>
                    <a:off x="5787720" y="2148120"/>
                    <a:ext cx="3040560" cy="2529720"/>
                    <a:chOff x="5787720" y="2148120"/>
                    <a:chExt cx="3040560" cy="2529720"/>
                  </a:xfrm>
                </p:grpSpPr>
                <p:sp>
                  <p:nvSpPr>
                    <p:cNvPr id="1213" name="Freeform 16"/>
                    <p:cNvSpPr/>
                    <p:nvPr/>
                  </p:nvSpPr>
                  <p:spPr>
                    <a:xfrm rot="2103600">
                      <a:off x="5707440" y="2751480"/>
                      <a:ext cx="2236320" cy="42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4" name="Freeform 17"/>
                    <p:cNvSpPr/>
                    <p:nvPr/>
                  </p:nvSpPr>
                  <p:spPr>
                    <a:xfrm rot="2103600">
                      <a:off x="7542720" y="3721680"/>
                      <a:ext cx="1201320" cy="67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15" name="Group 18"/>
                  <p:cNvGrpSpPr/>
                  <p:nvPr/>
                </p:nvGrpSpPr>
                <p:grpSpPr>
                  <a:xfrm>
                    <a:off x="5776200" y="2065680"/>
                    <a:ext cx="3096360" cy="1991880"/>
                    <a:chOff x="5776200" y="2065680"/>
                    <a:chExt cx="3096360" cy="1991880"/>
                  </a:xfrm>
                </p:grpSpPr>
                <p:sp>
                  <p:nvSpPr>
                    <p:cNvPr id="1216" name="Freeform 19"/>
                    <p:cNvSpPr/>
                    <p:nvPr/>
                  </p:nvSpPr>
                  <p:spPr>
                    <a:xfrm rot="1582800">
                      <a:off x="5747760" y="2521440"/>
                      <a:ext cx="213984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7" name="Freeform 20"/>
                    <p:cNvSpPr/>
                    <p:nvPr/>
                  </p:nvSpPr>
                  <p:spPr>
                    <a:xfrm rot="1582800">
                      <a:off x="7652880" y="3246120"/>
                      <a:ext cx="114876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18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219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0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21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222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3" name="Freeform 26"/>
                    <p:cNvSpPr/>
                    <p:nvPr/>
                  </p:nvSpPr>
                  <p:spPr>
                    <a:xfrm rot="463200">
                      <a:off x="7686360" y="2212920"/>
                      <a:ext cx="102384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24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1225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6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27" name="Group 30"/>
                  <p:cNvGrpSpPr/>
                  <p:nvPr/>
                </p:nvGrpSpPr>
                <p:grpSpPr>
                  <a:xfrm>
                    <a:off x="5788440" y="1303920"/>
                    <a:ext cx="2364120" cy="786960"/>
                    <a:chOff x="5788440" y="1303920"/>
                    <a:chExt cx="2364120" cy="786960"/>
                  </a:xfrm>
                </p:grpSpPr>
                <p:sp>
                  <p:nvSpPr>
                    <p:cNvPr id="1228" name="Freeform 31"/>
                    <p:cNvSpPr/>
                    <p:nvPr/>
                  </p:nvSpPr>
                  <p:spPr>
                    <a:xfrm rot="20797200">
                      <a:off x="5798160" y="165312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9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30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1231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2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33" name="Group 36"/>
                  <p:cNvGrpSpPr/>
                  <p:nvPr/>
                </p:nvGrpSpPr>
                <p:grpSpPr>
                  <a:xfrm>
                    <a:off x="2085120" y="2366640"/>
                    <a:ext cx="3040200" cy="2530080"/>
                    <a:chOff x="2085120" y="2366640"/>
                    <a:chExt cx="3040200" cy="2530080"/>
                  </a:xfrm>
                </p:grpSpPr>
                <p:sp>
                  <p:nvSpPr>
                    <p:cNvPr id="1234" name="Freeform 37"/>
                    <p:cNvSpPr/>
                    <p:nvPr/>
                  </p:nvSpPr>
                  <p:spPr>
                    <a:xfrm flipH="1" rot="19496400">
                      <a:off x="2968560" y="2970000"/>
                      <a:ext cx="223632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5" name="Freeform 38"/>
                    <p:cNvSpPr/>
                    <p:nvPr/>
                  </p:nvSpPr>
                  <p:spPr>
                    <a:xfrm flipH="1" rot="19496400">
                      <a:off x="2168280" y="3940920"/>
                      <a:ext cx="1201320" cy="67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36" name="Group 39"/>
                  <p:cNvGrpSpPr/>
                  <p:nvPr/>
                </p:nvGrpSpPr>
                <p:grpSpPr>
                  <a:xfrm>
                    <a:off x="2040120" y="2283480"/>
                    <a:ext cx="3097080" cy="1992240"/>
                    <a:chOff x="2040120" y="2283480"/>
                    <a:chExt cx="3097080" cy="1992240"/>
                  </a:xfrm>
                </p:grpSpPr>
                <p:sp>
                  <p:nvSpPr>
                    <p:cNvPr id="1237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8" name="Freeform 41"/>
                    <p:cNvSpPr/>
                    <p:nvPr/>
                  </p:nvSpPr>
                  <p:spPr>
                    <a:xfrm flipH="1" rot="20017200">
                      <a:off x="2110320" y="346392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39" name="Group 42"/>
                  <p:cNvGrpSpPr/>
                  <p:nvPr/>
                </p:nvGrpSpPr>
                <p:grpSpPr>
                  <a:xfrm>
                    <a:off x="2010960" y="2188440"/>
                    <a:ext cx="3134160" cy="1608120"/>
                    <a:chOff x="2010960" y="2188440"/>
                    <a:chExt cx="3134160" cy="1608120"/>
                  </a:xfrm>
                </p:grpSpPr>
                <p:sp>
                  <p:nvSpPr>
                    <p:cNvPr id="1240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1" name="Freeform 44"/>
                    <p:cNvSpPr/>
                    <p:nvPr/>
                  </p:nvSpPr>
                  <p:spPr>
                    <a:xfrm flipH="1" rot="20520000">
                      <a:off x="2084040" y="299088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42" name="Group 45"/>
                  <p:cNvGrpSpPr/>
                  <p:nvPr/>
                </p:nvGrpSpPr>
                <p:grpSpPr>
                  <a:xfrm>
                    <a:off x="2166840" y="2097720"/>
                    <a:ext cx="2940480" cy="1002600"/>
                    <a:chOff x="2166840" y="2097720"/>
                    <a:chExt cx="2940480" cy="1002600"/>
                  </a:xfrm>
                </p:grpSpPr>
                <p:sp>
                  <p:nvSpPr>
                    <p:cNvPr id="1243" name="Freeform 46"/>
                    <p:cNvSpPr/>
                    <p:nvPr/>
                  </p:nvSpPr>
                  <p:spPr>
                    <a:xfrm flipH="1" rot="21136800">
                      <a:off x="3184920" y="2223720"/>
                      <a:ext cx="1905120" cy="38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4" name="Freeform 47"/>
                    <p:cNvSpPr/>
                    <p:nvPr/>
                  </p:nvSpPr>
                  <p:spPr>
                    <a:xfrm flipH="1" rot="21136800">
                      <a:off x="2202480" y="2430000"/>
                      <a:ext cx="102420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45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1246" name="Freeform 49"/>
                    <p:cNvSpPr/>
                    <p:nvPr/>
                  </p:nvSpPr>
                  <p:spPr>
                    <a:xfrm flipH="1" rot="84600">
                      <a:off x="3327840" y="2070720"/>
                      <a:ext cx="1730880" cy="26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7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48" name="Group 51"/>
                  <p:cNvGrpSpPr/>
                  <p:nvPr/>
                </p:nvGrpSpPr>
                <p:grpSpPr>
                  <a:xfrm>
                    <a:off x="2761200" y="1522440"/>
                    <a:ext cx="2363400" cy="787320"/>
                    <a:chOff x="2761200" y="1522440"/>
                    <a:chExt cx="2363400" cy="787320"/>
                  </a:xfrm>
                </p:grpSpPr>
                <p:sp>
                  <p:nvSpPr>
                    <p:cNvPr id="1249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0" name="Freeform 53"/>
                    <p:cNvSpPr/>
                    <p:nvPr/>
                  </p:nvSpPr>
                  <p:spPr>
                    <a:xfrm flipH="1" rot="802800">
                      <a:off x="2798280" y="1611000"/>
                      <a:ext cx="81612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51" name="Group 54"/>
                  <p:cNvGrpSpPr/>
                  <p:nvPr/>
                </p:nvGrpSpPr>
                <p:grpSpPr>
                  <a:xfrm>
                    <a:off x="2887560" y="1236600"/>
                    <a:ext cx="2324880" cy="1083960"/>
                    <a:chOff x="2887560" y="1236600"/>
                    <a:chExt cx="2324880" cy="1083960"/>
                  </a:xfrm>
                </p:grpSpPr>
                <p:sp>
                  <p:nvSpPr>
                    <p:cNvPr id="1252" name="Freeform 55"/>
                    <p:cNvSpPr/>
                    <p:nvPr/>
                  </p:nvSpPr>
                  <p:spPr>
                    <a:xfrm flipH="1" rot="1278000">
                      <a:off x="3695040" y="1787760"/>
                      <a:ext cx="152100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3" name="Freeform 56"/>
                    <p:cNvSpPr/>
                    <p:nvPr/>
                  </p:nvSpPr>
                  <p:spPr>
                    <a:xfrm flipH="1" rot="1278000">
                      <a:off x="2935080" y="1370520"/>
                      <a:ext cx="81684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54" name="Group 57"/>
                  <p:cNvGrpSpPr/>
                  <p:nvPr/>
                </p:nvGrpSpPr>
                <p:grpSpPr>
                  <a:xfrm>
                    <a:off x="3161160" y="831240"/>
                    <a:ext cx="2170080" cy="1508040"/>
                    <a:chOff x="3161160" y="831240"/>
                    <a:chExt cx="2170080" cy="1508040"/>
                  </a:xfrm>
                </p:grpSpPr>
                <p:sp>
                  <p:nvSpPr>
                    <p:cNvPr id="1255" name="Freeform 58"/>
                    <p:cNvSpPr/>
                    <p:nvPr/>
                  </p:nvSpPr>
                  <p:spPr>
                    <a:xfrm flipH="1" rot="2028600">
                      <a:off x="3864960" y="167328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6" name="Freeform 59"/>
                    <p:cNvSpPr/>
                    <p:nvPr/>
                  </p:nvSpPr>
                  <p:spPr>
                    <a:xfrm flipH="1" rot="2028600">
                      <a:off x="3207600" y="1022760"/>
                      <a:ext cx="8161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57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1258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9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60" name="Group 63"/>
                  <p:cNvGrpSpPr/>
                  <p:nvPr/>
                </p:nvGrpSpPr>
                <p:grpSpPr>
                  <a:xfrm>
                    <a:off x="4027320" y="335160"/>
                    <a:ext cx="1460520" cy="1886400"/>
                    <a:chOff x="4027320" y="335160"/>
                    <a:chExt cx="1460520" cy="1886400"/>
                  </a:xfrm>
                </p:grpSpPr>
                <p:sp>
                  <p:nvSpPr>
                    <p:cNvPr id="1261" name="Freeform 64"/>
                    <p:cNvSpPr/>
                    <p:nvPr/>
                  </p:nvSpPr>
                  <p:spPr>
                    <a:xfrm flipH="1" rot="3474000">
                      <a:off x="4337640" y="1444320"/>
                      <a:ext cx="13557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2" name="Freeform 65"/>
                    <p:cNvSpPr/>
                    <p:nvPr/>
                  </p:nvSpPr>
                  <p:spPr>
                    <a:xfrm flipH="1" rot="3474000">
                      <a:off x="4032720" y="545400"/>
                      <a:ext cx="72756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63" name="Group 66"/>
                  <p:cNvGrpSpPr/>
                  <p:nvPr/>
                </p:nvGrpSpPr>
                <p:grpSpPr>
                  <a:xfrm>
                    <a:off x="4448160" y="245160"/>
                    <a:ext cx="1122120" cy="1946520"/>
                    <a:chOff x="4448160" y="245160"/>
                    <a:chExt cx="1122120" cy="1946520"/>
                  </a:xfrm>
                </p:grpSpPr>
                <p:sp>
                  <p:nvSpPr>
                    <p:cNvPr id="1264" name="Freeform 67"/>
                    <p:cNvSpPr/>
                    <p:nvPr/>
                  </p:nvSpPr>
                  <p:spPr>
                    <a:xfrm flipH="1" rot="4126800">
                      <a:off x="4556520" y="1402200"/>
                      <a:ext cx="1307160" cy="2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5" name="Freeform 68"/>
                    <p:cNvSpPr/>
                    <p:nvPr/>
                  </p:nvSpPr>
                  <p:spPr>
                    <a:xfrm flipH="1" rot="4126800">
                      <a:off x="4417200" y="439920"/>
                      <a:ext cx="70236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66" name="Group 69"/>
                  <p:cNvGrpSpPr/>
                  <p:nvPr/>
                </p:nvGrpSpPr>
                <p:grpSpPr>
                  <a:xfrm>
                    <a:off x="5661720" y="952200"/>
                    <a:ext cx="2316960" cy="1112400"/>
                    <a:chOff x="5661720" y="952200"/>
                    <a:chExt cx="2316960" cy="1112400"/>
                  </a:xfrm>
                </p:grpSpPr>
                <p:sp>
                  <p:nvSpPr>
                    <p:cNvPr id="1267" name="Freeform 70"/>
                    <p:cNvSpPr/>
                    <p:nvPr/>
                  </p:nvSpPr>
                  <p:spPr>
                    <a:xfrm rot="20274000">
                      <a:off x="5655600" y="152352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8" name="Freeform 71"/>
                    <p:cNvSpPr/>
                    <p:nvPr/>
                  </p:nvSpPr>
                  <p:spPr>
                    <a:xfrm rot="20274000">
                      <a:off x="7112880" y="1090440"/>
                      <a:ext cx="81684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69" name="Group 72"/>
                  <p:cNvGrpSpPr/>
                  <p:nvPr/>
                </p:nvGrpSpPr>
                <p:grpSpPr>
                  <a:xfrm>
                    <a:off x="5529600" y="626760"/>
                    <a:ext cx="2199600" cy="1450800"/>
                    <a:chOff x="5529600" y="626760"/>
                    <a:chExt cx="2199600" cy="1450800"/>
                  </a:xfrm>
                </p:grpSpPr>
                <p:sp>
                  <p:nvSpPr>
                    <p:cNvPr id="1270" name="Freeform 73"/>
                    <p:cNvSpPr/>
                    <p:nvPr/>
                  </p:nvSpPr>
                  <p:spPr>
                    <a:xfrm rot="19678800">
                      <a:off x="5484240" y="142992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1" name="Freeform 74"/>
                    <p:cNvSpPr/>
                    <p:nvPr/>
                  </p:nvSpPr>
                  <p:spPr>
                    <a:xfrm rot="19678800">
                      <a:off x="6864480" y="810720"/>
                      <a:ext cx="81576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72" name="Freeform 75"/>
                  <p:cNvSpPr/>
                  <p:nvPr/>
                </p:nvSpPr>
                <p:spPr>
                  <a:xfrm flipH="1" rot="4578600">
                    <a:off x="4767480" y="1466640"/>
                    <a:ext cx="126504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3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74" name="Group 77"/>
                  <p:cNvGrpSpPr/>
                  <p:nvPr/>
                </p:nvGrpSpPr>
                <p:grpSpPr>
                  <a:xfrm>
                    <a:off x="5355720" y="270360"/>
                    <a:ext cx="1196280" cy="1901160"/>
                    <a:chOff x="5355720" y="270360"/>
                    <a:chExt cx="1196280" cy="1901160"/>
                  </a:xfrm>
                </p:grpSpPr>
                <p:sp>
                  <p:nvSpPr>
                    <p:cNvPr id="1275" name="Freeform 78"/>
                    <p:cNvSpPr/>
                    <p:nvPr/>
                  </p:nvSpPr>
                  <p:spPr>
                    <a:xfrm rot="17742000">
                      <a:off x="5087160" y="1418400"/>
                      <a:ext cx="1309680" cy="22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6" name="Freeform 79"/>
                    <p:cNvSpPr/>
                    <p:nvPr/>
                  </p:nvSpPr>
                  <p:spPr>
                    <a:xfrm rot="17742000">
                      <a:off x="5888520" y="486000"/>
                      <a:ext cx="702360" cy="35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77" name="Group 80"/>
                  <p:cNvGrpSpPr/>
                  <p:nvPr/>
                </p:nvGrpSpPr>
                <p:grpSpPr>
                  <a:xfrm>
                    <a:off x="5347440" y="389160"/>
                    <a:ext cx="1892520" cy="1796400"/>
                    <a:chOff x="5347440" y="389160"/>
                    <a:chExt cx="1892520" cy="1796400"/>
                  </a:xfrm>
                </p:grpSpPr>
                <p:sp>
                  <p:nvSpPr>
                    <p:cNvPr id="1278" name="Freeform 81"/>
                    <p:cNvSpPr/>
                    <p:nvPr/>
                  </p:nvSpPr>
                  <p:spPr>
                    <a:xfrm rot="18822600">
                      <a:off x="5247360" y="1388880"/>
                      <a:ext cx="1424880" cy="33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9" name="Freeform 82"/>
                    <p:cNvSpPr/>
                    <p:nvPr/>
                  </p:nvSpPr>
                  <p:spPr>
                    <a:xfrm rot="18822600">
                      <a:off x="6403320" y="585000"/>
                      <a:ext cx="766080" cy="52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80" name="Group 83"/>
                  <p:cNvGrpSpPr/>
                  <p:nvPr/>
                </p:nvGrpSpPr>
                <p:grpSpPr>
                  <a:xfrm>
                    <a:off x="5458320" y="292680"/>
                    <a:ext cx="427320" cy="1795680"/>
                    <a:chOff x="5458320" y="292680"/>
                    <a:chExt cx="427320" cy="1795680"/>
                  </a:xfrm>
                </p:grpSpPr>
                <p:sp>
                  <p:nvSpPr>
                    <p:cNvPr id="1281" name="Freeform 84"/>
                    <p:cNvSpPr/>
                    <p:nvPr/>
                  </p:nvSpPr>
                  <p:spPr>
                    <a:xfrm rot="16696200">
                      <a:off x="5007600" y="1445400"/>
                      <a:ext cx="117576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2" name="Freeform 85"/>
                    <p:cNvSpPr/>
                    <p:nvPr/>
                  </p:nvSpPr>
                  <p:spPr>
                    <a:xfrm rot="16696200">
                      <a:off x="5442480" y="533520"/>
                      <a:ext cx="63108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83" name="Group 86"/>
                  <p:cNvGrpSpPr/>
                  <p:nvPr/>
                </p:nvGrpSpPr>
                <p:grpSpPr>
                  <a:xfrm>
                    <a:off x="3062520" y="2530800"/>
                    <a:ext cx="2196000" cy="3002400"/>
                    <a:chOff x="3062520" y="2530800"/>
                    <a:chExt cx="2196000" cy="3002400"/>
                  </a:xfrm>
                </p:grpSpPr>
                <p:sp>
                  <p:nvSpPr>
                    <p:cNvPr id="1284" name="Freeform 87"/>
                    <p:cNvSpPr/>
                    <p:nvPr/>
                  </p:nvSpPr>
                  <p:spPr>
                    <a:xfrm flipH="1" rot="18336000">
                      <a:off x="3419640" y="3314880"/>
                      <a:ext cx="2126520" cy="38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5" name="Freeform 88"/>
                    <p:cNvSpPr/>
                    <p:nvPr/>
                  </p:nvSpPr>
                  <p:spPr>
                    <a:xfrm flipH="1" rot="18336000">
                      <a:off x="3069720" y="4591800"/>
                      <a:ext cx="113904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86" name="Group 89"/>
                  <p:cNvGrpSpPr/>
                  <p:nvPr/>
                </p:nvGrpSpPr>
                <p:grpSpPr>
                  <a:xfrm>
                    <a:off x="3791520" y="2650680"/>
                    <a:ext cx="1482120" cy="2999880"/>
                    <a:chOff x="3791520" y="2650680"/>
                    <a:chExt cx="1482120" cy="2999880"/>
                  </a:xfrm>
                </p:grpSpPr>
                <p:sp>
                  <p:nvSpPr>
                    <p:cNvPr id="1287" name="Freeform 90"/>
                    <p:cNvSpPr/>
                    <p:nvPr/>
                  </p:nvSpPr>
                  <p:spPr>
                    <a:xfrm flipH="1" rot="17543400">
                      <a:off x="3737520" y="3441240"/>
                      <a:ext cx="1967400" cy="38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8" name="Freeform 91"/>
                    <p:cNvSpPr/>
                    <p:nvPr/>
                  </p:nvSpPr>
                  <p:spPr>
                    <a:xfrm flipH="1" rot="17543400">
                      <a:off x="3743640" y="4745160"/>
                      <a:ext cx="105588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89" name="Group 92"/>
                  <p:cNvGrpSpPr/>
                  <p:nvPr/>
                </p:nvGrpSpPr>
                <p:grpSpPr>
                  <a:xfrm>
                    <a:off x="4509000" y="2703600"/>
                    <a:ext cx="874080" cy="2926800"/>
                    <a:chOff x="4509000" y="2703600"/>
                    <a:chExt cx="874080" cy="2926800"/>
                  </a:xfrm>
                </p:grpSpPr>
                <p:sp>
                  <p:nvSpPr>
                    <p:cNvPr id="1290" name="Freeform 93"/>
                    <p:cNvSpPr/>
                    <p:nvPr/>
                  </p:nvSpPr>
                  <p:spPr>
                    <a:xfrm flipH="1" rot="16870800">
                      <a:off x="4087080" y="3489480"/>
                      <a:ext cx="188676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1" name="Freeform 94"/>
                    <p:cNvSpPr/>
                    <p:nvPr/>
                  </p:nvSpPr>
                  <p:spPr>
                    <a:xfrm flipH="1" rot="16870800">
                      <a:off x="4366800" y="4809600"/>
                      <a:ext cx="1012320" cy="54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92" name="Group 95"/>
                  <p:cNvGrpSpPr/>
                  <p:nvPr/>
                </p:nvGrpSpPr>
                <p:grpSpPr>
                  <a:xfrm>
                    <a:off x="5677920" y="2483640"/>
                    <a:ext cx="2280600" cy="2952720"/>
                    <a:chOff x="5677920" y="2483640"/>
                    <a:chExt cx="2280600" cy="2952720"/>
                  </a:xfrm>
                </p:grpSpPr>
                <p:sp>
                  <p:nvSpPr>
                    <p:cNvPr id="1293" name="Freeform 96"/>
                    <p:cNvSpPr/>
                    <p:nvPr/>
                  </p:nvSpPr>
                  <p:spPr>
                    <a:xfrm rot="3144000">
                      <a:off x="5415120" y="3251160"/>
                      <a:ext cx="21265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4" name="Freeform 97"/>
                    <p:cNvSpPr/>
                    <p:nvPr/>
                  </p:nvSpPr>
                  <p:spPr>
                    <a:xfrm rot="3144000">
                      <a:off x="6801480" y="4498560"/>
                      <a:ext cx="11397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95" name="Group 98"/>
                  <p:cNvGrpSpPr/>
                  <p:nvPr/>
                </p:nvGrpSpPr>
                <p:grpSpPr>
                  <a:xfrm>
                    <a:off x="5647680" y="2593440"/>
                    <a:ext cx="1758600" cy="3032640"/>
                    <a:chOff x="5647680" y="2593440"/>
                    <a:chExt cx="1758600" cy="3032640"/>
                  </a:xfrm>
                </p:grpSpPr>
                <p:sp>
                  <p:nvSpPr>
                    <p:cNvPr id="1296" name="Freeform 99"/>
                    <p:cNvSpPr/>
                    <p:nvPr/>
                  </p:nvSpPr>
                  <p:spPr>
                    <a:xfrm rot="3745200">
                      <a:off x="5265000" y="3395880"/>
                      <a:ext cx="2034720" cy="36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7" name="Freeform 100"/>
                    <p:cNvSpPr/>
                    <p:nvPr/>
                  </p:nvSpPr>
                  <p:spPr>
                    <a:xfrm rot="3745200">
                      <a:off x="6352200" y="4720320"/>
                      <a:ext cx="1090800" cy="57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98" name="Group 101"/>
                  <p:cNvGrpSpPr/>
                  <p:nvPr/>
                </p:nvGrpSpPr>
                <p:grpSpPr>
                  <a:xfrm>
                    <a:off x="5576400" y="2710800"/>
                    <a:ext cx="1225080" cy="2986560"/>
                    <a:chOff x="5576400" y="2710800"/>
                    <a:chExt cx="1225080" cy="2986560"/>
                  </a:xfrm>
                </p:grpSpPr>
                <p:sp>
                  <p:nvSpPr>
                    <p:cNvPr id="1299" name="Freeform 102"/>
                    <p:cNvSpPr/>
                    <p:nvPr/>
                  </p:nvSpPr>
                  <p:spPr>
                    <a:xfrm rot="4286400">
                      <a:off x="5046840" y="3543120"/>
                      <a:ext cx="1973520" cy="30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0" name="Freeform 103"/>
                    <p:cNvSpPr/>
                    <p:nvPr/>
                  </p:nvSpPr>
                  <p:spPr>
                    <a:xfrm rot="4286400">
                      <a:off x="5877720" y="4881960"/>
                      <a:ext cx="105948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01" name="Group 104"/>
                  <p:cNvGrpSpPr/>
                  <p:nvPr/>
                </p:nvGrpSpPr>
                <p:grpSpPr>
                  <a:xfrm>
                    <a:off x="5521320" y="2840400"/>
                    <a:ext cx="696960" cy="2778120"/>
                    <a:chOff x="5521320" y="2840400"/>
                    <a:chExt cx="696960" cy="2778120"/>
                  </a:xfrm>
                </p:grpSpPr>
                <p:sp>
                  <p:nvSpPr>
                    <p:cNvPr id="1302" name="Freeform 105"/>
                    <p:cNvSpPr/>
                    <p:nvPr/>
                  </p:nvSpPr>
                  <p:spPr>
                    <a:xfrm rot="4898400">
                      <a:off x="4896720" y="3607200"/>
                      <a:ext cx="1812960" cy="30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3" name="Freeform 106"/>
                    <p:cNvSpPr/>
                    <p:nvPr/>
                  </p:nvSpPr>
                  <p:spPr>
                    <a:xfrm rot="4898400">
                      <a:off x="5425200" y="4864320"/>
                      <a:ext cx="97380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04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305" name="Freeform 108"/>
                    <p:cNvSpPr/>
                    <p:nvPr/>
                  </p:nvSpPr>
                  <p:spPr>
                    <a:xfrm rot="5755200">
                      <a:off x="4532040" y="3665160"/>
                      <a:ext cx="1771920" cy="23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6" name="Freeform 109"/>
                    <p:cNvSpPr/>
                    <p:nvPr/>
                  </p:nvSpPr>
                  <p:spPr>
                    <a:xfrm rot="5755200">
                      <a:off x="4714560" y="4932360"/>
                      <a:ext cx="950760" cy="36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307" name="Group 110"/>
              <p:cNvGrpSpPr/>
              <p:nvPr/>
            </p:nvGrpSpPr>
            <p:grpSpPr>
              <a:xfrm>
                <a:off x="2175480" y="682560"/>
                <a:ext cx="6731280" cy="4521240"/>
                <a:chOff x="2175480" y="682560"/>
                <a:chExt cx="6731280" cy="4521240"/>
              </a:xfrm>
            </p:grpSpPr>
            <p:grpSp>
              <p:nvGrpSpPr>
                <p:cNvPr id="1308" name="Group 111"/>
                <p:cNvGrpSpPr/>
                <p:nvPr/>
              </p:nvGrpSpPr>
              <p:grpSpPr>
                <a:xfrm>
                  <a:off x="2175480" y="682560"/>
                  <a:ext cx="6731280" cy="4521240"/>
                  <a:chOff x="2175480" y="682560"/>
                  <a:chExt cx="6731280" cy="4521240"/>
                </a:xfrm>
              </p:grpSpPr>
              <p:sp>
                <p:nvSpPr>
                  <p:cNvPr id="1309" name="Arc 112"/>
                  <p:cNvSpPr/>
                  <p:nvPr/>
                </p:nvSpPr>
                <p:spPr>
                  <a:xfrm flipV="1">
                    <a:off x="5740920" y="857880"/>
                    <a:ext cx="3165840" cy="25239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0" name="Arc 113"/>
                  <p:cNvSpPr/>
                  <p:nvPr/>
                </p:nvSpPr>
                <p:spPr>
                  <a:xfrm flipH="1">
                    <a:off x="2561760" y="2270520"/>
                    <a:ext cx="248652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1" name="Arc 114"/>
                  <p:cNvSpPr/>
                  <p:nvPr/>
                </p:nvSpPr>
                <p:spPr>
                  <a:xfrm>
                    <a:off x="5818680" y="1752840"/>
                    <a:ext cx="175788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2" name="Arc 115"/>
                  <p:cNvSpPr/>
                  <p:nvPr/>
                </p:nvSpPr>
                <p:spPr>
                  <a:xfrm flipH="1">
                    <a:off x="2175480" y="1297800"/>
                    <a:ext cx="313272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3" name="Arc 116"/>
                  <p:cNvSpPr/>
                  <p:nvPr/>
                </p:nvSpPr>
                <p:spPr>
                  <a:xfrm flipH="1">
                    <a:off x="3057120" y="682560"/>
                    <a:ext cx="228204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4" name="Arc 117"/>
                  <p:cNvSpPr/>
                  <p:nvPr/>
                </p:nvSpPr>
                <p:spPr>
                  <a:xfrm>
                    <a:off x="5491800" y="1875960"/>
                    <a:ext cx="94068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5" name="Freeform 118"/>
                  <p:cNvSpPr/>
                  <p:nvPr/>
                </p:nvSpPr>
                <p:spPr>
                  <a:xfrm flipH="1">
                    <a:off x="430272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6" name="Freeform 119"/>
                <p:cNvSpPr/>
                <p:nvPr/>
              </p:nvSpPr>
              <p:spPr>
                <a:xfrm rot="20253000">
                  <a:off x="6127200" y="2181240"/>
                  <a:ext cx="54612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7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1318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9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0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1" name="Arc 124"/>
              <p:cNvSpPr/>
              <p:nvPr/>
            </p:nvSpPr>
            <p:spPr>
              <a:xfrm flipH="1">
                <a:off x="2343600" y="1740240"/>
                <a:ext cx="2930760" cy="293400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2" name="Arc 125"/>
              <p:cNvSpPr/>
              <p:nvPr/>
            </p:nvSpPr>
            <p:spPr>
              <a:xfrm>
                <a:off x="5588640" y="215208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3" name="Arc 126"/>
              <p:cNvSpPr/>
              <p:nvPr/>
            </p:nvSpPr>
            <p:spPr>
              <a:xfrm>
                <a:off x="5711760" y="2138400"/>
                <a:ext cx="123804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4" name="Freeform 127"/>
              <p:cNvSpPr/>
              <p:nvPr/>
            </p:nvSpPr>
            <p:spPr>
              <a:xfrm>
                <a:off x="6155640" y="354852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5" name="Freeform 128"/>
              <p:cNvSpPr/>
              <p:nvPr/>
            </p:nvSpPr>
            <p:spPr>
              <a:xfrm flipV="1" rot="19660800">
                <a:off x="5226840" y="2948760"/>
                <a:ext cx="543600" cy="1033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6" name="Freeform 129"/>
              <p:cNvSpPr/>
              <p:nvPr/>
            </p:nvSpPr>
            <p:spPr>
              <a:xfrm flipH="1">
                <a:off x="2688120" y="3385800"/>
                <a:ext cx="133848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7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8" name="Freeform 131"/>
              <p:cNvSpPr/>
              <p:nvPr/>
            </p:nvSpPr>
            <p:spPr>
              <a:xfrm>
                <a:off x="7513920" y="3109320"/>
                <a:ext cx="1242000" cy="1974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9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0" name="Freeform 133"/>
              <p:cNvSpPr/>
              <p:nvPr/>
            </p:nvSpPr>
            <p:spPr>
              <a:xfrm>
                <a:off x="6937920" y="714240"/>
                <a:ext cx="819000" cy="1768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1" name="Freeform 134"/>
              <p:cNvSpPr/>
              <p:nvPr/>
            </p:nvSpPr>
            <p:spPr>
              <a:xfrm flipH="1" rot="1347000">
                <a:off x="4183920" y="2155680"/>
                <a:ext cx="54396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 type="dt" idx="7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6" name="PlaceHolder 5"/>
          <p:cNvSpPr>
            <a:spLocks noGrp="1"/>
          </p:cNvSpPr>
          <p:nvPr>
            <p:ph type="sldNum" idx="7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D6228-BF69-4401-8C75-7D1F98192A2E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3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374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 type="dt" idx="73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 type="ftr" idx="74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4" name="PlaceHolder 5"/>
          <p:cNvSpPr>
            <a:spLocks noGrp="1"/>
          </p:cNvSpPr>
          <p:nvPr>
            <p:ph type="sldNum" idx="7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44715-FBF9-47F4-927E-F911D904C4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 type="dt" idx="7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5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6" name="PlaceHolder 5"/>
          <p:cNvSpPr>
            <a:spLocks noGrp="1"/>
          </p:cNvSpPr>
          <p:nvPr>
            <p:ph type="sldNum" idx="7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6415C-22BE-421B-A000-06C5CD73B3E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3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464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7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 type="dt" idx="7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3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4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71616-BEB4-4F86-B551-E4DE5671295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87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455A6-6142-436C-BFCE-339847201D7D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3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BF856-0B2A-4EB5-AB93-9FF4FF35708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9900ff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339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000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00009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E3F77-81CB-4E48-ACA9-13962975F76F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0D36-DA03-405B-9D89-C91B9EB863F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ADCDA-D57E-4679-9DE3-4AFB7DA496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272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1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31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31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2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8C926-B5F2-40A2-9C40-C1B8B3EB5C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E387F-B9BD-4A02-A8CB-BA6E3E1E33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0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«И снизу лед…»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2" name="Picture 3" descr="Безымянный"/>
          <p:cNvPicPr/>
          <p:nvPr/>
        </p:nvPicPr>
        <p:blipFill>
          <a:blip r:embed="rId1"/>
          <a:stretch/>
        </p:blipFill>
        <p:spPr>
          <a:xfrm>
            <a:off x="2700360" y="2062080"/>
            <a:ext cx="4032360" cy="3430800"/>
          </a:xfrm>
          <a:prstGeom prst="rect">
            <a:avLst/>
          </a:prstGeom>
          <a:ln w="0">
            <a:noFill/>
          </a:ln>
        </p:spPr>
      </p:pic>
      <p:pic>
        <p:nvPicPr>
          <p:cNvPr id="1513" name="лирическая.wav" descr=""/>
          <p:cNvPicPr/>
          <p:nvPr/>
        </p:nvPicPr>
        <p:blipFill>
          <a:blip r:embed="rId2"/>
          <a:stretch/>
        </p:blipFill>
        <p:spPr>
          <a:xfrm>
            <a:off x="1116000" y="5877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514" name="белое.wav" descr=""/>
          <p:cNvPicPr/>
          <p:nvPr/>
        </p:nvPicPr>
        <p:blipFill>
          <a:blip r:embed="rId3"/>
          <a:stretch/>
        </p:blipFill>
        <p:spPr>
          <a:xfrm>
            <a:off x="8172360" y="5877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5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1513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1513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76110" fill="hold"/>
                                        <p:tgtEl>
                                          <p:spTgt spid="15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1514"/>
                    </p:tgtEl>
                  </p:cond>
                </p:stCondLst>
                <p:childTnLst>
                  <p:par>
                    <p:cTn id="26" nodeType="clickEffect" fill="hold">
                      <p:stCondLst>
                        <p:cond evt="onClick">
                          <p:tgtEl>
                            <p:spTgt spid="1514"/>
                          </p:tgtEl>
                        </p:cond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81859" fill="hold"/>
                                        <p:tgtEl>
                                          <p:spTgt spid="15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Высоцкий в фильме «Штрафной удар»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фильме «Штрафной удар» я научился ездить на лошади и выполнять трюки. Это долгая тренировка, но это прекрасно. Надо уметь делать всё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1" name="Picture 5" descr="_00012"/>
          <p:cNvPicPr/>
          <p:nvPr/>
        </p:nvPicPr>
        <p:blipFill>
          <a:blip r:embed="rId1"/>
          <a:stretch/>
        </p:blipFill>
        <p:spPr>
          <a:xfrm>
            <a:off x="468360" y="1728720"/>
            <a:ext cx="3887640" cy="418320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</p:spTree>
  </p:cSld>
  <p:transition>
    <p:cover dir="d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800000"/>
            </a:gs>
            <a:gs pos="100000">
              <a:srgbClr val="3333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Высоцкий в фильме «Служили два товарища»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т в фильме «Служили два товарища», где я играл роль белогвардейца поручика Брусинцова, в самом конце фильма он должен был стрелять себе в рот и падать с борта судна, отправляющегося за границу. Я долго просил, чтобы это мне разрешил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4" name="Picture 5" descr="_00012"/>
          <p:cNvPicPr/>
          <p:nvPr/>
        </p:nvPicPr>
        <p:blipFill>
          <a:blip r:embed="rId1"/>
          <a:stretch/>
        </p:blipFill>
        <p:spPr>
          <a:xfrm>
            <a:off x="539640" y="2133720"/>
            <a:ext cx="4243320" cy="3821040"/>
          </a:xfrm>
          <a:prstGeom prst="rect">
            <a:avLst/>
          </a:prstGeom>
          <a:ln w="76320">
            <a:solidFill>
              <a:srgbClr val="ff33cc"/>
            </a:solidFill>
            <a:miter/>
          </a:ln>
        </p:spPr>
      </p:pic>
    </p:spTree>
  </p:cSld>
  <p:transition>
    <p:comb dir="horz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8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Фильм «Вертикаль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ильм «Вертикаль», наверное, многие знают. Я писал туда песни. Я продолжаю писать о горах и буду писать о них много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7" name="Picture 5" descr="_00013"/>
          <p:cNvPicPr/>
          <p:nvPr/>
        </p:nvPicPr>
        <p:blipFill>
          <a:blip r:embed="rId1"/>
          <a:stretch/>
        </p:blipFill>
        <p:spPr>
          <a:xfrm>
            <a:off x="4788000" y="2165400"/>
            <a:ext cx="3816360" cy="3762360"/>
          </a:xfrm>
          <a:prstGeom prst="rect">
            <a:avLst/>
          </a:prstGeom>
          <a:ln w="76320">
            <a:solidFill>
              <a:srgbClr val="00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9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98" fill="hold"/>
                                        <p:tgtEl>
                                          <p:spTgt spid="1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Высоцкий в фильме «Короткие встречи»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ильм «Короткие встречи» режиссера одесской киностудии Киры Муратовой. Я там пел  сказки и всякие песни. Это моя одна из самых любимых ролей.  Я играл роль геолог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0" name="Picture 5" descr="_00013"/>
          <p:cNvPicPr/>
          <p:nvPr/>
        </p:nvPicPr>
        <p:blipFill>
          <a:blip r:embed="rId1"/>
          <a:stretch/>
        </p:blipFill>
        <p:spPr>
          <a:xfrm>
            <a:off x="324000" y="1989000"/>
            <a:ext cx="3816360" cy="39610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Последняя картина Высоцкого «Опасные гастроли»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Это знаменитое «Литвиновское дело» 1910 года, когда подпольно перевозили литературу и оружие из-за границы. Там я играю Николая Бенгальского, актера театра- варьете. Там тоже много моих песен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53" name="Picture 5" descr="_00014"/>
          <p:cNvPicPr/>
          <p:nvPr/>
        </p:nvPicPr>
        <p:blipFill>
          <a:blip r:embed="rId1"/>
          <a:stretch/>
        </p:blipFill>
        <p:spPr>
          <a:xfrm>
            <a:off x="4932360" y="2146320"/>
            <a:ext cx="3448080" cy="3914640"/>
          </a:xfrm>
          <a:prstGeom prst="rect">
            <a:avLst/>
          </a:prstGeom>
          <a:ln w="76320">
            <a:solidFill>
              <a:srgbClr val="af273e"/>
            </a:solidFill>
            <a:miter/>
          </a:ln>
        </p:spPr>
      </p:pic>
    </p:spTree>
  </p:cSld>
  <p:transition>
    <p:strips dir="rd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26" dur="2000" fill="hold"/>
                                        <p:tgtEl>
                                          <p:spTgt spid="15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5" dur="20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Владимир Высоцкий в кино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Говоря о своей работе в кино, Владимир Высоцкий называл такие цифры: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нимался в 24 фильмах, в 12 исполнял главные роли, для 10 написал песни (заметим: исследователи его творчества скрупулезно сосчитали все его выступления в кино более чем за двадцатилетний период — набралось около 30 фильмов). </a:t>
            </a:r>
            <a:br>
              <a:rPr sz="2600"/>
            </a:b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0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98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98" fill="hold"/>
                                        <p:tgtEl>
                                          <p:spTgt spid="1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Воспоминание кинорежиссера Александра Митта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539640" y="21333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дею, как делать «Арапа Петра Великого», я принес сценаристам Дунскому и Фриду в пакете с идеей снять в этой роли Высоцког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длагался фильм не только про арапа, но и про Высоцког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не хотелось показать его с экрана интеллигентным, по- детски доверчивым и нравственно несгибаемы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8" name="Picture 11" descr="_00015"/>
          <p:cNvPicPr/>
          <p:nvPr/>
        </p:nvPicPr>
        <p:blipFill>
          <a:blip r:embed="rId2"/>
          <a:stretch/>
        </p:blipFill>
        <p:spPr>
          <a:xfrm>
            <a:off x="5364000" y="2133720"/>
            <a:ext cx="3349800" cy="419076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</p:spTree>
  </p:cSld>
  <p:transition>
    <p:pull dir="rd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7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/>
          </p:nvPr>
        </p:nvSpPr>
        <p:spPr>
          <a:xfrm>
            <a:off x="394920" y="549000"/>
            <a:ext cx="7921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соцкий- это человек- легенда, борец за человеческое достоинство, провидец. Он не умел молчать, лгать, пресмыкаться. Владимир Высоцкий сгорел из-за нас, ради нас, за нас. Он считал необходимым прожить жизнь так, чтобы в память о ней людям захотелось зажечь свечу…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0" name="Picture 4" descr="fire"/>
          <p:cNvPicPr/>
          <p:nvPr/>
        </p:nvPicPr>
        <p:blipFill>
          <a:blip r:embed="rId1"/>
          <a:stretch/>
        </p:blipFill>
        <p:spPr>
          <a:xfrm>
            <a:off x="7885080" y="5157720"/>
            <a:ext cx="39060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ладимир Высоцкий- феномен семидесятых год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снизу лёд, и сверху- маюсь между. Пробить ли верх иль пробуравить н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Конечно- всплыть и не терять надежду, А там- за дело, в ожиданье вниз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д надо мной, надломись и тресни! Я весь в поту, как пахарь от сохи. Вернусь к тебе, как корабли из песни, все помня- даже старые стих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не меньше полувека- сорок с лишним, Я жив, 12 лет тобой храним. Мне есть что спеть, представ перед все Вышним, Мне будет, чем ответить перед Ни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7" name="Picture 5" descr=" _0001"/>
          <p:cNvPicPr/>
          <p:nvPr/>
        </p:nvPicPr>
        <p:blipFill>
          <a:blip r:embed="rId1"/>
          <a:stretch/>
        </p:blipFill>
        <p:spPr>
          <a:xfrm>
            <a:off x="395280" y="1844640"/>
            <a:ext cx="4176720" cy="424836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p:transition>
    <p:checker dir="horz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6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600" fill="hold"/>
                                        <p:tgtEl>
                                          <p:spTgt spid="1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600" fill="hold"/>
                                        <p:tgtEl>
                                          <p:spTgt spid="1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600" fill="hold"/>
                                        <p:tgtEl>
                                          <p:spTgt spid="1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000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Жизненный путь В. С. Высоцкого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40402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 С Высоцкий родился в Москве 25 января 1938г. Его мать Нина Максимовна, 1912г рождения по специальности переводчик с немецкого языка. Отец Семен Владимирович, 1915г рождения кадровый военный окончил Военную академию связи имени Маршала Союза С. М. Буденного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 сентября 1945г пошел в первый класс 273-й Московской школы. В 1955г окончил 10-й класс. В этом же году поступил в Московский Инженерно- строительный институт им. Куйбышева, но уже в начале 1956г ушёл из институт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Летом 1956г поступил в школу- студии МХАТ им. Немировича- Данченко на актерское отделение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 1961г написал первую песню «Татуировка»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0" name="Picture 9" descr="05_015i"/>
          <p:cNvPicPr/>
          <p:nvPr/>
        </p:nvPicPr>
        <p:blipFill>
          <a:blip r:embed="rId1"/>
          <a:stretch/>
        </p:blipFill>
        <p:spPr>
          <a:xfrm>
            <a:off x="4716360" y="1700280"/>
            <a:ext cx="3743280" cy="432108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p:transition>
    <p:split dir="in" orient="ver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Воспоминание </a:t>
            </a:r>
            <a:br>
              <a:rPr sz="4000"/>
            </a:b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Юрия Трифонова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«Думаю, можно сказать, что творчество Высоцкого- биография нашего времени. Он рассказывал нам почти обо всем, чем жил народ- при нем и до него. Пел о войне, о больших делах и стройках и о тяжких временах 37-го, о космосе, спортсменах…- о ком угодно, обо всем. Великая его популярность объяснима: Высоцкий вошел в самую гущу народа, он был понятен многим, почти всем»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3" name="Picture 5" descr="_0003"/>
          <p:cNvPicPr/>
          <p:nvPr/>
        </p:nvPicPr>
        <p:blipFill>
          <a:blip r:embed="rId1"/>
          <a:stretch/>
        </p:blipFill>
        <p:spPr>
          <a:xfrm>
            <a:off x="5148360" y="1700280"/>
            <a:ext cx="3456000" cy="3887640"/>
          </a:xfrm>
          <a:prstGeom prst="rect">
            <a:avLst/>
          </a:prstGeom>
          <a:ln w="57240">
            <a:solidFill>
              <a:srgbClr val="ffcc00"/>
            </a:solidFill>
            <a:miter/>
          </a:ln>
        </p:spPr>
      </p:pic>
    </p:spTree>
  </p:cSld>
  <p:transition>
    <p:wipe dir="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98" fill="hold"/>
                                        <p:tgtEl>
                                          <p:spTgt spid="1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98" fill="hold"/>
                                        <p:tgtEl>
                                          <p:spTgt spid="1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10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оспоминание Марины Влади о том. как Высоцкий работал над своими песням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684320" y="1828800"/>
            <a:ext cx="4002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чник вдохновения для него – всё, что ты видиш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одобно губке он впитывает эмоции, рассказы, насыщая свои стихи пережитом, ничего не бросая по дороге. Любая тема может в тот или другой день вылиться в поэму- ничто не ускользает от его внимания, и, читая все им написанное, можно представить себе, что он прожил сотни жизней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6" name="Picture 7" descr="_0005"/>
          <p:cNvPicPr/>
          <p:nvPr/>
        </p:nvPicPr>
        <p:blipFill>
          <a:blip r:embed="rId1"/>
          <a:stretch/>
        </p:blipFill>
        <p:spPr>
          <a:xfrm>
            <a:off x="395280" y="1773360"/>
            <a:ext cx="4202280" cy="4248000"/>
          </a:xfrm>
          <a:prstGeom prst="rect">
            <a:avLst/>
          </a:prstGeom>
          <a:ln w="76320">
            <a:solidFill>
              <a:srgbClr val="ff33cc"/>
            </a:solidFill>
            <a:miter/>
          </a:ln>
        </p:spPr>
      </p:pic>
    </p:spTree>
  </p:cSld>
  <p:transition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Arial Black"/>
              </a:rPr>
              <a:t>Владимир Высоцкий об авторской песне.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367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В авторской песне нет зрелищности, которая дает ей приподнятости. Но в ней есть другое. Она импровизированн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Более того, так как это беседа с людьми, то надо помнить, что собеседники каждый раз приходят разны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9" name="Picture 9" descr="05lit005i"/>
          <p:cNvPicPr/>
          <p:nvPr/>
        </p:nvPicPr>
        <p:blipFill>
          <a:blip r:embed="rId2"/>
          <a:stretch/>
        </p:blipFill>
        <p:spPr>
          <a:xfrm>
            <a:off x="4788000" y="2133720"/>
            <a:ext cx="3456000" cy="3382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50000">
              <a:srgbClr val="cc6600"/>
            </a:gs>
            <a:gs pos="100000">
              <a:srgbClr val="00cc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В. Высоцкий о театре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5138280" y="2017800"/>
            <a:ext cx="381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вая линия и очень большая в театре- это поэтическая, дело в том, что поэтический репертуар после 20-х годов был забыт. И вот мы стали пионерами, чтобы возобновить этот прекрасный жанр поэтического театр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2" name="Picture 9" descr="pv7570"/>
          <p:cNvPicPr/>
          <p:nvPr/>
        </p:nvPicPr>
        <p:blipFill>
          <a:blip r:embed="rId1"/>
          <a:stretch/>
        </p:blipFill>
        <p:spPr>
          <a:xfrm>
            <a:off x="900000" y="2492280"/>
            <a:ext cx="3384720" cy="34560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cc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Garamond"/>
              </a:rPr>
              <a:t>Высоцкий о кино.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Надо сказать, что кино- это вообще замечательно, приобретаешь побочные професс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 кино сниматься интереснее только в смысле того, что ты видишь много разных людей, событий, мес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5" name="Picture 5" descr="10"/>
          <p:cNvPicPr/>
          <p:nvPr/>
        </p:nvPicPr>
        <p:blipFill>
          <a:blip r:embed="rId1"/>
          <a:stretch/>
        </p:blipFill>
        <p:spPr>
          <a:xfrm>
            <a:off x="4572000" y="1628640"/>
            <a:ext cx="4176720" cy="4464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009999"/>
            </a:gs>
            <a:gs pos="100000">
              <a:srgbClr val="ff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Первый фильм Высоцкого.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76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ервом фильме «Карьера Димы Горина» я играл роль монтажника- высотника. И первый съемочный день был очень смеш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 должен был играть такого человека, который приставал к Тане Конюховой, не к актрисе , конечно, а к персонажу, которого она играла. Я долго отказывался, потому что был молодой и скромный человек, и говорил- она знаменитая актриса, мне неудобно, я не могу и 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8" name="Picture 7" descr="_00011"/>
          <p:cNvPicPr/>
          <p:nvPr/>
        </p:nvPicPr>
        <p:blipFill>
          <a:blip r:embed="rId1"/>
          <a:stretch/>
        </p:blipFill>
        <p:spPr>
          <a:xfrm>
            <a:off x="4743360" y="2085840"/>
            <a:ext cx="3652920" cy="382284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</p:spTree>
  </p:cSld>
  <p:transition>
    <p:pull dir="rd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0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8T12:15:36Z</dcterms:created>
  <dc:creator>Черемисовы</dc:creator>
  <dc:description/>
  <dc:language>en-US</dc:language>
  <cp:lastModifiedBy>Коля</cp:lastModifiedBy>
  <dcterms:modified xsi:type="dcterms:W3CDTF">2013-03-20T19:45:25Z</dcterms:modified>
  <cp:revision>31</cp:revision>
  <dc:subject/>
  <dc:title>I конференция школьного исследовательского общества «Прометей»</dc:title>
</cp:coreProperties>
</file>