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13.jpeg" ContentType="image/jpeg"/>
  <Override PartName="/ppt/media/image21.gif" ContentType="image/gif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5.png" ContentType="image/png"/>
  <Override PartName="/ppt/media/image8.jpeg" ContentType="image/jpe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D459-A0D4-4F74-B5DA-DDAD80144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7C53-6E0F-474E-86EC-433287C0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9E4AD-2A44-42C4-95A6-FD7FBA40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0C834F-BBFA-4ABE-8ACC-6B7C2BCD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A406B1-85EF-49AA-984B-F08361C4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B5C1D2-B0B5-4F5C-B3E2-CC7630BB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272CDB-CB46-4883-8DC3-09FEE63C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1A41DD-9C7E-463A-94D4-C870F9EA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8483C-0E82-4032-B304-79B06FA7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3D614B-3B7C-476C-B418-A07A67ACE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3F458F-0564-4472-8F39-F06A25E0C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1A04CB-BAAB-4139-A26F-FE7B084DB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0F7E-2219-4874-96A5-3B0F69249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004761-42D4-4C95-A6A7-0050EEF4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2D9B1A-902A-43ED-A12B-C76A782B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DC2B1A-D86D-4987-AF75-1D7DA185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1B8C75-5133-49D1-9177-152B5B26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463274-183E-46FD-BC6B-0EDAEAC2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A62D94-3683-457A-BDA4-91898322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9D640E-3EFC-47A9-998F-2C399B5B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94BB2A-2022-4FBD-B5AE-D6E3BBF7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6BC048-6017-4464-B302-E39F7CCD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76B31F-8389-499B-A6AA-6002233FD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9BDB-984E-4061-A359-82EFFE5BF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AC4EC8-2956-4F4F-91E3-44C10575E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678AC-EFD8-4C4D-948C-284D1941B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44514-EC10-4BFC-9338-F27B13D5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B0ED42-F66B-4C14-927E-CAF12935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F8D34-079B-4A79-8696-530490D3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BC83CB-22CC-4041-9BDC-23C59FAB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159F10-6583-49A1-86C8-59B1083A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6DCB67-2403-4776-BF04-0D124096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1A1C8F-0B8D-4731-858F-55FC0151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C11CEC-617C-419F-AA98-99F00A73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8F929-E8CA-4583-8CD9-BBA359124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F00EE-D77A-4B31-A35F-4E1187C5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DAF13E-8575-4BEF-93B9-434672DA6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F6E08-20F4-46BD-AC6D-BD23FBFAC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17D87C-A99A-41D5-8D38-B913C14D2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A004F6-4C54-408F-AA67-FEB0B8E9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74F270-898A-41E4-8F05-414FB452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914B4D-4E10-43EA-8D4D-0498ADB7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7CFF1F-55B4-4570-9DC0-20A9E851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A54F13-86BA-4656-8455-6DD23578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34A60A-16C9-424B-80FA-BEDC3CFC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99545-B540-4FC4-8087-4307959C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61928A-88AD-44AA-9790-D2B30BF8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2A6350-1F17-44CE-ACB7-B10353B2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0CD468-23F8-4FC2-BAAF-E05319D8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D7BF64-5F8C-4D9F-9203-C05AB9D82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BC7A55-B402-4DE1-AFC6-37C47C434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62320F-6DB5-4A3A-BB0E-BF344833C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D4C3CD-934F-42E3-88B5-44320D53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199DCC-7832-47B2-BC90-635F7940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48BD76-1779-4A47-83D2-03B8ED34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26E89E-3B47-4E64-89B0-8AC5E69B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96AF-0D42-4507-9B8E-53A331F2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C84727-A4E1-429A-9351-FA224DE2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1A3768-BB1A-4481-9E7F-AFD0DD1D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00D8D0-746D-474A-9927-4968F6CB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1DC385-7756-4AE0-985F-097B8A9E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27AB35-18E7-4A6D-A334-7C9D5D80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CCB086-8ADC-451F-98F6-92235E4B0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B9A24B-CFFF-4B48-8452-54FA88BC5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E01E85-2A84-4350-A632-54F2C2B42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2047EE-0C27-487A-A68C-5F66BAB0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2F6CB2-7F46-4328-A04A-EF838252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4B1F-2F2E-4563-A818-112579C3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E13F24-D66C-4FD2-8436-4308E30F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CF9E68-E750-4A67-B345-2DDEEFFC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48B3F1-9582-487A-AA7F-40A88DE1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A206E2-F306-464E-8340-1D7CA77B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DF2CF2-62F5-466C-B14D-96233E87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1F31B8-98C4-4FA4-B20B-AECC5F39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5DCBC8-C3A6-43AF-A618-1C271C39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E7EB28-E845-4284-BADE-0113E27F1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42CCFF-6245-4D4C-B8F3-E019E8310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055A76D-900D-4A5B-BA10-8DAB7A38C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6A54-D947-48FA-B198-3C57B59E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328D314-A4FA-4531-95BB-6BC0BCE0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0D9798B-0738-4C55-8E8E-2C554CD6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DE902E6-0D64-40F5-A2D5-F868CE9EF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ACCC309-2657-4813-A7A9-8D98BB53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31D8E65-9EDB-4D7B-BA5C-6B8405C2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04A68F1-064C-4556-B878-50AC69FB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78CE7BE-2B68-4044-824D-42B418BF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A636499-EE58-4DDF-8B08-1512C521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B13613D-C5F3-4C2A-B7DD-BE3219A9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8CF26CF-A8D1-43FB-9EF3-22E218357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3146-557A-490C-8920-2C58E36A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61902AC-8992-4F2C-A885-8D1C913F3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90B44A-55D3-491D-99AC-C3E8EDE55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6B09D9-9B00-4A7C-B407-078E833B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35002D-6168-41B2-B7A5-3149AB1B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8FB3A4-CE47-4E8F-A1DA-25DE03D9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5CE94A-BF86-4988-AB52-8473F5B6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F4E143-9117-4C5C-8186-E47C0B6B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B80CC5-36B9-438C-A062-5BD130B5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482B9A-1C41-4435-BA7D-B6B31496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BD8C52-20E2-402C-8A60-CFEE5769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DFF1-3AD7-4175-935A-A64C338D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57196F-36F4-47D2-BDBB-7924A89B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C4B21C-3954-4AD4-9EDD-869C77EEB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8E8698-FE5C-4BE4-AC0C-93893DC3D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BB5668-664A-4F68-9AAA-251807946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2D8F13-F329-4023-9984-7CF08F98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E3EFAC-A2EC-4A9B-998B-E588A236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EF2674-CA65-4C58-908E-B81D0D02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C1D624-1D47-4773-85E0-C4ADF6B9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61064F-2D70-430B-BE70-9DC249D2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7DC7FF-A927-418C-BDF4-2BA3E8DB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4254-9936-44C3-9800-8CEC38A9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1C6B-C999-4E43-A324-599C9C28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339C5D-5551-4E61-8BAA-3439C494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39BAC1-2931-431E-8100-85499623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591E88-8CFB-4CC8-9468-FED8BE54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4131FD-86BE-43C0-971A-E5C51A845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986D56-EF9E-40DF-B8AC-3F1A9053B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5ACF33-F568-40B4-8D2B-40AB2C3EC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B53746-FB3C-4B04-BDF7-B4CBCF34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5B6862-D2C0-4D43-A091-C1DCE323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A7809F-8526-4D2E-B8B1-08489BE1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951D72-C89D-4F64-ADA9-3C9BE8C4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A3C8-9973-44B8-99FC-764D0836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A36BE9-C5A0-4462-AFE7-97C88CCB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9AEA9C-BC86-4A33-989A-E121B986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A2721B-3010-45C8-9059-4864EB2A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46B4DA-82DF-468A-88BF-2954DE69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3F6F97-DB54-4D70-92B8-485C1BBD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C1490A-D25D-40CF-9DFA-85429891B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D81708-7600-49B3-8D12-F139DF22E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C04B2F-C5C0-482F-9757-98362C87B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85F29E-2BA2-40AC-B4C3-352F3A1C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3EFC6B-FEB1-42BA-BB10-D9113A87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A634-CCE0-461F-A9E7-960A0AF7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4D54BD-551B-4C6B-9E90-6C51C5E0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5B94C4-DE19-4839-970A-71754367C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31428E-34D8-45EE-8B4B-A9DB1B99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1D21D4-8464-4EA4-BB52-3F632F1E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C6B078-EA58-455A-B4F9-172A8314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8EE574-28D7-440C-BA1D-F4BE3363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2B1090-F0DE-422F-9CEA-33267B06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1D8267-27AE-4A68-81EB-1E8A60723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D84152-A31A-4A51-A1C4-6A1404850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DDFBF7-19DA-458F-97C9-4B774B12C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469E-F3DD-43CA-9CE6-21F5DC889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42A0A0-859E-4E0C-8214-FA3DC9D4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CAD3FC-FAE5-46B9-93D4-1C72E17F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89BF4B-7DAA-426C-A2BB-E687E4EC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6DAD67-7972-48EB-B7F4-8AA8BE8F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D53BC3-6517-4E7E-9265-5A6172B5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A51751-D6E8-42A0-9D11-9BF768B5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82C512-2519-4CA9-9315-778E4BCD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F52290-83BC-42F6-A1BA-4DC55D03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A624AE-ACEC-4708-B51E-DD339C3B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EB41EA-21CA-47BD-9F34-E2D55ED46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2DC5-CD62-4B0B-ACFB-AA2D61A15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00C77D-E44A-4ABF-B3FB-F36A17926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B5F602-C936-4448-A8A6-03106F185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D663B4-32E9-4280-8A43-BFD105AB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468D1E-EA98-485E-8E26-21E80769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4D91E5-2E7B-4368-87CB-3C0B700F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3548E6-1AEF-4DDB-9CDB-94F97EF1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B5D271-C092-4246-8E25-40AC1C2D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AFA9C4-7289-43E3-BD2A-F0FAC42A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FA348B-C0E9-4E4C-83BA-47BCD920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2DA4D2-244B-4FBB-95CF-04E61074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7ECAA-5CEB-4B54-8CCD-C317AC153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329276-8CEF-450E-8469-8E6DAD99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DCD5AA-ED7F-44C1-AECC-BD852A599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0C7AAE-3234-44A1-9A5B-519425E17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F5C5280-E19C-4DAB-9554-02E73BE76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0C6DC65-6BD8-47B5-BAAB-2DC38FE2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2C6298C-9E7F-4C05-9D75-E1B3DD0D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F4FE83A-A08A-4CF1-91DE-D2E40059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E53E609-89A2-4C80-98E5-CCBE19A0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600D9E8-4A2E-4EA1-8DE2-8127EB60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58102C4-C807-4304-A491-E7565D93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DF3B5-E126-4A07-BBBB-74D91F55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556BACF-1E17-4705-9C4D-FF987C60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626E3AD-7322-49F7-9646-69E6BEFE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4C26092-DC51-42D0-99A4-AB6BCFDC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2529C16-A69F-477E-8000-726D965C2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1132F4B-965B-47EE-A31B-145A5876B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EA309F-39E8-4DB6-B921-46B2678AF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2A707B-E6FE-49EF-A70D-DC4D2CDE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0F29B7-880D-446E-8B5E-C19A62DB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CF8C96-80A9-4E4A-B239-90D6CEFC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624A32-2ACB-4446-9622-8CDBC1BA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9DD21-8B3F-4DD4-80DC-7458F6E6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F3BEE9-67CD-444D-BD06-F0E31789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70E732-9823-41ED-9A10-4CFA7572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545437-23FE-4C6E-BC4C-2834D64D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39AF36-28D7-4D39-94DF-AB24FAEB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470D4E-7BE5-49A9-A897-2F84B752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CE930F-7208-43B6-A91C-D63B3680A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73875F-59DB-45B3-B573-0680D829D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581718-C4F4-4691-B1CB-DE18B1AB3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E229FC-D59A-4A2D-9100-4C5CCE10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83505A-9D80-498C-A8AF-DFCEE30A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1B662-D85C-4266-AB9F-05647A87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3BBA329-2E20-4649-AF2E-1E3D49FF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AEE753B-38AD-4038-B3A6-23A22A67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FDB705-1E98-4FE9-B5BE-1281A46B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8A5577-F8B1-4DDB-9B93-CFDEF859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F5E2D1F-322A-44B7-AE85-A79BB2D3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040D42-6B17-456D-BAD1-88B32278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9C1BC4B-F552-4105-B429-805917C6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AE9B55-F9A7-4E2B-9928-E0F567FB3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7850BC-18C7-496A-A715-4ED26FD8D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E375E1C-1ECE-4B6E-B85D-282B11E93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AD79D-2826-408F-9E8C-5C6634EE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6D47FF2-3E81-46C2-8B3A-CF7A00D6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42AF079-BEE6-4BB1-8698-1CE863DE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5612CDC-8DEA-4E1F-9815-498004F0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FDAA409-C0CD-4330-A51A-9EBA0DB9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9C4A486-ED5C-47F1-956A-A547A1F9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50C225F-021F-4819-9ADE-FBF07556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A7CC9A8-263E-4158-85D6-5CD7C010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5BFEF6C-A684-428C-951A-F11E71C0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870A1C0-6F59-45FC-A885-4C5374DC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FFA9DF7-F2DC-4FDC-8DFA-ED4FE0534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7E57-06DE-4CB7-B47E-00C56970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00645-9D0D-463D-9112-44AC4BBB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1295D2A-1314-4D43-944F-38B2B6F17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7B4B461-0FF7-4AD0-928B-FEA700997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6199815-3B30-497A-9B91-557BF9A1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5C1BDC3-6EF0-4108-B061-8EF55636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362DA3E-8C67-413F-8938-7642253C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E429015-B2B7-4ACA-8FCC-1AAB9473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C10BBB6-66F7-4285-8046-44E4D092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CC709D1-5854-4251-908A-3F86793B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F0D9F77-27D6-4AEE-994C-DC099B8A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18A1C82-ECB2-4987-B660-65D6FFDF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94824-B408-4CDA-A5E6-A117EA11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4FC9D85-3683-4CBF-929E-FA92FDC5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9B8B0F0-8D6F-48DF-9699-224E5FB51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349E318-95A6-47AA-8838-5BD46D711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9DFC34D-84D3-4F37-96B1-B85E064DA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2FA4BDB-A098-48C8-8BD6-15031EDA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77C71F5-FD6A-4261-8998-5AD1DE99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6C96B86-7F13-4993-97AA-62A7181D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3383125-9C56-4B17-9A09-0B486E1E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775BC34-15D0-4DBE-B9CA-D5899465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0388610-CD8B-4EE9-8D4D-1D0A11FB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86E84-19C0-4389-A45E-312A53A0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86F6E3A-86CF-492C-896D-73E5F6B9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7905FD6-46D8-4EF3-87CE-8BBBC729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44C79C5-7E14-4C97-8B0A-ADE0D5B1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952702D-E245-490D-90B0-1A547B494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9F525B6-50B1-40A9-8AF7-928BF7473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DCD7C-5E81-45A2-BE3F-0AB7687B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7ECA0-DCBB-43EB-8ADC-FB7C4FBB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05034-36CF-4686-91F6-B04391AA9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6A66B-9879-4ECA-B8CE-6BD8046F5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A98E1-5A0E-4D55-A976-36993AF36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41DA3-9296-494D-8976-4DC4E93D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3947F-5843-49D8-93E4-F0C4BD12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258D-9B2B-42C6-AEE2-55AE3B93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33A03-46D3-4461-8BB5-E2F9606D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A65AD-1862-4578-98FB-86CCF4AC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9A9BA-EDD9-4A1F-A8AE-109739538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9794B-2B1C-424E-B8C2-D8CD1B6B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69FE9-B6D8-42A2-AD3D-381404E3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47523-5A60-4DE5-B73C-470F9BDB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05191-173A-4943-8C89-A517907D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F51A0-B016-4DF3-A523-12FB7F1B9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D7EE9-A7FF-4E27-BD8D-A05E0B6A3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E3CDF-CD5F-4A99-B582-C071733B4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A429-B7BF-4BFD-90CE-7C588C60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FFA18-13BE-4FED-8A63-7F3BE6D9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6D6D4-8B52-4322-B4F6-1613FA98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0C6C5-A360-4A97-8D2E-EB530B91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6E9D1-9F7F-42F5-B081-375C6436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E4C4D-CB72-40AE-BE8D-568C6BB5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69A28-03AA-4877-A08A-971BF07F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AC7A4-C328-4CAB-8DC1-0FC0563C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34E70-7F7E-4778-9C15-BA6F6F49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A5A13-2202-48F7-A14F-CAC3706C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AE996-6491-4A18-B8C6-22BD3DDB2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B4C5-7C34-4339-B569-C5370F06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BB8DF-196C-48CA-9C55-AA2C506DB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CD700-9310-43ED-817E-D5A26B6DC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0C05B-DD3F-41EA-A0A2-421AF12E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3254F-C14D-45E4-BD79-35BB24C6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E53BE-14BA-457E-BF0A-1A5B3E39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2DDCA-4FCB-4EED-86F5-C70DDB85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C78C6-483D-4EAA-AF57-303FCBE4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BBC09-930C-4232-B3E8-929609A7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7E626-EDE4-4761-A248-4AE32C5A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18010-12E7-4A4E-8A64-B76AA331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62FC-4C73-4157-82DF-98C3BD13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D362F-9976-4F12-9461-3F582817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8338A-F5D3-4730-A051-404D5A710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8CF66-C672-4DC1-A864-7E5C493D0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0ADF7-906C-4A3C-B9BC-B2DD86200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B901B-6F0A-4A58-BE10-29136B5E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251AF-8F52-445E-900B-2D571A69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6CD44-E7C6-4F79-AB3B-FCC8E35E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CC1AB-E7EC-4AB7-91C9-54AD832B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35A9F-DE44-43D3-BEB7-8FD3C4E8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0CBF4-D2E4-42E7-96CB-634E6195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6C85-4B33-46F9-929D-1CE5F46A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5CBB4-B56F-41FF-9923-6E852014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8CC1C-EE80-4076-A0BE-912AE0A7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FC656-BB4F-4EAA-8005-F986A6DC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3D690-C6E1-4CD5-BB6D-413EF1E1E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73684-DF58-4F89-87AC-D9F4D9E86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42FF5-1271-4EC3-A11D-A230242C0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B1D65-B862-4FA1-8F9C-CD0DC3D9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58F96-3920-48EE-84BE-D3FAC892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6C370-1682-45DE-A692-26EC5342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DF8C4-EA98-4D6B-B720-0917E928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2EE4-853D-4A9C-B2C1-3DAD5905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BC46B-74DD-458B-90C7-89507839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06F70-EF31-48AF-9D23-2F04EA5A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A7713-8372-4BFC-9141-9571F9E5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85FFB-60D4-4F8D-B6E6-D8BC9D88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2AE18-7E01-468E-981E-A2691D13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80C8E-484A-4BF1-8488-C40C1D4C9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479AF-C5EA-4708-BD87-54C1EAC2D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A5C605-C1F3-4465-8E6B-AABB55307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87E986-7637-4B76-99E2-39E80524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6BFA74-C314-4248-8B65-5A442C5F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EBEC-BA26-4810-84D3-D15E573598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1C9B-C199-4E9F-9F2E-17EE5FCECCA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18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460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61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3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4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6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67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9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470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71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2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3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474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475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7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478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0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481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3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484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6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487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9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490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2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493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5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496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8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499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1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502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4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505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7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508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0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511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3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14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6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17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9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520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2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523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5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526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8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529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1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532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4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535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7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9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540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2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543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5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546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8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549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1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552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4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555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7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558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0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561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3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564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6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567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9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570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72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F572-56BC-4628-8845-C4E3950A717B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636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4" name="PlaceHolder 1"/>
          <p:cNvSpPr>
            <a:spLocks noGrp="1"/>
          </p:cNvSpPr>
          <p:nvPr>
            <p:ph type="dt" idx="3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ftr" idx="3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DDC7-E767-4625-8693-001CE5DFE7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dt" idx="3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2A58-BA9A-48D1-A312-3C8BEF430F4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8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729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5883-6CE2-4220-9A0F-9C1715DF4DE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 type="ftr" idx="4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 type="sldNum" idx="4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C624-36D4-4AB1-AAC7-8A732908E2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 type="dt" idx="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7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818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BBA6-6274-40C7-9EBC-D40BBEE15E61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3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3E27-F22B-4A11-AAF5-4D5D1BF597D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907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 type="dt" idx="52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 type="ftr" idx="53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 type="sldNum" idx="54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F8C8-C9E6-47DB-9F19-854163E5155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1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52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953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5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956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9900ff"/>
                  </a:gs>
                  <a:gs pos="100000">
                    <a:srgbClr val="00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58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ff33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94"/>
                </a:gs>
                <a:gs pos="100000">
                  <a:srgbClr val="00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 type="dt" idx="55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 type="ftr" idx="5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 type="sldNum" idx="57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10A8-49BC-4318-9723-6F239F19BE06}" type="slidenum">
              <a:rPr b="0" lang="ru-RU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2530-1D0E-40EF-A0C4-C7D9EED6E442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 type="ftr" idx="5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8772-E8E8-4410-8088-9CB93D6C594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 type="dt" idx="6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 type="ftr" idx="62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 type="sldNum" idx="63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2B36-55D3-4B59-B4FB-2E0D36105A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9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90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2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3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94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5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6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01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2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03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 type="sldNum" idx="6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75E5-CE01-4D94-A8A3-C3C1DF3AEE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 type="ftr" idx="6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1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1152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045E-6C4C-4D8E-882A-FC763FE906EA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9" name="Group 2"/>
          <p:cNvGrpSpPr/>
          <p:nvPr/>
        </p:nvGrpSpPr>
        <p:grpSpPr>
          <a:xfrm>
            <a:off x="2010960" y="245160"/>
            <a:ext cx="6895800" cy="5452200"/>
            <a:chOff x="2010960" y="245160"/>
            <a:chExt cx="6895800" cy="5452200"/>
          </a:xfrm>
        </p:grpSpPr>
        <p:grpSp>
          <p:nvGrpSpPr>
            <p:cNvPr id="1200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201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Oval 5"/>
              <p:cNvSpPr/>
              <p:nvPr/>
            </p:nvSpPr>
            <p:spPr>
              <a:xfrm>
                <a:off x="382392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3" name="Group 6"/>
            <p:cNvGrpSpPr/>
            <p:nvPr/>
          </p:nvGrpSpPr>
          <p:grpSpPr>
            <a:xfrm>
              <a:off x="2010960" y="245160"/>
              <a:ext cx="6895800" cy="5452200"/>
              <a:chOff x="2010960" y="245160"/>
              <a:chExt cx="6895800" cy="5452200"/>
            </a:xfrm>
          </p:grpSpPr>
          <p:grpSp>
            <p:nvGrpSpPr>
              <p:cNvPr id="1204" name="Group 7"/>
              <p:cNvGrpSpPr/>
              <p:nvPr/>
            </p:nvGrpSpPr>
            <p:grpSpPr>
              <a:xfrm>
                <a:off x="2010960" y="245160"/>
                <a:ext cx="6891120" cy="5452200"/>
                <a:chOff x="2010960" y="245160"/>
                <a:chExt cx="6891120" cy="5452200"/>
              </a:xfrm>
            </p:grpSpPr>
            <p:grpSp>
              <p:nvGrpSpPr>
                <p:cNvPr id="1205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206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7" name="Oval 10"/>
                  <p:cNvSpPr/>
                  <p:nvPr/>
                </p:nvSpPr>
                <p:spPr>
                  <a:xfrm>
                    <a:off x="5109480" y="223560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8" name="Group 11"/>
                <p:cNvGrpSpPr/>
                <p:nvPr/>
              </p:nvGrpSpPr>
              <p:grpSpPr>
                <a:xfrm>
                  <a:off x="2010960" y="245160"/>
                  <a:ext cx="6891120" cy="5452200"/>
                  <a:chOff x="2010960" y="245160"/>
                  <a:chExt cx="6891120" cy="5452200"/>
                </a:xfrm>
              </p:grpSpPr>
              <p:grpSp>
                <p:nvGrpSpPr>
                  <p:cNvPr id="1209" name="Group 12"/>
                  <p:cNvGrpSpPr/>
                  <p:nvPr/>
                </p:nvGrpSpPr>
                <p:grpSpPr>
                  <a:xfrm>
                    <a:off x="5761440" y="2322360"/>
                    <a:ext cx="2558880" cy="2742480"/>
                    <a:chOff x="5761440" y="2322360"/>
                    <a:chExt cx="2558880" cy="2742480"/>
                  </a:xfrm>
                </p:grpSpPr>
                <p:sp>
                  <p:nvSpPr>
                    <p:cNvPr id="1210" name="Freeform 13"/>
                    <p:cNvSpPr/>
                    <p:nvPr/>
                  </p:nvSpPr>
                  <p:spPr>
                    <a:xfrm rot="2711400">
                      <a:off x="5583960" y="3020040"/>
                      <a:ext cx="21276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1" name="Freeform 14"/>
                    <p:cNvSpPr/>
                    <p:nvPr/>
                  </p:nvSpPr>
                  <p:spPr>
                    <a:xfrm rot="2711400">
                      <a:off x="7134120" y="4145400"/>
                      <a:ext cx="114012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2" name="Group 15"/>
                  <p:cNvGrpSpPr/>
                  <p:nvPr/>
                </p:nvGrpSpPr>
                <p:grpSpPr>
                  <a:xfrm>
                    <a:off x="5787720" y="2148120"/>
                    <a:ext cx="3040560" cy="2529720"/>
                    <a:chOff x="5787720" y="2148120"/>
                    <a:chExt cx="3040560" cy="2529720"/>
                  </a:xfrm>
                </p:grpSpPr>
                <p:sp>
                  <p:nvSpPr>
                    <p:cNvPr id="1213" name="Freeform 16"/>
                    <p:cNvSpPr/>
                    <p:nvPr/>
                  </p:nvSpPr>
                  <p:spPr>
                    <a:xfrm rot="2103600">
                      <a:off x="5707440" y="2751480"/>
                      <a:ext cx="223632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4" name="Freeform 17"/>
                    <p:cNvSpPr/>
                    <p:nvPr/>
                  </p:nvSpPr>
                  <p:spPr>
                    <a:xfrm rot="2103600">
                      <a:off x="7542720" y="3721680"/>
                      <a:ext cx="120132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5" name="Group 18"/>
                  <p:cNvGrpSpPr/>
                  <p:nvPr/>
                </p:nvGrpSpPr>
                <p:grpSpPr>
                  <a:xfrm>
                    <a:off x="5776200" y="2065680"/>
                    <a:ext cx="3096360" cy="1991880"/>
                    <a:chOff x="5776200" y="2065680"/>
                    <a:chExt cx="3096360" cy="1991880"/>
                  </a:xfrm>
                </p:grpSpPr>
                <p:sp>
                  <p:nvSpPr>
                    <p:cNvPr id="1216" name="Freeform 19"/>
                    <p:cNvSpPr/>
                    <p:nvPr/>
                  </p:nvSpPr>
                  <p:spPr>
                    <a:xfrm rot="1582800">
                      <a:off x="5747760" y="2521440"/>
                      <a:ext cx="213984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7" name="Freeform 20"/>
                    <p:cNvSpPr/>
                    <p:nvPr/>
                  </p:nvSpPr>
                  <p:spPr>
                    <a:xfrm rot="1582800">
                      <a:off x="7652880" y="3246120"/>
                      <a:ext cx="114876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8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219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0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21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222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3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24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225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6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27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1228" name="Freeform 31"/>
                    <p:cNvSpPr/>
                    <p:nvPr/>
                  </p:nvSpPr>
                  <p:spPr>
                    <a:xfrm rot="20797200">
                      <a:off x="5798160" y="165312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9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30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1231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2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33" name="Group 36"/>
                  <p:cNvGrpSpPr/>
                  <p:nvPr/>
                </p:nvGrpSpPr>
                <p:grpSpPr>
                  <a:xfrm>
                    <a:off x="2085120" y="2366640"/>
                    <a:ext cx="3040200" cy="2530080"/>
                    <a:chOff x="2085120" y="2366640"/>
                    <a:chExt cx="3040200" cy="2530080"/>
                  </a:xfrm>
                </p:grpSpPr>
                <p:sp>
                  <p:nvSpPr>
                    <p:cNvPr id="1234" name="Freeform 37"/>
                    <p:cNvSpPr/>
                    <p:nvPr/>
                  </p:nvSpPr>
                  <p:spPr>
                    <a:xfrm flipH="1" rot="19496400">
                      <a:off x="2968560" y="2970000"/>
                      <a:ext cx="223632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5" name="Freeform 38"/>
                    <p:cNvSpPr/>
                    <p:nvPr/>
                  </p:nvSpPr>
                  <p:spPr>
                    <a:xfrm flipH="1" rot="19496400">
                      <a:off x="2168280" y="3940920"/>
                      <a:ext cx="1201320" cy="67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36" name="Group 39"/>
                  <p:cNvGrpSpPr/>
                  <p:nvPr/>
                </p:nvGrpSpPr>
                <p:grpSpPr>
                  <a:xfrm>
                    <a:off x="2040120" y="2283480"/>
                    <a:ext cx="3097080" cy="1992240"/>
                    <a:chOff x="2040120" y="2283480"/>
                    <a:chExt cx="3097080" cy="1992240"/>
                  </a:xfrm>
                </p:grpSpPr>
                <p:sp>
                  <p:nvSpPr>
                    <p:cNvPr id="1237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8" name="Freeform 41"/>
                    <p:cNvSpPr/>
                    <p:nvPr/>
                  </p:nvSpPr>
                  <p:spPr>
                    <a:xfrm flipH="1" rot="20017200">
                      <a:off x="2110320" y="346392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39" name="Group 42"/>
                  <p:cNvGrpSpPr/>
                  <p:nvPr/>
                </p:nvGrpSpPr>
                <p:grpSpPr>
                  <a:xfrm>
                    <a:off x="2010960" y="2188440"/>
                    <a:ext cx="3134160" cy="1608120"/>
                    <a:chOff x="2010960" y="2188440"/>
                    <a:chExt cx="3134160" cy="1608120"/>
                  </a:xfrm>
                </p:grpSpPr>
                <p:sp>
                  <p:nvSpPr>
                    <p:cNvPr id="1240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1" name="Freeform 44"/>
                    <p:cNvSpPr/>
                    <p:nvPr/>
                  </p:nvSpPr>
                  <p:spPr>
                    <a:xfrm flipH="1" rot="20520000">
                      <a:off x="2084040" y="299088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42" name="Group 45"/>
                  <p:cNvGrpSpPr/>
                  <p:nvPr/>
                </p:nvGrpSpPr>
                <p:grpSpPr>
                  <a:xfrm>
                    <a:off x="2166840" y="2097720"/>
                    <a:ext cx="2940480" cy="1002600"/>
                    <a:chOff x="2166840" y="2097720"/>
                    <a:chExt cx="2940480" cy="1002600"/>
                  </a:xfrm>
                </p:grpSpPr>
                <p:sp>
                  <p:nvSpPr>
                    <p:cNvPr id="1243" name="Freeform 46"/>
                    <p:cNvSpPr/>
                    <p:nvPr/>
                  </p:nvSpPr>
                  <p:spPr>
                    <a:xfrm flipH="1" rot="21136800">
                      <a:off x="3184920" y="2223720"/>
                      <a:ext cx="190512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4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42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45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246" name="Freeform 49"/>
                    <p:cNvSpPr/>
                    <p:nvPr/>
                  </p:nvSpPr>
                  <p:spPr>
                    <a:xfrm flipH="1" rot="84600">
                      <a:off x="3327840" y="2070720"/>
                      <a:ext cx="173088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7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48" name="Group 51"/>
                  <p:cNvGrpSpPr/>
                  <p:nvPr/>
                </p:nvGrpSpPr>
                <p:grpSpPr>
                  <a:xfrm>
                    <a:off x="2761200" y="1522440"/>
                    <a:ext cx="2363400" cy="787320"/>
                    <a:chOff x="2761200" y="1522440"/>
                    <a:chExt cx="2363400" cy="787320"/>
                  </a:xfrm>
                </p:grpSpPr>
                <p:sp>
                  <p:nvSpPr>
                    <p:cNvPr id="1249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0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51" name="Group 54"/>
                  <p:cNvGrpSpPr/>
                  <p:nvPr/>
                </p:nvGrpSpPr>
                <p:grpSpPr>
                  <a:xfrm>
                    <a:off x="2887560" y="1236600"/>
                    <a:ext cx="2324880" cy="1083960"/>
                    <a:chOff x="2887560" y="1236600"/>
                    <a:chExt cx="2324880" cy="1083960"/>
                  </a:xfrm>
                </p:grpSpPr>
                <p:sp>
                  <p:nvSpPr>
                    <p:cNvPr id="1252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10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3" name="Freeform 56"/>
                    <p:cNvSpPr/>
                    <p:nvPr/>
                  </p:nvSpPr>
                  <p:spPr>
                    <a:xfrm flipH="1" rot="1278000">
                      <a:off x="2935080" y="1370520"/>
                      <a:ext cx="81684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54" name="Group 57"/>
                  <p:cNvGrpSpPr/>
                  <p:nvPr/>
                </p:nvGrpSpPr>
                <p:grpSpPr>
                  <a:xfrm>
                    <a:off x="3161160" y="831240"/>
                    <a:ext cx="2170080" cy="1508040"/>
                    <a:chOff x="3161160" y="831240"/>
                    <a:chExt cx="2170080" cy="1508040"/>
                  </a:xfrm>
                </p:grpSpPr>
                <p:sp>
                  <p:nvSpPr>
                    <p:cNvPr id="1255" name="Freeform 58"/>
                    <p:cNvSpPr/>
                    <p:nvPr/>
                  </p:nvSpPr>
                  <p:spPr>
                    <a:xfrm flipH="1" rot="2028600">
                      <a:off x="3864960" y="16732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6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57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1258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9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60" name="Group 63"/>
                  <p:cNvGrpSpPr/>
                  <p:nvPr/>
                </p:nvGrpSpPr>
                <p:grpSpPr>
                  <a:xfrm>
                    <a:off x="4027320" y="335160"/>
                    <a:ext cx="1460520" cy="1886400"/>
                    <a:chOff x="4027320" y="335160"/>
                    <a:chExt cx="1460520" cy="1886400"/>
                  </a:xfrm>
                </p:grpSpPr>
                <p:sp>
                  <p:nvSpPr>
                    <p:cNvPr id="1261" name="Freeform 64"/>
                    <p:cNvSpPr/>
                    <p:nvPr/>
                  </p:nvSpPr>
                  <p:spPr>
                    <a:xfrm flipH="1" rot="3474000">
                      <a:off x="4337640" y="1444320"/>
                      <a:ext cx="13557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2" name="Freeform 65"/>
                    <p:cNvSpPr/>
                    <p:nvPr/>
                  </p:nvSpPr>
                  <p:spPr>
                    <a:xfrm flipH="1" rot="3474000">
                      <a:off x="4032720" y="545400"/>
                      <a:ext cx="7275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63" name="Group 66"/>
                  <p:cNvGrpSpPr/>
                  <p:nvPr/>
                </p:nvGrpSpPr>
                <p:grpSpPr>
                  <a:xfrm>
                    <a:off x="4448160" y="245160"/>
                    <a:ext cx="1122120" cy="1946520"/>
                    <a:chOff x="4448160" y="245160"/>
                    <a:chExt cx="1122120" cy="1946520"/>
                  </a:xfrm>
                </p:grpSpPr>
                <p:sp>
                  <p:nvSpPr>
                    <p:cNvPr id="1264" name="Freeform 67"/>
                    <p:cNvSpPr/>
                    <p:nvPr/>
                  </p:nvSpPr>
                  <p:spPr>
                    <a:xfrm flipH="1" rot="4126800">
                      <a:off x="4556520" y="1402200"/>
                      <a:ext cx="130716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5" name="Freeform 68"/>
                    <p:cNvSpPr/>
                    <p:nvPr/>
                  </p:nvSpPr>
                  <p:spPr>
                    <a:xfrm flipH="1" rot="4126800">
                      <a:off x="4417200" y="439920"/>
                      <a:ext cx="70236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66" name="Group 69"/>
                  <p:cNvGrpSpPr/>
                  <p:nvPr/>
                </p:nvGrpSpPr>
                <p:grpSpPr>
                  <a:xfrm>
                    <a:off x="5661720" y="952200"/>
                    <a:ext cx="2316960" cy="1112400"/>
                    <a:chOff x="5661720" y="952200"/>
                    <a:chExt cx="2316960" cy="1112400"/>
                  </a:xfrm>
                </p:grpSpPr>
                <p:sp>
                  <p:nvSpPr>
                    <p:cNvPr id="1267" name="Freeform 70"/>
                    <p:cNvSpPr/>
                    <p:nvPr/>
                  </p:nvSpPr>
                  <p:spPr>
                    <a:xfrm rot="20274000">
                      <a:off x="5655600" y="15235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8" name="Freeform 71"/>
                    <p:cNvSpPr/>
                    <p:nvPr/>
                  </p:nvSpPr>
                  <p:spPr>
                    <a:xfrm rot="20274000">
                      <a:off x="7112880" y="1090440"/>
                      <a:ext cx="81684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69" name="Group 72"/>
                  <p:cNvGrpSpPr/>
                  <p:nvPr/>
                </p:nvGrpSpPr>
                <p:grpSpPr>
                  <a:xfrm>
                    <a:off x="5529600" y="626760"/>
                    <a:ext cx="2199600" cy="1450800"/>
                    <a:chOff x="5529600" y="626760"/>
                    <a:chExt cx="2199600" cy="1450800"/>
                  </a:xfrm>
                </p:grpSpPr>
                <p:sp>
                  <p:nvSpPr>
                    <p:cNvPr id="1270" name="Freeform 73"/>
                    <p:cNvSpPr/>
                    <p:nvPr/>
                  </p:nvSpPr>
                  <p:spPr>
                    <a:xfrm rot="19678800">
                      <a:off x="5484240" y="14299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1" name="Freeform 74"/>
                    <p:cNvSpPr/>
                    <p:nvPr/>
                  </p:nvSpPr>
                  <p:spPr>
                    <a:xfrm rot="19678800">
                      <a:off x="6864480" y="810720"/>
                      <a:ext cx="81576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72" name="Freeform 75"/>
                  <p:cNvSpPr/>
                  <p:nvPr/>
                </p:nvSpPr>
                <p:spPr>
                  <a:xfrm flipH="1" rot="4578600">
                    <a:off x="4767480" y="1466640"/>
                    <a:ext cx="12650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3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74" name="Group 77"/>
                  <p:cNvGrpSpPr/>
                  <p:nvPr/>
                </p:nvGrpSpPr>
                <p:grpSpPr>
                  <a:xfrm>
                    <a:off x="5355720" y="270360"/>
                    <a:ext cx="1196280" cy="1901160"/>
                    <a:chOff x="5355720" y="270360"/>
                    <a:chExt cx="1196280" cy="1901160"/>
                  </a:xfrm>
                </p:grpSpPr>
                <p:sp>
                  <p:nvSpPr>
                    <p:cNvPr id="1275" name="Freeform 78"/>
                    <p:cNvSpPr/>
                    <p:nvPr/>
                  </p:nvSpPr>
                  <p:spPr>
                    <a:xfrm rot="17742000">
                      <a:off x="5087160" y="1418400"/>
                      <a:ext cx="1309680" cy="22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6" name="Freeform 79"/>
                    <p:cNvSpPr/>
                    <p:nvPr/>
                  </p:nvSpPr>
                  <p:spPr>
                    <a:xfrm rot="17742000">
                      <a:off x="5888520" y="486000"/>
                      <a:ext cx="702360" cy="35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77" name="Group 80"/>
                  <p:cNvGrpSpPr/>
                  <p:nvPr/>
                </p:nvGrpSpPr>
                <p:grpSpPr>
                  <a:xfrm>
                    <a:off x="5347440" y="389160"/>
                    <a:ext cx="1892520" cy="1796400"/>
                    <a:chOff x="5347440" y="389160"/>
                    <a:chExt cx="1892520" cy="1796400"/>
                  </a:xfrm>
                </p:grpSpPr>
                <p:sp>
                  <p:nvSpPr>
                    <p:cNvPr id="1278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9" name="Freeform 82"/>
                    <p:cNvSpPr/>
                    <p:nvPr/>
                  </p:nvSpPr>
                  <p:spPr>
                    <a:xfrm rot="18822600">
                      <a:off x="6403320" y="585000"/>
                      <a:ext cx="766080" cy="52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0" name="Group 83"/>
                  <p:cNvGrpSpPr/>
                  <p:nvPr/>
                </p:nvGrpSpPr>
                <p:grpSpPr>
                  <a:xfrm>
                    <a:off x="5458320" y="292680"/>
                    <a:ext cx="427320" cy="1795680"/>
                    <a:chOff x="5458320" y="292680"/>
                    <a:chExt cx="427320" cy="1795680"/>
                  </a:xfrm>
                </p:grpSpPr>
                <p:sp>
                  <p:nvSpPr>
                    <p:cNvPr id="1281" name="Freeform 84"/>
                    <p:cNvSpPr/>
                    <p:nvPr/>
                  </p:nvSpPr>
                  <p:spPr>
                    <a:xfrm rot="16696200">
                      <a:off x="5007600" y="1445400"/>
                      <a:ext cx="117576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2" name="Freeform 85"/>
                    <p:cNvSpPr/>
                    <p:nvPr/>
                  </p:nvSpPr>
                  <p:spPr>
                    <a:xfrm rot="16696200">
                      <a:off x="5442480" y="533520"/>
                      <a:ext cx="63108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3" name="Group 86"/>
                  <p:cNvGrpSpPr/>
                  <p:nvPr/>
                </p:nvGrpSpPr>
                <p:grpSpPr>
                  <a:xfrm>
                    <a:off x="3062520" y="2530800"/>
                    <a:ext cx="2196000" cy="3002400"/>
                    <a:chOff x="3062520" y="2530800"/>
                    <a:chExt cx="2196000" cy="3002400"/>
                  </a:xfrm>
                </p:grpSpPr>
                <p:sp>
                  <p:nvSpPr>
                    <p:cNvPr id="1284" name="Freeform 87"/>
                    <p:cNvSpPr/>
                    <p:nvPr/>
                  </p:nvSpPr>
                  <p:spPr>
                    <a:xfrm flipH="1" rot="18336000">
                      <a:off x="3419640" y="3314880"/>
                      <a:ext cx="212652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5" name="Freeform 88"/>
                    <p:cNvSpPr/>
                    <p:nvPr/>
                  </p:nvSpPr>
                  <p:spPr>
                    <a:xfrm flipH="1" rot="18336000">
                      <a:off x="3069720" y="4591800"/>
                      <a:ext cx="11390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6" name="Group 89"/>
                  <p:cNvGrpSpPr/>
                  <p:nvPr/>
                </p:nvGrpSpPr>
                <p:grpSpPr>
                  <a:xfrm>
                    <a:off x="3791520" y="2650680"/>
                    <a:ext cx="1482120" cy="2999880"/>
                    <a:chOff x="3791520" y="2650680"/>
                    <a:chExt cx="1482120" cy="2999880"/>
                  </a:xfrm>
                </p:grpSpPr>
                <p:sp>
                  <p:nvSpPr>
                    <p:cNvPr id="1287" name="Freeform 90"/>
                    <p:cNvSpPr/>
                    <p:nvPr/>
                  </p:nvSpPr>
                  <p:spPr>
                    <a:xfrm flipH="1" rot="17543400">
                      <a:off x="3737520" y="3441240"/>
                      <a:ext cx="1967400" cy="38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8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9" name="Group 92"/>
                  <p:cNvGrpSpPr/>
                  <p:nvPr/>
                </p:nvGrpSpPr>
                <p:grpSpPr>
                  <a:xfrm>
                    <a:off x="4509000" y="2703600"/>
                    <a:ext cx="874080" cy="2926800"/>
                    <a:chOff x="4509000" y="2703600"/>
                    <a:chExt cx="874080" cy="2926800"/>
                  </a:xfrm>
                </p:grpSpPr>
                <p:sp>
                  <p:nvSpPr>
                    <p:cNvPr id="1290" name="Freeform 93"/>
                    <p:cNvSpPr/>
                    <p:nvPr/>
                  </p:nvSpPr>
                  <p:spPr>
                    <a:xfrm flipH="1" rot="16870800">
                      <a:off x="4087080" y="3489480"/>
                      <a:ext cx="188676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1" name="Freeform 94"/>
                    <p:cNvSpPr/>
                    <p:nvPr/>
                  </p:nvSpPr>
                  <p:spPr>
                    <a:xfrm flipH="1" rot="16870800">
                      <a:off x="4366800" y="4809600"/>
                      <a:ext cx="1012320" cy="54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92" name="Group 95"/>
                  <p:cNvGrpSpPr/>
                  <p:nvPr/>
                </p:nvGrpSpPr>
                <p:grpSpPr>
                  <a:xfrm>
                    <a:off x="5677920" y="2483640"/>
                    <a:ext cx="2280600" cy="2952720"/>
                    <a:chOff x="5677920" y="2483640"/>
                    <a:chExt cx="2280600" cy="2952720"/>
                  </a:xfrm>
                </p:grpSpPr>
                <p:sp>
                  <p:nvSpPr>
                    <p:cNvPr id="1293" name="Freeform 96"/>
                    <p:cNvSpPr/>
                    <p:nvPr/>
                  </p:nvSpPr>
                  <p:spPr>
                    <a:xfrm rot="3144000">
                      <a:off x="5415120" y="3251160"/>
                      <a:ext cx="21265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4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95" name="Group 98"/>
                  <p:cNvGrpSpPr/>
                  <p:nvPr/>
                </p:nvGrpSpPr>
                <p:grpSpPr>
                  <a:xfrm>
                    <a:off x="5647680" y="2593440"/>
                    <a:ext cx="1758600" cy="3032640"/>
                    <a:chOff x="5647680" y="2593440"/>
                    <a:chExt cx="1758600" cy="3032640"/>
                  </a:xfrm>
                </p:grpSpPr>
                <p:sp>
                  <p:nvSpPr>
                    <p:cNvPr id="1296" name="Freeform 99"/>
                    <p:cNvSpPr/>
                    <p:nvPr/>
                  </p:nvSpPr>
                  <p:spPr>
                    <a:xfrm rot="3745200">
                      <a:off x="5265000" y="3395880"/>
                      <a:ext cx="2034720" cy="36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7" name="Freeform 100"/>
                    <p:cNvSpPr/>
                    <p:nvPr/>
                  </p:nvSpPr>
                  <p:spPr>
                    <a:xfrm rot="3745200">
                      <a:off x="6352200" y="4720320"/>
                      <a:ext cx="1090800" cy="57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98" name="Group 101"/>
                  <p:cNvGrpSpPr/>
                  <p:nvPr/>
                </p:nvGrpSpPr>
                <p:grpSpPr>
                  <a:xfrm>
                    <a:off x="5576400" y="2710800"/>
                    <a:ext cx="1225080" cy="2986560"/>
                    <a:chOff x="5576400" y="2710800"/>
                    <a:chExt cx="1225080" cy="2986560"/>
                  </a:xfrm>
                </p:grpSpPr>
                <p:sp>
                  <p:nvSpPr>
                    <p:cNvPr id="1299" name="Freeform 102"/>
                    <p:cNvSpPr/>
                    <p:nvPr/>
                  </p:nvSpPr>
                  <p:spPr>
                    <a:xfrm rot="4286400">
                      <a:off x="5046840" y="3543120"/>
                      <a:ext cx="1973520" cy="30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0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01" name="Group 104"/>
                  <p:cNvGrpSpPr/>
                  <p:nvPr/>
                </p:nvGrpSpPr>
                <p:grpSpPr>
                  <a:xfrm>
                    <a:off x="5521320" y="2840400"/>
                    <a:ext cx="696960" cy="2778120"/>
                    <a:chOff x="5521320" y="2840400"/>
                    <a:chExt cx="696960" cy="2778120"/>
                  </a:xfrm>
                </p:grpSpPr>
                <p:sp>
                  <p:nvSpPr>
                    <p:cNvPr id="1302" name="Freeform 105"/>
                    <p:cNvSpPr/>
                    <p:nvPr/>
                  </p:nvSpPr>
                  <p:spPr>
                    <a:xfrm rot="4898400">
                      <a:off x="4896720" y="3607200"/>
                      <a:ext cx="1812960" cy="30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3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04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305" name="Freeform 108"/>
                    <p:cNvSpPr/>
                    <p:nvPr/>
                  </p:nvSpPr>
                  <p:spPr>
                    <a:xfrm rot="5755200">
                      <a:off x="4532040" y="3665160"/>
                      <a:ext cx="1771920" cy="23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6" name="Freeform 109"/>
                    <p:cNvSpPr/>
                    <p:nvPr/>
                  </p:nvSpPr>
                  <p:spPr>
                    <a:xfrm rot="5755200">
                      <a:off x="4714560" y="4932360"/>
                      <a:ext cx="950760" cy="36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307" name="Group 110"/>
              <p:cNvGrpSpPr/>
              <p:nvPr/>
            </p:nvGrpSpPr>
            <p:grpSpPr>
              <a:xfrm>
                <a:off x="2175480" y="682560"/>
                <a:ext cx="6731280" cy="4521240"/>
                <a:chOff x="2175480" y="682560"/>
                <a:chExt cx="6731280" cy="4521240"/>
              </a:xfrm>
            </p:grpSpPr>
            <p:grpSp>
              <p:nvGrpSpPr>
                <p:cNvPr id="1308" name="Group 111"/>
                <p:cNvGrpSpPr/>
                <p:nvPr/>
              </p:nvGrpSpPr>
              <p:grpSpPr>
                <a:xfrm>
                  <a:off x="2175480" y="682560"/>
                  <a:ext cx="6731280" cy="4521240"/>
                  <a:chOff x="2175480" y="682560"/>
                  <a:chExt cx="6731280" cy="4521240"/>
                </a:xfrm>
              </p:grpSpPr>
              <p:sp>
                <p:nvSpPr>
                  <p:cNvPr id="1309" name="Arc 112"/>
                  <p:cNvSpPr/>
                  <p:nvPr/>
                </p:nvSpPr>
                <p:spPr>
                  <a:xfrm flipV="1">
                    <a:off x="5740920" y="857880"/>
                    <a:ext cx="316584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Arc 113"/>
                  <p:cNvSpPr/>
                  <p:nvPr/>
                </p:nvSpPr>
                <p:spPr>
                  <a:xfrm flipH="1">
                    <a:off x="2561760" y="2270520"/>
                    <a:ext cx="248652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Arc 114"/>
                  <p:cNvSpPr/>
                  <p:nvPr/>
                </p:nvSpPr>
                <p:spPr>
                  <a:xfrm>
                    <a:off x="5818680" y="1752840"/>
                    <a:ext cx="175788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Arc 115"/>
                  <p:cNvSpPr/>
                  <p:nvPr/>
                </p:nvSpPr>
                <p:spPr>
                  <a:xfrm flipH="1">
                    <a:off x="2175480" y="1297800"/>
                    <a:ext cx="313272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" name="Arc 116"/>
                  <p:cNvSpPr/>
                  <p:nvPr/>
                </p:nvSpPr>
                <p:spPr>
                  <a:xfrm flipH="1">
                    <a:off x="3057120" y="682560"/>
                    <a:ext cx="228204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" name="Arc 117"/>
                  <p:cNvSpPr/>
                  <p:nvPr/>
                </p:nvSpPr>
                <p:spPr>
                  <a:xfrm>
                    <a:off x="5491800" y="1875960"/>
                    <a:ext cx="94068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Freeform 118"/>
                  <p:cNvSpPr/>
                  <p:nvPr/>
                </p:nvSpPr>
                <p:spPr>
                  <a:xfrm flipH="1">
                    <a:off x="430272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6" name="Freeform 119"/>
                <p:cNvSpPr/>
                <p:nvPr/>
              </p:nvSpPr>
              <p:spPr>
                <a:xfrm rot="20253000">
                  <a:off x="6127200" y="2181240"/>
                  <a:ext cx="54612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7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1318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Arc 124"/>
              <p:cNvSpPr/>
              <p:nvPr/>
            </p:nvSpPr>
            <p:spPr>
              <a:xfrm flipH="1">
                <a:off x="2343600" y="1740240"/>
                <a:ext cx="293076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Arc 125"/>
              <p:cNvSpPr/>
              <p:nvPr/>
            </p:nvSpPr>
            <p:spPr>
              <a:xfrm>
                <a:off x="5588640" y="215208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Arc 126"/>
              <p:cNvSpPr/>
              <p:nvPr/>
            </p:nvSpPr>
            <p:spPr>
              <a:xfrm>
                <a:off x="5711760" y="2138400"/>
                <a:ext cx="123804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Freeform 127"/>
              <p:cNvSpPr/>
              <p:nvPr/>
            </p:nvSpPr>
            <p:spPr>
              <a:xfrm>
                <a:off x="6155640" y="354852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Freeform 128"/>
              <p:cNvSpPr/>
              <p:nvPr/>
            </p:nvSpPr>
            <p:spPr>
              <a:xfrm flipV="1" rot="19660800">
                <a:off x="5226840" y="294876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Freeform 129"/>
              <p:cNvSpPr/>
              <p:nvPr/>
            </p:nvSpPr>
            <p:spPr>
              <a:xfrm flipH="1">
                <a:off x="2688120" y="3385800"/>
                <a:ext cx="133848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Freeform 131"/>
              <p:cNvSpPr/>
              <p:nvPr/>
            </p:nvSpPr>
            <p:spPr>
              <a:xfrm>
                <a:off x="7513920" y="3109320"/>
                <a:ext cx="1242000" cy="1974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Freeform 133"/>
              <p:cNvSpPr/>
              <p:nvPr/>
            </p:nvSpPr>
            <p:spPr>
              <a:xfrm>
                <a:off x="6937920" y="714240"/>
                <a:ext cx="819000" cy="1768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Freeform 134"/>
              <p:cNvSpPr/>
              <p:nvPr/>
            </p:nvSpPr>
            <p:spPr>
              <a:xfrm flipH="1" rot="1347000">
                <a:off x="4183920" y="2155680"/>
                <a:ext cx="54396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PlaceHolder 5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06A9-B28B-4FC6-B936-263F65EAD09C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3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374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 type="dt" idx="7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 type="ftr" idx="7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PlaceHolder 5"/>
          <p:cNvSpPr>
            <a:spLocks noGrp="1"/>
          </p:cNvSpPr>
          <p:nvPr>
            <p:ph type="sldNum" idx="7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4A1D-5EF0-412A-9559-0FBD506677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 type="dt" idx="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 type="sldNum" idx="7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0D22-37B3-4D3C-A83F-6E6B868C1A2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3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464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00BD-7250-4593-8E8D-37C761EEE02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7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8C43-2E1B-47D8-9DD9-D0BD45271D3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3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3F85-0B34-410C-BECE-15685A2CD88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9900ff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339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94"/>
              </a:gs>
              <a:gs pos="100000">
                <a:srgbClr val="00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5227-01B0-451E-BE6E-E0313C9DCFF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57C5-20CD-4B4E-B003-553F01D4078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00AB-528B-4BED-81CC-A388499F64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272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1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31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31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2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3126-8C54-4CC1-8B14-7DEDAA47C8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5D33-24F4-4C9A-A287-C02ACC07AA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«И снизу лед…»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2" name="Picture 3" descr="Безымянный"/>
          <p:cNvPicPr/>
          <p:nvPr/>
        </p:nvPicPr>
        <p:blipFill>
          <a:blip r:embed="rId1"/>
          <a:stretch/>
        </p:blipFill>
        <p:spPr>
          <a:xfrm>
            <a:off x="2700360" y="2062080"/>
            <a:ext cx="4032360" cy="3430800"/>
          </a:xfrm>
          <a:prstGeom prst="rect">
            <a:avLst/>
          </a:prstGeom>
          <a:ln w="0">
            <a:noFill/>
          </a:ln>
        </p:spPr>
      </p:pic>
      <p:pic>
        <p:nvPicPr>
          <p:cNvPr id="1513" name="лирическая.wav" descr=""/>
          <p:cNvPicPr/>
          <p:nvPr/>
        </p:nvPicPr>
        <p:blipFill>
          <a:blip r:embed="rId2"/>
          <a:stretch/>
        </p:blipFill>
        <p:spPr>
          <a:xfrm>
            <a:off x="1116000" y="5877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14" name="белое.wav" descr=""/>
          <p:cNvPicPr/>
          <p:nvPr/>
        </p:nvPicPr>
        <p:blipFill>
          <a:blip r:embed="rId3"/>
          <a:stretch/>
        </p:blipFill>
        <p:spPr>
          <a:xfrm>
            <a:off x="8172360" y="587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1513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1513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76110" fill="hold"/>
                                        <p:tgtEl>
                                          <p:spTgt spid="15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1514"/>
                    </p:tgtEl>
                  </p:cond>
                </p:stCondLst>
                <p:childTnLst>
                  <p:par>
                    <p:cTn id="26" nodeType="clickEffect" fill="hold">
                      <p:stCondLst>
                        <p:cond evt="onClick">
                          <p:tgtEl>
                            <p:spTgt spid="1514"/>
                          </p:tgtEl>
                        </p:cond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81859" fill="hold"/>
                                        <p:tgtEl>
                                          <p:spTgt spid="15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Высоцкий в фильме «Штрафной удар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фильме «Штрафной удар» я научился ездить на лошади и выполнять трюки. Это долгая тренировка, но это прекрасно. Надо уметь делать всё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1" name="Picture 5" descr="_00012"/>
          <p:cNvPicPr/>
          <p:nvPr/>
        </p:nvPicPr>
        <p:blipFill>
          <a:blip r:embed="rId1"/>
          <a:stretch/>
        </p:blipFill>
        <p:spPr>
          <a:xfrm>
            <a:off x="468360" y="1728720"/>
            <a:ext cx="3887640" cy="41832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p:transition>
    <p:cover dir="d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800000"/>
            </a:gs>
            <a:gs pos="100000">
              <a:srgbClr val="3333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ысоцкий в фильме «Служили два товарища»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т в фильме «Служили два товарища», где я играл роль белогвардейца поручика Брусинцова, в самом конце фильма он должен был стрелять себе в рот и падать с борта судна, отправляющегося за границу. Я долго просил, чтобы это мне разрешил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4" name="Picture 5" descr="_00012"/>
          <p:cNvPicPr/>
          <p:nvPr/>
        </p:nvPicPr>
        <p:blipFill>
          <a:blip r:embed="rId1"/>
          <a:stretch/>
        </p:blipFill>
        <p:spPr>
          <a:xfrm>
            <a:off x="539640" y="2133720"/>
            <a:ext cx="4243320" cy="3821040"/>
          </a:xfrm>
          <a:prstGeom prst="rect">
            <a:avLst/>
          </a:prstGeom>
          <a:ln w="76320">
            <a:solidFill>
              <a:srgbClr val="ff33cc"/>
            </a:solidFill>
            <a:miter/>
          </a:ln>
        </p:spPr>
      </p:pic>
    </p:spTree>
  </p:cSld>
  <p:transition>
    <p:comb dir="horz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8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Фильм «Вертикаль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ильм «Вертикаль», наверное, многие знают. Я писал туда песни. Я продолжаю писать о горах и буду писать о них мног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7" name="Picture 5" descr="_00013"/>
          <p:cNvPicPr/>
          <p:nvPr/>
        </p:nvPicPr>
        <p:blipFill>
          <a:blip r:embed="rId1"/>
          <a:stretch/>
        </p:blipFill>
        <p:spPr>
          <a:xfrm>
            <a:off x="4788000" y="2165400"/>
            <a:ext cx="3816360" cy="3762360"/>
          </a:xfrm>
          <a:prstGeom prst="rect">
            <a:avLst/>
          </a:prstGeom>
          <a:ln w="7632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9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98" fill="hold"/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Высоцкий в фильме «Короткие встречи»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льм «Короткие встречи» режиссера одесской киностудии Киры Муратовой. Я там пел  сказки и всякие песни. Это моя одна из самых любимых ролей.  Я играл роль геолог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0" name="Picture 5" descr="_00013"/>
          <p:cNvPicPr/>
          <p:nvPr/>
        </p:nvPicPr>
        <p:blipFill>
          <a:blip r:embed="rId1"/>
          <a:stretch/>
        </p:blipFill>
        <p:spPr>
          <a:xfrm>
            <a:off x="324000" y="1989000"/>
            <a:ext cx="3816360" cy="3961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Последняя картина Высоцкого «Опасные гастроли»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Это знаменитое «Литвиновское дело» 1910 года, когда подпольно перевозили литературу и оружие из-за границы. Там я играю Николая Бенгальского, актера театра- варьете. Там тоже много моих песен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3" name="Picture 5" descr="_00014"/>
          <p:cNvPicPr/>
          <p:nvPr/>
        </p:nvPicPr>
        <p:blipFill>
          <a:blip r:embed="rId1"/>
          <a:stretch/>
        </p:blipFill>
        <p:spPr>
          <a:xfrm>
            <a:off x="4932360" y="2146320"/>
            <a:ext cx="3448080" cy="3914640"/>
          </a:xfrm>
          <a:prstGeom prst="rect">
            <a:avLst/>
          </a:prstGeom>
          <a:ln w="76320">
            <a:solidFill>
              <a:srgbClr val="af273e"/>
            </a:solidFill>
            <a:miter/>
          </a:ln>
        </p:spPr>
      </p:pic>
    </p:spTree>
  </p:cSld>
  <p:transition>
    <p:strips dir="rd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26" dur="2000" fill="hold"/>
                                        <p:tgtEl>
                                          <p:spTgt spid="1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5" dur="20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Владимир Высоцкий в кино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Говоря о своей работе в кино, Владимир Высоцкий называл такие цифры: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нимался в 24 фильмах, в 12 исполнял главные роли, для 10 написал песни (заметим: исследователи его творчества скрупулезно сосчитали все его выступления в кино более чем за двадцатилетний период — набралось около 30 фильмов). 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98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98" fill="hold"/>
                                        <p:tgtEl>
                                          <p:spTgt spid="1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Воспоминание кинорежиссера Александра Митта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дею, как делать «Арапа Петра Великого», я принес сценаристам Дунскому и Фриду в пакете с идеей снять в этой роли Высоцког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лагался фильм не только про арапа, но и про Высоцког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не хотелось показать его с экрана интеллигентным, по- детски доверчивым и нравственно несгибаемы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8" name="Picture 11" descr="_00015"/>
          <p:cNvPicPr/>
          <p:nvPr/>
        </p:nvPicPr>
        <p:blipFill>
          <a:blip r:embed="rId2"/>
          <a:stretch/>
        </p:blipFill>
        <p:spPr>
          <a:xfrm>
            <a:off x="5364000" y="2133720"/>
            <a:ext cx="3349800" cy="419076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</p:spTree>
  </p:cSld>
  <p:transition>
    <p:pull dir="rd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7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/>
          </p:nvPr>
        </p:nvSpPr>
        <p:spPr>
          <a:xfrm>
            <a:off x="394920" y="549000"/>
            <a:ext cx="7921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соцкий- это человек- легенда, борец за человеческое достоинство, провидец. Он не умел молчать, лгать, пресмыкаться. Владимир Высоцкий сгорел из-за нас, ради нас, за нас. Он считал необходимым прожить жизнь так, чтобы в память о ней людям захотелось зажечь свечу…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0" name="Picture 4" descr="fire"/>
          <p:cNvPicPr/>
          <p:nvPr/>
        </p:nvPicPr>
        <p:blipFill>
          <a:blip r:embed="rId1"/>
          <a:stretch/>
        </p:blipFill>
        <p:spPr>
          <a:xfrm>
            <a:off x="7885080" y="5157720"/>
            <a:ext cx="39060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ладимир Высоцкий- феномен семидесятых год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снизу лёд, и сверху- маюсь между. Пробить ли верх иль пробуравить н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Конечно- всплыть и не терять надежду, А там- за дело, в ожиданье вниз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д надо мной, надломись и тресни! Я весь в поту, как пахарь от сохи. Вернусь к тебе, как корабли из песни, все помня- даже старые стих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е меньше полувека- сорок с лишним, Я жив, 12 лет тобой храним. Мне есть что спеть, представ перед все Вышним, Мне будет, чем ответить перед Ни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7" name="Picture 5" descr=" _0001"/>
          <p:cNvPicPr/>
          <p:nvPr/>
        </p:nvPicPr>
        <p:blipFill>
          <a:blip r:embed="rId1"/>
          <a:stretch/>
        </p:blipFill>
        <p:spPr>
          <a:xfrm>
            <a:off x="395280" y="1844640"/>
            <a:ext cx="4176720" cy="42483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p:transition>
    <p:checker dir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6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6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00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Жизненный путь В. С. Высоцкого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40402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С Высоцкий родился в Москве 25 января 1938г. Его мать Нина Максимовна, 1912г рождения по специальности переводчик с немецкого языка. Отец Семен Владимирович, 1915г рождения кадровый военный окончил Военную академию связи имени Маршала Союза С. М. Буденного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 сентября 1945г пошел в первый класс 273-й Московской школы. В 1955г окончил 10-й класс. В этом же году поступил в Московский Инженерно- строительный институт им. Куйбышева, но уже в начале 1956г ушёл из институт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Летом 1956г поступил в школу- студии МХАТ им. Немировича- Данченко на актерское отделени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1961г написал первую песню «Татуировка»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0" name="Picture 9" descr="05_015i"/>
          <p:cNvPicPr/>
          <p:nvPr/>
        </p:nvPicPr>
        <p:blipFill>
          <a:blip r:embed="rId1"/>
          <a:stretch/>
        </p:blipFill>
        <p:spPr>
          <a:xfrm>
            <a:off x="4716360" y="1700280"/>
            <a:ext cx="3743280" cy="43210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p:transition>
    <p:split dir="in" orient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Воспоминание 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Юрия Трифонова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«Думаю, можно сказать, что творчество Высоцкого- биография нашего времени. Он рассказывал нам почти обо всем, чем жил народ- при нем и до него. Пел о войне, о больших делах и стройках и о тяжких временах 37-го, о космосе, спортсменах…- о ком угодно, обо всем. Великая его популярность объяснима: Высоцкий вошел в самую гущу народа, он был понятен многим, почти всем»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3" name="Picture 5" descr="_0003"/>
          <p:cNvPicPr/>
          <p:nvPr/>
        </p:nvPicPr>
        <p:blipFill>
          <a:blip r:embed="rId1"/>
          <a:stretch/>
        </p:blipFill>
        <p:spPr>
          <a:xfrm>
            <a:off x="5148360" y="1700280"/>
            <a:ext cx="3456000" cy="3887640"/>
          </a:xfrm>
          <a:prstGeom prst="rect">
            <a:avLst/>
          </a:prstGeom>
          <a:ln w="57240">
            <a:solidFill>
              <a:srgbClr val="ffcc00"/>
            </a:solidFill>
            <a:miter/>
          </a:ln>
        </p:spPr>
      </p:pic>
    </p:spTree>
  </p:cSld>
  <p:transition>
    <p:wipe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98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98" fill="hold"/>
                                        <p:tgtEl>
                                          <p:spTgt spid="1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10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оспоминание Марины Влади о том. как Высоцкий работал над своими песня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684320" y="1828800"/>
            <a:ext cx="4002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чник вдохновения для него – всё, что ты видиш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одобно губке он впитывает эмоции, рассказы, насыщая свои стихи пережитом, ничего не бросая по дороге. Любая тема может в тот или другой день вылиться в поэму- ничто не ускользает от его внимания, и, читая все им написанное, можно представить себе, что он прожил сотни жизней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6" name="Picture 7" descr="_0005"/>
          <p:cNvPicPr/>
          <p:nvPr/>
        </p:nvPicPr>
        <p:blipFill>
          <a:blip r:embed="rId1"/>
          <a:stretch/>
        </p:blipFill>
        <p:spPr>
          <a:xfrm>
            <a:off x="395280" y="1773360"/>
            <a:ext cx="4202280" cy="4248000"/>
          </a:xfrm>
          <a:prstGeom prst="rect">
            <a:avLst/>
          </a:prstGeom>
          <a:ln w="76320">
            <a:solidFill>
              <a:srgbClr val="ff33cc"/>
            </a:solidFill>
            <a:miter/>
          </a:ln>
        </p:spPr>
      </p:pic>
    </p:spTree>
  </p:cSld>
  <p:transition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Arial Black"/>
              </a:rPr>
              <a:t>Владимир Высоцкий об авторской песне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367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В авторской песне нет зрелищности, которая дает ей приподнятости. Но в ней есть другое. Она импровизированн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Более того, так как это беседа с людьми, то надо помнить, что собеседники каждый раз приходят разны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9" name="Picture 9" descr="05lit005i"/>
          <p:cNvPicPr/>
          <p:nvPr/>
        </p:nvPicPr>
        <p:blipFill>
          <a:blip r:embed="rId2"/>
          <a:stretch/>
        </p:blipFill>
        <p:spPr>
          <a:xfrm>
            <a:off x="4788000" y="2133720"/>
            <a:ext cx="3456000" cy="3382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50000">
              <a:srgbClr val="cc6600"/>
            </a:gs>
            <a:gs pos="100000">
              <a:srgbClr val="00cc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. Высоцкий о театре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5138280" y="201780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вая линия и очень большая в театре- это поэтическая, дело в том, что поэтический репертуар после 20-х годов был забыт. И вот мы стали пионерами, чтобы возобновить этот прекрасный жанр поэтического теат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2" name="Picture 9" descr="pv7570"/>
          <p:cNvPicPr/>
          <p:nvPr/>
        </p:nvPicPr>
        <p:blipFill>
          <a:blip r:embed="rId1"/>
          <a:stretch/>
        </p:blipFill>
        <p:spPr>
          <a:xfrm>
            <a:off x="900000" y="2492280"/>
            <a:ext cx="3384720" cy="34560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cc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Garamond"/>
              </a:rPr>
              <a:t>Высоцкий о кино.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адо сказать, что кино- это вообще замечательно, приобретаешь побочные професс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 кино сниматься интереснее только в смысле того, что ты видишь много разных людей, событий, мес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5" name="Picture 5" descr="10"/>
          <p:cNvPicPr/>
          <p:nvPr/>
        </p:nvPicPr>
        <p:blipFill>
          <a:blip r:embed="rId1"/>
          <a:stretch/>
        </p:blipFill>
        <p:spPr>
          <a:xfrm>
            <a:off x="4572000" y="1628640"/>
            <a:ext cx="4176720" cy="4464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009999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Первый фильм Высоцкого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76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ервом фильме «Карьера Димы Горина» я играл роль монтажника- высотника. И первый съемочный день был очень смеш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должен был играть такого человека, который приставал к Тане Конюховой, не к актрисе , конечно, а к персонажу, которого она играла. Я долго отказывался, потому что был молодой и скромный человек, и говорил- она знаменитая актриса, мне неудобно, я не могу и 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8" name="Picture 7" descr="_00011"/>
          <p:cNvPicPr/>
          <p:nvPr/>
        </p:nvPicPr>
        <p:blipFill>
          <a:blip r:embed="rId1"/>
          <a:stretch/>
        </p:blipFill>
        <p:spPr>
          <a:xfrm>
            <a:off x="4743360" y="2085840"/>
            <a:ext cx="3652920" cy="382284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p:transition>
    <p:pull dir="rd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0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2:15:36Z</dcterms:created>
  <dc:creator>Черемисовы</dc:creator>
  <dc:description/>
  <dc:language>en-US</dc:language>
  <cp:lastModifiedBy>Коля</cp:lastModifiedBy>
  <dcterms:modified xsi:type="dcterms:W3CDTF">2013-03-20T19:45:25Z</dcterms:modified>
  <cp:revision>31</cp:revision>
  <dc:subject/>
  <dc:title>I конференция школьного исследовательского общества «Прометей»</dc:title>
</cp:coreProperties>
</file>