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13.jpeg" ContentType="image/jpeg"/>
  <Override PartName="/ppt/media/image21.gif" ContentType="image/gif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5.png" ContentType="image/png"/>
  <Override PartName="/ppt/media/image8.jpeg" ContentType="image/jpeg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</p:sld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1002-DC41-4B2D-A3E2-D65E5CA76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2B0F-1D67-45B7-839E-B31A23DE6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909C98-8D92-4921-A437-F1F0EBBC6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D29FAA-D035-4399-8F91-474474A97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EAD90E-3759-4044-BED7-381D91D9A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4F7244-80D2-434A-B68E-A2BB5AF2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B1DF1D-71C6-4B5D-AA16-A7071382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9A1F4D-3209-47E4-9E49-E8DB154D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A9B86D-7730-4A93-B8CF-CAA99EFD1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9BCF93-71CC-4E63-AFE7-7814DB9DA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48D209-4E9B-4FC8-B2E1-F75B216AF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7A8AD8-8B58-4747-A2D8-2194E6266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4B50-811B-4AB2-A5B7-E2DF9A143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98ED91-FB49-4B97-B764-A81DDB78E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FF3314-BD97-4590-8033-1032D9DC1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9687DC-517A-464A-976A-4188CB127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BE278F-1018-4476-A80C-ECD350B7B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626BD6-D5F0-4367-B818-E8343A6AC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62DC4B-D983-49BD-857D-0B7D4CF4D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6E3C0C-0EB7-4C9F-AF4A-2109B7D5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6C62F4-91D5-4DEB-888F-2413486A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B652C2-28BF-48F9-8DAD-F211BAA1F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AFE037-9C54-44BC-B872-AAC98FBDF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8C66-BF3D-4F73-BCA9-CC5BBBDED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70CFF6-84CE-4DFA-A7D1-B831D7751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9E95FC-66FC-441C-8723-2B2798258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2100A0-2503-4624-9305-7CDCFE9FA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7E114F-B6DA-4958-8A03-541665132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7A3481-69C7-4375-8123-526F876AF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33C9EB-E117-4C1A-ADE5-8302172C9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8B3584-D734-48A6-9CD6-B473E5751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BEDBB7-8C5D-41FC-BD97-95AA7CDF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009CA7-579F-4883-AC59-E2C180A7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F05A80-37E5-444B-B75C-9B195839E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C4AF8-3B24-4AD5-AC06-6678C6B97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296FE0-C3B4-4568-89C4-D09CBB238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C3CBF4-5F6F-4A95-B1BD-0F3C7B4D1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F18391-0A1D-4E4A-81F4-32B3D81BB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819EE2-099B-41E7-839A-98FF8F668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F1B2AE-3ADD-485B-83F8-707C5E1A2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846426-3545-4901-8061-971F78867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771122-E4E8-4F6F-903C-3C347A193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E9BAAA-44FD-40B8-809D-99252D8FE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56574F-5CBE-4175-8EEE-95072B7E9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ED6183-AE48-4549-BB9D-54DA5215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783A4-1DD9-4D33-8593-B9982CB68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10D8FA-94DF-4596-B038-080DE35BB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495131-1098-4F7C-B02A-1AFDA1B4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B70F49-3E1A-4B09-A1E9-CD74AD55A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6B7139-1B91-412C-A1E6-EFB0EDA60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D97210-45A7-4F27-AC77-638AE4CBA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E10D78-747F-47D1-9934-2CCB2B456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3D0134-A2C2-4368-B67A-025EB82AF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42711E-03EF-415C-AF7E-D9A37D8AF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E787E9-B8A0-4DCC-ADFB-0BED679A7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E75FE3-AB9E-474C-9854-9B9BB3623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F35C1-2D75-4DC3-BBB4-D43B9EB21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85AFF5-A216-425A-BABC-16DAC8AA5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DC9BD5-C364-49CF-850B-C94DD5C79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390780-4E16-48B0-9505-2A851FCFA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26BC3A-F7CA-4851-990C-60FB82BFC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CC016A-6A28-4789-B63A-4E87859E9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AFC9AD-5095-4AD0-B0D2-7FD0DDFB1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0AA5E1-FAA4-41BD-9D5F-234377C39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0109D0-2B78-40FA-A8E4-72A7C73CF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271B23-5131-482C-B149-D9C3D1CBF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3492E7-6FBD-489E-B455-49F34505C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BC671-5797-4F15-A2FA-E4CA3D4C0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5EDFBD-F94A-42B6-BCAB-BCC425511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6536F8-EB89-440C-989D-115351C8A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37521B-9BCB-4E28-9737-E000046BD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3C4156-F9FD-4FE4-86F3-BBC20F81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CB2A0D-F99B-4ADA-809E-139E0A16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5B6D30-49EB-4797-99EC-E33F5C7B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ED8E39-538A-4091-835B-5D92AB737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E5BC6C-76D6-4E39-BCFE-8E1C82158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0DD2A5-FD0A-47E4-AA0B-698C2F700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A4DBA6A-7CEA-416C-A0A3-3AF64A17E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4588D-95BE-4370-9EB2-D1CF4CAAD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ECE8EBA-7D5B-4676-A18B-D2024767E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7769B4C-0BB6-453F-9B7A-9D64D7C80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4B73F7C-AF7E-4122-8483-2028DF222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38624B6-4EAD-4A5B-A033-7E5173240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3737C41-B54C-4210-9EFE-F477F7F7F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6D08DF5-11F9-4B39-9173-4602E1DB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691322B-A7A5-4CBC-BAC3-711E0EB87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583116E-800A-480F-9869-FB415B5A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9D21F4E-0CCA-417E-9C45-40161C759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73E6B96-927D-44E6-B7D1-71C3AEB30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10DFA-CDBF-412D-A3E0-7904207E8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6343C1F-C92B-490A-B529-85F80B27E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B4FA21-FC2F-4935-B7D2-7725F515F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E0A033-C228-46FF-B64D-B2A8A5C0D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79414B-4D18-40CA-800F-16BFBF140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7434A7-393B-4857-B95A-50BE3F2B0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81267E-9133-4B23-81A7-770BE5D75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6266CC-141A-4AF9-8E9F-8CB6E02FA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1E1231-7C1F-4A6F-83AA-E3C047A98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28D1F6-269B-4227-846C-25C63C5A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A6F21F-DE7C-4C0B-9B90-BACC76A7A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93AD1-12C8-4D3F-AC50-7A9B7AE45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0A03EC-85F3-4211-B233-EF8927BF8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75A492-C5B9-47BE-8473-9793B2422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6B3ED7-849E-4E3F-B7DC-C0159A55F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FC4B87-28CF-4310-B77F-0D9639C50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A7A1DD-92EF-4A60-AABD-47D0E9BC0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DCDCD4-E1E0-4D29-9ACD-3FECAEDA9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FF38D6-3124-44F0-A209-334FBCF72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971204-72E2-4065-9A89-6758B1F34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5375FA-93A7-4633-AC1D-4C39B54C6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DB8FD4-C085-47AE-BDEC-FED2C3B22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148C-251D-43A9-8900-2AEA58C95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31239-E173-451B-A534-01416F907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03808F-3588-436C-9CFC-B4A88D8FF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A2C99C-D336-4872-9FE2-E2100003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130571-591B-43A6-86D3-D10271E8F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D1602B-F3FE-4635-A142-E7903F5C3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625BD3-8015-46C6-8C03-8B08D1FD2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F8AF46-8F8E-4DE1-81E8-C9BF3358D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1970D1-D68E-445A-A33D-58C8F39BA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0C8356-C81C-4475-97CE-B3645446D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E3DD8A-8B9C-4A6C-9E91-9481CAEC0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BD42C3-5DBC-4015-9D49-E1C08766B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05619-6657-47E8-BB52-5BEAA13C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D9E105-BA82-446E-8A74-5AE281B07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ABDFAF-7170-426D-9FE8-01B5D609C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9C6369-84CD-4E9D-A789-E21B74F8F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7C51E9-261E-4524-82AA-9506CC87A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130A53-3AEE-48CD-9529-30301DCAE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07C34E-43FC-4CB4-8678-29ABA651E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D4701C-9F3D-468C-8507-08086AD73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599D1A-39C4-4713-8CC1-77567154E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917325-DD37-4934-B1F7-24BF7CA9A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8F079D-483D-4FEB-8768-D556781E3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ADAB9-BDA0-44ED-A24C-19A086E17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9F70A3-242D-41DC-B4C6-47CB78E6A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756EA5-E963-4E43-BF4A-A6BB02DC3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E3893C-FE85-4DA9-9822-28D432724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2A20D4-20AB-451D-8C30-B3AF23073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92F42C-ADC3-45AC-93D1-64C336B90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6C64B0-10DF-4F92-9D5C-74F560E52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6FA129-CFF4-41A2-BCAF-C9659212D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B115D2-71BB-4C24-A846-497EE9CE7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E49F55-22AD-420E-869F-BCC23B391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1CD1A9-551A-4BF9-980D-043E131A9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B3E12-C7FE-46FA-97E8-6D20649FA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F38948-827B-4990-8BDF-FE1F8AB87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CE41B4-00D4-4E69-8749-155B88E5A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036E69-3BCE-4EB3-B117-3987541FA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11126B-E2F0-4F33-B2D6-838B56177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1BE76F-8143-439A-834E-E3307C946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C41517-66F0-499D-A250-2A79F0053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C61847-0C62-4D45-90CA-B5D354108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72F832-18E7-4F2E-96DA-C08F9DA83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855D3E-7F66-4706-8EAC-0F67C99E7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78D55E-635F-4D23-9475-12BBD6BC7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A8F2F-6349-4D99-A976-244F73C2C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181A60-2A65-47A2-BF72-5990418D6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43D4B9-009B-406D-8F90-CEFA1E467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33AA930-E3AE-4F5D-89FC-18581249C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0791E8-7E8F-42CA-85F9-DED34BC4C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BB6E45-254D-49B7-896D-3F6C5DC95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EC8829-C078-490A-9AB2-3BFCF111B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E79F65-2606-4231-9BAF-EE2BCA897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E8DB74-A05A-48D7-8A4A-1F83021A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5CFBF9-A32B-4C72-8050-A611F79F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170DAD-43A4-4924-8A5B-B337D7DE5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E973F-AF41-4792-A13F-7A04BD3E5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A311E2-DE4F-4915-BC9C-6C7408E51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255391-3D89-4670-9924-5ADFDF28D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ED5DCB-5820-4460-BE92-C4C20E21E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CD48CE27-6C81-476E-9A41-2E4324851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D860AFBB-FCA8-4561-A490-6CE85A454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97601D4-6DDF-4E03-ABDF-28E28AAE0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52F296B8-73EE-45D9-AF97-24EDC23A1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9702DB9-F2A7-4427-99FF-0AFD1F50C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D622DB4-52D0-4B5E-8C55-08A78FBD0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F112B228-570E-4F6E-8AA4-8A1D4BEB0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7015A-8652-4300-86DA-561819F01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6DE647D-182C-4E6E-AC72-201ACCEC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D661204C-D29A-4D93-8CF3-CEF4A1BF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7B5B710-0792-423D-9811-D65C8690D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567ED366-F161-4680-947C-340C1C77F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72DBE72-AE81-4F5B-89EA-5E30B7B94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9EE6686-B4E5-439E-8A95-3885EBCFE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7DEDE2D-26E2-4396-A202-64744B519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76C3D38-7666-4946-985B-FD88B7F2F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4A0307C-62F9-4AA1-9395-5B2F01D5F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FD7500B-5F07-4212-AD50-79BAEC450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BA386-BCA4-47A7-AA32-34E54061F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92E025A-CF4B-4447-8D4B-3130BAFDE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8442267-97B7-42B6-8646-0BDEDD105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735C280-CF8C-4FFB-9E33-FD6BB5CC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D826C44-E71E-43C0-8BCE-C5955090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9256BAA-76CA-4EF3-91C0-58B5A17D0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DE7F155-3670-48C2-96D8-1548A1406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6BCA048-943D-464F-8B83-26F2BE32A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2CEBADD-E674-497E-B1A5-AC94BA48D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3CCA26C-1FD8-4B0C-BB56-2A7C9E52C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FF93251-1716-40F0-A455-0AF4FDF59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CC67B-6CFB-437F-BF9B-D64E0B165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08DCD33-681A-440B-843D-646E6027A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29FD2CD-01B0-48C5-8F4B-CB7F463A7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7976CCC-2FDA-4E07-9A63-57E68A92B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DF92913-DB98-4101-89D8-33AAA6696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F1FCFEC-A175-4299-AFB6-582A85B2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10EC0DF-BA7B-4096-A108-4F8DE0AC7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9C044CB-E1BD-48F2-8A22-A6AE15E28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007C8B1-4A3B-4DA3-87FC-5DCB26FE6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3E78F9B-DA54-494B-ABAD-0037D61C5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6F99A4A-E931-4A88-B9E8-6B8E88183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1C9A8-9424-4424-8679-2F6C843D9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FDA0B89-E156-49C5-BA7C-6ED376ED1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1DD20CF-2A32-4D33-8DF4-DBDCE9083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48F83EC-EA68-46E6-9DF0-1C8491765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A6C8AEC-2B0F-4E5C-80D2-B304B46B5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4E6C2C6-B3DC-44A5-A32E-C3B1212BE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4E92E68-E6BB-464A-9752-D946548F3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E274D99-A46C-4259-B3CB-9D5CE381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9BF9EE1-80AD-4D2A-BD73-F6E0D4DA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49B7947-725E-4E2C-A622-BD06ACB28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A1021F6-9D71-459E-A132-3DA75F625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71A2-E4D1-48A4-985E-6D1517F7B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DC72C-4956-4EB3-A493-BB7CDF25F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DCD282D-5C02-4459-BCFC-ABF667BAA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CED0C32-86CB-47C7-8134-C3F332EFC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E503B3E-F0FC-4DD6-9974-70485190D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D99E875-5913-4C36-BC1C-98612DA29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162AC00-C051-40CE-91B6-2898535F4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C91B764-FF15-4900-B7CE-16FE16A41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E8CB5B8-77F4-4A99-BB90-1F5E53FF3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858DEC8-CBD1-4057-BB1D-6B1D3CF58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1DD8119-51FC-4946-8C9B-BCD7EE8AB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F121FFA-E8A1-4C3F-BFA2-82CB5471A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8FDDF-6A70-4EBB-85E9-31E6016E9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FFA4C76-6BAE-4983-93CC-40886A998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4F26CE0-3211-44C8-8751-8C411B379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119D755-E733-450B-821B-208F06854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869EA3F-B986-4847-B54A-C57393DAF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C64FE5D-AABE-4A99-A1C2-C2B34D9E4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39D4FF4-54A6-4C54-91B3-BF5F485B0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941DB46-5BB0-4A01-9EC4-AA1293432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1D588E0-B56E-4F36-8DF5-A1DF3BD54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114B3C8-7EE0-4A11-A2C2-8F3673827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07D47AE-E859-4FB6-93B8-F4CAFCB6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4EC58-54DB-4295-B563-8F6C25DE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0ACF3BC-79E1-49B9-86C7-46E37C13D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4DF2484-D472-4457-AA55-C76BE991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B6DF544-DC60-47D7-B179-8CC98822B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C1266A4-F393-4AB8-8A63-9C9AF7EE5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7F33A27-66D5-4CF7-9085-50ED429E6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D638A-4ABF-44C4-BF32-37F802F95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736F7-4D49-48F5-AE0F-03A6658D9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84DFD-74D8-44F9-9EA1-4CAB5C22F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18FA1-AB70-4A8D-8A4C-F9B356019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8B173-B6ED-446C-91A5-BA9604632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E8F9B-3E2D-4BE3-A72E-EE48C0047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78C4E-9311-470B-8A8E-EDC2C8208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837F-2381-40F8-956B-E6FB2090C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CD442-2A36-468B-B214-0CF1C5EA9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416EF-7EFF-4144-8F09-CFD027389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AF75F-B2FD-43E6-ACFF-E71DAD92B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081BC-F185-4FD5-BABA-827D1260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8D608-FE85-4044-8612-514083495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14E6F-34C7-43B0-91F6-93DE25F25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E4906-E8FB-4197-9572-DC38EB59C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04A61-A7B3-4BED-A8DA-74A0957A3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604EE-77AF-4A71-9330-80051D334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033A9E-66A5-4664-B3E8-CBAE33841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BE22-F2AB-4381-87CA-307083C38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590A0E-49ED-4511-BB14-5D0D8A7F9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7EC7A-7714-43D3-88BC-DEC851A9C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CB4610-465C-43DB-8105-CD97AC3BD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5ED5A6-BD9A-4423-959A-F136AC75E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126F02-2B4B-4A33-A252-48AED8A1B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34E9F5-9F6F-4F06-9B92-580A6108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7F8D7A-EAEA-4BFF-AE85-F959BA8A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2E9CB4-04C2-4037-9AD4-E5ABA7A65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6B3D1-227B-40EC-935C-A69CD7FD5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CFCAD7-4D13-4148-9521-178A43442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6DD6-010B-4C7D-BC13-F133BE204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E237F4-2A25-498A-812C-90BB3288E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E47EB1-D833-4E00-B47A-0A0C2B429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FF0488-D534-451E-BCF9-3DB32B6FB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0B7BE1-34F7-4022-BD1D-B4966D161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6725A1-4EE5-4790-AD14-AA50325A9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83DF08-85EE-4815-B152-29CF8E7C3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B190C4-3E6E-480A-B3DC-DC5505394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B9EE18-7271-4578-B473-CF890064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651AD7-B30F-4CFD-953D-AC44C475B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32173B-315E-4CA8-B0D5-D9912764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BC79-40C5-41B7-8338-4E7792C2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C39C5-21E4-441D-8BDC-6A335D544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85D0C9-2828-4B5D-BA7D-3A0C39A0A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86BF08-DF9F-4281-88B5-D401B92E5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DAB4B9-4CD3-4511-8A5D-83F9ED631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537FEF-084C-449B-A877-D67A1DA5A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8B17DA-2B66-4776-9964-FCE4612B1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CEEEDC-ADE8-4D67-994B-DF108D653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EB62F3-233D-436D-B668-D94D4320D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580CE9-8A54-4542-AFDE-BECF89DC1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89EBFC-048C-417A-8D44-880CBC457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8F90-C7F0-4FE0-A343-6889F7BD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0F8557-0AA4-4F01-B364-868A20B3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0AFC5A-6B5F-471D-8D1D-735D29B54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079B53-6CC6-4A51-B759-B911E174C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ED6788-0C7F-4E04-A3D1-107EEAFEC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B30A10-7B12-485E-83C0-522D5C109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EA3853-B5B6-43E7-87A8-992116600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AEFDB6-CB54-442D-B6F2-0EDCAD99A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D4D4C2-A77D-4F50-9EC9-786C0F334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4884F9-DA76-4C90-A156-9AB0E7F7D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AE2994-9190-40C0-869F-C5EA94DBA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399C-6C07-45FB-B70E-A5865899B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6C5F95-0738-4CF0-8ACF-6BF291D0F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71E583-35E0-4BBA-AEDB-1BF82239C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845419-3D2D-428E-818E-6D6B3350C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3C94D7-8E12-4FDA-A8DA-D897A6254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584A93-D211-47D0-8EF5-912D3EB3C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7E3779-2BB0-44E5-9F9E-1A7DC29AF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C4E56F-5991-40E9-8AD9-56CB57C9B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E0C7B6-37B4-4510-81D6-510D266FA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7E8CB9-E38A-41BA-A89A-B2B856417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DC4EDF-3BF2-48E8-B774-8760F0EFE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9159E-794D-425F-B8DB-CB01746E10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30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E39CE-139A-485A-9321-5086C1AA635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418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Group 2"/>
          <p:cNvGrpSpPr/>
          <p:nvPr/>
        </p:nvGrpSpPr>
        <p:grpSpPr>
          <a:xfrm>
            <a:off x="6273000" y="-21600"/>
            <a:ext cx="2870640" cy="3275640"/>
            <a:chOff x="6273000" y="-21600"/>
            <a:chExt cx="2870640" cy="3275640"/>
          </a:xfrm>
        </p:grpSpPr>
        <p:grpSp>
          <p:nvGrpSpPr>
            <p:cNvPr id="460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61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Oval 5"/>
              <p:cNvSpPr/>
              <p:nvPr/>
            </p:nvSpPr>
            <p:spPr>
              <a:xfrm>
                <a:off x="7926480" y="28296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3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64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Oval 8"/>
              <p:cNvSpPr/>
              <p:nvPr/>
            </p:nvSpPr>
            <p:spPr>
              <a:xfrm>
                <a:off x="816012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6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67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Oval 11"/>
              <p:cNvSpPr/>
              <p:nvPr/>
            </p:nvSpPr>
            <p:spPr>
              <a:xfrm>
                <a:off x="6689880" y="3294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9" name="Group 12"/>
            <p:cNvGrpSpPr/>
            <p:nvPr/>
          </p:nvGrpSpPr>
          <p:grpSpPr>
            <a:xfrm>
              <a:off x="6273000" y="-21600"/>
              <a:ext cx="2870640" cy="2269080"/>
              <a:chOff x="6273000" y="-21600"/>
              <a:chExt cx="2870640" cy="2269080"/>
            </a:xfrm>
          </p:grpSpPr>
          <p:grpSp>
            <p:nvGrpSpPr>
              <p:cNvPr id="470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471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2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3" name="Group 16"/>
              <p:cNvGrpSpPr/>
              <p:nvPr/>
            </p:nvGrpSpPr>
            <p:grpSpPr>
              <a:xfrm>
                <a:off x="6273000" y="-21600"/>
                <a:ext cx="2868120" cy="2269080"/>
                <a:chOff x="6273000" y="-21600"/>
                <a:chExt cx="2868120" cy="2269080"/>
              </a:xfrm>
            </p:grpSpPr>
            <p:grpSp>
              <p:nvGrpSpPr>
                <p:cNvPr id="474" name="Group 17"/>
                <p:cNvGrpSpPr/>
                <p:nvPr/>
              </p:nvGrpSpPr>
              <p:grpSpPr>
                <a:xfrm>
                  <a:off x="7834680" y="842760"/>
                  <a:ext cx="1064160" cy="1140840"/>
                  <a:chOff x="7834680" y="842760"/>
                  <a:chExt cx="1064160" cy="1140840"/>
                </a:xfrm>
              </p:grpSpPr>
              <p:sp>
                <p:nvSpPr>
                  <p:cNvPr id="475" name="Freeform 18"/>
                  <p:cNvSpPr/>
                  <p:nvPr/>
                </p:nvSpPr>
                <p:spPr>
                  <a:xfrm rot="2711400">
                    <a:off x="7760880" y="1132560"/>
                    <a:ext cx="8838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Freeform 19"/>
                  <p:cNvSpPr/>
                  <p:nvPr/>
                </p:nvSpPr>
                <p:spPr>
                  <a:xfrm rot="2711400">
                    <a:off x="8404920" y="1601280"/>
                    <a:ext cx="47520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7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478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0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481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3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484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6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487" name="Freeform 30"/>
                  <p:cNvSpPr/>
                  <p:nvPr/>
                </p:nvSpPr>
                <p:spPr>
                  <a:xfrm rot="463200">
                    <a:off x="7859880" y="709920"/>
                    <a:ext cx="7920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Freeform 31"/>
                  <p:cNvSpPr/>
                  <p:nvPr/>
                </p:nvSpPr>
                <p:spPr>
                  <a:xfrm rot="463200">
                    <a:off x="8635680" y="795960"/>
                    <a:ext cx="42516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9" name="Group 32"/>
                <p:cNvGrpSpPr/>
                <p:nvPr/>
              </p:nvGrpSpPr>
              <p:grpSpPr>
                <a:xfrm>
                  <a:off x="7871760" y="632880"/>
                  <a:ext cx="1106640" cy="184320"/>
                  <a:chOff x="7871760" y="632880"/>
                  <a:chExt cx="1106640" cy="184320"/>
                </a:xfrm>
              </p:grpSpPr>
              <p:sp>
                <p:nvSpPr>
                  <p:cNvPr id="490" name="Freeform 33"/>
                  <p:cNvSpPr/>
                  <p:nvPr/>
                </p:nvSpPr>
                <p:spPr>
                  <a:xfrm rot="21515400">
                    <a:off x="7872840" y="64692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2" name="Group 35"/>
                <p:cNvGrpSpPr/>
                <p:nvPr/>
              </p:nvGrpSpPr>
              <p:grpSpPr>
                <a:xfrm>
                  <a:off x="7845120" y="419400"/>
                  <a:ext cx="983880" cy="327240"/>
                  <a:chOff x="7845120" y="419400"/>
                  <a:chExt cx="983880" cy="327240"/>
                </a:xfrm>
              </p:grpSpPr>
              <p:sp>
                <p:nvSpPr>
                  <p:cNvPr id="493" name="Freeform 36"/>
                  <p:cNvSpPr/>
                  <p:nvPr/>
                </p:nvSpPr>
                <p:spPr>
                  <a:xfrm rot="20797200">
                    <a:off x="7849080" y="564480"/>
                    <a:ext cx="63324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Freeform 37"/>
                  <p:cNvSpPr/>
                  <p:nvPr/>
                </p:nvSpPr>
                <p:spPr>
                  <a:xfrm rot="20797200">
                    <a:off x="8474040" y="456120"/>
                    <a:ext cx="33948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5" name="Group 38"/>
                <p:cNvGrpSpPr/>
                <p:nvPr/>
              </p:nvGrpSpPr>
              <p:grpSpPr>
                <a:xfrm>
                  <a:off x="6537600" y="905760"/>
                  <a:ext cx="1064520" cy="1141200"/>
                  <a:chOff x="6537600" y="905760"/>
                  <a:chExt cx="1064520" cy="1141200"/>
                </a:xfrm>
              </p:grpSpPr>
              <p:sp>
                <p:nvSpPr>
                  <p:cNvPr id="496" name="Freeform 39"/>
                  <p:cNvSpPr/>
                  <p:nvPr/>
                </p:nvSpPr>
                <p:spPr>
                  <a:xfrm flipH="1" rot="18888600">
                    <a:off x="6791760" y="1195560"/>
                    <a:ext cx="8838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Freeform 40"/>
                  <p:cNvSpPr/>
                  <p:nvPr/>
                </p:nvSpPr>
                <p:spPr>
                  <a:xfrm flipH="1" rot="18888600">
                    <a:off x="6555960" y="1664640"/>
                    <a:ext cx="4744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8" name="Group 41"/>
                <p:cNvGrpSpPr/>
                <p:nvPr/>
              </p:nvGrpSpPr>
              <p:grpSpPr>
                <a:xfrm>
                  <a:off x="6303960" y="861480"/>
                  <a:ext cx="1266120" cy="1052640"/>
                  <a:chOff x="6303960" y="861480"/>
                  <a:chExt cx="1266120" cy="1052640"/>
                </a:xfrm>
              </p:grpSpPr>
              <p:sp>
                <p:nvSpPr>
                  <p:cNvPr id="499" name="Freeform 42"/>
                  <p:cNvSpPr/>
                  <p:nvPr/>
                </p:nvSpPr>
                <p:spPr>
                  <a:xfrm flipH="1" rot="19496400">
                    <a:off x="6672600" y="1112400"/>
                    <a:ext cx="93060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1" name="Group 44"/>
                <p:cNvGrpSpPr/>
                <p:nvPr/>
              </p:nvGrpSpPr>
              <p:grpSpPr>
                <a:xfrm>
                  <a:off x="6286320" y="826920"/>
                  <a:ext cx="1288080" cy="829080"/>
                  <a:chOff x="6286320" y="826920"/>
                  <a:chExt cx="1288080" cy="829080"/>
                </a:xfrm>
              </p:grpSpPr>
              <p:sp>
                <p:nvSpPr>
                  <p:cNvPr id="502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Freeform 46"/>
                  <p:cNvSpPr/>
                  <p:nvPr/>
                </p:nvSpPr>
                <p:spPr>
                  <a:xfrm flipH="1" rot="20017200">
                    <a:off x="6315120" y="1319040"/>
                    <a:ext cx="477360" cy="243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4" name="Group 47"/>
                <p:cNvGrpSpPr/>
                <p:nvPr/>
              </p:nvGrpSpPr>
              <p:grpSpPr>
                <a:xfrm>
                  <a:off x="6273000" y="787320"/>
                  <a:ext cx="1304280" cy="668520"/>
                  <a:chOff x="6273000" y="787320"/>
                  <a:chExt cx="1304280" cy="668520"/>
                </a:xfrm>
              </p:grpSpPr>
              <p:sp>
                <p:nvSpPr>
                  <p:cNvPr id="505" name="Freeform 48"/>
                  <p:cNvSpPr/>
                  <p:nvPr/>
                </p:nvSpPr>
                <p:spPr>
                  <a:xfrm flipH="1" rot="20520000">
                    <a:off x="6711480" y="915840"/>
                    <a:ext cx="86040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6" name="Freeform 49"/>
                  <p:cNvSpPr/>
                  <p:nvPr/>
                </p:nvSpPr>
                <p:spPr>
                  <a:xfrm flipH="1" rot="20520000">
                    <a:off x="6302880" y="1121040"/>
                    <a:ext cx="46152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7" name="Group 50"/>
                <p:cNvGrpSpPr/>
                <p:nvPr/>
              </p:nvGrpSpPr>
              <p:grpSpPr>
                <a:xfrm>
                  <a:off x="6338520" y="749520"/>
                  <a:ext cx="1223640" cy="416160"/>
                  <a:chOff x="6338520" y="749520"/>
                  <a:chExt cx="1223640" cy="416160"/>
                </a:xfrm>
              </p:grpSpPr>
              <p:sp>
                <p:nvSpPr>
                  <p:cNvPr id="508" name="Freeform 51"/>
                  <p:cNvSpPr/>
                  <p:nvPr/>
                </p:nvSpPr>
                <p:spPr>
                  <a:xfrm flipH="1" rot="21136800">
                    <a:off x="6762960" y="801720"/>
                    <a:ext cx="79200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Freeform 52"/>
                  <p:cNvSpPr/>
                  <p:nvPr/>
                </p:nvSpPr>
                <p:spPr>
                  <a:xfrm flipH="1" rot="21136800">
                    <a:off x="6353280" y="887760"/>
                    <a:ext cx="425160" cy="25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0" name="Group 53"/>
                <p:cNvGrpSpPr/>
                <p:nvPr/>
              </p:nvGrpSpPr>
              <p:grpSpPr>
                <a:xfrm>
                  <a:off x="6436440" y="722880"/>
                  <a:ext cx="1106280" cy="184320"/>
                  <a:chOff x="6436440" y="722880"/>
                  <a:chExt cx="1106280" cy="184320"/>
                </a:xfrm>
              </p:grpSpPr>
              <p:sp>
                <p:nvSpPr>
                  <p:cNvPr id="511" name="Freeform 54"/>
                  <p:cNvSpPr/>
                  <p:nvPr/>
                </p:nvSpPr>
                <p:spPr>
                  <a:xfrm flipH="1" rot="84600">
                    <a:off x="6820920" y="73692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3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14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6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17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8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9" name="Group 62"/>
                <p:cNvGrpSpPr/>
                <p:nvPr/>
              </p:nvGrpSpPr>
              <p:grpSpPr>
                <a:xfrm>
                  <a:off x="6752160" y="222120"/>
                  <a:ext cx="901800" cy="627480"/>
                  <a:chOff x="6752160" y="222120"/>
                  <a:chExt cx="901800" cy="627480"/>
                </a:xfrm>
              </p:grpSpPr>
              <p:sp>
                <p:nvSpPr>
                  <p:cNvPr id="520" name="Freeform 63"/>
                  <p:cNvSpPr/>
                  <p:nvPr/>
                </p:nvSpPr>
                <p:spPr>
                  <a:xfrm flipH="1" rot="2028600">
                    <a:off x="7043040" y="572760"/>
                    <a:ext cx="6339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" name="Freeform 64"/>
                  <p:cNvSpPr/>
                  <p:nvPr/>
                </p:nvSpPr>
                <p:spPr>
                  <a:xfrm flipH="1" rot="2028600">
                    <a:off x="6770880" y="302040"/>
                    <a:ext cx="34020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2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523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5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526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7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8" name="Group 71"/>
                <p:cNvGrpSpPr/>
                <p:nvPr/>
              </p:nvGrpSpPr>
              <p:grpSpPr>
                <a:xfrm>
                  <a:off x="7287480" y="-21600"/>
                  <a:ext cx="466200" cy="809640"/>
                  <a:chOff x="7287480" y="-21600"/>
                  <a:chExt cx="466200" cy="809640"/>
                </a:xfrm>
              </p:grpSpPr>
              <p:sp>
                <p:nvSpPr>
                  <p:cNvPr id="529" name="Freeform 72"/>
                  <p:cNvSpPr/>
                  <p:nvPr/>
                </p:nvSpPr>
                <p:spPr>
                  <a:xfrm flipH="1" rot="4126800">
                    <a:off x="7332120" y="459360"/>
                    <a:ext cx="5439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" name="Freeform 73"/>
                  <p:cNvSpPr/>
                  <p:nvPr/>
                </p:nvSpPr>
                <p:spPr>
                  <a:xfrm flipH="1" rot="4126800">
                    <a:off x="7274520" y="59400"/>
                    <a:ext cx="2926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1" name="Group 74"/>
                <p:cNvGrpSpPr/>
                <p:nvPr/>
              </p:nvGrpSpPr>
              <p:grpSpPr>
                <a:xfrm>
                  <a:off x="7792920" y="272160"/>
                  <a:ext cx="964080" cy="462600"/>
                  <a:chOff x="7792920" y="272160"/>
                  <a:chExt cx="964080" cy="462600"/>
                </a:xfrm>
              </p:grpSpPr>
              <p:sp>
                <p:nvSpPr>
                  <p:cNvPr id="532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Freeform 76"/>
                  <p:cNvSpPr/>
                  <p:nvPr/>
                </p:nvSpPr>
                <p:spPr>
                  <a:xfrm rot="20274000">
                    <a:off x="8397000" y="32940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4" name="Group 77"/>
                <p:cNvGrpSpPr/>
                <p:nvPr/>
              </p:nvGrpSpPr>
              <p:grpSpPr>
                <a:xfrm>
                  <a:off x="7737480" y="136080"/>
                  <a:ext cx="916200" cy="605160"/>
                  <a:chOff x="7737480" y="136080"/>
                  <a:chExt cx="916200" cy="605160"/>
                </a:xfrm>
              </p:grpSpPr>
              <p:sp>
                <p:nvSpPr>
                  <p:cNvPr id="535" name="Freeform 78"/>
                  <p:cNvSpPr/>
                  <p:nvPr/>
                </p:nvSpPr>
                <p:spPr>
                  <a:xfrm rot="19678800">
                    <a:off x="7718400" y="470520"/>
                    <a:ext cx="6336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Freeform 79"/>
                  <p:cNvSpPr/>
                  <p:nvPr/>
                </p:nvSpPr>
                <p:spPr>
                  <a:xfrm rot="19678800">
                    <a:off x="8293680" y="212760"/>
                    <a:ext cx="33948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37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8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39" name="Group 82"/>
                <p:cNvGrpSpPr/>
                <p:nvPr/>
              </p:nvGrpSpPr>
              <p:grpSpPr>
                <a:xfrm>
                  <a:off x="7665480" y="-11520"/>
                  <a:ext cx="497520" cy="791280"/>
                  <a:chOff x="7665480" y="-11520"/>
                  <a:chExt cx="497520" cy="791280"/>
                </a:xfrm>
              </p:grpSpPr>
              <p:sp>
                <p:nvSpPr>
                  <p:cNvPr id="540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2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543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5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546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8" name="Group 91"/>
                <p:cNvGrpSpPr/>
                <p:nvPr/>
              </p:nvGrpSpPr>
              <p:grpSpPr>
                <a:xfrm>
                  <a:off x="6711120" y="929880"/>
                  <a:ext cx="913320" cy="1249200"/>
                  <a:chOff x="6711120" y="929880"/>
                  <a:chExt cx="913320" cy="1249200"/>
                </a:xfrm>
              </p:grpSpPr>
              <p:sp>
                <p:nvSpPr>
                  <p:cNvPr id="549" name="Freeform 92"/>
                  <p:cNvSpPr/>
                  <p:nvPr/>
                </p:nvSpPr>
                <p:spPr>
                  <a:xfrm flipH="1" rot="18336000">
                    <a:off x="6859080" y="1256040"/>
                    <a:ext cx="88488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" name="Freeform 93"/>
                  <p:cNvSpPr/>
                  <p:nvPr/>
                </p:nvSpPr>
                <p:spPr>
                  <a:xfrm flipH="1" rot="18336000">
                    <a:off x="6713640" y="178740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1" name="Group 94"/>
                <p:cNvGrpSpPr/>
                <p:nvPr/>
              </p:nvGrpSpPr>
              <p:grpSpPr>
                <a:xfrm>
                  <a:off x="7014960" y="979200"/>
                  <a:ext cx="616680" cy="1248120"/>
                  <a:chOff x="7014960" y="979200"/>
                  <a:chExt cx="616680" cy="1248120"/>
                </a:xfrm>
              </p:grpSpPr>
              <p:sp>
                <p:nvSpPr>
                  <p:cNvPr id="552" name="Freeform 95"/>
                  <p:cNvSpPr/>
                  <p:nvPr/>
                </p:nvSpPr>
                <p:spPr>
                  <a:xfrm flipH="1" rot="17543400">
                    <a:off x="6991560" y="1307880"/>
                    <a:ext cx="8190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4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555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7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558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0" name="Group 103"/>
                <p:cNvGrpSpPr/>
                <p:nvPr/>
              </p:nvGrpSpPr>
              <p:grpSpPr>
                <a:xfrm>
                  <a:off x="7786800" y="956160"/>
                  <a:ext cx="732600" cy="1261800"/>
                  <a:chOff x="7786800" y="956160"/>
                  <a:chExt cx="732600" cy="1261800"/>
                </a:xfrm>
              </p:grpSpPr>
              <p:sp>
                <p:nvSpPr>
                  <p:cNvPr id="561" name="Freeform 104"/>
                  <p:cNvSpPr/>
                  <p:nvPr/>
                </p:nvSpPr>
                <p:spPr>
                  <a:xfrm rot="3745200">
                    <a:off x="7627320" y="1289520"/>
                    <a:ext cx="84600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3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564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6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567" name="Freeform 110"/>
                  <p:cNvSpPr/>
                  <p:nvPr/>
                </p:nvSpPr>
                <p:spPr>
                  <a:xfrm rot="4898400">
                    <a:off x="7473240" y="1377720"/>
                    <a:ext cx="7545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8" name="Freeform 111"/>
                  <p:cNvSpPr/>
                  <p:nvPr/>
                </p:nvSpPr>
                <p:spPr>
                  <a:xfrm rot="4898400">
                    <a:off x="7693560" y="1900440"/>
                    <a:ext cx="40500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9" name="Group 112"/>
                <p:cNvGrpSpPr/>
                <p:nvPr/>
              </p:nvGrpSpPr>
              <p:grpSpPr>
                <a:xfrm>
                  <a:off x="7500960" y="1077840"/>
                  <a:ext cx="276120" cy="1131480"/>
                  <a:chOff x="7500960" y="1077840"/>
                  <a:chExt cx="276120" cy="1131480"/>
                </a:xfrm>
              </p:grpSpPr>
              <p:sp>
                <p:nvSpPr>
                  <p:cNvPr id="570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" name="Freeform 114"/>
                  <p:cNvSpPr/>
                  <p:nvPr/>
                </p:nvSpPr>
                <p:spPr>
                  <a:xfrm rot="5755200">
                    <a:off x="7398720" y="1929240"/>
                    <a:ext cx="39528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72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Arc 116"/>
              <p:cNvSpPr/>
              <p:nvPr/>
            </p:nvSpPr>
            <p:spPr>
              <a:xfrm flipH="1">
                <a:off x="6843240" y="94896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Arc 118"/>
              <p:cNvSpPr/>
              <p:nvPr/>
            </p:nvSpPr>
            <p:spPr>
              <a:xfrm flipH="1">
                <a:off x="6954480" y="759240"/>
                <a:ext cx="63576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Arc 119"/>
              <p:cNvSpPr/>
              <p:nvPr/>
            </p:nvSpPr>
            <p:spPr>
              <a:xfrm flipH="1">
                <a:off x="6502320" y="821880"/>
                <a:ext cx="1035000" cy="121860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Arc 123"/>
              <p:cNvSpPr/>
              <p:nvPr/>
            </p:nvSpPr>
            <p:spPr>
              <a:xfrm>
                <a:off x="785772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Freeform 124"/>
              <p:cNvSpPr/>
              <p:nvPr/>
            </p:nvSpPr>
            <p:spPr>
              <a:xfrm>
                <a:off x="7998840" y="1351800"/>
                <a:ext cx="24696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Freeform 125"/>
              <p:cNvSpPr/>
              <p:nvPr/>
            </p:nvSpPr>
            <p:spPr>
              <a:xfrm flipV="1" rot="19660800">
                <a:off x="7611120" y="1102680"/>
                <a:ext cx="224640" cy="42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Arc 127"/>
              <p:cNvSpPr/>
              <p:nvPr/>
            </p:nvSpPr>
            <p:spPr>
              <a:xfrm flipH="1">
                <a:off x="6710400" y="159480"/>
                <a:ext cx="94716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Arc 128"/>
              <p:cNvSpPr/>
              <p:nvPr/>
            </p:nvSpPr>
            <p:spPr>
              <a:xfrm>
                <a:off x="7722360" y="657000"/>
                <a:ext cx="390240" cy="118188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Freeform 133"/>
              <p:cNvSpPr/>
              <p:nvPr/>
            </p:nvSpPr>
            <p:spPr>
              <a:xfrm>
                <a:off x="8294400" y="753840"/>
                <a:ext cx="777600" cy="546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Freeform 134"/>
              <p:cNvSpPr/>
              <p:nvPr/>
            </p:nvSpPr>
            <p:spPr>
              <a:xfrm>
                <a:off x="8323200" y="172440"/>
                <a:ext cx="340200" cy="7340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50480-ACA9-4960-80F9-3A0525B1FBEE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5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636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4" name="PlaceHolder 1"/>
          <p:cNvSpPr>
            <a:spLocks noGrp="1"/>
          </p:cNvSpPr>
          <p:nvPr>
            <p:ph type="dt" idx="3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ftr" idx="3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 type="sldNum" idx="3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2549E-122E-4129-84D7-37BAC81FC8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 type="dt" idx="3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22683-E1BC-4A70-9943-BCA242A62B3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8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729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5A08A-9A62-4D3A-9358-8E71E2AE1D4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 type="ftr" idx="4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 type="sldNum" idx="4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F9A7A-3E5D-43D1-BD60-1D533C6340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 type="dt" idx="4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7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818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8E37C-8B7E-4B9B-8F0D-835D60400BF1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2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863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66282-26EC-4756-BD73-DD250B89C674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6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907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 type="dt" idx="52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 type="ftr" idx="53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 type="sldNum" idx="54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014AF-3BCD-437D-997D-D4B1B23B1A9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1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52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953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4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55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956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99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7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9900ff"/>
                  </a:gs>
                  <a:gs pos="100000">
                    <a:srgbClr val="0000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58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0000cc"/>
                </a:gs>
                <a:gs pos="100000">
                  <a:srgbClr val="ff33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0000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000094"/>
                </a:gs>
                <a:gs pos="100000">
                  <a:srgbClr val="00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193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 type="dt" idx="55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 type="ftr" idx="56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 type="sldNum" idx="57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E31AB-8358-44F3-B7E5-A7BF5B9C3B91}" type="slidenum">
              <a:rPr b="0" lang="ru-RU" sz="1400" spc="-1" strike="noStrike">
                <a:solidFill>
                  <a:srgbClr val="000094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3D858-4BA1-4EAB-8B14-608C3AD15255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 type="dt" idx="5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 type="ftr" idx="59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6FA9D-B507-4ACF-9C2A-CEDD7DA42FD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 type="dt" idx="6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 type="ftr" idx="62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5"/>
          <p:cNvSpPr>
            <a:spLocks noGrp="1"/>
          </p:cNvSpPr>
          <p:nvPr>
            <p:ph type="sldNum" idx="63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053E8-DBF3-46F8-BEE4-9CD26AF94B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9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90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2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3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94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95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96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7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8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9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0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01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02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03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5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6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 type="dt" idx="6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 type="sldNum" idx="6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F7C56-D8B0-48CF-BA68-64A32C5645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5"/>
          <p:cNvSpPr>
            <a:spLocks noGrp="1"/>
          </p:cNvSpPr>
          <p:nvPr>
            <p:ph type="ftr" idx="6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1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1152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6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7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 type="dt" idx="6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B4E25-4BCC-4E1A-A3CF-9E3433C949D0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9" name="Group 2"/>
          <p:cNvGrpSpPr/>
          <p:nvPr/>
        </p:nvGrpSpPr>
        <p:grpSpPr>
          <a:xfrm>
            <a:off x="2010960" y="245160"/>
            <a:ext cx="6895800" cy="5452200"/>
            <a:chOff x="2010960" y="245160"/>
            <a:chExt cx="6895800" cy="5452200"/>
          </a:xfrm>
        </p:grpSpPr>
        <p:grpSp>
          <p:nvGrpSpPr>
            <p:cNvPr id="1200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1201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Oval 5"/>
              <p:cNvSpPr/>
              <p:nvPr/>
            </p:nvSpPr>
            <p:spPr>
              <a:xfrm>
                <a:off x="3823920" y="1265760"/>
                <a:ext cx="22896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3" name="Group 6"/>
            <p:cNvGrpSpPr/>
            <p:nvPr/>
          </p:nvGrpSpPr>
          <p:grpSpPr>
            <a:xfrm>
              <a:off x="2010960" y="245160"/>
              <a:ext cx="6895800" cy="5452200"/>
              <a:chOff x="2010960" y="245160"/>
              <a:chExt cx="6895800" cy="5452200"/>
            </a:xfrm>
          </p:grpSpPr>
          <p:grpSp>
            <p:nvGrpSpPr>
              <p:cNvPr id="1204" name="Group 7"/>
              <p:cNvGrpSpPr/>
              <p:nvPr/>
            </p:nvGrpSpPr>
            <p:grpSpPr>
              <a:xfrm>
                <a:off x="2010960" y="245160"/>
                <a:ext cx="6891120" cy="5452200"/>
                <a:chOff x="2010960" y="245160"/>
                <a:chExt cx="6891120" cy="5452200"/>
              </a:xfrm>
            </p:grpSpPr>
            <p:grpSp>
              <p:nvGrpSpPr>
                <p:cNvPr id="1205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206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7" name="Oval 10"/>
                  <p:cNvSpPr/>
                  <p:nvPr/>
                </p:nvSpPr>
                <p:spPr>
                  <a:xfrm>
                    <a:off x="5109480" y="223560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8" name="Group 11"/>
                <p:cNvGrpSpPr/>
                <p:nvPr/>
              </p:nvGrpSpPr>
              <p:grpSpPr>
                <a:xfrm>
                  <a:off x="2010960" y="245160"/>
                  <a:ext cx="6891120" cy="5452200"/>
                  <a:chOff x="2010960" y="245160"/>
                  <a:chExt cx="6891120" cy="5452200"/>
                </a:xfrm>
              </p:grpSpPr>
              <p:grpSp>
                <p:nvGrpSpPr>
                  <p:cNvPr id="1209" name="Group 12"/>
                  <p:cNvGrpSpPr/>
                  <p:nvPr/>
                </p:nvGrpSpPr>
                <p:grpSpPr>
                  <a:xfrm>
                    <a:off x="5761440" y="2322360"/>
                    <a:ext cx="2558880" cy="2742480"/>
                    <a:chOff x="5761440" y="2322360"/>
                    <a:chExt cx="2558880" cy="2742480"/>
                  </a:xfrm>
                </p:grpSpPr>
                <p:sp>
                  <p:nvSpPr>
                    <p:cNvPr id="1210" name="Freeform 13"/>
                    <p:cNvSpPr/>
                    <p:nvPr/>
                  </p:nvSpPr>
                  <p:spPr>
                    <a:xfrm rot="2711400">
                      <a:off x="5583960" y="3020040"/>
                      <a:ext cx="21276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1" name="Freeform 14"/>
                    <p:cNvSpPr/>
                    <p:nvPr/>
                  </p:nvSpPr>
                  <p:spPr>
                    <a:xfrm rot="2711400">
                      <a:off x="7134120" y="4145400"/>
                      <a:ext cx="114012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12" name="Group 15"/>
                  <p:cNvGrpSpPr/>
                  <p:nvPr/>
                </p:nvGrpSpPr>
                <p:grpSpPr>
                  <a:xfrm>
                    <a:off x="5787720" y="2148120"/>
                    <a:ext cx="3040560" cy="2529720"/>
                    <a:chOff x="5787720" y="2148120"/>
                    <a:chExt cx="3040560" cy="2529720"/>
                  </a:xfrm>
                </p:grpSpPr>
                <p:sp>
                  <p:nvSpPr>
                    <p:cNvPr id="1213" name="Freeform 16"/>
                    <p:cNvSpPr/>
                    <p:nvPr/>
                  </p:nvSpPr>
                  <p:spPr>
                    <a:xfrm rot="2103600">
                      <a:off x="5707440" y="2751480"/>
                      <a:ext cx="2236320" cy="42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4" name="Freeform 17"/>
                    <p:cNvSpPr/>
                    <p:nvPr/>
                  </p:nvSpPr>
                  <p:spPr>
                    <a:xfrm rot="2103600">
                      <a:off x="7542720" y="3721680"/>
                      <a:ext cx="1201320" cy="67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15" name="Group 18"/>
                  <p:cNvGrpSpPr/>
                  <p:nvPr/>
                </p:nvGrpSpPr>
                <p:grpSpPr>
                  <a:xfrm>
                    <a:off x="5776200" y="2065680"/>
                    <a:ext cx="3096360" cy="1991880"/>
                    <a:chOff x="5776200" y="2065680"/>
                    <a:chExt cx="3096360" cy="1991880"/>
                  </a:xfrm>
                </p:grpSpPr>
                <p:sp>
                  <p:nvSpPr>
                    <p:cNvPr id="1216" name="Freeform 19"/>
                    <p:cNvSpPr/>
                    <p:nvPr/>
                  </p:nvSpPr>
                  <p:spPr>
                    <a:xfrm rot="1582800">
                      <a:off x="5747760" y="2521440"/>
                      <a:ext cx="213984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7" name="Freeform 20"/>
                    <p:cNvSpPr/>
                    <p:nvPr/>
                  </p:nvSpPr>
                  <p:spPr>
                    <a:xfrm rot="1582800">
                      <a:off x="7652880" y="3246120"/>
                      <a:ext cx="114876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18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219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0" name="Freeform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21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222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3" name="Freeform 26"/>
                    <p:cNvSpPr/>
                    <p:nvPr/>
                  </p:nvSpPr>
                  <p:spPr>
                    <a:xfrm rot="463200">
                      <a:off x="7686360" y="2212920"/>
                      <a:ext cx="102384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24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1225" name="Freeform 28"/>
                    <p:cNvSpPr/>
                    <p:nvPr/>
                  </p:nvSpPr>
                  <p:spPr>
                    <a:xfrm rot="21515400">
                      <a:off x="5854320" y="185256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6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27" name="Group 30"/>
                  <p:cNvGrpSpPr/>
                  <p:nvPr/>
                </p:nvGrpSpPr>
                <p:grpSpPr>
                  <a:xfrm>
                    <a:off x="5788440" y="1303920"/>
                    <a:ext cx="2364120" cy="786960"/>
                    <a:chOff x="5788440" y="1303920"/>
                    <a:chExt cx="2364120" cy="786960"/>
                  </a:xfrm>
                </p:grpSpPr>
                <p:sp>
                  <p:nvSpPr>
                    <p:cNvPr id="1228" name="Freeform 31"/>
                    <p:cNvSpPr/>
                    <p:nvPr/>
                  </p:nvSpPr>
                  <p:spPr>
                    <a:xfrm rot="20797200">
                      <a:off x="5798160" y="165312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9" name="Freeform 32"/>
                    <p:cNvSpPr/>
                    <p:nvPr/>
                  </p:nvSpPr>
                  <p:spPr>
                    <a:xfrm rot="20797200">
                      <a:off x="7298640" y="1392480"/>
                      <a:ext cx="81648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30" name="Group 33"/>
                  <p:cNvGrpSpPr/>
                  <p:nvPr/>
                </p:nvGrpSpPr>
                <p:grpSpPr>
                  <a:xfrm>
                    <a:off x="2646360" y="2473920"/>
                    <a:ext cx="2556720" cy="2741760"/>
                    <a:chOff x="2646360" y="2473920"/>
                    <a:chExt cx="2556720" cy="2741760"/>
                  </a:xfrm>
                </p:grpSpPr>
                <p:sp>
                  <p:nvSpPr>
                    <p:cNvPr id="1231" name="Freeform 34"/>
                    <p:cNvSpPr/>
                    <p:nvPr/>
                  </p:nvSpPr>
                  <p:spPr>
                    <a:xfrm flipH="1" rot="18888600">
                      <a:off x="3253680" y="3170880"/>
                      <a:ext cx="21258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2" name="Freeform 35"/>
                    <p:cNvSpPr/>
                    <p:nvPr/>
                  </p:nvSpPr>
                  <p:spPr>
                    <a:xfrm flipH="1" rot="18888600">
                      <a:off x="2691360" y="4295520"/>
                      <a:ext cx="11415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33" name="Group 36"/>
                  <p:cNvGrpSpPr/>
                  <p:nvPr/>
                </p:nvGrpSpPr>
                <p:grpSpPr>
                  <a:xfrm>
                    <a:off x="2085120" y="2366640"/>
                    <a:ext cx="3040200" cy="2530080"/>
                    <a:chOff x="2085120" y="2366640"/>
                    <a:chExt cx="3040200" cy="2530080"/>
                  </a:xfrm>
                </p:grpSpPr>
                <p:sp>
                  <p:nvSpPr>
                    <p:cNvPr id="1234" name="Freeform 37"/>
                    <p:cNvSpPr/>
                    <p:nvPr/>
                  </p:nvSpPr>
                  <p:spPr>
                    <a:xfrm flipH="1" rot="19496400">
                      <a:off x="2968560" y="2970000"/>
                      <a:ext cx="223632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5" name="Freeform 38"/>
                    <p:cNvSpPr/>
                    <p:nvPr/>
                  </p:nvSpPr>
                  <p:spPr>
                    <a:xfrm flipH="1" rot="19496400">
                      <a:off x="2168280" y="3940920"/>
                      <a:ext cx="1201320" cy="67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36" name="Group 39"/>
                  <p:cNvGrpSpPr/>
                  <p:nvPr/>
                </p:nvGrpSpPr>
                <p:grpSpPr>
                  <a:xfrm>
                    <a:off x="2040120" y="2283480"/>
                    <a:ext cx="3097080" cy="1992240"/>
                    <a:chOff x="2040120" y="2283480"/>
                    <a:chExt cx="3097080" cy="1992240"/>
                  </a:xfrm>
                </p:grpSpPr>
                <p:sp>
                  <p:nvSpPr>
                    <p:cNvPr id="1237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8" name="Freeform 41"/>
                    <p:cNvSpPr/>
                    <p:nvPr/>
                  </p:nvSpPr>
                  <p:spPr>
                    <a:xfrm flipH="1" rot="20017200">
                      <a:off x="2110320" y="346392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39" name="Group 42"/>
                  <p:cNvGrpSpPr/>
                  <p:nvPr/>
                </p:nvGrpSpPr>
                <p:grpSpPr>
                  <a:xfrm>
                    <a:off x="2010960" y="2188440"/>
                    <a:ext cx="3134160" cy="1608120"/>
                    <a:chOff x="2010960" y="2188440"/>
                    <a:chExt cx="3134160" cy="1608120"/>
                  </a:xfrm>
                </p:grpSpPr>
                <p:sp>
                  <p:nvSpPr>
                    <p:cNvPr id="1240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1" name="Freeform 44"/>
                    <p:cNvSpPr/>
                    <p:nvPr/>
                  </p:nvSpPr>
                  <p:spPr>
                    <a:xfrm flipH="1" rot="20520000">
                      <a:off x="2084040" y="299088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42" name="Group 45"/>
                  <p:cNvGrpSpPr/>
                  <p:nvPr/>
                </p:nvGrpSpPr>
                <p:grpSpPr>
                  <a:xfrm>
                    <a:off x="2166840" y="2097720"/>
                    <a:ext cx="2940480" cy="1002600"/>
                    <a:chOff x="2166840" y="2097720"/>
                    <a:chExt cx="2940480" cy="1002600"/>
                  </a:xfrm>
                </p:grpSpPr>
                <p:sp>
                  <p:nvSpPr>
                    <p:cNvPr id="1243" name="Freeform 46"/>
                    <p:cNvSpPr/>
                    <p:nvPr/>
                  </p:nvSpPr>
                  <p:spPr>
                    <a:xfrm flipH="1" rot="21136800">
                      <a:off x="3184920" y="2223720"/>
                      <a:ext cx="1905120" cy="38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4" name="Freeform 47"/>
                    <p:cNvSpPr/>
                    <p:nvPr/>
                  </p:nvSpPr>
                  <p:spPr>
                    <a:xfrm flipH="1" rot="21136800">
                      <a:off x="2202480" y="2430000"/>
                      <a:ext cx="102420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45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1246" name="Freeform 49"/>
                    <p:cNvSpPr/>
                    <p:nvPr/>
                  </p:nvSpPr>
                  <p:spPr>
                    <a:xfrm flipH="1" rot="84600">
                      <a:off x="3327840" y="2070720"/>
                      <a:ext cx="1730880" cy="26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7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48" name="Group 51"/>
                  <p:cNvGrpSpPr/>
                  <p:nvPr/>
                </p:nvGrpSpPr>
                <p:grpSpPr>
                  <a:xfrm>
                    <a:off x="2761200" y="1522440"/>
                    <a:ext cx="2363400" cy="787320"/>
                    <a:chOff x="2761200" y="1522440"/>
                    <a:chExt cx="2363400" cy="787320"/>
                  </a:xfrm>
                </p:grpSpPr>
                <p:sp>
                  <p:nvSpPr>
                    <p:cNvPr id="1249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0" name="Freeform 53"/>
                    <p:cNvSpPr/>
                    <p:nvPr/>
                  </p:nvSpPr>
                  <p:spPr>
                    <a:xfrm flipH="1" rot="802800">
                      <a:off x="2798280" y="1611000"/>
                      <a:ext cx="81612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51" name="Group 54"/>
                  <p:cNvGrpSpPr/>
                  <p:nvPr/>
                </p:nvGrpSpPr>
                <p:grpSpPr>
                  <a:xfrm>
                    <a:off x="2887560" y="1236600"/>
                    <a:ext cx="2324880" cy="1083960"/>
                    <a:chOff x="2887560" y="1236600"/>
                    <a:chExt cx="2324880" cy="1083960"/>
                  </a:xfrm>
                </p:grpSpPr>
                <p:sp>
                  <p:nvSpPr>
                    <p:cNvPr id="1252" name="Freeform 55"/>
                    <p:cNvSpPr/>
                    <p:nvPr/>
                  </p:nvSpPr>
                  <p:spPr>
                    <a:xfrm flipH="1" rot="1278000">
                      <a:off x="3695040" y="1787760"/>
                      <a:ext cx="152100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3" name="Freeform 56"/>
                    <p:cNvSpPr/>
                    <p:nvPr/>
                  </p:nvSpPr>
                  <p:spPr>
                    <a:xfrm flipH="1" rot="1278000">
                      <a:off x="2935080" y="1370520"/>
                      <a:ext cx="81684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54" name="Group 57"/>
                  <p:cNvGrpSpPr/>
                  <p:nvPr/>
                </p:nvGrpSpPr>
                <p:grpSpPr>
                  <a:xfrm>
                    <a:off x="3161160" y="831240"/>
                    <a:ext cx="2170080" cy="1508040"/>
                    <a:chOff x="3161160" y="831240"/>
                    <a:chExt cx="2170080" cy="1508040"/>
                  </a:xfrm>
                </p:grpSpPr>
                <p:sp>
                  <p:nvSpPr>
                    <p:cNvPr id="1255" name="Freeform 58"/>
                    <p:cNvSpPr/>
                    <p:nvPr/>
                  </p:nvSpPr>
                  <p:spPr>
                    <a:xfrm flipH="1" rot="2028600">
                      <a:off x="3864960" y="167328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6" name="Freeform 59"/>
                    <p:cNvSpPr/>
                    <p:nvPr/>
                  </p:nvSpPr>
                  <p:spPr>
                    <a:xfrm flipH="1" rot="2028600">
                      <a:off x="3207600" y="1022760"/>
                      <a:ext cx="81612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57" name="Group 60"/>
                  <p:cNvGrpSpPr/>
                  <p:nvPr/>
                </p:nvGrpSpPr>
                <p:grpSpPr>
                  <a:xfrm>
                    <a:off x="3437280" y="436320"/>
                    <a:ext cx="1987560" cy="1831320"/>
                    <a:chOff x="3437280" y="436320"/>
                    <a:chExt cx="1987560" cy="1831320"/>
                  </a:xfrm>
                </p:grpSpPr>
                <p:sp>
                  <p:nvSpPr>
                    <p:cNvPr id="1258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9" name="Freeform 62"/>
                    <p:cNvSpPr/>
                    <p:nvPr/>
                  </p:nvSpPr>
                  <p:spPr>
                    <a:xfrm flipH="1" rot="2664600">
                      <a:off x="3464280" y="666360"/>
                      <a:ext cx="82836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60" name="Group 63"/>
                  <p:cNvGrpSpPr/>
                  <p:nvPr/>
                </p:nvGrpSpPr>
                <p:grpSpPr>
                  <a:xfrm>
                    <a:off x="4027320" y="335160"/>
                    <a:ext cx="1460520" cy="1886400"/>
                    <a:chOff x="4027320" y="335160"/>
                    <a:chExt cx="1460520" cy="1886400"/>
                  </a:xfrm>
                </p:grpSpPr>
                <p:sp>
                  <p:nvSpPr>
                    <p:cNvPr id="1261" name="Freeform 64"/>
                    <p:cNvSpPr/>
                    <p:nvPr/>
                  </p:nvSpPr>
                  <p:spPr>
                    <a:xfrm flipH="1" rot="3474000">
                      <a:off x="4337640" y="1444320"/>
                      <a:ext cx="13557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2" name="Freeform 65"/>
                    <p:cNvSpPr/>
                    <p:nvPr/>
                  </p:nvSpPr>
                  <p:spPr>
                    <a:xfrm flipH="1" rot="3474000">
                      <a:off x="4032720" y="545400"/>
                      <a:ext cx="72756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63" name="Group 66"/>
                  <p:cNvGrpSpPr/>
                  <p:nvPr/>
                </p:nvGrpSpPr>
                <p:grpSpPr>
                  <a:xfrm>
                    <a:off x="4448160" y="245160"/>
                    <a:ext cx="1122120" cy="1946520"/>
                    <a:chOff x="4448160" y="245160"/>
                    <a:chExt cx="1122120" cy="1946520"/>
                  </a:xfrm>
                </p:grpSpPr>
                <p:sp>
                  <p:nvSpPr>
                    <p:cNvPr id="1264" name="Freeform 67"/>
                    <p:cNvSpPr/>
                    <p:nvPr/>
                  </p:nvSpPr>
                  <p:spPr>
                    <a:xfrm flipH="1" rot="4126800">
                      <a:off x="4556520" y="1402200"/>
                      <a:ext cx="1307160" cy="26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5" name="Freeform 68"/>
                    <p:cNvSpPr/>
                    <p:nvPr/>
                  </p:nvSpPr>
                  <p:spPr>
                    <a:xfrm flipH="1" rot="4126800">
                      <a:off x="4417200" y="439920"/>
                      <a:ext cx="70236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66" name="Group 69"/>
                  <p:cNvGrpSpPr/>
                  <p:nvPr/>
                </p:nvGrpSpPr>
                <p:grpSpPr>
                  <a:xfrm>
                    <a:off x="5661720" y="952200"/>
                    <a:ext cx="2316960" cy="1112400"/>
                    <a:chOff x="5661720" y="952200"/>
                    <a:chExt cx="2316960" cy="1112400"/>
                  </a:xfrm>
                </p:grpSpPr>
                <p:sp>
                  <p:nvSpPr>
                    <p:cNvPr id="1267" name="Freeform 70"/>
                    <p:cNvSpPr/>
                    <p:nvPr/>
                  </p:nvSpPr>
                  <p:spPr>
                    <a:xfrm rot="20274000">
                      <a:off x="5655600" y="1523520"/>
                      <a:ext cx="15192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8" name="Freeform 71"/>
                    <p:cNvSpPr/>
                    <p:nvPr/>
                  </p:nvSpPr>
                  <p:spPr>
                    <a:xfrm rot="20274000">
                      <a:off x="7112880" y="1090440"/>
                      <a:ext cx="81684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69" name="Group 72"/>
                  <p:cNvGrpSpPr/>
                  <p:nvPr/>
                </p:nvGrpSpPr>
                <p:grpSpPr>
                  <a:xfrm>
                    <a:off x="5529600" y="626760"/>
                    <a:ext cx="2199600" cy="1450800"/>
                    <a:chOff x="5529600" y="626760"/>
                    <a:chExt cx="2199600" cy="1450800"/>
                  </a:xfrm>
                </p:grpSpPr>
                <p:sp>
                  <p:nvSpPr>
                    <p:cNvPr id="1270" name="Freeform 73"/>
                    <p:cNvSpPr/>
                    <p:nvPr/>
                  </p:nvSpPr>
                  <p:spPr>
                    <a:xfrm rot="19678800">
                      <a:off x="5484240" y="1429920"/>
                      <a:ext cx="15192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1" name="Freeform 74"/>
                    <p:cNvSpPr/>
                    <p:nvPr/>
                  </p:nvSpPr>
                  <p:spPr>
                    <a:xfrm rot="19678800">
                      <a:off x="6864480" y="810720"/>
                      <a:ext cx="81576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72" name="Freeform 75"/>
                  <p:cNvSpPr/>
                  <p:nvPr/>
                </p:nvSpPr>
                <p:spPr>
                  <a:xfrm flipH="1" rot="4578600">
                    <a:off x="4767480" y="1466640"/>
                    <a:ext cx="126504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3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74" name="Group 77"/>
                  <p:cNvGrpSpPr/>
                  <p:nvPr/>
                </p:nvGrpSpPr>
                <p:grpSpPr>
                  <a:xfrm>
                    <a:off x="5355720" y="270360"/>
                    <a:ext cx="1196280" cy="1901160"/>
                    <a:chOff x="5355720" y="270360"/>
                    <a:chExt cx="1196280" cy="1901160"/>
                  </a:xfrm>
                </p:grpSpPr>
                <p:sp>
                  <p:nvSpPr>
                    <p:cNvPr id="1275" name="Freeform 78"/>
                    <p:cNvSpPr/>
                    <p:nvPr/>
                  </p:nvSpPr>
                  <p:spPr>
                    <a:xfrm rot="17742000">
                      <a:off x="5087160" y="1418400"/>
                      <a:ext cx="1309680" cy="22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6" name="Freeform 79"/>
                    <p:cNvSpPr/>
                    <p:nvPr/>
                  </p:nvSpPr>
                  <p:spPr>
                    <a:xfrm rot="17742000">
                      <a:off x="5888520" y="486000"/>
                      <a:ext cx="702360" cy="35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77" name="Group 80"/>
                  <p:cNvGrpSpPr/>
                  <p:nvPr/>
                </p:nvGrpSpPr>
                <p:grpSpPr>
                  <a:xfrm>
                    <a:off x="5347440" y="389160"/>
                    <a:ext cx="1892520" cy="1796400"/>
                    <a:chOff x="5347440" y="389160"/>
                    <a:chExt cx="1892520" cy="1796400"/>
                  </a:xfrm>
                </p:grpSpPr>
                <p:sp>
                  <p:nvSpPr>
                    <p:cNvPr id="1278" name="Freeform 81"/>
                    <p:cNvSpPr/>
                    <p:nvPr/>
                  </p:nvSpPr>
                  <p:spPr>
                    <a:xfrm rot="18822600">
                      <a:off x="5247360" y="1388880"/>
                      <a:ext cx="1424880" cy="33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9" name="Freeform 82"/>
                    <p:cNvSpPr/>
                    <p:nvPr/>
                  </p:nvSpPr>
                  <p:spPr>
                    <a:xfrm rot="18822600">
                      <a:off x="6403320" y="585000"/>
                      <a:ext cx="766080" cy="522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80" name="Group 83"/>
                  <p:cNvGrpSpPr/>
                  <p:nvPr/>
                </p:nvGrpSpPr>
                <p:grpSpPr>
                  <a:xfrm>
                    <a:off x="5458320" y="292680"/>
                    <a:ext cx="427320" cy="1795680"/>
                    <a:chOff x="5458320" y="292680"/>
                    <a:chExt cx="427320" cy="1795680"/>
                  </a:xfrm>
                </p:grpSpPr>
                <p:sp>
                  <p:nvSpPr>
                    <p:cNvPr id="1281" name="Freeform 84"/>
                    <p:cNvSpPr/>
                    <p:nvPr/>
                  </p:nvSpPr>
                  <p:spPr>
                    <a:xfrm rot="16696200">
                      <a:off x="5007600" y="1445400"/>
                      <a:ext cx="117576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2" name="Freeform 85"/>
                    <p:cNvSpPr/>
                    <p:nvPr/>
                  </p:nvSpPr>
                  <p:spPr>
                    <a:xfrm rot="16696200">
                      <a:off x="5442480" y="533520"/>
                      <a:ext cx="631080" cy="1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83" name="Group 86"/>
                  <p:cNvGrpSpPr/>
                  <p:nvPr/>
                </p:nvGrpSpPr>
                <p:grpSpPr>
                  <a:xfrm>
                    <a:off x="3062520" y="2530800"/>
                    <a:ext cx="2196000" cy="3002400"/>
                    <a:chOff x="3062520" y="2530800"/>
                    <a:chExt cx="2196000" cy="3002400"/>
                  </a:xfrm>
                </p:grpSpPr>
                <p:sp>
                  <p:nvSpPr>
                    <p:cNvPr id="1284" name="Freeform 87"/>
                    <p:cNvSpPr/>
                    <p:nvPr/>
                  </p:nvSpPr>
                  <p:spPr>
                    <a:xfrm flipH="1" rot="18336000">
                      <a:off x="3419640" y="3314880"/>
                      <a:ext cx="2126520" cy="38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5" name="Freeform 88"/>
                    <p:cNvSpPr/>
                    <p:nvPr/>
                  </p:nvSpPr>
                  <p:spPr>
                    <a:xfrm flipH="1" rot="18336000">
                      <a:off x="3069720" y="4591800"/>
                      <a:ext cx="113904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86" name="Group 89"/>
                  <p:cNvGrpSpPr/>
                  <p:nvPr/>
                </p:nvGrpSpPr>
                <p:grpSpPr>
                  <a:xfrm>
                    <a:off x="3791520" y="2650680"/>
                    <a:ext cx="1482120" cy="2999880"/>
                    <a:chOff x="3791520" y="2650680"/>
                    <a:chExt cx="1482120" cy="2999880"/>
                  </a:xfrm>
                </p:grpSpPr>
                <p:sp>
                  <p:nvSpPr>
                    <p:cNvPr id="1287" name="Freeform 90"/>
                    <p:cNvSpPr/>
                    <p:nvPr/>
                  </p:nvSpPr>
                  <p:spPr>
                    <a:xfrm flipH="1" rot="17543400">
                      <a:off x="3737520" y="3441240"/>
                      <a:ext cx="1967400" cy="38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8" name="Freeform 91"/>
                    <p:cNvSpPr/>
                    <p:nvPr/>
                  </p:nvSpPr>
                  <p:spPr>
                    <a:xfrm flipH="1" rot="17543400">
                      <a:off x="3743640" y="4745160"/>
                      <a:ext cx="105588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89" name="Group 92"/>
                  <p:cNvGrpSpPr/>
                  <p:nvPr/>
                </p:nvGrpSpPr>
                <p:grpSpPr>
                  <a:xfrm>
                    <a:off x="4509000" y="2703600"/>
                    <a:ext cx="874080" cy="2926800"/>
                    <a:chOff x="4509000" y="2703600"/>
                    <a:chExt cx="874080" cy="2926800"/>
                  </a:xfrm>
                </p:grpSpPr>
                <p:sp>
                  <p:nvSpPr>
                    <p:cNvPr id="1290" name="Freeform 93"/>
                    <p:cNvSpPr/>
                    <p:nvPr/>
                  </p:nvSpPr>
                  <p:spPr>
                    <a:xfrm flipH="1" rot="16870800">
                      <a:off x="4087080" y="3489480"/>
                      <a:ext cx="188676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1" name="Freeform 94"/>
                    <p:cNvSpPr/>
                    <p:nvPr/>
                  </p:nvSpPr>
                  <p:spPr>
                    <a:xfrm flipH="1" rot="16870800">
                      <a:off x="4366800" y="4809600"/>
                      <a:ext cx="1012320" cy="54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92" name="Group 95"/>
                  <p:cNvGrpSpPr/>
                  <p:nvPr/>
                </p:nvGrpSpPr>
                <p:grpSpPr>
                  <a:xfrm>
                    <a:off x="5677920" y="2483640"/>
                    <a:ext cx="2280600" cy="2952720"/>
                    <a:chOff x="5677920" y="2483640"/>
                    <a:chExt cx="2280600" cy="2952720"/>
                  </a:xfrm>
                </p:grpSpPr>
                <p:sp>
                  <p:nvSpPr>
                    <p:cNvPr id="1293" name="Freeform 96"/>
                    <p:cNvSpPr/>
                    <p:nvPr/>
                  </p:nvSpPr>
                  <p:spPr>
                    <a:xfrm rot="3144000">
                      <a:off x="5415120" y="3251160"/>
                      <a:ext cx="212652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4" name="Freeform 97"/>
                    <p:cNvSpPr/>
                    <p:nvPr/>
                  </p:nvSpPr>
                  <p:spPr>
                    <a:xfrm rot="3144000">
                      <a:off x="6801480" y="4498560"/>
                      <a:ext cx="11397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95" name="Group 98"/>
                  <p:cNvGrpSpPr/>
                  <p:nvPr/>
                </p:nvGrpSpPr>
                <p:grpSpPr>
                  <a:xfrm>
                    <a:off x="5647680" y="2593440"/>
                    <a:ext cx="1758600" cy="3032640"/>
                    <a:chOff x="5647680" y="2593440"/>
                    <a:chExt cx="1758600" cy="3032640"/>
                  </a:xfrm>
                </p:grpSpPr>
                <p:sp>
                  <p:nvSpPr>
                    <p:cNvPr id="1296" name="Freeform 99"/>
                    <p:cNvSpPr/>
                    <p:nvPr/>
                  </p:nvSpPr>
                  <p:spPr>
                    <a:xfrm rot="3745200">
                      <a:off x="5265000" y="3395880"/>
                      <a:ext cx="2034720" cy="36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7" name="Freeform 100"/>
                    <p:cNvSpPr/>
                    <p:nvPr/>
                  </p:nvSpPr>
                  <p:spPr>
                    <a:xfrm rot="3745200">
                      <a:off x="6352200" y="4720320"/>
                      <a:ext cx="1090800" cy="57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98" name="Group 101"/>
                  <p:cNvGrpSpPr/>
                  <p:nvPr/>
                </p:nvGrpSpPr>
                <p:grpSpPr>
                  <a:xfrm>
                    <a:off x="5576400" y="2710800"/>
                    <a:ext cx="1225080" cy="2986560"/>
                    <a:chOff x="5576400" y="2710800"/>
                    <a:chExt cx="1225080" cy="2986560"/>
                  </a:xfrm>
                </p:grpSpPr>
                <p:sp>
                  <p:nvSpPr>
                    <p:cNvPr id="1299" name="Freeform 102"/>
                    <p:cNvSpPr/>
                    <p:nvPr/>
                  </p:nvSpPr>
                  <p:spPr>
                    <a:xfrm rot="4286400">
                      <a:off x="5046840" y="3543120"/>
                      <a:ext cx="1973520" cy="30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0" name="Freeform 103"/>
                    <p:cNvSpPr/>
                    <p:nvPr/>
                  </p:nvSpPr>
                  <p:spPr>
                    <a:xfrm rot="4286400">
                      <a:off x="5877720" y="4881960"/>
                      <a:ext cx="105948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01" name="Group 104"/>
                  <p:cNvGrpSpPr/>
                  <p:nvPr/>
                </p:nvGrpSpPr>
                <p:grpSpPr>
                  <a:xfrm>
                    <a:off x="5521320" y="2840400"/>
                    <a:ext cx="696960" cy="2778120"/>
                    <a:chOff x="5521320" y="2840400"/>
                    <a:chExt cx="696960" cy="2778120"/>
                  </a:xfrm>
                </p:grpSpPr>
                <p:sp>
                  <p:nvSpPr>
                    <p:cNvPr id="1302" name="Freeform 105"/>
                    <p:cNvSpPr/>
                    <p:nvPr/>
                  </p:nvSpPr>
                  <p:spPr>
                    <a:xfrm rot="4898400">
                      <a:off x="4896720" y="3607200"/>
                      <a:ext cx="1812960" cy="30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3" name="Freeform 106"/>
                    <p:cNvSpPr/>
                    <p:nvPr/>
                  </p:nvSpPr>
                  <p:spPr>
                    <a:xfrm rot="4898400">
                      <a:off x="5425200" y="4864320"/>
                      <a:ext cx="97380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04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1305" name="Freeform 108"/>
                    <p:cNvSpPr/>
                    <p:nvPr/>
                  </p:nvSpPr>
                  <p:spPr>
                    <a:xfrm rot="5755200">
                      <a:off x="4532040" y="3665160"/>
                      <a:ext cx="1771920" cy="23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6" name="Freeform 109"/>
                    <p:cNvSpPr/>
                    <p:nvPr/>
                  </p:nvSpPr>
                  <p:spPr>
                    <a:xfrm rot="5755200">
                      <a:off x="4714560" y="4932360"/>
                      <a:ext cx="950760" cy="36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307" name="Group 110"/>
              <p:cNvGrpSpPr/>
              <p:nvPr/>
            </p:nvGrpSpPr>
            <p:grpSpPr>
              <a:xfrm>
                <a:off x="2175480" y="682560"/>
                <a:ext cx="6731280" cy="4521240"/>
                <a:chOff x="2175480" y="682560"/>
                <a:chExt cx="6731280" cy="4521240"/>
              </a:xfrm>
            </p:grpSpPr>
            <p:grpSp>
              <p:nvGrpSpPr>
                <p:cNvPr id="1308" name="Group 111"/>
                <p:cNvGrpSpPr/>
                <p:nvPr/>
              </p:nvGrpSpPr>
              <p:grpSpPr>
                <a:xfrm>
                  <a:off x="2175480" y="682560"/>
                  <a:ext cx="6731280" cy="4521240"/>
                  <a:chOff x="2175480" y="682560"/>
                  <a:chExt cx="6731280" cy="4521240"/>
                </a:xfrm>
              </p:grpSpPr>
              <p:sp>
                <p:nvSpPr>
                  <p:cNvPr id="1309" name="Arc 112"/>
                  <p:cNvSpPr/>
                  <p:nvPr/>
                </p:nvSpPr>
                <p:spPr>
                  <a:xfrm flipV="1">
                    <a:off x="5740920" y="857880"/>
                    <a:ext cx="3165840" cy="25239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0" name="Arc 113"/>
                  <p:cNvSpPr/>
                  <p:nvPr/>
                </p:nvSpPr>
                <p:spPr>
                  <a:xfrm flipH="1">
                    <a:off x="2561760" y="2270520"/>
                    <a:ext cx="248652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1" name="Arc 114"/>
                  <p:cNvSpPr/>
                  <p:nvPr/>
                </p:nvSpPr>
                <p:spPr>
                  <a:xfrm>
                    <a:off x="5818680" y="1752840"/>
                    <a:ext cx="175788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2" name="Arc 115"/>
                  <p:cNvSpPr/>
                  <p:nvPr/>
                </p:nvSpPr>
                <p:spPr>
                  <a:xfrm flipH="1">
                    <a:off x="2175480" y="1297800"/>
                    <a:ext cx="313272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3" name="Arc 116"/>
                  <p:cNvSpPr/>
                  <p:nvPr/>
                </p:nvSpPr>
                <p:spPr>
                  <a:xfrm flipH="1">
                    <a:off x="3057120" y="682560"/>
                    <a:ext cx="228204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4" name="Arc 117"/>
                  <p:cNvSpPr/>
                  <p:nvPr/>
                </p:nvSpPr>
                <p:spPr>
                  <a:xfrm>
                    <a:off x="5491800" y="1875960"/>
                    <a:ext cx="94068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5" name="Freeform 118"/>
                  <p:cNvSpPr/>
                  <p:nvPr/>
                </p:nvSpPr>
                <p:spPr>
                  <a:xfrm flipH="1">
                    <a:off x="430272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16" name="Freeform 119"/>
                <p:cNvSpPr/>
                <p:nvPr/>
              </p:nvSpPr>
              <p:spPr>
                <a:xfrm rot="20253000">
                  <a:off x="6127200" y="2181240"/>
                  <a:ext cx="54612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17" name="Group 120"/>
            <p:cNvGrpSpPr/>
            <p:nvPr/>
          </p:nvGrpSpPr>
          <p:grpSpPr>
            <a:xfrm>
              <a:off x="2343960" y="714240"/>
              <a:ext cx="6411960" cy="4708440"/>
              <a:chOff x="2343960" y="714240"/>
              <a:chExt cx="6411960" cy="4708440"/>
            </a:xfrm>
          </p:grpSpPr>
          <p:sp>
            <p:nvSpPr>
              <p:cNvPr id="1318" name="Freeform 121"/>
              <p:cNvSpPr/>
              <p:nvPr/>
            </p:nvSpPr>
            <p:spPr>
              <a:xfrm flipH="1">
                <a:off x="4470840" y="3236400"/>
                <a:ext cx="59832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9" name="Arc 122"/>
              <p:cNvSpPr/>
              <p:nvPr/>
            </p:nvSpPr>
            <p:spPr>
              <a:xfrm flipH="1">
                <a:off x="3385440" y="2581200"/>
                <a:ext cx="2617200" cy="28414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0" name="Arc 123"/>
              <p:cNvSpPr/>
              <p:nvPr/>
            </p:nvSpPr>
            <p:spPr>
              <a:xfrm flipH="1">
                <a:off x="3646800" y="2123640"/>
                <a:ext cx="153432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1" name="Arc 124"/>
              <p:cNvSpPr/>
              <p:nvPr/>
            </p:nvSpPr>
            <p:spPr>
              <a:xfrm flipH="1">
                <a:off x="2343600" y="1740240"/>
                <a:ext cx="2930760" cy="293400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2" name="Arc 125"/>
              <p:cNvSpPr/>
              <p:nvPr/>
            </p:nvSpPr>
            <p:spPr>
              <a:xfrm>
                <a:off x="5588640" y="215208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3" name="Arc 126"/>
              <p:cNvSpPr/>
              <p:nvPr/>
            </p:nvSpPr>
            <p:spPr>
              <a:xfrm>
                <a:off x="5711760" y="2138400"/>
                <a:ext cx="123804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4" name="Freeform 127"/>
              <p:cNvSpPr/>
              <p:nvPr/>
            </p:nvSpPr>
            <p:spPr>
              <a:xfrm>
                <a:off x="6155640" y="3548520"/>
                <a:ext cx="59832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5" name="Freeform 128"/>
              <p:cNvSpPr/>
              <p:nvPr/>
            </p:nvSpPr>
            <p:spPr>
              <a:xfrm flipV="1" rot="19660800">
                <a:off x="5226840" y="2948760"/>
                <a:ext cx="543600" cy="10339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6" name="Freeform 129"/>
              <p:cNvSpPr/>
              <p:nvPr/>
            </p:nvSpPr>
            <p:spPr>
              <a:xfrm flipH="1">
                <a:off x="2688120" y="3385800"/>
                <a:ext cx="133848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7" name="Freeform 130"/>
              <p:cNvSpPr/>
              <p:nvPr/>
            </p:nvSpPr>
            <p:spPr>
              <a:xfrm flipH="1">
                <a:off x="3318840" y="14000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8" name="Freeform 131"/>
              <p:cNvSpPr/>
              <p:nvPr/>
            </p:nvSpPr>
            <p:spPr>
              <a:xfrm>
                <a:off x="7513920" y="3109320"/>
                <a:ext cx="1242000" cy="1974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9" name="Freeform 132"/>
              <p:cNvSpPr/>
              <p:nvPr/>
            </p:nvSpPr>
            <p:spPr>
              <a:xfrm>
                <a:off x="6868800" y="2111400"/>
                <a:ext cx="187236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0" name="Freeform 133"/>
              <p:cNvSpPr/>
              <p:nvPr/>
            </p:nvSpPr>
            <p:spPr>
              <a:xfrm>
                <a:off x="6937920" y="714240"/>
                <a:ext cx="819000" cy="1768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1" name="Freeform 134"/>
              <p:cNvSpPr/>
              <p:nvPr/>
            </p:nvSpPr>
            <p:spPr>
              <a:xfrm flipH="1" rot="1347000">
                <a:off x="4183920" y="2155680"/>
                <a:ext cx="54396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 type="dt" idx="7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6" name="PlaceHolder 5"/>
          <p:cNvSpPr>
            <a:spLocks noGrp="1"/>
          </p:cNvSpPr>
          <p:nvPr>
            <p:ph type="sldNum" idx="7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2F84D-1FD9-463F-B61B-F20352E42BD5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3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374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5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6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7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8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9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 type="dt" idx="73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3" name="PlaceHolder 4"/>
          <p:cNvSpPr>
            <a:spLocks noGrp="1"/>
          </p:cNvSpPr>
          <p:nvPr>
            <p:ph type="ftr" idx="74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4" name="PlaceHolder 5"/>
          <p:cNvSpPr>
            <a:spLocks noGrp="1"/>
          </p:cNvSpPr>
          <p:nvPr>
            <p:ph type="sldNum" idx="7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DC9F4-784E-429F-9F00-073251DCD3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 type="dt" idx="7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5" name="PlaceHolder 4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6" name="PlaceHolder 5"/>
          <p:cNvSpPr>
            <a:spLocks noGrp="1"/>
          </p:cNvSpPr>
          <p:nvPr>
            <p:ph type="sldNum" idx="7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E3C05-51FC-44EC-82A9-21348A197B9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3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1464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5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6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7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8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9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 type="dt" idx="7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3" name="PlaceHolder 4"/>
          <p:cNvSpPr>
            <a:spLocks noGrp="1"/>
          </p:cNvSpPr>
          <p:nvPr>
            <p:ph type="ftr" idx="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4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FBE86-649B-4141-8B98-FD4792CA5C9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87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12C96-6EF3-48FD-A868-CD346624C2E5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3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2AB62-9AA7-4408-A919-D4CDB03205E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9900ff"/>
              </a:gs>
              <a:gs pos="100000">
                <a:srgbClr val="00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00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3399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000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000094"/>
              </a:gs>
              <a:gs pos="100000">
                <a:srgbClr val="00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193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33173-55C4-477C-8557-C1166FB60E14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F433E-9AD3-4E5D-99FD-4D9C2C0A34E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A3C00-BDD3-4EC4-B9A9-956BC12A98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272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1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31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31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2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7967A-1E0B-49BA-B2A0-F4B22918F2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A486E-8FBC-49D0-920A-93AAA51088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0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2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«И снизу лед…»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2" name="Picture 3" descr="Безымянный"/>
          <p:cNvPicPr/>
          <p:nvPr/>
        </p:nvPicPr>
        <p:blipFill>
          <a:blip r:embed="rId1"/>
          <a:stretch/>
        </p:blipFill>
        <p:spPr>
          <a:xfrm>
            <a:off x="2700360" y="2062080"/>
            <a:ext cx="4032360" cy="3430800"/>
          </a:xfrm>
          <a:prstGeom prst="rect">
            <a:avLst/>
          </a:prstGeom>
          <a:ln w="0">
            <a:noFill/>
          </a:ln>
        </p:spPr>
      </p:pic>
      <p:pic>
        <p:nvPicPr>
          <p:cNvPr id="1513" name="лирическая.wav" descr=""/>
          <p:cNvPicPr/>
          <p:nvPr/>
        </p:nvPicPr>
        <p:blipFill>
          <a:blip r:embed="rId2"/>
          <a:stretch/>
        </p:blipFill>
        <p:spPr>
          <a:xfrm>
            <a:off x="1116000" y="5877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514" name="белое.wav" descr=""/>
          <p:cNvPicPr/>
          <p:nvPr/>
        </p:nvPicPr>
        <p:blipFill>
          <a:blip r:embed="rId3"/>
          <a:stretch/>
        </p:blipFill>
        <p:spPr>
          <a:xfrm>
            <a:off x="8172360" y="5877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5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1513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1513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76110" fill="hold"/>
                                        <p:tgtEl>
                                          <p:spTgt spid="15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1514"/>
                    </p:tgtEl>
                  </p:cond>
                </p:stCondLst>
                <p:childTnLst>
                  <p:par>
                    <p:cTn id="26" nodeType="clickEffect" fill="hold">
                      <p:stCondLst>
                        <p:cond evt="onClick">
                          <p:tgtEl>
                            <p:spTgt spid="1514"/>
                          </p:tgtEl>
                        </p:cond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81859" fill="hold"/>
                                        <p:tgtEl>
                                          <p:spTgt spid="15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Высоцкий в фильме «Штрафной удар»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фильме «Штрафной удар» я научился ездить на лошади и выполнять трюки. Это долгая тренировка, но это прекрасно. Надо уметь делать всё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1" name="Picture 5" descr="_00012"/>
          <p:cNvPicPr/>
          <p:nvPr/>
        </p:nvPicPr>
        <p:blipFill>
          <a:blip r:embed="rId1"/>
          <a:stretch/>
        </p:blipFill>
        <p:spPr>
          <a:xfrm>
            <a:off x="468360" y="1728720"/>
            <a:ext cx="3887640" cy="418320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</p:spTree>
  </p:cSld>
  <p:transition>
    <p:cover dir="d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800000"/>
            </a:gs>
            <a:gs pos="100000">
              <a:srgbClr val="3333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Высоцкий в фильме «Служили два товарища»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т в фильме «Служили два товарища», где я играл роль белогвардейца поручика Брусинцова, в самом конце фильма он должен был стрелять себе в рот и падать с борта судна, отправляющегося за границу. Я долго просил, чтобы это мне разрешил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4" name="Picture 5" descr="_00012"/>
          <p:cNvPicPr/>
          <p:nvPr/>
        </p:nvPicPr>
        <p:blipFill>
          <a:blip r:embed="rId1"/>
          <a:stretch/>
        </p:blipFill>
        <p:spPr>
          <a:xfrm>
            <a:off x="539640" y="2133720"/>
            <a:ext cx="4243320" cy="3821040"/>
          </a:xfrm>
          <a:prstGeom prst="rect">
            <a:avLst/>
          </a:prstGeom>
          <a:ln w="76320">
            <a:solidFill>
              <a:srgbClr val="ff33cc"/>
            </a:solidFill>
            <a:miter/>
          </a:ln>
        </p:spPr>
      </p:pic>
    </p:spTree>
  </p:cSld>
  <p:transition>
    <p:comb dir="horz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800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8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8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Фильм «Вертикаль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Фильм «Вертикаль», наверное, многие знают. Я писал туда песни. Я продолжаю писать о горах и буду писать о них много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7" name="Picture 5" descr="_00013"/>
          <p:cNvPicPr/>
          <p:nvPr/>
        </p:nvPicPr>
        <p:blipFill>
          <a:blip r:embed="rId1"/>
          <a:stretch/>
        </p:blipFill>
        <p:spPr>
          <a:xfrm>
            <a:off x="4788000" y="2165400"/>
            <a:ext cx="3816360" cy="3762360"/>
          </a:xfrm>
          <a:prstGeom prst="rect">
            <a:avLst/>
          </a:prstGeom>
          <a:ln w="76320">
            <a:solidFill>
              <a:srgbClr val="00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97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898" fill="hold"/>
                                        <p:tgtEl>
                                          <p:spTgt spid="1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Высоцкий в фильме «Короткие встречи»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ильм «Короткие встречи» режиссера одесской киностудии Киры Муратовой. Я там пел  сказки и всякие песни. Это моя одна из самых любимых ролей.  Я играл роль геолог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0" name="Picture 5" descr="_00013"/>
          <p:cNvPicPr/>
          <p:nvPr/>
        </p:nvPicPr>
        <p:blipFill>
          <a:blip r:embed="rId1"/>
          <a:stretch/>
        </p:blipFill>
        <p:spPr>
          <a:xfrm>
            <a:off x="324000" y="1989000"/>
            <a:ext cx="3816360" cy="39610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Последняя картина Высоцкого «Опасные гастроли»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Это знаменитое «Литвиновское дело» 1910 года, когда подпольно перевозили литературу и оружие из-за границы. Там я играю Николая Бенгальского, актера театра- варьете. Там тоже много моих песен.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53" name="Picture 5" descr="_00014"/>
          <p:cNvPicPr/>
          <p:nvPr/>
        </p:nvPicPr>
        <p:blipFill>
          <a:blip r:embed="rId1"/>
          <a:stretch/>
        </p:blipFill>
        <p:spPr>
          <a:xfrm>
            <a:off x="4932360" y="2146320"/>
            <a:ext cx="3448080" cy="3914640"/>
          </a:xfrm>
          <a:prstGeom prst="rect">
            <a:avLst/>
          </a:prstGeom>
          <a:ln w="76320">
            <a:solidFill>
              <a:srgbClr val="af273e"/>
            </a:solidFill>
            <a:miter/>
          </a:ln>
        </p:spPr>
      </p:pic>
    </p:spTree>
  </p:cSld>
  <p:transition>
    <p:strips dir="rd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0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326" dur="2000" fill="hold"/>
                                        <p:tgtEl>
                                          <p:spTgt spid="15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5" dur="2000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Владимир Высоцкий в кино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Говоря о своей работе в кино, Владимир Высоцкий называл такие цифры: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нимался в 24 фильмах, в 12 исполнял главные роли, для 10 написал песни (заметим: исследователи его творчества скрупулезно сосчитали все его выступления в кино более чем за двадцатилетний период — набралось около 30 фильмов). </a:t>
            </a:r>
            <a:br>
              <a:rPr sz="2600"/>
            </a:b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0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898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898" fill="hold"/>
                                        <p:tgtEl>
                                          <p:spTgt spid="1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Воспоминание кинорежиссера Александра Митта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539640" y="21333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дею, как делать «Арапа Петра Великого», я принес сценаристам Дунскому и Фриду в пакете с идеей снять в этой роли Высоцког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длагался фильм не только про арапа, но и про Высоцког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не хотелось показать его с экрана интеллигентным, по- детски доверчивым и нравственно несгибаемы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8" name="Picture 11" descr="_00015"/>
          <p:cNvPicPr/>
          <p:nvPr/>
        </p:nvPicPr>
        <p:blipFill>
          <a:blip r:embed="rId2"/>
          <a:stretch/>
        </p:blipFill>
        <p:spPr>
          <a:xfrm>
            <a:off x="5364000" y="2133720"/>
            <a:ext cx="3349800" cy="4190760"/>
          </a:xfrm>
          <a:prstGeom prst="rect">
            <a:avLst/>
          </a:prstGeom>
          <a:ln w="76320">
            <a:solidFill>
              <a:srgbClr val="006600"/>
            </a:solidFill>
            <a:miter/>
          </a:ln>
        </p:spPr>
      </p:pic>
    </p:spTree>
  </p:cSld>
  <p:transition>
    <p:pull dir="rd"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7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/>
          </p:nvPr>
        </p:nvSpPr>
        <p:spPr>
          <a:xfrm>
            <a:off x="394920" y="549000"/>
            <a:ext cx="7921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ысоцкий- это человек- легенда, борец за человеческое достоинство, провидец. Он не умел молчать, лгать, пресмыкаться. Владимир Высоцкий сгорел из-за нас, ради нас, за нас. Он считал необходимым прожить жизнь так, чтобы в память о ней людям захотелось зажечь свечу…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0" name="Picture 4" descr="fire"/>
          <p:cNvPicPr/>
          <p:nvPr/>
        </p:nvPicPr>
        <p:blipFill>
          <a:blip r:embed="rId1"/>
          <a:stretch/>
        </p:blipFill>
        <p:spPr>
          <a:xfrm>
            <a:off x="7885080" y="5157720"/>
            <a:ext cx="39060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ладимир Высоцкий- феномен семидесятых год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снизу лёд, и сверху- маюсь между. Пробить ли верх иль пробуравить ни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Конечно- всплыть и не терять надежду, А там- за дело, в ожиданье вниз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д надо мной, надломись и тресни! Я весь в поту, как пахарь от сохи. Вернусь к тебе, как корабли из песни, все помня- даже старые стих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не меньше полувека- сорок с лишним, Я жив, 12 лет тобой храним. Мне есть что спеть, представ перед все Вышним, Мне будет, чем ответить перед Ни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7" name="Picture 5" descr=" _0001"/>
          <p:cNvPicPr/>
          <p:nvPr/>
        </p:nvPicPr>
        <p:blipFill>
          <a:blip r:embed="rId1"/>
          <a:stretch/>
        </p:blipFill>
        <p:spPr>
          <a:xfrm>
            <a:off x="395280" y="1844640"/>
            <a:ext cx="4176720" cy="424836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p:transition>
    <p:checker dir="horz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6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600" fill="hold"/>
                                        <p:tgtEl>
                                          <p:spTgt spid="1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600" fill="hold"/>
                                        <p:tgtEl>
                                          <p:spTgt spid="1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600" fill="hold"/>
                                        <p:tgtEl>
                                          <p:spTgt spid="1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0000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Жизненный путь В. С. Высоцкого.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40402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 С Высоцкий родился в Москве 25 января 1938г. Его мать Нина Максимовна, 1912г рождения по специальности переводчик с немецкого языка. Отец Семен Владимирович, 1915г рождения кадровый военный окончил Военную академию связи имени Маршала Союза С. М. Буденного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1 сентября 1945г пошел в первый класс 273-й Московской школы. В 1955г окончил 10-й класс. В этом же году поступил в Московский Инженерно- строительный институт им. Куйбышева, но уже в начале 1956г ушёл из институт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Летом 1956г поступил в школу- студии МХАТ им. Немировича- Данченко на актерское отделение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 1961г написал первую песню «Татуировка»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0" name="Picture 9" descr="05_015i"/>
          <p:cNvPicPr/>
          <p:nvPr/>
        </p:nvPicPr>
        <p:blipFill>
          <a:blip r:embed="rId1"/>
          <a:stretch/>
        </p:blipFill>
        <p:spPr>
          <a:xfrm>
            <a:off x="4716360" y="1700280"/>
            <a:ext cx="3743280" cy="432108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p:transition>
    <p:split dir="in" orient="ver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5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Воспоминание </a:t>
            </a:r>
            <a:br>
              <a:rPr sz="4000"/>
            </a:b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Юрия Трифонова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«Думаю, можно сказать, что творчество Высоцкого- биография нашего времени. Он рассказывал нам почти обо всем, чем жил народ- при нем и до него. Пел о войне, о больших делах и стройках и о тяжких временах 37-го, о космосе, спортсменах…- о ком угодно, обо всем. Великая его популярность объяснима: Высоцкий вошел в самую гущу народа, он был понятен многим, почти всем»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3" name="Picture 5" descr="_0003"/>
          <p:cNvPicPr/>
          <p:nvPr/>
        </p:nvPicPr>
        <p:blipFill>
          <a:blip r:embed="rId1"/>
          <a:stretch/>
        </p:blipFill>
        <p:spPr>
          <a:xfrm>
            <a:off x="5148360" y="1700280"/>
            <a:ext cx="3456000" cy="3887640"/>
          </a:xfrm>
          <a:prstGeom prst="rect">
            <a:avLst/>
          </a:prstGeom>
          <a:ln w="57240">
            <a:solidFill>
              <a:srgbClr val="ffcc00"/>
            </a:solidFill>
            <a:miter/>
          </a:ln>
        </p:spPr>
      </p:pic>
    </p:spTree>
  </p:cSld>
  <p:transition>
    <p:wipe dir="d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98" fill="hold"/>
                                        <p:tgtEl>
                                          <p:spTgt spid="1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98" fill="hold"/>
                                        <p:tgtEl>
                                          <p:spTgt spid="1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1000"/>
                                        <p:tgtEl>
                                          <p:spTgt spid="1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оспоминание Марины Влади о том. как Высоцкий работал над своими песням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4684320" y="1828800"/>
            <a:ext cx="4002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точник вдохновения для него – всё, что ты видиш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Подобно губке он впитывает эмоции, рассказы, насыщая свои стихи пережитом, ничего не бросая по дороге. Любая тема может в тот или другой день вылиться в поэму- ничто не ускользает от его внимания, и, читая все им написанное, можно представить себе, что он прожил сотни жизней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6" name="Picture 7" descr="_0005"/>
          <p:cNvPicPr/>
          <p:nvPr/>
        </p:nvPicPr>
        <p:blipFill>
          <a:blip r:embed="rId1"/>
          <a:stretch/>
        </p:blipFill>
        <p:spPr>
          <a:xfrm>
            <a:off x="395280" y="1773360"/>
            <a:ext cx="4202280" cy="4248000"/>
          </a:xfrm>
          <a:prstGeom prst="rect">
            <a:avLst/>
          </a:prstGeom>
          <a:ln w="76320">
            <a:solidFill>
              <a:srgbClr val="ff33cc"/>
            </a:solidFill>
            <a:miter/>
          </a:ln>
        </p:spPr>
      </p:pic>
    </p:spTree>
  </p:cSld>
  <p:transition>
    <p:fad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1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5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Arial Black"/>
              </a:rPr>
              <a:t>Владимир Высоцкий об авторской песне.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367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В авторской песне нет зрелищности, которая дает ей приподнятости. Но в ней есть другое. Она импровизированн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Более того, так как это беседа с людьми, то надо помнить, что собеседники каждый раз приходят разны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9" name="Picture 9" descr="05lit005i"/>
          <p:cNvPicPr/>
          <p:nvPr/>
        </p:nvPicPr>
        <p:blipFill>
          <a:blip r:embed="rId2"/>
          <a:stretch/>
        </p:blipFill>
        <p:spPr>
          <a:xfrm>
            <a:off x="4788000" y="2133720"/>
            <a:ext cx="3456000" cy="3382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50000">
              <a:srgbClr val="cc6600"/>
            </a:gs>
            <a:gs pos="100000">
              <a:srgbClr val="00cc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В. Высоцкий о театре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5138280" y="2017800"/>
            <a:ext cx="3816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рвая линия и очень большая в театре- это поэтическая, дело в том, что поэтический репертуар после 20-х годов был забыт. И вот мы стали пионерами, чтобы возобновить этот прекрасный жанр поэтического театр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2" name="Picture 9" descr="pv7570"/>
          <p:cNvPicPr/>
          <p:nvPr/>
        </p:nvPicPr>
        <p:blipFill>
          <a:blip r:embed="rId1"/>
          <a:stretch/>
        </p:blipFill>
        <p:spPr>
          <a:xfrm>
            <a:off x="900000" y="2492280"/>
            <a:ext cx="3384720" cy="345600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cc00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Garamond"/>
              </a:rPr>
              <a:t>Высоцкий о кино.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Надо сказать, что кино- это вообще замечательно, приобретаешь побочные професси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 кино сниматься интереснее только в смысле того, что ты видишь много разных людей, событий, мес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5" name="Picture 5" descr="10"/>
          <p:cNvPicPr/>
          <p:nvPr/>
        </p:nvPicPr>
        <p:blipFill>
          <a:blip r:embed="rId1"/>
          <a:stretch/>
        </p:blipFill>
        <p:spPr>
          <a:xfrm>
            <a:off x="4572000" y="1628640"/>
            <a:ext cx="4176720" cy="4464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009999"/>
            </a:gs>
            <a:gs pos="100000">
              <a:srgbClr val="ff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Первый фильм Высоцкого.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76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первом фильме «Карьера Димы Горина» я играл роль монтажника- высотника. И первый съемочный день был очень смеш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 должен был играть такого человека, который приставал к Тане Конюховой, не к актрисе , конечно, а к персонажу, которого она играла. Я долго отказывался, потому что был молодой и скромный человек, и говорил- она знаменитая актриса, мне неудобно, я не могу и 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8" name="Picture 7" descr="_00011"/>
          <p:cNvPicPr/>
          <p:nvPr/>
        </p:nvPicPr>
        <p:blipFill>
          <a:blip r:embed="rId1"/>
          <a:stretch/>
        </p:blipFill>
        <p:spPr>
          <a:xfrm>
            <a:off x="4743360" y="2085840"/>
            <a:ext cx="3652920" cy="382284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</p:spTree>
  </p:cSld>
  <p:transition>
    <p:pull dir="rd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0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20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8T12:15:36Z</dcterms:created>
  <dc:creator>Черемисовы</dc:creator>
  <dc:description/>
  <dc:language>en-US</dc:language>
  <cp:lastModifiedBy>Коля</cp:lastModifiedBy>
  <dcterms:modified xsi:type="dcterms:W3CDTF">2013-03-20T19:45:25Z</dcterms:modified>
  <cp:revision>31</cp:revision>
  <dc:subject/>
  <dc:title>I конференция школьного исследовательского общества «Прометей»</dc:title>
</cp:coreProperties>
</file>