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A5C9-29C7-4166-A6C1-A1146A60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E4C9-1E68-4347-B93E-3EA7A515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3EB-4BA0-4A44-8BF6-D69835E6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9D1-3C45-4ED5-BFE2-13F91A70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BC7F-15E0-4EB8-A239-F31674FC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9394-C590-4625-AB45-7ADF4E94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95E5-36CC-416D-93BD-D51A6771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CE36-BD34-43B7-B2EC-CC1EEE5F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3270-02A8-47D8-A1FC-91AD1002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0939-EE26-41DC-B615-C32DB3DB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4349-A09D-409B-9CC3-A4E7A559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C03-6458-4D42-9801-D8CD3D34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4CFA-FA3D-4F1B-A43E-8C1D1930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422C-C13A-42D2-A23F-4E76E0AF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0F3D-011E-44BD-B55B-F57351A0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82F7-4362-42CB-A266-BF242CA5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A930-4EA4-4EE4-9697-3DEB6985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776AC-0C9E-4C56-B1F2-5C706898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E735F-63AB-47FF-AACD-D1B06DE9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509D7-A440-4AA0-80C9-AAEC7180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578C2-4741-4AD2-8CD8-332B3BE0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CC4AC-FF76-4016-953C-3C023C3C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525-0564-4F6F-B15C-2FF8AEF4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A8595-8E95-451D-ACE1-502E0078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EE40D-A4BF-4186-9CAE-2FF20666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AF1F7-7FC0-4AE5-ABDD-7DB17270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D76D2-6669-4AEE-89CE-695A7C47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1C667-0986-4C21-A643-B7821D2E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1ACA6-3D1E-4444-A363-A4EFC374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20AAF-9FD3-4AC3-BB9C-B2F3BC89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1F297-3E29-4765-9A9E-114C891F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EAC24-0DC8-4DBB-A440-94C4B1EE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11324-BD95-49BC-93A0-43380989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F1C1-E232-486E-AA0A-223CD4EE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4362D-616C-420E-BE87-E86207BC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DB58A-D12F-44AD-9B40-5F27E925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1E8B1-A5FB-4959-8587-2109D9B3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71F2A-28C0-41A2-A9E6-AF632440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EDA7F-4420-4616-BEFB-05B9C090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75BAF-2D3D-4D9A-AA69-CF3E22B8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FFDC7-9CDA-4BAE-AF4A-59047CA5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037A4-5D52-4E6E-AC98-D24B1A67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36E12-1ADA-4C6F-8F6F-36193546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2BDE8-2DB6-41C4-B2C6-8AE48F72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751B-4733-4226-9431-8A511056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C9FA0E-1F24-45E2-9923-5FA7094E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D89BA-29E2-485C-904E-0064393B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CD6267-CB47-4819-AF3C-E8D40EE2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A3CE7F-8B03-4C39-9D29-B4D8BB91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508F83-C5F8-467E-8769-23A78C0E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E341F4-5E83-4E3F-9047-297336C1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18F66E-47A9-4E0B-AEFF-DFEECB70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60096B-0349-4BAF-876E-35B8E46C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620BDF-C783-4927-A7A0-1CF059AF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3E6204-D36E-4A47-AA12-12B7CD4E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6EF-ECC8-4A23-9D50-D12CB319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F35E5-3101-4312-968F-DF125E5C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F26FA-14F3-401C-98A5-B7774252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530208-0EF7-4409-966D-2D7CDDC6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DB3C31-E295-40D8-A99D-94B99FCD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7B071-A679-45AD-AF4A-04B95566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F8FF5-5EFE-4C51-A1FE-ED3CB5FF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833261-748E-4D44-9BA1-3F685FEB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54D27D-0B25-4B1A-8096-4CAB5265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82FC50-7490-440D-A243-55504133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F4C4B9-FB85-4669-8D5B-274188F5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BB91-1892-491C-9009-55569E23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8910E0-F80E-417C-A1DB-14490995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105B99-4942-4077-883A-7B80D439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C517D6-05F2-4919-9E78-AD7289EA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B9CFD-2F23-463D-8B23-B6FA1215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6C0C7-8BA0-4834-AB50-4FB7F8E7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E6361-88B4-4D24-B5EB-9D8FF86B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959DD-20B5-43E8-808E-6485AF99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C5E6B-DF5B-40AF-8729-3CFD8476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E5A9A-CB15-41E6-A3EC-177DFDA6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F3A40-12F9-4D51-A571-F5C83C05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58C-58E6-4B95-999C-E2D13C07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75860-F427-43A0-A1E9-7031E279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B717F-2AD5-45FC-B662-CEA8C158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F127E-9DC4-48C2-A122-F98B0585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AA17E-F88D-4330-A12C-F27F6FDB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2851F-D2C4-46FD-83DF-8C7DB684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30965-AC5A-4427-8EA9-AE3A0029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9A8F6-0B0A-4B5A-9ECB-906BF81C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7B124-EB26-47FE-B3C6-05890F3D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446C9-C94D-4D3C-81F7-F7350AEB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BC0AF-880A-4742-81E2-E3926B7C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201-BE89-4621-A824-B00F422D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BB095-0EE9-4129-A4EF-78F88E86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44CFB-66C1-40BF-AF36-3C5E0683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BF4DE-B470-4C40-A1CF-0D1228BF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B355C-AAC3-4ED8-AB10-CDACBB4F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6A021-91ED-4A2A-AEEE-E87FEF08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D06F2-C47A-4836-8385-6ABA5A8F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29CC3-73E0-4505-B84B-1395F1C3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CB06-C7D9-4893-BE17-AD41F11D41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C407-0422-418F-9A8A-69C4A3CEB2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3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5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1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47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0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D6F0-0D41-4302-8FEC-BF68AF6C67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2C4D-BFD7-4A62-8DAD-47D38FD78A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F607-67D7-4716-8F8E-1A92FE1D57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0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0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0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4EC1-012D-4190-A7A2-6B8D4806E3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62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64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9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0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BFD1-A210-4CD3-8960-13C28B95454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033D-0C45-45BD-A278-61FE79559F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Вид и его критери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6.Исторический критерий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ческий критерий- общность предков, единая история возникновения и развития ви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4" descr="159094"/>
          <p:cNvPicPr/>
          <p:nvPr/>
        </p:nvPicPr>
        <p:blipFill>
          <a:blip r:embed="rId1"/>
          <a:stretch/>
        </p:blipFill>
        <p:spPr>
          <a:xfrm>
            <a:off x="1042920" y="2852640"/>
            <a:ext cx="73454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терии вида связаны между собой и определяют качественную особенность вида. Но ни один из них не является абсолютным. Только по совокупности критериев можно определить принадлежность особи к тому или иному ви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Что такое вид?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ологический вид- это совокупность особей, обладающих способностью к скрещиванию с образованием плодовитого потомства, населяющих определённый ареал, обладающих рядом общих морфологических признаков и сходством во взаимоотношениях с биотической и абиотической сред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6" descr="159027"/>
          <p:cNvPicPr/>
          <p:nvPr/>
        </p:nvPicPr>
        <p:blipFill>
          <a:blip r:embed="rId1"/>
          <a:stretch/>
        </p:blipFill>
        <p:spPr>
          <a:xfrm>
            <a:off x="6516720" y="0"/>
            <a:ext cx="2627280" cy="1773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159060"/>
          <p:cNvPicPr/>
          <p:nvPr/>
        </p:nvPicPr>
        <p:blipFill>
          <a:blip r:embed="rId2"/>
          <a:stretch/>
        </p:blipFill>
        <p:spPr>
          <a:xfrm>
            <a:off x="0" y="0"/>
            <a:ext cx="27003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иологический вид- это не только систематическая категория, это и целостный, обособленный от других видов элемент живой природы. Обособленность вида поддерживается репродуктивной изоляцией, которая препятствует его смешиванию с другими видами при размножение. Благодаря изоляции виды не смешиваются друг с друго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итерии вид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терии вида- это характерные признаки и свойства, по которым одни виды отличаются от други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4" descr="159044"/>
          <p:cNvPicPr/>
          <p:nvPr/>
        </p:nvPicPr>
        <p:blipFill>
          <a:blip r:embed="rId1"/>
          <a:stretch/>
        </p:blipFill>
        <p:spPr>
          <a:xfrm>
            <a:off x="5651640" y="0"/>
            <a:ext cx="34923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.Морфологический критери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рфологический критерий- это сходство внешнего и внутреннего строения организм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2.Генетический критер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нетический критерий- это характерный для каждого вида набор хромосом, строго определённое их число, размеры и формы, состав ДН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8" name="Picture 4" descr="159063"/>
          <p:cNvPicPr/>
          <p:nvPr/>
        </p:nvPicPr>
        <p:blipFill>
          <a:blip r:embed="rId1"/>
          <a:stretch/>
        </p:blipFill>
        <p:spPr>
          <a:xfrm>
            <a:off x="3564000" y="4508640"/>
            <a:ext cx="5580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3. Физиологический критери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ологический критерий- это сходство реакций организма на внешние воздействия, ритмов развития и размножения. В основе этого критерия лежит сходство всех процессов жизнедеятельности, и прежде всего, размнож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4.Экологический критерий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ологический критерий- это характерное для вида положение в природных сообществах, его связи с другими видами, наборы факторов внешней среды, необходимые для существ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5" descr="159079"/>
          <p:cNvPicPr/>
          <p:nvPr/>
        </p:nvPicPr>
        <p:blipFill>
          <a:blip r:embed="rId1"/>
          <a:stretch/>
        </p:blipFill>
        <p:spPr>
          <a:xfrm>
            <a:off x="4356000" y="4797360"/>
            <a:ext cx="41767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5.Географический критери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ографический критерий- это область распространения, определенный ареал, занимаемый видом в прир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48:24Z</dcterms:created>
  <dc:creator>Alex</dc:creator>
  <dc:description/>
  <dc:language>en-US</dc:language>
  <cp:lastModifiedBy>Пользователь</cp:lastModifiedBy>
  <dcterms:modified xsi:type="dcterms:W3CDTF">2014-01-17T18:39:59Z</dcterms:modified>
  <cp:revision>6</cp:revision>
  <dc:subject/>
  <dc:title>Вид и его критерии. </dc:title>
</cp:coreProperties>
</file>