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A6B6-6F8E-42E5-B6F7-7477D9615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AC20-7468-44A3-9326-E0FE605E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0007-09B8-4572-8758-0D296D4C7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A857-BFB1-478C-8362-DAC371D1F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C742-66BB-4078-9653-A57BBA43D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1C85-5122-4357-9732-51B6CDCC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9E8F-642B-449F-AF08-8A6BAFCD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F0EC-39D5-408A-A0A1-DDF36C01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7CAE-0D83-46EB-A3ED-05D50F6A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03B0-A263-4EC9-9C80-EA67F5D3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F18E-0243-443C-A984-48A7EC55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2C6D-8F01-49A2-AFF4-FA853DCA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91AB-9016-417C-98D2-FDB2613D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048BD-7A7B-4A8F-A289-0FA5A944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3711-2EB6-4E38-9D2C-07456558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B825-EE04-4EFC-B8E0-223B5EEEF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706B-8DE5-4A86-ADD1-A4A7D9197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652E4-47B5-4A46-856A-A6C6FD40E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AF0FF-4708-43E7-8B28-E3E8B352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0E90C-2564-4807-B7C8-719A9273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12BAE-F168-4DAC-B960-DDD7607A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91030-209D-4080-8772-20EC642B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E205-F9B2-466B-8B0A-CDBD7659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0F45D-7289-4285-A4F2-DE801760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6C74F-DCFA-4782-881E-C0C14BA0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BE2C4-1313-4A04-8CC5-66E5B9BD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4D79A-ABC6-41DB-9DC4-CCC3941E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3FC97-8D43-44A5-9FF0-0A9DA45D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434D6-2307-4FE9-9CE5-5E2EB9051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77404-C45C-4D1D-9C25-903DD7BEE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C3401-FA09-4A8E-8ABF-A2D338A1D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70877-07C9-403F-80EE-52FE7F2B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F5EAA-0308-474A-89B8-06835D11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BA8A-FD1A-42B2-B93E-2DAF3D2F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05234-7D4F-4154-ADD5-FC6DBCE9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9BF3F-4BC9-4B61-B10C-F7D23F70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36C36-D1B4-473D-AD7E-A62A85FA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455E6-DE33-49C4-8195-DAB8D3EB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EDAC7-441F-444B-BD6A-6CC641B1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88912-276B-49CF-934F-52165A32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CD5A7-1E05-4221-A820-A7939357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C9D51-B888-48FE-84AA-33CED1FC9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0D143-F4E8-409C-88CD-0423C3FFB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F801F8-7D50-4550-A234-A0C84E258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16E5-EC79-429A-B298-2143BEE8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674EF7-C1BE-448C-9FFA-F717413F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04FDA2-E008-4472-935C-811C035E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E5CFBE-3C54-473D-B3E9-E309D572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7A781A-84D0-485C-89CD-685648F4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17EF26-52FB-474C-8460-6367E81A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2B6341-5B2C-499D-8238-1739C140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F6ECA1-303E-4E16-8E47-49FCC5A4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D065EE-A1C1-466A-96F7-8CAC198C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F46130-D5F8-45D0-A98C-938E6B85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B154CB-6CB0-4C9A-A086-70AACD80D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0E0B-7F8A-4A9C-ACC2-7546BB06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8C7E86-6004-4735-A99D-E53D13125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3A4810-49BC-4067-A703-DD749458E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D151E8-9D72-41F3-9E06-BEF68A5F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F54787-4C29-46E7-8A09-EF021DF8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3DA5C1-DB6E-4B4D-BCA8-503720C8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9C71FA-18FB-4394-85D2-2F2AB218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0E22A0-EB4B-4287-846E-A8268CD6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BC3108-EB93-4EA1-ACE8-CE821B57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1F4B60-E484-4F9C-A416-2751F0C3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9F6FB6-7D02-479A-A46B-F881E82F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6AE4-CB6A-43FF-9199-D74F9B74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861CE0-DDD9-4EDC-AE3F-E22B7770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EB741E-BBFB-4FBE-84E5-590F10DC9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FFBEB1-34E6-448F-B8EB-A0C8468BC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38F67-E0DF-4A18-923C-94A66A176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3F804-BF18-485B-B79C-3F438994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7D72D-FFEC-4BDB-8B92-307667A7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8E772-635F-4FE3-8CD6-8CC82D64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1A6FF-7104-44F9-B72E-EDFE8CBC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2E329-3F22-4001-9C88-085FD9A1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4DE3D-AF6E-4309-9DDD-5D3B2371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A0C4-B039-4697-B797-C37E15C0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EE8C5-E5A4-4801-B41A-2BA1D8B2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E485C-891A-40CF-B344-481CB8FD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F9E4B-2DAF-44BE-BAB1-A6CC1CE4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D298C-E704-4772-9781-BBA8A786F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3B680-C91C-47B5-9CF9-5911F64D9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6B088-1FC1-42B6-9824-294F2EFD5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A3E54-3A82-4777-B791-16E7F99C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6662E-99A0-4BB4-B59B-3C6F0ED8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423DD-CC06-435A-992E-85FDAE83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8C5E8-C408-4D90-AA6D-AB969A43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57D1-04BE-4FCE-8C99-8FD1BEC0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9E21F-7829-4354-8DD7-E9EE3551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40D88-A1DF-483E-868A-4A455F28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D8425-5011-4463-A7CC-650F1280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DDAD9-AE90-4754-897F-08967411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39840-2D63-403F-B966-850611F9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A2131-9213-46E4-AE3A-E55831FF5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487EB-C299-4AD6-8107-341CD6E0B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8382-56CC-4E1D-85A1-D14C633714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350D-402A-41EF-97DC-5755CF5327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3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4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5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0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1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47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0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CCD5-0CD9-4B43-9E67-21B711BB7C5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0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BC57-2450-4546-80E0-4B609C4203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797F-3A71-4675-BB8A-E404BA8E86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01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3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05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6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07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2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5A12-685F-4E10-8882-D9BC11CFC1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362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3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64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9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90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5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06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8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09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8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19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20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6251-AC6B-4A69-ACB7-7FE5D6983BC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68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F5C3-DB08-4A4F-A32C-758EC83EC8A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«Вид и его критерии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6.Исторический критерий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торический критерий- общность предков, единая история возникновения и развития ви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Picture 4" descr="159094"/>
          <p:cNvPicPr/>
          <p:nvPr/>
        </p:nvPicPr>
        <p:blipFill>
          <a:blip r:embed="rId1"/>
          <a:stretch/>
        </p:blipFill>
        <p:spPr>
          <a:xfrm>
            <a:off x="1042920" y="2852640"/>
            <a:ext cx="734544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ывод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итерии вида связаны между собой и определяют качественную особенность вида. Но ни один из них не является абсолютным. Только по совокупности критериев можно определить принадлежность особи к тому или иному вид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Что такое вид?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иологический вид- это совокупность особей, обладающих способностью к скрещиванию с образованием плодовитого потомства, населяющих определённый ареал, обладающих рядом общих морфологических признаков и сходством во взаимоотношениях с биотической и абиотической средо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Picture 6" descr="159027"/>
          <p:cNvPicPr/>
          <p:nvPr/>
        </p:nvPicPr>
        <p:blipFill>
          <a:blip r:embed="rId1"/>
          <a:stretch/>
        </p:blipFill>
        <p:spPr>
          <a:xfrm>
            <a:off x="6516720" y="0"/>
            <a:ext cx="2627280" cy="177336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7" descr="159060"/>
          <p:cNvPicPr/>
          <p:nvPr/>
        </p:nvPicPr>
        <p:blipFill>
          <a:blip r:embed="rId2"/>
          <a:stretch/>
        </p:blipFill>
        <p:spPr>
          <a:xfrm>
            <a:off x="0" y="0"/>
            <a:ext cx="270036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6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Биологический вид- это не только систематическая категория, это и целостный, обособленный от других видов элемент живой природы. Обособленность вида поддерживается репродуктивной изоляцией, которая препятствует его смешиванию с другими видами при размножение. Благодаря изоляции виды не смешиваются друг с другом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ритерии вид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итерии вида- это характерные признаки и свойства, по которым одни виды отличаются от други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Picture 4" descr="159044"/>
          <p:cNvPicPr/>
          <p:nvPr/>
        </p:nvPicPr>
        <p:blipFill>
          <a:blip r:embed="rId1"/>
          <a:stretch/>
        </p:blipFill>
        <p:spPr>
          <a:xfrm>
            <a:off x="5651640" y="0"/>
            <a:ext cx="349236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1.Морфологический критерий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рфологический критерий- это сходство внешнего и внутреннего строения организм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2.Генетический критери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енетический критерий- это характерный для каждого вида набор хромосом, строго определённое их число, размеры и формы, состав ДН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8" name="Picture 4" descr="159063"/>
          <p:cNvPicPr/>
          <p:nvPr/>
        </p:nvPicPr>
        <p:blipFill>
          <a:blip r:embed="rId1"/>
          <a:stretch/>
        </p:blipFill>
        <p:spPr>
          <a:xfrm>
            <a:off x="3564000" y="4508640"/>
            <a:ext cx="55800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3. Физиологический критерий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изиологический критерий- это сходство реакций организма на внешние воздействия, ритмов развития и размножения. В основе этого критерия лежит сходство всех процессов жизнедеятельности, и прежде всего, размнож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4.Экологический критерий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кологический критерий- это характерное для вида положение в природных сообществах, его связи с другими видами, наборы факторов внешней среды, необходимые для существ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Picture 5" descr="159079"/>
          <p:cNvPicPr/>
          <p:nvPr/>
        </p:nvPicPr>
        <p:blipFill>
          <a:blip r:embed="rId1"/>
          <a:stretch/>
        </p:blipFill>
        <p:spPr>
          <a:xfrm>
            <a:off x="4356000" y="4797360"/>
            <a:ext cx="41767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5.Географический критерий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еографический критерий- это область распространения, определенный ареал, занимаемый видом в природ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4:48:24Z</dcterms:created>
  <dc:creator>Alex</dc:creator>
  <dc:description/>
  <dc:language>en-US</dc:language>
  <cp:lastModifiedBy>Пользователь</cp:lastModifiedBy>
  <dcterms:modified xsi:type="dcterms:W3CDTF">2014-01-17T18:39:59Z</dcterms:modified>
  <cp:revision>6</cp:revision>
  <dc:subject/>
  <dc:title>Вид и его критерии. </dc:title>
</cp:coreProperties>
</file>