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90E-5E86-4B09-B4BC-3E96E241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53F-1FC8-4CFC-B55D-D9E4B06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7E0-FCFF-4F01-A94E-6D8C73CD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FE7-EB2A-45AB-BE86-09AECF84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D03F-BA86-4573-B315-BBBB7F9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D887-A8D4-4770-8475-C5AA55DF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FCFC-2F70-403A-8035-712A101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312-08DC-4F77-AA59-B23601F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6C8-2C56-424D-ABB9-AA2E0B9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577-3044-4BB0-9663-7F73BF3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0A6-B715-473B-A71D-66831AF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7ED-3C5C-4048-B1A0-8BBFD940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3F6-FDB9-4B3C-A1AA-8E31513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1393-866E-489A-9119-CFBA6A5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7EC8-C9CD-43CA-AC9C-940CAE9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C13-3C56-4C25-A271-4A44EDE4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797-0E7C-4631-87BE-D50B53D2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3155-1A38-45CD-999D-EC353D9E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91BF-0447-4C2D-B7CB-C4E68563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8991-2B48-4AF1-804A-C56943A0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11EC-4598-45F9-927E-682CF8A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3863-EE77-42BD-B785-31B3E87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240-FBFD-423F-AD6E-D46C50E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EBB8-C4F4-4EA6-99AB-F8465C0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506A-E240-4E02-8233-8F07142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A523-588C-4AFA-8CAC-1FA6835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F366-3623-44CB-B3A2-72CEFC4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959F-AEE2-447D-8473-2655442F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8D56-D6F9-45CC-8962-7F4420C2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6D36-764B-4F9E-8181-5EB2BEFC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7742-5746-4A26-A2FA-130DAF3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11CC-8C8C-4CEA-8089-161CD58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5EF0-04CE-46D5-A374-25D4C2AA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5D7-618A-4E61-BA05-404B3169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4635-57C7-4853-8702-23A9B1F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AD13-2E6B-4DF3-8D90-B59EDF8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06D3-3BBC-4B87-9265-13E1A12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9B84-5A77-4090-8EAB-5050A41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BBAE-D647-4651-B747-9568D8E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0AF9-2138-43F8-8E0F-CBA5C27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3251-BA7E-406E-B4BC-FEABCD9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1AD0-6DF8-4D00-A208-22293D11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FFA1-DABC-40D3-8CEC-A9E2D239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88A40-AA78-444B-A9CA-55E3D17D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A59-F61D-4C75-88FD-9587530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B1756-CA80-4336-8E3E-E3F8F414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BBC1A-09E3-49D0-A6BB-FE4B68E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B6029-D17E-483C-B107-5CE64A1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6FCB7-059F-4434-85A2-8BE5EABF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9A469-B10A-4502-93ED-C625E75E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05B10-77B9-448B-B8AF-E750B462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BF04C-E03D-4BC0-98D9-1E1008A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F5188-471C-400D-AF9D-C1B729A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00072-E1CB-42A9-8293-28C9609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DCBD8-F9AA-44C3-A5AA-C7C61D0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139-F1D0-46A1-AB22-8A64BC14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53251-29C2-4AAF-9CFD-EB522BCD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9FC0A-1BF0-4F78-AA84-829A54AC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DA125-0FDD-4B9C-BD3A-94A78962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82DB6-D3C0-40C9-A689-62C3571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6373C-F4A5-4466-831A-18D219C6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B70DD-E0AB-4347-BD96-DC6D29EB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F9874-E89C-4269-A358-19769DF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B2F0A-0F55-4AE7-8898-6127BD8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38441-F788-4600-9FB6-4B4FBD53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FA527-CB6B-49BA-B090-9A0E627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DD0-8C9C-4C2B-A9E8-37DEC53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019DF-E73C-41B3-B242-2A81B2F5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06665-7F2A-4DB2-BACE-1D7EF8B7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B3AFF-DC8A-4E11-98AE-B1C83DFD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07B0-20AC-4305-9B0B-AE8D619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8F45-7864-4BB8-A19C-37878D2B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F6B93-B62A-47D6-9BC3-A7242C3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6EF0-866F-4197-A9AB-149BA9BD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5F02-CCDB-4E2C-B5B2-24B3F62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CA30-5619-485D-B03A-CE03A8E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DA51-A8F6-42EC-91C9-492EBDB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DF1-E27A-4DB8-8BE5-33DA450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41C7-E0D4-4AC3-86B9-1A60511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C543-1CF5-4456-98A1-71E1AA7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EA5B0-2203-49C7-A382-ACCC2C1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6F6A-BE65-4635-9203-90C01800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E7D4-5CA4-4567-B8DC-79D41381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173BA-6B96-4397-840E-BB6E8759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7F9B-90BE-4C45-9778-42B85360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7925-1946-4A59-9FDF-272DB10D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674CA-7A3D-462C-AA1B-25E63F6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2B2E1-7D9E-4445-A545-DA95FB99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141-2558-45D5-986D-8E7DCB8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781D-1308-4CC5-AC69-1A73AFD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20449-5C98-43CC-8FBB-106434A7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E34A-011E-45B5-A8C1-BF3746A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8E54F-6CFD-4366-A591-7341580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A5185-79DD-48EA-86A1-66BA5A2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81FC5-0883-4B2C-A7DF-B3276151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2EFB-100B-4BAC-ADE1-2BA227CE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FBEF-0F15-4D6E-916A-0CFC089F9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F82-A0C2-458B-8E23-69FD5194B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A7D-64AB-48F8-AC93-FFE5291CD8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30C-EAC5-44EA-B5A3-BF922EF70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6970-9656-40C8-8A70-EDB115463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CE2-FD4F-4FEA-8B75-06930CF10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6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6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9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0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C230-E4F6-4EF1-A81F-347D972D54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816-EC22-4B5C-8167-527534782F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Вид и его критери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6.Исторический критерий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й критерий- общность предков, единая история возникновения и развития 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159094"/>
          <p:cNvPicPr/>
          <p:nvPr/>
        </p:nvPicPr>
        <p:blipFill>
          <a:blip r:embed="rId1"/>
          <a:stretch/>
        </p:blipFill>
        <p:spPr>
          <a:xfrm>
            <a:off x="1042920" y="2852640"/>
            <a:ext cx="7345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 связаны между собой и определяют качественную особенность вида. Но ни один из них не является абсолютным. Только по совокупности критериев можно определить принадлежность особи к тому или иному ви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вид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ологический вид- это совокупность особей, обладающих способностью к скрещиванию с образованием плодовитого потомства, населяющих определённый ареал, обладающих рядом общих морфологических признаков и сходством во взаимоотношениях с биотической и абиотической сре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159027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77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159060"/>
          <p:cNvPicPr/>
          <p:nvPr/>
        </p:nvPicPr>
        <p:blipFill>
          <a:blip r:embed="rId2"/>
          <a:stretch/>
        </p:blipFill>
        <p:spPr>
          <a:xfrm>
            <a:off x="0" y="0"/>
            <a:ext cx="2700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иологический вид- это не только систематическая категория, это и целостный, обособленный от других видов элемент живой природы. Обособленность вида поддерживается репродуктивной изоляцией, которая препятствует его смешиванию с другими видами при размножение. Благодаря изоляции виды не смешиваются друг с друг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итерии ви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- это характерные признаки и свойства, по которым одни виды отличаются от друг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159044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Морф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фологический критерий- это сходство внешнего и внутреннего строения организм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Генетический критер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ий критерий- это характерный для каждого вида набор хромосом, строго определённое их число, размеры и формы, состав Д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4" descr="159063"/>
          <p:cNvPicPr/>
          <p:nvPr/>
        </p:nvPicPr>
        <p:blipFill>
          <a:blip r:embed="rId1"/>
          <a:stretch/>
        </p:blipFill>
        <p:spPr>
          <a:xfrm>
            <a:off x="3564000" y="4508640"/>
            <a:ext cx="558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Физи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ологический критерий- это сходство реакций организма на внешние воздействия, ритмов развития и размножения. В основе этого критерия лежит сходство всех процессов жизнедеятельности, и прежде всего, размн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4.Экологический критери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логический критерий- это характерное для вида положение в природных сообществах, его связи с другими видами, наборы факторов внешней среды, необходимые для существ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5" descr="159079"/>
          <p:cNvPicPr/>
          <p:nvPr/>
        </p:nvPicPr>
        <p:blipFill>
          <a:blip r:embed="rId1"/>
          <a:stretch/>
        </p:blipFill>
        <p:spPr>
          <a:xfrm>
            <a:off x="4356000" y="4797360"/>
            <a:ext cx="41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.Географ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ческий критерий- это область распространения, определенный ареал, занимаемый видом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48:24Z</dcterms:created>
  <dc:creator>Alex</dc:creator>
  <dc:description/>
  <dc:language>en-US</dc:language>
  <cp:lastModifiedBy>Пользователь</cp:lastModifiedBy>
  <dcterms:modified xsi:type="dcterms:W3CDTF">2014-01-17T18:39:59Z</dcterms:modified>
  <cp:revision>6</cp:revision>
  <dc:subject/>
  <dc:title>Вид и его критерии. </dc:title>
</cp:coreProperties>
</file>