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EAD-7280-4591-A43F-6F0F00A0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C98-7DF1-4765-B382-F248B043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61AA-4251-42F1-9D73-0AFBDB87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D05-98B7-4FD6-9202-91148EBF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8EE-39B3-4864-B7B1-5A321EEA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4AF-049F-4700-9609-272F1088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AA6-74DB-425B-A48C-07C536B6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021-5093-4E5B-BE57-E772639F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FAD-069D-4F01-8F4B-E5696523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0F4-3E5E-466C-9EB2-709B0135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6F10-AD1F-43C8-8C9F-0679CE54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48A-7C99-4538-8D9B-55DEA2F8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E0D8-C049-4757-9636-8FD6259F0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09680" y="3962520"/>
            <a:ext cx="8734320" cy="26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Доброввольное пребывание</a:t>
            </a:r>
            <a:endParaRPr b="1" lang="en-US" sz="4400" spc="1" strike="noStrike">
              <a:ln w="1584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4400" spc="1" strike="noStrike">
                <a:ln w="1584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человека </a:t>
            </a:r>
            <a:endParaRPr b="1" lang="en-US" sz="4400" spc="1" strike="noStrike">
              <a:ln w="1584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в природной среде</a:t>
            </a:r>
            <a:endParaRPr b="1" lang="en-US" sz="4400" spc="1" strike="noStrike">
              <a:ln w="1584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-2590920" y="289548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6 класс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62320" y="762120"/>
            <a:ext cx="39621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Урок 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3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76920" y="5410080"/>
            <a:ext cx="4267080" cy="1697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2971800"/>
            <a:ext cx="49528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3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76920" y="5410080"/>
            <a:ext cx="4267080" cy="1697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2971800"/>
            <a:ext cx="495288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76920" y="0"/>
            <a:ext cx="426708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3581280"/>
            <a:ext cx="4191120" cy="358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8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52880" y="5380200"/>
            <a:ext cx="4419720" cy="1885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2895480"/>
            <a:ext cx="50292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8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52880" y="5380200"/>
            <a:ext cx="4419720" cy="1885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2895480"/>
            <a:ext cx="5029200" cy="3962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0" y="2895480"/>
            <a:ext cx="5029200" cy="3962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029200" y="0"/>
            <a:ext cx="411480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52880" y="5181480"/>
            <a:ext cx="4448160" cy="1884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3048120"/>
            <a:ext cx="50292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52880" y="5181480"/>
            <a:ext cx="4448160" cy="1884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3048120"/>
            <a:ext cx="5029200" cy="3809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76920" y="0"/>
            <a:ext cx="426708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43000" y="1828800"/>
            <a:ext cx="74674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Изучение</a:t>
            </a:r>
            <a:endParaRPr b="1" lang="en-US" sz="1800" spc="1" strike="noStrike">
              <a:ln w="31680">
                <a:solidFill>
                  <a:srgbClr val="00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нового материала</a:t>
            </a:r>
            <a:endParaRPr b="1" lang="en-US" sz="1800" spc="1" strike="noStrike">
              <a:ln w="31680">
                <a:solidFill>
                  <a:srgbClr val="00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ровольная автономия человека в природной среде – это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 подготовки человека к условиям добровольной автономии человека в природной сре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33720" y="60948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/З: 4.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038480" y="3040200"/>
            <a:ext cx="5105520" cy="3817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0" y="0"/>
            <a:ext cx="8915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ыбор места для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бивуака (стоянки)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676520"/>
            <a:ext cx="3886200" cy="487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905120"/>
            <a:ext cx="358128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вная, возвышенная площадка, рядом - источник питьевой воды и достаточно сухого хво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льзя располагаться в лесу среди сухостоя, а в горах - под склоном, подверженным осып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ле лагеря должна быть площадка для подачи сигналов бедствия и приема верто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86200" y="2743200"/>
            <a:ext cx="5257800" cy="3914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0" y="304920"/>
            <a:ext cx="9144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пособы ориентирования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600200"/>
            <a:ext cx="3809880" cy="5257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905120"/>
            <a:ext cx="3330720" cy="452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омп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олн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т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механическим ча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мх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нежным прогали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муравейн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4952880" cy="4084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0"/>
            <a:ext cx="8381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 а з в е д е н и 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 о с т р 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00200"/>
            <a:ext cx="3886200" cy="5257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1800" y="1828800"/>
            <a:ext cx="355932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разведении костра нельз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водить костер возле дерев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пользовать для костра живые де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тавлять без присмотра горящий кос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тавлять без присмотра горящий костер более чем на 1,5 ч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водить костер на торфяных боло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95280" y="2133720"/>
            <a:ext cx="67820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естирование</a:t>
            </a:r>
            <a:endParaRPr b="1" lang="en-US" sz="1800" spc="1" strike="noStrike">
              <a:ln w="38160">
                <a:solidFill>
                  <a:srgbClr val="00ff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952880" y="4038480"/>
            <a:ext cx="4191120" cy="2590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2662200"/>
            <a:ext cx="5014800" cy="3936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2666880"/>
            <a:ext cx="50292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800600" y="4038480"/>
            <a:ext cx="4343400" cy="2590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2662200"/>
            <a:ext cx="5014800" cy="3936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0" y="2666880"/>
            <a:ext cx="5029200" cy="3733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952880" y="0"/>
            <a:ext cx="4191120" cy="1371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5334120"/>
            <a:ext cx="4114800" cy="1295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4495680" cy="3613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48769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4495680" cy="3613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4876920" cy="4952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0" y="2666880"/>
            <a:ext cx="4648320" cy="4191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952880" y="0"/>
            <a:ext cx="4191120" cy="11430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3429000"/>
            <a:ext cx="4267080" cy="11430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66680" y="1752480"/>
            <a:ext cx="6858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рове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омашне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зад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601200" cy="4452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4267080" cy="3733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49528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601200" cy="4453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4267080" cy="3733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4952880" cy="5181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1676520"/>
            <a:ext cx="5029200" cy="5181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952880" y="0"/>
            <a:ext cx="419112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424160"/>
            <a:ext cx="8153280" cy="48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153280" cy="48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1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76920" y="5257800"/>
            <a:ext cx="4267080" cy="1720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2895480"/>
            <a:ext cx="4952880" cy="3962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00200" y="2895480"/>
            <a:ext cx="1600200" cy="838440"/>
          </a:xfrm>
          <a:custGeom>
            <a:avLst/>
            <a:gdLst>
              <a:gd name="textAreaLeft" fmla="*/ 399960 w 1600200"/>
              <a:gd name="textAreaRight" fmla="*/ 1200240 w 160020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495680"/>
            <a:ext cx="609480" cy="457200"/>
          </a:xfrm>
          <a:prstGeom prst="downArrowCallout">
            <a:avLst>
              <a:gd name="adj1" fmla="val 33330"/>
              <a:gd name="adj2" fmla="val 33327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4495680"/>
            <a:ext cx="609480" cy="457200"/>
          </a:xfrm>
          <a:prstGeom prst="downArrowCallout">
            <a:avLst>
              <a:gd name="adj1" fmla="val 33330"/>
              <a:gd name="adj2" fmla="val 33327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4495680"/>
            <a:ext cx="761760" cy="228600"/>
          </a:xfrm>
          <a:prstGeom prst="downArrowCallout">
            <a:avLst>
              <a:gd name="adj1" fmla="val 83315"/>
              <a:gd name="adj2" fmla="val 83307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11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76920" y="5257800"/>
            <a:ext cx="4267080" cy="1720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2895480"/>
            <a:ext cx="4952880" cy="3962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00200" y="2895480"/>
            <a:ext cx="1600200" cy="838440"/>
          </a:xfrm>
          <a:custGeom>
            <a:avLst/>
            <a:gdLst>
              <a:gd name="textAreaLeft" fmla="*/ 399960 w 1600200"/>
              <a:gd name="textAreaRight" fmla="*/ 1200240 w 160020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495680"/>
            <a:ext cx="609480" cy="457200"/>
          </a:xfrm>
          <a:prstGeom prst="downArrowCallout">
            <a:avLst>
              <a:gd name="adj1" fmla="val 33330"/>
              <a:gd name="adj2" fmla="val 33327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4495680"/>
            <a:ext cx="609480" cy="457200"/>
          </a:xfrm>
          <a:prstGeom prst="downArrowCallout">
            <a:avLst>
              <a:gd name="adj1" fmla="val 33330"/>
              <a:gd name="adj2" fmla="val 33327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4495680"/>
            <a:ext cx="761760" cy="228600"/>
          </a:xfrm>
          <a:prstGeom prst="downArrowCallout">
            <a:avLst>
              <a:gd name="adj1" fmla="val 83315"/>
              <a:gd name="adj2" fmla="val 83307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0"/>
            <a:ext cx="419112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3-12-26T02:58:0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