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15CA-A4BC-493B-95FC-180445B98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C6D9-12C6-42A1-B77E-F780E04FB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E123-B3A0-4877-8E3A-313B2539D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D709-4F59-44D7-B3DA-5C3641AA6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E0AD-D5F4-49CD-9F36-87014DFB9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447E-CB24-4BD0-98F8-E64F70182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4BEF-BEC0-4AE5-AEB9-AF8984139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703A-3F2F-4B4D-8E25-9935D3F10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E11B-0B42-4065-A27C-88CAF0DBD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78F5-8627-43CA-B6A1-D2118782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26EA-7D9E-4A4C-A682-87A18D66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5B75-6299-4DB2-83D7-200A2EBB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BFD96-8DBD-4EC0-AC2F-651F6F3DDF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09680" y="3962520"/>
            <a:ext cx="8734320" cy="26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584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Доброввольное пребывание</a:t>
            </a:r>
            <a:endParaRPr b="1" lang="en-US" sz="4400" spc="1" strike="noStrike">
              <a:ln w="15840">
                <a:solidFill>
                  <a:srgbClr val="00ff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584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 </a:t>
            </a:r>
            <a:r>
              <a:rPr b="1" lang="en-US" sz="4400" spc="1" strike="noStrike">
                <a:ln w="1584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человека </a:t>
            </a:r>
            <a:endParaRPr b="1" lang="en-US" sz="4400" spc="1" strike="noStrike">
              <a:ln w="15840">
                <a:solidFill>
                  <a:srgbClr val="00ff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584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в природной среде</a:t>
            </a:r>
            <a:endParaRPr b="1" lang="en-US" sz="4400" spc="1" strike="noStrike">
              <a:ln w="15840">
                <a:solidFill>
                  <a:srgbClr val="00ff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"/>
          <p:cNvSpPr txBox="1"/>
          <p:nvPr/>
        </p:nvSpPr>
        <p:spPr>
          <a:xfrm rot="5400000">
            <a:off x="-2590920" y="2895480"/>
            <a:ext cx="6324480" cy="1143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6 класс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362320" y="762120"/>
            <a:ext cx="396216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Урок 1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039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876920" y="5410080"/>
            <a:ext cx="4267080" cy="16970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0" y="2971800"/>
            <a:ext cx="495288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039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876920" y="5410080"/>
            <a:ext cx="4267080" cy="16970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0" y="2971800"/>
            <a:ext cx="4952880" cy="39625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876920" y="0"/>
            <a:ext cx="4267080" cy="1752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52880" y="3581280"/>
            <a:ext cx="4191120" cy="3581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086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952880" y="5380200"/>
            <a:ext cx="4419720" cy="1885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0" y="2895480"/>
            <a:ext cx="502920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08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952880" y="5380200"/>
            <a:ext cx="4419720" cy="18856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0" y="2895480"/>
            <a:ext cx="5029200" cy="39625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0" y="2895480"/>
            <a:ext cx="5029200" cy="39625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029200" y="0"/>
            <a:ext cx="4114800" cy="1752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10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952880" y="5181480"/>
            <a:ext cx="4448160" cy="18846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0" y="3048120"/>
            <a:ext cx="502920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100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952880" y="5181480"/>
            <a:ext cx="4448160" cy="18846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0" y="3048120"/>
            <a:ext cx="5029200" cy="38098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876920" y="0"/>
            <a:ext cx="4267080" cy="1752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0" y="320040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143000" y="1828800"/>
            <a:ext cx="74674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00ff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Изучение</a:t>
            </a:r>
            <a:endParaRPr b="1" lang="en-US" sz="1800" spc="1" strike="noStrike">
              <a:ln w="31680">
                <a:solidFill>
                  <a:srgbClr val="00ff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00ff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нового материала</a:t>
            </a:r>
            <a:endParaRPr b="1" lang="en-US" sz="1800" spc="1" strike="noStrike">
              <a:ln w="31680">
                <a:solidFill>
                  <a:srgbClr val="00ff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бровольная автономия человека в природной среде – это 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авила подготовки человека к условиям добровольной автономии человека в природной сред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133720" y="609480"/>
            <a:ext cx="5715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/З: 4.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038480" y="3040200"/>
            <a:ext cx="5105520" cy="3817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0" y="0"/>
            <a:ext cx="8915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Выбор места для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бивуака (стоянки)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1676520"/>
            <a:ext cx="3886200" cy="4876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905120"/>
            <a:ext cx="3581280" cy="46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овная, возвышенная площадка, рядом - источник питьевой воды и достаточно сухого хворо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льзя располагаться в лесу среди сухостоя, а в горах - под склоном, подверженным осып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зле лагеря должна быть площадка для подачи сигналов бедствия и приема вертол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886200" y="2743200"/>
            <a:ext cx="5257800" cy="39146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0" y="304920"/>
            <a:ext cx="9144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пособы ориентирования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600200"/>
            <a:ext cx="3809880" cy="5257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905120"/>
            <a:ext cx="3330720" cy="452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компа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Солнц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т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механическим ча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мх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снежным прогалин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муравейник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191120" y="2666880"/>
            <a:ext cx="4952880" cy="40849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457200" y="0"/>
            <a:ext cx="83818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 а з в е д е н и 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 о с т р 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1600200"/>
            <a:ext cx="3886200" cy="5257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31800" y="1828800"/>
            <a:ext cx="3559320" cy="54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 разведении костра нельз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зводить костер возле деревь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спользовать для костра живые дерев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ставлять без присмотра горящий кост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ставлять без присмотра горящий костер более чем на 1,5 ча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зводить костер на торфяных болот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95280" y="2133720"/>
            <a:ext cx="678204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ff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Тестирование</a:t>
            </a:r>
            <a:endParaRPr b="1" lang="en-US" sz="1800" spc="1" strike="noStrike">
              <a:ln w="38160">
                <a:solidFill>
                  <a:srgbClr val="00ff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0384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952880" y="4038480"/>
            <a:ext cx="4191120" cy="25909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0" y="2662200"/>
            <a:ext cx="5014800" cy="39369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0" y="2666880"/>
            <a:ext cx="502920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0384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800600" y="4038480"/>
            <a:ext cx="4343400" cy="25909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0" y="2662200"/>
            <a:ext cx="5014800" cy="39369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0" y="2666880"/>
            <a:ext cx="5029200" cy="37339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952880" y="0"/>
            <a:ext cx="4191120" cy="13716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029200" y="5334120"/>
            <a:ext cx="4114800" cy="12952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5053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876920" y="3429000"/>
            <a:ext cx="4495680" cy="36133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0" y="1905120"/>
            <a:ext cx="487692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5053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4876920" y="3429000"/>
            <a:ext cx="4495680" cy="36133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0" y="1905120"/>
            <a:ext cx="4876920" cy="49528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0" y="2666880"/>
            <a:ext cx="4648320" cy="41911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4952880" y="0"/>
            <a:ext cx="4191120" cy="11430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76920" y="3429000"/>
            <a:ext cx="4267080" cy="11430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066680" y="1752480"/>
            <a:ext cx="685800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Провер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домашнег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зада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-380880"/>
            <a:ext cx="9601200" cy="44528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876920" y="3124080"/>
            <a:ext cx="4267080" cy="37339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0" y="1676520"/>
            <a:ext cx="495288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-304920"/>
            <a:ext cx="9601200" cy="44532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4876920" y="3124080"/>
            <a:ext cx="4267080" cy="37339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0" y="1676520"/>
            <a:ext cx="4952880" cy="51814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0" y="1676520"/>
            <a:ext cx="5029200" cy="51814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952880" y="0"/>
            <a:ext cx="4191120" cy="10666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424160"/>
            <a:ext cx="8153280" cy="488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8153280" cy="486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11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876920" y="5257800"/>
            <a:ext cx="4267080" cy="1720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0" y="2895480"/>
            <a:ext cx="4952880" cy="39625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600200" y="2895480"/>
            <a:ext cx="1600200" cy="838440"/>
          </a:xfrm>
          <a:custGeom>
            <a:avLst/>
            <a:gdLst>
              <a:gd name="textAreaLeft" fmla="*/ 399960 w 1600200"/>
              <a:gd name="textAreaRight" fmla="*/ 1200240 w 160020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4495680"/>
            <a:ext cx="609480" cy="457200"/>
          </a:xfrm>
          <a:prstGeom prst="downArrowCallout">
            <a:avLst>
              <a:gd name="adj1" fmla="val 33330"/>
              <a:gd name="adj2" fmla="val 33327"/>
              <a:gd name="adj3" fmla="val 16667"/>
              <a:gd name="adj4" fmla="val 6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114800" y="4495680"/>
            <a:ext cx="609480" cy="457200"/>
          </a:xfrm>
          <a:prstGeom prst="downArrowCallout">
            <a:avLst>
              <a:gd name="adj1" fmla="val 33330"/>
              <a:gd name="adj2" fmla="val 33327"/>
              <a:gd name="adj3" fmla="val 16667"/>
              <a:gd name="adj4" fmla="val 6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33720" y="4495680"/>
            <a:ext cx="761760" cy="228600"/>
          </a:xfrm>
          <a:prstGeom prst="downArrowCallout">
            <a:avLst>
              <a:gd name="adj1" fmla="val 83315"/>
              <a:gd name="adj2" fmla="val 83307"/>
              <a:gd name="adj3" fmla="val 16667"/>
              <a:gd name="adj4" fmla="val 6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11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876920" y="5257800"/>
            <a:ext cx="4267080" cy="17208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0" y="2895480"/>
            <a:ext cx="4952880" cy="39625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600200" y="2895480"/>
            <a:ext cx="1600200" cy="838440"/>
          </a:xfrm>
          <a:custGeom>
            <a:avLst/>
            <a:gdLst>
              <a:gd name="textAreaLeft" fmla="*/ 399960 w 1600200"/>
              <a:gd name="textAreaRight" fmla="*/ 1200240 w 160020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4495680"/>
            <a:ext cx="609480" cy="457200"/>
          </a:xfrm>
          <a:prstGeom prst="downArrowCallout">
            <a:avLst>
              <a:gd name="adj1" fmla="val 33330"/>
              <a:gd name="adj2" fmla="val 33327"/>
              <a:gd name="adj3" fmla="val 16667"/>
              <a:gd name="adj4" fmla="val 6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14800" y="4495680"/>
            <a:ext cx="609480" cy="457200"/>
          </a:xfrm>
          <a:prstGeom prst="downArrowCallout">
            <a:avLst>
              <a:gd name="adj1" fmla="val 33330"/>
              <a:gd name="adj2" fmla="val 33327"/>
              <a:gd name="adj3" fmla="val 16667"/>
              <a:gd name="adj4" fmla="val 6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4495680"/>
            <a:ext cx="761760" cy="228600"/>
          </a:xfrm>
          <a:prstGeom prst="downArrowCallout">
            <a:avLst>
              <a:gd name="adj1" fmla="val 83315"/>
              <a:gd name="adj2" fmla="val 83307"/>
              <a:gd name="adj3" fmla="val 16667"/>
              <a:gd name="adj4" fmla="val 6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952880" y="0"/>
            <a:ext cx="4191120" cy="1752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ом</cp:lastModifiedBy>
  <dcterms:modified xsi:type="dcterms:W3CDTF">2013-12-26T02:58:00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