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D2C-48E7-4E14-8B85-8B849CB8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1F5-CCAD-4A0F-A2A8-0BA78212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F38-B26C-47D1-BD23-C72D46B8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7E5-10D4-4C06-951E-DC86FF04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835-9EA5-4176-A013-74926FAB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719-39B3-4A13-A9D4-EFF4B81D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92B-C8B9-44C0-8415-C48B3534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2FE-1EC8-4968-AC5F-2EC91925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F9E-DB48-47E5-BC10-DE610A53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27A-9C64-4CB5-A2B2-01248F9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D28-A065-4912-8552-100B7F7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3AB-0E76-4D8C-AABF-4D378A57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C69-54A8-4442-8C73-9DE93C89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9680" y="3962520"/>
            <a:ext cx="873432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Доброввольное пребывание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человека 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в природной среде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-2590920" y="28954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62320" y="762120"/>
            <a:ext cx="39621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рок 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3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267080" cy="1697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267080" cy="169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0"/>
            <a:ext cx="42670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581280"/>
            <a:ext cx="4191120" cy="358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5380200"/>
            <a:ext cx="4419720" cy="188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2880" y="5380200"/>
            <a:ext cx="4419720" cy="188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29200" y="0"/>
            <a:ext cx="411480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52880" y="5181480"/>
            <a:ext cx="4448160" cy="188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5181480"/>
            <a:ext cx="4448160" cy="188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502920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76920" y="0"/>
            <a:ext cx="42670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1828800"/>
            <a:ext cx="7467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Изучение</a:t>
            </a:r>
            <a:endParaRPr b="1" lang="en-US" sz="1800" spc="1" strike="noStrike">
              <a:ln w="3168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ового материала</a:t>
            </a:r>
            <a:endParaRPr b="1" lang="en-US" sz="1800" spc="1" strike="noStrike">
              <a:ln w="3168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вольная автономия человека в природной среде – это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подготовки человека к условиям добровольной автономии человека в природной сре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37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/З: 4.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38480" y="3040200"/>
            <a:ext cx="5105520" cy="3817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ыбор места для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бивуака (стоянки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76520"/>
            <a:ext cx="3886200" cy="487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5812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вная, возвышенная площадка, рядом - источник питьевой воды и достаточно сухого хво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льзя располагаться в лесу среди сухостоя, а в горах - под склоном, подверженным осып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ле лагеря должна быть площадка для подачи сигналов бедствия и приема верто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5257800" cy="391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0" y="30492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особы ориентирования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00200"/>
            <a:ext cx="3809880" cy="5257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330720" cy="45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омп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олн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т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еханическим ча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х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нежным прогали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уравей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4952880" cy="4084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0"/>
            <a:ext cx="8381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а з в е д е н и 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 о с т р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3886200" cy="5257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1800" y="1828800"/>
            <a:ext cx="355932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разведении костра нельз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одить костер возле дере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ть для костра живые 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лять без присмотра горящий ко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лять без присмотра горящий костер более чем на 1,5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одить костер на торфяных боло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2133720"/>
            <a:ext cx="67820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стирование</a:t>
            </a:r>
            <a:endParaRPr b="1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2662200"/>
            <a:ext cx="5014800" cy="3936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2662200"/>
            <a:ext cx="5014800" cy="3936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502920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52880" y="0"/>
            <a:ext cx="4191120" cy="1371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334120"/>
            <a:ext cx="4114800" cy="1295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495680" cy="3613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495680" cy="361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876920" cy="4952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52880" y="0"/>
            <a:ext cx="4191120" cy="1143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429000"/>
            <a:ext cx="4267080" cy="1143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175248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ове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машне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601200" cy="4452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601200" cy="4453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952880" y="0"/>
            <a:ext cx="41911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424160"/>
            <a:ext cx="815328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4267080" cy="172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2895480"/>
            <a:ext cx="1600200" cy="83844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4495680"/>
            <a:ext cx="761760" cy="228600"/>
          </a:xfrm>
          <a:prstGeom prst="downArrowCallout">
            <a:avLst>
              <a:gd name="adj1" fmla="val 83315"/>
              <a:gd name="adj2" fmla="val 8330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4267080" cy="172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2895480"/>
            <a:ext cx="1600200" cy="83844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4495680"/>
            <a:ext cx="761760" cy="228600"/>
          </a:xfrm>
          <a:prstGeom prst="downArrowCallout">
            <a:avLst>
              <a:gd name="adj1" fmla="val 83315"/>
              <a:gd name="adj2" fmla="val 8330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0"/>
            <a:ext cx="41911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12-26T02:58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