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77C-DA89-4F5F-AECA-BD38BD67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848-5749-4799-B424-D729AF8B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0C7-9B44-45BC-A7FF-3BCDAB57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943-6B4C-4E15-90C0-BCC7E087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2BD-FB2C-4A30-9056-24109C7E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092-69B9-4415-A17A-80A18807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C26-524C-45D9-B67F-39E3142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F9C-C112-45CA-949F-7415EB5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ABC-4162-4788-8532-67FE9EF6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4A4-D4E8-4B03-8B37-01D6C34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01D-80C8-4B24-BAC4-A5BB8A1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09D-CA40-446A-90E1-E8F1879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5FF-8E03-46CD-84C2-9FC0A70EE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4305240" y="620640"/>
            <a:ext cx="47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4390920" y="191628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/>
          <p:cNvSpPr/>
          <p:nvPr/>
        </p:nvSpPr>
        <p:spPr>
          <a:xfrm>
            <a:off x="3203640" y="51577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"/>
          <p:cNvSpPr/>
          <p:nvPr/>
        </p:nvSpPr>
        <p:spPr>
          <a:xfrm>
            <a:off x="1219320" y="2163600"/>
            <a:ext cx="1981080" cy="172260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1248" h="1085">
                <a:moveTo>
                  <a:pt x="0" y="595"/>
                </a:moveTo>
                <a:lnTo>
                  <a:pt x="1066" y="0"/>
                </a:lnTo>
                <a:lnTo>
                  <a:pt x="1248" y="1085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900000" y="2133720"/>
            <a:ext cx="2254320" cy="1752480"/>
          </a:xfrm>
          <a:custGeom>
            <a:avLst/>
            <a:gdLst>
              <a:gd name="textAreaLeft" fmla="*/ 0 w 2254320"/>
              <a:gd name="textAreaRight" fmla="*/ 2254680 w 22543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1420" h="1104">
                <a:moveTo>
                  <a:pt x="0" y="835"/>
                </a:moveTo>
                <a:lnTo>
                  <a:pt x="1277" y="0"/>
                </a:lnTo>
                <a:lnTo>
                  <a:pt x="1420" y="1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117880" y="10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"/>
          <p:cNvGrpSpPr/>
          <p:nvPr/>
        </p:nvGrpSpPr>
        <p:grpSpPr>
          <a:xfrm>
            <a:off x="397440" y="1628640"/>
            <a:ext cx="4035600" cy="3247920"/>
            <a:chOff x="397440" y="1628640"/>
            <a:chExt cx="4035600" cy="3247920"/>
          </a:xfrm>
        </p:grpSpPr>
        <p:grpSp>
          <p:nvGrpSpPr>
            <p:cNvPr id="48" name="Group 7"/>
            <p:cNvGrpSpPr/>
            <p:nvPr/>
          </p:nvGrpSpPr>
          <p:grpSpPr>
            <a:xfrm>
              <a:off x="874080" y="1628640"/>
              <a:ext cx="3240000" cy="2787840"/>
              <a:chOff x="874080" y="1628640"/>
              <a:chExt cx="3240000" cy="2787840"/>
            </a:xfrm>
          </p:grpSpPr>
          <p:sp>
            <p:nvSpPr>
              <p:cNvPr id="49" name="Line 8"/>
              <p:cNvSpPr/>
              <p:nvPr/>
            </p:nvSpPr>
            <p:spPr>
              <a:xfrm flipV="1">
                <a:off x="959040" y="3457800"/>
                <a:ext cx="3069720" cy="1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9"/>
              <p:cNvSpPr/>
              <p:nvPr/>
            </p:nvSpPr>
            <p:spPr>
              <a:xfrm>
                <a:off x="874080" y="1628640"/>
                <a:ext cx="1619640" cy="2787840"/>
              </a:xfrm>
              <a:custGeom>
                <a:avLst/>
                <a:gdLst>
                  <a:gd name="textAreaLeft" fmla="*/ 0 w 1619640"/>
                  <a:gd name="textAreaRight" fmla="*/ 1620000 w 161964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48" h="1824">
                    <a:moveTo>
                      <a:pt x="0" y="1200"/>
                    </a:moveTo>
                    <a:lnTo>
                      <a:pt x="720" y="1824"/>
                    </a:lnTo>
                    <a:lnTo>
                      <a:pt x="1248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0"/>
              <p:cNvSpPr/>
              <p:nvPr/>
            </p:nvSpPr>
            <p:spPr>
              <a:xfrm>
                <a:off x="1811880" y="1628640"/>
                <a:ext cx="2302200" cy="2787840"/>
              </a:xfrm>
              <a:custGeom>
                <a:avLst/>
                <a:gdLst>
                  <a:gd name="textAreaLeft" fmla="*/ 0 w 2302200"/>
                  <a:gd name="textAreaRight" fmla="*/ 2302560 w 2302200"/>
                  <a:gd name="textAreaTop" fmla="*/ 0 h 2787840"/>
                  <a:gd name="textAreaBottom" fmla="*/ 2788200 h 2787840"/>
                </a:gdLst>
                <a:ahLst/>
                <a:rect l="textAreaLeft" t="textAreaTop" r="textAreaRight" b="textAreaBottom"/>
                <a:pathLst>
                  <a:path w="1296" h="1536">
                    <a:moveTo>
                      <a:pt x="0" y="1536"/>
                    </a:moveTo>
                    <a:lnTo>
                      <a:pt x="384" y="0"/>
                    </a:lnTo>
                    <a:lnTo>
                      <a:pt x="1296" y="1008"/>
                    </a:lnTo>
                    <a:lnTo>
                      <a:pt x="0" y="1536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Text Box 11"/>
            <p:cNvSpPr/>
            <p:nvPr/>
          </p:nvSpPr>
          <p:spPr>
            <a:xfrm>
              <a:off x="1545120" y="4416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97440" y="3115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4032720" y="320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3076560" y="37674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2884680" y="162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6"/>
            <p:cNvSpPr/>
            <p:nvPr/>
          </p:nvSpPr>
          <p:spPr>
            <a:xfrm>
              <a:off x="683280" y="255852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1160640" y="302364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2882520" y="2093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3169080" y="3767400"/>
              <a:ext cx="96840" cy="93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21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5"/>
          <p:cNvSpPr/>
          <p:nvPr/>
        </p:nvSpPr>
        <p:spPr>
          <a:xfrm>
            <a:off x="1828800" y="1630440"/>
            <a:ext cx="639720" cy="2773440"/>
          </a:xfrm>
          <a:custGeom>
            <a:avLst/>
            <a:gdLst>
              <a:gd name="textAreaLeft" fmla="*/ 0 w 639720"/>
              <a:gd name="textAreaRight" fmla="*/ 640080 w 639720"/>
              <a:gd name="textAreaTop" fmla="*/ 0 h 2773440"/>
              <a:gd name="textAreaBottom" fmla="*/ 2773800 h 2773440"/>
            </a:gdLst>
            <a:ahLst/>
            <a:rect l="textAreaLeft" t="textAreaTop" r="textAreaRight" b="textAreaBottom"/>
            <a:pathLst>
              <a:path w="403" h="1747">
                <a:moveTo>
                  <a:pt x="0" y="1747"/>
                </a:moveTo>
                <a:lnTo>
                  <a:pt x="403" y="0"/>
                </a:lnTo>
              </a:path>
            </a:pathLst>
          </a:custGeom>
          <a:noFill/>
          <a:ln w="63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2"/>
          <p:cNvSpPr/>
          <p:nvPr/>
        </p:nvSpPr>
        <p:spPr>
          <a:xfrm>
            <a:off x="1203480" y="2179800"/>
            <a:ext cx="2012760" cy="170640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1706400"/>
              <a:gd name="textAreaBottom" fmla="*/ 1706760 h 1706400"/>
            </a:gdLst>
            <a:ahLst/>
            <a:rect l="textAreaLeft" t="textAreaTop" r="textAreaRight" b="textAreaBottom"/>
            <a:pathLst>
              <a:path w="1268" h="1075">
                <a:moveTo>
                  <a:pt x="0" y="566"/>
                </a:moveTo>
                <a:lnTo>
                  <a:pt x="1095" y="0"/>
                </a:lnTo>
                <a:lnTo>
                  <a:pt x="1268" y="1075"/>
                </a:lnTo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1235160" y="2163600"/>
            <a:ext cx="1660320" cy="2271960"/>
          </a:xfrm>
          <a:custGeom>
            <a:avLst/>
            <a:gdLst>
              <a:gd name="textAreaLeft" fmla="*/ 0 w 1660320"/>
              <a:gd name="textAreaRight" fmla="*/ 1660680 w 1660320"/>
              <a:gd name="textAreaTop" fmla="*/ 0 h 2271960"/>
              <a:gd name="textAreaBottom" fmla="*/ 2271960 h 2271960"/>
            </a:gdLst>
            <a:ahLst/>
            <a:rect l="textAreaLeft" t="textAreaTop" r="textAreaRight" b="textAreaBottom"/>
            <a:pathLst>
              <a:path w="1046" h="1431">
                <a:moveTo>
                  <a:pt x="0" y="595"/>
                </a:moveTo>
                <a:lnTo>
                  <a:pt x="1046" y="0"/>
                </a:lnTo>
                <a:lnTo>
                  <a:pt x="355" y="1431"/>
                </a:lnTo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7"/>
          <p:cNvGrpSpPr/>
          <p:nvPr/>
        </p:nvGrpSpPr>
        <p:grpSpPr>
          <a:xfrm>
            <a:off x="397440" y="1052640"/>
            <a:ext cx="4035600" cy="3862080"/>
            <a:chOff x="397440" y="1052640"/>
            <a:chExt cx="4035600" cy="3862080"/>
          </a:xfrm>
        </p:grpSpPr>
        <p:sp>
          <p:nvSpPr>
            <p:cNvPr id="68" name="Text Box 5"/>
            <p:cNvSpPr/>
            <p:nvPr/>
          </p:nvSpPr>
          <p:spPr>
            <a:xfrm>
              <a:off x="2117880" y="1052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6"/>
            <p:cNvGrpSpPr/>
            <p:nvPr/>
          </p:nvGrpSpPr>
          <p:grpSpPr>
            <a:xfrm>
              <a:off x="397440" y="1666800"/>
              <a:ext cx="4035600" cy="3247920"/>
              <a:chOff x="397440" y="1666800"/>
              <a:chExt cx="4035600" cy="3247920"/>
            </a:xfrm>
          </p:grpSpPr>
          <p:grpSp>
            <p:nvGrpSpPr>
              <p:cNvPr id="70" name="Group 7"/>
              <p:cNvGrpSpPr/>
              <p:nvPr/>
            </p:nvGrpSpPr>
            <p:grpSpPr>
              <a:xfrm>
                <a:off x="874080" y="1666800"/>
                <a:ext cx="3240000" cy="2787840"/>
                <a:chOff x="874080" y="1666800"/>
                <a:chExt cx="3240000" cy="2787840"/>
              </a:xfrm>
            </p:grpSpPr>
            <p:sp>
              <p:nvSpPr>
                <p:cNvPr id="71" name="Line 8"/>
                <p:cNvSpPr/>
                <p:nvPr/>
              </p:nvSpPr>
              <p:spPr>
                <a:xfrm flipV="1">
                  <a:off x="959040" y="3495960"/>
                  <a:ext cx="3069720" cy="1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9"/>
                <p:cNvSpPr/>
                <p:nvPr/>
              </p:nvSpPr>
              <p:spPr>
                <a:xfrm>
                  <a:off x="874080" y="1666800"/>
                  <a:ext cx="1619640" cy="2787840"/>
                </a:xfrm>
                <a:custGeom>
                  <a:avLst/>
                  <a:gdLst>
                    <a:gd name="textAreaLeft" fmla="*/ 0 w 1619640"/>
                    <a:gd name="textAreaRight" fmla="*/ 1620000 w 161964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48" h="1824">
                      <a:moveTo>
                        <a:pt x="0" y="1200"/>
                      </a:moveTo>
                      <a:lnTo>
                        <a:pt x="720" y="1824"/>
                      </a:lnTo>
                      <a:lnTo>
                        <a:pt x="1248" y="0"/>
                      </a:lnTo>
                      <a:lnTo>
                        <a:pt x="0" y="1200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10"/>
                <p:cNvSpPr/>
                <p:nvPr/>
              </p:nvSpPr>
              <p:spPr>
                <a:xfrm>
                  <a:off x="1811880" y="1666800"/>
                  <a:ext cx="2302200" cy="2787840"/>
                </a:xfrm>
                <a:custGeom>
                  <a:avLst/>
                  <a:gdLst>
                    <a:gd name="textAreaLeft" fmla="*/ 0 w 2302200"/>
                    <a:gd name="textAreaRight" fmla="*/ 2302560 w 2302200"/>
                    <a:gd name="textAreaTop" fmla="*/ 0 h 2787840"/>
                    <a:gd name="textAreaBottom" fmla="*/ 2788200 h 2787840"/>
                  </a:gdLst>
                  <a:ahLst/>
                  <a:rect l="textAreaLeft" t="textAreaTop" r="textAreaRight" b="textAreaBottom"/>
                  <a:pathLst>
                    <a:path w="1296" h="1536">
                      <a:moveTo>
                        <a:pt x="0" y="1536"/>
                      </a:moveTo>
                      <a:lnTo>
                        <a:pt x="384" y="0"/>
                      </a:lnTo>
                      <a:lnTo>
                        <a:pt x="1296" y="1008"/>
                      </a:lnTo>
                      <a:lnTo>
                        <a:pt x="0" y="1536"/>
                      </a:lnTo>
                      <a:close/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Text Box 11"/>
              <p:cNvSpPr/>
              <p:nvPr/>
            </p:nvSpPr>
            <p:spPr>
              <a:xfrm>
                <a:off x="1545120" y="4455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397440" y="3153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13"/>
              <p:cNvSpPr/>
              <p:nvPr/>
            </p:nvSpPr>
            <p:spPr>
              <a:xfrm>
                <a:off x="4032720" y="3246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14"/>
              <p:cNvSpPr/>
              <p:nvPr/>
            </p:nvSpPr>
            <p:spPr>
              <a:xfrm>
                <a:off x="3076560" y="38055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5"/>
              <p:cNvSpPr/>
              <p:nvPr/>
            </p:nvSpPr>
            <p:spPr>
              <a:xfrm>
                <a:off x="2884680" y="166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6"/>
              <p:cNvSpPr/>
              <p:nvPr/>
            </p:nvSpPr>
            <p:spPr>
              <a:xfrm>
                <a:off x="683280" y="2596680"/>
                <a:ext cx="57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7"/>
              <p:cNvSpPr/>
              <p:nvPr/>
            </p:nvSpPr>
            <p:spPr>
              <a:xfrm>
                <a:off x="1160640" y="306180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8"/>
              <p:cNvSpPr/>
              <p:nvPr/>
            </p:nvSpPr>
            <p:spPr>
              <a:xfrm>
                <a:off x="2882520" y="2131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19"/>
              <p:cNvSpPr/>
              <p:nvPr/>
            </p:nvSpPr>
            <p:spPr>
              <a:xfrm>
                <a:off x="3169080" y="3805560"/>
                <a:ext cx="96840" cy="93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Text Box 20"/>
          <p:cNvSpPr/>
          <p:nvPr/>
        </p:nvSpPr>
        <p:spPr>
          <a:xfrm>
            <a:off x="4288320" y="620640"/>
            <a:ext cx="47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две  плоскост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держащие  прям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2925720" y="2149560"/>
            <a:ext cx="258840" cy="1736640"/>
          </a:xfrm>
          <a:custGeom>
            <a:avLst/>
            <a:gdLst>
              <a:gd name="textAreaLeft" fmla="*/ 0 w 258840"/>
              <a:gd name="textAreaRight" fmla="*/ 259200 w 258840"/>
              <a:gd name="textAreaTop" fmla="*/ 0 h 1736640"/>
              <a:gd name="textAreaBottom" fmla="*/ 1737000 h 1736640"/>
            </a:gdLst>
            <a:ahLst/>
            <a:rect l="textAreaLeft" t="textAreaTop" r="textAreaRight" b="textAreaBottom"/>
            <a:pathLst>
              <a:path w="163" h="1094">
                <a:moveTo>
                  <a:pt x="163" y="109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4397760" y="1916280"/>
            <a:ext cx="4455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Назовите  прямую 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торой  пересек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203480" y="2133720"/>
            <a:ext cx="1747800" cy="990360"/>
          </a:xfrm>
          <a:custGeom>
            <a:avLst/>
            <a:gdLst>
              <a:gd name="textAreaLeft" fmla="*/ 0 w 1747800"/>
              <a:gd name="textAreaRight" fmla="*/ 1748160 w 1747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101" h="624">
                <a:moveTo>
                  <a:pt x="0" y="624"/>
                </a:moveTo>
                <a:lnTo>
                  <a:pt x="1101" y="0"/>
                </a:lnTo>
              </a:path>
            </a:pathLst>
          </a:custGeom>
          <a:noFill/>
          <a:ln w="507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4"/>
          <p:cNvSpPr/>
          <p:nvPr/>
        </p:nvSpPr>
        <p:spPr>
          <a:xfrm>
            <a:off x="3207960" y="5157720"/>
            <a:ext cx="5644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зовите  плоскость,  котор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секает  прямая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5"/>
          <p:cNvSpPr/>
          <p:nvPr/>
        </p:nvSpPr>
        <p:spPr>
          <a:xfrm>
            <a:off x="868320" y="3489480"/>
            <a:ext cx="3246480" cy="15840"/>
          </a:xfrm>
          <a:custGeom>
            <a:avLst/>
            <a:gdLst>
              <a:gd name="textAreaLeft" fmla="*/ 0 w 3246480"/>
              <a:gd name="textAreaRight" fmla="*/ 3246840 w 3246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45" h="10">
                <a:moveTo>
                  <a:pt x="0" y="0"/>
                </a:moveTo>
                <a:lnTo>
                  <a:pt x="2045" y="10"/>
                </a:lnTo>
              </a:path>
            </a:pathLst>
          </a:custGeom>
          <a:noFill/>
          <a:ln w="475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6"/>
          <p:cNvSpPr/>
          <p:nvPr/>
        </p:nvSpPr>
        <p:spPr>
          <a:xfrm>
            <a:off x="755640" y="6206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250920" y="1628640"/>
            <a:ext cx="4248000" cy="2303640"/>
          </a:xfrm>
          <a:prstGeom prst="parallelogram">
            <a:avLst>
              <a:gd name="adj" fmla="val 4610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3635280" y="1989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1042920" y="328464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2771640" y="364500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2050920" y="2781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2916360" y="3357720"/>
            <a:ext cx="7128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2411280" y="2997360"/>
            <a:ext cx="71640" cy="77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3203640" y="1628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134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34216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468360" y="1844640"/>
            <a:ext cx="3537000" cy="1798560"/>
          </a:xfrm>
          <a:custGeom>
            <a:avLst/>
            <a:gdLst>
              <a:gd name="textAreaLeft" fmla="*/ 0 w 3537000"/>
              <a:gd name="textAreaRight" fmla="*/ 3537360 w 353700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2228" h="1133">
                <a:moveTo>
                  <a:pt x="0" y="1133"/>
                </a:moveTo>
                <a:lnTo>
                  <a:pt x="2228" y="0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2627280" y="1773360"/>
            <a:ext cx="1157400" cy="222552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225520"/>
              <a:gd name="textAreaBottom" fmla="*/ 2225880 h 2225520"/>
            </a:gdLst>
            <a:ahLst/>
            <a:rect l="textAreaLeft" t="textAreaTop" r="textAreaRight" b="textAreaBottom"/>
            <a:pathLst>
              <a:path w="729" h="1402">
                <a:moveTo>
                  <a:pt x="729" y="0"/>
                </a:moveTo>
                <a:lnTo>
                  <a:pt x="0" y="140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979640" y="227664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987640" y="2997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9"/>
          <p:cNvSpPr/>
          <p:nvPr/>
        </p:nvSpPr>
        <p:spPr>
          <a:xfrm>
            <a:off x="1547640" y="2421000"/>
            <a:ext cx="1995840" cy="1387440"/>
          </a:xfrm>
          <a:custGeom>
            <a:avLst/>
            <a:gdLst>
              <a:gd name="textAreaLeft" fmla="*/ 0 w 1995840"/>
              <a:gd name="textAreaRight" fmla="*/ 1996200 w 199584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1257" h="874">
                <a:moveTo>
                  <a:pt x="0" y="0"/>
                </a:moveTo>
                <a:lnTo>
                  <a:pt x="1257" y="87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2484360" y="2637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640040" y="119700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очки А, В, С не лежа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0" y="2133720"/>
            <a:ext cx="36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 принадлежит 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4591800" y="2637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 принадлежит 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4603320" y="31417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 принадлежит М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962160" y="3716280"/>
            <a:ext cx="43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Докажите, что точка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лежит в плоскости АВ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4"/>
              <p:cNvSpPr txBox="1"/>
              <p:nvPr/>
            </p:nvSpPr>
            <p:spPr>
              <a:xfrm>
                <a:off x="6732720" y="126828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6"/>
              <p:cNvSpPr txBox="1"/>
              <p:nvPr/>
            </p:nvSpPr>
            <p:spPr>
              <a:xfrm>
                <a:off x="7596360" y="1197000"/>
                <a:ext cx="475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Text Box 23"/>
          <p:cNvSpPr/>
          <p:nvPr/>
        </p:nvSpPr>
        <p:spPr>
          <a:xfrm>
            <a:off x="4739040" y="126828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      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82120" y="17733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ересекаются по прям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4067280" y="2421000"/>
            <a:ext cx="507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ямая а лежи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и пересе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ь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5"/>
              <p:cNvSpPr txBox="1"/>
              <p:nvPr/>
            </p:nvSpPr>
            <p:spPr>
              <a:xfrm>
                <a:off x="6012000" y="3284640"/>
                <a:ext cx="522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Text Box 38"/>
          <p:cNvSpPr/>
          <p:nvPr/>
        </p:nvSpPr>
        <p:spPr>
          <a:xfrm>
            <a:off x="2656800" y="4672080"/>
            <a:ext cx="54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ересекаются ли прямые а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95280" y="1413000"/>
            <a:ext cx="302436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 flipV="1">
            <a:off x="395280" y="3068640"/>
            <a:ext cx="4032360" cy="1511280"/>
          </a:xfrm>
          <a:prstGeom prst="parallelogram">
            <a:avLst>
              <a:gd name="adj" fmla="val 6670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611280" y="1557360"/>
                <a:ext cx="576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8"/>
              <p:cNvSpPr txBox="1"/>
              <p:nvPr/>
            </p:nvSpPr>
            <p:spPr>
              <a:xfrm>
                <a:off x="3635280" y="3933720"/>
                <a:ext cx="507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Freeform 29"/>
          <p:cNvSpPr/>
          <p:nvPr/>
        </p:nvSpPr>
        <p:spPr>
          <a:xfrm>
            <a:off x="76320" y="3048120"/>
            <a:ext cx="4174920" cy="15840"/>
          </a:xfrm>
          <a:custGeom>
            <a:avLst/>
            <a:gdLst>
              <a:gd name="textAreaLeft" fmla="*/ 0 w 4174920"/>
              <a:gd name="textAreaRight" fmla="*/ 4174920 w 4174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30" h="10">
                <a:moveTo>
                  <a:pt x="0" y="10"/>
                </a:moveTo>
                <a:lnTo>
                  <a:pt x="263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3782520" y="2637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1"/>
          <p:cNvSpPr/>
          <p:nvPr/>
        </p:nvSpPr>
        <p:spPr>
          <a:xfrm>
            <a:off x="1477800" y="1630440"/>
            <a:ext cx="747720" cy="1439640"/>
          </a:xfrm>
          <a:custGeom>
            <a:avLst/>
            <a:gdLst>
              <a:gd name="textAreaLeft" fmla="*/ 0 w 747720"/>
              <a:gd name="textAreaRight" fmla="*/ 748080 w 747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471" h="907">
                <a:moveTo>
                  <a:pt x="471" y="0"/>
                </a:moveTo>
                <a:lnTo>
                  <a:pt x="0" y="90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2"/>
          <p:cNvSpPr/>
          <p:nvPr/>
        </p:nvSpPr>
        <p:spPr>
          <a:xfrm>
            <a:off x="1082520" y="3068640"/>
            <a:ext cx="395280" cy="75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49" h="477">
                <a:moveTo>
                  <a:pt x="249" y="0"/>
                </a:moveTo>
                <a:lnTo>
                  <a:pt x="0" y="477"/>
                </a:lnTo>
              </a:path>
            </a:pathLst>
          </a:custGeom>
          <a:noFill/>
          <a:ln w="2844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3"/>
          <p:cNvSpPr/>
          <p:nvPr/>
        </p:nvSpPr>
        <p:spPr>
          <a:xfrm>
            <a:off x="198360" y="3870360"/>
            <a:ext cx="868320" cy="1662120"/>
          </a:xfrm>
          <a:custGeom>
            <a:avLst/>
            <a:gdLst>
              <a:gd name="textAreaLeft" fmla="*/ 0 w 868320"/>
              <a:gd name="textAreaRight" fmla="*/ 868680 w 86832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547" h="1047">
                <a:moveTo>
                  <a:pt x="547" y="0"/>
                </a:moveTo>
                <a:lnTo>
                  <a:pt x="0" y="104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8944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1693440" y="1460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239440" y="1574640"/>
            <a:ext cx="34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 прямо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С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219640" y="191628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 - перес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го  диагона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6"/>
          <p:cNvGrpSpPr/>
          <p:nvPr/>
        </p:nvGrpSpPr>
        <p:grpSpPr>
          <a:xfrm>
            <a:off x="2160" y="1400040"/>
            <a:ext cx="5528520" cy="3457800"/>
            <a:chOff x="2160" y="1400040"/>
            <a:chExt cx="5528520" cy="3457800"/>
          </a:xfrm>
        </p:grpSpPr>
        <p:sp>
          <p:nvSpPr>
            <p:cNvPr id="136" name="Freeform 6"/>
            <p:cNvSpPr/>
            <p:nvPr/>
          </p:nvSpPr>
          <p:spPr>
            <a:xfrm>
              <a:off x="58680" y="1400040"/>
              <a:ext cx="5472000" cy="345780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3457800"/>
                <a:gd name="textAreaBottom" fmla="*/ 3458160 h 3457800"/>
              </a:gdLst>
              <a:ahLst/>
              <a:rect l="textAreaLeft" t="textAreaTop" r="textAreaRight" b="textAreaBottom"/>
              <a:pathLst>
                <a:path w="3447" h="2178">
                  <a:moveTo>
                    <a:pt x="484" y="416"/>
                  </a:moveTo>
                  <a:cubicBezTo>
                    <a:pt x="627" y="340"/>
                    <a:pt x="960" y="106"/>
                    <a:pt x="1119" y="53"/>
                  </a:cubicBezTo>
                  <a:cubicBezTo>
                    <a:pt x="1278" y="0"/>
                    <a:pt x="1271" y="106"/>
                    <a:pt x="1437" y="99"/>
                  </a:cubicBezTo>
                  <a:cubicBezTo>
                    <a:pt x="1603" y="92"/>
                    <a:pt x="1928" y="1"/>
                    <a:pt x="2117" y="8"/>
                  </a:cubicBezTo>
                  <a:cubicBezTo>
                    <a:pt x="2306" y="15"/>
                    <a:pt x="2412" y="84"/>
                    <a:pt x="2571" y="144"/>
                  </a:cubicBezTo>
                  <a:cubicBezTo>
                    <a:pt x="2730" y="204"/>
                    <a:pt x="2972" y="243"/>
                    <a:pt x="3070" y="371"/>
                  </a:cubicBezTo>
                  <a:cubicBezTo>
                    <a:pt x="3168" y="499"/>
                    <a:pt x="3108" y="711"/>
                    <a:pt x="3161" y="915"/>
                  </a:cubicBezTo>
                  <a:cubicBezTo>
                    <a:pt x="3214" y="1119"/>
                    <a:pt x="3447" y="1407"/>
                    <a:pt x="3387" y="1596"/>
                  </a:cubicBezTo>
                  <a:cubicBezTo>
                    <a:pt x="3327" y="1785"/>
                    <a:pt x="2987" y="1958"/>
                    <a:pt x="2798" y="2049"/>
                  </a:cubicBezTo>
                  <a:cubicBezTo>
                    <a:pt x="2609" y="2140"/>
                    <a:pt x="2434" y="2178"/>
                    <a:pt x="2253" y="2140"/>
                  </a:cubicBezTo>
                  <a:cubicBezTo>
                    <a:pt x="2072" y="2102"/>
                    <a:pt x="1875" y="1860"/>
                    <a:pt x="1709" y="1822"/>
                  </a:cubicBezTo>
                  <a:cubicBezTo>
                    <a:pt x="1543" y="1784"/>
                    <a:pt x="1444" y="1860"/>
                    <a:pt x="1255" y="1913"/>
                  </a:cubicBezTo>
                  <a:cubicBezTo>
                    <a:pt x="1066" y="1966"/>
                    <a:pt x="771" y="2163"/>
                    <a:pt x="575" y="2140"/>
                  </a:cubicBezTo>
                  <a:cubicBezTo>
                    <a:pt x="379" y="2117"/>
                    <a:pt x="152" y="1974"/>
                    <a:pt x="76" y="1777"/>
                  </a:cubicBezTo>
                  <a:cubicBezTo>
                    <a:pt x="0" y="1580"/>
                    <a:pt x="91" y="1172"/>
                    <a:pt x="121" y="960"/>
                  </a:cubicBezTo>
                  <a:cubicBezTo>
                    <a:pt x="151" y="748"/>
                    <a:pt x="190" y="598"/>
                    <a:pt x="258" y="507"/>
                  </a:cubicBezTo>
                  <a:cubicBezTo>
                    <a:pt x="326" y="416"/>
                    <a:pt x="341" y="492"/>
                    <a:pt x="484" y="41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324000" y="2205000"/>
              <a:ext cx="4464000" cy="1871640"/>
            </a:xfrm>
            <a:prstGeom prst="parallelogram">
              <a:avLst>
                <a:gd name="adj" fmla="val 59627"/>
              </a:avLst>
            </a:prstGeom>
            <a:solidFill>
              <a:srgbClr val="faffeb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8"/>
                <p:cNvSpPr txBox="1"/>
                <p:nvPr/>
              </p:nvSpPr>
              <p:spPr>
                <a:xfrm>
                  <a:off x="4932360" y="3573360"/>
                  <a:ext cx="4888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Freeform 10"/>
            <p:cNvSpPr/>
            <p:nvPr/>
          </p:nvSpPr>
          <p:spPr>
            <a:xfrm>
              <a:off x="563400" y="3657600"/>
              <a:ext cx="533520" cy="158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6" h="10">
                  <a:moveTo>
                    <a:pt x="0" y="10"/>
                  </a:move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853920" y="3657600"/>
              <a:ext cx="212760" cy="41112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4" h="259">
                  <a:moveTo>
                    <a:pt x="0" y="259"/>
                  </a:moveTo>
                  <a:lnTo>
                    <a:pt x="13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>
              <a:off x="2160" y="36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1045080" y="184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4645440" y="2133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356616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334800" y="2225520"/>
              <a:ext cx="4435560" cy="1843200"/>
            </a:xfrm>
            <a:custGeom>
              <a:avLst/>
              <a:gdLst>
                <a:gd name="textAreaLeft" fmla="*/ 0 w 4435560"/>
                <a:gd name="textAreaRight" fmla="*/ 4435920 w 4435560"/>
                <a:gd name="textAreaTop" fmla="*/ 0 h 1843200"/>
                <a:gd name="textAreaBottom" fmla="*/ 1843560 h 1843200"/>
              </a:gdLst>
              <a:ahLst/>
              <a:rect l="textAreaLeft" t="textAreaTop" r="textAreaRight" b="textAreaBottom"/>
              <a:pathLst>
                <a:path w="2794" h="1161">
                  <a:moveTo>
                    <a:pt x="0" y="1161"/>
                  </a:moveTo>
                  <a:lnTo>
                    <a:pt x="2794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1417680" y="2209680"/>
              <a:ext cx="2255760" cy="1859040"/>
            </a:xfrm>
            <a:custGeom>
              <a:avLst/>
              <a:gdLst>
                <a:gd name="textAreaLeft" fmla="*/ 0 w 2255760"/>
                <a:gd name="textAreaRight" fmla="*/ 2256120 w 225576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421" h="1171">
                  <a:moveTo>
                    <a:pt x="0" y="0"/>
                  </a:moveTo>
                  <a:lnTo>
                    <a:pt x="1421" y="117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2412360" y="27082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2"/>
          <p:cNvSpPr/>
          <p:nvPr/>
        </p:nvSpPr>
        <p:spPr>
          <a:xfrm>
            <a:off x="5330880" y="2655720"/>
            <a:ext cx="379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звестно, чт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, В, О лежат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лоскости  </a:t>
            </a: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519920" y="4959360"/>
            <a:ext cx="65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окажите, что точки С и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лежат 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1526040" y="5896080"/>
            <a:ext cx="69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Вычислите площадь прямоугольн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если  АС = 8, угол АОВ равен 60</a:t>
            </a:r>
            <a:r>
              <a:rPr b="1" i="1" lang="ru-RU" sz="2400" spc="-1" strike="noStrike" baseline="30000">
                <a:solidFill>
                  <a:srgbClr val="333399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95280" y="1773360"/>
            <a:ext cx="4826160" cy="2158920"/>
          </a:xfrm>
          <a:prstGeom prst="parallelogram">
            <a:avLst>
              <a:gd name="adj" fmla="val 55886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1006560" y="2209680"/>
            <a:ext cx="1797120" cy="143208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1132" h="902">
                <a:moveTo>
                  <a:pt x="0" y="902"/>
                </a:moveTo>
                <a:lnTo>
                  <a:pt x="11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1020600" y="3597120"/>
            <a:ext cx="2590920" cy="302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632" h="19">
                <a:moveTo>
                  <a:pt x="0" y="19"/>
                </a:moveTo>
                <a:lnTo>
                  <a:pt x="163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2803680" y="2209680"/>
            <a:ext cx="777600" cy="1387440"/>
          </a:xfrm>
          <a:custGeom>
            <a:avLst/>
            <a:gdLst>
              <a:gd name="textAreaLeft" fmla="*/ 0 w 777600"/>
              <a:gd name="textAreaRight" fmla="*/ 777960 w 7776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490" h="874">
                <a:moveTo>
                  <a:pt x="0" y="0"/>
                </a:moveTo>
                <a:lnTo>
                  <a:pt x="490" y="87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1050840" y="2911320"/>
            <a:ext cx="2149560" cy="7002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354" h="441">
                <a:moveTo>
                  <a:pt x="0" y="441"/>
                </a:moveTo>
                <a:lnTo>
                  <a:pt x="13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86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413440" y="18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133440" y="256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494520" y="3500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427640" y="1916280"/>
                <a:ext cx="4334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Line 18"/>
          <p:cNvSpPr/>
          <p:nvPr/>
        </p:nvSpPr>
        <p:spPr>
          <a:xfrm>
            <a:off x="2771640" y="249228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2771640" y="263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3203640" y="314172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203640" y="328464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4555800" y="1916280"/>
            <a:ext cx="458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ороны  АВ и 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реугольника АВ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лежат  в  плоскости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3"/>
              <p:cNvSpPr txBox="1"/>
              <p:nvPr/>
            </p:nvSpPr>
            <p:spPr>
              <a:xfrm>
                <a:off x="8532720" y="2708280"/>
                <a:ext cx="468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Text Box 25"/>
          <p:cNvSpPr/>
          <p:nvPr/>
        </p:nvSpPr>
        <p:spPr>
          <a:xfrm>
            <a:off x="4504320" y="3159000"/>
            <a:ext cx="45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Докажите что и мед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лежит в эт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7" descr=""/>
          <p:cNvPicPr/>
          <p:nvPr/>
        </p:nvPicPr>
        <p:blipFill>
          <a:blip r:embed="rId1"/>
          <a:stretch/>
        </p:blipFill>
        <p:spPr>
          <a:xfrm>
            <a:off x="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6012000" y="1268280"/>
                <a:ext cx="143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1722600" y="4022640"/>
            <a:ext cx="1233360" cy="180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5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9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30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AutoShape 31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4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3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6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WordArt 39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6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6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6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7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Georgia"/>
              </a:rPr>
              <a:t>Задача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6012000" y="1268280"/>
                <a:ext cx="1368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Е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4"/>
          <p:cNvSpPr/>
          <p:nvPr/>
        </p:nvSpPr>
        <p:spPr>
          <a:xfrm>
            <a:off x="1127160" y="128736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чем ошибка чертежа,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91760" y="170028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йте обоснование. Сделайте верный черт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1981080" y="242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6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7"/>
              <p:cNvSpPr txBox="1"/>
              <p:nvPr/>
            </p:nvSpPr>
            <p:spPr>
              <a:xfrm>
                <a:off x="4643280" y="2666880"/>
                <a:ext cx="1800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MCB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AutoShape 28"/>
          <p:cNvSpPr/>
          <p:nvPr/>
        </p:nvSpPr>
        <p:spPr>
          <a:xfrm>
            <a:off x="6588000" y="2492280"/>
            <a:ext cx="71640" cy="1368360"/>
          </a:xfrm>
          <a:custGeom>
            <a:avLst/>
            <a:gdLst>
              <a:gd name="textAreaLeft" fmla="*/ 0 w 71640"/>
              <a:gd name="textAreaRight" fmla="*/ 25920 w 7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9"/>
          <p:cNvSpPr/>
          <p:nvPr/>
        </p:nvSpPr>
        <p:spPr>
          <a:xfrm>
            <a:off x="7020000" y="2997360"/>
            <a:ext cx="360360" cy="1655640"/>
          </a:xfrm>
          <a:custGeom>
            <a:avLst/>
            <a:gdLst>
              <a:gd name="textAreaLeft" fmla="*/ 48240 w 360360"/>
              <a:gd name="textAreaRight" fmla="*/ 312120 w 36036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1"/>
              <p:cNvSpPr txBox="1"/>
              <p:nvPr/>
            </p:nvSpPr>
            <p:spPr>
              <a:xfrm>
                <a:off x="5076720" y="4221000"/>
                <a:ext cx="15829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MC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33"/>
              <p:cNvSpPr txBox="1"/>
              <p:nvPr/>
            </p:nvSpPr>
            <p:spPr>
              <a:xfrm>
                <a:off x="5092560" y="4869000"/>
                <a:ext cx="14083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WordArt 34"/>
          <p:cNvSpPr txBox="1"/>
          <p:nvPr/>
        </p:nvSpPr>
        <p:spPr>
          <a:xfrm>
            <a:off x="7885080" y="2637000"/>
            <a:ext cx="43200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8" name="Freeform 6"/>
          <p:cNvSpPr/>
          <p:nvPr/>
        </p:nvSpPr>
        <p:spPr>
          <a:xfrm>
            <a:off x="1082520" y="2835360"/>
            <a:ext cx="1157400" cy="26668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729" h="1680">
                <a:moveTo>
                  <a:pt x="0" y="1680"/>
                </a:moveTo>
                <a:lnTo>
                  <a:pt x="72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225520" y="2865600"/>
            <a:ext cx="1660680" cy="256032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560320"/>
              <a:gd name="textAreaBottom" fmla="*/ 2560680 h 2560320"/>
            </a:gdLst>
            <a:ahLst/>
            <a:rect l="textAreaLeft" t="textAreaTop" r="textAreaRight" b="textAreaBottom"/>
            <a:pathLst>
              <a:path w="1046" h="1613">
                <a:moveTo>
                  <a:pt x="0" y="0"/>
                </a:moveTo>
                <a:lnTo>
                  <a:pt x="1046" y="16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8"/>
          <p:cNvSpPr/>
          <p:nvPr/>
        </p:nvSpPr>
        <p:spPr>
          <a:xfrm>
            <a:off x="2408400" y="5394240"/>
            <a:ext cx="1447560" cy="6717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912" h="423">
                <a:moveTo>
                  <a:pt x="0" y="423"/>
                </a:move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3886200" y="4708440"/>
            <a:ext cx="853920" cy="1692360"/>
          </a:xfrm>
          <a:custGeom>
            <a:avLst/>
            <a:gdLst>
              <a:gd name="textAreaLeft" fmla="*/ 0 w 853920"/>
              <a:gd name="textAreaRight" fmla="*/ 854280 w 8539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538" h="1066">
                <a:moveTo>
                  <a:pt x="0" y="1066"/>
                </a:moveTo>
                <a:lnTo>
                  <a:pt x="53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0"/>
          <p:cNvSpPr/>
          <p:nvPr/>
        </p:nvSpPr>
        <p:spPr>
          <a:xfrm>
            <a:off x="2225520" y="2865600"/>
            <a:ext cx="182880" cy="3184200"/>
          </a:xfrm>
          <a:custGeom>
            <a:avLst/>
            <a:gdLst>
              <a:gd name="textAreaLeft" fmla="*/ 0 w 182880"/>
              <a:gd name="textAreaRight" fmla="*/ 183240 w 182880"/>
              <a:gd name="textAreaTop" fmla="*/ 0 h 3184200"/>
              <a:gd name="textAreaBottom" fmla="*/ 3184560 h 3184200"/>
            </a:gdLst>
            <a:ahLst/>
            <a:rect l="textAreaLeft" t="textAreaTop" r="textAreaRight" b="textAreaBottom"/>
            <a:pathLst>
              <a:path w="115" h="2006">
                <a:moveTo>
                  <a:pt x="0" y="0"/>
                </a:moveTo>
                <a:lnTo>
                  <a:pt x="115" y="1977"/>
                </a:lnTo>
                <a:lnTo>
                  <a:pt x="105" y="200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1082520" y="5516640"/>
            <a:ext cx="1355760" cy="54936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854" h="346">
                <a:moveTo>
                  <a:pt x="0" y="0"/>
                </a:moveTo>
                <a:lnTo>
                  <a:pt x="854" y="34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3"/>
          <p:cNvSpPr/>
          <p:nvPr/>
        </p:nvSpPr>
        <p:spPr>
          <a:xfrm>
            <a:off x="1371600" y="4740120"/>
            <a:ext cx="2073240" cy="446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306" h="28">
                <a:moveTo>
                  <a:pt x="0" y="28"/>
                </a:moveTo>
                <a:lnTo>
                  <a:pt x="1306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"/>
          <p:cNvSpPr/>
          <p:nvPr/>
        </p:nvSpPr>
        <p:spPr>
          <a:xfrm>
            <a:off x="122400" y="6416640"/>
            <a:ext cx="3747960" cy="3024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61" h="19">
                <a:moveTo>
                  <a:pt x="0" y="19"/>
                </a:moveTo>
                <a:lnTo>
                  <a:pt x="236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5"/>
          <p:cNvSpPr/>
          <p:nvPr/>
        </p:nvSpPr>
        <p:spPr>
          <a:xfrm>
            <a:off x="122400" y="4770360"/>
            <a:ext cx="898200" cy="1690920"/>
          </a:xfrm>
          <a:custGeom>
            <a:avLst/>
            <a:gdLst>
              <a:gd name="textAreaLeft" fmla="*/ 0 w 898200"/>
              <a:gd name="textAreaRight" fmla="*/ 898560 w 8982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566" h="1065">
                <a:moveTo>
                  <a:pt x="0" y="1065"/>
                </a:moveTo>
                <a:lnTo>
                  <a:pt x="56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1020600" y="4770360"/>
            <a:ext cx="457200" cy="1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88" h="1">
                <a:moveTo>
                  <a:pt x="0" y="0"/>
                </a:moveTo>
                <a:lnTo>
                  <a:pt x="288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3413160" y="4724280"/>
            <a:ext cx="1295280" cy="1584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16" h="10">
                <a:moveTo>
                  <a:pt x="0" y="10"/>
                </a:moveTo>
                <a:lnTo>
                  <a:pt x="816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1981800" y="595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75780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26944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133380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91780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782160" y="530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5"/>
              <p:cNvSpPr txBox="1"/>
              <p:nvPr/>
            </p:nvSpPr>
            <p:spPr>
              <a:xfrm>
                <a:off x="3492360" y="5950080"/>
                <a:ext cx="3636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Freeform 35"/>
          <p:cNvSpPr/>
          <p:nvPr/>
        </p:nvSpPr>
        <p:spPr>
          <a:xfrm>
            <a:off x="1692360" y="4005360"/>
            <a:ext cx="1233360" cy="144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77" h="1">
                <a:moveTo>
                  <a:pt x="777" y="0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1096920" y="5380200"/>
            <a:ext cx="2743200" cy="12204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728" h="77">
                <a:moveTo>
                  <a:pt x="1728" y="0"/>
                </a:moveTo>
                <a:lnTo>
                  <a:pt x="0" y="77"/>
                </a:ln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Georgia"/>
              </a:rPr>
              <a:t>Задач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2"/>
              <p:cNvSpPr txBox="1"/>
              <p:nvPr/>
            </p:nvSpPr>
            <p:spPr>
              <a:xfrm>
                <a:off x="4572000" y="1773360"/>
                <a:ext cx="4356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α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2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4"/>
              <p:cNvSpPr txBox="1"/>
              <p:nvPr/>
            </p:nvSpPr>
            <p:spPr>
              <a:xfrm>
                <a:off x="3095640" y="2205000"/>
                <a:ext cx="604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∈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∉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26"/>
          <p:cNvSpPr/>
          <p:nvPr/>
        </p:nvSpPr>
        <p:spPr>
          <a:xfrm>
            <a:off x="5731200" y="3159000"/>
            <a:ext cx="30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Каково взаим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рас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точек А, В, и 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4"/>
          <p:cNvSpPr/>
          <p:nvPr/>
        </p:nvSpPr>
        <p:spPr>
          <a:xfrm>
            <a:off x="108000" y="2814480"/>
            <a:ext cx="5637240" cy="2835360"/>
          </a:xfrm>
          <a:custGeom>
            <a:avLst/>
            <a:gdLst>
              <a:gd name="textAreaLeft" fmla="*/ 0 w 5637240"/>
              <a:gd name="textAreaRight" fmla="*/ 5637600 w 5637240"/>
              <a:gd name="textAreaTop" fmla="*/ 0 h 2835360"/>
              <a:gd name="textAreaBottom" fmla="*/ 2835360 h 2835360"/>
            </a:gdLst>
            <a:ahLst/>
            <a:rect l="textAreaLeft" t="textAreaTop" r="textAreaRight" b="textAreaBottom"/>
            <a:pathLst>
              <a:path w="3551" h="1786">
                <a:moveTo>
                  <a:pt x="1003" y="410"/>
                </a:moveTo>
                <a:cubicBezTo>
                  <a:pt x="839" y="426"/>
                  <a:pt x="402" y="395"/>
                  <a:pt x="238" y="442"/>
                </a:cubicBezTo>
                <a:cubicBezTo>
                  <a:pt x="74" y="488"/>
                  <a:pt x="37" y="571"/>
                  <a:pt x="18" y="691"/>
                </a:cubicBezTo>
                <a:cubicBezTo>
                  <a:pt x="0" y="810"/>
                  <a:pt x="110" y="1008"/>
                  <a:pt x="129" y="1158"/>
                </a:cubicBezTo>
                <a:cubicBezTo>
                  <a:pt x="147" y="1309"/>
                  <a:pt x="43" y="1491"/>
                  <a:pt x="129" y="1595"/>
                </a:cubicBezTo>
                <a:cubicBezTo>
                  <a:pt x="214" y="1698"/>
                  <a:pt x="468" y="1777"/>
                  <a:pt x="639" y="1781"/>
                </a:cubicBezTo>
                <a:cubicBezTo>
                  <a:pt x="809" y="1786"/>
                  <a:pt x="942" y="1635"/>
                  <a:pt x="1149" y="1625"/>
                </a:cubicBezTo>
                <a:cubicBezTo>
                  <a:pt x="1355" y="1615"/>
                  <a:pt x="1659" y="1709"/>
                  <a:pt x="1878" y="1719"/>
                </a:cubicBezTo>
                <a:cubicBezTo>
                  <a:pt x="2096" y="1729"/>
                  <a:pt x="2285" y="1709"/>
                  <a:pt x="2461" y="1688"/>
                </a:cubicBezTo>
                <a:cubicBezTo>
                  <a:pt x="2637" y="1667"/>
                  <a:pt x="2828" y="1609"/>
                  <a:pt x="2934" y="1595"/>
                </a:cubicBezTo>
                <a:cubicBezTo>
                  <a:pt x="3040" y="1580"/>
                  <a:pt x="3048" y="1609"/>
                  <a:pt x="3100" y="1601"/>
                </a:cubicBezTo>
                <a:cubicBezTo>
                  <a:pt x="3152" y="1592"/>
                  <a:pt x="3198" y="1578"/>
                  <a:pt x="3244" y="1544"/>
                </a:cubicBezTo>
                <a:cubicBezTo>
                  <a:pt x="3290" y="1510"/>
                  <a:pt x="3330" y="1483"/>
                  <a:pt x="3378" y="1397"/>
                </a:cubicBezTo>
                <a:cubicBezTo>
                  <a:pt x="3426" y="1310"/>
                  <a:pt x="3551" y="1144"/>
                  <a:pt x="3532" y="1021"/>
                </a:cubicBezTo>
                <a:cubicBezTo>
                  <a:pt x="3513" y="897"/>
                  <a:pt x="3331" y="777"/>
                  <a:pt x="3262" y="659"/>
                </a:cubicBezTo>
                <a:cubicBezTo>
                  <a:pt x="3193" y="542"/>
                  <a:pt x="3195" y="410"/>
                  <a:pt x="3117" y="317"/>
                </a:cubicBezTo>
                <a:cubicBezTo>
                  <a:pt x="3038" y="224"/>
                  <a:pt x="2929" y="151"/>
                  <a:pt x="2789" y="99"/>
                </a:cubicBezTo>
                <a:cubicBezTo>
                  <a:pt x="2649" y="46"/>
                  <a:pt x="2392" y="10"/>
                  <a:pt x="2279" y="5"/>
                </a:cubicBezTo>
                <a:cubicBezTo>
                  <a:pt x="2166" y="0"/>
                  <a:pt x="2153" y="45"/>
                  <a:pt x="2111" y="70"/>
                </a:cubicBezTo>
                <a:cubicBezTo>
                  <a:pt x="2069" y="95"/>
                  <a:pt x="2055" y="128"/>
                  <a:pt x="2025" y="157"/>
                </a:cubicBezTo>
                <a:cubicBezTo>
                  <a:pt x="1995" y="186"/>
                  <a:pt x="2020" y="222"/>
                  <a:pt x="1929" y="243"/>
                </a:cubicBezTo>
                <a:cubicBezTo>
                  <a:pt x="1838" y="264"/>
                  <a:pt x="1596" y="263"/>
                  <a:pt x="1478" y="281"/>
                </a:cubicBezTo>
                <a:cubicBezTo>
                  <a:pt x="1360" y="299"/>
                  <a:pt x="1300" y="327"/>
                  <a:pt x="1221" y="348"/>
                </a:cubicBezTo>
                <a:cubicBezTo>
                  <a:pt x="1142" y="369"/>
                  <a:pt x="1167" y="395"/>
                  <a:pt x="1003" y="410"/>
                </a:cubicBezTo>
                <a:close/>
              </a:path>
            </a:pathLst>
          </a:custGeom>
          <a:solidFill>
            <a:srgbClr val="faff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"/>
          <p:cNvSpPr/>
          <p:nvPr/>
        </p:nvSpPr>
        <p:spPr>
          <a:xfrm>
            <a:off x="1219320" y="1447920"/>
            <a:ext cx="1355760" cy="345888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3458880"/>
              <a:gd name="textAreaBottom" fmla="*/ 3459240 h 3458880"/>
            </a:gdLst>
            <a:ahLst/>
            <a:rect l="textAreaLeft" t="textAreaTop" r="textAreaRight" b="textAreaBottom"/>
            <a:pathLst>
              <a:path w="854" h="2179">
                <a:moveTo>
                  <a:pt x="0" y="2179"/>
                </a:moveTo>
                <a:lnTo>
                  <a:pt x="8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"/>
          <p:cNvSpPr/>
          <p:nvPr/>
        </p:nvSpPr>
        <p:spPr>
          <a:xfrm>
            <a:off x="2575080" y="1447920"/>
            <a:ext cx="366480" cy="3398760"/>
          </a:xfrm>
          <a:custGeom>
            <a:avLst/>
            <a:gdLst>
              <a:gd name="textAreaLeft" fmla="*/ 0 w 366480"/>
              <a:gd name="textAreaRight" fmla="*/ 366840 w 366480"/>
              <a:gd name="textAreaTop" fmla="*/ 0 h 3398760"/>
              <a:gd name="textAreaBottom" fmla="*/ 3399120 h 3398760"/>
            </a:gdLst>
            <a:ahLst/>
            <a:rect l="textAreaLeft" t="textAreaTop" r="textAreaRight" b="textAreaBottom"/>
            <a:pathLst>
              <a:path w="231" h="2141">
                <a:moveTo>
                  <a:pt x="231" y="2141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7"/>
          <p:cNvSpPr/>
          <p:nvPr/>
        </p:nvSpPr>
        <p:spPr>
          <a:xfrm>
            <a:off x="517680" y="4694400"/>
            <a:ext cx="4862520" cy="242640"/>
          </a:xfrm>
          <a:custGeom>
            <a:avLst/>
            <a:gdLst>
              <a:gd name="textAreaLeft" fmla="*/ 0 w 4862520"/>
              <a:gd name="textAreaRight" fmla="*/ 4862880 w 4862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3063" h="153">
                <a:moveTo>
                  <a:pt x="0" y="153"/>
                </a:moveTo>
                <a:lnTo>
                  <a:pt x="306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8"/>
          <p:cNvSpPr/>
          <p:nvPr/>
        </p:nvSpPr>
        <p:spPr>
          <a:xfrm>
            <a:off x="1676520" y="1539720"/>
            <a:ext cx="2590560" cy="3200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1632" h="2016">
                <a:moveTo>
                  <a:pt x="0" y="0"/>
                </a:moveTo>
                <a:lnTo>
                  <a:pt x="1632" y="201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9"/>
          <p:cNvSpPr/>
          <p:nvPr/>
        </p:nvSpPr>
        <p:spPr>
          <a:xfrm>
            <a:off x="960480" y="4923000"/>
            <a:ext cx="258840" cy="685800"/>
          </a:xfrm>
          <a:custGeom>
            <a:avLst/>
            <a:gdLst>
              <a:gd name="textAreaLeft" fmla="*/ 0 w 258840"/>
              <a:gd name="textAreaRight" fmla="*/ 259200 w 258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63" h="432">
                <a:moveTo>
                  <a:pt x="0" y="432"/>
                </a:moveTo>
                <a:lnTo>
                  <a:pt x="163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0"/>
          <p:cNvSpPr/>
          <p:nvPr/>
        </p:nvSpPr>
        <p:spPr>
          <a:xfrm>
            <a:off x="2911320" y="4664160"/>
            <a:ext cx="90720" cy="852480"/>
          </a:xfrm>
          <a:custGeom>
            <a:avLst/>
            <a:gdLst>
              <a:gd name="textAreaLeft" fmla="*/ 0 w 90720"/>
              <a:gd name="textAreaRight" fmla="*/ 91080 w 9072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7" h="537">
                <a:moveTo>
                  <a:pt x="0" y="0"/>
                </a:moveTo>
                <a:lnTo>
                  <a:pt x="57" y="537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4267080" y="4724280"/>
            <a:ext cx="487440" cy="609840"/>
          </a:xfrm>
          <a:custGeom>
            <a:avLst/>
            <a:gdLst>
              <a:gd name="textAreaLeft" fmla="*/ 0 w 487440"/>
              <a:gd name="textAreaRight" fmla="*/ 487800 w 4874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07" h="384">
                <a:moveTo>
                  <a:pt x="0" y="0"/>
                </a:moveTo>
                <a:lnTo>
                  <a:pt x="307" y="384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2"/>
          <p:cNvSpPr/>
          <p:nvPr/>
        </p:nvSpPr>
        <p:spPr>
          <a:xfrm>
            <a:off x="579600" y="5638680"/>
            <a:ext cx="365040" cy="1020960"/>
          </a:xfrm>
          <a:custGeom>
            <a:avLst/>
            <a:gdLst>
              <a:gd name="textAreaLeft" fmla="*/ 0 w 365040"/>
              <a:gd name="textAreaRight" fmla="*/ 365040 w 365040"/>
              <a:gd name="textAreaTop" fmla="*/ 0 h 1020960"/>
              <a:gd name="textAreaBottom" fmla="*/ 1021320 h 1020960"/>
            </a:gdLst>
            <a:ahLst/>
            <a:rect l="textAreaLeft" t="textAreaTop" r="textAreaRight" b="textAreaBottom"/>
            <a:pathLst>
              <a:path w="230" h="643">
                <a:moveTo>
                  <a:pt x="230" y="0"/>
                </a:moveTo>
                <a:lnTo>
                  <a:pt x="0" y="64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3002040" y="5546880"/>
            <a:ext cx="92160" cy="930240"/>
          </a:xfrm>
          <a:custGeom>
            <a:avLst/>
            <a:gdLst>
              <a:gd name="textAreaLeft" fmla="*/ 0 w 92160"/>
              <a:gd name="textAreaRight" fmla="*/ 92520 w 921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58" h="586">
                <a:moveTo>
                  <a:pt x="0" y="0"/>
                </a:moveTo>
                <a:lnTo>
                  <a:pt x="58" y="586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4754520" y="5334120"/>
            <a:ext cx="625680" cy="807840"/>
          </a:xfrm>
          <a:custGeom>
            <a:avLst/>
            <a:gdLst>
              <a:gd name="textAreaLeft" fmla="*/ 0 w 625680"/>
              <a:gd name="textAreaRight" fmla="*/ 625680 w 625680"/>
              <a:gd name="textAreaTop" fmla="*/ 0 h 807840"/>
              <a:gd name="textAreaBottom" fmla="*/ 808200 h 807840"/>
            </a:gdLst>
            <a:ahLst/>
            <a:rect l="textAreaLeft" t="textAreaTop" r="textAreaRight" b="textAreaBottom"/>
            <a:pathLst>
              <a:path w="394" h="509">
                <a:moveTo>
                  <a:pt x="0" y="0"/>
                </a:moveTo>
                <a:lnTo>
                  <a:pt x="394" y="50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586320" y="17002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82908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2558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241344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392652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70252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1765800" y="206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32508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060360" y="587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5149800" y="5373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1" descr=""/>
          <p:cNvPicPr/>
          <p:nvPr/>
        </p:nvPicPr>
        <p:blipFill>
          <a:blip r:embed="rId1"/>
          <a:stretch/>
        </p:blipFill>
        <p:spPr>
          <a:xfrm>
            <a:off x="7029360" y="4476600"/>
            <a:ext cx="21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00:09:05Z</dcterms:created>
  <dc:creator>Марина</dc:creator>
  <dc:description/>
  <dc:language>en-US</dc:language>
  <cp:lastModifiedBy>Пользователь</cp:lastModifiedBy>
  <dcterms:modified xsi:type="dcterms:W3CDTF">2013-09-12T12:04:37Z</dcterms:modified>
  <cp:revision>8</cp:revision>
  <dc:subject/>
  <dc:title>Решение задач на применение аксиом стереометрии и их свойств.</dc:title>
</cp:coreProperties>
</file>