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13.wmf" ContentType="image/x-wmf"/>
  <Override PartName="/ppt/media/image16.wmf" ContentType="image/x-wmf"/>
  <Override PartName="/ppt/media/image59.png" ContentType="image/png"/>
  <Override PartName="/ppt/media/image62.wmf" ContentType="image/x-wmf"/>
  <Override PartName="/ppt/media/image22.png" ContentType="image/png"/>
  <Override PartName="/ppt/media/image47.png" ContentType="image/png"/>
  <Override PartName="/ppt/media/image1.jpeg" ContentType="image/jpeg"/>
  <Override PartName="/ppt/media/image7.png" ContentType="image/png"/>
  <Override PartName="/ppt/media/image15.wmf" ContentType="image/x-wmf"/>
  <Override PartName="/ppt/media/image11.png" ContentType="image/png"/>
  <Override PartName="/ppt/media/image51.wmf" ContentType="image/x-wmf"/>
  <Override PartName="/ppt/media/image29.wmf" ContentType="image/x-wmf"/>
  <Override PartName="/ppt/media/image31.png" ContentType="image/png"/>
  <Override PartName="/ppt/media/image4.jpeg" ContentType="image/jpeg"/>
  <Override PartName="/ppt/media/image38.wmf" ContentType="image/x-wmf"/>
  <Override PartName="/ppt/media/image40.png" ContentType="image/png"/>
  <Override PartName="/ppt/media/image6.png" ContentType="image/png"/>
  <Override PartName="/ppt/media/image18.png" ContentType="image/png"/>
  <Override PartName="/ppt/media/image58.wmf" ContentType="image/x-wmf"/>
  <Override PartName="/ppt/media/image21.wmf" ContentType="image/x-wmf"/>
  <Override PartName="/ppt/media/image3.png" ContentType="image/png"/>
  <Override PartName="/ppt/media/image26.wmf" ContentType="image/x-wmf"/>
  <Override PartName="/ppt/media/image25.wmf" ContentType="image/x-wmf"/>
  <Override PartName="/ppt/media/image61.wmf" ContentType="image/x-wmf"/>
  <Override PartName="/ppt/media/image19.wmf" ContentType="image/x-wmf"/>
  <Override PartName="/ppt/media/image24.wmf" ContentType="image/x-wmf"/>
  <Override PartName="/ppt/media/image23.png" ContentType="image/png"/>
  <Override PartName="/ppt/media/image60.wmf" ContentType="image/x-wmf"/>
  <Override PartName="/ppt/media/image57.wmf" ContentType="image/x-wmf"/>
  <Override PartName="/ppt/media/image20.wmf" ContentType="image/x-wmf"/>
  <Override PartName="/ppt/media/image27.png" ContentType="image/png"/>
  <Override PartName="/ppt/media/image55.png" ContentType="image/png"/>
  <Override PartName="/ppt/media/image12.wmf" ContentType="image/x-wmf"/>
  <Override PartName="/ppt/media/image49.wmf" ContentType="image/x-wmf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50.wmf" ContentType="image/x-wmf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52.png" ContentType="image/png"/>
  <Override PartName="/ppt/media/image30.png" ContentType="image/png"/>
  <Override PartName="/ppt/media/image32.wmf" ContentType="image/x-wmf"/>
  <Override PartName="/ppt/media/image33.wmf" ContentType="image/x-wmf"/>
  <Override PartName="/ppt/media/image34.png" ContentType="image/png"/>
  <Override PartName="/ppt/media/image36.wmf" ContentType="image/x-wmf"/>
  <Override PartName="/ppt/media/image37.wmf" ContentType="image/x-wmf"/>
  <Override PartName="/ppt/media/image8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8.wmf" ContentType="image/x-wmf"/>
  <Override PartName="/ppt/media/image53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2F3E-9201-403C-8048-F42DF64D6E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163B-5AE6-4835-A038-B2E38281B3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67CF-8BA1-443E-AF1D-8578562296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CD6C-A56E-467E-A92B-1BEB561600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379D-AA6C-4D9E-80D8-921C4A95BA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EF45-B416-4523-A3B8-EA1D45B911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B688-79EF-4EE5-9603-FAA699CDE2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35EA-E64F-41D7-82CC-81A546F5C6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32BA-B0DB-4B98-B8FD-271C63CA44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1C01-30EF-4BC3-92D8-6BA5F65139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543E-EAF3-4BFD-870D-8B5AFA375B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5C74-FDCB-4187-9181-6F2B7E669B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56F7-656D-4A6A-9618-B096252604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1EB-5D95-4099-B88D-D20AC2D9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7C0-DF9E-459F-BD40-136CAFF3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9DA-0963-4143-BBCD-FA8227D6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66B-BD83-40C5-8AA8-EC7EF2DE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D407-F55A-4CAF-828D-334DD75D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7284-A38B-43F0-BE4F-CEE25AE9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DC1E-D966-4568-BD22-B3AECCD9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B2E7-D2B6-4B2E-B5F0-D634552E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74CF-951F-4F73-9E05-0B3BFAB4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EDC2-B6BF-4A78-9683-0A42727E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D343-0D51-4F3C-90ED-B7C8959F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546-3A62-467B-938C-A82FB4C9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6097-0CD6-4BD8-8D8E-379BAD36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D2E5-B313-44AE-B6D4-6F557751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D80C-59F8-4225-97EF-30D9614D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BB68-7BA6-49AB-B244-F3474A22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B0CB-071E-4975-A960-0439AB18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977D-DD01-4FA2-9F6B-E82BAFF0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214C-40BF-4029-9BB4-A5A5816B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08282-D0EE-463E-B3C4-90353638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B5DA9-353E-46BE-A1BB-494BD337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842E-E5BC-4B29-BCA7-2B0C6361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7AF-8340-4ACE-AB77-1C49C75E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CED54-9EC3-4DDD-9C43-BD21B3AF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AA62-66DE-43A2-91FA-41BC2FC1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A0940-DA8A-4CA0-B0BC-22C87228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E806-526E-457B-8BFB-B50CB84F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4ABE-5A3A-4340-A0E5-B87DA3BC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B8946-96F6-451F-9632-721226F0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B7F03-079A-480B-9EC7-72CAC4F6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4474B-F5FC-4D14-82AF-5D5B8DAF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DA4D8-CD60-4721-A26F-CA61E162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863DE-5D21-4939-96BD-19225022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C2C-6A89-4378-B4FC-0D439954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DEFA-0811-4C44-8B8B-ED8C6FCE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23323-64E1-451E-BCFF-5FFAA878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DE3E-2D51-4C46-BACF-D04E6C9E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9F765-52EF-4A2B-975B-62AA7DA3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64EF-838E-40DF-A1F1-DD526E79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2A74D-C246-42FD-B631-E31202B4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F6CF2-9E6D-4692-9B35-C6F2890A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9AA92-6653-4552-874A-E5FDEC7E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7CF88-5F0C-4024-B740-06D53BF2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AC5-4347-471F-9D18-ADFAEEF7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427-CC72-4D56-8776-1CA31A41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F2E-3F5B-4F0B-8992-E19A8AA3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900-FF90-4B76-B893-E4318474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447-3265-4B79-9EEC-D646613F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C54C-D6CC-49B4-B7F1-D86FF944A14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F10E-2A88-4F53-A8E2-2FF870D721D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2DC5-ECEB-4D3B-8B48-31A8DE5D02D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5628-87B1-4B09-B57F-1B54A9FD4F1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image" Target="../media/image5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wmf"/><Relationship Id="rId6" Type="http://schemas.openxmlformats.org/officeDocument/2006/relationships/image" Target="../media/image5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469800" y="146160"/>
            <a:ext cx="7997760" cy="1079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3505320" y="182880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Расстоянием</a:t>
            </a:r>
            <a:r>
              <a:rPr b="0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от точки до плоскости в пространстве называется длина перпендикуляра, опущенного из данной точки на данную плоск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3322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D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16"/>
          <p:cNvGrpSpPr/>
          <p:nvPr/>
        </p:nvGrpSpPr>
        <p:grpSpPr>
          <a:xfrm>
            <a:off x="380880" y="1447920"/>
            <a:ext cx="8534520" cy="5257800"/>
            <a:chOff x="380880" y="1447920"/>
            <a:chExt cx="8534520" cy="5257800"/>
          </a:xfrm>
        </p:grpSpPr>
        <p:sp>
          <p:nvSpPr>
            <p:cNvPr id="303" name="Text Box 5"/>
            <p:cNvSpPr/>
            <p:nvPr/>
          </p:nvSpPr>
          <p:spPr>
            <a:xfrm>
              <a:off x="533520" y="6095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380880" y="4648320"/>
              <a:ext cx="85345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Q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середины отрезков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E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BD</a:t>
              </a:r>
              <a:r>
                <a:rPr b="0" i="1" lang="ru-RU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PQ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которо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Q =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P = SQ =  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=       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5" name="Object 8"/>
            <p:cNvGraphicFramePr/>
            <p:nvPr/>
          </p:nvGraphicFramePr>
          <p:xfrm>
            <a:off x="2971800" y="5410080"/>
            <a:ext cx="584280" cy="7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6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71800" y="5410080"/>
                      <a:ext cx="58428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Object 9"/>
            <p:cNvGraphicFramePr/>
            <p:nvPr/>
          </p:nvGraphicFramePr>
          <p:xfrm>
            <a:off x="6838920" y="5410080"/>
            <a:ext cx="851040" cy="800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38920" y="541008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Object 10"/>
            <p:cNvGraphicFramePr/>
            <p:nvPr/>
          </p:nvGraphicFramePr>
          <p:xfrm>
            <a:off x="1574640" y="5905440"/>
            <a:ext cx="85104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10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74640" y="590544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14"/>
            <p:cNvGraphicFramePr/>
            <p:nvPr/>
          </p:nvGraphicFramePr>
          <p:xfrm>
            <a:off x="4419720" y="5562720"/>
            <a:ext cx="444240" cy="393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2" name="Object 1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19720" y="5562720"/>
                      <a:ext cx="4442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13" name="Picture 15" descr=""/>
            <p:cNvPicPr/>
            <p:nvPr/>
          </p:nvPicPr>
          <p:blipFill>
            <a:blip r:embed="rId10"/>
            <a:stretch/>
          </p:blipFill>
          <p:spPr>
            <a:xfrm>
              <a:off x="274320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E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12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14"/>
          <p:cNvGrpSpPr/>
          <p:nvPr/>
        </p:nvGrpSpPr>
        <p:grpSpPr>
          <a:xfrm>
            <a:off x="635040" y="1447920"/>
            <a:ext cx="5818320" cy="4368600"/>
            <a:chOff x="635040" y="1447920"/>
            <a:chExt cx="5818320" cy="4368600"/>
          </a:xfrm>
        </p:grpSpPr>
        <p:sp>
          <p:nvSpPr>
            <p:cNvPr id="317" name="Text Box 5"/>
            <p:cNvSpPr/>
            <p:nvPr/>
          </p:nvSpPr>
          <p:spPr>
            <a:xfrm>
              <a:off x="635040" y="52196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8" name="Object 9"/>
            <p:cNvGraphicFramePr/>
            <p:nvPr/>
          </p:nvGraphicFramePr>
          <p:xfrm>
            <a:off x="1676520" y="502920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9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502920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20" name="Picture 13" descr=""/>
            <p:cNvPicPr/>
            <p:nvPr/>
          </p:nvPicPr>
          <p:blipFill>
            <a:blip r:embed="rId4"/>
            <a:stretch/>
          </p:blipFill>
          <p:spPr>
            <a:xfrm>
              <a:off x="281952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CE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16"/>
          <p:cNvGrpSpPr/>
          <p:nvPr/>
        </p:nvGrpSpPr>
        <p:grpSpPr>
          <a:xfrm>
            <a:off x="152280" y="1447920"/>
            <a:ext cx="8763120" cy="5321160"/>
            <a:chOff x="152280" y="1447920"/>
            <a:chExt cx="8763120" cy="5321160"/>
          </a:xfrm>
        </p:grpSpPr>
        <p:sp>
          <p:nvSpPr>
            <p:cNvPr id="324" name="Text Box 5"/>
            <p:cNvSpPr/>
            <p:nvPr/>
          </p:nvSpPr>
          <p:spPr>
            <a:xfrm>
              <a:off x="228600" y="61722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152280" y="4648320"/>
              <a:ext cx="87631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очку пересечения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D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CE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G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, в котор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 =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2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G = 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G =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=       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6" name="Object 10"/>
            <p:cNvGraphicFramePr/>
            <p:nvPr/>
          </p:nvGraphicFramePr>
          <p:xfrm>
            <a:off x="1886040" y="5378400"/>
            <a:ext cx="58428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7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86040" y="5378400"/>
                      <a:ext cx="5842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Object 11"/>
            <p:cNvGraphicFramePr/>
            <p:nvPr/>
          </p:nvGraphicFramePr>
          <p:xfrm>
            <a:off x="4572000" y="5562720"/>
            <a:ext cx="444600" cy="393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29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0" y="55627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30" name="Picture 12" descr=""/>
            <p:cNvPicPr/>
            <p:nvPr/>
          </p:nvPicPr>
          <p:blipFill>
            <a:blip r:embed="rId6"/>
            <a:stretch/>
          </p:blipFill>
          <p:spPr>
            <a:xfrm>
              <a:off x="259092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31" name="Object 13"/>
            <p:cNvGraphicFramePr/>
            <p:nvPr/>
          </p:nvGraphicFramePr>
          <p:xfrm>
            <a:off x="3429000" y="5410080"/>
            <a:ext cx="241200" cy="72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29000" y="5410080"/>
                      <a:ext cx="2412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3" name="Object 14"/>
            <p:cNvGraphicFramePr/>
            <p:nvPr/>
          </p:nvGraphicFramePr>
          <p:xfrm>
            <a:off x="6813720" y="5403960"/>
            <a:ext cx="825480" cy="79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34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13720" y="5403960"/>
                      <a:ext cx="8254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5" name="Object 15"/>
            <p:cNvGraphicFramePr/>
            <p:nvPr/>
          </p:nvGraphicFramePr>
          <p:xfrm>
            <a:off x="1219320" y="5969160"/>
            <a:ext cx="825480" cy="799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6" name="Object 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19320" y="5969160"/>
                      <a:ext cx="8254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522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м тетраэдр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3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3579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27"/>
          <p:cNvGrpSpPr/>
          <p:nvPr/>
        </p:nvGrpSpPr>
        <p:grpSpPr>
          <a:xfrm>
            <a:off x="609480" y="1219320"/>
            <a:ext cx="7848720" cy="5441760"/>
            <a:chOff x="609480" y="1219320"/>
            <a:chExt cx="7848720" cy="5441760"/>
          </a:xfrm>
        </p:grpSpPr>
        <p:sp>
          <p:nvSpPr>
            <p:cNvPr id="208" name="Text Box 5"/>
            <p:cNvSpPr/>
            <p:nvPr/>
          </p:nvSpPr>
          <p:spPr>
            <a:xfrm>
              <a:off x="275580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9" name="Object 12"/>
            <p:cNvGraphicFramePr/>
            <p:nvPr/>
          </p:nvGraphicFramePr>
          <p:xfrm>
            <a:off x="3809880" y="5861160"/>
            <a:ext cx="54612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0" name="Object 1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9880" y="586116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Text Box 18"/>
            <p:cNvSpPr/>
            <p:nvPr/>
          </p:nvSpPr>
          <p:spPr>
            <a:xfrm>
              <a:off x="609480" y="4495680"/>
              <a:ext cx="7848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середину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D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DE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для которого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DE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   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, HE =         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D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2" name="Object 19"/>
            <p:cNvGraphicFramePr/>
            <p:nvPr/>
          </p:nvGraphicFramePr>
          <p:xfrm>
            <a:off x="609480" y="5257800"/>
            <a:ext cx="44460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3" name="Object 1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9480" y="5257800"/>
                      <a:ext cx="444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4" name="Picture 24" descr=""/>
            <p:cNvPicPr/>
            <p:nvPr/>
          </p:nvPicPr>
          <p:blipFill>
            <a:blip r:embed="rId6"/>
            <a:stretch/>
          </p:blipFill>
          <p:spPr>
            <a:xfrm>
              <a:off x="2514600" y="1219320"/>
              <a:ext cx="3579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5" name="Object 25"/>
            <p:cNvGraphicFramePr/>
            <p:nvPr/>
          </p:nvGraphicFramePr>
          <p:xfrm>
            <a:off x="5562720" y="5257800"/>
            <a:ext cx="546120" cy="800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6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5257800"/>
                      <a:ext cx="5461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Object 26"/>
            <p:cNvGraphicFramePr/>
            <p:nvPr/>
          </p:nvGraphicFramePr>
          <p:xfrm>
            <a:off x="2057400" y="5251320"/>
            <a:ext cx="444600" cy="800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Object 2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57400" y="5251320"/>
                      <a:ext cx="4446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52280" y="152280"/>
            <a:ext cx="883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снованием треугольной пирамиде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SABC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является прямоугольный треугольник с катетами, равными 1. Боковые ребра пирамиды равны 1. Найдите расстояние от вершины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12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3376800" cy="310032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8"/>
          <p:cNvGrpSpPr/>
          <p:nvPr/>
        </p:nvGrpSpPr>
        <p:grpSpPr>
          <a:xfrm>
            <a:off x="152280" y="2133720"/>
            <a:ext cx="8991720" cy="4267080"/>
            <a:chOff x="152280" y="2133720"/>
            <a:chExt cx="8991720" cy="4267080"/>
          </a:xfrm>
        </p:grpSpPr>
        <p:sp>
          <p:nvSpPr>
            <p:cNvPr id="222" name="Text Box 13"/>
            <p:cNvSpPr/>
            <p:nvPr/>
          </p:nvSpPr>
          <p:spPr>
            <a:xfrm>
              <a:off x="3657600" y="2133720"/>
              <a:ext cx="54864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Из равенства боковых ребер следует, что основанием перпендикуляра, опущенного из вершины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на плоскость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BC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, является центр окружности, описанной около 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BC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, т.е. середин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D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стороны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C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. Треугольник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CS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прямоугольный и равнобедренный. Следовательно, искомый перпендикуляр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D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равен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Object 14"/>
            <p:cNvGraphicFramePr/>
            <p:nvPr/>
          </p:nvGraphicFramePr>
          <p:xfrm>
            <a:off x="7086600" y="5257800"/>
            <a:ext cx="62244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4" name="Object 1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86600" y="52578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Text Box 15"/>
            <p:cNvSpPr/>
            <p:nvPr/>
          </p:nvSpPr>
          <p:spPr>
            <a:xfrm>
              <a:off x="685800" y="571500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6" name="Object 16"/>
            <p:cNvGraphicFramePr/>
            <p:nvPr/>
          </p:nvGraphicFramePr>
          <p:xfrm>
            <a:off x="1676520" y="5486400"/>
            <a:ext cx="62208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Object 1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676520" y="5486400"/>
                      <a:ext cx="6220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8" name="Picture 17" descr=""/>
            <p:cNvPicPr/>
            <p:nvPr/>
          </p:nvPicPr>
          <p:blipFill>
            <a:blip r:embed="rId6"/>
            <a:stretch/>
          </p:blipFill>
          <p:spPr>
            <a:xfrm>
              <a:off x="152280" y="2286000"/>
              <a:ext cx="3376800" cy="310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0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504960" cy="31957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23"/>
          <p:cNvGrpSpPr/>
          <p:nvPr/>
        </p:nvGrpSpPr>
        <p:grpSpPr>
          <a:xfrm>
            <a:off x="304920" y="1066680"/>
            <a:ext cx="8839080" cy="4978440"/>
            <a:chOff x="304920" y="1066680"/>
            <a:chExt cx="8839080" cy="4978440"/>
          </a:xfrm>
        </p:grpSpPr>
        <p:sp>
          <p:nvSpPr>
            <p:cNvPr id="232" name="Text Box 3"/>
            <p:cNvSpPr/>
            <p:nvPr/>
          </p:nvSpPr>
          <p:spPr>
            <a:xfrm>
              <a:off x="533520" y="54100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8"/>
            <p:cNvSpPr/>
            <p:nvPr/>
          </p:nvSpPr>
          <p:spPr>
            <a:xfrm>
              <a:off x="304920" y="441972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C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 которо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 = SC =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C =       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Object 9"/>
            <p:cNvGraphicFramePr/>
            <p:nvPr/>
          </p:nvGraphicFramePr>
          <p:xfrm>
            <a:off x="4876920" y="4800600"/>
            <a:ext cx="46980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5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76920" y="4800600"/>
                      <a:ext cx="4698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Object 11"/>
            <p:cNvGraphicFramePr/>
            <p:nvPr/>
          </p:nvGraphicFramePr>
          <p:xfrm>
            <a:off x="1504800" y="5257800"/>
            <a:ext cx="54612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7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4800" y="525780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Object 21"/>
            <p:cNvGraphicFramePr/>
            <p:nvPr/>
          </p:nvGraphicFramePr>
          <p:xfrm>
            <a:off x="8305920" y="4724280"/>
            <a:ext cx="54612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39" name="Object 2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05920" y="4724280"/>
                      <a:ext cx="5461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40" name="Picture 22" descr=""/>
            <p:cNvPicPr/>
            <p:nvPr/>
          </p:nvPicPr>
          <p:blipFill>
            <a:blip r:embed="rId8"/>
            <a:stretch/>
          </p:blipFill>
          <p:spPr>
            <a:xfrm>
              <a:off x="2590920" y="1066680"/>
              <a:ext cx="3504960" cy="319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14"/>
          <p:cNvGrpSpPr/>
          <p:nvPr/>
        </p:nvGrpSpPr>
        <p:grpSpPr>
          <a:xfrm>
            <a:off x="304920" y="1066680"/>
            <a:ext cx="8839080" cy="5524560"/>
            <a:chOff x="304920" y="1066680"/>
            <a:chExt cx="8839080" cy="5524560"/>
          </a:xfrm>
        </p:grpSpPr>
        <p:sp>
          <p:nvSpPr>
            <p:cNvPr id="244" name="Text Box 5"/>
            <p:cNvSpPr/>
            <p:nvPr/>
          </p:nvSpPr>
          <p:spPr>
            <a:xfrm>
              <a:off x="304920" y="59436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"/>
            <p:cNvSpPr/>
            <p:nvPr/>
          </p:nvSpPr>
          <p:spPr>
            <a:xfrm>
              <a:off x="304920" y="4419720"/>
              <a:ext cx="88390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EF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 которо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E = SF =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F =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1.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6" name="Object 8"/>
            <p:cNvGraphicFramePr/>
            <p:nvPr/>
          </p:nvGraphicFramePr>
          <p:xfrm>
            <a:off x="1295280" y="5791320"/>
            <a:ext cx="54612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7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95280" y="579132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9"/>
            <p:cNvGraphicFramePr/>
            <p:nvPr/>
          </p:nvGraphicFramePr>
          <p:xfrm>
            <a:off x="1803240" y="5181480"/>
            <a:ext cx="44460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9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03240" y="5181480"/>
                      <a:ext cx="44460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Object 12"/>
            <p:cNvGraphicFramePr/>
            <p:nvPr/>
          </p:nvGraphicFramePr>
          <p:xfrm>
            <a:off x="5207040" y="5175360"/>
            <a:ext cx="54612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1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207040" y="517536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2" name="Picture 13" descr=""/>
            <p:cNvPicPr/>
            <p:nvPr/>
          </p:nvPicPr>
          <p:blipFill>
            <a:blip r:embed="rId8"/>
            <a:stretch/>
          </p:blipFill>
          <p:spPr>
            <a:xfrm>
              <a:off x="2743200" y="106668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D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11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13"/>
          <p:cNvGrpSpPr/>
          <p:nvPr/>
        </p:nvGrpSpPr>
        <p:grpSpPr>
          <a:xfrm>
            <a:off x="609480" y="1066680"/>
            <a:ext cx="5562720" cy="4680000"/>
            <a:chOff x="609480" y="1066680"/>
            <a:chExt cx="5562720" cy="4680000"/>
          </a:xfrm>
        </p:grpSpPr>
        <p:sp>
          <p:nvSpPr>
            <p:cNvPr id="256" name="Text Box 5"/>
            <p:cNvSpPr/>
            <p:nvPr/>
          </p:nvSpPr>
          <p:spPr>
            <a:xfrm>
              <a:off x="609480" y="5105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7" name="Object 7"/>
            <p:cNvGraphicFramePr/>
            <p:nvPr/>
          </p:nvGraphicFramePr>
          <p:xfrm>
            <a:off x="1600200" y="4959360"/>
            <a:ext cx="5461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495936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9" name="Picture 12" descr=""/>
            <p:cNvPicPr/>
            <p:nvPr/>
          </p:nvPicPr>
          <p:blipFill>
            <a:blip r:embed="rId4"/>
            <a:stretch/>
          </p:blipFill>
          <p:spPr>
            <a:xfrm>
              <a:off x="2666880" y="106668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0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33840" cy="344952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13"/>
          <p:cNvGrpSpPr/>
          <p:nvPr/>
        </p:nvGrpSpPr>
        <p:grpSpPr>
          <a:xfrm>
            <a:off x="1066680" y="1600200"/>
            <a:ext cx="7010640" cy="4574520"/>
            <a:chOff x="1066680" y="1600200"/>
            <a:chExt cx="7010640" cy="4574520"/>
          </a:xfrm>
        </p:grpSpPr>
        <p:sp>
          <p:nvSpPr>
            <p:cNvPr id="263" name="Text Box 5"/>
            <p:cNvSpPr/>
            <p:nvPr/>
          </p:nvSpPr>
          <p:spPr>
            <a:xfrm>
              <a:off x="1143000" y="57150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6"/>
            <p:cNvSpPr/>
            <p:nvPr/>
          </p:nvSpPr>
          <p:spPr>
            <a:xfrm>
              <a:off x="1066680" y="4800600"/>
              <a:ext cx="701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равностороннего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D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5" name="Object 7"/>
            <p:cNvGraphicFramePr/>
            <p:nvPr/>
          </p:nvGraphicFramePr>
          <p:xfrm>
            <a:off x="7391520" y="5181480"/>
            <a:ext cx="4442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6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91520" y="5181480"/>
                      <a:ext cx="4442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Object 8"/>
            <p:cNvGraphicFramePr/>
            <p:nvPr/>
          </p:nvGraphicFramePr>
          <p:xfrm>
            <a:off x="2165400" y="5759280"/>
            <a:ext cx="444600" cy="39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8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65400" y="5759280"/>
                      <a:ext cx="4446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69" name="Picture 12" descr=""/>
            <p:cNvPicPr/>
            <p:nvPr/>
          </p:nvPicPr>
          <p:blipFill>
            <a:blip r:embed="rId6"/>
            <a:stretch/>
          </p:blipFill>
          <p:spPr>
            <a:xfrm>
              <a:off x="2743200" y="160020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17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20"/>
          <p:cNvGrpSpPr/>
          <p:nvPr/>
        </p:nvGrpSpPr>
        <p:grpSpPr>
          <a:xfrm>
            <a:off x="380880" y="1447920"/>
            <a:ext cx="8534520" cy="5257800"/>
            <a:chOff x="380880" y="1447920"/>
            <a:chExt cx="8534520" cy="5257800"/>
          </a:xfrm>
        </p:grpSpPr>
        <p:sp>
          <p:nvSpPr>
            <p:cNvPr id="273" name="Text Box 5"/>
            <p:cNvSpPr/>
            <p:nvPr/>
          </p:nvSpPr>
          <p:spPr>
            <a:xfrm>
              <a:off x="533520" y="6095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80880" y="4648320"/>
              <a:ext cx="85345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центр основания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– середина ребр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BC</a:t>
              </a:r>
              <a:r>
                <a:rPr b="0" i="1" lang="ru-RU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O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G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которо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=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OG =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G =         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O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5" name="Object 7"/>
            <p:cNvGraphicFramePr/>
            <p:nvPr/>
          </p:nvGraphicFramePr>
          <p:xfrm>
            <a:off x="2286000" y="5562720"/>
            <a:ext cx="44460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6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0" y="55627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12"/>
            <p:cNvGraphicFramePr/>
            <p:nvPr/>
          </p:nvGraphicFramePr>
          <p:xfrm>
            <a:off x="3733920" y="5365800"/>
            <a:ext cx="44424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8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733920" y="5365800"/>
                      <a:ext cx="444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13"/>
            <p:cNvGraphicFramePr/>
            <p:nvPr/>
          </p:nvGraphicFramePr>
          <p:xfrm>
            <a:off x="5029200" y="5410080"/>
            <a:ext cx="66024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0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29200" y="5410080"/>
                      <a:ext cx="66024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14"/>
            <p:cNvGraphicFramePr/>
            <p:nvPr/>
          </p:nvGraphicFramePr>
          <p:xfrm>
            <a:off x="7467480" y="5403960"/>
            <a:ext cx="660600" cy="799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2" name="Object 1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467480" y="5403960"/>
                      <a:ext cx="6606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Object 15"/>
            <p:cNvGraphicFramePr/>
            <p:nvPr/>
          </p:nvGraphicFramePr>
          <p:xfrm>
            <a:off x="1670040" y="5905440"/>
            <a:ext cx="660240" cy="800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4" name="Object 1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670040" y="5905440"/>
                      <a:ext cx="660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85" name="Picture 18" descr=""/>
            <p:cNvPicPr/>
            <p:nvPr/>
          </p:nvPicPr>
          <p:blipFill>
            <a:blip r:embed="rId12"/>
            <a:stretch/>
          </p:blipFill>
          <p:spPr>
            <a:xfrm>
              <a:off x="274320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CD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3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5"/>
          <p:cNvGrpSpPr/>
          <p:nvPr/>
        </p:nvGrpSpPr>
        <p:grpSpPr>
          <a:xfrm>
            <a:off x="380880" y="1447920"/>
            <a:ext cx="8534520" cy="5257800"/>
            <a:chOff x="380880" y="1447920"/>
            <a:chExt cx="8534520" cy="5257800"/>
          </a:xfrm>
        </p:grpSpPr>
        <p:sp>
          <p:nvSpPr>
            <p:cNvPr id="289" name="Text Box 5"/>
            <p:cNvSpPr/>
            <p:nvPr/>
          </p:nvSpPr>
          <p:spPr>
            <a:xfrm>
              <a:off x="533520" y="6095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6"/>
            <p:cNvSpPr/>
            <p:nvPr/>
          </p:nvSpPr>
          <p:spPr>
            <a:xfrm>
              <a:off x="380880" y="4648320"/>
              <a:ext cx="85345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Q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F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CD</a:t>
              </a:r>
              <a:r>
                <a:rPr b="0" i="1" lang="ru-RU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PQ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которо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Q = SO =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P = SQ =  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1" name="Object 7"/>
            <p:cNvGraphicFramePr/>
            <p:nvPr/>
          </p:nvGraphicFramePr>
          <p:xfrm>
            <a:off x="1905120" y="55627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2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55627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10"/>
            <p:cNvGraphicFramePr/>
            <p:nvPr/>
          </p:nvGraphicFramePr>
          <p:xfrm>
            <a:off x="3962520" y="5410080"/>
            <a:ext cx="58392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4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962520" y="5410080"/>
                      <a:ext cx="5839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1"/>
            <p:cNvGraphicFramePr/>
            <p:nvPr/>
          </p:nvGraphicFramePr>
          <p:xfrm>
            <a:off x="6546960" y="5410080"/>
            <a:ext cx="81252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96" name="Object 1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546960" y="5410080"/>
                      <a:ext cx="8125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2"/>
            <p:cNvGraphicFramePr/>
            <p:nvPr/>
          </p:nvGraphicFramePr>
          <p:xfrm>
            <a:off x="1593720" y="5905440"/>
            <a:ext cx="812880" cy="80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98" name="Object 1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93720" y="5905440"/>
                      <a:ext cx="812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99" name="Picture 14" descr=""/>
            <p:cNvPicPr/>
            <p:nvPr/>
          </p:nvPicPr>
          <p:blipFill>
            <a:blip r:embed="rId10"/>
            <a:stretch/>
          </p:blipFill>
          <p:spPr>
            <a:xfrm>
              <a:off x="274320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Школа ХСОШ1</cp:lastModifiedBy>
  <dcterms:modified xsi:type="dcterms:W3CDTF">2011-02-05T08:32:41Z</dcterms:modified>
  <cp:revision>27</cp:revision>
  <dc:subject/>
  <dc:title>УГОЛ МЕЖДУ ПРЯМЫМИ В ПРОСТРАНСТВЕ</dc:title>
</cp:coreProperties>
</file>