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13.wmf" ContentType="image/x-wmf"/>
  <Override PartName="/ppt/media/image16.wmf" ContentType="image/x-wmf"/>
  <Override PartName="/ppt/media/image59.png" ContentType="image/png"/>
  <Override PartName="/ppt/media/image62.wmf" ContentType="image/x-wmf"/>
  <Override PartName="/ppt/media/image22.png" ContentType="image/png"/>
  <Override PartName="/ppt/media/image47.png" ContentType="image/png"/>
  <Override PartName="/ppt/media/image1.jpeg" ContentType="image/jpeg"/>
  <Override PartName="/ppt/media/image7.png" ContentType="image/png"/>
  <Override PartName="/ppt/media/image15.wmf" ContentType="image/x-wmf"/>
  <Override PartName="/ppt/media/image11.png" ContentType="image/png"/>
  <Override PartName="/ppt/media/image51.wmf" ContentType="image/x-wmf"/>
  <Override PartName="/ppt/media/image29.wmf" ContentType="image/x-wmf"/>
  <Override PartName="/ppt/media/image31.png" ContentType="image/png"/>
  <Override PartName="/ppt/media/image4.jpeg" ContentType="image/jpeg"/>
  <Override PartName="/ppt/media/image38.wmf" ContentType="image/x-wmf"/>
  <Override PartName="/ppt/media/image40.png" ContentType="image/png"/>
  <Override PartName="/ppt/media/image6.png" ContentType="image/png"/>
  <Override PartName="/ppt/media/image18.png" ContentType="image/png"/>
  <Override PartName="/ppt/media/image58.wmf" ContentType="image/x-wmf"/>
  <Override PartName="/ppt/media/image21.wmf" ContentType="image/x-wmf"/>
  <Override PartName="/ppt/media/image3.png" ContentType="image/png"/>
  <Override PartName="/ppt/media/image26.wmf" ContentType="image/x-wmf"/>
  <Override PartName="/ppt/media/image25.wmf" ContentType="image/x-wmf"/>
  <Override PartName="/ppt/media/image61.wmf" ContentType="image/x-wmf"/>
  <Override PartName="/ppt/media/image19.wmf" ContentType="image/x-wmf"/>
  <Override PartName="/ppt/media/image24.wmf" ContentType="image/x-wmf"/>
  <Override PartName="/ppt/media/image23.png" ContentType="image/png"/>
  <Override PartName="/ppt/media/image60.wmf" ContentType="image/x-wmf"/>
  <Override PartName="/ppt/media/image57.wmf" ContentType="image/x-wmf"/>
  <Override PartName="/ppt/media/image20.wmf" ContentType="image/x-wmf"/>
  <Override PartName="/ppt/media/image27.png" ContentType="image/png"/>
  <Override PartName="/ppt/media/image55.png" ContentType="image/png"/>
  <Override PartName="/ppt/media/image12.wmf" ContentType="image/x-wmf"/>
  <Override PartName="/ppt/media/image49.wmf" ContentType="image/x-wmf"/>
  <Override PartName="/ppt/media/image2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39.wmf" ContentType="image/x-wmf"/>
  <Override PartName="/ppt/media/image41.png" ContentType="image/png"/>
  <Override PartName="/ppt/media/image50.wmf" ContentType="image/x-wmf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52.png" ContentType="image/png"/>
  <Override PartName="/ppt/media/image30.png" ContentType="image/png"/>
  <Override PartName="/ppt/media/image32.wmf" ContentType="image/x-wmf"/>
  <Override PartName="/ppt/media/image33.wmf" ContentType="image/x-wmf"/>
  <Override PartName="/ppt/media/image34.png" ContentType="image/png"/>
  <Override PartName="/ppt/media/image36.wmf" ContentType="image/x-wmf"/>
  <Override PartName="/ppt/media/image37.wmf" ContentType="image/x-wmf"/>
  <Override PartName="/ppt/media/image8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8.wmf" ContentType="image/x-wmf"/>
  <Override PartName="/ppt/media/image53.png" ContentType="image/png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F7F3-6078-4BCC-9B50-A967A66232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A5D0-3715-45F9-94C2-8B606A537F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D1A2-AF04-4017-9DF6-FB1C9BF2DC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A947-7FB1-415F-95C0-4BC3644708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4C36-F7E4-4D7D-8719-B9FBC70055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5A77-36C4-43F1-B1A1-D95CB09BE1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4946-1F71-47FE-911A-D6A21A9624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6EA9-B086-4A3F-ADFF-AEBCD087FA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B156-8AD2-4BAA-BFB1-8C09B207A7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75AB-CD76-48E8-ACA3-B44BC14980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7A0E-C1B0-49B4-8AE4-52A1C43F04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8D02-1ECA-4B90-80F6-CE315943CB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0F98-3ACD-4B9E-865B-9FFE57591B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30E-10F8-4821-805C-292AD443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135-76AF-423C-9683-455D906F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372-7540-436A-9A6D-E6B2A739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01B2-378A-4C6C-94F1-C27A96AE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3645-928A-4D0E-B768-79AC84FB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789B-90EF-4298-8FDD-5A902E71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DF60-D1D1-415E-B749-C5427D48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6819-E73A-4917-911B-2211B8BE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22F7-41CD-448A-BB83-97D44738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C3D5-E57C-4E0E-B2C1-C2B49F1B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71CE-146E-4CD5-A788-A5F7A988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5E0-C8C6-4A40-BBB2-B8EA330A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B27F-AE22-4FD7-BC8D-8C34A999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7D1F-1C08-41F1-B720-2EEDD888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7022-AC30-45F0-9363-BA9BE555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06E4-A10B-4B9A-A450-8376181E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A3CB-5D5A-4A09-AF46-23CE621E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365C0-2409-40C5-BBBE-8EF0A405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FE80-B527-4B63-9C77-E6AEEA0B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E0263-9764-4B66-A69B-2845A187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DC1E9-FF6D-4122-8D61-D53117B4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0FBF-2C7A-4ACF-B68D-ACA6D85D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1E7-05EF-4FCB-AF7B-A7FD392E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CF486-7BE6-41A4-BE47-D4D6304F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1A2A6-6934-4CAE-9290-62FC8AC9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CA014-FCA7-4813-9182-82CF12ED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C4F35-ED06-438F-9DF0-D3DB0881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7CED9-389E-4CF8-A71B-E1B3E889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03FA6-B258-4FF3-80FF-B58C3B8A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2F7AA-EFB0-4DC8-A8F8-EBE60519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7A89-BF90-4FC4-9CF1-D78E5271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6DC15-0CFE-47AF-BF4A-90010343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03E67-D6E4-455B-A79B-193FAA2F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3BE-7E93-40E3-9258-3A309348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79DE8-3B7D-4CAC-B4B3-1434B3FC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49522-A3E0-4671-81BD-70D89B84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FCE8-D6FD-4C39-A050-6D1DCC35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2DA58-69FB-47A7-BCFF-5233B70C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BEE53-6B9B-4A8B-958D-1BC91A7C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6019B-102B-4B46-A72B-655FA3CA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B8768-6593-483D-9F2A-F2492352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652DE-28A4-47B6-BB85-6A6B8C06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0329E-1138-4237-9DDD-3AD996AD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634-45C0-4E32-84E7-2CFF991B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16B-424E-4AD8-A9B5-3F8E4B9D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984-84F5-457C-9892-1525E4E4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E99-A062-4F4D-B91E-607684D2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1FD-05C6-48F2-BA86-619B00AB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16EA-B8F3-4FF1-B4D8-BB41B98C663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EE9E-7133-4E14-8A75-B6286B173FC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06D2-BD6F-4F03-8BDC-C8582FA07C5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FEBF-23DB-46FE-A7E3-6B7D8583BDA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image" Target="../media/image5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wmf"/><Relationship Id="rId6" Type="http://schemas.openxmlformats.org/officeDocument/2006/relationships/image" Target="../media/image5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469800" y="146160"/>
            <a:ext cx="7997760" cy="1079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3505320" y="182880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Расстоянием</a:t>
            </a:r>
            <a:r>
              <a:rPr b="0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от точки до плоскости в пространстве называется длина перпендикуляра, опущенного из данной точки на данную плоск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33228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BD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2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16"/>
          <p:cNvGrpSpPr/>
          <p:nvPr/>
        </p:nvGrpSpPr>
        <p:grpSpPr>
          <a:xfrm>
            <a:off x="380880" y="1447920"/>
            <a:ext cx="8534520" cy="5257800"/>
            <a:chOff x="380880" y="1447920"/>
            <a:chExt cx="8534520" cy="5257800"/>
          </a:xfrm>
        </p:grpSpPr>
        <p:sp>
          <p:nvSpPr>
            <p:cNvPr id="303" name="Text Box 5"/>
            <p:cNvSpPr/>
            <p:nvPr/>
          </p:nvSpPr>
          <p:spPr>
            <a:xfrm>
              <a:off x="533520" y="6095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380880" y="4648320"/>
              <a:ext cx="85345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Q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– середины отрезков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E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BD</a:t>
              </a:r>
              <a:r>
                <a:rPr b="0" i="1" lang="ru-RU" sz="2400" spc="-1" strike="noStrike">
                  <a:solidFill>
                    <a:srgbClr val="0f6fc6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 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PQ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в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которо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Q =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P = SQ =  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=       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ткуд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5" name="Object 8"/>
            <p:cNvGraphicFramePr/>
            <p:nvPr/>
          </p:nvGraphicFramePr>
          <p:xfrm>
            <a:off x="2971800" y="5410080"/>
            <a:ext cx="584280" cy="78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6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971800" y="5410080"/>
                      <a:ext cx="58428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Object 9"/>
            <p:cNvGraphicFramePr/>
            <p:nvPr/>
          </p:nvGraphicFramePr>
          <p:xfrm>
            <a:off x="6838920" y="5410080"/>
            <a:ext cx="851040" cy="800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08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38920" y="5410080"/>
                      <a:ext cx="8510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Object 10"/>
            <p:cNvGraphicFramePr/>
            <p:nvPr/>
          </p:nvGraphicFramePr>
          <p:xfrm>
            <a:off x="1574640" y="5905440"/>
            <a:ext cx="851040" cy="80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10" name="Object 1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74640" y="5905440"/>
                      <a:ext cx="8510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Object 14"/>
            <p:cNvGraphicFramePr/>
            <p:nvPr/>
          </p:nvGraphicFramePr>
          <p:xfrm>
            <a:off x="4419720" y="5562720"/>
            <a:ext cx="444240" cy="393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12" name="Object 1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419720" y="5562720"/>
                      <a:ext cx="4442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13" name="Picture 15" descr=""/>
            <p:cNvPicPr/>
            <p:nvPr/>
          </p:nvPicPr>
          <p:blipFill>
            <a:blip r:embed="rId10"/>
            <a:stretch/>
          </p:blipFill>
          <p:spPr>
            <a:xfrm>
              <a:off x="274320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BE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12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14"/>
          <p:cNvGrpSpPr/>
          <p:nvPr/>
        </p:nvGrpSpPr>
        <p:grpSpPr>
          <a:xfrm>
            <a:off x="635040" y="1447920"/>
            <a:ext cx="5818320" cy="4368600"/>
            <a:chOff x="635040" y="1447920"/>
            <a:chExt cx="5818320" cy="4368600"/>
          </a:xfrm>
        </p:grpSpPr>
        <p:sp>
          <p:nvSpPr>
            <p:cNvPr id="317" name="Text Box 5"/>
            <p:cNvSpPr/>
            <p:nvPr/>
          </p:nvSpPr>
          <p:spPr>
            <a:xfrm>
              <a:off x="635040" y="521964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8" name="Object 9"/>
            <p:cNvGraphicFramePr/>
            <p:nvPr/>
          </p:nvGraphicFramePr>
          <p:xfrm>
            <a:off x="1676520" y="5029200"/>
            <a:ext cx="5205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9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502920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20" name="Picture 13" descr=""/>
            <p:cNvPicPr/>
            <p:nvPr/>
          </p:nvPicPr>
          <p:blipFill>
            <a:blip r:embed="rId4"/>
            <a:stretch/>
          </p:blipFill>
          <p:spPr>
            <a:xfrm>
              <a:off x="281952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CE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8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16"/>
          <p:cNvGrpSpPr/>
          <p:nvPr/>
        </p:nvGrpSpPr>
        <p:grpSpPr>
          <a:xfrm>
            <a:off x="152280" y="1447920"/>
            <a:ext cx="8763120" cy="5321160"/>
            <a:chOff x="152280" y="1447920"/>
            <a:chExt cx="8763120" cy="5321160"/>
          </a:xfrm>
        </p:grpSpPr>
        <p:sp>
          <p:nvSpPr>
            <p:cNvPr id="324" name="Text Box 5"/>
            <p:cNvSpPr/>
            <p:nvPr/>
          </p:nvSpPr>
          <p:spPr>
            <a:xfrm>
              <a:off x="228600" y="61722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9"/>
            <p:cNvSpPr/>
            <p:nvPr/>
          </p:nvSpPr>
          <p:spPr>
            <a:xfrm>
              <a:off x="152280" y="4648320"/>
              <a:ext cx="87631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очку пересечения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D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CE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AG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, в которо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A =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2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G = 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G =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=       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ткуд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6" name="Object 10"/>
            <p:cNvGraphicFramePr/>
            <p:nvPr/>
          </p:nvGraphicFramePr>
          <p:xfrm>
            <a:off x="1886040" y="5378400"/>
            <a:ext cx="58428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7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86040" y="5378400"/>
                      <a:ext cx="5842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Object 11"/>
            <p:cNvGraphicFramePr/>
            <p:nvPr/>
          </p:nvGraphicFramePr>
          <p:xfrm>
            <a:off x="4572000" y="5562720"/>
            <a:ext cx="444600" cy="393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29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0" y="5562720"/>
                      <a:ext cx="4446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30" name="Picture 12" descr=""/>
            <p:cNvPicPr/>
            <p:nvPr/>
          </p:nvPicPr>
          <p:blipFill>
            <a:blip r:embed="rId6"/>
            <a:stretch/>
          </p:blipFill>
          <p:spPr>
            <a:xfrm>
              <a:off x="259092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31" name="Object 13"/>
            <p:cNvGraphicFramePr/>
            <p:nvPr/>
          </p:nvGraphicFramePr>
          <p:xfrm>
            <a:off x="3429000" y="5410080"/>
            <a:ext cx="241200" cy="72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29000" y="5410080"/>
                      <a:ext cx="24120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3" name="Object 14"/>
            <p:cNvGraphicFramePr/>
            <p:nvPr/>
          </p:nvGraphicFramePr>
          <p:xfrm>
            <a:off x="6813720" y="5403960"/>
            <a:ext cx="825480" cy="799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34" name="Object 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13720" y="5403960"/>
                      <a:ext cx="82548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5" name="Object 15"/>
            <p:cNvGraphicFramePr/>
            <p:nvPr/>
          </p:nvGraphicFramePr>
          <p:xfrm>
            <a:off x="1219320" y="5969160"/>
            <a:ext cx="825480" cy="799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6" name="Object 1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19320" y="5969160"/>
                      <a:ext cx="82548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1522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м тетраэдр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3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3579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27"/>
          <p:cNvGrpSpPr/>
          <p:nvPr/>
        </p:nvGrpSpPr>
        <p:grpSpPr>
          <a:xfrm>
            <a:off x="609480" y="1219320"/>
            <a:ext cx="7848720" cy="5441760"/>
            <a:chOff x="609480" y="1219320"/>
            <a:chExt cx="7848720" cy="5441760"/>
          </a:xfrm>
        </p:grpSpPr>
        <p:sp>
          <p:nvSpPr>
            <p:cNvPr id="208" name="Text Box 5"/>
            <p:cNvSpPr/>
            <p:nvPr/>
          </p:nvSpPr>
          <p:spPr>
            <a:xfrm>
              <a:off x="2755800" y="60199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9" name="Object 12"/>
            <p:cNvGraphicFramePr/>
            <p:nvPr/>
          </p:nvGraphicFramePr>
          <p:xfrm>
            <a:off x="3809880" y="5861160"/>
            <a:ext cx="546120" cy="79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0" name="Object 1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9880" y="5861160"/>
                      <a:ext cx="546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Text Box 18"/>
            <p:cNvSpPr/>
            <p:nvPr/>
          </p:nvSpPr>
          <p:spPr>
            <a:xfrm>
              <a:off x="609480" y="4495680"/>
              <a:ext cx="7848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E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середину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BC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D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DE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для которого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DE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    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, HE =         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D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2" name="Object 19"/>
            <p:cNvGraphicFramePr/>
            <p:nvPr/>
          </p:nvGraphicFramePr>
          <p:xfrm>
            <a:off x="609480" y="5257800"/>
            <a:ext cx="44460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3" name="Object 1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9480" y="5257800"/>
                      <a:ext cx="4446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4" name="Picture 24" descr=""/>
            <p:cNvPicPr/>
            <p:nvPr/>
          </p:nvPicPr>
          <p:blipFill>
            <a:blip r:embed="rId6"/>
            <a:stretch/>
          </p:blipFill>
          <p:spPr>
            <a:xfrm>
              <a:off x="2514600" y="1219320"/>
              <a:ext cx="3579840" cy="3289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5" name="Object 25"/>
            <p:cNvGraphicFramePr/>
            <p:nvPr/>
          </p:nvGraphicFramePr>
          <p:xfrm>
            <a:off x="5562720" y="5257800"/>
            <a:ext cx="546120" cy="800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6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5257800"/>
                      <a:ext cx="5461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7" name="Object 26"/>
            <p:cNvGraphicFramePr/>
            <p:nvPr/>
          </p:nvGraphicFramePr>
          <p:xfrm>
            <a:off x="2057400" y="5251320"/>
            <a:ext cx="444600" cy="800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8" name="Object 2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57400" y="5251320"/>
                      <a:ext cx="4446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52280" y="152280"/>
            <a:ext cx="883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снованием треугольной пирамиде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SABC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является прямоугольный треугольник с катетами, равными 1. Боковые ребра пирамиды равны 1. Найдите расстояние от вершины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12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3376800" cy="310032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8"/>
          <p:cNvGrpSpPr/>
          <p:nvPr/>
        </p:nvGrpSpPr>
        <p:grpSpPr>
          <a:xfrm>
            <a:off x="152280" y="2133720"/>
            <a:ext cx="8991720" cy="4267080"/>
            <a:chOff x="152280" y="2133720"/>
            <a:chExt cx="8991720" cy="4267080"/>
          </a:xfrm>
        </p:grpSpPr>
        <p:sp>
          <p:nvSpPr>
            <p:cNvPr id="222" name="Text Box 13"/>
            <p:cNvSpPr/>
            <p:nvPr/>
          </p:nvSpPr>
          <p:spPr>
            <a:xfrm>
              <a:off x="3657600" y="2133720"/>
              <a:ext cx="54864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 Из равенства боковых ребер следует, что основанием перпендикуляра, опущенного из вершины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на плоскость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BC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, является центр окружности, описанной около 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BC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, т.е. середин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D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стороны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C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. Треугольник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CS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– прямоугольный и равнобедренный. Следовательно, искомый перпендикуляр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D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равен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3" name="Object 14"/>
            <p:cNvGraphicFramePr/>
            <p:nvPr/>
          </p:nvGraphicFramePr>
          <p:xfrm>
            <a:off x="7086600" y="5257800"/>
            <a:ext cx="62244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4" name="Object 1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86600" y="52578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Text Box 15"/>
            <p:cNvSpPr/>
            <p:nvPr/>
          </p:nvSpPr>
          <p:spPr>
            <a:xfrm>
              <a:off x="685800" y="571500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6" name="Object 16"/>
            <p:cNvGraphicFramePr/>
            <p:nvPr/>
          </p:nvGraphicFramePr>
          <p:xfrm>
            <a:off x="1676520" y="5486400"/>
            <a:ext cx="62208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7" name="Object 1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676520" y="5486400"/>
                      <a:ext cx="6220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8" name="Picture 17" descr=""/>
            <p:cNvPicPr/>
            <p:nvPr/>
          </p:nvPicPr>
          <p:blipFill>
            <a:blip r:embed="rId6"/>
            <a:stretch/>
          </p:blipFill>
          <p:spPr>
            <a:xfrm>
              <a:off x="152280" y="2286000"/>
              <a:ext cx="3376800" cy="3100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0" y="15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20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504960" cy="319572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23"/>
          <p:cNvGrpSpPr/>
          <p:nvPr/>
        </p:nvGrpSpPr>
        <p:grpSpPr>
          <a:xfrm>
            <a:off x="304920" y="1066680"/>
            <a:ext cx="8839080" cy="4978440"/>
            <a:chOff x="304920" y="1066680"/>
            <a:chExt cx="8839080" cy="4978440"/>
          </a:xfrm>
        </p:grpSpPr>
        <p:sp>
          <p:nvSpPr>
            <p:cNvPr id="232" name="Text Box 3"/>
            <p:cNvSpPr/>
            <p:nvPr/>
          </p:nvSpPr>
          <p:spPr>
            <a:xfrm>
              <a:off x="533520" y="54100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8"/>
            <p:cNvSpPr/>
            <p:nvPr/>
          </p:nvSpPr>
          <p:spPr>
            <a:xfrm>
              <a:off x="304920" y="441972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AC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в котором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A = SC =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C =       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4" name="Object 9"/>
            <p:cNvGraphicFramePr/>
            <p:nvPr/>
          </p:nvGraphicFramePr>
          <p:xfrm>
            <a:off x="4876920" y="4800600"/>
            <a:ext cx="46980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5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76920" y="4800600"/>
                      <a:ext cx="4698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Object 11"/>
            <p:cNvGraphicFramePr/>
            <p:nvPr/>
          </p:nvGraphicFramePr>
          <p:xfrm>
            <a:off x="1504800" y="5257800"/>
            <a:ext cx="54612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7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4800" y="525780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8" name="Object 21"/>
            <p:cNvGraphicFramePr/>
            <p:nvPr/>
          </p:nvGraphicFramePr>
          <p:xfrm>
            <a:off x="8305920" y="4724280"/>
            <a:ext cx="546120" cy="787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39" name="Object 2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05920" y="4724280"/>
                      <a:ext cx="5461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40" name="Picture 22" descr=""/>
            <p:cNvPicPr/>
            <p:nvPr/>
          </p:nvPicPr>
          <p:blipFill>
            <a:blip r:embed="rId8"/>
            <a:stretch/>
          </p:blipFill>
          <p:spPr>
            <a:xfrm>
              <a:off x="2590920" y="1066680"/>
              <a:ext cx="3504960" cy="319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15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11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3505320" cy="319572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14"/>
          <p:cNvGrpSpPr/>
          <p:nvPr/>
        </p:nvGrpSpPr>
        <p:grpSpPr>
          <a:xfrm>
            <a:off x="304920" y="1066680"/>
            <a:ext cx="8839080" cy="5524560"/>
            <a:chOff x="304920" y="1066680"/>
            <a:chExt cx="8839080" cy="5524560"/>
          </a:xfrm>
        </p:grpSpPr>
        <p:sp>
          <p:nvSpPr>
            <p:cNvPr id="244" name="Text Box 5"/>
            <p:cNvSpPr/>
            <p:nvPr/>
          </p:nvSpPr>
          <p:spPr>
            <a:xfrm>
              <a:off x="304920" y="594360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6"/>
            <p:cNvSpPr/>
            <p:nvPr/>
          </p:nvSpPr>
          <p:spPr>
            <a:xfrm>
              <a:off x="304920" y="4419720"/>
              <a:ext cx="88390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BC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E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EF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в которо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E = SF =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EF =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1.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ткуда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E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6" name="Object 8"/>
            <p:cNvGraphicFramePr/>
            <p:nvPr/>
          </p:nvGraphicFramePr>
          <p:xfrm>
            <a:off x="1295280" y="5791320"/>
            <a:ext cx="546120" cy="79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7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95280" y="5791320"/>
                      <a:ext cx="546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9"/>
            <p:cNvGraphicFramePr/>
            <p:nvPr/>
          </p:nvGraphicFramePr>
          <p:xfrm>
            <a:off x="1803240" y="5181480"/>
            <a:ext cx="444600" cy="78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9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03240" y="5181480"/>
                      <a:ext cx="44460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Object 12"/>
            <p:cNvGraphicFramePr/>
            <p:nvPr/>
          </p:nvGraphicFramePr>
          <p:xfrm>
            <a:off x="5207040" y="5175360"/>
            <a:ext cx="54612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51" name="Object 1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207040" y="5175360"/>
                      <a:ext cx="546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52" name="Picture 13" descr=""/>
            <p:cNvPicPr/>
            <p:nvPr/>
          </p:nvPicPr>
          <p:blipFill>
            <a:blip r:embed="rId8"/>
            <a:stretch/>
          </p:blipFill>
          <p:spPr>
            <a:xfrm>
              <a:off x="2743200" y="106668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15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BD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11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505320" cy="3195720"/>
          </a:xfrm>
          <a:prstGeom prst="rect">
            <a:avLst/>
          </a:prstGeom>
          <a:ln w="0">
            <a:noFill/>
          </a:ln>
        </p:spPr>
      </p:pic>
      <p:grpSp>
        <p:nvGrpSpPr>
          <p:cNvPr id="255" name="Group 13"/>
          <p:cNvGrpSpPr/>
          <p:nvPr/>
        </p:nvGrpSpPr>
        <p:grpSpPr>
          <a:xfrm>
            <a:off x="609480" y="1066680"/>
            <a:ext cx="5562720" cy="4680000"/>
            <a:chOff x="609480" y="1066680"/>
            <a:chExt cx="5562720" cy="4680000"/>
          </a:xfrm>
        </p:grpSpPr>
        <p:sp>
          <p:nvSpPr>
            <p:cNvPr id="256" name="Text Box 5"/>
            <p:cNvSpPr/>
            <p:nvPr/>
          </p:nvSpPr>
          <p:spPr>
            <a:xfrm>
              <a:off x="609480" y="5105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7" name="Object 7"/>
            <p:cNvGraphicFramePr/>
            <p:nvPr/>
          </p:nvGraphicFramePr>
          <p:xfrm>
            <a:off x="1600200" y="4959360"/>
            <a:ext cx="54612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8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495936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59" name="Picture 12" descr=""/>
            <p:cNvPicPr/>
            <p:nvPr/>
          </p:nvPicPr>
          <p:blipFill>
            <a:blip r:embed="rId4"/>
            <a:stretch/>
          </p:blipFill>
          <p:spPr>
            <a:xfrm>
              <a:off x="2666880" y="106668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10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633840" cy="344952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13"/>
          <p:cNvGrpSpPr/>
          <p:nvPr/>
        </p:nvGrpSpPr>
        <p:grpSpPr>
          <a:xfrm>
            <a:off x="1066680" y="1600200"/>
            <a:ext cx="7010640" cy="4574520"/>
            <a:chOff x="1066680" y="1600200"/>
            <a:chExt cx="7010640" cy="4574520"/>
          </a:xfrm>
        </p:grpSpPr>
        <p:sp>
          <p:nvSpPr>
            <p:cNvPr id="263" name="Text Box 5"/>
            <p:cNvSpPr/>
            <p:nvPr/>
          </p:nvSpPr>
          <p:spPr>
            <a:xfrm>
              <a:off x="1143000" y="57150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6"/>
            <p:cNvSpPr/>
            <p:nvPr/>
          </p:nvSpPr>
          <p:spPr>
            <a:xfrm>
              <a:off x="1066680" y="4800600"/>
              <a:ext cx="701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равностороннего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AD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но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5" name="Object 7"/>
            <p:cNvGraphicFramePr/>
            <p:nvPr/>
          </p:nvGraphicFramePr>
          <p:xfrm>
            <a:off x="7391520" y="5181480"/>
            <a:ext cx="44424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6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91520" y="5181480"/>
                      <a:ext cx="4442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Object 8"/>
            <p:cNvGraphicFramePr/>
            <p:nvPr/>
          </p:nvGraphicFramePr>
          <p:xfrm>
            <a:off x="2165400" y="5759280"/>
            <a:ext cx="444600" cy="393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68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65400" y="5759280"/>
                      <a:ext cx="44460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69" name="Picture 12" descr=""/>
            <p:cNvPicPr/>
            <p:nvPr/>
          </p:nvPicPr>
          <p:blipFill>
            <a:blip r:embed="rId6"/>
            <a:stretch/>
          </p:blipFill>
          <p:spPr>
            <a:xfrm>
              <a:off x="2743200" y="160020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17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20"/>
          <p:cNvGrpSpPr/>
          <p:nvPr/>
        </p:nvGrpSpPr>
        <p:grpSpPr>
          <a:xfrm>
            <a:off x="380880" y="1447920"/>
            <a:ext cx="8534520" cy="5257800"/>
            <a:chOff x="380880" y="1447920"/>
            <a:chExt cx="8534520" cy="5257800"/>
          </a:xfrm>
        </p:grpSpPr>
        <p:sp>
          <p:nvSpPr>
            <p:cNvPr id="273" name="Text Box 5"/>
            <p:cNvSpPr/>
            <p:nvPr/>
          </p:nvSpPr>
          <p:spPr>
            <a:xfrm>
              <a:off x="533520" y="6095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80880" y="4648320"/>
              <a:ext cx="85345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– центр основания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G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 – середина ребр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BC</a:t>
              </a:r>
              <a:r>
                <a:rPr b="0" i="1" lang="ru-RU" sz="2400" spc="-1" strike="noStrike">
                  <a:solidFill>
                    <a:srgbClr val="0f6fc6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 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O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G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в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котором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=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OG =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G =         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ткуд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O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5" name="Object 7"/>
            <p:cNvGraphicFramePr/>
            <p:nvPr/>
          </p:nvGraphicFramePr>
          <p:xfrm>
            <a:off x="2286000" y="5562720"/>
            <a:ext cx="44460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6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0" y="5562720"/>
                      <a:ext cx="4446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12"/>
            <p:cNvGraphicFramePr/>
            <p:nvPr/>
          </p:nvGraphicFramePr>
          <p:xfrm>
            <a:off x="3733920" y="5365800"/>
            <a:ext cx="44424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8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733920" y="5365800"/>
                      <a:ext cx="444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13"/>
            <p:cNvGraphicFramePr/>
            <p:nvPr/>
          </p:nvGraphicFramePr>
          <p:xfrm>
            <a:off x="5029200" y="5410080"/>
            <a:ext cx="660240" cy="787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0" name="Object 1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29200" y="5410080"/>
                      <a:ext cx="66024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14"/>
            <p:cNvGraphicFramePr/>
            <p:nvPr/>
          </p:nvGraphicFramePr>
          <p:xfrm>
            <a:off x="7467480" y="5403960"/>
            <a:ext cx="660600" cy="799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2" name="Object 1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467480" y="5403960"/>
                      <a:ext cx="6606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Object 15"/>
            <p:cNvGraphicFramePr/>
            <p:nvPr/>
          </p:nvGraphicFramePr>
          <p:xfrm>
            <a:off x="1670040" y="5905440"/>
            <a:ext cx="660240" cy="800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4" name="Object 15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670040" y="5905440"/>
                      <a:ext cx="660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85" name="Picture 18" descr=""/>
            <p:cNvPicPr/>
            <p:nvPr/>
          </p:nvPicPr>
          <p:blipFill>
            <a:blip r:embed="rId12"/>
            <a:stretch/>
          </p:blipFill>
          <p:spPr>
            <a:xfrm>
              <a:off x="274320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CD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3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15"/>
          <p:cNvGrpSpPr/>
          <p:nvPr/>
        </p:nvGrpSpPr>
        <p:grpSpPr>
          <a:xfrm>
            <a:off x="380880" y="1447920"/>
            <a:ext cx="8534520" cy="5257800"/>
            <a:chOff x="380880" y="1447920"/>
            <a:chExt cx="8534520" cy="5257800"/>
          </a:xfrm>
        </p:grpSpPr>
        <p:sp>
          <p:nvSpPr>
            <p:cNvPr id="289" name="Text Box 5"/>
            <p:cNvSpPr/>
            <p:nvPr/>
          </p:nvSpPr>
          <p:spPr>
            <a:xfrm>
              <a:off x="533520" y="6095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6"/>
            <p:cNvSpPr/>
            <p:nvPr/>
          </p:nvSpPr>
          <p:spPr>
            <a:xfrm>
              <a:off x="380880" y="4648320"/>
              <a:ext cx="85345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Q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F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CD</a:t>
              </a:r>
              <a:r>
                <a:rPr b="0" i="1" lang="ru-RU" sz="2400" spc="-1" strike="noStrike">
                  <a:solidFill>
                    <a:srgbClr val="0f6fc6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 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PQ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в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которо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Q = SO =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P = SQ =  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ткуд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1" name="Object 7"/>
            <p:cNvGraphicFramePr/>
            <p:nvPr/>
          </p:nvGraphicFramePr>
          <p:xfrm>
            <a:off x="1905120" y="556272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2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55627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Object 10"/>
            <p:cNvGraphicFramePr/>
            <p:nvPr/>
          </p:nvGraphicFramePr>
          <p:xfrm>
            <a:off x="3962520" y="5410080"/>
            <a:ext cx="583920" cy="78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4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962520" y="5410080"/>
                      <a:ext cx="5839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11"/>
            <p:cNvGraphicFramePr/>
            <p:nvPr/>
          </p:nvGraphicFramePr>
          <p:xfrm>
            <a:off x="6546960" y="5410080"/>
            <a:ext cx="812520" cy="80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96" name="Object 1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546960" y="5410080"/>
                      <a:ext cx="8125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Object 12"/>
            <p:cNvGraphicFramePr/>
            <p:nvPr/>
          </p:nvGraphicFramePr>
          <p:xfrm>
            <a:off x="1593720" y="5905440"/>
            <a:ext cx="812880" cy="800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98" name="Object 1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93720" y="5905440"/>
                      <a:ext cx="812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99" name="Picture 14" descr=""/>
            <p:cNvPicPr/>
            <p:nvPr/>
          </p:nvPicPr>
          <p:blipFill>
            <a:blip r:embed="rId10"/>
            <a:stretch/>
          </p:blipFill>
          <p:spPr>
            <a:xfrm>
              <a:off x="274320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Школа ХСОШ1</cp:lastModifiedBy>
  <dcterms:modified xsi:type="dcterms:W3CDTF">2011-02-05T08:32:41Z</dcterms:modified>
  <cp:revision>27</cp:revision>
  <dc:subject/>
  <dc:title>УГОЛ МЕЖДУ ПРЯМЫМИ В ПРОСТРАНСТВЕ</dc:title>
</cp:coreProperties>
</file>