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16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47.png" ContentType="image/png"/>
  <Override PartName="/ppt/media/image1.jpeg" ContentType="image/jpeg"/>
  <Override PartName="/ppt/media/image7.png" ContentType="image/png"/>
  <Override PartName="/ppt/media/image15.wmf" ContentType="image/x-wmf"/>
  <Override PartName="/ppt/media/image11.png" ContentType="image/png"/>
  <Override PartName="/ppt/media/image51.wmf" ContentType="image/x-wmf"/>
  <Override PartName="/ppt/media/image29.wmf" ContentType="image/x-wmf"/>
  <Override PartName="/ppt/media/image31.png" ContentType="image/png"/>
  <Override PartName="/ppt/media/image4.jpeg" ContentType="image/jpeg"/>
  <Override PartName="/ppt/media/image38.wmf" ContentType="image/x-wmf"/>
  <Override PartName="/ppt/media/image40.png" ContentType="image/png"/>
  <Override PartName="/ppt/media/image6.png" ContentType="image/png"/>
  <Override PartName="/ppt/media/image18.png" ContentType="image/png"/>
  <Override PartName="/ppt/media/image58.wmf" ContentType="image/x-wmf"/>
  <Override PartName="/ppt/media/image21.wmf" ContentType="image/x-wmf"/>
  <Override PartName="/ppt/media/image3.png" ContentType="image/png"/>
  <Override PartName="/ppt/media/image26.wmf" ContentType="image/x-wmf"/>
  <Override PartName="/ppt/media/image25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23.png" ContentType="image/png"/>
  <Override PartName="/ppt/media/image60.wmf" ContentType="image/x-wmf"/>
  <Override PartName="/ppt/media/image57.wmf" ContentType="image/x-wmf"/>
  <Override PartName="/ppt/media/image20.wmf" ContentType="image/x-wmf"/>
  <Override PartName="/ppt/media/image27.png" ContentType="image/png"/>
  <Override PartName="/ppt/media/image55.png" ContentType="image/png"/>
  <Override PartName="/ppt/media/image12.wmf" ContentType="image/x-wmf"/>
  <Override PartName="/ppt/media/image49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50.wmf" ContentType="image/x-wmf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2.png" ContentType="image/png"/>
  <Override PartName="/ppt/media/image30.png" ContentType="image/png"/>
  <Override PartName="/ppt/media/image32.wmf" ContentType="image/x-wmf"/>
  <Override PartName="/ppt/media/image33.wmf" ContentType="image/x-wmf"/>
  <Override PartName="/ppt/media/image34.png" ContentType="image/png"/>
  <Override PartName="/ppt/media/image36.wmf" ContentType="image/x-wmf"/>
  <Override PartName="/ppt/media/image37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8.wmf" ContentType="image/x-wmf"/>
  <Override PartName="/ppt/media/image53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FA00-D50A-403E-B94F-0985D106DA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4E7B-669B-4555-91B0-9AB75C9498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160F-6C6A-4554-83DF-78406B446D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A2E5-09B8-4FDC-9BAC-3187E3D3EE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7A78-D5EE-4EE6-BD5C-C0CBF681B0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BF4D-D1EC-4F59-9A5D-BEFF42A71E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0B61-C851-4E05-92C1-D8D45846D2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DA23-B977-43C1-AA63-3A94274E30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2A96-14A1-4058-AC03-0EA2075B5A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325C-C7D3-4840-ABEC-67D55A07C4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C11D-2D27-47DE-8EC7-14CC713532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4AA2-6106-4AB6-B49D-B6FB610404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22EC-A97B-411D-BA4A-52E56ADB6C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</a:rPr>
              <a:t>В режиме слайдов ответ появляется после кликанья мыш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CF6-6588-4BAF-BFBC-274FC729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85F-EA93-4453-9AB9-8670C39B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644-D3A1-4241-8F49-B31BBD2E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5FB-9B6B-4F24-B869-6334DA9C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00E5-2322-4728-B2B6-6AEDD6C9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1395-C99D-49BB-B60D-83793E9B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B3D4-C328-47E9-9D2A-34765D0F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4289-8290-41F1-8501-E89F7705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2095-501D-48A8-8A72-03D48F0F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13C8-F831-4488-9402-1AE9CD91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45DB-928A-4F9E-97D7-21635597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87D-14C7-455D-8221-368B222F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550C-6C76-4AB6-AFEA-7B060776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485D-260C-4292-8765-69962591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523A-4082-489E-BB9D-B8E321E6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7671-1DD1-4EF9-82C1-AD700BF8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F22C-C2AD-46F2-8614-37F3D202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08CA-0A4D-4F4E-972A-9B5DFA24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0FB9-752A-47BF-A85C-704CB35A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36E4-A301-4140-B84D-43EBCE4C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4F12-99D0-4392-A6E4-5DE8BB6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D65C-6E16-4BDA-B447-935A7CD7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573-19DC-4270-9592-610E28C8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7DAD-F969-4C0E-B313-10A595B3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1513-A835-4206-8CF2-3BF71E7D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E560-18C9-4E8F-807C-DAC173A1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B800-BDAA-45F9-9FD7-B6D9086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F3E9A-A093-4277-862A-0A8CE808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6348E-3197-4EB6-A6D5-EA1880C5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C605-F08B-4B3F-B918-7B244FB2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EBE6F-B829-4A51-BCF6-FBDE7288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E03C7-84A4-43F8-B36E-EC9A8E24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5CC30-FCD6-41C3-9E87-E035A84D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C19-8EB5-4E91-8CB9-7C2280D8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92031-479F-4282-B2B2-B2780CDA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C954-CFA8-4D06-879D-21095AAA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FD8B-6EA8-4DA9-A518-59C8E56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C31C-1012-48FF-943F-7F0BB18C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C59F-E753-4B71-9E19-5D2FD20C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E27E2-CBF6-42CE-99F2-5AEAA2B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38617-D6D5-426C-A99D-C394E25C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50BBC-5D36-4EFB-843B-BA159F90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1F11-14D6-46E7-86FA-573E7298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854-C737-43A8-91CF-5CDF2F9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B7D-D912-4B69-BA3A-4DFC4F7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550-8C99-4C7E-B303-24A10CB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7E8-5059-4DE4-A294-73BDDC5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E97-9BF2-48E3-BF29-D572C88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497-5C7A-4877-BA10-A5788AF7335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6A17-6D99-4267-AEF3-497B37B55C4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9D0C-EA74-4215-BD76-D08614E4BB3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AD76-199C-49EF-95A7-D409EA6587F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image" Target="../media/image5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wmf"/><Relationship Id="rId6" Type="http://schemas.openxmlformats.org/officeDocument/2006/relationships/image" Target="../media/image5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469800" y="146160"/>
            <a:ext cx="7997760" cy="1079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3505320" y="18288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Расстоянием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от точки до плоскости в пространстве называется длина перпендикуляра, опущенного из данной точки на данную плоск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3322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D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2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16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303" name="Text Box 5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середины отрезков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E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D</a:t>
              </a:r>
              <a:r>
                <a:rPr b="0" i="1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Q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Q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 = SQ =  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5" name="Object 8"/>
            <p:cNvGraphicFramePr/>
            <p:nvPr/>
          </p:nvGraphicFramePr>
          <p:xfrm>
            <a:off x="2971800" y="5410080"/>
            <a:ext cx="584280" cy="78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6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971800" y="5410080"/>
                      <a:ext cx="58428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9"/>
            <p:cNvGraphicFramePr/>
            <p:nvPr/>
          </p:nvGraphicFramePr>
          <p:xfrm>
            <a:off x="6838920" y="5410080"/>
            <a:ext cx="851040" cy="80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38920" y="541008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Object 10"/>
            <p:cNvGraphicFramePr/>
            <p:nvPr/>
          </p:nvGraphicFramePr>
          <p:xfrm>
            <a:off x="1574640" y="5905440"/>
            <a:ext cx="85104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10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74640" y="5905440"/>
                      <a:ext cx="8510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14"/>
            <p:cNvGraphicFramePr/>
            <p:nvPr/>
          </p:nvGraphicFramePr>
          <p:xfrm>
            <a:off x="4419720" y="5562720"/>
            <a:ext cx="444240" cy="393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12" name="Object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19720" y="5562720"/>
                      <a:ext cx="444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13" name="Picture 15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E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2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14"/>
          <p:cNvGrpSpPr/>
          <p:nvPr/>
        </p:nvGrpSpPr>
        <p:grpSpPr>
          <a:xfrm>
            <a:off x="635040" y="1447920"/>
            <a:ext cx="5818320" cy="4368600"/>
            <a:chOff x="635040" y="1447920"/>
            <a:chExt cx="5818320" cy="4368600"/>
          </a:xfrm>
        </p:grpSpPr>
        <p:sp>
          <p:nvSpPr>
            <p:cNvPr id="317" name="Text Box 5"/>
            <p:cNvSpPr/>
            <p:nvPr/>
          </p:nvSpPr>
          <p:spPr>
            <a:xfrm>
              <a:off x="635040" y="52196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8" name="Object 9"/>
            <p:cNvGraphicFramePr/>
            <p:nvPr/>
          </p:nvGraphicFramePr>
          <p:xfrm>
            <a:off x="1676520" y="5029200"/>
            <a:ext cx="52056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9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5029200"/>
                      <a:ext cx="52056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20" name="Picture 13" descr=""/>
            <p:cNvPicPr/>
            <p:nvPr/>
          </p:nvPicPr>
          <p:blipFill>
            <a:blip r:embed="rId4"/>
            <a:stretch/>
          </p:blipFill>
          <p:spPr>
            <a:xfrm>
              <a:off x="281952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CE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8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16"/>
          <p:cNvGrpSpPr/>
          <p:nvPr/>
        </p:nvGrpSpPr>
        <p:grpSpPr>
          <a:xfrm>
            <a:off x="152280" y="1447920"/>
            <a:ext cx="8763120" cy="5321160"/>
            <a:chOff x="152280" y="1447920"/>
            <a:chExt cx="8763120" cy="5321160"/>
          </a:xfrm>
        </p:grpSpPr>
        <p:sp>
          <p:nvSpPr>
            <p:cNvPr id="324" name="Text Box 5"/>
            <p:cNvSpPr/>
            <p:nvPr/>
          </p:nvSpPr>
          <p:spPr>
            <a:xfrm>
              <a:off x="228600" y="6172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152280" y="4648320"/>
              <a:ext cx="87631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G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очку пересечения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D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CE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G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, в котор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2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G = 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G =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6" name="Object 10"/>
            <p:cNvGraphicFramePr/>
            <p:nvPr/>
          </p:nvGraphicFramePr>
          <p:xfrm>
            <a:off x="1886040" y="5378400"/>
            <a:ext cx="58428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7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86040" y="5378400"/>
                      <a:ext cx="5842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Object 11"/>
            <p:cNvGraphicFramePr/>
            <p:nvPr/>
          </p:nvGraphicFramePr>
          <p:xfrm>
            <a:off x="4572000" y="5562720"/>
            <a:ext cx="444600" cy="39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9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0" y="55627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30" name="Picture 12" descr=""/>
            <p:cNvPicPr/>
            <p:nvPr/>
          </p:nvPicPr>
          <p:blipFill>
            <a:blip r:embed="rId6"/>
            <a:stretch/>
          </p:blipFill>
          <p:spPr>
            <a:xfrm>
              <a:off x="259092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31" name="Object 13"/>
            <p:cNvGraphicFramePr/>
            <p:nvPr/>
          </p:nvGraphicFramePr>
          <p:xfrm>
            <a:off x="3429000" y="5410080"/>
            <a:ext cx="241200" cy="72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5410080"/>
                      <a:ext cx="24120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3" name="Object 14"/>
            <p:cNvGraphicFramePr/>
            <p:nvPr/>
          </p:nvGraphicFramePr>
          <p:xfrm>
            <a:off x="6813720" y="5403960"/>
            <a:ext cx="825480" cy="79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4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13720" y="5403960"/>
                      <a:ext cx="8254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Object 15"/>
            <p:cNvGraphicFramePr/>
            <p:nvPr/>
          </p:nvGraphicFramePr>
          <p:xfrm>
            <a:off x="1219320" y="5969160"/>
            <a:ext cx="825480" cy="799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36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19320" y="5969160"/>
                      <a:ext cx="82548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33520" y="1522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м тетраэдр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3579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27"/>
          <p:cNvGrpSpPr/>
          <p:nvPr/>
        </p:nvGrpSpPr>
        <p:grpSpPr>
          <a:xfrm>
            <a:off x="609480" y="1219320"/>
            <a:ext cx="7848720" cy="5441760"/>
            <a:chOff x="609480" y="1219320"/>
            <a:chExt cx="7848720" cy="5441760"/>
          </a:xfrm>
        </p:grpSpPr>
        <p:sp>
          <p:nvSpPr>
            <p:cNvPr id="208" name="Text Box 5"/>
            <p:cNvSpPr/>
            <p:nvPr/>
          </p:nvSpPr>
          <p:spPr>
            <a:xfrm>
              <a:off x="2755800" y="6019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9" name="Object 12"/>
            <p:cNvGraphicFramePr/>
            <p:nvPr/>
          </p:nvGraphicFramePr>
          <p:xfrm>
            <a:off x="3809880" y="5861160"/>
            <a:ext cx="54612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0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9880" y="58611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Text Box 18"/>
            <p:cNvSpPr/>
            <p:nvPr/>
          </p:nvSpPr>
          <p:spPr>
            <a:xfrm>
              <a:off x="609480" y="4495680"/>
              <a:ext cx="7848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ередину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DE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для которого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E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, HE =         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2" name="Object 19"/>
            <p:cNvGraphicFramePr/>
            <p:nvPr/>
          </p:nvGraphicFramePr>
          <p:xfrm>
            <a:off x="609480" y="5257800"/>
            <a:ext cx="44460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3" name="Object 1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09480" y="5257800"/>
                      <a:ext cx="4446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4" name="Picture 24" descr=""/>
            <p:cNvPicPr/>
            <p:nvPr/>
          </p:nvPicPr>
          <p:blipFill>
            <a:blip r:embed="rId6"/>
            <a:stretch/>
          </p:blipFill>
          <p:spPr>
            <a:xfrm>
              <a:off x="2514600" y="1219320"/>
              <a:ext cx="3579840" cy="3289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5" name="Object 25"/>
            <p:cNvGraphicFramePr/>
            <p:nvPr/>
          </p:nvGraphicFramePr>
          <p:xfrm>
            <a:off x="5562720" y="5257800"/>
            <a:ext cx="546120" cy="800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6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257800"/>
                      <a:ext cx="5461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7" name="Object 26"/>
            <p:cNvGraphicFramePr/>
            <p:nvPr/>
          </p:nvGraphicFramePr>
          <p:xfrm>
            <a:off x="2057400" y="5251320"/>
            <a:ext cx="444600" cy="800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2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57400" y="5251320"/>
                      <a:ext cx="44460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52280" y="152280"/>
            <a:ext cx="883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снованием треугольной пирамиде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SABC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является прямоугольный треугольник с катетами, равными 1. Боковые ребра пирамиды равны 1. Найдите 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3376800" cy="31003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8"/>
          <p:cNvGrpSpPr/>
          <p:nvPr/>
        </p:nvGrpSpPr>
        <p:grpSpPr>
          <a:xfrm>
            <a:off x="152280" y="2133720"/>
            <a:ext cx="8991720" cy="4267080"/>
            <a:chOff x="152280" y="2133720"/>
            <a:chExt cx="8991720" cy="4267080"/>
          </a:xfrm>
        </p:grpSpPr>
        <p:sp>
          <p:nvSpPr>
            <p:cNvPr id="222" name="Text Box 13"/>
            <p:cNvSpPr/>
            <p:nvPr/>
          </p:nvSpPr>
          <p:spPr>
            <a:xfrm>
              <a:off x="3657600" y="2133720"/>
              <a:ext cx="54864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з равенства боковых ребер следует, что основанием перпендикуляра, опущенного из вершины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на плоско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, является центр окружности, описанной около 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BC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, т.е. середин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D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тороны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C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. Треугольник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CS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прямоугольный и равнобедренный. Следовательно, искомый перпендикуляр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D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равен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Object 14"/>
            <p:cNvGraphicFramePr/>
            <p:nvPr/>
          </p:nvGraphicFramePr>
          <p:xfrm>
            <a:off x="7086600" y="5257800"/>
            <a:ext cx="62244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4" name="Object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86600" y="5257800"/>
                      <a:ext cx="6224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Text Box 15"/>
            <p:cNvSpPr/>
            <p:nvPr/>
          </p:nvSpPr>
          <p:spPr>
            <a:xfrm>
              <a:off x="685800" y="571500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6" name="Object 16"/>
            <p:cNvGraphicFramePr/>
            <p:nvPr/>
          </p:nvGraphicFramePr>
          <p:xfrm>
            <a:off x="1676520" y="5486400"/>
            <a:ext cx="622080" cy="914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7" name="Object 1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676520" y="5486400"/>
                      <a:ext cx="6220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8" name="Picture 17" descr=""/>
            <p:cNvPicPr/>
            <p:nvPr/>
          </p:nvPicPr>
          <p:blipFill>
            <a:blip r:embed="rId6"/>
            <a:stretch/>
          </p:blipFill>
          <p:spPr>
            <a:xfrm>
              <a:off x="152280" y="2286000"/>
              <a:ext cx="3376800" cy="31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0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50496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23"/>
          <p:cNvGrpSpPr/>
          <p:nvPr/>
        </p:nvGrpSpPr>
        <p:grpSpPr>
          <a:xfrm>
            <a:off x="304920" y="1066680"/>
            <a:ext cx="8839080" cy="4978440"/>
            <a:chOff x="304920" y="1066680"/>
            <a:chExt cx="8839080" cy="4978440"/>
          </a:xfrm>
        </p:grpSpPr>
        <p:sp>
          <p:nvSpPr>
            <p:cNvPr id="232" name="Text Box 3"/>
            <p:cNvSpPr/>
            <p:nvPr/>
          </p:nvSpPr>
          <p:spPr>
            <a:xfrm>
              <a:off x="533520" y="54100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304920" y="441972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C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 которо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 = SC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1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C =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Следовательно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Object 9"/>
            <p:cNvGraphicFramePr/>
            <p:nvPr/>
          </p:nvGraphicFramePr>
          <p:xfrm>
            <a:off x="4876920" y="4800600"/>
            <a:ext cx="469800" cy="38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76920" y="4800600"/>
                      <a:ext cx="4698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11"/>
            <p:cNvGraphicFramePr/>
            <p:nvPr/>
          </p:nvGraphicFramePr>
          <p:xfrm>
            <a:off x="1504800" y="5257800"/>
            <a:ext cx="54612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7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4800" y="525780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Object 21"/>
            <p:cNvGraphicFramePr/>
            <p:nvPr/>
          </p:nvGraphicFramePr>
          <p:xfrm>
            <a:off x="8305920" y="4724280"/>
            <a:ext cx="54612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39" name="Object 2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05920" y="4724280"/>
                      <a:ext cx="5461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40" name="Picture 22" descr=""/>
            <p:cNvPicPr/>
            <p:nvPr/>
          </p:nvPicPr>
          <p:blipFill>
            <a:blip r:embed="rId8"/>
            <a:stretch/>
          </p:blipFill>
          <p:spPr>
            <a:xfrm>
              <a:off x="2590920" y="1066680"/>
              <a:ext cx="350496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4"/>
          <p:cNvGrpSpPr/>
          <p:nvPr/>
        </p:nvGrpSpPr>
        <p:grpSpPr>
          <a:xfrm>
            <a:off x="304920" y="1066680"/>
            <a:ext cx="8839080" cy="5524560"/>
            <a:chOff x="304920" y="1066680"/>
            <a:chExt cx="8839080" cy="5524560"/>
          </a:xfrm>
        </p:grpSpPr>
        <p:sp>
          <p:nvSpPr>
            <p:cNvPr id="244" name="Text Box 5"/>
            <p:cNvSpPr/>
            <p:nvPr/>
          </p:nvSpPr>
          <p:spPr>
            <a:xfrm>
              <a:off x="304920" y="59436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"/>
            <p:cNvSpPr/>
            <p:nvPr/>
          </p:nvSpPr>
          <p:spPr>
            <a:xfrm>
              <a:off x="304920" y="4419720"/>
              <a:ext cx="883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бозначи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D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C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EF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 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E = SF =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F =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1.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E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6" name="Object 8"/>
            <p:cNvGraphicFramePr/>
            <p:nvPr/>
          </p:nvGraphicFramePr>
          <p:xfrm>
            <a:off x="1295280" y="5791320"/>
            <a:ext cx="546120" cy="79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7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95280" y="579132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9"/>
            <p:cNvGraphicFramePr/>
            <p:nvPr/>
          </p:nvGraphicFramePr>
          <p:xfrm>
            <a:off x="1803240" y="5181480"/>
            <a:ext cx="44460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9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03240" y="5181480"/>
                      <a:ext cx="44460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Object 12"/>
            <p:cNvGraphicFramePr/>
            <p:nvPr/>
          </p:nvGraphicFramePr>
          <p:xfrm>
            <a:off x="5207040" y="5175360"/>
            <a:ext cx="546120" cy="799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51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07040" y="5175360"/>
                      <a:ext cx="54612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2" name="Picture 13" descr=""/>
            <p:cNvPicPr/>
            <p:nvPr/>
          </p:nvPicPr>
          <p:blipFill>
            <a:blip r:embed="rId8"/>
            <a:stretch/>
          </p:blipFill>
          <p:spPr>
            <a:xfrm>
              <a:off x="2743200" y="106668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все ребра которой равны 1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D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11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505320" cy="3195720"/>
          </a:xfrm>
          <a:prstGeom prst="rect">
            <a:avLst/>
          </a:prstGeom>
          <a:ln w="0">
            <a:noFill/>
          </a:ln>
        </p:spPr>
      </p:pic>
      <p:grpSp>
        <p:nvGrpSpPr>
          <p:cNvPr id="255" name="Group 13"/>
          <p:cNvGrpSpPr/>
          <p:nvPr/>
        </p:nvGrpSpPr>
        <p:grpSpPr>
          <a:xfrm>
            <a:off x="609480" y="1066680"/>
            <a:ext cx="5562720" cy="4680000"/>
            <a:chOff x="609480" y="1066680"/>
            <a:chExt cx="5562720" cy="4680000"/>
          </a:xfrm>
        </p:grpSpPr>
        <p:sp>
          <p:nvSpPr>
            <p:cNvPr id="256" name="Text Box 5"/>
            <p:cNvSpPr/>
            <p:nvPr/>
          </p:nvSpPr>
          <p:spPr>
            <a:xfrm>
              <a:off x="609480" y="5105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7" name="Object 7"/>
            <p:cNvGraphicFramePr/>
            <p:nvPr/>
          </p:nvGraphicFramePr>
          <p:xfrm>
            <a:off x="1600200" y="4959360"/>
            <a:ext cx="546120" cy="787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4959360"/>
                      <a:ext cx="54612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9" name="Picture 12" descr=""/>
            <p:cNvPicPr/>
            <p:nvPr/>
          </p:nvPicPr>
          <p:blipFill>
            <a:blip r:embed="rId4"/>
            <a:stretch/>
          </p:blipFill>
          <p:spPr>
            <a:xfrm>
              <a:off x="2666880" y="1066680"/>
              <a:ext cx="3505320" cy="319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вершины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44952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13"/>
          <p:cNvGrpSpPr/>
          <p:nvPr/>
        </p:nvGrpSpPr>
        <p:grpSpPr>
          <a:xfrm>
            <a:off x="1066680" y="1600200"/>
            <a:ext cx="7010640" cy="4574520"/>
            <a:chOff x="1066680" y="1600200"/>
            <a:chExt cx="7010640" cy="4574520"/>
          </a:xfrm>
        </p:grpSpPr>
        <p:sp>
          <p:nvSpPr>
            <p:cNvPr id="263" name="Text Box 5"/>
            <p:cNvSpPr/>
            <p:nvPr/>
          </p:nvSpPr>
          <p:spPr>
            <a:xfrm>
              <a:off x="114300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6"/>
            <p:cNvSpPr/>
            <p:nvPr/>
          </p:nvSpPr>
          <p:spPr>
            <a:xfrm>
              <a:off x="1066680" y="4800600"/>
              <a:ext cx="701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равностороннего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AD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но равн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5" name="Object 7"/>
            <p:cNvGraphicFramePr/>
            <p:nvPr/>
          </p:nvGraphicFramePr>
          <p:xfrm>
            <a:off x="7391520" y="5181480"/>
            <a:ext cx="444240" cy="393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6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91520" y="5181480"/>
                      <a:ext cx="4442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Object 8"/>
            <p:cNvGraphicFramePr/>
            <p:nvPr/>
          </p:nvGraphicFramePr>
          <p:xfrm>
            <a:off x="2165400" y="5759280"/>
            <a:ext cx="444600" cy="39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8" name="Object 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65400" y="5759280"/>
                      <a:ext cx="444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69" name="Picture 12" descr=""/>
            <p:cNvPicPr/>
            <p:nvPr/>
          </p:nvPicPr>
          <p:blipFill>
            <a:blip r:embed="rId6"/>
            <a:stretch/>
          </p:blipFill>
          <p:spPr>
            <a:xfrm>
              <a:off x="2743200" y="160020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BC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17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20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273" name="Text Box 5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центр основания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G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– середина ребр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BC</a:t>
              </a:r>
              <a:r>
                <a:rPr b="0" i="1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G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котором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O =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G =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G =         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O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5" name="Object 7"/>
            <p:cNvGraphicFramePr/>
            <p:nvPr/>
          </p:nvGraphicFramePr>
          <p:xfrm>
            <a:off x="2286000" y="5562720"/>
            <a:ext cx="44460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6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0" y="5562720"/>
                      <a:ext cx="4446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12"/>
            <p:cNvGraphicFramePr/>
            <p:nvPr/>
          </p:nvGraphicFramePr>
          <p:xfrm>
            <a:off x="3733920" y="5365800"/>
            <a:ext cx="444240" cy="78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8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33920" y="5365800"/>
                      <a:ext cx="44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13"/>
            <p:cNvGraphicFramePr/>
            <p:nvPr/>
          </p:nvGraphicFramePr>
          <p:xfrm>
            <a:off x="5029200" y="5410080"/>
            <a:ext cx="660240" cy="78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0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9200" y="5410080"/>
                      <a:ext cx="66024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14"/>
            <p:cNvGraphicFramePr/>
            <p:nvPr/>
          </p:nvGraphicFramePr>
          <p:xfrm>
            <a:off x="7467480" y="5403960"/>
            <a:ext cx="660600" cy="799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2" name="Object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467480" y="5403960"/>
                      <a:ext cx="660600" cy="79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Object 15"/>
            <p:cNvGraphicFramePr/>
            <p:nvPr/>
          </p:nvGraphicFramePr>
          <p:xfrm>
            <a:off x="1670040" y="5905440"/>
            <a:ext cx="660240" cy="800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4" name="Object 1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670040" y="5905440"/>
                      <a:ext cx="660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85" name="Picture 18" descr=""/>
            <p:cNvPicPr/>
            <p:nvPr/>
          </p:nvPicPr>
          <p:blipFill>
            <a:blip r:embed="rId12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правильной 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</a:rPr>
              <a:t>6-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ой пирамиде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SABCDEF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, боковые ребра которой равны 2,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а ребра основания – 1, н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айдите 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расстояние от точк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f6fc6"/>
                </a:solidFill>
                <a:latin typeface="Times New Roman"/>
              </a:rPr>
              <a:t> до плоскости </a:t>
            </a:r>
            <a:r>
              <a:rPr b="0" i="1" lang="en-US" sz="2800" spc="-1" strike="noStrike">
                <a:solidFill>
                  <a:srgbClr val="0f6fc6"/>
                </a:solidFill>
                <a:latin typeface="Times New Roman"/>
              </a:rPr>
              <a:t>SCD</a:t>
            </a:r>
            <a:r>
              <a:rPr b="0" lang="en-US" sz="2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3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633840" cy="328932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5"/>
          <p:cNvGrpSpPr/>
          <p:nvPr/>
        </p:nvGrpSpPr>
        <p:grpSpPr>
          <a:xfrm>
            <a:off x="380880" y="1447920"/>
            <a:ext cx="8534520" cy="5257800"/>
            <a:chOff x="380880" y="1447920"/>
            <a:chExt cx="8534520" cy="5257800"/>
          </a:xfrm>
        </p:grpSpPr>
        <p:sp>
          <p:nvSpPr>
            <p:cNvPr id="289" name="Text Box 5"/>
            <p:cNvSpPr/>
            <p:nvPr/>
          </p:nvSpPr>
          <p:spPr>
            <a:xfrm>
              <a:off x="533520" y="6095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6"/>
            <p:cNvSpPr/>
            <p:nvPr/>
          </p:nvSpPr>
          <p:spPr>
            <a:xfrm>
              <a:off x="380880" y="4648320"/>
              <a:ext cx="85345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Q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– середины ребер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AF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CD</a:t>
              </a:r>
              <a:r>
                <a:rPr b="0" i="1" lang="ru-RU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 Искомое расстояние равно высоте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треугольник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Q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в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котор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Q = SO =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SP = SQ =         </a:t>
              </a:r>
              <a:r>
                <a:rPr b="0" lang="en-US" sz="2400" spc="-1" strike="noStrike">
                  <a:solidFill>
                    <a:srgbClr val="0f6fc6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f6fc6"/>
                  </a:solidFill>
                  <a:latin typeface="Times New Roman"/>
                </a:rPr>
                <a:t>Откуда </a:t>
              </a:r>
              <a:r>
                <a:rPr b="0" i="1" lang="en-US" sz="2400" spc="-1" strike="noStrike">
                  <a:solidFill>
                    <a:srgbClr val="0f6fc6"/>
                  </a:solidFill>
                  <a:latin typeface="Times New Roman"/>
                </a:rPr>
                <a:t>P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1" name="Object 7"/>
            <p:cNvGraphicFramePr/>
            <p:nvPr/>
          </p:nvGraphicFramePr>
          <p:xfrm>
            <a:off x="1905120" y="5562720"/>
            <a:ext cx="4064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2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556272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10"/>
            <p:cNvGraphicFramePr/>
            <p:nvPr/>
          </p:nvGraphicFramePr>
          <p:xfrm>
            <a:off x="3962520" y="5410080"/>
            <a:ext cx="583920" cy="78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4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962520" y="5410080"/>
                      <a:ext cx="583920" cy="78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1"/>
            <p:cNvGraphicFramePr/>
            <p:nvPr/>
          </p:nvGraphicFramePr>
          <p:xfrm>
            <a:off x="6546960" y="5410080"/>
            <a:ext cx="812520" cy="80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6" name="Object 1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546960" y="5410080"/>
                      <a:ext cx="8125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2"/>
            <p:cNvGraphicFramePr/>
            <p:nvPr/>
          </p:nvGraphicFramePr>
          <p:xfrm>
            <a:off x="1593720" y="5905440"/>
            <a:ext cx="812880" cy="80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8" name="Object 1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93720" y="5905440"/>
                      <a:ext cx="812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99" name="Picture 14" descr=""/>
            <p:cNvPicPr/>
            <p:nvPr/>
          </p:nvPicPr>
          <p:blipFill>
            <a:blip r:embed="rId10"/>
            <a:stretch/>
          </p:blipFill>
          <p:spPr>
            <a:xfrm>
              <a:off x="2743200" y="1447920"/>
              <a:ext cx="3633840" cy="32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06:58Z</dcterms:created>
  <dc:creator>*</dc:creator>
  <dc:description/>
  <dc:language>en-US</dc:language>
  <cp:lastModifiedBy>Школа ХСОШ1</cp:lastModifiedBy>
  <dcterms:modified xsi:type="dcterms:W3CDTF">2011-02-05T08:32:41Z</dcterms:modified>
  <cp:revision>27</cp:revision>
  <dc:subject/>
  <dc:title>УГОЛ МЕЖДУ ПРЯМЫМИ В ПРОСТРАНСТВЕ</dc:title>
</cp:coreProperties>
</file>