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7.gif" ContentType="image/gif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D34-4527-4E71-954B-D5B35831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D6B-F4DD-48D8-8808-4D70A1BA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F1E-60FE-49BE-97B8-2EE9A755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4BE-00C7-43DE-AFDC-73BEE645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3089-ACF2-4C56-8139-FA3E1DCA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4717-4580-48BC-B598-957CC53B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64DE-FAA9-4EF1-80E2-2F4CEED2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A6CE-0A77-4E4B-AE70-9404096D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AE3B-DE2E-4E49-98A1-AE02764D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FE96-7625-4321-AAE3-68EC9E1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10D0-7F23-47BD-B800-C06E3DE4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E75-2D05-4E2D-AC81-F8177B0D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DB2B-E1AF-4A14-939A-AC1D8F3F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4F9F-C5A4-42AF-9170-BBDFC124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4250-E114-46A8-9359-F16FA55D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866C-EDEE-4EB5-AF60-E9DE4B9C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42A0-68F2-44A3-A209-E96CB6D0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7D9F-D5F7-4965-89F3-567ECFEE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5EC5-9D31-4865-96D7-B984AEC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D8DB-7A0A-470F-8B51-B36E4362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4FE9-59AD-408E-AB6D-1E26D7E0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B14E-4039-4978-AFE0-994579A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494-A4BF-4A14-B96A-126DA720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CBB5-F1C6-43C8-ADB3-A24D58F0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7BD9-EAFB-48EB-BA8A-2F52DC1D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8A43-80E9-405B-9783-5392290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C5D7-0F2F-49F6-92DE-B9EDC190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3F4B-AF3C-4220-A47F-A31106FD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CF46-6A02-48C1-8F3A-F0FC0B28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8721-AF69-4823-99D8-D3B5A1BF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0D363-D301-449C-876D-9AFC30AB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2B34-0377-4C36-9FE2-454F4C96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6B78-4F74-412F-9FB4-4E6EF06D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FD6-2596-4DB3-8AD8-6C315958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F431-134F-4582-A9F5-4A6AFEF1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ABED-D76C-4F61-B30E-5C978046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2A46-7F72-460F-AE80-341C24FE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F107-49F0-4227-9167-99B1657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AB136-66EC-481D-B62C-D544633F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2ED6-2F47-45A4-8579-F7B1D79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95009-BF2C-4DE5-B17B-92B69432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C638B-7860-43B3-90EE-0433CAAA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BADB-EC44-4946-9328-895CD957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5107D-AD01-4CF8-B276-E843F57F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258-0A74-464A-90C1-864F4B65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D986-7284-408C-A65A-1D82C823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DAAD-CAF2-423D-9DAD-AFBD71C3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4B16D-72A0-480D-8BA7-D33C2847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F70AB-4951-4362-AE84-E8165DBD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35DE4-79D4-4833-90DF-874D7554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83BB6-E299-40B3-95CF-F02C96E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FEF3-2EC0-4E35-9B93-1883C90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76593-D6BA-4FCB-BD70-6CF8C720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9A493-5490-4CE4-8A1E-EAF2E6F1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A981-FAAB-4135-8BE4-F2D27DEA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6BF-2E10-4767-98D2-AB0643C6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E54BB-E57C-4EC3-8694-029F16C6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D390-1A91-429B-ACD6-C5E825DF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EED1-54FB-4217-8AC7-B98D34C4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F23EE-F8E1-4986-A72C-84437B77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51585-B282-46C2-92C9-4291ADF3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B9DD-C42D-410C-87E6-C1AA7992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B73F1-E652-4E8D-B575-A5A03D36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B904-6D4B-45FA-99AF-C914EB2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3C51-3A6D-4D58-BF44-0E4131A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32144-55F1-4A8A-B66A-7DA1B64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DD6-D928-4F26-956F-90EA802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68A81-120F-48B9-92DA-23AF4CD8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57CED-7C48-4EAC-B443-4B7534D3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939C1-29B9-4FA7-810C-83714E5F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27D6A-7CE2-4226-88E0-6D82FD8B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AFD36-42F7-4776-AA23-2CF3A163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6284-034A-4643-AF11-6A29AD72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7C6D5-4914-4854-B168-272923DE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781F0-22AE-4DAB-A29D-580FFE26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F61CB-5728-4103-8E46-AD667A8F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CBA86-F772-4709-8089-5D2ED0B3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F3D-5417-4FFA-BEC6-A9094789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BB16D-B363-4A30-BDC5-883C0CFF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53F1-E408-40C5-861E-5A0276F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7EFDB-4EEE-4711-99B8-DD919008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877CF-7510-4063-9D0A-89945497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A7D37-EF0E-41C8-9D55-5D9DCCB9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A46-EC42-4C40-8A57-E4A6C40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87A2-60A6-4D99-B3CC-178529A2D5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43B-F435-45D1-8049-4EC331B2EC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0A4C-E8DF-4FB7-B7AD-6E78606CBA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529F-812D-49BC-9A98-119055A6646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4E92-8326-40BA-9E58-7F4CE6A279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3BF2-50CA-47FD-BB63-4C5509E9B4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0B7D-88CE-4483-9B7E-BD7504901A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6799320" cy="4205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990720" y="457200"/>
            <a:ext cx="702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ы обычно представляешь себе, когда слышишь слово «пустыня»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верное, необъятные просторы, покрытые пес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65040" y="304920"/>
            <a:ext cx="87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устынях Азии и Африки кочевники ездят и перевозят свои вещи на верблюдах – одногорбых и двугорбых. Поэтому верблюдов часто называют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«корабли пусты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блюды могут легко прожить несколько дней без воды и еды. Еду в виде жира они запасают в горб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95288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92840" cy="4593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57200" y="380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астухи-кочевн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еремещаются по пустыням вместе со своими стадами и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домами-юрта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кочевники, живущие в пустыне Гоби в Кит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408120" cy="424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8088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чевники в восточной Азии и северной Африке носят длинную одежду, закрывающую голову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рнусы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нус покрывает почти всё тело и сидит своб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защищает от горячего солнца и летящего с ветром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639040" cy="4844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04920" y="304920"/>
            <a:ext cx="82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устынях также встречаются змеи, мыши, птицы и некоторые другие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43560" cy="49719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14040" y="533520"/>
            <a:ext cx="68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скорпион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родственники па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Пayк кapaкyp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cкoнный oбитaтeль пycтынныx зeмeль. Oн пo-нacтoящeмy ядoвит. Егo яд в 15 paз cильнee, чeм y гpeмyчeй змeи. Hepeдкo yкyc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apaкypтa пpивoдили к cмep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дe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895480" y="2657520"/>
            <a:ext cx="4496040" cy="335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7200" y="6094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кaчyщий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тyшкaнч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звивaeт cкopocть дo 50 км в чac. Peзцы тyшкaнчикoв,пoмимo paзгpызaния пищи, cлyжaт для paзpыxлeния пoчвы пpи pытьe нop, в тo вpeмя кaк кoнeчнocти yпoтpeбляютcя ими глaвным oбpaзoм для oтгpeбaния paзpыxлeннoгo гpyнт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472428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04920" y="304920"/>
            <a:ext cx="83818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невные животные активны в ранние часы, когда воздух еще не раскалился, например, многие ящерицы. Самая большая из ни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вара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длина его тела достигает метра и больше, а сам он очень напоминает сказочного драк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5029200" cy="3755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5638680" y="2749680"/>
            <a:ext cx="350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мaя кpyпнaя coвpeмeннaя ящepицa _ этo вapaн, oбитaющий нa ocтpoвe Кoмoдo. Eгo длинa дocтигaeт бoлee 3 мeтpoв, a вecит этo живoтнoe дo 15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372360" cy="46576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57200" y="228600"/>
            <a:ext cx="801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счаных пустынях ветер иногда поднимает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песчаные бур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воздух наполняется летящим песком. В это время людям и животным лучше найти убеж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048120" y="2440080"/>
            <a:ext cx="5410080" cy="4100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289080" y="380880"/>
            <a:ext cx="885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я большая пустыня в мире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аха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находится на северо-западе Африки. Когда-то там были луга, росли травы и часто выпадали дожди. Но климат стал суше, и постепенно Сахара превратилась в песчаную пусты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312408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перь на сотни километров там не встретишь ни одного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39160" cy="487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7200" y="533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не все пустыни – песчаные. Бывают ещё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каменистые пусты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6792840" cy="40719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57200" y="533520"/>
            <a:ext cx="801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азис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место в пустыне, где есть вода. Она может, например, течь из подземного источника. Около оазисов обильно растут пальмы и другие деревья и раст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6403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04920" y="228600"/>
            <a:ext cx="832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ын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вают даже фермы. Для этого надо проводить воду для полива – прорывать каналы или строить водопровод, и доставлять по ним воду из ближайших озёр или 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9080" y="541008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пустыни люди сумели превратить в плодородные земли. Но большинство пустынь остается сухими, потому что вода слишком дале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538920" y="83808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ЭТ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1905120"/>
            <a:ext cx="69339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Мираж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— оптический обман — не редкость в пустынях. В Сахаре ежегодно наблюдается около 160 тысяч миражей. Они бывают стабильными и блуждающими, вертикальными и горизонтальными. Составлены даже специальные карты караванных путей с отметкой мест, где обычно наблюдаются миражи. На этих картах указано, где появляются колодцы, оазисы, пальмовые рощи, горные ц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1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04080" y="5943600"/>
            <a:ext cx="67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16059"/>
                </a:solidFill>
                <a:latin typeface="Arial"/>
              </a:rPr>
              <a:t>Вы скачали эту презентацию на сайте - 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2666880" cy="24429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523880" y="1295280"/>
            <a:ext cx="47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605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5880" y="5029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подготовке презентации использова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етская энциклопедия Кирилла и Мефодия 200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4419720" cy="5456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105520" y="1066680"/>
            <a:ext cx="35049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Пустын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ется любое место, где очень-очень сухо и нет или почти нет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олина смер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 западе США – одно из самых сухих и жарких мест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365360" cy="4876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04920" y="4572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ыни — самые засушливые области Земли. Летом в этих районах дневная температура достигает 50 °С в тени, а ночью резко опускается (иногда ниже нуля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495680" cy="4022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тения, растущие в пустынях, должны обходиться маленьким количеством вод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52388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которые растения в пустынях зацветают после дождя, живут очень недолго, и сохраняются до следующего дождя в виде семя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ругие растения имеют длинные корн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4952880" cy="4203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41360" y="380880"/>
            <a:ext cx="839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тусы выживают в пустынях, потому что они запасают воду в своих стебл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место листьев у них острые колюч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екоторых кактусов – очень красивые ц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д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ун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некоторых других кактусов съед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3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994360" cy="51260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28600" y="228600"/>
            <a:ext cx="8915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Кактус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бывают разной формы, и иногда вырастают очень высо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895480" y="1749600"/>
            <a:ext cx="5708880" cy="51084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некоторых пустынях могут жить верблю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вцы и к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848560" cy="46940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арабских верблюдов –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дромадеро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один горб. У центрально-азиатских –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бактриано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д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18:43Z</dcterms:created>
  <dc:creator>Tetiana Rets</dc:creator>
  <dc:description/>
  <dc:language>en-US</dc:language>
  <cp:lastModifiedBy>Customer</cp:lastModifiedBy>
  <dcterms:modified xsi:type="dcterms:W3CDTF">2009-11-17T19:39:00Z</dcterms:modified>
  <cp:revision>34</cp:revision>
  <dc:subject/>
  <dc:title>Slide 1</dc:title>
</cp:coreProperties>
</file>