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27.gif" ContentType="image/gif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777-B844-4BB5-A416-75DA10E7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9A2-52F5-4EA3-89FF-C66E797D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E09-C063-4E3F-8D4C-287D6A08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B06-ACB7-4EB5-BDB0-B1AEE498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202E-68D2-4BA8-A49A-02509DAA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8C66-1C60-4313-B9E2-7150CAB3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FCE5-4CE2-4D85-92F3-77021B0D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E805-2FD6-46B0-B8C9-DCA11B2E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1C73-3728-456B-AC65-C2F71791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01E9-2758-4433-BAF1-65F0719E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E42E-FD8D-4DEE-B895-5DC901EF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B719-FE10-48D8-9611-87BFDE3C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3083-1458-45C9-A75F-68E4A6A9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413F-E2C3-41F5-9AF4-EFBAE663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4B26-9F6C-4DA6-9126-D09F793B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A0D9-65B2-4F0B-BC0B-77AF6E99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D3DF-71F4-4AF5-85A3-B5DE64EF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D6F06-D433-4E0A-8CF9-0001757D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94FE9-4166-4746-8C67-9FA37A03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592A9-FA67-4EA2-B610-AA33DE52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8A86A-1349-4B38-BB17-74BA1697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4AC3F-7091-4184-ADDD-60F6FB15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182-258D-4719-B4B9-24B7D9D5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474F-5ACE-4909-A1B6-2F5D5850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E42BE-604A-4F2E-B4BC-B2055A63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B8865-CC2A-47BA-977B-CC854CB5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6E2EE-CD85-4B60-B701-D166FF36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3133-B696-41DD-AC1C-316E3D3F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C88E6-8495-4290-A84D-D791C29D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D6309-7A30-4349-9896-A8A02265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A88F4-4EE7-4167-AAA7-0195E635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5A85F-6045-451F-809D-E69079C3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071D5-3A57-43D2-934C-1D1702A2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E45-7453-478C-B961-D228CCF8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92A08-1132-40F8-A8A2-6A6ED7BA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1B9FC-9650-4FE9-9821-78C9687B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39C6E-947C-449A-9534-80B3D4BC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5E616-7985-4BD0-998F-F4B7AE5E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12F56-80DF-4577-9CB2-372D5055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87B2-8ACD-498E-8871-195BD77A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94935-1912-4D4B-BB87-FD3BA319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74C4B-F410-4696-9011-60EA315E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36ECD-8261-4ACB-8B66-B24C53AE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223BA-A57E-490C-8045-94DB800B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CBD-D6C7-4DEC-9358-00ABDB7B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FDF5F-BDDD-4057-A9FA-21B85A69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30DBE-D5A9-48BB-8396-E61BB13B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AC269-C38C-4F5E-94CD-E8392326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47D2C-D7B5-491A-99CF-5D880206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36189-E39B-4D1E-AF90-5A3A395C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2E9EB-E9E1-4F15-9941-FC0354A1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B9A65-A97B-48D3-85EF-F51A7FEE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43FAD-4ECD-4F78-9CA7-3592B78C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1A21F-796D-4DC1-8E1B-53238B6A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2EB72-21DF-4FDF-827A-CD9C77BF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CB5-D9CA-4932-8886-250161DE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ED31F-3D60-444C-AFC5-CEE4A5AA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4BD43-34BD-4040-BDB0-433F08D9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816C3-6851-48F1-BB42-D6613BBB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0399A-5794-42A2-9F69-842790F6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D88D0-FBA0-4264-B60E-EB0517C3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7F507-3BFF-4EFC-ADF9-97318ABC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CB38A-444F-4193-8F3D-E67231BD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E11CE-C0DA-460B-ACAD-82162933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EE1E4-1B34-48CB-B7C6-0170BAA9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61DD8-7D75-4355-9331-7C217C30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D34-B29F-4070-986C-3E991843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46DA7-7E8D-498F-9C0C-A8C688F5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7CE84-C58D-4CD4-8EA5-BAD1B85D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C6CC3-8291-4992-B936-B61B1335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BCAA7-9E91-489A-ADD0-F48F2D7E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F3C4A-C235-4708-9A72-771D91F2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005D5-604E-422D-B7EB-345DF72A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C98B9-5E28-4F8B-8A94-40DC007B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572A9-73F0-438B-B31E-C7C70348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29A42-75E3-461D-BE99-383AA360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3ADB1-1876-48D5-ABFD-4DB321D1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B9F-48E8-4DBB-A7FF-AA08DBCB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EF619-EB8B-4CF1-AA96-BF93E37F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A87C1-C872-4002-BFD6-B8F91F93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9C1DE-F6F1-4285-B937-42C7ACA8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0A969-E4B0-44F3-9F3B-46D9EF86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5DFB5-D92F-497E-8282-A73F750C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2BF-C794-4BAC-A527-63389131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F099-5B7B-4FBC-ACEA-01BC2B10EB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85CD-29A5-46D7-908A-15F9CAF0C9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7159-1413-4608-91FE-EC9B438A37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6A59-E157-4E56-887B-CC903BDD59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2AD8-ABCE-4CF0-992B-81876F0F150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1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0E83-8164-4823-9237-DAC8F8D16D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6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7FD7-73FF-45EB-BF1D-A48B67A837D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6799320" cy="4205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990720" y="457200"/>
            <a:ext cx="702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ы обычно представляешь себе, когда слышишь слово «пустыня»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верное, необъятные просторы, покрытые пес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65040" y="304920"/>
            <a:ext cx="877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устынях Азии и Африки кочевники ездят и перевозят свои вещи на верблюдах – одногорбых и двугорбых. Поэтому верблюдов часто называют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«корабли пустын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блюды могут легко прожить несколько дней без воды и еды. Еду в виде жира они запасают в горб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952880" cy="3913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92840" cy="45939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57200" y="38088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Пастухи-кочевни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еремещаются по пустыням вместе со своими стадами и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домами-юрта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кочевники, живущие в пустыне Гоби в Кит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408120" cy="4249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80880" y="228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чевники в восточной Азии и северной Африке носят длинную одежду, закрывающую голову -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бурнусы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рнус покрывает почти всё тело и сидит своб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защищает от горячего солнца и летящего с ветром пе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639040" cy="48448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04920" y="304920"/>
            <a:ext cx="82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устынях также встречаются змеи, мыши, птицы и некоторые другие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443560" cy="49719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914040" y="533520"/>
            <a:ext cx="68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также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скорпионы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родственники па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Пayк кapaкyp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cкoнный oбитaтeль пycтынныx зeмeль. Oн пo-нacтoящeмy ядoвит. Егo яд в 15 paз cильнee, чeм y гpeмyчeй змeи. Hepeдкo yкyc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apaкypтa пpивoдили к cмep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юдe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895480" y="2657520"/>
            <a:ext cx="4496040" cy="335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7200" y="6094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кaчyщий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тyшкaнчи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звивaeт cкopocть дo 50 км в чac. Peзцы тyшкaнчикoв,пoмимo paзгpызaния пищи, cлyжaт для paзpыxлeния пoчвы пpи pытьe нop, в тo вpeмя кaк кoнeчнocти yпoтpeбляютcя ими глaвным oбpaзoм для oтгpeбaния paзpыxлeннoгo гpyнт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472428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04920" y="304920"/>
            <a:ext cx="838188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невные животные активны в ранние часы, когда воздух еще не раскалился, например, многие ящерицы. Самая большая из ни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вара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длина его тела достигает метра и больше, а сам он очень напоминает сказочного драк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5029200" cy="37558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5638680" y="2749680"/>
            <a:ext cx="350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мaя кpyпнaя coвpeмeннaя ящepицa _ этo вapaн, oбитaющий нa ocтpoвe Кoмoдo. Eгo длинa дocтигaeт бoлee 3 мeтpoв, a вecит этo живoтнoe дo 15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372360" cy="46576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457200" y="228600"/>
            <a:ext cx="801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есчаных пустынях ветер иногда поднимает </a:t>
            </a: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песчаные бур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воздух наполняется летящим песком. В это время людям и животным лучше найти убеж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048120" y="2440080"/>
            <a:ext cx="5410080" cy="41004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289080" y="380880"/>
            <a:ext cx="885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ая большая пустыня в мире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аха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а находится на северо-западе Африки. Когда-то там были луга, росли травы и часто выпадали дожди. Но климат стал суше, и постепенно Сахара превратилась в песчаную пусты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" y="3124080"/>
            <a:ext cx="29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перь на сотни километров там не встретишь ни одного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39160" cy="4879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57200" y="533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не все пустыни – песчаные. Бывают ещё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каменистые пусты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6792840" cy="40719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457200" y="533520"/>
            <a:ext cx="801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азис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это место в пустыне, где есть вода. Она может, например, течь из подземного источника. Около оазисов обильно растут пальмы и другие деревья и раст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6403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04920" y="228600"/>
            <a:ext cx="832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ын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ывают даже фермы. Для этого надо проводить воду для полива – прорывать каналы или строить водопровод, и доставлять по ним воду из ближайших озёр или 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9080" y="5410080"/>
            <a:ext cx="88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которые пустыни люди сумели превратить в плодородные земли. Но большинство пустынь остается сухими, потому что вода слишком дале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538920" y="838080"/>
            <a:ext cx="32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ЭТО ИНТЕРЕ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1905120"/>
            <a:ext cx="69339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Мираж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— оптический обман — не редкость в пустынях. В Сахаре ежегодно наблюдается около 160 тысяч миражей. Они бывают стабильными и блуждающими, вертикальными и горизонтальными. Составлены даже специальные карты караванных путей с отметкой мест, где обычно наблюдаются миражи. На этих картах указано, где появляются колодцы, оазисы, пальмовые рощи, горные це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xit" presetID="10">
                                  <p:stCondLst>
                                    <p:cond delay="1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04080" y="5943600"/>
            <a:ext cx="67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16059"/>
                </a:solidFill>
                <a:latin typeface="Arial"/>
              </a:rPr>
              <a:t>Вы скачали эту презентацию на сайте - viki.rd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2666880" cy="24429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523880" y="1295280"/>
            <a:ext cx="47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6059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45880" y="502920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подготовке презентации использова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етская энциклопедия Кирилла и Мефодия 200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4419720" cy="5456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5105520" y="1066680"/>
            <a:ext cx="35049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Пустыне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ывается любое место, где очень-очень сухо и нет или почти нет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олина смер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 западе США – одно из самых сухих и жарких мест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365360" cy="48765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04920" y="45720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тыни — самые засушливые области Земли. Летом в этих районах дневная температура достигает 50 °С в тени, а ночью резко опускается (иногда ниже нуля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4495680" cy="40226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тения, растущие в пустынях, должны обходиться маленьким количеством вод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152388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которые растения в пустынях зацветают после дождя, живут очень недолго, и сохраняются до следующего дождя в виде семя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ругие растения имеют длинные корн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3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4952880" cy="4203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41360" y="380880"/>
            <a:ext cx="839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тусы выживают в пустынях, потому что они запасают воду в своих стебл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место листьев у них острые колюч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некоторых кактусов – очень красивые цв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ды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пунц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некоторых других кактусов съедоб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3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3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994360" cy="51260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228600" y="228600"/>
            <a:ext cx="8915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Кактус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бывают разной формы, и иногда вырастают очень высо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2895480" y="1749600"/>
            <a:ext cx="5708880" cy="51084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некоторых пустынях могут жить верблю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вцы и ко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848560" cy="46940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57200" y="380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арабских верблюдов –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дромадеро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один горб. У центрально-азиатских –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бактриано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– д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6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9:18:43Z</dcterms:created>
  <dc:creator>Tetiana Rets</dc:creator>
  <dc:description/>
  <dc:language>en-US</dc:language>
  <cp:lastModifiedBy>Customer</cp:lastModifiedBy>
  <dcterms:modified xsi:type="dcterms:W3CDTF">2009-11-17T19:39:00Z</dcterms:modified>
  <cp:revision>34</cp:revision>
  <dc:subject/>
  <dc:title>Slide 1</dc:title>
</cp:coreProperties>
</file>