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7.gif" ContentType="image/gif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C92-CB40-4C51-A2B8-FA4E6F03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5FE-3DF5-4015-BD49-98623D65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458-A3D2-463C-B81E-6A3213E3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411-DD4F-436F-B09D-B8C84D97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9CC6-049A-44F4-B897-427077D3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3FA7-786F-4BFC-8904-7D0DAC7E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13BF-0F98-4C6D-8EB4-5FA54F51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B848-B437-476F-ADA5-C3A0036E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F625-B510-4A44-95D2-6882E05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30B6-114B-44FE-A31D-1F2A73D9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A62B-0BB7-429D-A19C-046FE135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355-924B-434A-AE90-6957E52D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1348-50E5-4FA7-91AF-B72BBD7A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9DE5-CB58-45BE-8E89-2C8B0A20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D8E9-2453-4EF7-AAE9-93077750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294C-615C-41E2-9D7A-6D8C474D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F9DD-0589-4DC8-9912-0F6EC546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E533-5A90-4F56-85AC-99AA2B78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59B3-8BA1-458E-AD93-E73225BE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CC2C-C6CC-4A88-B2DA-C0FA087B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7A5FC-4992-47AF-82A0-4B104989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E526-2953-443D-88D1-85AC3290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3BB-B48A-4C7F-835C-4CF184E5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947F-E76F-4FC5-86DE-1E24364C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93B0-B621-43EE-A747-B9FFFE9E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D393-4162-4800-97EE-C56145F7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74993-CE8C-4335-B00D-E877F2D9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19B6-B25D-43AF-B834-B96C3AE4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AA60-73F5-4565-9E37-B49BD9BB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152A7-47C5-4885-A49C-B4644611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9AB8B-A774-4719-9698-E6520D1D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90D79-35EE-4DEE-9A8E-2C05BE52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171C-D0D9-49A9-8142-362E9902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03E-4647-4A5C-8D12-0D886E22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2D3F-224F-48E4-860A-B9CF48EF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F042-84FE-4979-9ED2-43C906A6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0199-D1BA-4EDE-9D8A-A1FBB45C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A3CC4-F013-4569-BB43-5E5536D7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5C0B8-0678-4662-9A9D-D4D7AE53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4600-26BB-48FA-A3F8-F2C4EEA4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07AAD-543E-40AA-8DD8-F16C3A32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43C37-19A5-4393-AC9E-B12D9BFD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A2A4-D7A0-49A1-896F-CB50C590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D7904-7197-4410-907E-79D102E0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11B-5C6D-4432-B258-566C1669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1B5B5-00DC-4232-AD57-73F0596D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C506-B185-4D1F-B2F1-A9AA234A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9E0C7-AC2A-42B2-B4F8-EB6751FB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508A1-C084-476A-9EC4-9A5CD85F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BD42C-51C2-4FD3-A543-B5CE7155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EFC36-9560-46A4-8FD9-D5931B2A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D18AA-D0FD-4288-B633-2C8C0B06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0FDE0-67CE-4129-99B6-3FC3979D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BE426-2994-420C-A575-19C0205F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25DD8-F053-4496-BC11-D6545A44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B94-E6A7-4992-8D40-C9EAAD3D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42ACF-11F7-488F-9037-CDAFD513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D282C-09D2-40F3-ADFD-25DB0274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1B86A-10BB-4D60-9D25-8319BB10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E4C62-37F7-4AA9-B78E-1E2D0967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1C587-7202-4E55-B970-242BFBF8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9FA9A-6DD1-42F6-8243-659C4380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AEFED-7613-4A18-B6D1-94B0DDB6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AC05E-864E-47FB-8901-9CB26C78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6A788-DC5C-4A3E-B6B1-6E5E6E31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AC2FF-F464-45F8-B66B-AB9EAD5D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47C-0B4B-4EF4-8252-2D85D2BE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DC388-DAC4-4310-9A2B-F4317419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E0D0F-77E7-42FC-98DF-7EE7CF28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2E7FC-F9D1-439C-80B1-B6BE9602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C2B11-C8CA-44B3-88F3-F4F5321E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8C31A-6EB8-4E65-8B46-D137484E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ADA4C-3201-4F78-8DF5-A69B032E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D0478-CC4F-4610-8EAB-D42B4893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D5C2F-10BC-4069-87D2-876BB6FB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5E89A-F679-4619-BDE6-06A7426A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189E9-E2B7-440C-BC2A-124A2DA3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598-7DDB-4C1E-AADD-17E8CA10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35EDF-6A42-48D8-A8D0-EA157EF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A8A6A-F85C-4DFA-8324-EF6C55A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1ABE4-9841-4856-8ED5-0D112E4A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73347-323E-4DC5-9129-43169B5C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16427-7FA2-4CC8-BF58-90F9216B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854-31C5-43CA-9CF3-32DB311A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B43-52BB-410B-A1D0-951DAFEB40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730A-06AF-40AE-9874-38748FA9A6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99FD-C046-427C-820E-68B3134271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6D33-01E3-4F10-8ED6-30AD5B7757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1E39-8BDD-46A6-B68E-DFA836A67CE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1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F89E-FC60-4F29-ABD5-40E00FBA05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3483-87F3-46F5-912D-7D3CE31D6D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6799320" cy="4205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990720" y="457200"/>
            <a:ext cx="702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ы обычно представляешь себе, когда слышишь слово «пустыня»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верное, необъятные просторы, покрытые пес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65040" y="304920"/>
            <a:ext cx="877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устынях Азии и Африки кочевники ездят и перевозят свои вещи на верблюдах – одногорбых и двугорбых. Поэтому верблюдов часто называют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«корабли пустын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блюды могут легко прожить несколько дней без воды и еды. Еду в виде жира они запасают в горб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952880" cy="391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92840" cy="4593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57200" y="38088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Пастухи-кочевни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еремещаются по пустыням вместе со своими стадами и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домами-юрта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кочевники, живущие в пустыне Гоби в Кит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408120" cy="424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8088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чевники в восточной Азии и северной Африке носят длинную одежду, закрывающую голову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урнусы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нус покрывает почти всё тело и сидит своб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защищает от горячего солнца и летящего с ветром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639040" cy="48448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04920" y="304920"/>
            <a:ext cx="82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устынях также встречаются змеи, мыши, птицы и некоторые другие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43560" cy="49719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914040" y="533520"/>
            <a:ext cx="68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скорпионы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родственники па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Пayк кapaкyp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cкoнный oбитaтeль пycтынныx зeмeль. Oн пo-нacтoящeмy ядoвит. Егo яд в 15 paз cильнee, чeм y гpeмyчeй змeи. Hepeдкo yкyc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apaкypтa пpивoдили к cмep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дe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895480" y="2657520"/>
            <a:ext cx="4496040" cy="335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7200" y="6094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кaчyщий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тyшкaнчи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звивaeт cкopocть дo 50 км в чac. Peзцы тyшкaнчикoв,пoмимo paзгpызaния пищи, cлyжaт для paзpыxлeния пoчвы пpи pытьe нop, в тo вpeмя кaк кoнeчнocти yпoтpeбляютcя ими глaвным oбpaзoм для oтгpeбaния paзpыxлeннoгo гpyнт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472428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04920" y="304920"/>
            <a:ext cx="83818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невные животные активны в ранние часы, когда воздух еще не раскалился, например, многие ящерицы. Самая большая из ни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вара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длина его тела достигает метра и больше, а сам он очень напоминает сказочного драк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5029200" cy="37558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5638680" y="2749680"/>
            <a:ext cx="350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мaя кpyпнaя coвpeмeннaя ящepицa _ этo вapaн, oбитaющий нa ocтpoвe Кoмoдo. Eгo длинa дocтигaeт бoлee 3 мeтpoв, a вecит этo живoтнoe дo 15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372360" cy="46576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57200" y="228600"/>
            <a:ext cx="801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счаных пустынях ветер иногда поднимает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песчаные бур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воздух наполняется летящим песком. В это время людям и животным лучше найти убеж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048120" y="2440080"/>
            <a:ext cx="5410080" cy="4100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289080" y="380880"/>
            <a:ext cx="885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ая большая пустыня в мире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аха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а находится на северо-западе Африки. Когда-то там были луга, росли травы и часто выпадали дожди. Но климат стал суше, и постепенно Сахара превратилась в песчаную пусты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" y="312408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перь на сотни километров там не встретишь ни одного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39160" cy="487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7200" y="533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не все пустыни – песчаные. Бывают ещё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каменистые пусты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6792840" cy="40719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457200" y="533520"/>
            <a:ext cx="801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азис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это место в пустыне, где есть вода. Она может, например, течь из подземного источника. Около оазисов обильно растут пальмы и другие деревья и раст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6403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04920" y="228600"/>
            <a:ext cx="832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ын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вают даже фермы. Для этого надо проводить воду для полива – прорывать каналы или строить водопровод, и доставлять по ним воду из ближайших озёр или 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9080" y="541008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оторые пустыни люди сумели превратить в плодородные земли. Но большинство пустынь остается сухими, потому что вода слишком дале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538920" y="838080"/>
            <a:ext cx="32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ЭТО ИНТЕР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1905120"/>
            <a:ext cx="69339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Мираж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— оптический обман — не редкость в пустынях. В Сахаре ежегодно наблюдается около 160 тысяч миражей. Они бывают стабильными и блуждающими, вертикальными и горизонтальными. Составлены даже специальные карты караванных путей с отметкой мест, где обычно наблюдаются миражи. На этих картах указано, где появляются колодцы, оазисы, пальмовые рощи, горные це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1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04080" y="5943600"/>
            <a:ext cx="67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16059"/>
                </a:solidFill>
                <a:latin typeface="Arial"/>
              </a:rPr>
              <a:t>Вы скачали эту презентацию на сайте - viki.rd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2666880" cy="24429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523880" y="1295280"/>
            <a:ext cx="47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605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5880" y="5029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подготовке презентации использова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етская энциклопедия Кирилла и Мефодия 200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4419720" cy="5456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5105520" y="1066680"/>
            <a:ext cx="35049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Пустыне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ывается любое место, где очень-очень сухо и нет или почти нет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олина смер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 западе США – одно из самых сухих и жарких мест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365360" cy="48765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04920" y="45720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ыни — самые засушливые области Земли. Летом в этих районах дневная температура достигает 50 °С в тени, а ночью резко опускается (иногда ниже нуля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495680" cy="4022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тения, растущие в пустынях, должны обходиться маленьким количеством вод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152388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которые растения в пустынях зацветают после дождя, живут очень недолго, и сохраняются до следующего дождя в виде семя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ругие растения имеют длинные корн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4952880" cy="4203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41360" y="380880"/>
            <a:ext cx="839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тусы выживают в пустынях, потому что они запасают воду в своих стебл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место листьев у них острые колюч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екоторых кактусов – очень красивые цв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д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пунц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некоторых других кактусов съедоб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3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994360" cy="51260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228600" y="228600"/>
            <a:ext cx="8915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Кактус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бывают разной формы, и иногда вырастают очень высо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895480" y="1749600"/>
            <a:ext cx="5708880" cy="51084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некоторых пустынях могут жить верблю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вцы и к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848560" cy="46940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5720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арабских верблюдов –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дромадеро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один горб. У центрально-азиатских –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бактриано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д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9:18:43Z</dcterms:created>
  <dc:creator>Tetiana Rets</dc:creator>
  <dc:description/>
  <dc:language>en-US</dc:language>
  <cp:lastModifiedBy>Customer</cp:lastModifiedBy>
  <dcterms:modified xsi:type="dcterms:W3CDTF">2009-11-17T19:39:00Z</dcterms:modified>
  <cp:revision>34</cp:revision>
  <dc:subject/>
  <dc:title>Slide 1</dc:title>
</cp:coreProperties>
</file>