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A41-0F1C-47D2-A807-F413E62F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ED9-172A-47A1-A984-E842994D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50F-138C-4BAC-88B7-192E8C69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DA2-BED5-4221-A868-262244AA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1DBF-ACC8-44DB-BF24-047A9A99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70C-E5C5-4DD9-9343-5E0EA5A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9C0-6CC3-4D18-8743-CA2A90D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7EF-4DB3-40C7-B40E-6A52BA4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D1F0-A7BD-496B-B819-63F5EA9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9319-F09A-42A5-9ABB-31496139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EC71-8293-4F96-ACB6-A9B7F8B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F57-8A3B-4065-9172-CFDEAC0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A9FE-A527-4742-9064-9435812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D3EE-561F-4168-AC9C-4560AE1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D365-3333-4377-980B-91E5E60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E1DD-DFB2-40C7-8CB4-A812E335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261-C347-4E88-AB79-9570FF3E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DC0B-75B6-42EB-BFB0-47FD4714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30AF-FEF7-445B-9590-A5C2BD6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1F85-379A-4E48-8DA7-0AADEA02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68D2-E0AB-4076-A9B2-1F71B83F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39E7-976F-4EBF-934C-8C0B1FB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06-6770-4B41-BCCC-8D531BF1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44C5-5E0C-4E87-8822-7CADD7A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B2EB-07F7-47A4-888C-8D3FD51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D383-8618-4200-A205-00ACFA3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A794-B1E4-4600-AFD8-9E6345A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5467-0DDE-463C-BEB6-3359651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7063-56B7-4C29-89FD-D42288F7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64FB-114C-446D-933D-CFD61325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2976-0FCA-4982-87A6-B91490A5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493B-026C-4B2F-B2BC-8CF54227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C70D-3CD8-431C-A3E4-FCD3FC8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405-8D78-4483-80FC-E8E7E6B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1A06-811A-44A3-B5F4-F5C0EEA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F42C-846F-4999-8E52-DC686B5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D24E-E4FA-4173-BAD9-D0A334C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6885-7DD3-486A-A061-25D7E2B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F78E-6F2A-491B-901F-C8D5E97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C4F7-C598-4EC0-8A06-622BF97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5AB3-0FBD-4655-9E03-037C44A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12DF-DA8D-402C-9151-D5CF567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51CA-8579-451B-84EF-E51F501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AE25-2F2A-4BBB-9024-B4311E8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A38-6306-44DB-9B06-23CDE26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EA7F-DC0F-4EEE-9CEB-BA16819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FF7A-953E-41F1-A3EC-0683299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0423-CE29-42BA-B298-CA8C46AE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637D-DB47-4D9D-AFEB-E4A08DE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A62A-A5E3-4CD6-80DD-BD016626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8A0E-EDF3-41FE-96BF-CF55E07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E6D6-3D65-4A64-8686-173289F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F9EA-C4D6-4699-9441-C5CE9AC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492B-BA1C-4AA7-88D9-43E96BF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D8B0-C6A1-4392-811D-368B1750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FDB-A2B6-42CB-87C1-1CD8732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8C08-020A-4EC4-BEDA-A8564933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597-947C-4C7A-ADCE-B9ABA03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C6A-0F5C-48F0-AF0F-CE1A4971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E76-E556-42B7-AA7A-74746AB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EFC-AC73-4A38-AF87-FD27E4BE5BE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71CC-1255-41A8-BBB4-47BC1ADC326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DBA-A6D4-4FA5-B007-26F4D21A71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5D8-C62E-4C17-B2E1-6C940F3CB56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8F51-35ED-455F-9020-80C9B60A530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росекина Виктория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7 клас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5145120" y="1096920"/>
            <a:ext cx="3754440" cy="2206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solidFill>
            <a:srgbClr val="ac66bb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сев – короткое и простое слово. Но как много связано с ним надежд, тревог и забот о будущем урожае! Очень важно правильно выбрать срок посева. Нельзя опоздать ни на один день, но и слишком рано сеять тоже плохо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8" name="Рисунок 4" descr="o_018i.bmp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25360" y="-865080"/>
            <a:ext cx="7480440" cy="23335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vika9.jpg"/>
          <p:cNvPicPr/>
          <p:nvPr/>
        </p:nvPicPr>
        <p:blipFill>
          <a:blip r:embed="rId2"/>
          <a:srcRect l="0" t="5113" r="11592" b="12349"/>
          <a:stretch/>
        </p:blipFill>
        <p:spPr>
          <a:xfrm>
            <a:off x="2316240" y="1857240"/>
            <a:ext cx="36687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7504200" cy="12002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3" descr="рожь.bmp"/>
          <p:cNvPicPr/>
          <p:nvPr/>
        </p:nvPicPr>
        <p:blipFill>
          <a:blip r:embed="rId2"/>
          <a:stretch/>
        </p:blipFill>
        <p:spPr>
          <a:xfrm>
            <a:off x="2286000" y="2714760"/>
            <a:ext cx="3722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5913720" cy="1182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Хлеб- это труд тех, кто сеет и убирает пшеницу, кто создает новые ее сорта, конструирует и строит сельскохозяйственные машины, водит тракторы, комбайны.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5" descr="vika6.jpg"/>
          <p:cNvPicPr/>
          <p:nvPr/>
        </p:nvPicPr>
        <p:blipFill>
          <a:blip r:embed="rId2"/>
          <a:srcRect l="8985" t="17710" r="17465" b="0"/>
          <a:stretch/>
        </p:blipFill>
        <p:spPr>
          <a:xfrm>
            <a:off x="2714760" y="2571840"/>
            <a:ext cx="2786040" cy="428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407880" y="1152360"/>
            <a:ext cx="900252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литературный анализ по тем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крыть значение зерновых культур для челове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де бы ни жил человек- в большом городе, в маленькой деревушке или в затерявшейся лесной  глуши,- он ежедневно пользуется чудесными  дарами зерновых культу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72440" y="357120"/>
            <a:ext cx="89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еловек не всегда вдумывается в замеч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73080" y="928800"/>
            <a:ext cx="92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изведения природы. А между тем невозмож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14040" y="1571760"/>
            <a:ext cx="9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ывает представить, сколько интересного и неожи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-22320" y="2214720"/>
            <a:ext cx="9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ого скрывается порой под невзрачным об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267840" y="2857680"/>
            <a:ext cx="92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ерновых много, а пшеница считается важней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0680" y="3500280"/>
            <a:ext cx="91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довольственной  культурой. Неспроста она з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48240" y="4214880"/>
            <a:ext cx="93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евала первое место в мире по площади  воздел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77760" y="4929120"/>
            <a:ext cx="88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ания среди всех культур . Хлебные злаки 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29400" y="5572080"/>
            <a:ext cx="44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широко воздел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4" descr="r_023i.bmp"/>
          <p:cNvPicPr/>
          <p:nvPr/>
        </p:nvPicPr>
        <p:blipFill>
          <a:blip r:embed="rId2"/>
          <a:stretch/>
        </p:blipFill>
        <p:spPr>
          <a:xfrm>
            <a:off x="0" y="2000160"/>
            <a:ext cx="3594240" cy="400068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5" descr="r_022i.bmp"/>
          <p:cNvPicPr/>
          <p:nvPr/>
        </p:nvPicPr>
        <p:blipFill>
          <a:blip r:embed="rId3"/>
          <a:stretch/>
        </p:blipFill>
        <p:spPr>
          <a:xfrm>
            <a:off x="5837400" y="1928880"/>
            <a:ext cx="3306600" cy="3679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4" descr="o01034i.bmp"/>
          <p:cNvPicPr/>
          <p:nvPr/>
        </p:nvPicPr>
        <p:blipFill>
          <a:blip r:embed="rId1"/>
          <a:stretch/>
        </p:blipFill>
        <p:spPr>
          <a:xfrm>
            <a:off x="106200" y="1500120"/>
            <a:ext cx="4557960" cy="5072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5" descr="o_018i.bmp"/>
          <p:cNvPicPr/>
          <p:nvPr/>
        </p:nvPicPr>
        <p:blipFill>
          <a:blip r:embed="rId2"/>
          <a:stretch/>
        </p:blipFill>
        <p:spPr>
          <a:xfrm>
            <a:off x="4857840" y="1500120"/>
            <a:ext cx="4300560" cy="507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6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biol137i.bmp"/>
          <p:cNvPicPr/>
          <p:nvPr/>
        </p:nvPicPr>
        <p:blipFill>
          <a:blip r:embed="rId2"/>
          <a:stretch/>
        </p:blipFill>
        <p:spPr>
          <a:xfrm>
            <a:off x="1714680" y="1857240"/>
            <a:ext cx="5770440" cy="4308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ЛАКИ (мятликовые), семейство однодольных растений. Травы, реже древовидные формы (бамбуки). Мелкие цветки собраны в простые соцветия — колоски, образующие сложные соцветия — колос, султан, метелку и др. Ок. 10 тыс. видов (ок. 650 родов). Наибольшее хозяйственное значение имеют зерновые (пшеница, рис, рожь, овес, ячмень, кукуруза, сорго и др.), сахарный трост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54:49Z</dcterms:created>
  <dc:creator>bayard</dc:creator>
  <dc:description/>
  <dc:language>en-US</dc:language>
  <cp:lastModifiedBy>Admin</cp:lastModifiedBy>
  <dcterms:modified xsi:type="dcterms:W3CDTF">2012-01-31T03:58:13Z</dcterms:modified>
  <cp:revision>2</cp:revision>
  <dc:subject/>
  <dc:title>Просекина виктория 7 класс зерновые</dc:title>
</cp:coreProperties>
</file>