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E88-BAE4-49C0-BD9C-88662B23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FB8-DFA8-4272-AD16-842ED01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0E6-ADF0-4953-B598-6CCC5935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445-E86D-4E60-80ED-7069A4E4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B44A-62E2-482A-A143-ECD38410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49D-304A-4FCA-A02B-623EA1F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8A1F-BCD8-4B69-9003-162ED43F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AA0-D1B4-4D73-A89D-A977A0C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2867-B4D7-4403-99B8-566D424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6616-AD33-475A-9E3D-A2BD3807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35C6-F098-4624-A30A-99C4850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115-7BF4-4BDD-A08F-F3D38A6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2EE-57A8-41AC-A13B-E259D73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1A0B-3D47-42A1-A257-CF45E58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1176-4D49-4E38-A73D-8445D2A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8D9-10BF-4C7B-9A2D-AA1A75CB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AE8C-4975-4BE0-A577-9070B2AF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55E3-9653-4765-B57B-3AFD3E6D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035A-7565-4E91-9F38-0F43B42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0BEC-4F61-4B15-91FB-2827B2E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1DDB-92DC-4ABA-AEEA-00BF3AB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06FE-9B85-4F5D-93A4-72B9CAC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ED8-D833-4740-BFF2-AAD6330C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6CF5-3092-4313-8F3B-F019BF7A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EA5A-DAAA-43D9-9755-56E47D6A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DE1E-0359-4B3C-B9E0-BE55192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B1EB-2C82-4E37-A2FC-D03FDA23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1D0C-1D7E-45C0-A04C-A3E0174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7BA5-CA2D-4955-9480-62AE168C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95E2-CC81-4B55-8854-94DD1D3C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2442-94F9-4C4B-BAD7-196A2922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808D-3D75-4208-8D12-74F56F3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DC45-3ECB-46B2-996E-D6026271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5E1-4453-4246-B3FE-4E09FEAE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1B08-8B50-448D-9B16-04784DB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AE89-110E-4825-82E7-BB8B7B23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D08D5-C06E-4541-B546-F27B203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1C6B-AD06-4E8F-A56C-CA504F2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B786-FC72-4F92-859A-F4B91A5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3727-28AC-4B84-AB66-3B40A00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92FA-688E-4FB6-9456-A1F77D7D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076E-D28F-4D1A-BFA8-CC16FC66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CCD8-B889-48D7-9C78-1EE9CBC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B9AB-17C1-4370-A74A-777D0F62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557-43F6-455A-97B1-1BE09C2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0811-48FF-4AA9-B776-93E9706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AA2AA-2D6A-462F-A7DB-31C8946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405E-D79E-4A1D-B50B-FDA462E1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259D2-4E60-4A63-A508-DE2D257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3C56-1A8C-40D7-AF18-634485D3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C7AF-D9F2-4E80-89D3-16D940B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A4F9-64DB-4A1D-ADEF-102665E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0DCA-3E81-4635-8F55-AB59A82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56C3-440B-44CF-B056-255C2E7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5021-FA06-4850-82D0-6BB5A3D3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FD1-4CF4-44CD-B33A-1AA28EB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CD83-9EF0-4DFF-B596-05EE9A4E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E7B-6B63-4F7B-9ECE-7B3E66C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CDF-56E3-4DFC-A0E9-5E4B3DA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B40-29CD-40F5-A550-8062246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5721-C0FA-419B-9B19-4380413B749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81C6-8689-4710-9889-3F773294F36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70B-E433-4659-9634-958D1E78785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1698-D85A-4A2E-8323-6B94FD115DC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2F28-9A36-4363-A01F-D66F8186DF3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росекина Виктория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7 клас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5145120" y="1096920"/>
            <a:ext cx="3754440" cy="2206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solidFill>
            <a:srgbClr val="ac66bb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сев – короткое и простое слово. Но как много связано с ним надежд, тревог и забот о будущем урожае! Очень важно правильно выбрать срок посева. Нельзя опоздать ни на один день, но и слишком рано сеять тоже плохо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8" name="Рисунок 4" descr="o_018i.bmp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25360" y="-865080"/>
            <a:ext cx="7480440" cy="23335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vika9.jpg"/>
          <p:cNvPicPr/>
          <p:nvPr/>
        </p:nvPicPr>
        <p:blipFill>
          <a:blip r:embed="rId2"/>
          <a:srcRect l="0" t="5113" r="11592" b="12349"/>
          <a:stretch/>
        </p:blipFill>
        <p:spPr>
          <a:xfrm>
            <a:off x="2316240" y="1857240"/>
            <a:ext cx="3668760" cy="471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7504200" cy="12002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3" descr="рожь.bmp"/>
          <p:cNvPicPr/>
          <p:nvPr/>
        </p:nvPicPr>
        <p:blipFill>
          <a:blip r:embed="rId2"/>
          <a:stretch/>
        </p:blipFill>
        <p:spPr>
          <a:xfrm>
            <a:off x="2286000" y="2714760"/>
            <a:ext cx="3722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5913720" cy="1182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Хлеб- это труд тех, кто сеет и убирает пшеницу, кто создает новые ее сорта, конструирует и строит сельскохозяйственные машины, водит тракторы, комбайны.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Содержимое 5" descr="vika6.jpg"/>
          <p:cNvPicPr/>
          <p:nvPr/>
        </p:nvPicPr>
        <p:blipFill>
          <a:blip r:embed="rId2"/>
          <a:srcRect l="8985" t="17710" r="17465" b="0"/>
          <a:stretch/>
        </p:blipFill>
        <p:spPr>
          <a:xfrm>
            <a:off x="2714760" y="2571840"/>
            <a:ext cx="2786040" cy="428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407880" y="1152360"/>
            <a:ext cx="900252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литературный анализ по тем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крыть значение зерновых культур для челове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де бы ни жил человек- в большом городе, в маленькой деревушке или в затерявшейся лесной  глуши,- он ежедневно пользуется чудесными  дарами зерновых культур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72440" y="357120"/>
            <a:ext cx="89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еловек не всегда вдумывается в замеч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73080" y="928800"/>
            <a:ext cx="92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изведения природы. А между тем невозмож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14040" y="1571760"/>
            <a:ext cx="9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ывает представить, сколько интересного и неожи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-22320" y="2214720"/>
            <a:ext cx="9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ого скрывается порой под невзрачным об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267840" y="2857680"/>
            <a:ext cx="92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ерновых много, а пшеница считается важней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0680" y="3500280"/>
            <a:ext cx="91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довольственной  культурой. Неспроста она з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48240" y="4214880"/>
            <a:ext cx="93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евала первое место в мире по площади  воздел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77760" y="4929120"/>
            <a:ext cx="88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ания среди всех культур . Хлебные злаки 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329400" y="5572080"/>
            <a:ext cx="44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широко воздел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4" descr="r_023i.bmp"/>
          <p:cNvPicPr/>
          <p:nvPr/>
        </p:nvPicPr>
        <p:blipFill>
          <a:blip r:embed="rId2"/>
          <a:stretch/>
        </p:blipFill>
        <p:spPr>
          <a:xfrm>
            <a:off x="0" y="2000160"/>
            <a:ext cx="3594240" cy="400068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5" descr="r_022i.bmp"/>
          <p:cNvPicPr/>
          <p:nvPr/>
        </p:nvPicPr>
        <p:blipFill>
          <a:blip r:embed="rId3"/>
          <a:stretch/>
        </p:blipFill>
        <p:spPr>
          <a:xfrm>
            <a:off x="5837400" y="1928880"/>
            <a:ext cx="3306600" cy="3679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4" descr="o01034i.bmp"/>
          <p:cNvPicPr/>
          <p:nvPr/>
        </p:nvPicPr>
        <p:blipFill>
          <a:blip r:embed="rId1"/>
          <a:stretch/>
        </p:blipFill>
        <p:spPr>
          <a:xfrm>
            <a:off x="106200" y="1500120"/>
            <a:ext cx="4557960" cy="5072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5" descr="o_018i.bmp"/>
          <p:cNvPicPr/>
          <p:nvPr/>
        </p:nvPicPr>
        <p:blipFill>
          <a:blip r:embed="rId2"/>
          <a:stretch/>
        </p:blipFill>
        <p:spPr>
          <a:xfrm>
            <a:off x="4857840" y="1500120"/>
            <a:ext cx="4300560" cy="507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6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biol137i.bmp"/>
          <p:cNvPicPr/>
          <p:nvPr/>
        </p:nvPicPr>
        <p:blipFill>
          <a:blip r:embed="rId2"/>
          <a:stretch/>
        </p:blipFill>
        <p:spPr>
          <a:xfrm>
            <a:off x="1714680" y="1857240"/>
            <a:ext cx="5770440" cy="4308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ЛАКИ (мятликовые), семейство однодольных растений. Травы, реже древовидные формы (бамбуки). Мелкие цветки собраны в простые соцветия — колоски, образующие сложные соцветия — колос, султан, метелку и др. Ок. 10 тыс. видов (ок. 650 родов). Наибольшее хозяйственное значение имеют зерновые (пшеница, рис, рожь, овес, ячмень, кукуруза, сорго и др.), сахарный трост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54:49Z</dcterms:created>
  <dc:creator>bayard</dc:creator>
  <dc:description/>
  <dc:language>en-US</dc:language>
  <cp:lastModifiedBy>Admin</cp:lastModifiedBy>
  <dcterms:modified xsi:type="dcterms:W3CDTF">2012-01-31T03:58:13Z</dcterms:modified>
  <cp:revision>2</cp:revision>
  <dc:subject/>
  <dc:title>Просекина виктория 7 класс зерновые</dc:title>
</cp:coreProperties>
</file>