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B95-2953-4D9D-A272-B562230E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158-5C81-4668-98EF-BFC8B4F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CFF-177E-450A-B3BF-368BBC01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BDC-48B4-48EB-97D2-6087675B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CC6-72C0-4A3E-97B8-47E39886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A58-15B2-43E3-A063-A0DBF52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B7F4-4FE6-4398-8208-D0EBEDF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2FB-8FF9-4B50-9328-49C5F695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D5C7-59DC-4A91-A19F-EB73DC6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20E-0134-4638-AE0B-D78B631B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0A2A-CF86-4D5A-B6F0-B616B68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12C-D055-464B-84E9-A87B82B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3B91-3EE8-4F95-98C8-48A4B1D1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4FC-C20D-4500-AEDD-A3CA0C1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ACE6-E0D8-45CA-9EE7-D45CF8B9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20F9-9156-468A-922F-9894CA8D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101-530D-487C-8DF0-19CB3D07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D30F-AEFC-4A2A-AF6E-5D6F304F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30AA-3583-483D-B296-DE0604C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B0E8-E4C6-436D-AC1C-094706B0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C02C-68A8-4FFF-80E4-249311AB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E798-D9CB-42A4-AE64-D6D072E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64D-46A6-4B59-B9E6-5394CD6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9D3D-9252-44C3-A311-CF40B655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86A5A-0ECC-4F2E-AED8-D0C3D53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3BE7-ECF7-4DA3-B885-DE231A2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5EF6-56E4-4DC9-BE46-CF53171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669E-EA98-46CF-BACF-9D73FC7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6DF2-1B73-4154-B62B-9F23AF1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F023-ECA0-49BB-90A2-BD1458E8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B877-1A5D-4D97-B978-164571D7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AAB24-513A-4B9E-AAFB-60EE0C0C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9F6A-D87C-46C6-95EF-2C3C5BB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B53-EB70-46A9-8EDA-D9816582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DF90-D3BD-415B-ADA2-EF6922F9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4C1C-4F67-4BBB-AF53-9F80EC37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E322-B392-479B-BDCB-2E57FB9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5025-2BEA-4ADD-8FFD-5177648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5603-FE8D-49C3-83C6-DF0D550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E157-6210-4C84-AABB-A08FBEB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789F-9812-40B9-A18E-42706D8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AF67-BEBE-41B0-B344-A8213DAE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7751-2910-44A2-AF31-590E8467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268B-A042-4410-8968-11654782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33A-6E99-4A36-971B-852450B8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8280-61BD-4F81-8B68-1C34229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19F0-5AD1-4BE1-94F8-C0B02969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9082-1C7B-4739-AA0E-B489D01D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8A99-2E79-478B-881E-2D96C12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FBE57-5142-41F8-9CBD-C573D058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40A2-C30A-41C7-9B34-CB2712E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4769-8913-43F8-AFB4-55457CB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0DE6-17FE-4D87-9D04-1C47B5F9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716D-325D-48B2-94CF-D052478F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F3D14-091D-4FD0-84B9-DAAC0D38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7ED-CEED-448E-9588-5D59548B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B7BB-6018-4BC5-94EB-B46C6EB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A9A-7203-4819-8491-54CA62B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160-400E-4938-A6BA-023D033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595-2751-4E69-8100-4CA2B96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4456-3701-4231-8F2B-B1E393EBAF7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9D6-36A8-4686-B82C-87A28C78625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F9CB-4347-445D-B69C-5BDEE9465A3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35F0-D4FF-4E8B-9783-81BCD46A133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B9A-2F92-4B1D-9402-D8564F2A578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росекина Виктория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7 клас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5145120" y="1096920"/>
            <a:ext cx="3754440" cy="2206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solidFill>
            <a:srgbClr val="ac66bb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сев – короткое и простое слово. Но как много связано с ним надежд, тревог и забот о будущем урожае! Очень важно правильно выбрать срок посева. Нельзя опоздать ни на один день, но и слишком рано сеять тоже плохо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8" name="Рисунок 4" descr="o_018i.bmp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25360" y="-865080"/>
            <a:ext cx="7480440" cy="23335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3" descr="vika9.jpg"/>
          <p:cNvPicPr/>
          <p:nvPr/>
        </p:nvPicPr>
        <p:blipFill>
          <a:blip r:embed="rId2"/>
          <a:srcRect l="0" t="5113" r="11592" b="12349"/>
          <a:stretch/>
        </p:blipFill>
        <p:spPr>
          <a:xfrm>
            <a:off x="2316240" y="1857240"/>
            <a:ext cx="3668760" cy="471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7504200" cy="120024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3" descr="рожь.bmp"/>
          <p:cNvPicPr/>
          <p:nvPr/>
        </p:nvPicPr>
        <p:blipFill>
          <a:blip r:embed="rId2"/>
          <a:stretch/>
        </p:blipFill>
        <p:spPr>
          <a:xfrm>
            <a:off x="2286000" y="2714760"/>
            <a:ext cx="3722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5913720" cy="1182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Хлеб- это труд тех, кто сеет и убирает пшеницу, кто создает новые ее сорта, конструирует и строит сельскохозяйственные машины, водит тракторы, комбайны.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Содержимое 5" descr="vika6.jpg"/>
          <p:cNvPicPr/>
          <p:nvPr/>
        </p:nvPicPr>
        <p:blipFill>
          <a:blip r:embed="rId2"/>
          <a:srcRect l="8985" t="17710" r="17465" b="0"/>
          <a:stretch/>
        </p:blipFill>
        <p:spPr>
          <a:xfrm>
            <a:off x="2714760" y="2571840"/>
            <a:ext cx="2786040" cy="428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9752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407880" y="1152360"/>
            <a:ext cx="900252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литературный анализ по тем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крыть значение зерновых культур для челове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де бы ни жил человек- в большом городе, в маленькой деревушке или в затерявшейся лесной  глуши,- он ежедневно пользуется чудесными  дарами зерновых культу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72440" y="357120"/>
            <a:ext cx="89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еловек не всегда вдумывается в замеч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73080" y="928800"/>
            <a:ext cx="92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изведения природы. А между тем невозмож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14040" y="1571760"/>
            <a:ext cx="9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ывает представить, сколько интересного и неожи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-22320" y="2214720"/>
            <a:ext cx="9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ого скрывается порой под невзрачным обл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267840" y="2857680"/>
            <a:ext cx="92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ерновых много, а пшеница считается важней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0680" y="3500280"/>
            <a:ext cx="91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довольственной  культурой. Неспроста она з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48240" y="4214880"/>
            <a:ext cx="93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оевала первое место в мире по площади  воздел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77760" y="4929120"/>
            <a:ext cx="88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ания среди всех культур . Хлебные злаки 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29400" y="5572080"/>
            <a:ext cx="44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широко воздел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4" descr="r_023i.bmp"/>
          <p:cNvPicPr/>
          <p:nvPr/>
        </p:nvPicPr>
        <p:blipFill>
          <a:blip r:embed="rId2"/>
          <a:stretch/>
        </p:blipFill>
        <p:spPr>
          <a:xfrm>
            <a:off x="0" y="2000160"/>
            <a:ext cx="3594240" cy="400068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5" descr="r_022i.bmp"/>
          <p:cNvPicPr/>
          <p:nvPr/>
        </p:nvPicPr>
        <p:blipFill>
          <a:blip r:embed="rId3"/>
          <a:stretch/>
        </p:blipFill>
        <p:spPr>
          <a:xfrm>
            <a:off x="5837400" y="1928880"/>
            <a:ext cx="3306600" cy="3679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4" descr="o01034i.bmp"/>
          <p:cNvPicPr/>
          <p:nvPr/>
        </p:nvPicPr>
        <p:blipFill>
          <a:blip r:embed="rId1"/>
          <a:stretch/>
        </p:blipFill>
        <p:spPr>
          <a:xfrm>
            <a:off x="106200" y="1500120"/>
            <a:ext cx="4557960" cy="5072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5" descr="o_018i.bmp"/>
          <p:cNvPicPr/>
          <p:nvPr/>
        </p:nvPicPr>
        <p:blipFill>
          <a:blip r:embed="rId2"/>
          <a:stretch/>
        </p:blipFill>
        <p:spPr>
          <a:xfrm>
            <a:off x="4857840" y="1500120"/>
            <a:ext cx="4300560" cy="507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6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biol137i.bmp"/>
          <p:cNvPicPr/>
          <p:nvPr/>
        </p:nvPicPr>
        <p:blipFill>
          <a:blip r:embed="rId2"/>
          <a:stretch/>
        </p:blipFill>
        <p:spPr>
          <a:xfrm>
            <a:off x="1714680" y="1857240"/>
            <a:ext cx="5770440" cy="4308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ЛАКИ (мятликовые), семейство однодольных растений. Травы, реже древовидные формы (бамбуки). Мелкие цветки собраны в простые соцветия — колоски, образующие сложные соцветия — колос, султан, метелку и др. Ок. 10 тыс. видов (ок. 650 родов). Наибольшее хозяйственное значение имеют зерновые (пшеница, рис, рожь, овес, ячмень, кукуруза, сорго и др.), сахарный трост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54:49Z</dcterms:created>
  <dc:creator>bayard</dc:creator>
  <dc:description/>
  <dc:language>en-US</dc:language>
  <cp:lastModifiedBy>Admin</cp:lastModifiedBy>
  <dcterms:modified xsi:type="dcterms:W3CDTF">2012-01-31T03:58:13Z</dcterms:modified>
  <cp:revision>2</cp:revision>
  <dc:subject/>
  <dc:title>Просекина виктория 7 класс зерновые</dc:title>
</cp:coreProperties>
</file>