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comments/comment16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Valued Acer Customer" initials="VAC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<Relationship Id="rId21" Type="http://schemas.openxmlformats.org/officeDocument/2006/relationships/commentAuthors" Target="commentAuthors.xml"/>
</Relationships>
</file>

<file path=ppt/comments/comment16.xml><?xml version="1.0" encoding="utf-8"?>
<p:cmLst xmlns:p="http://schemas.openxmlformats.org/presentationml/2006/main">
  <p:cm authorId="0" dt="2011-11-21T10:01:49.953000000" idx="1">
    <p:pos x="10" y="1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864E0-71B3-4A7C-AED4-92FBE13B4F4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BCADA-FD9A-453D-84BB-A3B1D426FF7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E45DB-7DF8-4749-832C-CC235319DC0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09003-6851-46E4-B7B1-ABA530C8766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E9F5-741C-45DB-B236-130350632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FCD3-D3CB-4420-8713-2514AA377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F90C-D6F4-4FF3-B5CD-1D1FB56DC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7B2C-552F-46E1-9AD6-84CD7E091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DA68-0ABA-4BDE-9931-764B58020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BAFB-96B5-48A6-AAEC-EF8963DF9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9D81-F1AC-4890-BB6C-382BB8369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80BE-9931-4514-B695-6805C7D0B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60DD-E5A8-45BF-B121-C278FA398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6E5A-6AA1-4FB1-B1F2-BD40BE27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2B1F-39AE-4CFF-B681-6994F47B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86D3-17EA-40F4-AC06-4D625F796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DA470-C602-4DF8-A8D6-4C61E849E3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6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16000" y="189000"/>
            <a:ext cx="5327640" cy="27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«</a:t>
            </a:r>
            <a:r>
              <a:rPr b="1" i="1" lang="ru-RU" sz="3600" spc="-1" strike="noStrike">
                <a:solidFill>
                  <a:srgbClr val="632523"/>
                </a:solidFill>
                <a:latin typeface="Calibri"/>
              </a:rPr>
              <a:t>Старинной песни мир»</a:t>
            </a:r>
            <a:br>
              <a:rPr sz="3600"/>
            </a:br>
            <a:br>
              <a:rPr sz="3200"/>
            </a:br>
            <a:r>
              <a:rPr b="1" lang="ru-RU" sz="2800" spc="-1" strike="noStrike">
                <a:solidFill>
                  <a:srgbClr val="632523"/>
                </a:solidFill>
                <a:latin typeface="Calibri"/>
              </a:rPr>
              <a:t>ПЕСНИ ФРАНЦА ШУБЕР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C:\Documents and Settings\О А\Рабочий стол\картинки\img014.jpg"/>
          <p:cNvPicPr/>
          <p:nvPr/>
        </p:nvPicPr>
        <p:blipFill>
          <a:blip r:embed="rId1"/>
          <a:stretch/>
        </p:blipFill>
        <p:spPr>
          <a:xfrm>
            <a:off x="-19080" y="1463760"/>
            <a:ext cx="43228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«Шуберт за пианино» Густав Климт (1862 – 1918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C:\Documents and Settings\О А\Рабочий стол\картинки\img019.jpg"/>
          <p:cNvPicPr/>
          <p:nvPr/>
        </p:nvPicPr>
        <p:blipFill>
          <a:blip r:embed="rId1"/>
          <a:stretch/>
        </p:blipFill>
        <p:spPr>
          <a:xfrm>
            <a:off x="1403280" y="620640"/>
            <a:ext cx="58039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47280" y="259920"/>
            <a:ext cx="619308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Calibri"/>
              </a:rPr>
              <a:t>Музыкальный словарь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56760" y="1600200"/>
            <a:ext cx="8572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87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Экосез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(франц.- шотландский танец) старинный шотландский танец. Музыкальный размер 3/2, ¾, темп умеренный, сопровождался волынко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187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В конце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XVIII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в. появился во Франции, затем под названием «англсез» распространился по всей Европе. Позднее стал весёлым парно - групповым танцем быстрого темп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19280" y="333000"/>
            <a:ext cx="5511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Calibri"/>
              </a:rPr>
              <a:t>Музыкальный словарь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8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Лендлер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– австрийский и немецкий танец круговой парный танец. Темп умеренный, движения с прыжками. Как жанр стал популярным со второй половины 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XVIII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века и часто фигурировал в произведениях венских классиков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1320" y="285840"/>
            <a:ext cx="8143560" cy="42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8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Я пел песни и пел их много, много лет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18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Когда я пел о любви, она приносила мне страдания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18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Когда я  пел о страдании – оно превращалось в любовь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18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Так любовь и страдание раздирало мне душу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1872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1872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Ф.Шубер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0560" y="259920"/>
            <a:ext cx="5340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Calibri"/>
              </a:rPr>
              <a:t>Музыкальный словарь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20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Баллада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(от ит.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ballade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-танцевать) в средние века песня народного происхождения, сопровождавшая танец. Позднее – литературное лирико-эпическое произведение драматического характера, часто с элементами фантастики, содержание которого опирается на прошедшие события, предания, легенд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20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05 - Ф. Шуберт - Лесной царь.mp3" descr=""/>
          <p:cNvPicPr/>
          <p:nvPr/>
        </p:nvPicPr>
        <p:blipFill>
          <a:blip r:embed="rId1"/>
          <a:stretch/>
        </p:blipFill>
        <p:spPr>
          <a:xfrm>
            <a:off x="1187280" y="6093000"/>
            <a:ext cx="487440" cy="48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6992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214200" y="285840"/>
          <a:ext cx="8643960" cy="5929200"/>
        </p:xfrm>
        <a:graphic>
          <a:graphicData uri="http://schemas.openxmlformats.org/drawingml/2006/table">
            <a:tbl>
              <a:tblPr/>
              <a:tblGrid>
                <a:gridCol w="1571760"/>
                <a:gridCol w="3643200"/>
                <a:gridCol w="1143000"/>
                <a:gridCol w="1143000"/>
                <a:gridCol w="1143000"/>
              </a:tblGrid>
              <a:tr h="563400">
                <a:tc>
                  <a:txBody>
                    <a:bodyPr lIns="68760" rIns="68760" tIns="0" bIns="0" anchor="t">
                      <a:noAutofit/>
                    </a:bodyPr>
                    <a:p>
                      <a:pPr marL="88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32523"/>
                          </a:solidFill>
                          <a:latin typeface="Times New Roman"/>
                          <a:ea typeface="Times New Roman"/>
                        </a:rPr>
                        <a:t>действующие л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2384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32523"/>
                          </a:solidFill>
                          <a:latin typeface="Times New Roman"/>
                          <a:ea typeface="Times New Roman"/>
                        </a:rPr>
                        <a:t>литературная  строка и музыкальн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384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32523"/>
                          </a:solidFill>
                          <a:latin typeface="Times New Roman"/>
                          <a:ea typeface="Times New Roman"/>
                        </a:rPr>
                        <a:t>фра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874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32523"/>
                          </a:solidFill>
                          <a:latin typeface="Times New Roman"/>
                          <a:ea typeface="Times New Roman"/>
                        </a:rPr>
                        <a:t>интон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874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32523"/>
                          </a:solidFill>
                          <a:latin typeface="Times New Roman"/>
                          <a:ea typeface="Times New Roman"/>
                        </a:rPr>
                        <a:t>динам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16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32523"/>
                          </a:solidFill>
                          <a:latin typeface="Times New Roman"/>
                          <a:ea typeface="Times New Roman"/>
                        </a:rPr>
                        <a:t>аккомпанеме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68760" rIns="68760" tIns="0" bIns="0" anchor="t">
                      <a:noAutofit/>
                    </a:bodyPr>
                    <a:p>
                      <a:pPr marL="8892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ествова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224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Кто скачет, кто мчится под хладною мглой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24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 Ездок погоняет, ездок доскакал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4800">
                <a:tc>
                  <a:txBody>
                    <a:bodyPr lIns="68760" rIns="68760" tIns="0" bIns="0" anchor="t">
                      <a:noAutofit/>
                    </a:bodyPr>
                    <a:p>
                      <a:pPr marL="8892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ец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2384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итя, что ко мне ты так робко прильнул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384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 нет, то белеет туман над водо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384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 сын мой, ослышался ты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384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 нет. Всё спокойно в точной глубине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384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Родимый, лесной царь нас хочет догнат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9120">
                <a:tc>
                  <a:txBody>
                    <a:bodyPr lIns="68760" rIns="68760" tIns="0" bIns="0" anchor="t">
                      <a:noAutofit/>
                    </a:bodyPr>
                    <a:p>
                      <a:pPr marL="8892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бён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224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Родимый, лесной царь в глаза мне сверкнул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24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Родимый, лесной царь со мной говорит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24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Родимый, лесной царь созвал дочерей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0920">
                <a:tc>
                  <a:txBody>
                    <a:bodyPr lIns="68760" rIns="68760" tIns="0" bIns="0" anchor="t">
                      <a:noAutofit/>
                    </a:bodyPr>
                    <a:p>
                      <a:pPr marL="8892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сн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а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224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итя, оглянися; младенец, ко мне; весёлого много в моей сторон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24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Ко мне, мой младенец! В дуброве моей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24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итя, я пленился твоей красотой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0040" y="585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033800" indent="0" algn="r"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ояль Франца Шубер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4352760" y="480960"/>
            <a:ext cx="4162680" cy="56944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142920" y="428760"/>
            <a:ext cx="428616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2052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632523"/>
                </a:solidFill>
                <a:latin typeface="Calibri"/>
              </a:rPr>
              <a:t>«Что за неисчерпаемое богатство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2052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i="1" lang="ru-RU" sz="2600" spc="-1" strike="noStrike">
                <a:solidFill>
                  <a:srgbClr val="632523"/>
                </a:solidFill>
                <a:latin typeface="Calibri"/>
              </a:rPr>
              <a:t>мелодического изобретения было в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2052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632523"/>
                </a:solidFill>
                <a:latin typeface="Calibri"/>
              </a:rPr>
              <a:t>этом безвременно окончившим свою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2052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632523"/>
                </a:solidFill>
                <a:latin typeface="Calibri"/>
              </a:rPr>
              <a:t>карьеру композиторе! Какая роскошь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2052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632523"/>
                </a:solidFill>
                <a:latin typeface="Calibri"/>
              </a:rPr>
              <a:t>фантазии и резко очерченна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2052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632523"/>
                </a:solidFill>
                <a:latin typeface="Calibri"/>
              </a:rPr>
              <a:t>самобытность»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20520"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П.И. Чайковский о Шуберт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205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Романтизм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– это  искусство давать народам такие  литературные произведения, которые при современном состоянии их обычаев и верований  могут доставить  им наибольшее наслажде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180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редерик Стенда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1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Романтизм </a:t>
            </a: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франц.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romantisme</a:t>
            </a: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13840" y="2428560"/>
            <a:ext cx="8472600" cy="40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205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художественное течение в культуре европейских стран, возникшее на рубеже 18 – 19 вв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Романтическое искусство было явление сложным и противоречивы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с одной стороны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, оно впитало в себя прогрессивные идеи, рождённые эпохой Великой французской революции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с другой стороны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, в нём нашла отражение разочарованность окружающей действительность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елакруа «Свобода на баррикадах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353880" y="554040"/>
            <a:ext cx="830268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50044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Павел Федотов «Девушка за фортепьяно»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225440" y="-60480"/>
            <a:ext cx="6265800" cy="59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Documents and Settings\О А\Рабочий стол\картинки\img017.jpg"/>
          <p:cNvPicPr/>
          <p:nvPr/>
        </p:nvPicPr>
        <p:blipFill>
          <a:blip r:embed="rId1"/>
          <a:stretch/>
        </p:blipFill>
        <p:spPr>
          <a:xfrm>
            <a:off x="115920" y="12600"/>
            <a:ext cx="3790800" cy="623592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2"/>
          <p:cNvSpPr/>
          <p:nvPr/>
        </p:nvSpPr>
        <p:spPr>
          <a:xfrm>
            <a:off x="4071960" y="214200"/>
            <a:ext cx="4643280" cy="61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3152"/>
                </a:solidFill>
                <a:latin typeface="Calibri"/>
              </a:rPr>
              <a:t>Франц Шуберт (1797 – 1828)</a:t>
            </a:r>
            <a:r>
              <a:rPr b="1" i="1" lang="ru-RU" sz="2800" spc="-1" strike="noStrike">
                <a:solidFill>
                  <a:srgbClr val="403152"/>
                </a:solidFill>
                <a:latin typeface="Arial"/>
              </a:rPr>
              <a:t> – </a:t>
            </a:r>
            <a:r>
              <a:rPr b="1" i="1" lang="ru-RU" sz="2800" spc="-1" strike="noStrike">
                <a:solidFill>
                  <a:srgbClr val="403152"/>
                </a:solidFill>
                <a:latin typeface="Calibri"/>
              </a:rPr>
              <a:t>австрийский композитор. Вошёл в историю музыки как основоположник музыкального романтизма и создатель ряда новых жанров: романтической симфонии, фортепианной миниатюры, романтической песни  и программно- сюжетного вокального цик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63280" y="404280"/>
            <a:ext cx="7908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Calibri"/>
              </a:rPr>
              <a:t>Музыкальный словарь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85840" y="999720"/>
            <a:ext cx="840096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ru-RU" sz="3300" spc="-1" strike="noStrike">
                <a:solidFill>
                  <a:srgbClr val="ff0000"/>
                </a:solidFill>
                <a:latin typeface="Calibri"/>
              </a:rPr>
              <a:t>Венская классическая школа </a:t>
            </a:r>
            <a:r>
              <a:rPr b="1" i="1" lang="ru-RU" sz="3300" spc="-1" strike="noStrike">
                <a:solidFill>
                  <a:srgbClr val="000000"/>
                </a:solidFill>
                <a:latin typeface="Calibri"/>
              </a:rPr>
              <a:t>- творческое направление - первой четверти </a:t>
            </a:r>
            <a:r>
              <a:rPr b="1" i="1" lang="en-US" sz="3300" spc="-1" strike="noStrike">
                <a:solidFill>
                  <a:srgbClr val="000000"/>
                </a:solidFill>
                <a:latin typeface="Calibri"/>
              </a:rPr>
              <a:t>XIX</a:t>
            </a:r>
            <a:r>
              <a:rPr b="1" i="1" lang="ru-RU" sz="3300" spc="-1" strike="noStrike">
                <a:solidFill>
                  <a:srgbClr val="000000"/>
                </a:solidFill>
                <a:latin typeface="Calibri"/>
              </a:rPr>
              <a:t> века. К нему принадлежат три великих композитора –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Calibri"/>
              </a:rPr>
              <a:t>Й. Гайдн, В.А.Моцарт и Л.Бетховен.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Calibri"/>
              </a:rPr>
              <a:t>В их творчестве сложились и окончательно сформировались основные музыкальные формы, на которых было построено композиторское искусство последующих времён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285840" y="500040"/>
            <a:ext cx="840096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1" lang="ru-RU" sz="3500" spc="-1" strike="noStrike">
                <a:solidFill>
                  <a:srgbClr val="ff0000"/>
                </a:solidFill>
                <a:latin typeface="Calibri"/>
              </a:rPr>
              <a:t>Общие черты в творчестве </a:t>
            </a:r>
            <a:r>
              <a:rPr b="1" i="1" lang="ru-RU" sz="3500" spc="-1" strike="noStrike">
                <a:solidFill>
                  <a:srgbClr val="ff0000"/>
                </a:solidFill>
                <a:latin typeface="Calibri"/>
              </a:rPr>
              <a:t>композиторов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ff0000"/>
                </a:solidFill>
                <a:latin typeface="Calibri"/>
              </a:rPr>
              <a:t>Й. Гайдна, В.А.Моцарта и Л.Бетховена: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000000"/>
                </a:solidFill>
                <a:latin typeface="Calibri"/>
              </a:rPr>
              <a:t>единый стиль и композиторский язык,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000000"/>
                </a:solidFill>
                <a:latin typeface="Calibri"/>
              </a:rPr>
              <a:t>схожий выбор жанра,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000000"/>
                </a:solidFill>
                <a:latin typeface="Calibri"/>
              </a:rPr>
              <a:t>реализм,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000000"/>
                </a:solidFill>
                <a:latin typeface="Calibri"/>
              </a:rPr>
              <a:t>оптимистический и жизнеутверждающий характер музыки.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9T08:40:27Z</dcterms:created>
  <dc:creator>О.А</dc:creator>
  <dc:description/>
  <dc:language>en-US</dc:language>
  <cp:lastModifiedBy>dmi</cp:lastModifiedBy>
  <dcterms:modified xsi:type="dcterms:W3CDTF">2013-11-17T13:06:56Z</dcterms:modified>
  <cp:revision>45</cp:revision>
  <dc:subject/>
  <dc:title>Старинной песни  Мир</dc:title>
</cp:coreProperties>
</file>