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Valued Acer Customer" initials="VA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16.xml><?xml version="1.0" encoding="utf-8"?>
<p:cmLst xmlns:p="http://schemas.openxmlformats.org/presentationml/2006/main">
  <p:cm authorId="0" dt="2011-11-21T10:01:49.953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BA6B-7A62-40C8-8BE8-7F8339C24A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5858-37A0-43F3-A8C2-88DDB1F167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6AF2-303D-42BB-9AFA-73F5E829C0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15A9-47A6-4384-8A1A-157C215AF4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CD34-6555-42BE-82D5-F0089D76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46BB-2211-4224-9C4D-374C612B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1C8-FB4A-401D-B1AB-87F6C9CE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9A8-1BDA-497B-97B6-4D25C776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1CC6-9213-4062-BD1E-19130376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F18C-D569-47B1-967F-FEA8458B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8B1-E95C-4C91-8394-06E32864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FC8B-4CE8-4B31-8457-6DE689AD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C68-AE2D-4BB1-941C-A8340ECF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37FE-8D96-4240-8BFE-331DAF8C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5C7-DF49-4B5D-9641-7D2B6CAB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FDDD-07CF-4A6F-A8EA-C5C5E3D6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49DE-96A8-4ABF-81D1-83BEB6EB53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6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16000" y="189000"/>
            <a:ext cx="532764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«</a:t>
            </a: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Старинной песни мир»</a:t>
            </a:r>
            <a:br>
              <a:rPr sz="3600"/>
            </a:br>
            <a:br>
              <a:rPr sz="3200"/>
            </a:b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ПЕСНИ ФРАНЦА ШУБЕ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О А\Рабочий стол\картинки\img014.jpg"/>
          <p:cNvPicPr/>
          <p:nvPr/>
        </p:nvPicPr>
        <p:blipFill>
          <a:blip r:embed="rId1"/>
          <a:stretch/>
        </p:blipFill>
        <p:spPr>
          <a:xfrm>
            <a:off x="-19080" y="1463760"/>
            <a:ext cx="43228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Шуберт за пианино» Густав Климт (1862 – 191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О А\Рабочий стол\картинки\img019.jpg"/>
          <p:cNvPicPr/>
          <p:nvPr/>
        </p:nvPicPr>
        <p:blipFill>
          <a:blip r:embed="rId1"/>
          <a:stretch/>
        </p:blipFill>
        <p:spPr>
          <a:xfrm>
            <a:off x="1403280" y="620640"/>
            <a:ext cx="58039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193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Музыкальный словар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600200"/>
            <a:ext cx="857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Экосез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(франц.- шотландский танец) старинный шотландский танец. Музыкальный размер 3/2, ¾, темп умеренный, сопровождался волынк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в. появился во Франции, затем под названием «англсез» распространился по всей Европе. Позднее стал весёлым парно - групповым танцем быстрого темп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Музыкальный словар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Лендлер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– австрийский и немецкий танец круговой парный танец. Темп умеренный, движения с прыжками. Как жанр стал популярным со второй половины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века и часто фигурировал в произведениях венских классико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14356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Я пел песни и пел их много, много ле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огда я пел о любви, она приносила мне страдания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огда я  пел о страдании – оно превращалось в любов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ак любовь и страдание раздирало мне душ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.Шубе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534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Музыкальный словар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Баллад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(от ит.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allade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танцевать) в средние века песня народного происхождения, сопровождавшая танец. Позднее – литературное лирико-эпическое произведение драматического характера, часто с элементами фантастики, содержание которого опирается на прошедшие события, предания, леген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05 - Ф. Шуберт - Лесной царь.mp3" descr=""/>
          <p:cNvPicPr/>
          <p:nvPr/>
        </p:nvPicPr>
        <p:blipFill>
          <a:blip r:embed="rId1"/>
          <a:stretch/>
        </p:blipFill>
        <p:spPr>
          <a:xfrm>
            <a:off x="1187280" y="6093000"/>
            <a:ext cx="487440" cy="48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92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14200" y="285840"/>
          <a:ext cx="8643960" cy="5929200"/>
        </p:xfrm>
        <a:graphic>
          <a:graphicData uri="http://schemas.openxmlformats.org/drawingml/2006/table">
            <a:tbl>
              <a:tblPr/>
              <a:tblGrid>
                <a:gridCol w="1571760"/>
                <a:gridCol w="3643200"/>
                <a:gridCol w="1143000"/>
                <a:gridCol w="1143000"/>
                <a:gridCol w="1143000"/>
              </a:tblGrid>
              <a:tr h="56340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действующ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23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литературная  строка и музыкаль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3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ф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874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интон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874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дин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аккомпан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ствов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22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то скачет, кто мчится под хладною мглой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2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Ездок погоняет, ездок доскакал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е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23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итя, что ко мне ты так робко прильнул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3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 нет, то белеет туман над вод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3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 сын мой, ослышался ты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3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 нет. Всё спокойно в точной глубине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3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одимый, лесной царь нас хочет догна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91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ё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22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одимый, лесной царь в глаза мне сверкну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2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одимый, лесной царь со мной говорит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2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одимый, лесной царь созвал дочерей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22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итя, оглянися; младенец, ко мне; весёлого много в моей сторо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2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о мне, мой младенец! В дуброве моей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2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итя, я пленился твоей красотой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585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033800" indent="0" algn="r"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яль Франца Шубер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4352760" y="480960"/>
            <a:ext cx="4162680" cy="5694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142920" y="428760"/>
            <a:ext cx="42861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Calibri"/>
              </a:rPr>
              <a:t>«Что за неисчерпаемое богатств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632523"/>
                </a:solidFill>
                <a:latin typeface="Calibri"/>
              </a:rPr>
              <a:t>мелодического изобретения было 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Calibri"/>
              </a:rPr>
              <a:t>этом безвременно окончившим сво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Calibri"/>
              </a:rPr>
              <a:t>карьеру композиторе! Какая роскош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Calibri"/>
              </a:rPr>
              <a:t>фантазии и резко очерченна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Calibri"/>
              </a:rPr>
              <a:t>самобытность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П.И. Чайковский о Шубер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Романтизм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– это  искусство давать народам такие  литературные произведения, которые при современном состоянии их обычаев и верований  могут доставить  им наибольшее наслажд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8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редерик Стенда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Романтизм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франц.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omantisme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3840" y="2428560"/>
            <a:ext cx="84726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художественное течение в культуре европейских стран, возникшее на рубеже 18 – 19 вв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Романтическое искусство было явление сложным и противоречивы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 одной стороны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, оно впитало в себя прогрессивные идеи, рождённые эпохой Великой французской революци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 другой стороны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, в нём нашла отражение разочарованность окружающей действительн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лакруа «Свобода на баррикадах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353880" y="554040"/>
            <a:ext cx="830268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5004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Павел Федотов «Девушка за фортепьяно»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225440" y="-60480"/>
            <a:ext cx="626580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О А\Рабочий стол\картинки\img017.jpg"/>
          <p:cNvPicPr/>
          <p:nvPr/>
        </p:nvPicPr>
        <p:blipFill>
          <a:blip r:embed="rId1"/>
          <a:stretch/>
        </p:blipFill>
        <p:spPr>
          <a:xfrm>
            <a:off x="115920" y="12600"/>
            <a:ext cx="3790800" cy="62359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4071960" y="214200"/>
            <a:ext cx="464328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3152"/>
                </a:solidFill>
                <a:latin typeface="Calibri"/>
              </a:rPr>
              <a:t>Франц Шуберт (1797 – 1828)</a:t>
            </a:r>
            <a:r>
              <a:rPr b="1" i="1" lang="ru-RU" sz="2800" spc="-1" strike="noStrike">
                <a:solidFill>
                  <a:srgbClr val="403152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403152"/>
                </a:solidFill>
                <a:latin typeface="Calibri"/>
              </a:rPr>
              <a:t>австрийский композитор. Вошёл в историю музыки как основоположник музыкального романтизма и создатель ряда новых жанров: романтической симфонии, фортепианной миниатюры, романтической песни  и программно- сюжетного вокального цик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790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Музыкальный словарь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5840" y="999720"/>
            <a:ext cx="84009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300" spc="-1" strike="noStrike">
                <a:solidFill>
                  <a:srgbClr val="ff0000"/>
                </a:solidFill>
                <a:latin typeface="Calibri"/>
              </a:rPr>
              <a:t>Венская классическая школа </a:t>
            </a: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- творческое направление - первой четверти </a:t>
            </a:r>
            <a:r>
              <a:rPr b="1" i="1" lang="en-US" sz="33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 века. К нему принадлежат три великих композитора –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Й. Гайдн, В.А.Моцарт и Л.Бетховен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В их творчестве сложились и окончательно сформировались основные музыкальные формы, на которых было построено композиторское искусство последующих времён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85840" y="500040"/>
            <a:ext cx="84009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3500" spc="-1" strike="noStrike">
                <a:solidFill>
                  <a:srgbClr val="ff0000"/>
                </a:solidFill>
                <a:latin typeface="Calibri"/>
              </a:rPr>
              <a:t>Общие черты в творчестве </a:t>
            </a:r>
            <a:r>
              <a:rPr b="1" i="1" lang="ru-RU" sz="3500" spc="-1" strike="noStrike">
                <a:solidFill>
                  <a:srgbClr val="ff0000"/>
                </a:solidFill>
                <a:latin typeface="Calibri"/>
              </a:rPr>
              <a:t>композиторов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ff0000"/>
                </a:solidFill>
                <a:latin typeface="Calibri"/>
              </a:rPr>
              <a:t>Й. Гайдна, В.А.Моцарта и Л.Бетховена: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Calibri"/>
              </a:rPr>
              <a:t>единый стиль и композиторский язык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Calibri"/>
              </a:rPr>
              <a:t>схожий выбор жанра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Calibri"/>
              </a:rPr>
              <a:t>реализм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Calibri"/>
              </a:rPr>
              <a:t>оптимистический и жизнеутверждающий характер музыки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08:40:27Z</dcterms:created>
  <dc:creator>О.А</dc:creator>
  <dc:description/>
  <dc:language>en-US</dc:language>
  <cp:lastModifiedBy>dmi</cp:lastModifiedBy>
  <dcterms:modified xsi:type="dcterms:W3CDTF">2013-11-17T13:06:56Z</dcterms:modified>
  <cp:revision>45</cp:revision>
  <dc:subject/>
  <dc:title>Старинной песни  Мир</dc:title>
</cp:coreProperties>
</file>