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Valued Acer Customer" initials="VA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1-11-21T10:01:49.953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28D1-EA46-43C3-B1DC-85B4572ED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BF53-D8DB-4478-AA32-03D655C079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D06D-BDA2-441D-9BA5-1F824B845C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68A-B411-46D7-85F2-1E97666C8B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3BD-88EE-4538-B8E0-115F9922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7CA-D0E1-4091-87FD-F7A9E423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1E8-2E8F-4149-9C38-BE494906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57D-9EA4-43BB-9837-FBC3F728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0AD-3670-4631-8570-88A545A9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6F0-209C-4739-89AD-A7EBC9DE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D170-0D5A-4999-975F-B8B29300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D7E-498F-4A90-B0C4-C9444F31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40E-870F-42F6-9FEA-B4FFB28D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0E7-AC94-4C45-8842-1F018925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518-1B79-4B07-ADF3-13125A80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292-EDCB-45E4-9C4C-2ABF7A7D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FFE4-C618-456B-B296-1E23A2DA1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16000" y="189000"/>
            <a:ext cx="5327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«</a:t>
            </a:r>
            <a:r>
              <a:rPr b="1" i="1" lang="ru-RU" sz="3600" spc="-1" strike="noStrike">
                <a:solidFill>
                  <a:srgbClr val="632523"/>
                </a:solidFill>
                <a:latin typeface="Calibri"/>
              </a:rPr>
              <a:t>Старинной песни мир»</a:t>
            </a:r>
            <a:br>
              <a:rPr sz="3600"/>
            </a:br>
            <a:br>
              <a:rPr sz="3200"/>
            </a:b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ПЕСНИ ФРАНЦА ШУБЕ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О А\Рабочий стол\картинки\img014.jpg"/>
          <p:cNvPicPr/>
          <p:nvPr/>
        </p:nvPicPr>
        <p:blipFill>
          <a:blip r:embed="rId1"/>
          <a:stretch/>
        </p:blipFill>
        <p:spPr>
          <a:xfrm>
            <a:off x="-19080" y="1463760"/>
            <a:ext cx="4322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Шуберт за пианино» Густав Климт (1862 – 191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О А\Рабочий стол\картинки\img019.jpg"/>
          <p:cNvPicPr/>
          <p:nvPr/>
        </p:nvPicPr>
        <p:blipFill>
          <a:blip r:embed="rId1"/>
          <a:stretch/>
        </p:blipFill>
        <p:spPr>
          <a:xfrm>
            <a:off x="1403280" y="620640"/>
            <a:ext cx="5803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193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Экосез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(франц.- шотландский танец) старинный шотландский танец. Музыкальный размер 3/2, ¾, темп умеренный, сопровождался волын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. появился во Франции, затем под названием «англсез» распространился по всей Европе. Позднее стал весёлым парно - групповым танцем быстрого темп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33300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Лендлер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– австрийский и немецкий танец круговой парный танец. Темп умеренный, движения с прыжками. Как жанр стал популярным со второй половины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века и часто фигурировал в произведениях венских классик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14356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Я пел песни и пел их много, много л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гда я пел о любви, она приносила мне страдания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гда я  пел о страдании – оно превращалось в любов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ак любовь и страдание раздирало мне душ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.Шубе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34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Баллада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(от ит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llade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танцевать) в средние века песня народного происхождения, сопровождавшая танец. Позднее – литературное лирико-эпическое произведение драматического характера, часто с элементами фантастики, содержание которого опирается на прошедшие события, предания, леген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05 - Ф. Шуберт - Лесной царь.mp3" descr=""/>
          <p:cNvPicPr/>
          <p:nvPr/>
        </p:nvPicPr>
        <p:blipFill>
          <a:blip r:embed="rId1"/>
          <a:stretch/>
        </p:blipFill>
        <p:spPr>
          <a:xfrm>
            <a:off x="1187280" y="6093000"/>
            <a:ext cx="48744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92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14200" y="285840"/>
          <a:ext cx="8643960" cy="5929200"/>
        </p:xfrm>
        <a:graphic>
          <a:graphicData uri="http://schemas.openxmlformats.org/drawingml/2006/table">
            <a:tbl>
              <a:tblPr/>
              <a:tblGrid>
                <a:gridCol w="1571760"/>
                <a:gridCol w="3643200"/>
                <a:gridCol w="1143000"/>
                <a:gridCol w="1143000"/>
                <a:gridCol w="1143000"/>
              </a:tblGrid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действующ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литературная  строка и музыка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ф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874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инто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874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дин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32523"/>
                          </a:solidFill>
                          <a:latin typeface="Times New Roman"/>
                          <a:ea typeface="Times New Roman"/>
                        </a:rPr>
                        <a:t>аккомпан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вов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то скачет, кто мчится под хладною мгло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Ездок погоняет, ездок доскакал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что ко мне ты так робко прильну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нет, то белеет туман над вод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сын мой, ослышался т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 нет. Всё спокойно в точной глубине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38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нас хочет догн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ё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в глаза мне сверкну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со мной говорит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одимый, лесной царь созвал дочерей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оглянися; младенец, ко мне; весёлого много в моей стор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 мне, мой младенец! В дуброве моей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2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итя, я пленился твоей красотой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585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033800" indent="0" algn="r"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яль Франца Шубе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352760" y="480960"/>
            <a:ext cx="4162680" cy="569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42920" y="428760"/>
            <a:ext cx="4286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«Что за неисчерпаемое богат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мелодического изобретения было 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этом безвременно окончившим сво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карьеру композиторе! Какая роскош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фантазии и резко очерченна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32523"/>
                </a:solidFill>
                <a:latin typeface="Calibri"/>
              </a:rPr>
              <a:t>самобытность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.И. Чайковский о Шубер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20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омантиз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– это  искусство давать народам такие  литературные произведения, которые при современном состоянии их обычаев и верований  могут доставить  им наибольшее насл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едерик Стен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омантизм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франц.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omantisme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2428560"/>
            <a:ext cx="8472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художественное течение в культуре европейских стран, возникшее на рубеже 18 – 19 в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Романтическое искусство было явление сложным и противоречив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 одной сторон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оно впитало в себя прогрессивные идеи, рождённые эпохой Великой французской революц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 другой сторон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в нём нашла отражение разочарованность окружающей действитель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акруа «Свобода на баррикада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53880" y="554040"/>
            <a:ext cx="83026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00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авел Федотов «Девушка за фортепьяно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25440" y="-60480"/>
            <a:ext cx="62658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О А\Рабочий стол\картинки\img017.jpg"/>
          <p:cNvPicPr/>
          <p:nvPr/>
        </p:nvPicPr>
        <p:blipFill>
          <a:blip r:embed="rId1"/>
          <a:stretch/>
        </p:blipFill>
        <p:spPr>
          <a:xfrm>
            <a:off x="115920" y="12600"/>
            <a:ext cx="3790800" cy="62359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4071960" y="214200"/>
            <a:ext cx="464328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3152"/>
                </a:solidFill>
                <a:latin typeface="Calibri"/>
              </a:rPr>
              <a:t>Франц Шуберт (1797 – 1828)</a:t>
            </a:r>
            <a:r>
              <a:rPr b="1" i="1" lang="ru-RU" sz="2800" spc="-1" strike="noStrike">
                <a:solidFill>
                  <a:srgbClr val="403152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403152"/>
                </a:solidFill>
                <a:latin typeface="Calibri"/>
              </a:rPr>
              <a:t>австрийский композитор. Вошёл в историю музыки как основоположник музыкального романтизма и создатель ряда новых жанров: романтической симфонии, фортепианной миниатюры, романтической песни  и программно- сюжетного вокального ци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790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Музыкальный словарь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840" y="999720"/>
            <a:ext cx="8400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300" spc="-1" strike="noStrike">
                <a:solidFill>
                  <a:srgbClr val="ff0000"/>
                </a:solidFill>
                <a:latin typeface="Calibri"/>
              </a:rPr>
              <a:t>Венская классическая школа 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- творческое направление - первой четверти </a:t>
            </a:r>
            <a:r>
              <a:rPr b="1" i="1" lang="en-US" sz="33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века. К нему принадлежат три великих композитора –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Й. Гайдн, В.А.Моцарт и Л.Бетховен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В их творчестве сложились и окончательно сформировались основные музыкальные формы, на которых было построено композиторское искусство последующих времён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85840" y="500040"/>
            <a:ext cx="8400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500" spc="-1" strike="noStrike">
                <a:solidFill>
                  <a:srgbClr val="ff0000"/>
                </a:solidFill>
                <a:latin typeface="Calibri"/>
              </a:rPr>
              <a:t>Общие черты в творчестве </a:t>
            </a:r>
            <a:r>
              <a:rPr b="1" i="1" lang="ru-RU" sz="3500" spc="-1" strike="noStrike">
                <a:solidFill>
                  <a:srgbClr val="ff0000"/>
                </a:solidFill>
                <a:latin typeface="Calibri"/>
              </a:rPr>
              <a:t>композиторов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0000"/>
                </a:solidFill>
                <a:latin typeface="Calibri"/>
              </a:rPr>
              <a:t>Й. Гайдна, В.А.Моцарта и Л.Бетховена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единый стиль и композиторский язык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схожий выбор жанра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реализм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Calibri"/>
              </a:rPr>
              <a:t>оптимистический и жизнеутверждающий характер музыки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08:40:27Z</dcterms:created>
  <dc:creator>О.А</dc:creator>
  <dc:description/>
  <dc:language>en-US</dc:language>
  <cp:lastModifiedBy>dmi</cp:lastModifiedBy>
  <dcterms:modified xsi:type="dcterms:W3CDTF">2013-11-17T13:06:56Z</dcterms:modified>
  <cp:revision>45</cp:revision>
  <dc:subject/>
  <dc:title>Старинной песни  Мир</dc:title>
</cp:coreProperties>
</file>