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0E6C-8B74-4E00-BD70-768AFCA0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6666-D888-4E4C-A310-FD96420C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398-952B-41AA-B7F6-B66FEA02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B6A-3A18-4E88-945C-F70EE0BC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DB4-307D-4AC0-8EC4-FDD30C70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659-B02B-408D-88B3-51E2A948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A7F-99B1-4F05-B932-9E98977D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C25-357A-4707-8820-BB2F3966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B4D-0C1E-4DEA-B893-BE9EAD9D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24C-D7BD-4C82-9986-8B8DAFAE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E4F-FE2D-40AC-8344-F2780C1F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7CB-8C17-41D4-8427-B643FEF7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b7f4"/>
            </a:gs>
            <a:gs pos="100000">
              <a:srgbClr val="0660a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DE71-A1EA-4EA1-A6A8-79B4EB96C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324000" y="476280"/>
            <a:ext cx="8534160" cy="20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616360" cy="4797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стернак и Му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эт и музык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льное искусство приковывало внимание русских поэтов, но они были только слушателями, не зная, что «пианисту понятно шныряние ветошниц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но не на две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a bre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шире,-на три: в ритме трех вторых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олер штукатурки – определе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на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пные хоры и вер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штукатуренные цеду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75760" y="0"/>
            <a:ext cx="8867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Пастернак мог так точно указать инструментальный эквивалент птичьего пени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 Щебечет птичка под сурдинку…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им музыкальным слухом 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л по паровоз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истку, что поезд отош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но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с Никола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кзала, там все парово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льты и тено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ладовую окрас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ния морских вол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ни шумят в мино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867280" y="2708280"/>
            <a:ext cx="300528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стернак слышал музыку буквально во всем. Вступая в любое чудо сочетаний, музыка чаще всего оказывается рядом с человеком и  прир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птичка верит, как в за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вои рул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е пускает на по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о не на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932360" y="3141720"/>
            <a:ext cx="38736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ихотворении «Высокая болезнь» Пастернак называет музыкой целое поколение русской интеллиген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были музыкой во ль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говорю про всю сре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оторой я имел в ви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йти со сцены, и сойд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были музыкою чаш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шедших кушать чай во ть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ухих лесов, косых зама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айн, не льстящих ником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были музыкою мыс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жно сохранявшей х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в стужу превращавшей в 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лякоченный черный хо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442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 стихотворении из книг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е рож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эт сравнивает с музыкой любимую женщи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авица моя, вся с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суть твоя мне по серд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рвется музыкою с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ся на рифмы проси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тут Пастернак и открылся! Его поэзия рождена музыкой, его стихи – продолжение мелод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651640" y="2205000"/>
            <a:ext cx="34923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любленная форма контакта Пастернака с музыкой еще с детства была импровизация, хотя за это Скрябин ругал 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ва касая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льцами роя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лел сво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ромтов кан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439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443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ПРОВ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клавишей стаю кормил с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хлопанье крыльев, плеск и клек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ытянул руки, я встал на но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ав завернулся, ночь терлась о локо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было темно. И это был п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олны.- И птиц из породы люблю ва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залось, скорей умертвят, чем умр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кливые, черные, крепкие клю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это был пруд. И было тем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лали кубышки с полуночным дег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было волною обглодано 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лодки. И грызлися птицы у локт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очь полоскалась в гортанях запру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залось, покамест птенец не накормл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амки скорей умертвят, чем умр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лады в крикливом, искривленном гор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2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2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2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20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2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20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2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2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8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 Пастернака изначально музыкален. Известно, что его первое призвание – музыка. Именно ей в своем детстве он хотел посвятить всю жизнь. Так и получилось. ПОЭТ посвятил свою жизнь МУЗЫКЕ: «И каждое слово его – нота, и каждая фраза – мелод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55020528_1265840040_1ef670d517e0"/>
          <p:cNvPicPr/>
          <p:nvPr/>
        </p:nvPicPr>
        <p:blipFill>
          <a:blip r:embed="rId1"/>
          <a:stretch/>
        </p:blipFill>
        <p:spPr>
          <a:xfrm>
            <a:off x="1332000" y="2708280"/>
            <a:ext cx="62802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1:07:36Z</dcterms:created>
  <dc:creator>Пользователь</dc:creator>
  <dc:description/>
  <dc:language>en-US</dc:language>
  <cp:lastModifiedBy>Пользователь</cp:lastModifiedBy>
  <dcterms:modified xsi:type="dcterms:W3CDTF">2013-11-09T17:28:13Z</dcterms:modified>
  <cp:revision>16</cp:revision>
  <dc:subject/>
  <dc:title>« Музыкальное восприятие реального мира поэтом».</dc:title>
</cp:coreProperties>
</file>