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9D4-04B7-426C-987E-64CFF5F0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0F0-AE1F-40C8-8C44-CD353E2A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32F-8A0F-4E0C-B649-10365400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E2A-40F0-47FD-A124-3DA5AADE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234-E6D5-4DDD-884B-15ACAB4C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F5B-2FE0-458E-80D7-3AC84CE7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1B5-F13B-4441-879F-7906F19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AB3-3259-42B2-A0C8-84223D80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30F-DF1A-4897-8288-094CA68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29D-0E54-4A04-8488-00F27E8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CB7-1F37-4E1F-A4AC-FCC24C5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720-175E-479D-8299-83ECB8F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b7f4"/>
            </a:gs>
            <a:gs pos="100000">
              <a:srgbClr val="0660a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886D-D48D-4DD8-A32D-E146713C8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24000" y="476280"/>
            <a:ext cx="853416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616360" cy="479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тернак и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 и музык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льное искусство приковывало внимание русских поэтов, но они были только слушателями, не зная, что «пианисту понятно шныряние ветошни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но не на две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a bre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шире,-на три: в ритме трех вторых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лер штукатурки – определ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а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ные хоры и вер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штукатуренные цеду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5760" y="0"/>
            <a:ext cx="8867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Пастернак мог так точно указать инструментальный эквивалент птичьего п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Щебечет птичка под сурдинку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м музыкальным слухом 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л по паровоз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стку, что поезд от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с Никола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кзала, там все паров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льты и тено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ладовую окрас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ния морских вол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ни шумят в мин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30052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стернак слышал музыку буквально во всем. Вступая в любое чудо сочетаний, музыка чаще всего оказывается рядом с человеком и 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птичка верит, как в за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и рул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пускает на п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не 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932360" y="3141720"/>
            <a:ext cx="38736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ихотворении «Высокая болезнь» Пастернак называет музыкой целое поколение русской интеллиген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й в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говорю про всю сре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ой я имел в в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йти со сцены, и сой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ч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едших кушать чай во ть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ухих лесов, косых зама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йн, не льстящих ником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были музыкою мыс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жно сохранявшей 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 стужу превращавшей в 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якоченный черный хо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44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стихотворении из книг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е рож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эт сравнивает с музыкой любимую женщ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авица моя, вся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суть твоя мне по серд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рвется музыкою 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ся на рифмы прос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тут Пастернак и открылся! Его поэзия рождена музыкой, его стихи – продолжение мело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34923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юбленная форма контакта Пастернака с музыкой еще с детства была импровизация, хотя за это Скрябин ругал 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ва кас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цами роя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лел сво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ромтов кан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3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РОВ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клавишей стаю кормил с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хлопанье крыльев, плеск и кле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ытянул руки, я встал на н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ав завернулся, ночь терлась о лок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темно. И это был 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лны.- И птиц из породы люблю в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кливые, черные, крепкие клю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это был пруд. И было тем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али кубышки с полуночным дег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было волною обглодано 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лодки. И грызлися птицы у лок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чь полоскалась в гортанях запру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лось, покамест птенец не накорм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амки скорей умертвят, чем ум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лады в крикливом, искривленном гор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2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2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2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2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2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 Пастернака изначально музыкален. Известно, что его первое призвание – музыка. Именно ей в своем детстве он хотел посвятить всю жизнь. Так и получилось. ПОЭТ посвятил свою жизнь МУЗЫКЕ: «И каждое слово его – нота, и каждая фраза – мелод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55020528_1265840040_1ef670d517e0"/>
          <p:cNvPicPr/>
          <p:nvPr/>
        </p:nvPicPr>
        <p:blipFill>
          <a:blip r:embed="rId1"/>
          <a:stretch/>
        </p:blipFill>
        <p:spPr>
          <a:xfrm>
            <a:off x="1332000" y="2708280"/>
            <a:ext cx="62802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07:36Z</dcterms:created>
  <dc:creator>Пользователь</dc:creator>
  <dc:description/>
  <dc:language>en-US</dc:language>
  <cp:lastModifiedBy>Пользователь</cp:lastModifiedBy>
  <dcterms:modified xsi:type="dcterms:W3CDTF">2013-11-09T17:28:13Z</dcterms:modified>
  <cp:revision>16</cp:revision>
  <dc:subject/>
  <dc:title>« Музыкальное восприятие реального мира поэтом».</dc:title>
</cp:coreProperties>
</file>