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51A-3D40-402C-801B-78EE9EEF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F21-C8FF-4261-968C-D7B427E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7EC-F684-485A-BE95-8CEDEE84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547-A91C-45E1-8D87-18DEA72F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350-E213-413E-8746-8D826603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F10-6668-4FF8-9C98-AC938E49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812-B01F-4687-8D19-25A2B55A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F7D-214B-4117-AC74-EFC1960D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F58-450F-481A-A05B-C1D6C765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748-842C-476C-A054-19D1DDE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23F-87E4-4062-9545-CDDB0B54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555-BB16-4C50-9D29-54D62E36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b7f4"/>
            </a:gs>
            <a:gs pos="100000">
              <a:srgbClr val="0660a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EB59-F8A6-4F6C-A1F5-C2F57414F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24000" y="476280"/>
            <a:ext cx="853416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16360" cy="479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стернак и 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эт и музык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льное искусство приковывало внимание русских поэтов, но они были только слушателями, не зная, что «пианисту понятно шныряние ветошниц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не на две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a bre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шире,-на три: в ритме трех вторых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лер штукатурки – определ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а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пные хоры и вер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штукатуренные цеду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5760" y="0"/>
            <a:ext cx="8867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Пастернак мог так точно указать инструментальный эквивалент птичьего п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Щебечет птичка под сурдинку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м музыкальным слухом 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л по паровоз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стку, что поезд от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с Никола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кзала, там все паров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ьты и тено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ладовую окрас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ния морских вол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ни шумят в мин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30052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ернак слышал музыку буквально во всем. Вступая в любое чудо сочетаний, музыка чаще всего оказывается рядом с человеком и 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тичка верит, как в за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и рул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 пускает на п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не 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38736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ихотворении «Высокая болезнь» Пастернак называет музыкой целое поколение русской интеллиген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й во ль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говорю про всю ср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торой я имел в в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йти со сцены, и сой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ю ча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едших кушать чай во т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ухих лесов, косых зама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йн, не льстящих нико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ю мыс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жно сохранявшей 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 стужу превращавшей в 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лякоченный черный хо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42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 стихотворении из книг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е рож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эт сравнивает с музыкой любимую женщ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авица моя, вся 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суть твоя мне по серд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рвется музыкою 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я на рифмы прос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тут Пастернак и открылся! Его поэзия рождена музыкой, его стихи – продолжение мело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34923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юбленная форма контакта Пастернака с музыкой еще с детства была импровизация, хотя за это Скрябин ругал 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ва касая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цами роя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лел сво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ромтов кан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РОВ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клавишей стаю кормил с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хлопанье крыльев, плеск и клек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ытянул руки, я встал на н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ав завернулся, ночь терлась о локо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о темно. И это был 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лны.- И птиц из породы люблю в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лось, скорей умертвят, чем ум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кливые, черные, крепкие клю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это был пруд. И было тем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али кубышки с полуночным дег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о волною обглодано 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лодки. И грызлися птицы у лок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очь полоскалась в гортанях запру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лось, покамест птенец не накорм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амки скорей умертвят, чем ум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лады в крикливом, искривленном гор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2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2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2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2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2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Пастернака изначально музыкален. Известно, что его первое призвание – музыка. Именно ей в своем детстве он хотел посвятить всю жизнь. Так и получилось. ПОЭТ посвятил свою жизнь МУЗЫКЕ: «И каждое слово его – нота, и каждая фраза – мелод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55020528_1265840040_1ef670d517e0"/>
          <p:cNvPicPr/>
          <p:nvPr/>
        </p:nvPicPr>
        <p:blipFill>
          <a:blip r:embed="rId1"/>
          <a:stretch/>
        </p:blipFill>
        <p:spPr>
          <a:xfrm>
            <a:off x="1332000" y="2708280"/>
            <a:ext cx="62802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07:36Z</dcterms:created>
  <dc:creator>Пользователь</dc:creator>
  <dc:description/>
  <dc:language>en-US</dc:language>
  <cp:lastModifiedBy>Пользователь</cp:lastModifiedBy>
  <dcterms:modified xsi:type="dcterms:W3CDTF">2013-11-09T17:28:13Z</dcterms:modified>
  <cp:revision>16</cp:revision>
  <dc:subject/>
  <dc:title>« Музыкальное восприятие реального мира поэтом».</dc:title>
</cp:coreProperties>
</file>