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34ED2-C876-439A-A070-51CBF4EC7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BFAF-63BC-43CB-9B20-BFF9577B3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D74D7-44E8-43B9-8302-45E31F19E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D9FCE-1B8A-4318-B8E1-B00AAAE8A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586B6-6960-4B38-AE57-C9F7144D5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96253-736F-47A4-A607-7E6942F13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82F44-EA90-46EC-8EFD-F0246EC2B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BB75B-95BA-45FF-B192-EC589DF78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A892A-6BEB-4808-BC56-C1C97C533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28F7A-D46E-4334-AC59-C66FF6518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D03A7-F2DE-4B42-B767-440F6018E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2FED6-07A4-42BD-862D-C484BE277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1F8FB-62B0-4D5D-B0DE-264E1B77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BA1EC-1646-4847-A7BD-2F8F7324D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F1013-7E43-43EF-A8F3-856261657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51DB5-3B12-48EE-8EC2-007A45FA9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72E02-C9BB-4847-BB92-835BA0A20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3C210-817F-4D51-8E23-E50C8D8F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80C2-CC90-489A-9C17-3235EA00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A76C7-95F7-4994-8121-71E74BA57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14251-2E5C-47C7-BE34-3FF27700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60DA-764F-4CF2-B032-E3ECD8C0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A491-8371-4006-9651-3C84E9424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8658-F2B4-4F87-8599-A6362A0FF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CFA2-7625-43C6-9736-8290606FFE0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1763-CBD4-41C7-9FF5-53EA1643474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333000"/>
            <a:ext cx="7920000" cy="303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Влияние лыжного спорта на развитие физических качеств подростков 15-17 лет</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 descr=""/>
          <p:cNvPicPr/>
          <p:nvPr/>
        </p:nvPicPr>
        <p:blipFill>
          <a:blip r:embed="rId1"/>
          <a:stretch/>
        </p:blipFill>
        <p:spPr>
          <a:xfrm>
            <a:off x="0" y="3244680"/>
            <a:ext cx="9144000" cy="361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8"/>
                                        </p:tgtEl>
                                        <p:attrNameLst>
                                          <p:attrName>style.visibility</p:attrName>
                                        </p:attrNameLst>
                                      </p:cBhvr>
                                      <p:to>
                                        <p:strVal val="visible"/>
                                      </p:to>
                                    </p:set>
                                    <p:animEffect filter="wedg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90"/>
                                        </p:tgtEl>
                                        <p:attrNameLst>
                                          <p:attrName>style.visibility</p:attrName>
                                        </p:attrNameLst>
                                      </p:cBhvr>
                                      <p:to>
                                        <p:strVal val="visible"/>
                                      </p:to>
                                    </p:set>
                                    <p:animEffect filter="dissolve"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ction="ppaction://hlinksldjump"/>
              </a:rPr>
              <a:t>Сила и выносливость мышц зависит от композиции мышечных волокон, чем больше процент медленных волокон, тем выше статическая выносливость. Соотношение между быстрыми и медленными волокнами у разных людей сильно варьирует – от 25% до 90%. Лыжник-гонщик экстра-класса должен иметь 70-90% медленно сокращающихся волоко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1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Опыт показал, что на этом пути юный лыжник должен переходить от одного этапа развития выносливости к другом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а) развитие общей выносливости средствами ОФП (игры, эстафеты, различные виды спорт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3" action="ppaction://hlinksldjump"/>
              </a:rPr>
              <a:t>б) развитие общей выносливости длительными упражнениям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4" action="ppaction://hlinksldjump"/>
              </a:rPr>
              <a:t>в) совершенствование мышечной выносливос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5" action="ppaction://hlinksldjump"/>
              </a:rPr>
              <a:t>г) постепенное повышение скорости передвижения по дистанци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6" action="ppaction://hlinksldjump"/>
              </a:rPr>
              <a:t>д) усложнение рельефа дистанци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7" action="ppaction://hlinksldjump"/>
              </a:rPr>
              <a:t>е) совершенствование выносливости на фоне утомления, предварительно создаваемого соответствующими упражнения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2"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ыжная подготовка – обязательный минимум занятий на лыжах по физическому воспитанию в общеобразовательных школах, профессионально-технических училищах, средних и высших учебных заведениях различного профиля, в Вооруженных Силах страны; рекомендуется в качестве спортивного развлечения включать в занятия по физическому воспитанию в дошкольных учреждениях и передвижения на лы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Лыжная подготовка проводится на основании государственных программ и обеспечивает обучение детей, подростков, юношей, девушек и всего взрослого населения страны технике передвижения на лыжах, выполнение учебных и контрольных нормативов, в том числе и нормативов любого комплекса, характеризующего физическую подготовленность всех возрастных групп страны. В процессе лыжной подготовки приобретается обязательный минимум занятий по основам техники передвижения на лыжах, методов развития общей работоспособности, подготовки к соревнованиям и т.д.;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ыжный спорт – один из самых массовых видов спорта, культивируемых в РФ. Наибольшей популярностью в силу доступности и характера воздействия на организм пользуется лыжная гонка на различные дистанции. Главная задача занятий лыжным спортом – достижение физического совершенства и наиболее высоких спортивных результатов, что и является основным отличием спорта от других видов занятий лыж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8"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портивная подготовка лыжника – это специализированный педагогический процесс, направленный на достижение высоких результатов. Достижение наивысших результатов – процесс длительный, путь от новичка до мастера спорта в лыжных гонках занимает от 6 до 8 лет целенаправленной и систематической подготовки. Основная цель системы подготовки в лыжном спорте – это достижение высоких результатов в соответствии с динамикой возрастного развития и закономерностями становления спортивного мастерств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0"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процессе многолетней подготовки вся деятельность спортсмена подчинена достижению наивысших результатов в лыжном спорте. В этом и заключается основное отличие подготовки в лыжном спорте от различных форм занятий на лыжах, где перед преподавателем стоят другие цели и в связи с этим решаются другие задачи (например, в лыжной подготовке и в различных физкультурно-массовых оздоровительных мероприятиях).</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2"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уществует две основные формы организации занятий по лыжной подготовке и лыжному спорту: </a:t>
            </a:r>
            <a:r>
              <a:rPr b="0" lang="en-US" sz="2000" spc="-1" strike="noStrike" u="sng">
                <a:solidFill>
                  <a:srgbClr val="ffffff"/>
                </a:solidFill>
                <a:uFillTx/>
                <a:latin typeface="Tahoma"/>
              </a:rPr>
              <a:t>урочный</a:t>
            </a:r>
            <a:r>
              <a:rPr b="0" lang="en-US" sz="2000" spc="-1" strike="noStrike">
                <a:solidFill>
                  <a:srgbClr val="ffffff"/>
                </a:solidFill>
                <a:latin typeface="Tahoma"/>
              </a:rPr>
              <a:t> (уроки лыжной подготовки и учебно-тренировочные уроки в школьной секции и ДЮСШ) и </a:t>
            </a:r>
            <a:r>
              <a:rPr b="0" lang="en-US" sz="2000" spc="-1" strike="noStrike" u="sng">
                <a:solidFill>
                  <a:srgbClr val="ffffff"/>
                </a:solidFill>
                <a:uFillTx/>
                <a:latin typeface="Tahoma"/>
              </a:rPr>
              <a:t>внеурочные</a:t>
            </a:r>
            <a:r>
              <a:rPr b="0" lang="en-US" sz="2000" spc="-1" strike="noStrike">
                <a:solidFill>
                  <a:srgbClr val="ffffff"/>
                </a:solidFill>
                <a:latin typeface="Tahoma"/>
              </a:rPr>
              <a:t> (организованные групповые, самодеятельные групповые и самостоятельные индивидуальные занятия). Наиболее широкое распространение получили урочные формы занятий. Урок лыжной подготовки является основной формой организации учебного процесса, в ходе которого обеспечивается решение важнейших задач физического воспитания школьников. На уроках в процессе лыжной подготовки проводится обучение разным способам передвижения на лыжах, идет работа по развитию физических и морально-волевых качеств занимающихся. Главными характерными чертами урока всегда является руководящая роль учителя и единство решения образовательных, воспитательных и оздоровительных задач. Урок всегда проводится при постоянном составе занимающихся одной возрастной группы (кроме сельских малокомплектных школ, где могут быть уроки для учащихся разного возраст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спешное решение задач физического воспитания школьников во многом зависит от правильного сочетания урочных форм занятий по лыжной подготовке с широкими физкультурно-массовыми мероприятиями по лыжному спорту.</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спешное решение задач урока лыжной подготовки во многом зависит от предварительной подготовки материальной базы, мест занятий, учебной документации и разъяснительной работы с учащимися и родителя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ажную роль играет и непосредственная, личная подготовка учителя, правильная организация урока. На уроках в школе решаются основные образовательные, воспитательные и оздоровительные задачи, предусмотренные программами по физической культуре для общеобразовательных школ в целом и разделом «Лыжная подготовка» в частности. В ходе уроков по лыжной подготовке все эти задачи конкретизируются с учетом возрастных анатомо-физиологических и психологических особенностей школьников. На уроке лыжной подготовки решаются следующие основные задачи: обучение школьников способам передвижения на лыжах; оздоровление и закаливание учащихся, развитие важнейших физических качеств (выносливость, сила, ловкость и др.); воспитание морально-волевых качеств (смелости, настойчивости, дисциплинированности и др.); привитие устойчивого интереса к систематическим занятиям на лыжах; воспитание навыков и умений, необходимых для самостоятельных занятий, и т.д.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лан.</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0" lang="en-US" sz="2800" spc="-1" strike="noStrike" u="sng">
                <a:solidFill>
                  <a:srgbClr val="ffcc66"/>
                </a:solidFill>
                <a:uFillTx/>
                <a:latin typeface="Tahoma"/>
                <a:hlinkClick r:id="rId1" action="ppaction://hlinksldjump"/>
              </a:rPr>
              <a:t>Анатомо-физиологические особенности детей 15-17 лет</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0" lang="en-US" sz="2800" spc="-1" strike="noStrike" u="sng">
                <a:solidFill>
                  <a:srgbClr val="ffcc66"/>
                </a:solidFill>
                <a:uFillTx/>
                <a:latin typeface="Tahoma"/>
                <a:hlinkClick r:id="rId2" action="ppaction://hlinksldjump"/>
              </a:rPr>
              <a:t>Особенности физического развития при занятиях спортом</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Особенности организации лыжной подготовки в учебных заведениях</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Вывод</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Литерату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Вывод</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аким образом, для проведения уроков лыжной подготовки в учебных заведениях необходимо тщательная подготовка учителя к занятиям, четко поставленные цели и задачи которых необходимо достич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Литература</a:t>
            </a:r>
            <a:endParaRPr b="0" lang="en-US" sz="4400" spc="-1" strike="noStrike">
              <a:solidFill>
                <a:srgbClr val="ffffcc"/>
              </a:solidFill>
              <a:latin typeface="Tahoma"/>
            </a:endParaRPr>
          </a:p>
        </p:txBody>
      </p:sp>
      <p:sp>
        <p:nvSpPr>
          <p:cNvPr id="130" name="PlaceHolder 2"/>
          <p:cNvSpPr>
            <a:spLocks noGrp="1"/>
          </p:cNvSpPr>
          <p:nvPr>
            <p:ph/>
          </p:nvPr>
        </p:nvSpPr>
        <p:spPr>
          <a:xfrm>
            <a:off x="-360" y="1483920"/>
            <a:ext cx="9325080" cy="5373720"/>
          </a:xfrm>
          <a:prstGeom prst="rect">
            <a:avLst/>
          </a:prstGeom>
          <a:noFill/>
          <a:ln w="0">
            <a:noFill/>
          </a:ln>
        </p:spPr>
        <p:txBody>
          <a:bodyPr lIns="90000" rIns="90000" tIns="46800" bIns="46800" anchor="t">
            <a:normAutofit fontScale="97000"/>
          </a:bodyPr>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Аграновский М.А. Лыжный спорт: Учеб. для студентов физической культуры. – М., 1980</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Антонова О.Н. Кузнецов В.С. Лыжная подготовка: Методика преподавания: Учеб. пособие для студ. сред. пед. учеб. заведений. – М., 1999.- 208 с.</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Бутин И.М. Лыжный спорт: Учеб. пособие для студ. высш. пед. учеб. заведений. – М.: Академия, 2000.- 368 с.</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 Головина Л.Л. Физиологическая характеристика лыжного спорта. – М., 1981</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5. Гужаловский А.А. Развитие физических качеств у школьников. – Минск, 1987</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6. Гуревич И.А. Круговая тренировка при развитии физических качеств. – Минск,198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74680"/>
            <a:ext cx="83628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Современный спорт отличается острейшей борьбой, высоким уровнем спортивных достижений, невиданным ростом физических возможностей человека. Высокий уровень спортивных достижений предъявляет особые требования к качеству подготовки спортсмена. Одно из основных условий высокой эффективности системы подготовки спортсменов заключается в строгом учете возрастных и индивидуальных анатомо-физиологических особенностей, характерных для отдельных этапов развития детей и подрост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endParaRPr b="0" lang="en-US" sz="4000" spc="-1" strike="noStrike">
              <a:solidFill>
                <a:srgbClr val="ffffcc"/>
              </a:solidFill>
              <a:latin typeface="Tahoma"/>
            </a:endParaRPr>
          </a:p>
        </p:txBody>
      </p:sp>
      <p:sp>
        <p:nvSpPr>
          <p:cNvPr id="96"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дним из основных критериев биологического возраста считается скелетная зрелость, или «костный» возраст. В старшем школьном возрасте наблюдается значительное усиление роста позвоночника, продолжающееся до периода полного развития. Быстрее всех отделов позвоночника развивается поясничный, а медленнее – шейный. Окончательной высоты позвоночник достигает к 25 годам. Рост позвоночника по сравнению с ростом тела отстает. Это объясняется тем, что конечности растут быстрее позвоночника. В 15-16 лет начинается окостенение верхних и нижних поверхностей позвоночника, грудины и срастание ее с ребрами. Позвоночный столб становиться более прочным, а грудная клетка продолжает усиленно развиваться, они уже менее подвержены деформации и способны выдерживать даже значительные нагруз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К 15-16 годам срастаются нижние сегменты тела грудины. В 15-17 лет увеличивается преимущественно подвижность грудной клетки в отличие от предыдущих периодов роста грудной клетки.</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Окостенение костей предплюсны весьма длительный процесс, начинающийся на 4-8 месяце эмбриогенеза, т.е. значительно раньше костей запястья, и заканчивается только на 12-19 год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59920"/>
            <a:ext cx="856944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0" y="1557000"/>
            <a:ext cx="9144000" cy="511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собенности физического развития школьников в связи с возрастом и под влиянием систематических занятий физическими упражнениями имеет немаловажное значение для правильного решения многих вопросов педагогической практики. В результате исследований врачей, физиологов и педагогов накоплено большое количество данных, характеризующих возрастные особенности организма детей, подростков и юношей при занятиях физической культурой и спорто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ction="ppaction://hlinksldjump"/>
              </a:rPr>
              <a:t>Полученные данные важны при решении педагогических проблем физического воспитания школьников, поскольку на базе представлений о закономерностях возрастного развития организма и влияния, оказываемого на него физическими упражнениями, должны решать принципиальные вопросы организации и методики заняти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Специальное воздействие физических упражнений на организм человека с целью развития определенных качеств должно быть согласовано с естественным ходом возрастного развития организма. Чаще всего воздействие с целью активного влияния на развитие тех или иных качеств должно совпадать с периодом, когда в организме развиваются те его стороны, от которых зависит данное качество. Формирование двигательной функции человека тесно связано со становлением высшей нервной деятельностью, формированием нервно-мышечного аппарата и его функций, развитием внутренних органов и процессов обмена веществ. Неравномерность морфологического и функционального развития отдельных органов и систем лежит в основе особенности их взаимосвязи на разных этапах онтогенез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1" action="ppaction://hlinksldjump"/>
              </a:rPr>
              <a:t>Возрастные изменения носят неравномерный характер. Периоды ускоренного развития чередуются с периодами замедления и относительной стабилизации. Индивидуальное развитие организма происходит </a:t>
            </a:r>
            <a:r>
              <a:rPr b="0" lang="ru-RU" sz="2000" spc="-1" strike="noStrike" u="sng">
                <a:solidFill>
                  <a:srgbClr val="ffcc66"/>
                </a:solidFill>
                <a:uFillTx/>
                <a:latin typeface="Tahoma"/>
                <a:hlinkClick r:id="rId2" action="ppaction://hlinksldjump"/>
              </a:rPr>
              <a:t>гетерохронно</a:t>
            </a:r>
            <a:r>
              <a:rPr b="0" lang="ru-RU" sz="2000" spc="-1" strike="noStrike" u="sng">
                <a:solidFill>
                  <a:srgbClr val="ffcc66"/>
                </a:solidFill>
                <a:uFillTx/>
                <a:latin typeface="Tahoma"/>
                <a:hlinkClick r:id="rId3" action="ppaction://hlinksldjump"/>
              </a:rPr>
              <a:t>, т.е. различные органы и системы формируются в различные сроки. В отдельные периоды жизни, например в период полового созревания, гетерохрония может усилитьс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4" action="ppaction://hlinksldjump"/>
              </a:rPr>
              <a:t>В условиях современной цивилизации, в условиях снижения естественной двигательной активности наиболее эффективным, целенаправленным воздействием на организм следует считать систематические занятия физическими упражнения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5" action="ppaction://hlinksldjump"/>
              </a:rPr>
              <a:t>Спортивная тренировка обеспечивает усиленный рост мышечной работоспособности. По мере повышения тренированности организма соответственно возрастает мышечная работоспособность. Юные спортсмены, по сравнению со своими сверстниками, не занимающимися спортом, обладают большей работоспособностью, выносливостью. При этом, чем старше возраст юных спортсменов и чем выше квалификация, тем больше различия в работоспособности, между занимающимися и не занимающимися спортом, наблюдаются у девочек.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6"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тмеченное с 15 до 16 лет вторичное повышение силы можно объяснить, вероятно, завершением пубертатного периода, когда все органы и системы человека достигают высокого уровня совершенствован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ction="ppaction://hlinksldjump"/>
              </a:rPr>
              <a:t>Лыжные гонки предъявляют высокое требование к выносливости, скоростно-силовой и силовой подготовке лыжника. Для эффективного преодоления современной трассы лыжнику-гонщику требуется высокоразвитая спецификация силы мышц нижних и верхних конечностей. У лыжника-гонщика такими мышцами являются разгибатели бедра (четырехглавая мышца бедра), голени, разгибатели плеча (трехглавая мышца плеча) и мышцы туловища (широчайшие мышцы спины и большая круглая мышц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14:23:20Z</dcterms:created>
  <dc:creator>Руслан</dc:creator>
  <dc:description/>
  <dc:language>en-US</dc:language>
  <cp:lastModifiedBy>Руслан</cp:lastModifiedBy>
  <dcterms:modified xsi:type="dcterms:W3CDTF">2012-01-04T21:07:52Z</dcterms:modified>
  <cp:revision>2</cp:revision>
  <dc:subject/>
  <dc:title>Слайд 1</dc:title>
</cp:coreProperties>
</file>