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7F7-1AE2-4017-84D8-4CE0598C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09F-D492-4795-98D0-2D05D4EB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F2C-33CF-46E5-B4B0-FD42EFB8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1EC-099B-417D-AE6B-51AC2917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276CE-6CBA-48EE-A582-BD2DB241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0B75C-89B4-49F7-978C-3F0B9128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6A9B3-3B6C-4803-AC2F-77FA4CA4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33178-9BCE-4BFD-AC79-14C7B3CB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CFBB1-0D8C-4CFE-9B61-52FD2525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2C776-37FF-4051-B58C-48915CF9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F143B-6C50-4B40-B445-4A50069E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4E3-D69F-47D9-8881-15FA796F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9728D-4B59-4816-BC5C-0920A601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2428B-238F-4A5B-9F2A-3A0C949C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DC82F-FADA-43C5-A9EE-03EA2109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BF56E-42CE-491A-8C81-7CABA3BB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155A9-120B-45C0-94CB-9394307B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61D-4FFA-440C-843B-2283CF49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AE8-02F3-43A5-887A-9C3EB97C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6B7-1ABE-4948-B29B-F48B5272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D62-6670-4BE7-BDE5-4A0F6DE6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085-8CCA-410B-96E6-8A63BE23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63B-7387-4057-9B43-64382197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E39-F6E1-43BE-B8DF-EF472F88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6FF2-62DB-44A2-AD68-A2AFCE0F49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A8E7-1822-457F-80C2-788B41BD50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8"/>
          <p:cNvSpPr txBox="1"/>
          <p:nvPr/>
        </p:nvSpPr>
        <p:spPr>
          <a:xfrm>
            <a:off x="0" y="1484280"/>
            <a:ext cx="914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Тема:Постэмбриональный период разви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репить знания об эмбриональном развитии орг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ширить знание учящихся о закономерностях послезародышевого развития ограниз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вать умение работать с разными источниками инфор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ормировать у старшеклассников познавательный интерес к изучению проблем, связанных с послезародышевым развитием орг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468360" y="115920"/>
            <a:ext cx="338292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Цели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ктронное учебное издание(мультимедийное приложение к учебнику Н.И. Сонина, «Общая биология» 9 класс)коллекции по развитию насекомых учебник страница 162-166,таблицы по развитию насеком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79280" y="115920"/>
            <a:ext cx="360072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борудов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468360" y="189000"/>
            <a:ext cx="73818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сновные понятия и термины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84360" y="198900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755640" y="1989000"/>
            <a:ext cx="691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эмбриональный период разви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йцевые оболо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аморфо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145872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эмбриональный период развития протекает у всех организмов по зарному,у человека-от рождения до конца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0" y="0"/>
            <a:ext cx="91440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Личностная значимость изучаемого для школьни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0:27:30Z</dcterms:created>
  <dc:creator>ki_1</dc:creator>
  <dc:description/>
  <dc:language>en-US</dc:language>
  <cp:lastModifiedBy>Коля</cp:lastModifiedBy>
  <dcterms:modified xsi:type="dcterms:W3CDTF">2013-05-16T21:41:54Z</dcterms:modified>
  <cp:revision>4</cp:revision>
  <dc:subject/>
  <dc:title>Тема:ПостЭмбриональный период разви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