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4BC-4772-4A91-85BF-49739A99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AC4-8A1D-4F0E-8FF0-745DEE3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32F-6EF8-405B-9E59-82CEB844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122-4F15-411C-8770-C869A11A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5F39-9ACF-4CE7-9221-E2DDD132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F72E-142F-4B68-9595-D7F0755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4FFAA-B4BC-4FFE-89F9-70EF619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7C6F-8590-4100-AFF8-EF99781C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CDC6-025A-48C8-B8F4-2AE39E4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D22E-FBD1-420C-BACC-21B39CD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151E-F3A6-4151-AB43-DAE20CD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BB6-6F2F-4374-984E-9C06094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1A2B-E4DA-4EE4-8372-2ABED851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0684-5E63-4F86-9158-680A7AB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3611-7ADB-4661-AFB1-D492940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95A2-2EB5-49ED-94FE-0EFF58B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4351A-0839-48AE-9ED1-A0FB7E0E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BFC-918D-4B80-9EA9-E7FD851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96C-4CC4-45FB-8DEA-A3E909F2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230-1617-4FC7-B0E7-717ADF1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85E-1D58-4627-AFDD-96AA774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0A2-22EB-4B79-A615-30FBD94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917-AA24-4FF4-9A78-B00B608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12E-F713-4078-9CA4-7CED2A7E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F4A-3B87-4B28-89AB-FBE6BD290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36B9-0C55-4E31-A48C-282A7201C7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0" y="1484280"/>
            <a:ext cx="914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а:Постэмбриональный период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знания об эмбриональном развитии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ить знание учящихся о закономерностях послезародышевого развития огр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работать с разными источникам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ть у старшеклассников познавательный интерес к изучению проблем, связанных с послезародышевым развитие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468360" y="115920"/>
            <a:ext cx="33829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онное учебное издание(мультимедийное приложение к учебнику Н.И. Сонина, «Общая биология» 9 класс)коллекции по развитию насекомых учебник страница 162-166,таблицы по развитию насеком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79280" y="115920"/>
            <a:ext cx="36007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борудов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68360" y="189000"/>
            <a:ext cx="73818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новные понятия и термины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84360" y="1989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1989000"/>
            <a:ext cx="69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эмбриональный период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вые оболо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морф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4587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мбриональный период развития протекает у всех организмов по зарному,у человека-от рождения до конца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Личностная значимость изучаемого для школьни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0:27:30Z</dcterms:created>
  <dc:creator>ki_1</dc:creator>
  <dc:description/>
  <dc:language>en-US</dc:language>
  <cp:lastModifiedBy>Коля</cp:lastModifiedBy>
  <dcterms:modified xsi:type="dcterms:W3CDTF">2013-05-16T21:41:54Z</dcterms:modified>
  <cp:revision>4</cp:revision>
  <dc:subject/>
  <dc:title>Тема:ПостЭмбриональный период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