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ED5-17DF-4E1A-A484-FD011F7C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BC8-8226-4B22-BA76-B06E71E3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5FE-4892-4A23-AF9D-487C49C6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ABF5-2586-4DD3-B39F-9BA177A4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0BE8C-D2DC-4F6C-86F7-12EE4B47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CCDF6-2CF7-4C83-8D4F-46D30F65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714EA-8C0C-434C-AA36-FA70E2C9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B6CAB-67D6-47F5-B355-AF8F7F97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D5915-8156-4C1C-A6B2-EDA12456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FBD04-716F-4467-AB28-E8E4A754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48680-7235-4B75-9C9D-1C7EF291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CEF-F857-4967-82A1-F1FB448E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D6E07-4EDA-4A15-8195-FB995C53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D9DEF-2F0E-42E8-99CE-2A76B027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AC3D9-14D3-4B0A-BAA6-A89ABDA9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16B59-1C56-44FC-9AD1-21F45862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2658F-23D6-4BFB-819B-1D1DAD1D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F895-6BB8-437A-84F7-A5ECAF75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898-79EB-48AE-ABCE-D824F8AB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217-4B04-4D30-B9F1-48890FE6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750-668E-47AA-BA59-39AE8C10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C732-4C5B-469F-800E-3D293F1C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5E1-59C8-4410-97C4-2A8C9E3B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F85D-9462-4D0B-8577-40B56FF9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CFB8-C18D-435E-ADD8-FE1B5C354A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B81F-EEEA-424A-8AC3-2A995D9EAE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8"/>
          <p:cNvSpPr txBox="1"/>
          <p:nvPr/>
        </p:nvSpPr>
        <p:spPr>
          <a:xfrm>
            <a:off x="0" y="1484280"/>
            <a:ext cx="9144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Тема:Постэмбриональный период развит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репить знания об эмбриональном развитии орг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ширить знание учящихся о закономерностях послезародышевого развития ограниз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вать умение работать с разными источниками информ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формировать у старшеклассников познавательный интерес к изучению проблем, связанных с послезародышевым развитием орг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468360" y="115920"/>
            <a:ext cx="3382920" cy="11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Цели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ктронное учебное издание(мультимедийное приложение к учебнику Н.И. Сонина, «Общая биология» 9 класс)коллекции по развитию насекомых учебник страница 162-166,таблицы по развитию насеком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179280" y="115920"/>
            <a:ext cx="360072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борудов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468360" y="189000"/>
            <a:ext cx="738180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сновные понятия и термины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84360" y="198900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755640" y="1989000"/>
            <a:ext cx="691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эмбриональный период разви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йцевые оболоч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аморфо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145872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эмбриональный период развития протекает у всех организмов по зарному,у человека-от рождения до конца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0" y="0"/>
            <a:ext cx="91440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Личностная значимость изучаемого для школьни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0:27:30Z</dcterms:created>
  <dc:creator>ki_1</dc:creator>
  <dc:description/>
  <dc:language>en-US</dc:language>
  <cp:lastModifiedBy>Коля</cp:lastModifiedBy>
  <dcterms:modified xsi:type="dcterms:W3CDTF">2013-05-16T21:41:54Z</dcterms:modified>
  <cp:revision>4</cp:revision>
  <dc:subject/>
  <dc:title>Тема:ПостЭмбриональный период разви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