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A7F9-C06C-48B3-A0FE-1F6BABAE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6C82-6066-4ACA-BBAA-207F9A57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7F53-B7A3-49AA-8A0B-9215372C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E7D5-E90B-426A-8873-915CD701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557C-E78C-4E24-9EFF-FE430804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78C2-E89B-421C-96EE-E2A9E807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B604-921F-40E1-B468-80C90C55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C9A7-ED11-481B-9613-ABDF2CC1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E8EB-B9DA-4C57-B32F-B4DD8EFF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FFDD-EF75-4CE0-8AE5-2F9B8EDE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7DA3-661F-4E14-9EE3-2761766A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7788-B5A7-44F8-9E78-89F05285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1F47-7774-45F4-9892-DF37EE1E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7ACD-1095-4A5A-B874-384206EF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2192-A206-4BF6-98FC-EEBE9548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49F9-EF46-4955-A99E-8498EE90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19CF-9CDD-4527-9606-27052CE9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754-9032-4E28-841A-0A34ED64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44B3-E8F3-4CF1-A672-91F7AFBE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6F12-F22B-45DC-BC91-512A4A20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AD2C-0431-40BB-9042-BF2C865C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5A0C-CDD4-4909-8ADD-A888EA3B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29D7-1F5D-4171-99B4-B135CF45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3727-8450-41A5-AEAE-F97E3EE8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5AF3-DBF5-4356-B0A8-9E752191DDD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0C58-405F-4A4A-9BC1-01BD3E5D5742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i?id=35864927&amp;tov=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WordArt 5"/>
          <p:cNvSpPr txBox="1"/>
          <p:nvPr/>
        </p:nvSpPr>
        <p:spPr>
          <a:xfrm>
            <a:off x="685800" y="609480"/>
            <a:ext cx="80773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нтересует ли спорт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ынешнему поколению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6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И снова старый добрый приятель –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хоккей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 Равно как и фигурное катание, данный спорт постоянно находится в десятке самых из самых. Одним словом, он всегда в мод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5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йнтболл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 Уж если кто из родителей захочет найти общий язык с детьми, так лучше всего это сделать на пейнтболле. Чрезвычайно популярный вид спорта, как среди взрослого поколения, так и среди подростков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4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Художественная гимнастика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. Один из самых прекрасных и сексуальных видов спорта не потерял свою актуальность и в наши дн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. В общем-то, успехи, победы и красивая пластика тела заставляют девчонок идти в этот вид. Правда, назвать его модно-молодежным можно лишь с натяжкой, потому, что в него приходят девчонки от 5 лет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3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ноубордисты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– это хорошо. И зря сноуборд всегда позиционируют как развлечение для богатеньких. Да, доска конечно, не из дешевых спорттоваров будет, но и обмундирование по такому летнему виду спорта, как большой теннис, довольно дорогое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2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Байк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. Не путать, байкеры – большие волосатые мужчины на мотоциклах, а байк – это экстремальный велоспорт. Наиболее моден и популярен больше в Южных регионах России, таких как Краснодарский край, но учитывая, что в последнее время крытых дворцов по экстремальным видам спорта было построено не меньше ледовых дворцов, за последние три года интерес и количество задействованных в нем лиц резко возросли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1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у и первое, топовое место занимает среди подростков –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кейт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 Как и во многих других странах, в частности США, этот спорт наиболее популярен и у нас. Правда королевство маловато, разгуляться нам негде, легко балансировать по пешехожим бульварам не получится. Но красота требует жертв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Юность-М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5"/>
          <p:cNvSpPr/>
          <p:nvPr/>
        </p:nvSpPr>
        <p:spPr>
          <a:xfrm>
            <a:off x="0" y="5622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Опрос показал, что лишь 34% школьников занимаются в спортивных секциях и группах. Причем среди мальчиков этот показатель составляет примерно 55%, а среди девочек - всего 19%. С возрастом, за пять лет - от 12 до 17 лет, этот показатель снижается у мальчиков с 62,5 до 47%, а у девушек с 22,5 до 16%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Локомотив"/>
          <p:cNvPicPr/>
          <p:nvPr/>
        </p:nvPicPr>
        <p:blipFill>
          <a:blip r:embed="rId1"/>
          <a:stretch/>
        </p:blipFill>
        <p:spPr>
          <a:xfrm>
            <a:off x="0" y="0"/>
            <a:ext cx="4419720" cy="2916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Кубок-ДЮКФП-по-баскетболу-юноши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3527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дзюдо-"/>
          <p:cNvPicPr/>
          <p:nvPr/>
        </p:nvPicPr>
        <p:blipFill>
          <a:blip r:embed="rId3"/>
          <a:stretch/>
        </p:blipFill>
        <p:spPr>
          <a:xfrm>
            <a:off x="0" y="3048120"/>
            <a:ext cx="4952880" cy="3268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Улица"/>
          <p:cNvPicPr/>
          <p:nvPr/>
        </p:nvPicPr>
        <p:blipFill>
          <a:blip r:embed="rId4"/>
          <a:stretch/>
        </p:blipFill>
        <p:spPr>
          <a:xfrm>
            <a:off x="4952880" y="3352680"/>
            <a:ext cx="373392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Узнать, интересует ли спорт нынешнему поколению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акие виды спорта привлекают нашу молодёжь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0" y="38304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Среди причин, по которым подростки не занимаются спортом, следующие: нет фитнес-центров и аквапарков по доступным ценам (15,0%), отсутствуют льготы на билеты на спортивные соревнования и мало спортивных секций по месту жительства (по 14,5%), нет условий для самостоятельных занятий (10,8%), отсутствуют пункты проката спортивного инвентаря (8,5%), мало крупных зрелищных мероприятий (7,8%), мало современных видов спорта (6,6%), а предлагаемые виды однообразны (6,1%). При этом коэффициент количества причин на одного респондента составил в среднем 1,6.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4"/>
          <p:cNvSpPr txBox="1"/>
          <p:nvPr/>
        </p:nvSpPr>
        <p:spPr>
          <a:xfrm>
            <a:off x="152280" y="1295280"/>
            <a:ext cx="883944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Rounded MT Bold"/>
              </a:rPr>
              <a:t>Популярные виды подросткового спорт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10 место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следнее место в этой десятке отдано подростками, как ни странно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футболу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 Да, да! Футбол всегда был популярен в нашей стране и не только среди взрослых. Просто, если сравнивать подростков Британии и отечественных, то этот вид спорта значительно уступает по популярности его собрату с Туманного Альбиона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9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тарое доброе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фигурное катание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Прекрасный вид спорта, который вот уже 55 лет не покидает десятку ведущих спортивных дисциплин Российской федерации, становясь то первым, то последним. Причин повышения-понижения популярности фигурного катания множество: и победы великих пар Роднина-Зайцев, Букин-Бестемьянова с одной стороны; и временный застой в этой тематике в определенные годы с другой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8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аркур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– один из самых молодых видов спорта не только в России, но и в мире. И посему, еще не смог набрать бешеную популярность, однако сразу вошел в топ наипопулярнейших. Постепенно этот спорт становится одним из самых излюбленных активностей подростков. Посудите сами: душа переходного возраста бунтует и не любит ограничений, а это как раз и является основной идеей паркура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7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пять экстремальный вид спорта –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лики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 В США ролики, между прочим, удерживаются в первой тройке лидеров наравне с такими видами как байк и скейт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2-03T20:42:0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