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764-D7B0-4C7A-93D0-4D6A9884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1B6-3452-48E5-BE9A-1B2A49C4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A1F-750A-425A-9AD3-7F9C8307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7A1-7168-4E55-ACB7-E0EB4690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2A60-76A9-4D4E-921F-B56EE2E8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D98E-BBAE-409E-B95D-A0BC6969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5734-E0D1-4F29-9780-B59A112D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9890-AADD-4671-815D-94C5453B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2A30-908C-4013-AF55-E4A00370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1FD7-6285-4B59-88F9-473DBD4A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A873-55AF-4609-A837-7D30F7F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28A-E35E-49C7-BD82-8E3B44B6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ECD6-0EF0-436F-94EA-8F799C0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6914-7942-49F9-A29E-BFF1318A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6EED-3998-42EB-A320-52126B2C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BDFF-DADE-42FB-BF83-86E6E46F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3E27-19B8-491E-94C0-F6BB2672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E0D-6F7E-498B-8791-BB4E77D5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E0A-48DF-44D7-8559-A94DDC9D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6B9-CF5A-4840-877D-3EFCD7B8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18E-ABB4-4C1C-BB94-8EF52E9D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ACC-5A32-45C6-83AB-F3ACC821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CDC-24DA-4375-BF9A-B854C82F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E01-3082-4296-864A-C5DBBA2A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92D8-ECBE-41DC-892E-40896D92D57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BBB-F9CD-43F5-9C0F-BEC0390F606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i?id=35864927&amp;tov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5"/>
          <p:cNvSpPr txBox="1"/>
          <p:nvPr/>
        </p:nvSpPr>
        <p:spPr>
          <a:xfrm>
            <a:off x="685800" y="609480"/>
            <a:ext cx="8077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ересует ли спор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ынешнему поколению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6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 снова старый добрый приятель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хоккей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Равно как и фигурное катание, данный спорт постоянно находится в десятке самых из самых. Одним словом, он всегда в мод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5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йнтболл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Уж если кто из родителей захочет найти общий язык с детьми, так лучше всего это сделать на пейнтболле. Чрезвычайно популярный вид спорта, как среди взрослого поколения, так и среди подростков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4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Художественная гимнастик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Один из самых прекрасных и сексуальных видов спорта не потерял свою актуальность и в наши дн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В общем-то, успехи, победы и красивая пластика тела заставляют девчонок идти в этот вид. Правда, назвать его модно-молодежным можно лишь с натяжкой, потому, что в него приходят девчонки от 5 ле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3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ноубордисты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– это хорошо. И зря сноуборд всегда позиционируют как развлечение для богатеньких. Да, доска конечно, не из дешевых спорттоваров будет, но и обмундирование по такому летнему виду спорта, как большой теннис, довольно дорого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2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Байк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. Не путать, байкеры – большие волосатые мужчины на мотоциклах, а байк – это экстремальный велоспорт. Наиболее моден и популярен больше в Южных регионах России, таких как Краснодарский край, но учитывая, что в последнее время крытых дворцов по экстремальным видам спорта было построено не меньше ледовых дворцов, за последние три года интерес и количество задействованных в нем лиц резко возросл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1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у и первое, топовое место занимает среди подростков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кейт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Как и во многих других странах, в частности США, этот спорт наиболее популярен и у нас. Правда королевство маловато, разгуляться нам негде, легко балансировать по пешехожим бульварам не получится. Но красота требует жертв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Юность-М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0" y="5622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прос показал, что лишь 34% школьников занимаются в спортивных секциях и группах. Причем среди мальчиков этот показатель составляет примерно 55%, а среди девочек - всего 19%. С возрастом, за пять лет - от 12 до 17 лет, этот показатель снижается у мальчиков с 62,5 до 47%, а у девушек с 22,5 до 16%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Локомотив"/>
          <p:cNvPicPr/>
          <p:nvPr/>
        </p:nvPicPr>
        <p:blipFill>
          <a:blip r:embed="rId1"/>
          <a:stretch/>
        </p:blipFill>
        <p:spPr>
          <a:xfrm>
            <a:off x="0" y="0"/>
            <a:ext cx="4419720" cy="291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Кубок-ДЮКФП-по-баскетболу-юноши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527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дзюдо-"/>
          <p:cNvPicPr/>
          <p:nvPr/>
        </p:nvPicPr>
        <p:blipFill>
          <a:blip r:embed="rId3"/>
          <a:stretch/>
        </p:blipFill>
        <p:spPr>
          <a:xfrm>
            <a:off x="0" y="3048120"/>
            <a:ext cx="4952880" cy="3268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Улица"/>
          <p:cNvPicPr/>
          <p:nvPr/>
        </p:nvPicPr>
        <p:blipFill>
          <a:blip r:embed="rId4"/>
          <a:stretch/>
        </p:blipFill>
        <p:spPr>
          <a:xfrm>
            <a:off x="4952880" y="3352680"/>
            <a:ext cx="37339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знать, интересует ли спорт нынешнему поколени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ие виды спорта привлекают нашу молодёжь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0" y="3830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реди причин, по которым подростки не занимаются спортом, следующие: нет фитнес-центров и аквапарков по доступным ценам (15,0%), отсутствуют льготы на билеты на спортивные соревнования и мало спортивных секций по месту жительства (по 14,5%), нет условий для самостоятельных занятий (10,8%), отсутствуют пункты проката спортивного инвентаря (8,5%), мало крупных зрелищных мероприятий (7,8%), мало современных видов спорта (6,6%), а предлагаемые виды однообразны (6,1%). При этом коэффициент количества причин на одного респондента составил в среднем 1,6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152280" y="1295280"/>
            <a:ext cx="883944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Rounded MT Bold"/>
              </a:rPr>
              <a:t>Популярные виды подросткового спор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10 место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следнее место в этой десятке отдано подростками, как ни странно,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футболу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Да, да! Футбол всегда был популярен в нашей стране и не только среди взрослых. Просто, если сравнивать подростков Британии и отечественных, то этот вид спорта значительно уступает по популярности его собрату с Туманного Альбион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9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тарое доброе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фигурное катание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Прекрасный вид спорта, который вот уже 55 лет не покидает десятку ведущих спортивных дисциплин Российской федерации, становясь то первым, то последним. Причин повышения-понижения популярности фигурного катания множество: и победы великих пар Роднина-Зайцев, Букин-Бестемьянова с одной стороны; и временный застой в этой тематике в определенные годы с друго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8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аркур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– один из самых молодых видов спорта не только в России, но и в мире. И посему, еще не смог набрать бешеную популярность, однако сразу вошел в топ наипопулярнейших. Постепенно этот спорт становится одним из самых излюбленных активностей подростков. Посудите сами: душа переходного возраста бунтует и не любит ограничений, а это как раз и является основной идеей паркур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7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ять экстремальный вид спорта –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олики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В США ролики, между прочим, удерживаются в первой тройке лидеров наравне с такими видами как байк и скейт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42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