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D57-ED23-4B65-BA01-FE6FD269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059-A948-433E-A475-BA5AD171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E38-D7C3-4DE4-A738-EDF95C97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DDD-7E2C-4E1A-8F6B-F0156607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196-2518-440E-883E-F6233DBF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3B0-11DD-4869-B8C9-2D0CA0E1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822A-0BE1-470D-BF43-0CCC1316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1F20-B283-4BCE-9827-3BAF884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E93A-AE3D-4795-B728-BC0168E2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2DC-DE66-477A-A189-C087A987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78EA-8D42-485E-A1E2-9F7B28D3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0D5-9177-4993-9E83-F78F343C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2FC7-0FCF-4695-8F5C-130AF7F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8F57-BAF7-4D76-8F6E-4EB83278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766-30DA-4074-A0B4-43241D3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C3B8-897F-4205-AC84-163CAF0C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625D-6F0F-42D3-AFC7-7A993345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31F-8BFD-44A8-A550-2FAF3B3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F48-653E-478C-A9FA-B7E4A9EA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096-C053-41B1-B8FE-29BA26E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852-0DBD-480E-8E97-F15A3992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CC7-1E6B-4F18-983A-D6C3004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D28-C3FB-4EAE-A318-C55A600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BA9-0031-4DD2-B896-7C5A73F8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09A-DDFE-49D3-8226-A2115BD5FE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692-63AE-43D8-A7B2-E81D49A72C7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?id=35864927&amp;tov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5"/>
          <p:cNvSpPr txBox="1"/>
          <p:nvPr/>
        </p:nvSpPr>
        <p:spPr>
          <a:xfrm>
            <a:off x="685800" y="6094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ует ли спор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ынешнему поколен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 снова старый добрый приятель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ккей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Равно как и фигурное катание, данный спорт постоянно находится в десятке самых из самых. Одним словом, он всегда в мод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йнтболл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Уж если кто из родителей захочет найти общий язык с детьми, так лучше всего это сделать на пейнтболле. Чрезвычайно популярный вид спорта, как среди взрослого поколения, так и среди подростко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Художественная гимнастик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Один из самых прекрасных и сексуальных видов спорта не потерял свою актуальность и в наши д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В общем-то, успехи, победы и красивая пластика тела заставляют девчонок идти в этот вид. Правда, назвать его модно-молодежным можно лишь с натяжкой, потому, что в него приходят девчонки от 5 ле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ноубордисты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это хорошо. И зря сноуборд всегда позиционируют как развлечение для богатеньких. Да, доска конечно, не из дешевых спорттоваров будет, но и обмундирование по такому летнему виду спорта, как большой теннис, довольно дорого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2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ай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Не путать, байкеры – большие волосатые мужчины на мотоциклах, а байк – это экстремальный велоспорт. Наиболее моден и популярен больше в Южных регионах России, таких как Краснодарский край, но учитывая, что в последнее время крытых дворцов по экстремальным видам спорта было построено не меньше ледовых дворцов, за последние три года интерес и количество задействованных в нем лиц резко возросл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у и первое, топовое место занимает среди подростков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ей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Как и во многих других странах, в частности США, этот спорт наиболее популярен и у нас. Правда королевство маловато, разгуляться нам негде, легко балансировать по пешехожим бульварам не получится. Но красота требует жерт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Юность-М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0" y="562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прос показал, что лишь 34% школьников занимаются в спортивных секциях и группах. Причем среди мальчиков этот показатель составляет примерно 55%, а среди девочек - всего 19%. С возрастом, за пять лет - от 12 до 17 лет, этот показатель снижается у мальчиков с 62,5 до 47%, а у девушек с 22,5 до 16%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Локомотив"/>
          <p:cNvPicPr/>
          <p:nvPr/>
        </p:nvPicPr>
        <p:blipFill>
          <a:blip r:embed="rId1"/>
          <a:stretch/>
        </p:blipFill>
        <p:spPr>
          <a:xfrm>
            <a:off x="0" y="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Кубок-ДЮКФП-по-баскетболу-юноши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27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дзюдо-"/>
          <p:cNvPicPr/>
          <p:nvPr/>
        </p:nvPicPr>
        <p:blipFill>
          <a:blip r:embed="rId3"/>
          <a:stretch/>
        </p:blipFill>
        <p:spPr>
          <a:xfrm>
            <a:off x="0" y="3048120"/>
            <a:ext cx="4952880" cy="326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Улица"/>
          <p:cNvPicPr/>
          <p:nvPr/>
        </p:nvPicPr>
        <p:blipFill>
          <a:blip r:embed="rId4"/>
          <a:stretch/>
        </p:blipFill>
        <p:spPr>
          <a:xfrm>
            <a:off x="4952880" y="3352680"/>
            <a:ext cx="37339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нать, интересует ли спорт нынешнему поколен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виды спорта привлекают нашу молодёж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0" y="3830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реди причин, по которым подростки не занимаются спортом, следующие: нет фитнес-центров и аквапарков по доступным ценам (15,0%), отсутствуют льготы на билеты на спортивные соревнования и мало спортивных секций по месту жительства (по 14,5%), нет условий для самостоятельных занятий (10,8%), отсутствуют пункты проката спортивного инвентаря (8,5%), мало крупных зрелищных мероприятий (7,8%), мало современных видов спорта (6,6%), а предлагаемые виды однообразны (6,1%). При этом коэффициент количества причин на одного респондента составил в среднем 1,6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Популярные виды подросткового спор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0 место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следнее место в этой десятке отдано подростками, как ни странн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футболу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Да, да! Футбол всегда был популярен в нашей стране и не только среди взрослых. Просто, если сравнивать подростков Британии и отечественных, то этот вид спорта значительно уступает по популярности его собрату с Туманного Альби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9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арое добро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игурное катани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рекрасный вид спорта, который вот уже 55 лет не покидает десятку ведущих спортивных дисциплин Российской федерации, становясь то первым, то последним. Причин повышения-понижения популярности фигурного катания множество: и победы великих пар Роднина-Зайцев, Букин-Бестемьянова с одной стороны; и временный застой в этой тематике в определенные годы с друг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8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аркур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один из самых молодых видов спорта не только в России, но и в мире. И посему, еще не смог набрать бешеную популярность, однако сразу вошел в топ наипопулярнейших. Постепенно этот спорт становится одним из самых излюбленных активностей подростков. Посудите сами: душа переходного возраста бунтует и не любит ограничений, а это как раз и является основной идеей парку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ять экстремальный вид спорта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лик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В США ролики, между прочим, удерживаются в первой тройке лидеров наравне с такими видами как байк и скейт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42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