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623-E1D6-4C0B-BD35-9522375F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CA4-51E7-4BC4-87DF-BE570662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729-819A-42F0-857F-48BA573E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962-F2AA-472A-92FB-5C2006F6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A23-C174-4875-9184-35E66E37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D47-1826-4BA7-B7D8-FB721275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85E-6A48-4A9D-935A-E59CD26D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025-2ADA-4D6B-98E7-9F833ABE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367-37C4-4074-806E-8BA34292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C19-6258-4DAD-B335-90C1327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E3F-1DD1-4591-BCEA-45E1243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9B9-078D-4974-A875-E465C9DA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974-6F23-4D45-AA28-415B2415056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49B-5C69-491E-A0EE-0CE817EB1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856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3399"/>
                </a:solidFill>
                <a:latin typeface="Arial Narrow"/>
              </a:rPr>
              <a:t>Гигиена опорно-двигательной системы, первая помощь при наруш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0880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Дать понятия правильной и неправильной осанки, а так же факторов, влияющих на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Охарактеризовать различные виды травм системы опоры и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учиться различать повреждения, определять цели доврачебн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учиться оказывать доврачебную помощь и понимать ее ос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A73-999B-43FE-90CE-A22B58C987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7FFC-76EC-4E9B-B92D-8C5E314BC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8_059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D6F-AEDE-4B27-B2F0-FEAB4CB38BD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A63C-6E0D-4BFB-9E87-0B345355C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108000" y="81000"/>
            <a:ext cx="8856720" cy="6643800"/>
          </a:xfrm>
          <a:prstGeom prst="rect">
            <a:avLst/>
          </a:prstGeom>
          <a:ln w="0">
            <a:noFill/>
          </a:ln>
        </p:spPr>
      </p:pic>
      <p:sp>
        <p:nvSpPr>
          <p:cNvPr id="11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3F22-EC79-4F82-8EEF-62D4B5574E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0208-7A88-472B-A20F-DF77FF14C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268360" y="404640"/>
            <a:ext cx="4681800" cy="649440"/>
          </a:xfrm>
          <a:prstGeom prst="rect">
            <a:avLst/>
          </a:prstGeom>
          <a:solidFill>
            <a:srgbClr val="cc99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перел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0" y="1341360"/>
            <a:ext cx="4140360" cy="1366920"/>
          </a:xfrm>
          <a:prstGeom prst="diamond">
            <a:avLst/>
          </a:prstGeom>
          <a:solidFill>
            <a:srgbClr val="ff00ff">
              <a:alpha val="7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ры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788000" y="1268280"/>
            <a:ext cx="4140000" cy="1366920"/>
          </a:xfrm>
          <a:prstGeom prst="diamond">
            <a:avLst/>
          </a:prstGeom>
          <a:solidFill>
            <a:srgbClr val="ff00ff">
              <a:alpha val="7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971640" y="2852640"/>
          <a:ext cx="206676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852640"/>
                    <a:ext cx="206676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6516720" y="2781360"/>
          <a:ext cx="121932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781360"/>
                    <a:ext cx="1219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AutoShape 9"/>
          <p:cNvSpPr/>
          <p:nvPr/>
        </p:nvSpPr>
        <p:spPr>
          <a:xfrm>
            <a:off x="0" y="5589720"/>
            <a:ext cx="4067280" cy="107928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пов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гких тка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4932360" y="5516640"/>
            <a:ext cx="4067280" cy="107928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врежд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и и других тка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ата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2E5-E4A1-48A7-8BF9-6448FA056E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6517-8883-4203-939E-9468714BB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3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2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8727-D94A-4F89-A9A9-1B02FE3C8C4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C2D5-62B5-461A-8475-3BFB420D4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ерелом руки.wmv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7F8B-183B-413F-B7E7-FFD615808D1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6FEE-DC47-47F7-B783-AD79F6F16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0808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5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ерелом ноги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0C53-22CB-47CE-80ED-333354FF8EE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B5AA-9CE5-45D4-9A3A-368DB2B85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транспортировка при переломе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C4B4-F6B9-45ED-B822-62254F80D33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3B8-AD26-4480-911A-C7557262F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206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8_05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4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D1DB-BF77-4157-B7B3-D4652725B89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8F7C-B12F-4C7C-8C54-D886F483E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8_056"/>
          <p:cNvPicPr/>
          <p:nvPr/>
        </p:nvPicPr>
        <p:blipFill>
          <a:blip r:embed="rId1"/>
          <a:stretch/>
        </p:blipFill>
        <p:spPr>
          <a:xfrm>
            <a:off x="250920" y="15084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14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2A2-C499-47D3-AE47-5BC52115E1F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3ED3-B5AE-43FB-844A-1F76CA337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5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23E-EBB1-40AA-9953-B2B524F451F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D2B5-C57B-47A5-8AAC-9DDE6FFCB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4140360" y="404640"/>
          <a:ext cx="207612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404640"/>
                    <a:ext cx="2076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5"/>
          <p:cNvGraphicFramePr/>
          <p:nvPr/>
        </p:nvGraphicFramePr>
        <p:xfrm>
          <a:off x="611280" y="260280"/>
          <a:ext cx="1074600" cy="580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60280"/>
                    <a:ext cx="10746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WordArt 6"/>
          <p:cNvSpPr txBox="1"/>
          <p:nvPr/>
        </p:nvSpPr>
        <p:spPr>
          <a:xfrm>
            <a:off x="1763640" y="2565360"/>
            <a:ext cx="20383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рдо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51280" y="2852640"/>
            <a:ext cx="1655640" cy="2160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6300720" y="1413000"/>
            <a:ext cx="2384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фо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9"/>
          <p:cNvSpPr/>
          <p:nvPr/>
        </p:nvSpPr>
        <p:spPr>
          <a:xfrm rot="10800000">
            <a:off x="5724360" y="907920"/>
            <a:ext cx="1656000" cy="2160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ата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0E42-14A5-4C9F-AEB7-F6EA51717C7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31ED-19E5-41F0-BC1C-6B6BADFE0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4_05_03_10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5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55B3-2B4D-46D0-821B-881AABE0EE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971F-10AB-41E1-A395-C2EEC1AE3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89800"/>
          </a:xfrm>
          <a:prstGeom prst="rect">
            <a:avLst/>
          </a:prstGeom>
          <a:ln w="0">
            <a:noFill/>
          </a:ln>
        </p:spPr>
      </p:pic>
      <p:sp>
        <p:nvSpPr>
          <p:cNvPr id="1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CFF2-4724-47EF-8841-176F2A03B0C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3BAE-4D7E-4EE2-A7FA-801298C96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15,16, оформить лабораторную работу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стр. 7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071-81AE-4717-A9BF-4CE266556C9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DDF7-A0BD-4685-BDF6-39FC49FFA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_01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4FC-9D2F-4294-A43F-7F5F019C092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ABC9-2C95-4B3E-ACF1-EC9EC6EAB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оли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979560" y="1484280"/>
          <a:ext cx="294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1484280"/>
                    <a:ext cx="294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8"/>
          <p:cNvGraphicFramePr/>
          <p:nvPr/>
        </p:nvGraphicFramePr>
        <p:xfrm>
          <a:off x="5146560" y="1600200"/>
          <a:ext cx="304020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6560" y="1600200"/>
                    <a:ext cx="3040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D868-7F30-4A5F-B2CF-53D8DB70D78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13AF-5AB5-420F-831E-F98CDF05F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Формирование ос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0920" y="1700280"/>
            <a:ext cx="3456000" cy="259236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вномер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 гармон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сех мыше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груп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292720" y="1700280"/>
            <a:ext cx="3456000" cy="259236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рави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обра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мебель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занятий и обу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(для предуп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лоскостопия)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843280" y="4581360"/>
            <a:ext cx="3456000" cy="172728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ежим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 отды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8"/>
          <p:cNvCxnSpPr>
            <a:stCxn id="69" idx="2"/>
            <a:endCxn id="70" idx="0"/>
          </p:cNvCxnSpPr>
          <p:nvPr/>
        </p:nvCxnSpPr>
        <p:spPr>
          <a:xfrm rot="5400000">
            <a:off x="3003480" y="100800"/>
            <a:ext cx="543960" cy="2592720"/>
          </a:xfrm>
          <a:prstGeom prst="bentConnector3">
            <a:avLst>
              <a:gd name="adj1" fmla="val 529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9"/>
          <p:cNvCxnSpPr>
            <a:stCxn id="69" idx="2"/>
            <a:endCxn id="71" idx="0"/>
          </p:cNvCxnSpPr>
          <p:nvPr/>
        </p:nvCxnSpPr>
        <p:spPr>
          <a:xfrm flipH="1" rot="16200000">
            <a:off x="5524920" y="172080"/>
            <a:ext cx="543960" cy="2449800"/>
          </a:xfrm>
          <a:prstGeom prst="bentConnector3">
            <a:avLst>
              <a:gd name="adj1" fmla="val 529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0"/>
          <p:cNvCxnSpPr>
            <a:stCxn id="69" idx="2"/>
            <a:endCxn id="72" idx="0"/>
          </p:cNvCxnSpPr>
          <p:nvPr/>
        </p:nvCxnSpPr>
        <p:spPr>
          <a:xfrm>
            <a:off x="4571640" y="1125360"/>
            <a:ext cx="1080" cy="342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Дата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CA3-D0C7-46C7-858E-4107260890B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0023-44D7-44D0-A9E9-B82E5DD7D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Arial"/>
              </a:rPr>
              <a:t>Неправильная осан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95280" y="1628640"/>
            <a:ext cx="3745080" cy="2016360"/>
          </a:xfrm>
          <a:prstGeom prst="wedgeRectCallout">
            <a:avLst>
              <a:gd name="adj1" fmla="val 47624"/>
              <a:gd name="adj2" fmla="val -83384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рудн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х, серд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удочно-кишеч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076720" y="1700280"/>
            <a:ext cx="3745080" cy="2016000"/>
          </a:xfrm>
          <a:prstGeom prst="wedgeRectCallout">
            <a:avLst>
              <a:gd name="adj1" fmla="val -51439"/>
              <a:gd name="adj2" fmla="val -89842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ньш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кость легких, сни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мен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2050920" y="4508640"/>
            <a:ext cx="3745080" cy="2016000"/>
          </a:xfrm>
          <a:prstGeom prst="wedgeRectCallout">
            <a:avLst>
              <a:gd name="adj1" fmla="val 14476"/>
              <a:gd name="adj2" fmla="val -228740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овные боли, повышается утом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935-320A-44E1-A107-9A780E1FFDC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ECEE-EEAD-4BB4-8DB9-EBDD47571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ды повреждения ОД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900000" y="1341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астяжени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900000" y="364500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ывих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5292720" y="3645000"/>
            <a:ext cx="251928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лом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79280" y="2133720"/>
            <a:ext cx="3203640" cy="1366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зок су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5364000" y="1341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шиб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 rot="2797200">
            <a:off x="3095280" y="1447920"/>
            <a:ext cx="2544840" cy="2617560"/>
          </a:xfrm>
          <a:custGeom>
            <a:avLst/>
            <a:gdLst>
              <a:gd name="textAreaLeft" fmla="*/ 954360 w 2544840"/>
              <a:gd name="textAreaRight" fmla="*/ 1590480 w 2544840"/>
              <a:gd name="textAreaTop" fmla="*/ 981720 h 2617560"/>
              <a:gd name="textAreaBottom" fmla="*/ 1636200 h 2617560"/>
            </a:gdLst>
            <a:ahLst/>
            <a:rect l="textAreaLeft" t="textAreaTop" r="textAreaRight" b="textAreaBottom"/>
            <a:pathLst>
              <a:path w="21600" h="21600">
                <a:moveTo>
                  <a:pt x="8100" y="8100"/>
                </a:moveTo>
                <a:lnTo>
                  <a:pt x="10123" y="8100"/>
                </a:lnTo>
                <a:lnTo>
                  <a:pt x="10123" y="3506"/>
                </a:lnTo>
                <a:lnTo>
                  <a:pt x="8100" y="3506"/>
                </a:lnTo>
                <a:lnTo>
                  <a:pt x="10800" y="0"/>
                </a:lnTo>
                <a:lnTo>
                  <a:pt x="13500" y="3506"/>
                </a:lnTo>
                <a:lnTo>
                  <a:pt x="11477" y="3506"/>
                </a:lnTo>
                <a:lnTo>
                  <a:pt x="11477" y="8100"/>
                </a:lnTo>
                <a:lnTo>
                  <a:pt x="13500" y="8100"/>
                </a:lnTo>
                <a:lnTo>
                  <a:pt x="13500" y="10123"/>
                </a:lnTo>
                <a:lnTo>
                  <a:pt x="18094" y="10123"/>
                </a:lnTo>
                <a:lnTo>
                  <a:pt x="18094" y="8100"/>
                </a:lnTo>
                <a:lnTo>
                  <a:pt x="21600" y="10800"/>
                </a:lnTo>
                <a:lnTo>
                  <a:pt x="18094" y="13500"/>
                </a:lnTo>
                <a:lnTo>
                  <a:pt x="18094" y="11477"/>
                </a:lnTo>
                <a:lnTo>
                  <a:pt x="13500" y="11477"/>
                </a:lnTo>
                <a:lnTo>
                  <a:pt x="13500" y="13500"/>
                </a:lnTo>
                <a:lnTo>
                  <a:pt x="11477" y="13500"/>
                </a:lnTo>
                <a:lnTo>
                  <a:pt x="11477" y="18094"/>
                </a:lnTo>
                <a:lnTo>
                  <a:pt x="13500" y="18094"/>
                </a:lnTo>
                <a:lnTo>
                  <a:pt x="10800" y="21600"/>
                </a:lnTo>
                <a:lnTo>
                  <a:pt x="8100" y="18094"/>
                </a:lnTo>
                <a:lnTo>
                  <a:pt x="10123" y="18094"/>
                </a:lnTo>
                <a:lnTo>
                  <a:pt x="10123" y="13500"/>
                </a:lnTo>
                <a:lnTo>
                  <a:pt x="8100" y="13500"/>
                </a:lnTo>
                <a:lnTo>
                  <a:pt x="8100" y="11477"/>
                </a:lnTo>
                <a:lnTo>
                  <a:pt x="3506" y="11477"/>
                </a:lnTo>
                <a:lnTo>
                  <a:pt x="3506" y="13500"/>
                </a:lnTo>
                <a:lnTo>
                  <a:pt x="0" y="10800"/>
                </a:lnTo>
                <a:lnTo>
                  <a:pt x="3506" y="8100"/>
                </a:lnTo>
                <a:lnTo>
                  <a:pt x="3506" y="10123"/>
                </a:lnTo>
                <a:lnTo>
                  <a:pt x="8100" y="10123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5364000" y="2133720"/>
            <a:ext cx="3203640" cy="1366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р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гких тка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179280" y="4365720"/>
            <a:ext cx="3456000" cy="23763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йкое сме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ста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леня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ей по отно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 к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5292720" y="4365720"/>
            <a:ext cx="3311640" cy="208764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том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ата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2DB-A904-428D-A6AA-25DBA3443A7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0B5C-4FF4-41B0-9D40-41D32BBC4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_057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641-2EBE-4DBF-BE4B-CB2C902F897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0332-EA3D-4700-9A37-743739BF1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8_058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E69D-2352-4FC9-96BC-6B1F6BB619C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1787-8024-4186-8ADA-F21071604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6:04:53Z</dcterms:created>
  <dc:creator>Светлана</dc:creator>
  <dc:description/>
  <dc:language>en-US</dc:language>
  <cp:lastModifiedBy>Братякова</cp:lastModifiedBy>
  <dcterms:modified xsi:type="dcterms:W3CDTF">2011-09-16T14:10:38Z</dcterms:modified>
  <cp:revision>6</cp:revision>
  <dc:subject/>
  <dc:title>Переломы </dc:title>
</cp:coreProperties>
</file>