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6B7-8CB1-4B2B-BE13-B352D3B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5C0-6BEA-4FFD-BB2F-2B5C0F14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EB3-99DF-40ED-8A18-33788966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BAB-EF64-407D-8E88-251D8003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AB-7B18-4F3C-8CA5-EC294E4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B66-E2E4-4026-9BC6-3A92B97E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688-2D70-4D0D-8B70-9493BC28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BB4-D120-49DE-B46B-0F4BDD5D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5E5-B0B8-4CA2-8AF0-93AD442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976-6A28-46DE-9F49-8830F2B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192-9630-4670-8961-E5EE4409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A52-F9DF-4E77-96F3-48F6B6D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892-E602-4EBB-9FB4-C1602D4E52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7901-D981-41F3-9215-DA5B56B01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856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3399"/>
                </a:solidFill>
                <a:latin typeface="Arial Narrow"/>
              </a:rPr>
              <a:t>Гигиена опорно-двигательной системы, первая помощь при наруш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088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Дать понятия правильной и неправильной осанки, а так же факторов, влияющих на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Охарактеризовать различные виды травм системы опоры и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различать повреждения, определять цели доврачебн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оказывать доврачебную помощь и понимать ее о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226-106A-4AAC-B9CB-40844528A01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BA8-BCE7-47A2-B627-5C3355D1A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_059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8AE-BA65-47DD-9677-B4025B04C5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F59-4B57-4BBD-8A7A-88E54F0AA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108000" y="81000"/>
            <a:ext cx="8856720" cy="6643800"/>
          </a:xfrm>
          <a:prstGeom prst="rect">
            <a:avLst/>
          </a:prstGeom>
          <a:ln w="0">
            <a:noFill/>
          </a:ln>
        </p:spPr>
      </p:pic>
      <p:sp>
        <p:nvSpPr>
          <p:cNvPr id="11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29A-E2AD-47D3-9AEE-C891D6FB60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0907-16A1-4747-AA5A-6F36DFB13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68360" y="404640"/>
            <a:ext cx="4681800" cy="649440"/>
          </a:xfrm>
          <a:prstGeom prst="rect">
            <a:avLst/>
          </a:prstGeom>
          <a:solidFill>
            <a:srgbClr val="cc99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пере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0" y="1341360"/>
            <a:ext cx="414036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1268280"/>
            <a:ext cx="414000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971640" y="2852640"/>
          <a:ext cx="20667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852640"/>
                    <a:ext cx="20667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6516720" y="2781360"/>
          <a:ext cx="121932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781360"/>
                    <a:ext cx="1219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AutoShape 9"/>
          <p:cNvSpPr/>
          <p:nvPr/>
        </p:nvSpPr>
        <p:spPr>
          <a:xfrm>
            <a:off x="0" y="558972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пов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4932360" y="551664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врежд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и и друг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5C2-FD6C-4A2F-8DD1-7E649ACB21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C7A-F8D9-4D5A-8BB1-284989F45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2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436-5724-465E-B1F5-36E6E22431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90F3-285A-44B0-8DDC-2344AD03A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ерелом руки.wmv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AF17-38A5-4ACB-B773-8ED216D08F0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97D-9D68-4927-8CDA-C3468227A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0808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ерелом ноги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FD9C-416C-4DB0-8459-3C6EF7D860B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954-8E70-4BF2-B030-8EDFB8FB9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транспортировка при переломе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084-8A57-413E-8824-CE0909F34EF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828F-4D66-4BF8-802A-BF13728A2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206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8_05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4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1CF-1621-484C-B1F3-BC8F284CE9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BB9-97CA-4EA1-B364-678D97C4C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8_056"/>
          <p:cNvPicPr/>
          <p:nvPr/>
        </p:nvPicPr>
        <p:blipFill>
          <a:blip r:embed="rId1"/>
          <a:stretch/>
        </p:blipFill>
        <p:spPr>
          <a:xfrm>
            <a:off x="250920" y="15084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6CC8-EF3F-4FBE-84C9-1D16BBF96D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B6A-D0D7-40DC-A6FC-386338446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69FD-ECEC-49FA-B3E2-E040F6761DE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7E4A-0FDE-4025-9958-1B9107CA7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4140360" y="404640"/>
          <a:ext cx="207612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404640"/>
                    <a:ext cx="2076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5"/>
          <p:cNvGraphicFramePr/>
          <p:nvPr/>
        </p:nvGraphicFramePr>
        <p:xfrm>
          <a:off x="611280" y="260280"/>
          <a:ext cx="1074600" cy="580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0280"/>
                    <a:ext cx="10746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WordArt 6"/>
          <p:cNvSpPr txBox="1"/>
          <p:nvPr/>
        </p:nvSpPr>
        <p:spPr>
          <a:xfrm>
            <a:off x="1763640" y="2565360"/>
            <a:ext cx="20383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рд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51280" y="2852640"/>
            <a:ext cx="1655640" cy="216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6300720" y="1413000"/>
            <a:ext cx="2384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ф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9"/>
          <p:cNvSpPr/>
          <p:nvPr/>
        </p:nvSpPr>
        <p:spPr>
          <a:xfrm rot="10800000">
            <a:off x="5724360" y="907920"/>
            <a:ext cx="1656000" cy="216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38D-9813-4BA1-B305-9B8D843121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87A-6B3C-4DCE-94F5-AD17085EE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4_05_03_10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7AF-23B4-4CA2-BEC0-539C275A44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27A-9DE8-4200-B619-E9CA621EE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8980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CE9-D942-4D9A-A57B-1C899CDC0C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3A4-000E-47E6-BD28-557BC7F7E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15,16, оформить лабораторную работу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стр. 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D0E0-70E4-4E35-8C8B-736B8642466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4C94-D7DC-41DE-9A31-FFDB449C1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_01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8E9-F2F9-4743-BA79-3A94DED8FD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2AE4-C412-4269-83C4-C4C6EEE73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и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979560" y="1484280"/>
          <a:ext cx="294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484280"/>
                    <a:ext cx="294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8"/>
          <p:cNvGraphicFramePr/>
          <p:nvPr/>
        </p:nvGraphicFramePr>
        <p:xfrm>
          <a:off x="5146560" y="1600200"/>
          <a:ext cx="30402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6560" y="1600200"/>
                    <a:ext cx="3040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702-A8E7-4015-AEAF-4A6501EEB0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1CBA-96D5-47C4-AAA4-CB98F9A68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Формирование ос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09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вномер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гармон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сех мыше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груп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2927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рави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обра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ебель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занятий и обу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(для предуп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лоскостопия)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843280" y="4581360"/>
            <a:ext cx="3456000" cy="172728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ежим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отды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8"/>
          <p:cNvCxnSpPr>
            <a:stCxn id="69" idx="2"/>
            <a:endCxn id="70" idx="0"/>
          </p:cNvCxnSpPr>
          <p:nvPr/>
        </p:nvCxnSpPr>
        <p:spPr>
          <a:xfrm rot="5400000">
            <a:off x="3003480" y="100800"/>
            <a:ext cx="543960" cy="259272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9"/>
          <p:cNvCxnSpPr>
            <a:stCxn id="69" idx="2"/>
            <a:endCxn id="71" idx="0"/>
          </p:cNvCxnSpPr>
          <p:nvPr/>
        </p:nvCxnSpPr>
        <p:spPr>
          <a:xfrm flipH="1" rot="16200000">
            <a:off x="5524920" y="172080"/>
            <a:ext cx="543960" cy="244980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69" idx="2"/>
            <a:endCxn id="72" idx="0"/>
          </p:cNvCxnSpPr>
          <p:nvPr/>
        </p:nvCxnSpPr>
        <p:spPr>
          <a:xfrm>
            <a:off x="4571640" y="1125360"/>
            <a:ext cx="1080" cy="342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B81-BA2F-4623-B7C5-7184AC9F48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4A9-C606-4B07-8191-E4A455ADF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Неправильная оса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95280" y="1628640"/>
            <a:ext cx="3745080" cy="2016360"/>
          </a:xfrm>
          <a:prstGeom prst="wedgeRectCallout">
            <a:avLst>
              <a:gd name="adj1" fmla="val 47624"/>
              <a:gd name="adj2" fmla="val -83384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рудн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х, серд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удочно-кише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076720" y="1700280"/>
            <a:ext cx="3745080" cy="2016000"/>
          </a:xfrm>
          <a:prstGeom prst="wedgeRectCallout">
            <a:avLst>
              <a:gd name="adj1" fmla="val -51439"/>
              <a:gd name="adj2" fmla="val -89842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ньш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кость легких,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050920" y="4508640"/>
            <a:ext cx="3745080" cy="2016000"/>
          </a:xfrm>
          <a:prstGeom prst="wedgeRectCallout">
            <a:avLst>
              <a:gd name="adj1" fmla="val 14476"/>
              <a:gd name="adj2" fmla="val -228740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ные боли, повышается утом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5FE7-049D-40C4-B4BB-AF623C708D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2782-B00D-4542-B052-4885014F3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ды повреждения ОД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00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астяжени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900000" y="364500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ывих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292720" y="364500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лом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7928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зок су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5364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шиб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 rot="2797200">
            <a:off x="3095280" y="1447920"/>
            <a:ext cx="2544840" cy="2617560"/>
          </a:xfrm>
          <a:custGeom>
            <a:avLst/>
            <a:gdLst>
              <a:gd name="textAreaLeft" fmla="*/ 954360 w 2544840"/>
              <a:gd name="textAreaRight" fmla="*/ 1590480 w 2544840"/>
              <a:gd name="textAreaTop" fmla="*/ 981720 h 2617560"/>
              <a:gd name="textAreaBottom" fmla="*/ 1636200 h 261756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10123" y="8100"/>
                </a:lnTo>
                <a:lnTo>
                  <a:pt x="10123" y="3506"/>
                </a:lnTo>
                <a:lnTo>
                  <a:pt x="8100" y="3506"/>
                </a:lnTo>
                <a:lnTo>
                  <a:pt x="10800" y="0"/>
                </a:lnTo>
                <a:lnTo>
                  <a:pt x="13500" y="3506"/>
                </a:lnTo>
                <a:lnTo>
                  <a:pt x="11477" y="3506"/>
                </a:lnTo>
                <a:lnTo>
                  <a:pt x="11477" y="8100"/>
                </a:lnTo>
                <a:lnTo>
                  <a:pt x="13500" y="8100"/>
                </a:lnTo>
                <a:lnTo>
                  <a:pt x="13500" y="10123"/>
                </a:lnTo>
                <a:lnTo>
                  <a:pt x="18094" y="10123"/>
                </a:lnTo>
                <a:lnTo>
                  <a:pt x="18094" y="8100"/>
                </a:lnTo>
                <a:lnTo>
                  <a:pt x="21600" y="10800"/>
                </a:lnTo>
                <a:lnTo>
                  <a:pt x="18094" y="13500"/>
                </a:lnTo>
                <a:lnTo>
                  <a:pt x="18094" y="11477"/>
                </a:lnTo>
                <a:lnTo>
                  <a:pt x="13500" y="11477"/>
                </a:lnTo>
                <a:lnTo>
                  <a:pt x="13500" y="13500"/>
                </a:lnTo>
                <a:lnTo>
                  <a:pt x="11477" y="13500"/>
                </a:lnTo>
                <a:lnTo>
                  <a:pt x="11477" y="18094"/>
                </a:lnTo>
                <a:lnTo>
                  <a:pt x="13500" y="18094"/>
                </a:lnTo>
                <a:lnTo>
                  <a:pt x="10800" y="21600"/>
                </a:lnTo>
                <a:lnTo>
                  <a:pt x="8100" y="18094"/>
                </a:lnTo>
                <a:lnTo>
                  <a:pt x="10123" y="18094"/>
                </a:lnTo>
                <a:lnTo>
                  <a:pt x="10123" y="13500"/>
                </a:lnTo>
                <a:lnTo>
                  <a:pt x="8100" y="13500"/>
                </a:lnTo>
                <a:lnTo>
                  <a:pt x="8100" y="11477"/>
                </a:lnTo>
                <a:lnTo>
                  <a:pt x="3506" y="11477"/>
                </a:lnTo>
                <a:lnTo>
                  <a:pt x="3506" y="13500"/>
                </a:lnTo>
                <a:lnTo>
                  <a:pt x="0" y="10800"/>
                </a:lnTo>
                <a:lnTo>
                  <a:pt x="3506" y="8100"/>
                </a:lnTo>
                <a:lnTo>
                  <a:pt x="3506" y="10123"/>
                </a:lnTo>
                <a:lnTo>
                  <a:pt x="8100" y="10123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536400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р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179280" y="4365720"/>
            <a:ext cx="3456000" cy="23763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йкое см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та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леня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по отно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 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5292720" y="4365720"/>
            <a:ext cx="3311640" cy="20876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том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26C-252E-4ECC-8182-088E45B029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F88C-0148-4677-AAD6-D289997C0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_057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530-33AA-470C-959B-46A1979C69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A53-49E5-4518-9DC1-485100A5C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8_058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4BB0-CC93-413D-A3BA-D01185F5A2F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D19-5A71-4A22-85D7-66EE7C0DB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04:53Z</dcterms:created>
  <dc:creator>Светлана</dc:creator>
  <dc:description/>
  <dc:language>en-US</dc:language>
  <cp:lastModifiedBy>Братякова</cp:lastModifiedBy>
  <dcterms:modified xsi:type="dcterms:W3CDTF">2011-09-16T14:10:38Z</dcterms:modified>
  <cp:revision>6</cp:revision>
  <dc:subject/>
  <dc:title>Переломы </dc:title>
</cp:coreProperties>
</file>