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590-272F-4A9E-AD2D-9BC810EE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43F-6C98-4226-B38D-E7FBFA23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F5B-E137-4B20-B5D1-08FC1F17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9B9-0ECA-4C91-8F19-236C603B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BA7-9291-41B9-B190-F2746530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3E2-F08D-4333-B00A-557FB145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8A0-F5B1-4D21-8B4C-4A50EAB3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EB2-FB2C-4CE8-A49C-24302EBB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C78-9E6A-4C1B-A890-1079352F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BF7-E667-47FB-B8A3-148D2B3F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223-7B27-4918-8289-4E55E3A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8BF-3513-4393-8680-26AEC6E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B0ED-9929-4048-8611-B8997BABAF8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D7FC-E745-44BE-AC69-2247FF5F0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856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3399"/>
                </a:solidFill>
                <a:latin typeface="Arial Narrow"/>
              </a:rPr>
              <a:t>Гигиена опорно-двигательной системы, первая помощь при наруш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0880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Дать понятия правильной и неправильной осанки, а так же факторов, влияющих на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Охарактеризовать различные виды травм системы опоры и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учиться различать повреждения, определять цели доврачебн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Научиться оказывать доврачебную помощь и понимать ее ос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B536-0D11-4FC7-8C17-3AA88FFDEB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AA7-DEE8-4E69-B4EF-B98ABF6C2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8_059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5AFE-F789-4385-A1B3-982563B8DA1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7CD-60DC-4AC0-A700-B0C8AB524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108000" y="81000"/>
            <a:ext cx="8856720" cy="6643800"/>
          </a:xfrm>
          <a:prstGeom prst="rect">
            <a:avLst/>
          </a:prstGeom>
          <a:ln w="0">
            <a:noFill/>
          </a:ln>
        </p:spPr>
      </p:pic>
      <p:sp>
        <p:nvSpPr>
          <p:cNvPr id="11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4788-2A2A-4B4C-A710-0F22AF80A84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45A-4B40-462B-B3D7-EE36CFAE8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268360" y="404640"/>
            <a:ext cx="4681800" cy="649440"/>
          </a:xfrm>
          <a:prstGeom prst="rect">
            <a:avLst/>
          </a:prstGeom>
          <a:solidFill>
            <a:srgbClr val="cc99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перел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0" y="1341360"/>
            <a:ext cx="4140360" cy="1366920"/>
          </a:xfrm>
          <a:prstGeom prst="diamond">
            <a:avLst/>
          </a:prstGeom>
          <a:solidFill>
            <a:srgbClr val="ff00ff">
              <a:alpha val="7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ры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788000" y="1268280"/>
            <a:ext cx="4140000" cy="1366920"/>
          </a:xfrm>
          <a:prstGeom prst="diamond">
            <a:avLst/>
          </a:prstGeom>
          <a:solidFill>
            <a:srgbClr val="ff00ff">
              <a:alpha val="7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971640" y="2852640"/>
          <a:ext cx="206676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852640"/>
                    <a:ext cx="206676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6516720" y="2781360"/>
          <a:ext cx="121932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781360"/>
                    <a:ext cx="1219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AutoShape 9"/>
          <p:cNvSpPr/>
          <p:nvPr/>
        </p:nvSpPr>
        <p:spPr>
          <a:xfrm>
            <a:off x="0" y="5589720"/>
            <a:ext cx="4067280" cy="107928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пов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гких тка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4932360" y="5516640"/>
            <a:ext cx="4067280" cy="1079280"/>
          </a:xfrm>
          <a:prstGeom prst="flowChartTerminator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врежд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и и других тка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ата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C6B4-76EF-4FAA-A211-B61B20899E2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A922-62AF-4EB9-B51E-BDD689776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3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2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382-B919-43F0-A9B4-D36657CBA2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CBC7-74B1-413F-B91C-8B95DC0D4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ерелом руки.wmv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FE7-0195-46D8-9950-637E44AA904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DD63-0A7F-4A11-A395-095C4FAC1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0808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5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ерелом ноги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CDD8-12A4-45F1-9DA5-6C0E6E526F9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DAF4-05A0-4904-A007-DF93F3B32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транспортировка при переломе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9925-59DC-4CB9-82D0-BE762818BD0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22BE-E245-474C-89B1-8AA9BCCFC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206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8_05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4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C92-B14D-46EE-98B9-2BD8F3DBD2D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BC35-56F2-4EF1-8521-A5955C5A9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8_056"/>
          <p:cNvPicPr/>
          <p:nvPr/>
        </p:nvPicPr>
        <p:blipFill>
          <a:blip r:embed="rId1"/>
          <a:stretch/>
        </p:blipFill>
        <p:spPr>
          <a:xfrm>
            <a:off x="250920" y="15084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14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1FC4-7DE4-47AC-8E31-65D9BC62B8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9DAB-4151-4092-8ABE-CA02CCF94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52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A021-F675-438A-B630-0A94567CBE6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F77-1CA9-48CC-A20F-8A1CCED22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4140360" y="404640"/>
          <a:ext cx="207612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404640"/>
                    <a:ext cx="2076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5"/>
          <p:cNvGraphicFramePr/>
          <p:nvPr/>
        </p:nvGraphicFramePr>
        <p:xfrm>
          <a:off x="611280" y="260280"/>
          <a:ext cx="1074600" cy="580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60280"/>
                    <a:ext cx="10746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WordArt 6"/>
          <p:cNvSpPr txBox="1"/>
          <p:nvPr/>
        </p:nvSpPr>
        <p:spPr>
          <a:xfrm>
            <a:off x="1763640" y="2565360"/>
            <a:ext cx="20383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рдо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51280" y="2852640"/>
            <a:ext cx="1655640" cy="2160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6300720" y="1413000"/>
            <a:ext cx="2384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фо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9"/>
          <p:cNvSpPr/>
          <p:nvPr/>
        </p:nvSpPr>
        <p:spPr>
          <a:xfrm rot="10800000">
            <a:off x="5724360" y="907920"/>
            <a:ext cx="1656000" cy="2160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ата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6908-17CC-4AAA-BB36-34AB1A0636B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5DE-7F88-4762-AA0B-3A55C6DD3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4_05_03_10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5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C44-55C9-4001-8A4A-369A0472F47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442C-1985-4A9F-8ADB-0B560B17A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89800"/>
          </a:xfrm>
          <a:prstGeom prst="rect">
            <a:avLst/>
          </a:prstGeom>
          <a:ln w="0">
            <a:noFill/>
          </a:ln>
        </p:spPr>
      </p:pic>
      <p:sp>
        <p:nvSpPr>
          <p:cNvPr id="1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7840-7D8D-4E02-B2C1-51A6E864355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624F-BD4B-4512-AADD-1A254E44C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15,16, оформить лабораторную работу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стр. 7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AE0-1E8E-4362-A6C2-655E854151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1CB0-5247-4BC8-9B5C-F4E0FC15A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_01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8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B94-AABC-4824-B9EB-F2D083CF55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14F-87AC-4DDF-945F-7C53A1D35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оли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979560" y="1484280"/>
          <a:ext cx="294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1484280"/>
                    <a:ext cx="294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8"/>
          <p:cNvGraphicFramePr/>
          <p:nvPr/>
        </p:nvGraphicFramePr>
        <p:xfrm>
          <a:off x="5146560" y="1600200"/>
          <a:ext cx="304020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6560" y="1600200"/>
                    <a:ext cx="3040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DF2C-FBED-4BDC-B715-425AB6486D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26B9-4018-4E5A-B4E0-20E3C67EA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Формирование ос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0920" y="1700280"/>
            <a:ext cx="3456000" cy="259236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вномер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 гармон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сех мыше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груп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292720" y="1700280"/>
            <a:ext cx="3456000" cy="259236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рави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обра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мебель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занятий и обу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(для предуп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лоскостопия)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843280" y="4581360"/>
            <a:ext cx="3456000" cy="1727280"/>
          </a:xfrm>
          <a:prstGeom prst="rect">
            <a:avLst/>
          </a:prstGeom>
          <a:solidFill>
            <a:srgbClr val="cc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ежим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 отды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8"/>
          <p:cNvCxnSpPr>
            <a:stCxn id="69" idx="2"/>
            <a:endCxn id="70" idx="0"/>
          </p:cNvCxnSpPr>
          <p:nvPr/>
        </p:nvCxnSpPr>
        <p:spPr>
          <a:xfrm rot="5400000">
            <a:off x="3003480" y="100800"/>
            <a:ext cx="543960" cy="2592720"/>
          </a:xfrm>
          <a:prstGeom prst="bentConnector3">
            <a:avLst>
              <a:gd name="adj1" fmla="val 529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9"/>
          <p:cNvCxnSpPr>
            <a:stCxn id="69" idx="2"/>
            <a:endCxn id="71" idx="0"/>
          </p:cNvCxnSpPr>
          <p:nvPr/>
        </p:nvCxnSpPr>
        <p:spPr>
          <a:xfrm flipH="1" rot="16200000">
            <a:off x="5524920" y="172080"/>
            <a:ext cx="543960" cy="2449800"/>
          </a:xfrm>
          <a:prstGeom prst="bentConnector3">
            <a:avLst>
              <a:gd name="adj1" fmla="val 529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0"/>
          <p:cNvCxnSpPr>
            <a:stCxn id="69" idx="2"/>
            <a:endCxn id="72" idx="0"/>
          </p:cNvCxnSpPr>
          <p:nvPr/>
        </p:nvCxnSpPr>
        <p:spPr>
          <a:xfrm>
            <a:off x="4571640" y="1125360"/>
            <a:ext cx="1080" cy="342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Дата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1D5D-8F96-47C5-8A8A-78240C77752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7E78-EEEC-4370-9F53-C292B9A5C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Arial"/>
              </a:rPr>
              <a:t>Неправильная осан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95280" y="1628640"/>
            <a:ext cx="3745080" cy="2016360"/>
          </a:xfrm>
          <a:prstGeom prst="wedgeRectCallout">
            <a:avLst>
              <a:gd name="adj1" fmla="val 47624"/>
              <a:gd name="adj2" fmla="val -83384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рудн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х, серд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удочно-кишеч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076720" y="1700280"/>
            <a:ext cx="3745080" cy="2016000"/>
          </a:xfrm>
          <a:prstGeom prst="wedgeRectCallout">
            <a:avLst>
              <a:gd name="adj1" fmla="val -51439"/>
              <a:gd name="adj2" fmla="val -89842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ньш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кость легких, сни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мен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2050920" y="4508640"/>
            <a:ext cx="3745080" cy="2016000"/>
          </a:xfrm>
          <a:prstGeom prst="wedgeRectCallout">
            <a:avLst>
              <a:gd name="adj1" fmla="val 14476"/>
              <a:gd name="adj2" fmla="val -228740"/>
            </a:avLst>
          </a:prstGeom>
          <a:solidFill>
            <a:srgbClr val="6666ff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овные боли, повышается утом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47CF-2229-44E5-86EB-13B61E23095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A0F5-57AD-4F1D-8D96-641E7F5CA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ды повреждения ОД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900000" y="1341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астяжени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900000" y="364500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ывих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5292720" y="3645000"/>
            <a:ext cx="251928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лом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79280" y="2133720"/>
            <a:ext cx="3203640" cy="1366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зок су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5364000" y="1341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шиб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 rot="2797200">
            <a:off x="3095280" y="1447920"/>
            <a:ext cx="2544840" cy="2617560"/>
          </a:xfrm>
          <a:custGeom>
            <a:avLst/>
            <a:gdLst>
              <a:gd name="textAreaLeft" fmla="*/ 954360 w 2544840"/>
              <a:gd name="textAreaRight" fmla="*/ 1590480 w 2544840"/>
              <a:gd name="textAreaTop" fmla="*/ 981720 h 2617560"/>
              <a:gd name="textAreaBottom" fmla="*/ 1636200 h 2617560"/>
            </a:gdLst>
            <a:ahLst/>
            <a:rect l="textAreaLeft" t="textAreaTop" r="textAreaRight" b="textAreaBottom"/>
            <a:pathLst>
              <a:path w="21600" h="21600">
                <a:moveTo>
                  <a:pt x="8100" y="8100"/>
                </a:moveTo>
                <a:lnTo>
                  <a:pt x="10123" y="8100"/>
                </a:lnTo>
                <a:lnTo>
                  <a:pt x="10123" y="3506"/>
                </a:lnTo>
                <a:lnTo>
                  <a:pt x="8100" y="3506"/>
                </a:lnTo>
                <a:lnTo>
                  <a:pt x="10800" y="0"/>
                </a:lnTo>
                <a:lnTo>
                  <a:pt x="13500" y="3506"/>
                </a:lnTo>
                <a:lnTo>
                  <a:pt x="11477" y="3506"/>
                </a:lnTo>
                <a:lnTo>
                  <a:pt x="11477" y="8100"/>
                </a:lnTo>
                <a:lnTo>
                  <a:pt x="13500" y="8100"/>
                </a:lnTo>
                <a:lnTo>
                  <a:pt x="13500" y="10123"/>
                </a:lnTo>
                <a:lnTo>
                  <a:pt x="18094" y="10123"/>
                </a:lnTo>
                <a:lnTo>
                  <a:pt x="18094" y="8100"/>
                </a:lnTo>
                <a:lnTo>
                  <a:pt x="21600" y="10800"/>
                </a:lnTo>
                <a:lnTo>
                  <a:pt x="18094" y="13500"/>
                </a:lnTo>
                <a:lnTo>
                  <a:pt x="18094" y="11477"/>
                </a:lnTo>
                <a:lnTo>
                  <a:pt x="13500" y="11477"/>
                </a:lnTo>
                <a:lnTo>
                  <a:pt x="13500" y="13500"/>
                </a:lnTo>
                <a:lnTo>
                  <a:pt x="11477" y="13500"/>
                </a:lnTo>
                <a:lnTo>
                  <a:pt x="11477" y="18094"/>
                </a:lnTo>
                <a:lnTo>
                  <a:pt x="13500" y="18094"/>
                </a:lnTo>
                <a:lnTo>
                  <a:pt x="10800" y="21600"/>
                </a:lnTo>
                <a:lnTo>
                  <a:pt x="8100" y="18094"/>
                </a:lnTo>
                <a:lnTo>
                  <a:pt x="10123" y="18094"/>
                </a:lnTo>
                <a:lnTo>
                  <a:pt x="10123" y="13500"/>
                </a:lnTo>
                <a:lnTo>
                  <a:pt x="8100" y="13500"/>
                </a:lnTo>
                <a:lnTo>
                  <a:pt x="8100" y="11477"/>
                </a:lnTo>
                <a:lnTo>
                  <a:pt x="3506" y="11477"/>
                </a:lnTo>
                <a:lnTo>
                  <a:pt x="3506" y="13500"/>
                </a:lnTo>
                <a:lnTo>
                  <a:pt x="0" y="10800"/>
                </a:lnTo>
                <a:lnTo>
                  <a:pt x="3506" y="8100"/>
                </a:lnTo>
                <a:lnTo>
                  <a:pt x="3506" y="10123"/>
                </a:lnTo>
                <a:lnTo>
                  <a:pt x="8100" y="10123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5364000" y="2133720"/>
            <a:ext cx="3203640" cy="13665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р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гких тка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179280" y="4365720"/>
            <a:ext cx="3456000" cy="237636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йкое сме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ста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леня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ей по отно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 к др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5292720" y="4365720"/>
            <a:ext cx="3311640" cy="208764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том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ата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CF7-CC27-4982-81F0-D56353A0733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D290-5E9D-4CBF-B730-5E9EA97C7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_057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126-544D-4C9A-9203-BABE344692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3D0B-FCFD-4C53-868B-96D64ACD1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8_058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403B-94F0-4430-ABE3-FCF61F6C941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B227-B356-437F-BDEA-494B0C415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атякова С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6:04:53Z</dcterms:created>
  <dc:creator>Светлана</dc:creator>
  <dc:description/>
  <dc:language>en-US</dc:language>
  <cp:lastModifiedBy>Братякова</cp:lastModifiedBy>
  <dcterms:modified xsi:type="dcterms:W3CDTF">2011-09-16T14:10:38Z</dcterms:modified>
  <cp:revision>6</cp:revision>
  <dc:subject/>
  <dc:title>Переломы </dc:title>
</cp:coreProperties>
</file>