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D445-ED23-4D0E-B774-A2391986FF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41B-E8F4-4771-A4E9-652B2453D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4774-87CC-4E43-B3C4-0A755E8C9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3208-8356-4A6E-B0A0-7B849A38E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D581-2976-4F8E-A5B7-EEE6138D6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775C-258C-47CB-BB1F-3D28BC647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3930-C23E-4978-8918-466FA61E8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26BA-2D07-4357-81FF-100CC0B59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538A-01FC-4970-A5E9-BD6E72AAC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0ACB-ADC8-4D37-A328-964BCA873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9B3A-23F9-480A-88FF-666C38EF7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198F-C305-4C17-968D-6EECBDE7B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A76-E446-4BFD-A19F-4E343E79A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F8F9-4AC0-4797-9B3A-84716F28B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32CE-D7DE-4A6C-8777-E0F9491BB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85A5-A05A-4A08-B579-0E9E44AFC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6BB6-21F4-4C2B-B619-3D708CBA7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B7C1-DD36-4E20-8765-D70B7E840B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E24-7AAC-46BD-A6BA-B499B825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5BE-4C42-4095-A67F-0473738D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C04E-43E2-4305-9B7D-12E92A4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2E07F-334F-4990-B0BB-2BE0B79E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94219-B49E-4F56-AC44-55B2A856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0CCB-4503-4C2B-9D88-18C2FA7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071F5-F5BE-498D-BF27-A48F1F4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C569F-1ECA-42ED-BFDD-5E61F66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BD8B3-B7D6-4715-8024-9B4A0754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FCC78-C0B6-47A7-8C4E-194D384C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17073-2FCF-452B-90FF-7577D36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C2668-D064-47F8-9274-27C26737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9AD-DE6E-464D-92DB-60BFA83D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2A02E-627B-41A7-8A3F-A3B12E79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C62B8-20DC-4AF1-82B3-F8573738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3E15-169E-43DA-B1F2-5D4C2F1B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AB2CC-188D-4B0B-AAFB-DA25F4CE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7054E-7FC4-4628-B535-FA5BBA99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01844-46D0-4FFA-A8BE-74B75305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3D16D-4A52-4B62-AABD-303DA5A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ACB1B-7FE9-4814-9319-D462608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BF1E4-CA69-4FFD-9D3A-CE3AC7B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FF12E-36F8-4421-8DB0-8B421777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E62-1EE9-40CF-96D3-68DC7F33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E0657-7E98-476D-ABD6-BDDD1BFB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DFE77-93C7-4A20-A2C0-386BBFCC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B89EB-A95C-4BBD-B4BE-E6D74C70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4BE40-9542-47BD-938A-109F63EE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5A5AD-F97D-495C-9E0A-2D58374E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E14F4-CACA-4492-BA0C-415D5EF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339F8-EB9C-4054-BA55-52FD67E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AE968-C45B-4931-89D5-00847F7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26CC9-3A24-4B64-930C-9346BB9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BE50A-2D16-4933-99F8-EAF6DD78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2F50-6788-4DDD-8F0A-680D599A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88DDA-47F5-4C46-A7ED-E891D599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A5356-B96D-4F4B-8A7E-EA927FFE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340B9-1C44-40D5-A6BB-BC41642C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C5E0-8580-4543-B9BF-6FA97DD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1576-BB2A-4975-B1B3-204D9EFB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1EDB-67F4-4038-B928-D1CD54D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F2B-FDD7-4206-BD98-85D7A680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A29E-C20D-499E-BD09-5C493FC3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1A3F-07EA-4461-BBA2-38D84E03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E42-9630-4CC3-94EA-3BCE4B6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FCC0-3FBE-4D17-B35C-B24B64E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D72-B48E-4797-856C-4A9B752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303A-01BF-406E-AD9B-5E9E440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F08-06F4-46A5-A4A5-FFD31731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C00C-293B-4C27-979D-26A2762F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BBD6-45DF-4739-B24C-FD98B61E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A18A-18DD-47C2-B3A0-9526A7A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60CC-EDCC-49BC-B51C-933995F6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D487-77C9-4C94-8647-C1D5EBFD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4AF5-F42A-41D3-8CA9-674696C7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90E-69D8-49C8-B03B-83FF2CE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C0B3-2B74-4011-97F1-2541EBD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CEE3-0217-42BC-B70C-163FF6A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AB02-BF57-41A0-910C-3AFC5CE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4C82-4FEA-43EF-84A9-74FF35E7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9077-BFCB-4D23-AE0E-8DD13AAE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2D59-B49B-4AFB-8C1E-3721A193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470F-9EE0-49CC-8BBE-0B316E76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2AC27-D85A-4B27-AD45-7F35A3C7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76BC6-ABAD-4BA3-9198-72257305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01E19-232D-4E68-87A8-6DB6266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C7B-1285-4C51-968C-0A39AD7A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D75FD-1C0B-45E2-A84C-164B13A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9A9F1-C2C6-44CE-8656-E1A1424D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1DA55-E4C1-422D-98F0-3367B6A6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5145D-13BA-4383-A80B-171A510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1CB09-A0A5-47F9-AD39-06850AE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3DD15-F6C9-41E8-97F2-4BDE92C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ADB87-6C62-46D1-8380-FBBE670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6FBD0-4E1F-4574-B401-A321AAAD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50B36-18A5-4160-832B-8E91F8C4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9DEBE-97A7-4A54-89D6-5477DD5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321-E78A-4606-BDA3-01B5B7F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FE3C-2B94-42C3-91F7-0BC53ABA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7020C-06BD-45AB-9D2F-FF36093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0051-6F25-4440-8290-5DBC79E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9BC5-643F-4587-977A-D253F1B6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A5D4-7D0D-4CF7-926F-2F3EBC3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56AC-4D59-4171-8BED-036C522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2FCB-C0D2-4DA1-B991-B774CE97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C9E3-1328-4B0D-99A2-DD9833E3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39A9D-8E2D-4C59-9A60-6A63B14B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87BC-2DE2-4D89-9295-F81195D7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87B-F51E-4CCF-A5E3-4712CADE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2D3C-E37D-439E-8591-306581F3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F79E-94B3-4FAD-9116-C79DCDF5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FD8BF-B80D-4C08-8EE1-1227DA39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73FF1-8DBC-4D35-82B8-41F53B12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AA33-3D6C-4305-8A94-C8DDB132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FF10-2E99-447D-BC1D-8DB46D50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E802-5B83-43EC-8DB5-2D4B785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55F0C-E4C0-4ECC-A4F7-17310DB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343D-0BE4-45B1-980D-9298A57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3E784-BC88-4A52-B761-3834DDF0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969-FCD5-4669-BA30-9243E3C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FD03-924E-485D-B719-B5C72B62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D3FB-3153-47FE-81A6-57832B9C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B2B0E-E781-4390-AC19-BDFAEB9E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03DA8-77A9-4217-84B8-7B12F047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D452B-1BF5-44F9-98C6-1084BD66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0095B-8408-482E-8531-C994D54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73A34-5828-48E5-BD8C-628F08CC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0330B-D047-47F7-A83E-B3F7E1DC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3571A-2EC9-4FF5-A083-5AEE0F0F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E9B29-A9BF-496F-B6AF-60C75014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781-C957-4FAE-8E30-1733DE5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D04F1-8BEE-42A8-BF97-A103A1D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4E391-DF29-47BC-A1B5-959E115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1ADB5-DC8F-4C75-8101-7890028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6FCBF-B033-4D14-AAB4-9C217F4C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9D22E-9EAA-4DF8-8D0D-D3D00A17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C0E2-3F47-44A7-BF79-609344FC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F893-0D5F-431E-87F5-401DE72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4C49-92BC-4723-8A54-FC8EFC8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FF457-761E-4175-96D1-ADEA789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B24CB-BA74-4206-B162-FE3C075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206-B605-4E42-87EE-D6420E0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9CDD1-D656-43EF-9BAF-095DBF5E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9D30A-3A33-4E12-876E-FB15BDE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97F33-C305-4731-872D-1487992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CC71-BA0A-407B-BF38-4132891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CD916-1E52-4EC7-AB95-10D99D6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81C33-7D3D-4DA7-B895-C2021AC0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21FE-DA70-483D-BAA7-FCB1D33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5FFDB-E4C0-4106-9F66-44DF9AB2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292EC-D990-40FE-8BB0-B047EC7F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220EE-D23A-4647-A1E6-2AA679C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F31B-B5B2-49F5-8057-5E020A95C5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1CA-7A57-40CF-B5E2-16391C2A7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6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7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9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87C-5A31-4C88-8816-FEB81BBEB1B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48C-6CDD-41E3-845A-1A26711DE9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40E7-B729-4BBF-B30E-327ECD68E17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7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038-A378-497A-A9A9-181CEF31D6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3410-FA69-46FF-9986-680684242E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8A5-A281-41FA-AE03-474CFC45EC1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6C4-58D7-4ED3-95BE-99AC1BF63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0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0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1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C393-C3F2-45CA-A515-B2B9FF16E0A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6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5DF-62B7-4AC7-822B-EFD645EE0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мерение объема т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зу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ливной ста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гружении тела в отливной стакан с водой, вода выливается. Объем этой воды равен объему погруженн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359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4" descr="50502513_12984706_mandr"/>
          <p:cNvPicPr/>
          <p:nvPr/>
        </p:nvPicPr>
        <p:blipFill>
          <a:blip r:embed="rId1"/>
          <a:stretch/>
        </p:blipFill>
        <p:spPr>
          <a:xfrm>
            <a:off x="1187280" y="1916280"/>
            <a:ext cx="2762280" cy="380988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5" descr="bec471d7707d"/>
          <p:cNvPicPr/>
          <p:nvPr/>
        </p:nvPicPr>
        <p:blipFill>
          <a:blip r:embed="rId2"/>
          <a:stretch/>
        </p:blipFill>
        <p:spPr>
          <a:xfrm>
            <a:off x="5435640" y="1916280"/>
            <a:ext cx="247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аборатор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объем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научиться измерять объем тела при  помощи менз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оры и оборудование: измерительный цилиндр; набор твердых тел; нитки,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блиц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яемое 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ый объем жидкост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жидкости с тел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твердого тел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=V2-V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ить объем параллелепипе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ить объем твердого тела неправильной фор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единицы измерения объема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едите полученные результаты лабораторной работы в 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готовиться к лабораторной работе «Определение плотности твердого тела», стр.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WordArt 4"/>
          <p:cNvSpPr txBox="1"/>
          <p:nvPr/>
        </p:nvSpPr>
        <p:spPr>
          <a:xfrm rot="20646600">
            <a:off x="1604520" y="1666800"/>
            <a:ext cx="6480360" cy="34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254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25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5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064" name="Oval 16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7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8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9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21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22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3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24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25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6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29"/>
          <p:cNvSpPr/>
          <p:nvPr/>
        </p:nvSpPr>
        <p:spPr>
          <a:xfrm>
            <a:off x="8532720" y="115920"/>
            <a:ext cx="432000" cy="4334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088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25"/>
          <p:cNvSpPr/>
          <p:nvPr/>
        </p:nvSpPr>
        <p:spPr>
          <a:xfrm rot="19972200">
            <a:off x="684000" y="3933720"/>
            <a:ext cx="7645320" cy="254160"/>
          </a:xfrm>
          <a:prstGeom prst="rightArrow">
            <a:avLst>
              <a:gd name="adj1" fmla="val 50000"/>
              <a:gd name="adj2" fmla="val 752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26"/>
          <p:cNvSpPr/>
          <p:nvPr/>
        </p:nvSpPr>
        <p:spPr>
          <a:xfrm>
            <a:off x="1116000" y="5229360"/>
            <a:ext cx="4319640" cy="50328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>
            <a:off x="8388360" y="260280"/>
            <a:ext cx="504720" cy="432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14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26"/>
          <p:cNvSpPr/>
          <p:nvPr/>
        </p:nvSpPr>
        <p:spPr>
          <a:xfrm rot="6266400">
            <a:off x="3912480" y="3366720"/>
            <a:ext cx="4916520" cy="287640"/>
          </a:xfrm>
          <a:prstGeom prst="rightArrow">
            <a:avLst>
              <a:gd name="adj1" fmla="val 50000"/>
              <a:gd name="adj2" fmla="val 427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7"/>
          <p:cNvSpPr/>
          <p:nvPr/>
        </p:nvSpPr>
        <p:spPr>
          <a:xfrm rot="8857800">
            <a:off x="610920" y="2852280"/>
            <a:ext cx="6912000" cy="244440"/>
          </a:xfrm>
          <a:prstGeom prst="rightArrow">
            <a:avLst>
              <a:gd name="adj1" fmla="val 50000"/>
              <a:gd name="adj2" fmla="val 706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28"/>
          <p:cNvSpPr/>
          <p:nvPr/>
        </p:nvSpPr>
        <p:spPr>
          <a:xfrm>
            <a:off x="8459640" y="189000"/>
            <a:ext cx="433440" cy="360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40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5"/>
          <p:cNvSpPr/>
          <p:nvPr/>
        </p:nvSpPr>
        <p:spPr>
          <a:xfrm rot="9551400">
            <a:off x="1121760" y="2597040"/>
            <a:ext cx="6769080" cy="144720"/>
          </a:xfrm>
          <a:prstGeom prst="rightArrow">
            <a:avLst>
              <a:gd name="adj1" fmla="val 50000"/>
              <a:gd name="adj2" fmla="val 11693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26"/>
          <p:cNvSpPr/>
          <p:nvPr/>
        </p:nvSpPr>
        <p:spPr>
          <a:xfrm rot="11055600">
            <a:off x="3347280" y="1196640"/>
            <a:ext cx="4248360" cy="216000"/>
          </a:xfrm>
          <a:prstGeom prst="rightArrow">
            <a:avLst>
              <a:gd name="adj1" fmla="val 50000"/>
              <a:gd name="adj2" fmla="val 4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7"/>
          <p:cNvSpPr/>
          <p:nvPr/>
        </p:nvSpPr>
        <p:spPr>
          <a:xfrm>
            <a:off x="8532720" y="260280"/>
            <a:ext cx="43200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6"/>
                </a:lnTo>
                <a:lnTo>
                  <a:pt x="349333" y="360362"/>
                </a:lnTo>
                <a:lnTo>
                  <a:pt x="215900" y="275291"/>
                </a:lnTo>
                <a:lnTo>
                  <a:pt x="82467" y="360362"/>
                </a:lnTo>
                <a:lnTo>
                  <a:pt x="133435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0"/>
          <p:cNvSpPr/>
          <p:nvPr/>
        </p:nvSpPr>
        <p:spPr>
          <a:xfrm>
            <a:off x="7667640" y="472428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66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27"/>
          <p:cNvSpPr/>
          <p:nvPr/>
        </p:nvSpPr>
        <p:spPr>
          <a:xfrm rot="10800000">
            <a:off x="5003640" y="2707920"/>
            <a:ext cx="2592720" cy="2305080"/>
          </a:xfrm>
          <a:custGeom>
            <a:avLst/>
            <a:gdLst>
              <a:gd name="textAreaLeft" fmla="*/ 347400 w 2592720"/>
              <a:gd name="textAreaRight" fmla="*/ 2245320 w 2592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28"/>
          <p:cNvSpPr/>
          <p:nvPr/>
        </p:nvSpPr>
        <p:spPr>
          <a:xfrm>
            <a:off x="8028000" y="4365720"/>
            <a:ext cx="43164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29"/>
          <p:cNvSpPr/>
          <p:nvPr/>
        </p:nvSpPr>
        <p:spPr>
          <a:xfrm>
            <a:off x="8459640" y="189000"/>
            <a:ext cx="433440" cy="503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92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25"/>
          <p:cNvSpPr/>
          <p:nvPr/>
        </p:nvSpPr>
        <p:spPr>
          <a:xfrm rot="15030600">
            <a:off x="72000" y="3751920"/>
            <a:ext cx="3744720" cy="362160"/>
          </a:xfrm>
          <a:prstGeom prst="rightArrow">
            <a:avLst>
              <a:gd name="adj1" fmla="val 50000"/>
              <a:gd name="adj2" fmla="val 2584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26"/>
          <p:cNvSpPr/>
          <p:nvPr/>
        </p:nvSpPr>
        <p:spPr>
          <a:xfrm>
            <a:off x="3276720" y="5445000"/>
            <a:ext cx="4248000" cy="289080"/>
          </a:xfrm>
          <a:prstGeom prst="rightArrow">
            <a:avLst>
              <a:gd name="adj1" fmla="val 50000"/>
              <a:gd name="adj2" fmla="val 3673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27"/>
          <p:cNvSpPr/>
          <p:nvPr/>
        </p:nvSpPr>
        <p:spPr>
          <a:xfrm>
            <a:off x="8317080" y="189000"/>
            <a:ext cx="502920" cy="4316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6352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рхиме́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Ἀρχιμήδης; 287 до н. э.) — 212 до н. э.) — древнегреческий математик, физик, механик и инженер из Сиракуз. Сделал множество открытий в геометрии. Заложил основы механики, гидростатики, автор ряда важных изобрете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8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ен рассказ о том, как 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Архимед всё время размышлял над этой задачей. Как-то он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 (εύρηκα), то есть «Нашёл!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Picture 4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305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7:42:41Z</dcterms:created>
  <dc:creator>Администратор</dc:creator>
  <dc:description/>
  <dc:language>en-US</dc:language>
  <cp:lastModifiedBy>Коля</cp:lastModifiedBy>
  <dcterms:modified xsi:type="dcterms:W3CDTF">2013-03-29T15:29:37Z</dcterms:modified>
  <cp:revision>8</cp:revision>
  <dc:subject/>
  <dc:title>Измерение объема тела</dc:title>
</cp:coreProperties>
</file>