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DD83-009F-43B8-A71B-351D247938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C565-7FC5-46C1-AFEB-58CB644F9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367-54F8-41BE-87B9-B7CED1457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1C5-D1D5-4969-98B5-E07E6C135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3BD-9A4B-48D9-811C-496067D18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E5E-FCBD-4CCB-B51B-C9B05DBEF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F3C4-F645-4948-A3FD-2BC9F2B6F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66A-127B-437F-9EEC-2B037B7FE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73E-85E3-4637-9CD0-E289C86CC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68F-80C8-4B51-9050-42570C211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4EAF-58E4-466B-AD28-E5F76765A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6FA-332B-45D2-A71D-77562F287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7F2F-415D-4A9A-A6B1-5C3342690E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FE9-DCDC-487B-833F-ABC50DC7B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D8F8-D448-4F3D-A825-1187D7A11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3AF0-BC8B-4E60-ADEC-6745A5D16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AC7A-0D4B-4CDE-9EEC-9823A4853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5E6-C269-4320-81DA-AEBA2EAED4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163-7B63-42EC-B8D8-EF42FB70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F7C-0231-4BAA-B363-6F883A8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5121E-9D27-488A-9661-438D8E9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0DA1-7C11-4382-B265-C41159B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CF6B9-D4CA-4999-A682-EC113C89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EBA89-19D8-4DC4-97B3-581C0D7B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4A3C4-07C1-4DA0-8E63-9F714830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C26E2-F443-4DD2-87E4-9771FC1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E01E-C1AE-41AD-896C-E2EC04D9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A0353-EDE2-4391-ADFB-6F18CC92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04F76-DF1D-4BD5-8BD3-5290D7CB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D2350-A156-433C-8F30-E712E4EF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E6E-6CAF-456B-90DF-329E4CF9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B1390-3226-4854-9904-485F102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01F3-AF34-4E12-9DDF-547A9D94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2609-6C9B-4FCA-9279-6850D64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C212C-5268-41F0-A628-D256C9F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21582-4274-4E39-9113-CB4D9F98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F31D3-9F75-4CCE-9DA7-11BA6FDC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D1A1D-5005-4B61-9B34-EBAE9EA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AC6E7-F673-4B26-9729-2857C26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27D4-E698-40C9-9448-246CCE48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E30D8-0A9A-4558-8313-EECE0EE8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E1E-0B17-4197-9552-6A9F3506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6F6DE-5CA4-457C-B8FE-37B71D1E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93C0F-0A29-4243-87BD-09D1ABF1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8E99E-165C-4C15-AA6A-9090D48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D83AD-D7EB-4B2C-9D86-8EDDC763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5CF85-67F0-4791-A56C-0CB2A98A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D5F4-4F94-4C18-9C36-FB677F8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A2BD1-4D06-4F94-B737-5E8842C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DFFD2-185C-441E-BC28-5AF3A91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663E-858B-42E9-926E-6F9C200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05291-7C7A-4ACA-B177-E2601FC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B82-A15F-4AB2-9007-4C04482D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7F0EC-4948-4A1E-8E8D-E0D70AE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7CDD-F931-4A39-A733-60ABEFE7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6A286-8577-4753-B4DD-B1CBA97E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1E9B-DBB8-405E-A6CB-78E4570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4600-00C4-4E1D-9E3A-6D3DEAEF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D275-427C-4A21-B56C-8DDF367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9843-1849-44A8-8C88-90A46CFD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0BE-43E4-4384-9309-0CACB17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ED43-A196-4CA6-821C-0B26A155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1F-B29E-41AA-A7AB-30B820B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8D5B-1C5D-46FB-A99D-F3FE8DF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C8E-A983-422F-9C4F-557AAEA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9194-3C3A-437E-8E14-AD4502B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61C-522A-4FF8-9568-320B6C92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1FF9-831C-4BCB-867A-B08C378E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0361-00D6-4213-8991-DC8D1837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7252-161E-4FB6-9C87-D7FCE00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B90D-E23A-4BF2-8F66-BBF0AC0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00BF-8A3D-4604-9ED8-06D80E19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DD11-1EE1-4342-A1F3-AD19A33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74C-C13D-452B-BFA5-5AF0F5F0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CEFA-8FB8-42B0-B5E1-4FC034F4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82CD-791D-446B-BD69-C438812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6A78-95BA-42F0-A3C0-31B778C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BAE0-DFB9-47FE-8538-C48B5E0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5456-2472-4A89-AF81-70DD1CA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5AA8-1DFB-4CF2-8A10-66D137E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21AA-5BFA-4B50-874C-23A28A85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39164-6ABE-4AB4-9461-B921BC63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6C76B-4565-430E-B619-D3C6D487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ADBF8-2907-4FDF-9D1F-43E00576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13C-A328-42D1-B45C-20E0659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EAA31-4691-4370-9F12-05DBB1F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4EC97-E1B3-4690-BFA1-5F037AE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10923-7A60-49FA-8314-32C8A3DE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A810D-D40E-416E-9A9E-C61306B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8F8CD-F3A6-4C40-B266-4DD8CFA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A4AEB-783D-497D-99F7-E0CACB0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EB2CA1-3A9C-490F-9FFA-5018DBF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D5218-0939-4CBC-97FB-5CC9FF36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717074-2B1A-45F6-8785-4C573F94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FA13-489B-4BE3-9246-42286979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161-4905-41E2-A058-45A1E1C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D410-E85A-40B8-BC45-88138AFC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1C3F2-0DF5-4A64-B271-221ACFF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A46A-E26C-45ED-8E85-8F574493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6051-BE35-4DB6-B0F5-F3058C83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0188-64A0-4964-88A6-ECE95296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D1791-3DB8-45C2-A5C8-B89DC31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403C-60C5-4612-B504-9C6033F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228A-6624-442B-AF9B-572E56B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9505-9E49-4873-AD6C-3364FFC3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4284-B5EB-4DB0-B2C7-BB9B770D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A66-4317-4138-92B3-4C84884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23DCB-3F9E-4579-A781-BF6C0AE7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5E1D-6476-4049-A5D9-FA930DC8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8997C-C672-42A7-98FE-0E63A94D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5473A-27B4-48D4-9F46-C897E2FD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0DA31-7769-489A-B26D-E44A660D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808FD-94AB-4EE4-8B29-FB1782BF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363A0-4BD6-45FC-B269-2AEFD5B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0E6CE-FFA4-4379-9CBF-33D97872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B7622-429F-4F55-91BA-788BF0E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BEF7E-350D-4E26-B5E1-1E69072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D2E-D283-49EA-BAA8-65AD048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90055-4D9E-456A-BC54-54DE26A9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1898-2844-453E-A59B-9AFF133C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1649-F933-489E-B795-E96A7C93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E6E8F-1AF7-4CF8-86EB-74151DB7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2046F-887B-4788-B339-18D8908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EBC64-CAC0-48E1-9ABB-53C8BF74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BBE3B-6E4E-49E2-9F7E-1D36CE22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CF7AC2-8E30-4D39-BC4C-E22601F8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66499-749A-4D26-961D-2AE8C3F9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90771-E38F-4B0A-AD01-A5C852B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197-17FA-4652-9110-A1EC8DC0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222EA6-D656-41D9-ABB8-EC66FCA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598E8-A472-40D1-A708-C86B6AD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BDD4B-66C1-4DCB-8A12-A56C3BD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D6DBD-E43A-4110-9BEC-37F20442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3963C-5767-471A-AB66-399B344B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EF39-5C9A-4F2C-A293-7215B46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78E0-C0C5-4FFF-8C48-6D293F70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33FD-C290-4C9E-965A-171B5C0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1BB0C-A0D4-4579-9A8C-87A77386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BBEC8-5C4B-44A9-AC09-D49795E9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73F-E5AD-4A7F-BD72-EA1A09F5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386A7-6979-4C60-8AFF-19E43DB3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4E17-C479-41E8-BC44-0C99778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0476-6400-4679-9A39-24D1B82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3D0D-0D8B-4556-8FD6-0FC6AEE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A2AAF-FA58-48E5-9B45-D7A8E233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DDBB6-AABB-417D-B9CA-614D2918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6447-7D0F-4475-8AC2-AC78254D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7CDB2-E2B3-42AC-9091-3A8C2545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F5402-C167-47F8-AD07-57B5133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C04AA-CB22-4FD6-ABAB-586E2F7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FC5-122D-4EB8-9322-C94D2FBD53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1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7D8-82C7-4DFC-9958-8E20E8AFEE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6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7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9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33B-48BF-4A39-A1E3-FFB01B14165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258-70C9-4678-B05A-FD4FA528F4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F29E-3B22-4028-BD72-08D2DAE7FD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70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872B-DDDA-412C-A1E1-7E5476181E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7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F98-378A-454E-B740-54453036B5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77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81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06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FFB8-E6DF-4301-99E5-E9CB32DD3D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E89C-F420-41BD-92FC-57A860DBDB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9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0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1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124-6CB6-41D6-B903-F3DE561827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6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C2C-0499-4500-8A49-3EF4848FC9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змерение объема т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нзу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ливной стак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гружении тела в отливной стакан с водой, вода выливается. Объем этой воды равен объему погруженн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6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359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4" descr="50502513_12984706_mandr"/>
          <p:cNvPicPr/>
          <p:nvPr/>
        </p:nvPicPr>
        <p:blipFill>
          <a:blip r:embed="rId1"/>
          <a:stretch/>
        </p:blipFill>
        <p:spPr>
          <a:xfrm>
            <a:off x="1187280" y="1916280"/>
            <a:ext cx="2762280" cy="380988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5" descr="bec471d7707d"/>
          <p:cNvPicPr/>
          <p:nvPr/>
        </p:nvPicPr>
        <p:blipFill>
          <a:blip r:embed="rId2"/>
          <a:stretch/>
        </p:blipFill>
        <p:spPr>
          <a:xfrm>
            <a:off x="5435640" y="1916280"/>
            <a:ext cx="247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боратор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объема т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научиться измерять объем тела при  помощи менз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оры и оборудование: измерительный цилиндр; набор твердых тел; нитки,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аблица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яемое те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ый объем жидкост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жидкости с тело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твердого те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=V2-V1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параллелепипе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ить объем твердого тела неправильной фор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единицы измерения объема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едите полученные результаты лабораторной работы в 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вы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готовиться к лабораторной работе «Определение плотности твердого тела», стр. 1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1" name="WordArt 4"/>
          <p:cNvSpPr txBox="1"/>
          <p:nvPr/>
        </p:nvSpPr>
        <p:spPr>
          <a:xfrm rot="20646600">
            <a:off x="1604520" y="1666800"/>
            <a:ext cx="6480360" cy="34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7254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7254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5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64" name="Oval 16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7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8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9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0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21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22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3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24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25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6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29"/>
          <p:cNvSpPr/>
          <p:nvPr/>
        </p:nvSpPr>
        <p:spPr>
          <a:xfrm>
            <a:off x="8532720" y="115920"/>
            <a:ext cx="432000" cy="43344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088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25"/>
          <p:cNvSpPr/>
          <p:nvPr/>
        </p:nvSpPr>
        <p:spPr>
          <a:xfrm rot="19972200">
            <a:off x="684000" y="3933720"/>
            <a:ext cx="7645320" cy="254160"/>
          </a:xfrm>
          <a:prstGeom prst="rightArrow">
            <a:avLst>
              <a:gd name="adj1" fmla="val 50000"/>
              <a:gd name="adj2" fmla="val 752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26"/>
          <p:cNvSpPr/>
          <p:nvPr/>
        </p:nvSpPr>
        <p:spPr>
          <a:xfrm>
            <a:off x="1116000" y="5229360"/>
            <a:ext cx="4319640" cy="50328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27"/>
          <p:cNvSpPr/>
          <p:nvPr/>
        </p:nvSpPr>
        <p:spPr>
          <a:xfrm>
            <a:off x="8388360" y="260280"/>
            <a:ext cx="504720" cy="4320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14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26"/>
          <p:cNvSpPr/>
          <p:nvPr/>
        </p:nvSpPr>
        <p:spPr>
          <a:xfrm rot="6266400">
            <a:off x="3912480" y="3366720"/>
            <a:ext cx="4916520" cy="287640"/>
          </a:xfrm>
          <a:prstGeom prst="rightArrow">
            <a:avLst>
              <a:gd name="adj1" fmla="val 50000"/>
              <a:gd name="adj2" fmla="val 427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7"/>
          <p:cNvSpPr/>
          <p:nvPr/>
        </p:nvSpPr>
        <p:spPr>
          <a:xfrm rot="8857800">
            <a:off x="610920" y="2852280"/>
            <a:ext cx="6912000" cy="244440"/>
          </a:xfrm>
          <a:prstGeom prst="rightArrow">
            <a:avLst>
              <a:gd name="adj1" fmla="val 50000"/>
              <a:gd name="adj2" fmla="val 7069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28"/>
          <p:cNvSpPr/>
          <p:nvPr/>
        </p:nvSpPr>
        <p:spPr>
          <a:xfrm>
            <a:off x="8459640" y="189000"/>
            <a:ext cx="433440" cy="360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40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25"/>
          <p:cNvSpPr/>
          <p:nvPr/>
        </p:nvSpPr>
        <p:spPr>
          <a:xfrm rot="9551400">
            <a:off x="1121760" y="2597040"/>
            <a:ext cx="6769080" cy="144720"/>
          </a:xfrm>
          <a:prstGeom prst="rightArrow">
            <a:avLst>
              <a:gd name="adj1" fmla="val 50000"/>
              <a:gd name="adj2" fmla="val 11693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26"/>
          <p:cNvSpPr/>
          <p:nvPr/>
        </p:nvSpPr>
        <p:spPr>
          <a:xfrm rot="11055600">
            <a:off x="3347280" y="1196640"/>
            <a:ext cx="4248360" cy="216000"/>
          </a:xfrm>
          <a:prstGeom prst="rightArrow">
            <a:avLst>
              <a:gd name="adj1" fmla="val 50000"/>
              <a:gd name="adj2" fmla="val 491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27"/>
          <p:cNvSpPr/>
          <p:nvPr/>
        </p:nvSpPr>
        <p:spPr>
          <a:xfrm>
            <a:off x="8532720" y="260280"/>
            <a:ext cx="43200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0" y="137646"/>
                </a:moveTo>
                <a:lnTo>
                  <a:pt x="164934" y="137647"/>
                </a:lnTo>
                <a:lnTo>
                  <a:pt x="215900" y="0"/>
                </a:lnTo>
                <a:lnTo>
                  <a:pt x="266866" y="137647"/>
                </a:lnTo>
                <a:lnTo>
                  <a:pt x="431800" y="137646"/>
                </a:lnTo>
                <a:lnTo>
                  <a:pt x="298365" y="222716"/>
                </a:lnTo>
                <a:lnTo>
                  <a:pt x="349333" y="360362"/>
                </a:lnTo>
                <a:lnTo>
                  <a:pt x="215900" y="275291"/>
                </a:lnTo>
                <a:lnTo>
                  <a:pt x="82467" y="360362"/>
                </a:lnTo>
                <a:lnTo>
                  <a:pt x="133435" y="222716"/>
                </a:lnTo>
                <a:lnTo>
                  <a:pt x="0" y="13764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0"/>
          <p:cNvSpPr/>
          <p:nvPr/>
        </p:nvSpPr>
        <p:spPr>
          <a:xfrm>
            <a:off x="7667640" y="472428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66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27"/>
          <p:cNvSpPr/>
          <p:nvPr/>
        </p:nvSpPr>
        <p:spPr>
          <a:xfrm rot="10800000">
            <a:off x="5003640" y="2707920"/>
            <a:ext cx="2592720" cy="2305080"/>
          </a:xfrm>
          <a:custGeom>
            <a:avLst/>
            <a:gdLst>
              <a:gd name="textAreaLeft" fmla="*/ 347400 w 2592720"/>
              <a:gd name="textAreaRight" fmla="*/ 2245320 w 259272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28"/>
          <p:cNvSpPr/>
          <p:nvPr/>
        </p:nvSpPr>
        <p:spPr>
          <a:xfrm>
            <a:off x="8028000" y="4365720"/>
            <a:ext cx="43164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29"/>
          <p:cNvSpPr/>
          <p:nvPr/>
        </p:nvSpPr>
        <p:spPr>
          <a:xfrm>
            <a:off x="8459640" y="189000"/>
            <a:ext cx="433440" cy="503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539640" y="1628640"/>
            <a:ext cx="647640" cy="50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7667640" y="1197000"/>
            <a:ext cx="1152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6"/>
          <p:cNvSpPr/>
          <p:nvPr/>
        </p:nvSpPr>
        <p:spPr>
          <a:xfrm>
            <a:off x="2268360" y="5805360"/>
            <a:ext cx="172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7"/>
          <p:cNvSpPr/>
          <p:nvPr/>
        </p:nvSpPr>
        <p:spPr>
          <a:xfrm>
            <a:off x="7596360" y="5229360"/>
            <a:ext cx="1152360" cy="1150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8"/>
          <p:cNvSpPr/>
          <p:nvPr/>
        </p:nvSpPr>
        <p:spPr>
          <a:xfrm>
            <a:off x="395280" y="357336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9"/>
          <p:cNvSpPr/>
          <p:nvPr/>
        </p:nvSpPr>
        <p:spPr>
          <a:xfrm>
            <a:off x="8028000" y="2852640"/>
            <a:ext cx="720720" cy="72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7667640" y="4581360"/>
            <a:ext cx="107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1"/>
          <p:cNvSpPr/>
          <p:nvPr/>
        </p:nvSpPr>
        <p:spPr>
          <a:xfrm>
            <a:off x="7885080" y="3789360"/>
            <a:ext cx="72072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2"/>
          <p:cNvSpPr/>
          <p:nvPr/>
        </p:nvSpPr>
        <p:spPr>
          <a:xfrm>
            <a:off x="2700360" y="404640"/>
            <a:ext cx="719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13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600120" cy="380880"/>
          </a:xfrm>
          <a:prstGeom prst="rect">
            <a:avLst/>
          </a:prstGeom>
          <a:ln w="0">
            <a:noFill/>
          </a:ln>
        </p:spPr>
      </p:pic>
      <p:sp>
        <p:nvSpPr>
          <p:cNvPr id="1192" name="Oval 14"/>
          <p:cNvSpPr/>
          <p:nvPr/>
        </p:nvSpPr>
        <p:spPr>
          <a:xfrm>
            <a:off x="4211640" y="5734080"/>
            <a:ext cx="79200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5"/>
          <p:cNvSpPr/>
          <p:nvPr/>
        </p:nvSpPr>
        <p:spPr>
          <a:xfrm>
            <a:off x="6659640" y="33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6"/>
          <p:cNvSpPr/>
          <p:nvPr/>
        </p:nvSpPr>
        <p:spPr>
          <a:xfrm>
            <a:off x="250920" y="5877000"/>
            <a:ext cx="172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7"/>
          <p:cNvSpPr/>
          <p:nvPr/>
        </p:nvSpPr>
        <p:spPr>
          <a:xfrm>
            <a:off x="468360" y="26028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18"/>
          <p:cNvSpPr/>
          <p:nvPr/>
        </p:nvSpPr>
        <p:spPr>
          <a:xfrm>
            <a:off x="7956720" y="2133720"/>
            <a:ext cx="79200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19"/>
          <p:cNvSpPr/>
          <p:nvPr/>
        </p:nvSpPr>
        <p:spPr>
          <a:xfrm>
            <a:off x="4067280" y="260280"/>
            <a:ext cx="10094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20"/>
          <p:cNvSpPr/>
          <p:nvPr/>
        </p:nvSpPr>
        <p:spPr>
          <a:xfrm>
            <a:off x="324000" y="2492280"/>
            <a:ext cx="93492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1"/>
          <p:cNvSpPr/>
          <p:nvPr/>
        </p:nvSpPr>
        <p:spPr>
          <a:xfrm>
            <a:off x="5724360" y="333360"/>
            <a:ext cx="649440" cy="64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22"/>
          <p:cNvSpPr/>
          <p:nvPr/>
        </p:nvSpPr>
        <p:spPr>
          <a:xfrm>
            <a:off x="324000" y="4724280"/>
            <a:ext cx="79056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23"/>
          <p:cNvSpPr/>
          <p:nvPr/>
        </p:nvSpPr>
        <p:spPr>
          <a:xfrm>
            <a:off x="6300720" y="5661000"/>
            <a:ext cx="865080" cy="863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4"/>
          <p:cNvSpPr/>
          <p:nvPr/>
        </p:nvSpPr>
        <p:spPr>
          <a:xfrm>
            <a:off x="5148360" y="5877000"/>
            <a:ext cx="792000" cy="649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25"/>
          <p:cNvSpPr/>
          <p:nvPr/>
        </p:nvSpPr>
        <p:spPr>
          <a:xfrm rot="15030600">
            <a:off x="72000" y="3751920"/>
            <a:ext cx="3744720" cy="362160"/>
          </a:xfrm>
          <a:prstGeom prst="rightArrow">
            <a:avLst>
              <a:gd name="adj1" fmla="val 50000"/>
              <a:gd name="adj2" fmla="val 2584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AutoShape 26"/>
          <p:cNvSpPr/>
          <p:nvPr/>
        </p:nvSpPr>
        <p:spPr>
          <a:xfrm>
            <a:off x="3276720" y="5445000"/>
            <a:ext cx="4248000" cy="289080"/>
          </a:xfrm>
          <a:prstGeom prst="rightArrow">
            <a:avLst>
              <a:gd name="adj1" fmla="val 50000"/>
              <a:gd name="adj2" fmla="val 3673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AutoShape 27"/>
          <p:cNvSpPr/>
          <p:nvPr/>
        </p:nvSpPr>
        <p:spPr>
          <a:xfrm>
            <a:off x="8317080" y="189000"/>
            <a:ext cx="502920" cy="4316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6352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рхиме́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Ἀρχιμήδης; 287 до н. э.) — 212 до н. э.) — древнегреческий математик, физик, механик и инженер из Сиракуз. Сделал множество открытий в геометрии. Заложил основы механики, гидростатики, автор ряда важных изобретени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ен рассказ о том, как 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Архимед всё время размышлял над этой задачей. Как-то он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 (εύρηκα), то есть «Нашёл!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1" name="Picture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305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7:42:41Z</dcterms:created>
  <dc:creator>Администратор</dc:creator>
  <dc:description/>
  <dc:language>en-US</dc:language>
  <cp:lastModifiedBy>Коля</cp:lastModifiedBy>
  <dcterms:modified xsi:type="dcterms:W3CDTF">2013-03-29T15:29:37Z</dcterms:modified>
  <cp:revision>8</cp:revision>
  <dc:subject/>
  <dc:title>Измерение объема тела</dc:title>
</cp:coreProperties>
</file>