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24B-B73A-4E1F-8DC4-7ED4DB7FBD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0745-F02D-495B-AA07-87B2A26D4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CD9-B1C3-46F7-B512-B29961A49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DF09-4740-4EA0-99B1-16D1B5028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ACC7-D361-4B77-AD4A-2691C3040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E7E-8327-4C8F-9728-851665B69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3C2C-583F-4C97-8F4C-4ADF0EEC9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6D62-380F-4ED8-8A4D-E0D38EA06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7BA-19A6-4803-8356-AC1905423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45F-7410-4A79-ADDF-B4A40F8F9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221-A5FE-49B4-8E50-D8B1238F2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EFB5-7BC9-4776-8399-F6F82E09C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89A-6687-4166-96B7-9808F72AD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1FCE-E4C4-4CBD-B0E8-237686190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1F3-120B-4DDF-887F-32EF5D781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679-3D3F-4418-BB36-61353662C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E2F-3866-4BC9-B1B1-80BE02C07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A31E-C26B-42C1-B469-7A8FC8A54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A0B-A2EA-40D4-9925-05C7464B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99A-7C50-490E-88DB-E7908314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9027-4FD0-4C2A-86AB-75962C9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B533E-3173-46B5-807B-8A6B8D6B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2489B-74AA-4264-8484-3ED6156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53E0E-0E4B-43CE-8C4B-4014B88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9F380-A718-4A17-BAA0-F62BB77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70FFD-F8E7-4579-98A9-A484BF3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44821-12D8-423E-85F4-D839C6D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BAA85-8752-47E5-8D6E-62A8B228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70B87-6335-498D-9CED-AE50F04C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E11FB-24EE-477B-83C3-6A595F34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720-A297-494A-8E8C-81783E01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8DEFB-C9DE-413E-896D-7B1457A7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89C5B-CF18-40CA-BD10-1C7EA3D9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1AE88-6CFC-41EA-9934-419C627A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7E63A-ACCB-4B64-B132-C6FEFCB2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72962-F296-4396-AF7F-8CB517F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CB239-41A3-4B77-8FA4-C21BE99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1B493-877A-4E0A-A729-EA3C84A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3830-C63D-4DE6-8975-C22FBA6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C316E-7C8D-4A21-BF44-5F59227B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F409C-AAF4-47C4-A1FC-3E976E2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381-872C-4F25-A069-8C0A40CE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5251A-BB0C-4211-8C1C-27B36696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89CF-F0D3-418C-9FE9-946889D3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DDECC-7997-4705-A0D1-CAA4B4AE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D03A2-800C-4A60-99F6-63448744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E787A-1772-43D7-854B-AE1E51E5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A6FD-2F49-4615-9173-CBBEFF7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A18C4-02A5-427E-A1D6-0B7C7C1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BAF8C-8DF5-4789-AADE-E502902B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972C-1D5E-499A-9992-5D1A665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3FE0-8D1E-4427-B4F2-CDD9A09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2F82-2BC8-4EAC-993B-E02D01E4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C7DC-E243-4C7A-AEDF-A03F345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A43F2-79C7-44F2-8FD5-36393939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81033-1F40-4182-B399-F7A5A304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691-ABBA-406F-954A-842D0EF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48BE-CB83-4F52-BA90-1794037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829-AF3D-4B0B-B8DB-CE183F0C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BE36-841B-4CBA-972B-5BA810B7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7FE5-A73A-414B-8382-CA6EDA68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0D2-3AEC-4107-A2EA-E5BCDE1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67E-EFAD-4D83-900D-BBDBB142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BAB1-53B0-45E9-9848-E037F7D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610-8BEC-439D-80BA-0D26324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647-A65A-405D-9AC1-F6CB1ACB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7B2C-1DDB-4832-9C6F-A24BA750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D65A-489E-4E2D-972D-A1337EE3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5B19-18E0-4253-918E-C74BB49B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CBAF-43B9-4C63-93C9-79491D88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438B-1AB5-42D4-A14F-1505100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34C7-3CAE-4DA7-8A30-8C32D7FA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A04D-99A6-4639-BA71-393355BC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186-2077-4732-9ABB-87F6942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9EB9-936F-40A4-B368-3A08DE68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0F4D-EF64-485A-8C69-4167BDD5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1A52-B586-4F01-A09A-795EF67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9200-1D7B-4631-99C7-FA97DFB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6276-CD2D-4C53-871F-02733514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07D1-E7B8-4773-ACBC-4B8FA448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A093C-388C-4CDE-A694-8CA35EC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5EBCB-0160-4DBE-8CA3-427052B2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DC3C7-575E-4971-887E-552B9D0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419A6-4597-4622-8FC0-7595ECE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CA2-8AE1-4E8B-A0A7-DBA54F53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69169-38E0-41C4-AF2A-617DB61D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1CE4E-6B53-48D2-88F8-284F36FD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F2031-B655-4D9B-959F-8FBA37C7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63B95-CE3F-4B45-883C-ABB7FA39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C5BA5-C479-41F2-9E8B-B63CA2C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40519-E04A-43DF-A741-07B48390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82405-3689-4CA1-9703-AB9F52C3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6D0F6-0CF3-4B8C-A380-FFEA50DD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4B463-B5A0-4BAC-81B1-C922CEE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DE276-584A-41FC-862E-0599B60F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ED9-3772-4532-919B-79E64449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860B-D36E-4647-8065-25000500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463F-D9AF-4AE5-8BB4-0051026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8BD0-10F2-4169-99FB-872B1C61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046FA-F1DA-4B5A-AAC2-DEAD4063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9EEF-4F60-485B-8C7C-EDAE6D1A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251D-ACAE-40AA-9BDA-F7F650F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3467-EA4E-43B0-AD72-9F9F4DD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E5E3-DF36-41FB-9D75-3A85DB3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AE65-6DF1-4A05-A6C3-D01634E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A04D-C080-4F3A-9DE4-1CBDB815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258-038D-4DBF-BDAE-782314D4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FA82-629A-4B7A-B8C7-2EFAB2A0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1DBA-55FE-4B7B-B753-B6DE49B7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538A-3CEE-4BD8-8837-0D36C73E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A552-D91E-4C9E-933D-6781F71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34D9-0C08-4D48-BD7E-8196F133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01024-7EFE-49EC-84B7-B0F2393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5639-43B7-41DE-B6E9-DC90464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32F2-C2CD-4926-93E2-04CC6910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DC8C-292B-4B31-855A-287D2F4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E50B-D10D-4E59-AE03-2CAC43F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905-7648-4BE3-BB5A-04E66822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E387-EBAE-425C-8991-53D2D12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886A-2DA8-4E52-989E-85508CB2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33B6-D118-4D17-B72F-F52FEBEF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747EC-2212-4B92-AB88-6368881A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948FD-D9B7-462B-85FF-2FC23719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B9291-7612-4885-8CFF-078F6C9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C98F7-109C-4AA0-8520-D960AE38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C6581-784F-4E80-9498-FE5E28E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33E30-B8FF-4D74-8ACF-8C880F9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7C44B-7E8E-4501-BE4F-2C8F8B53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66B-52FD-4D6F-BACB-62CC4F90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5DD44-7F9C-418A-8AA3-8F4360F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9E195-F664-49D6-8DA1-0FCE521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3CFEC-D4F6-4B9C-96A5-76FA014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C5728-32DD-4269-A2F9-1C6FBDC6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5F73B-3AA9-4A5F-A7BF-47AB3C0E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B7974-4B83-4F19-B548-DD1D4E99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7909-0C1D-490A-929C-2B9B528F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EBEC5-AD33-4F9B-9DB5-5DD4040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1615-C335-485A-9661-A6E46FE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9B020-0697-48EC-AA13-CE1503CD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854-802A-41A8-AC0E-5E52B4A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8F946-4FC8-4BA6-93C0-B8323B7C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0037F-D1B0-4DAB-AB5D-A4CD13A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B44F-40D1-42FE-8895-9D95A30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D747C-B114-4B9F-90D2-8F0A8B8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E38F-D93A-4BEE-99BD-B1BA9C11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DEC1-FCE2-4EF7-919F-5630FD45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7C4B-452E-42CC-B1BC-77365852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6F1EC-0219-429A-A588-5BD781A6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E9D9F-A884-4C63-94D0-8D835FF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F2BFE-80F9-48D7-9AE9-80EAD87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9940-1A16-473C-9A62-E466DCD60D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FD63-4F87-4078-984F-60584C841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6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7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9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F368-D9A6-4D8B-AD95-2FA1E051EC0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7BF-33D4-4C57-97FE-21B037DCA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7DA-8ACE-417D-BB74-FD9358DAAB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7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ABE-D4BF-4522-82D6-2A50670D02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ACB-B32E-48C1-9B35-3E075A5F6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181-9DA8-404E-A259-0B41533228A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4699-D1A9-46EA-ABF6-CFFF28796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0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1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15F6-1902-4F36-8473-A2B0A7ADC8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6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BF0-718D-4987-ADE3-774C9EBD3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мерение объема т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зу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ливной ста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гружении тела в отливной стакан с водой, вода выливается. Объем этой воды равен объему погруженн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359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4" descr="50502513_12984706_mandr"/>
          <p:cNvPicPr/>
          <p:nvPr/>
        </p:nvPicPr>
        <p:blipFill>
          <a:blip r:embed="rId1"/>
          <a:stretch/>
        </p:blipFill>
        <p:spPr>
          <a:xfrm>
            <a:off x="1187280" y="1916280"/>
            <a:ext cx="2762280" cy="380988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5" descr="bec471d7707d"/>
          <p:cNvPicPr/>
          <p:nvPr/>
        </p:nvPicPr>
        <p:blipFill>
          <a:blip r:embed="rId2"/>
          <a:stretch/>
        </p:blipFill>
        <p:spPr>
          <a:xfrm>
            <a:off x="5435640" y="1916280"/>
            <a:ext cx="247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боратор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объем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научиться измерять объем тела при  помощи менз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оры и оборудование: измерительный цилиндр; набор твердых тел; нитки,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блиц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яемое 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ый объем жидкост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жидкости с тел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твердого те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V2-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параллелепипе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твердого тела неправильной фор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единицы измерения объема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едите полученные результаты лабораторной работы в 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готовиться к лабораторной работе «Определение плотности твердого тела», стр.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WordArt 4"/>
          <p:cNvSpPr txBox="1"/>
          <p:nvPr/>
        </p:nvSpPr>
        <p:spPr>
          <a:xfrm rot="20646600">
            <a:off x="1604520" y="1666800"/>
            <a:ext cx="6480360" cy="34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254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25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5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64" name="Oval 16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7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8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9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21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22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3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24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25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6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29"/>
          <p:cNvSpPr/>
          <p:nvPr/>
        </p:nvSpPr>
        <p:spPr>
          <a:xfrm>
            <a:off x="8532720" y="115920"/>
            <a:ext cx="432000" cy="4334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88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25"/>
          <p:cNvSpPr/>
          <p:nvPr/>
        </p:nvSpPr>
        <p:spPr>
          <a:xfrm rot="19972200">
            <a:off x="684000" y="3933720"/>
            <a:ext cx="7645320" cy="254160"/>
          </a:xfrm>
          <a:prstGeom prst="rightArrow">
            <a:avLst>
              <a:gd name="adj1" fmla="val 50000"/>
              <a:gd name="adj2" fmla="val 752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26"/>
          <p:cNvSpPr/>
          <p:nvPr/>
        </p:nvSpPr>
        <p:spPr>
          <a:xfrm>
            <a:off x="1116000" y="5229360"/>
            <a:ext cx="4319640" cy="50328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>
            <a:off x="8388360" y="260280"/>
            <a:ext cx="504720" cy="432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14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26"/>
          <p:cNvSpPr/>
          <p:nvPr/>
        </p:nvSpPr>
        <p:spPr>
          <a:xfrm rot="6266400">
            <a:off x="3912480" y="3366720"/>
            <a:ext cx="4916520" cy="287640"/>
          </a:xfrm>
          <a:prstGeom prst="rightArrow">
            <a:avLst>
              <a:gd name="adj1" fmla="val 50000"/>
              <a:gd name="adj2" fmla="val 427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7"/>
          <p:cNvSpPr/>
          <p:nvPr/>
        </p:nvSpPr>
        <p:spPr>
          <a:xfrm rot="8857800">
            <a:off x="610920" y="2852280"/>
            <a:ext cx="6912000" cy="244440"/>
          </a:xfrm>
          <a:prstGeom prst="rightArrow">
            <a:avLst>
              <a:gd name="adj1" fmla="val 50000"/>
              <a:gd name="adj2" fmla="val 706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28"/>
          <p:cNvSpPr/>
          <p:nvPr/>
        </p:nvSpPr>
        <p:spPr>
          <a:xfrm>
            <a:off x="8459640" y="189000"/>
            <a:ext cx="433440" cy="360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40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5"/>
          <p:cNvSpPr/>
          <p:nvPr/>
        </p:nvSpPr>
        <p:spPr>
          <a:xfrm rot="9551400">
            <a:off x="1121760" y="2597040"/>
            <a:ext cx="6769080" cy="144720"/>
          </a:xfrm>
          <a:prstGeom prst="rightArrow">
            <a:avLst>
              <a:gd name="adj1" fmla="val 50000"/>
              <a:gd name="adj2" fmla="val 11693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6"/>
          <p:cNvSpPr/>
          <p:nvPr/>
        </p:nvSpPr>
        <p:spPr>
          <a:xfrm rot="11055600">
            <a:off x="3347280" y="1196640"/>
            <a:ext cx="4248360" cy="216000"/>
          </a:xfrm>
          <a:prstGeom prst="rightArrow">
            <a:avLst>
              <a:gd name="adj1" fmla="val 50000"/>
              <a:gd name="adj2" fmla="val 4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7"/>
          <p:cNvSpPr/>
          <p:nvPr/>
        </p:nvSpPr>
        <p:spPr>
          <a:xfrm>
            <a:off x="8532720" y="260280"/>
            <a:ext cx="43200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0"/>
          <p:cNvSpPr/>
          <p:nvPr/>
        </p:nvSpPr>
        <p:spPr>
          <a:xfrm>
            <a:off x="7667640" y="472428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66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27"/>
          <p:cNvSpPr/>
          <p:nvPr/>
        </p:nvSpPr>
        <p:spPr>
          <a:xfrm rot="10800000">
            <a:off x="5003640" y="2707920"/>
            <a:ext cx="2592720" cy="2305080"/>
          </a:xfrm>
          <a:custGeom>
            <a:avLst/>
            <a:gdLst>
              <a:gd name="textAreaLeft" fmla="*/ 347400 w 2592720"/>
              <a:gd name="textAreaRight" fmla="*/ 2245320 w 2592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28"/>
          <p:cNvSpPr/>
          <p:nvPr/>
        </p:nvSpPr>
        <p:spPr>
          <a:xfrm>
            <a:off x="8028000" y="4365720"/>
            <a:ext cx="43164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29"/>
          <p:cNvSpPr/>
          <p:nvPr/>
        </p:nvSpPr>
        <p:spPr>
          <a:xfrm>
            <a:off x="8459640" y="189000"/>
            <a:ext cx="433440" cy="503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92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25"/>
          <p:cNvSpPr/>
          <p:nvPr/>
        </p:nvSpPr>
        <p:spPr>
          <a:xfrm rot="15030600">
            <a:off x="72000" y="3751920"/>
            <a:ext cx="3744720" cy="362160"/>
          </a:xfrm>
          <a:prstGeom prst="rightArrow">
            <a:avLst>
              <a:gd name="adj1" fmla="val 50000"/>
              <a:gd name="adj2" fmla="val 2584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26"/>
          <p:cNvSpPr/>
          <p:nvPr/>
        </p:nvSpPr>
        <p:spPr>
          <a:xfrm>
            <a:off x="3276720" y="5445000"/>
            <a:ext cx="4248000" cy="289080"/>
          </a:xfrm>
          <a:prstGeom prst="rightArrow">
            <a:avLst>
              <a:gd name="adj1" fmla="val 50000"/>
              <a:gd name="adj2" fmla="val 3673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27"/>
          <p:cNvSpPr/>
          <p:nvPr/>
        </p:nvSpPr>
        <p:spPr>
          <a:xfrm>
            <a:off x="8317080" y="189000"/>
            <a:ext cx="502920" cy="4316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6352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рхиме́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Ἀρχιμήδης; 287 до н. э.) — 212 до н. э.) — древнегреческий математик, физик, механик и инженер из Сиракуз. Сделал множество открытий в геометрии. Заложил основы механики, гидростатики, автор ряда важных изобрете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ен рассказ о том, как 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Архимед всё время размышлял над этой задачей. Как-то он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 (εύρηκα), то есть «Нашёл!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Picture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305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7:42:41Z</dcterms:created>
  <dc:creator>Администратор</dc:creator>
  <dc:description/>
  <dc:language>en-US</dc:language>
  <cp:lastModifiedBy>Коля</cp:lastModifiedBy>
  <dcterms:modified xsi:type="dcterms:W3CDTF">2013-03-29T15:29:37Z</dcterms:modified>
  <cp:revision>8</cp:revision>
  <dc:subject/>
  <dc:title>Измерение объема тела</dc:title>
</cp:coreProperties>
</file>