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50E-0E3C-4369-8B9A-5C848B6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C79-4094-4CD9-9963-DDD39E58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5D4-AFEA-4E4E-8E9C-5717AE5F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0BF-CB9F-4AE3-A4B4-B28231E4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DEE4-A614-4617-AD8D-5A29AFA0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AC81-8C88-460E-A7BF-99F2C94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FBB-2EE7-41F0-9543-528F70E3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E22B-0C68-4579-907D-A4CB30B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4798-12CD-45F5-9845-66EB287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E8C8-CBFF-4787-BD8C-9BE00DF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82D-1634-4900-A62C-ED3D475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BD-2C36-4FF1-B89E-816F198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A74A-E172-4287-BCDD-6E5DE51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F8B-AE3C-47BD-AA60-5F2B009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580-27FA-416D-8CCD-91E30B1D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FA41-CEB7-4EBF-9A23-A9B9DA85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F3C3-6013-4F3C-97BA-2B6E5EC7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F2C-F9A8-40C5-9339-60DBF6D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D56-AC10-4F65-A150-30FBAF14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1D8-51BB-4BFF-8726-B2A561C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1B9-115A-4FD6-81E8-296C794B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1A6-A664-4256-9C2E-26091D3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8D4-7F88-4BA7-8005-51B0F95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972-DDEB-4E8B-8A4A-C6AD717F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04A-1BB6-4046-9999-25C7727A26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08A-7F85-4724-AD53-F9197196C8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eum.aprilgri.dp.ua/img/full_size/recom4_fl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rcRect l="0" t="0" r="-85563" b="-35415"/>
          <a:stretch/>
        </p:blipFill>
        <p:spPr>
          <a:xfrm>
            <a:off x="304920" y="228600"/>
            <a:ext cx="5553000" cy="641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Подборка векторного клипарта Школа"/>
          <p:cNvPicPr/>
          <p:nvPr/>
        </p:nvPicPr>
        <p:blipFill>
          <a:blip r:embed="rId3"/>
          <a:srcRect l="51206" t="67507" r="21604" b="-1246"/>
          <a:stretch/>
        </p:blipFill>
        <p:spPr>
          <a:xfrm>
            <a:off x="7162920" y="4419720"/>
            <a:ext cx="1295280" cy="205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57600" y="685800"/>
            <a:ext cx="45626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сьменная экзаменацион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Студентки группы 011/08 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Оператор ЭВ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урмашевой Альбины 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даление файлов и пап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бота начинается с навигации. На левой панели открывают папку, содержащую удаляемый объект, а на правой панели выделяют нужный объект (или группу объектов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даление можно выполнять несколькими способа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 Классически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с помощью команды Файл &gt; Удалить из строки меню (если ни один объект не выделен, эта команда не активируется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 Более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использовать командную кнопку на панели инструмент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 Еще более удобн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воспользоваться контекстным меню. Щелкните правой кнопкой мыши на удаляемом объекте и выберите в контекстном меню пункт Удалить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 Самый удобный способ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удаления выделенного объекта состоит в использовании клавиши DELETE клавиатур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Выход из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16381" b="0"/>
          <a:stretch/>
        </p:blipFill>
        <p:spPr>
          <a:xfrm>
            <a:off x="1981080" y="1066680"/>
            <a:ext cx="52578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943600" cy="392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корректного выхода из Windows надо щелкнуть кнопку Пуск и команду Завершить работу в появившемся меню. Появится диалоговое окно Завершение Работы. Окно содержит кнопки-переключатели: Выключить компьютер. Перезагрузить компьютер. (Перезагрузить компьютер в режиме эмуляции MS DOS), Войти в систему под другим именем. Все кнопки закрывают все программы. В нижней части окна Shut Down Windows расположены три кнопки - Да, Нет, Справка. Через небольшой промежуток времени после щелчка мышью кнопки Да компьютер будет подготовлен к выключению: будут очищены внутренние буферы и кэши дисков, обеспечено сохранение данных. Не следует выключать электропитание до тех пор, пока не появится сообщение: “Теперь питание компьютера можно выключить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43200" y="25909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b76"/>
                </a:solidFill>
                <a:latin typeface="Arial"/>
              </a:rPr>
              <a:t>Основные команды ОС Windows  для работы с папками, файлами и ярлы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Технология работы с папками в ОС Wind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9800" y="139716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b76"/>
                </a:solidFill>
                <a:uFillTx/>
                <a:latin typeface="Arial"/>
              </a:rPr>
              <a:t>ТЕМА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дача открытия требуемой папки, чтоб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смотреть её содержимое с целью поиска некоторых файл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полнить над компонентами файловой структуры, содержащейся в этой папке, определенные действия - например, скопировать, переслать или удалить их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устить в работу приложение, которое в ней содержит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крыть находящийся в папке докумен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здать в папке новый докумен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 эти выше перечисленные операции необходимо знать пользователю ПК поэтому выбранная мной тема для выпускной экзаменационной работы является актуально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полнение основных операций над объект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Объектом 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в данном случае понимается файл, папка или ярлык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то контейнер для программ и файлов в графических интерфейсах пользователя, отображаемый на экране с помощью значка, имеющего вид канцелярской папки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762120"/>
            <a:ext cx="3276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пка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30812" t="28454" r="53772" b="53701"/>
          <a:stretch/>
        </p:blipFill>
        <p:spPr>
          <a:xfrm>
            <a:off x="5715000" y="4343400"/>
            <a:ext cx="3048120" cy="232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2120" y="990720"/>
            <a:ext cx="2971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рлык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647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это командный файл, с помощью которого можно осуществить доступ к какому-либо объекту. Например, запустить программу, открыть файл, открыть документ и т.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0157" t="37833" r="79704" b="46898"/>
          <a:stretch/>
        </p:blipFill>
        <p:spPr>
          <a:xfrm>
            <a:off x="6095880" y="45720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это программа, используемая для работы с сетевыми ресурсами в рабочей групп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447920"/>
            <a:ext cx="6095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нипулирование файлами и папка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нового файла и пап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исвоение имен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имен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еремещение и копирова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да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осстановл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ис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росмотр и изменение свойств файлов и папок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оздание ярлыка на рабочем стол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Школа открытка компьютер"/>
          <p:cNvPicPr/>
          <p:nvPr/>
        </p:nvPicPr>
        <p:blipFill>
          <a:blip r:embed="rId1"/>
          <a:stretch/>
        </p:blipFill>
        <p:spPr>
          <a:xfrm>
            <a:off x="5715000" y="41911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66"/>
                </a:solidFill>
                <a:latin typeface="Arial"/>
              </a:rPr>
              <a:t>Технология работы с папками в ОС Window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343400"/>
            <a:ext cx="40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747" t="4060" r="78555" b="81048"/>
          <a:stretch/>
        </p:blipFill>
        <p:spPr>
          <a:xfrm>
            <a:off x="1295280" y="3505320"/>
            <a:ext cx="2819520" cy="18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5559" t="4109" r="78153" b="81112"/>
          <a:stretch/>
        </p:blipFill>
        <p:spPr>
          <a:xfrm>
            <a:off x="5334120" y="3429000"/>
            <a:ext cx="2895480" cy="2019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62936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ить копируемые элементы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Копировать (Вырезать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и выборе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"Вырезать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произойдет перемещение. Открыть папку-приемник. Выбрать меню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авка/Встав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141360" y="34041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3000" y="560808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ис. 1. Копирование элемента              Ри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Вставка объе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 5</cp:lastModifiedBy>
  <dcterms:modified xsi:type="dcterms:W3CDTF">2009-06-22T03:3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