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884F-E98B-4640-8308-259D6F0A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7AA-2EB6-4695-8D12-5B294FBC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87A2-0C17-4FF3-BC9A-FBC166C7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B3CA-E0F8-404D-942C-E1AC3D98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5AA6-4CED-43C5-A11B-B88AF709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20A9-EB24-4EBD-B105-AE9A69E1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8A3B-D7A5-4FF9-A048-EABBFE45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368C-5FB4-4B33-8E0B-6899E8BD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8757-DACA-48BF-AF1E-138EA681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3BC1-C961-4011-AB6B-28CF438F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9F1D-36D7-4EF4-84B5-C548564B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2549-0E13-4664-8D8D-A156EB67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736D-5305-4C5E-AA02-FE829678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14DF-C49F-493D-897D-24E90782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9909-1932-4BA2-A2F7-7C276825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641A-F520-4042-A735-74BA952C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CC91-DB46-4EB0-A5C4-52BCBDA8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FCF7-5CEB-4F7F-B18F-CAFC0E87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9372-5DC8-459F-9B47-A0D9167B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EC5-B81D-40C9-91E7-5404B81E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47B8-34AE-421A-A293-16A2F704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A5B2-D3D5-4EF2-96A3-7B8161E0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0F87-F604-4B2C-94B8-73A7F1CC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979-0469-4CF1-AF9B-15EE3BAA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6D17-9B8F-4DC1-B093-0A0F8BF671C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22B5-4CAC-4237-9B0A-FA0F4220E31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yceum.aprilgri.dp.ua/img/full_size/recom4_fl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rcRect l="0" t="0" r="-85563" b="-35415"/>
          <a:stretch/>
        </p:blipFill>
        <p:spPr>
          <a:xfrm>
            <a:off x="304920" y="228600"/>
            <a:ext cx="5553000" cy="6415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Подборка векторного клипарта Школа"/>
          <p:cNvPicPr/>
          <p:nvPr/>
        </p:nvPicPr>
        <p:blipFill>
          <a:blip r:embed="rId3"/>
          <a:srcRect l="51206" t="67507" r="21604" b="-1246"/>
          <a:stretch/>
        </p:blipFill>
        <p:spPr>
          <a:xfrm>
            <a:off x="7162920" y="4419720"/>
            <a:ext cx="1295280" cy="2057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657600" y="685800"/>
            <a:ext cx="456264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исьменная экзаменационная раб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Arial"/>
              </a:rPr>
              <a:t>Студентки группы 011/08 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cc66"/>
                </a:solidFill>
                <a:latin typeface="Arial"/>
              </a:rPr>
              <a:t>Оператор ЭВ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Курмашевой Альбины 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даление файлов и пап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абота начинается с навигации. На левой панели открывают папку, содержащую удаляемый объект, а на правой панели выделяют нужный объект (или группу объектов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Удаление можно выполнять несколькими способами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 Классический способ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– с помощью команды Файл &gt; Удалить из строки меню (если ни один объект не выделен, эта команда не активируется)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 Более удобный способ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– использовать командную кнопку на панели инструмент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 Еще более удобно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воспользоваться контекстным меню. Щелкните правой кнопкой мыши на удаляемом объекте и выберите в контекстном меню пункт Удалить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 Самый удобный способ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удаления выделенного объекта состоит в использовании клавиши DELETE клавиатуры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Выход из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0" t="0" r="16381" b="0"/>
          <a:stretch/>
        </p:blipFill>
        <p:spPr>
          <a:xfrm>
            <a:off x="1981080" y="1066680"/>
            <a:ext cx="5257800" cy="1447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5943600" cy="3926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Для корректного выхода из Windows надо щелкнуть кнопку Пуск и команду Завершить работу в появившемся меню. Появится диалоговое окно Завершение Работы. Окно содержит кнопки-переключатели: Выключить компьютер. Перезагрузить компьютер. (Перезагрузить компьютер в режиме эмуляции MS DOS), Войти в систему под другим именем. Все кнопки закрывают все программы. В нижней части окна Shut Down Windows расположены три кнопки - Да, Нет, Справка. Через небольшой промежуток времени после щелчка мышью кнопки Да компьютер будет подготовлен к выключению: будут очищены внутренние буферы и кэши дисков, обеспечено сохранение данных. Не следует выключать электропитание до тех пор, пока не появится сообщение: “Теперь питание компьютера можно выключить”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743200" y="259092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b76"/>
                </a:solidFill>
                <a:latin typeface="Arial"/>
              </a:rPr>
              <a:t>Основные команды ОС Windows  для работы с папками, файлами и ярлы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Технология работы с папками в ОС Wind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89800" y="1397160"/>
            <a:ext cx="13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b76"/>
                </a:solidFill>
                <a:uFillTx/>
                <a:latin typeface="Arial"/>
              </a:rPr>
              <a:t>ТЕМА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Задача открытия требуемой папки, чтоб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осмотреть её содержимое с целью поиска некоторых файлов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ыполнить над компонентами файловой структуры, содержащейся в этой папке, определенные действия - например, скопировать, переслать или удалить их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пустить в работу приложение, которое в ней содержитс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ткрыть находящийся в папке документ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оздать в папке новый докумен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се эти выше перечисленные операции необходимо знать пользователю ПК поэтому выбранная мной тема для выпускной экзаменационной работы является актуально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ыполнение основных операций над объекта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Под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Объектом 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в данном случае понимается файл, папка или ярлык.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это контейнер для программ и файлов в графических интерфейсах пользователя, отображаемый на экране с помощью значка, имеющего вид канцелярской папки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3520" y="762120"/>
            <a:ext cx="327636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пка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30812" t="28454" r="53772" b="53701"/>
          <a:stretch/>
        </p:blipFill>
        <p:spPr>
          <a:xfrm>
            <a:off x="5715000" y="4343400"/>
            <a:ext cx="3048120" cy="2320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62120" y="990720"/>
            <a:ext cx="29718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рлык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6470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это командный файл, с помощью которого можно осуществить доступ к какому-либо объекту. Например, запустить программу, открыть файл, открыть документ и т.д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10157" t="37833" r="79704" b="46898"/>
          <a:stretch/>
        </p:blipFill>
        <p:spPr>
          <a:xfrm>
            <a:off x="6095880" y="4572000"/>
            <a:ext cx="2514600" cy="1981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это программа, используемая для работы с сетевыми ресурсами в рабочей групп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43000" y="1447920"/>
            <a:ext cx="60958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й компьютер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Манипулирование файлами и папкам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Создание нового файла и папк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Присвоение имен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Переименование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Перемещение и копирование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Удаление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Восстановление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Поиск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Просмотр и изменение свойств файлов и папок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Создание ярлыка на рабочем стол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Школа открытка компьютер"/>
          <p:cNvPicPr/>
          <p:nvPr/>
        </p:nvPicPr>
        <p:blipFill>
          <a:blip r:embed="rId1"/>
          <a:stretch/>
        </p:blipFill>
        <p:spPr>
          <a:xfrm>
            <a:off x="5715000" y="4191120"/>
            <a:ext cx="2895480" cy="2361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ff66"/>
                </a:solidFill>
                <a:latin typeface="Arial"/>
              </a:rPr>
              <a:t>Технология работы с папками в ОС Window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8120" y="4343400"/>
            <a:ext cx="401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5747" t="4060" r="78555" b="81048"/>
          <a:stretch/>
        </p:blipFill>
        <p:spPr>
          <a:xfrm>
            <a:off x="1295280" y="3505320"/>
            <a:ext cx="2819520" cy="1847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rcRect l="5559" t="4109" r="78153" b="81112"/>
          <a:stretch/>
        </p:blipFill>
        <p:spPr>
          <a:xfrm>
            <a:off x="5334120" y="3429000"/>
            <a:ext cx="2895480" cy="20192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80880" y="162936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ыделить копируемые элементы. Выбрать меню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авка/Копировать (Вырезать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При выборе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"Вырезать"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произойдет перемещение. Открыть папку-приемник. Выбрать меню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авка/Встав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3141360" y="340416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63000" y="5608080"/>
            <a:ext cx="722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Рис. 1. Копирование элемента              Ри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. Вставка объе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 5</cp:lastModifiedBy>
  <dcterms:modified xsi:type="dcterms:W3CDTF">2009-06-22T03:36:0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