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945-D36C-43C2-AEAC-A4FB11C8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BDA-2884-40EF-9965-FF79735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DE3-235A-4CE7-8B6E-4694091C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423-81B4-41EE-904C-76BAF7C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B721-1F91-42E5-B592-F9F1C766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2863-014B-4269-9ECB-334528BB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42C8-DBE1-474A-9A87-5C0F5C6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32B-75EC-4688-B6A6-B34A8DF5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6DA-5235-4660-9011-814E0E1B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7C39-D32A-4E8C-BA74-02EB7983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7B68-2D52-4682-9B94-E1422ED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61F-2C7B-45E1-9078-7DBF0DB4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EB0F-B95B-4A20-A156-56CF6CB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213F-2BAB-45B4-934B-EA8C38C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E11F-9A81-4620-91BB-134EC44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19C9-C09D-46F5-9EA6-AF63A08E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7F7D-E04A-4DDE-88F2-B681920A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FE8-64EA-4123-A3AE-C2E831EA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40C-0C49-4113-9682-C760A613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3B8-61DF-42CA-9DAA-553A356B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4A0-6A91-4F82-B6C7-58E0D48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202-6F3C-45FA-AD02-B1FDBE2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11B-2582-47F1-9882-D4D0740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0A9-443F-4843-8999-ADC67A2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4AD2-3C10-4A0D-9CDA-48964BDB8F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3269-7F24-41D9-8CDA-DDBDB71AA2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yceum.aprilgri.dp.ua/img/full_size/recom4_f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rcRect l="0" t="0" r="-85563" b="-35415"/>
          <a:stretch/>
        </p:blipFill>
        <p:spPr>
          <a:xfrm>
            <a:off x="304920" y="228600"/>
            <a:ext cx="5553000" cy="641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Подборка векторного клипарта Школа"/>
          <p:cNvPicPr/>
          <p:nvPr/>
        </p:nvPicPr>
        <p:blipFill>
          <a:blip r:embed="rId3"/>
          <a:srcRect l="51206" t="67507" r="21604" b="-1246"/>
          <a:stretch/>
        </p:blipFill>
        <p:spPr>
          <a:xfrm>
            <a:off x="7162920" y="4419720"/>
            <a:ext cx="1295280" cy="205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57600" y="685800"/>
            <a:ext cx="45626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сьменная экзаменацион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Студентки группы 011/08 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Оператор ЭВ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урмашевой Альбины 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даление файлов и пап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бота начинается с навигации. На левой панели открывают папку, содержащую удаляемый объект, а на правой панели выделяют нужный объект (или группу объектов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даление можно выполнять несколькими способа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 Классически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с помощью команды Файл &gt; Удалить из строки меню (если ни один объект не выделен, эта команда не активируется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 Более удобны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использовать командную кнопку на панели инструм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 Еще более удобно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воспользоваться контекстным меню. Щелкните правой кнопкой мыши на удаляемом объекте и выберите в контекстном меню пункт Удалит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 Самый удобны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удаления выделенного объекта состоит в использовании клавиши DELETE клавиатур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Выход из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16381" b="0"/>
          <a:stretch/>
        </p:blipFill>
        <p:spPr>
          <a:xfrm>
            <a:off x="1981080" y="10666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943600" cy="392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корректного выхода из Windows надо щелкнуть кнопку Пуск и команду Завершить работу в появившемся меню. Появится диалоговое окно Завершение Работы. Окно содержит кнопки-переключатели: Выключить компьютер. Перезагрузить компьютер. (Перезагрузить компьютер в режиме эмуляции MS DOS), Войти в систему под другим именем. Все кнопки закрывают все программы. В нижней части окна Shut Down Windows расположены три кнопки - Да, Нет, Справка. Через небольшой промежуток времени после щелчка мышью кнопки Да компьютер будет подготовлен к выключению: будут очищены внутренние буферы и кэши дисков, обеспечено сохранение данных. Не следует выключать электропитание до тех пор, пока не появится сообщение: “Теперь питание компьютера можно выключить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3200" y="25909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b76"/>
                </a:solidFill>
                <a:latin typeface="Arial"/>
              </a:rPr>
              <a:t>Основные команды ОС Windows  для работы с папками, файлами и ярлы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Технология работы с папками в ОС Wind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9800" y="139716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b76"/>
                </a:solidFill>
                <a:uFillTx/>
                <a:latin typeface="Arial"/>
              </a:rPr>
              <a:t>ТЕМА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дача открытия требуемой папки, чтоб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смотреть её содержимое с целью поиска некоторых файл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полнить над компонентами файловой структуры, содержащейся в этой папке, определенные действия - например, скопировать, переслать или удалить их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устить в работу приложение, которое в ней содержит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крыть находящийся в папке докумен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ть в папке новый докумен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 эти выше перечисленные операции необходимо знать пользователю ПК поэтому выбранная мной тема для выпускной экзаменационной работы является актуально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полнение основных операций над объект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Объектом 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в данном случае понимается файл, папка или ярлык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то контейнер для программ и файлов в графических интерфейсах пользователя, отображаемый на экране с помощью значка, имеющего вид канцелярской папки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520" y="762120"/>
            <a:ext cx="3276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пка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0812" t="28454" r="53772" b="53701"/>
          <a:stretch/>
        </p:blipFill>
        <p:spPr>
          <a:xfrm>
            <a:off x="5715000" y="4343400"/>
            <a:ext cx="3048120" cy="232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62120" y="990720"/>
            <a:ext cx="2971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лы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647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это командный файл, с помощью которого можно осуществить доступ к какому-либо объекту. Например, запустить программу, открыть файл, открыть документ и т.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0157" t="37833" r="79704" b="46898"/>
          <a:stretch/>
        </p:blipFill>
        <p:spPr>
          <a:xfrm>
            <a:off x="6095880" y="45720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это программа, используемая для работы с сетевыми ресурсами в рабочей групп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447920"/>
            <a:ext cx="6095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нипулирование файлами и папка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оздание нового файла и пап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рисвоение име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ереименова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еремещение и копирова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Удал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осстановл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оиск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росмотр и изменение свойств файлов и папок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оздание ярлыка на рабочем стол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Школа открытка компьютер"/>
          <p:cNvPicPr/>
          <p:nvPr/>
        </p:nvPicPr>
        <p:blipFill>
          <a:blip r:embed="rId1"/>
          <a:stretch/>
        </p:blipFill>
        <p:spPr>
          <a:xfrm>
            <a:off x="5715000" y="4191120"/>
            <a:ext cx="289548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66"/>
                </a:solidFill>
                <a:latin typeface="Arial"/>
              </a:rPr>
              <a:t>Технология работы с папками в ОС Window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343400"/>
            <a:ext cx="40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5747" t="4060" r="78555" b="81048"/>
          <a:stretch/>
        </p:blipFill>
        <p:spPr>
          <a:xfrm>
            <a:off x="1295280" y="3505320"/>
            <a:ext cx="2819520" cy="18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5559" t="4109" r="78153" b="81112"/>
          <a:stretch/>
        </p:blipFill>
        <p:spPr>
          <a:xfrm>
            <a:off x="5334120" y="3429000"/>
            <a:ext cx="2895480" cy="2019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62936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ить копируемые элементы. Выбрать меню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ка/Копировать (Вырезать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и выбор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"Вырезать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оизойдет перемещение. Открыть папку-приемник. Выбрать меню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ка/Вст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141360" y="34041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3000" y="560808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ис. 1. Копирование элемента              Ри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Вставка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 5</cp:lastModifiedBy>
  <dcterms:modified xsi:type="dcterms:W3CDTF">2009-06-22T03:36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