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6C5-762D-4211-82C8-C4848715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86A3-B391-4067-B8BD-D76AB992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5912-D076-4987-A30E-BCA6CD72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38E2-9614-4DDA-BECB-16396394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BCD7-9B68-48C7-BAC2-2582A771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06B4-8CE6-4C0C-8128-C581DC90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548A-1339-4378-9065-54EFECA8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35E8-E9E5-4952-87EF-FD70BC70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C17B-2534-447F-8C37-3AC4A064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66B2-3AE5-4FAA-A789-243F6D9E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FC15-DCED-4438-B840-91C2F964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B40F-B3DB-4454-B972-E0DCC13C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77C3-A9E1-4667-8BEE-B858BE3D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5336-7831-439B-8BDC-3E802A5A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2B97-79D3-45EE-9B09-F8EB1DC1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F647-D70A-41CE-8EC5-A6D3EAFF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67C4-F537-4202-A247-40539273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A06A-5449-4546-8F1A-EBAA1980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E238-0FAD-470D-9F9F-E08D6F45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02B4-AC9D-4FD6-AA41-FC10755E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BA49-DF0C-4467-BC4D-FB020537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EB4D-7795-4315-A74E-538A3BE9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881-32F3-415B-86C5-3CF590B7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8465-A472-4175-A9C7-5325B694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AFC6-BDBB-445D-BA3D-F531D1043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3864-3BE3-4620-88B9-9CE92A756C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рок – игра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Клеточное строение растение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00200" y="2514240"/>
            <a:ext cx="6477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униципальная Понькинская основная общеобразовательная шко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ласс: 6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читель: Корнилова Т.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219320" y="2133720"/>
            <a:ext cx="57924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19320" y="2133720"/>
            <a:ext cx="57924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219320" y="2133720"/>
            <a:ext cx="57924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219320" y="2133720"/>
            <a:ext cx="57924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429000" y="4800600"/>
            <a:ext cx="53352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0d00"/>
                </a:solidFill>
                <a:latin typeface="Times New Roman"/>
              </a:rPr>
              <a:t>10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219320" y="2133720"/>
            <a:ext cx="57924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0d00"/>
                </a:solidFill>
                <a:latin typeface="Times New Roman"/>
              </a:rPr>
              <a:t>1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429000" y="4800600"/>
            <a:ext cx="53352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0d00"/>
                </a:solidFill>
                <a:latin typeface="Times New Roman"/>
              </a:rPr>
              <a:t>10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52120" y="457200"/>
            <a:ext cx="6248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ллиарды лет наза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хаосе Всел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Капл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жизни родилас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бко и несме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заре живого мироздань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ло чуждо и опасно всё круг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охотное, хрупкое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созданье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ло строить Жизни прочный д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оболочку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Жизн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ебя оде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кругом? Вода есть – можно пи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истый воздух, солнце жарко гре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решила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крох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«Будем жить!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5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5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5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25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25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25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25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25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25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25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25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25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25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25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25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25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25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25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25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25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25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25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25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25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25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25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25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25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25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25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25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25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25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25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25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25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верь себя!</a:t>
            </a:r>
            <a:br>
              <a:rPr sz="2600"/>
            </a:b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Какие утверждения верны?</a:t>
            </a: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Все растения состоят из клеток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Все клетки растений имеют ядро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Лейкопласты – это зелёные пластиды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Вакуоль в клетке всегда занимает центральное место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Образовательная ткань имеется только у молодых растений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Механическая ткань обеспечивает прочность растения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В покровной ткани содержится запас питательных веществ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Лупа и микроскоп – увеличительные приборы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1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1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1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1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1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1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1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1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1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1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1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1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1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1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ставь пропущенные слов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........ – самый простой увеличительный прибор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Благодаря микроскопу установлено, что все части растения состоят из ………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Деление – это процесс ……….. клетки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Появившиеся в ходе деления ……….. ткани клетки затем превращаются в клетки других тканей растения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Создание и накопление веществ обеспечивает ………. ткань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Питательные вещества передвигаются по растению благодаря ………. ткани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1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1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1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1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1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1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1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1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1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1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троение растительной клетк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47880" y="1066680"/>
            <a:ext cx="485280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кажите приблизительный возраст клетк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990960" cy="2022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00600" y="3124080"/>
            <a:ext cx="3324240" cy="2181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676520" y="4419720"/>
            <a:ext cx="2495520" cy="183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ление клетк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1922760" cy="1981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257800" y="1371600"/>
            <a:ext cx="1638360" cy="1962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057400" y="3886200"/>
            <a:ext cx="1828800" cy="2219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181480" y="4038480"/>
            <a:ext cx="3314880" cy="23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1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1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7-10-28T16:37:1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