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FB5-06D9-415F-A668-69F3CAEE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026-F746-45E1-A6F6-C6255DE6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40E-C0D8-4DC1-A8A1-4DC608E6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069B-27EF-402F-B016-862F03E2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E593-E580-4298-85A5-E99AC7E0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1565-D1B1-41AF-89CE-3E372B15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541A-9DBC-42FE-B562-BDCCD375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F870-E08F-4E68-B394-4030EBE9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C6A8-24D5-4D00-8388-3FCE9BF7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C0C7-6E67-440D-A42E-2DA59A53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D7A0-0DA1-4C36-BFED-C33C9319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70A-D3A6-4C9C-98CE-D4099440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E57B-0C2E-458E-A39E-E9880680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E33F-43D3-4AA4-9AE6-5A0AD215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DE52-2E42-42B0-95E1-9C435955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0F89-74D3-475A-A822-987CB94B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2032-55CE-4D9C-A802-60172E8B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129-EC31-490D-B720-BA6048A5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D766-0877-4089-97DA-00535DDF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F92-8C84-49C0-9AB5-68B314D5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150-0CE7-4A1C-A3CB-72B85DA3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13E-7B78-44AE-A434-BCE39484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6E0-59B6-4A4F-8BB2-610296FD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D64-DEB9-46C0-8B5D-3A876879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219D-DC3B-4CED-ABC4-F2DDBA058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31E2-8508-4A8A-8A37-FFD42D274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рок – игра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Клеточное строение растение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00200" y="2514240"/>
            <a:ext cx="6477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униципальная Понькинская основная общеобразовательная шк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ласс: 6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итель: Корнилова Т.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429000" y="4800600"/>
            <a:ext cx="53352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0d00"/>
                </a:solidFill>
                <a:latin typeface="Times New Roman"/>
              </a:rPr>
              <a:t>10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219320" y="2133720"/>
            <a:ext cx="57924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0d00"/>
                </a:solidFill>
                <a:latin typeface="Times New Roman"/>
              </a:rPr>
              <a:t>1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429000" y="4800600"/>
            <a:ext cx="53352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0d00"/>
                </a:solidFill>
                <a:latin typeface="Times New Roman"/>
              </a:rPr>
              <a:t>10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52120" y="457200"/>
            <a:ext cx="6248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ллиарды лет наза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хаосе Всел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Капл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жизни родилас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бко и несме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заре живого мироздань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о чуждо и опасно всё круг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охотное, хрупкое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создань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ло строить Жизни прочный д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болочку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Жизн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ебя оде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кругом? Вода есть – можно пи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истый воздух, солнце жарко гре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решила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крох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«Будем жить!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5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5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5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25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25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25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25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25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25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25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25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25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25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25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25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25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25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25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25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25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25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25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25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25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25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25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25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25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25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25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25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25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25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25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25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25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верь себя!</a:t>
            </a:r>
            <a:br>
              <a:rPr sz="2600"/>
            </a:b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Какие утверждения верны?</a:t>
            </a: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Все растения состоят из клеток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Все клетки растений имеют ядро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Лейкопласты – это зелёные пластиды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Вакуоль в клетке всегда занимает центральное место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Образовательная ткань имеется только у молодых растений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Механическая ткань обеспечивает прочность растения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В покровной ткани содержится запас питательных веществ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Лупа и микроскоп – увеличительные приборы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1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1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1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1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1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1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1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1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1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1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1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1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ставь пропущенные слов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........ – самый простой увеличительный прибор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Благодаря микроскопу установлено, что все части растения состоят из ………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Деление – это процесс ……….. клетки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Появившиеся в ходе деления ……….. ткани клетки затем превращаются в клетки других тканей растения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Создание и накопление веществ обеспечивает ………. ткань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Питательные вещества передвигаются по растению благодаря ………. ткани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1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1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1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1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1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1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1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1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троение растительной клет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47880" y="1066680"/>
            <a:ext cx="485280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кажите приблизительный возраст клетк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990960" cy="2022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00600" y="3124080"/>
            <a:ext cx="3324240" cy="21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676520" y="4419720"/>
            <a:ext cx="2495520" cy="183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ление клет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1922760" cy="1981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1638360" cy="1962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057400" y="3886200"/>
            <a:ext cx="1828800" cy="2219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181480" y="4038480"/>
            <a:ext cx="331488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1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1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288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0d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0666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5335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42670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29200" y="16002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7339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623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58672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53341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48006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635328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320040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133720"/>
            <a:ext cx="503280" cy="504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0d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2666880"/>
            <a:ext cx="503280" cy="505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7-10-28T16:37:1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