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A17-7CCE-4154-9606-116F852B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75C-646F-47D8-AE2A-F0DB346E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C84-1898-4098-8874-FE159157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9BF-1030-4BE8-A7E2-FFA471D7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01D1-3BCF-4A91-A2CA-EAC56946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840F-BF42-497C-87EF-65330074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A0D5-FFEC-47A8-8582-74AB1AAA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BB3B-99AF-44C9-9D13-877F516B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1D04-7613-4E00-ABD0-B0E9AA67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5309-0F3A-4DE0-BDF9-57130179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D791-ECE9-4806-AF47-B3A57D72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AEA-DEFA-40CF-ACC2-E81DDA8A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81A2-E6E0-40CE-867C-40F77300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254A-E909-454A-8118-961F50C0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F4E5-EBC8-4CB7-9840-DD22A746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B5F9-133A-451D-99C4-DC7CFCE3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E042-93C4-4A12-83FC-BB310F3C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73C-107A-45AF-8B15-FD1785E7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4B0-BABF-4520-8182-5F6B3CCA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725-7535-4579-AC77-6DAA4F23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D5B-1C25-4720-92B0-43B1AABE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BC3-8DD7-4257-83D6-DC46F702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3B0-CD7A-4A48-8C20-CCA89BBD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69D-8C7E-440E-B7A9-F0227D24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843F-F6B7-4EBE-8490-469987FF9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80FD-5429-4112-B423-ED401AEE1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рок – игра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Клеточное строение растение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00200" y="2514240"/>
            <a:ext cx="6477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униципальная Понькинская основная общеобразовательная шк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ласс: 6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итель: Корнилова Т.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429000" y="4800600"/>
            <a:ext cx="53352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0d00"/>
                </a:solidFill>
                <a:latin typeface="Times New Roman"/>
              </a:rPr>
              <a:t>10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0d00"/>
                </a:solidFill>
                <a:latin typeface="Times New Roman"/>
              </a:rPr>
              <a:t>1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429000" y="4800600"/>
            <a:ext cx="53352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0d00"/>
                </a:solidFill>
                <a:latin typeface="Times New Roman"/>
              </a:rPr>
              <a:t>10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52120" y="457200"/>
            <a:ext cx="6248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ллиарды лет наза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хаосе Всел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Капл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жизни родилас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бко и несме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заре живого мироздань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о чуждо и опасно всё круг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охотное, хрупкое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создань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ло строить Жизни прочный д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болочку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Жизн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ебя оде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кругом? Вода есть – можно пи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истый воздух, солнце жарко гре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решила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крох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«Будем жить!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5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5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5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25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25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25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25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25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25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25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25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25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25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25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25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25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25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25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25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25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25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25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25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25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25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25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25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25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25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25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25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25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25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25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25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25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верь себя!</a:t>
            </a:r>
            <a:br>
              <a:rPr sz="2600"/>
            </a:b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Какие утверждения верны?</a:t>
            </a: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Все растения состоят из клеток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Все клетки растений имеют ядро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Лейкопласты – это зелёные пластиды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Вакуоль в клетке всегда занимает центральное место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Образовательная ткань имеется только у молодых растений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Механическая ткань обеспечивает прочность растения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В покровной ткани содержится запас питательных веществ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Лупа и микроскоп – увеличительные приборы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1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1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1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1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1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1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1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1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1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1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1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1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ставь пропущенные слов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........ – самый простой увеличительный прибор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Благодаря микроскопу установлено, что все части растения состоят из ………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Деление – это процесс ……….. клетки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Появившиеся в ходе деления ……….. ткани клетки затем превращаются в клетки других тканей растения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Создание и накопление веществ обеспечивает ………. ткань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Питательные вещества передвигаются по растению благодаря ………. ткани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1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1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1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1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1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1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1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1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троение растительной клет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47880" y="1066680"/>
            <a:ext cx="485280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кажите приблизительный возраст клетк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990960" cy="2022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00600" y="3124080"/>
            <a:ext cx="3324240" cy="21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676520" y="4419720"/>
            <a:ext cx="2495520" cy="183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ление клет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1922760" cy="1981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1638360" cy="1962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057400" y="3886200"/>
            <a:ext cx="1828800" cy="2219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181480" y="4038480"/>
            <a:ext cx="331488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1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1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7-10-28T16:37:1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