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6FA-724A-4293-8605-6E8A5606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E60-7FA6-496C-B934-04D13B6F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19C-9FCB-403D-B494-5058B46A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9D8-3B16-442F-864D-696463F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5DB-A752-4C80-B6E1-9BAC953C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430-5DEB-460D-93EF-B33A5F7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ED4-DA72-48B5-A351-EB988A15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32E-7761-46AA-BFCF-5BD4F832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CC1-37C0-4914-A527-4D773170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D7B-96A6-44C4-82F8-A714A14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77C-4998-45E1-8E75-0792E477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928-F9BA-49E6-BC01-221040E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E78-714C-40C3-83DD-D4CBF8E95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688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ОНЯТИЕ О КЛЕТ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916360" y="5338800"/>
            <a:ext cx="60847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зентация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центом ИМОЯК ТПУ, д.м.н. Проваловой Н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рис"/>
          <p:cNvPicPr/>
          <p:nvPr/>
        </p:nvPicPr>
        <p:blipFill>
          <a:blip r:embed="rId1"/>
          <a:stretch/>
        </p:blipFill>
        <p:spPr>
          <a:xfrm>
            <a:off x="1258920" y="1596960"/>
            <a:ext cx="393048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35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кани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43280" y="1989000"/>
            <a:ext cx="432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уществует 4 типа тка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Мыш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оедин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пител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446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дноклеточные орган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4_00_02"/>
          <p:cNvPicPr/>
          <p:nvPr/>
        </p:nvPicPr>
        <p:blipFill>
          <a:blip r:embed="rId1"/>
          <a:stretch/>
        </p:blipFill>
        <p:spPr>
          <a:xfrm>
            <a:off x="250920" y="981000"/>
            <a:ext cx="3973320" cy="5705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211640" y="1052640"/>
            <a:ext cx="475308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Клетки большинства Одноклеточных организмов содержат все части эукариотических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 Одноклеточных клетка выполняет функции целого организма: питание, выделение, дыхание, защита, размножение, рост и развитие, пере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азмеры одной клетки составляют несколько мик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остав эукариотической клетки входят: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цитоплазматическая мембрана (</a:t>
            </a:r>
            <a:r>
              <a:rPr b="1" i="1" lang="ru-RU" sz="2800" spc="-1" strike="noStrike">
                <a:solidFill>
                  <a:srgbClr val="cc0099"/>
                </a:solidFill>
                <a:latin typeface="Arial"/>
              </a:rPr>
              <a:t>плазмолемма 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цито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я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органо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одно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у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67280" y="274320"/>
            <a:ext cx="309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й план строения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04_00_general"/>
          <p:cNvPicPr/>
          <p:nvPr/>
        </p:nvPicPr>
        <p:blipFill>
          <a:blip r:embed="rId1"/>
          <a:stretch/>
        </p:blipFill>
        <p:spPr>
          <a:xfrm>
            <a:off x="250920" y="260280"/>
            <a:ext cx="5553000" cy="6431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5940360" y="1916280"/>
            <a:ext cx="29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смотря на огромное разнообразие типов клеток, все они обладают общими чертами стро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Животная кл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04_00_zo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116000" y="1125360"/>
            <a:ext cx="68119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ститель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04_00_phyt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755640" y="1413000"/>
            <a:ext cx="75531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онтроль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Как называется наука, которая изучает кле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С помощью какого прибора можно изучать кле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Какие вы знаете кле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Из каких компонентов состоит клет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Чем отличаются растительные клетки от животных кл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ение клетки стало возможным с момента создания микро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ookemicro"/>
          <p:cNvPicPr/>
          <p:nvPr/>
        </p:nvPicPr>
        <p:blipFill>
          <a:blip r:embed="rId1"/>
          <a:stretch/>
        </p:blipFill>
        <p:spPr>
          <a:xfrm>
            <a:off x="395280" y="1341360"/>
            <a:ext cx="4319640" cy="359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eeuwenhoek"/>
          <p:cNvPicPr/>
          <p:nvPr/>
        </p:nvPicPr>
        <p:blipFill>
          <a:blip r:embed="rId2"/>
          <a:stretch/>
        </p:blipFill>
        <p:spPr>
          <a:xfrm>
            <a:off x="4500720" y="2708280"/>
            <a:ext cx="4248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икроскопы постоянно совершенствова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powell"/>
          <p:cNvPicPr/>
          <p:nvPr/>
        </p:nvPicPr>
        <p:blipFill>
          <a:blip r:embed="rId1"/>
          <a:stretch/>
        </p:blipFill>
        <p:spPr>
          <a:xfrm>
            <a:off x="250920" y="1413000"/>
            <a:ext cx="4091040" cy="511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мик"/>
          <p:cNvPicPr/>
          <p:nvPr/>
        </p:nvPicPr>
        <p:blipFill>
          <a:blip r:embed="rId2"/>
          <a:stretch/>
        </p:blipFill>
        <p:spPr>
          <a:xfrm>
            <a:off x="5076720" y="1197000"/>
            <a:ext cx="3816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19640" y="333360"/>
            <a:ext cx="3672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 первые микроскопы можно было увидеть внешнее строени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нутреннее строение клетки изучают при помощи современного светового и электронного микроско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микроскоп"/>
          <p:cNvPicPr/>
          <p:nvPr/>
        </p:nvPicPr>
        <p:blipFill>
          <a:blip r:embed="rId1"/>
          <a:stretch/>
        </p:blipFill>
        <p:spPr>
          <a:xfrm>
            <a:off x="2195640" y="3429000"/>
            <a:ext cx="288108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Figure 1: Cartoon depicting the difficulty controlling cancer."/>
          <p:cNvPicPr/>
          <p:nvPr/>
        </p:nvPicPr>
        <p:blipFill>
          <a:blip r:embed="rId2"/>
          <a:stretch/>
        </p:blipFill>
        <p:spPr>
          <a:xfrm>
            <a:off x="468360" y="11592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лассификация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наличию я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рокариотические клетки (прокари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эукариотические клетки (эукари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ви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растительн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животн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ип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соматическ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олов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38400" y="981000"/>
            <a:ext cx="34052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окариотическая клетка (прокари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эукариотическая клетка (эукари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4_00_03"/>
          <p:cNvPicPr/>
          <p:nvPr/>
        </p:nvPicPr>
        <p:blipFill>
          <a:blip r:embed="rId1"/>
          <a:stretch/>
        </p:blipFill>
        <p:spPr>
          <a:xfrm>
            <a:off x="179280" y="549360"/>
            <a:ext cx="5688000" cy="236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4_00_zoo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3141720"/>
            <a:ext cx="468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019640" y="836640"/>
            <a:ext cx="187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Раститель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Живот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04_00_phyt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24000" y="333360"/>
            <a:ext cx="3527280" cy="331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4_00_zoo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1332000" y="3500280"/>
            <a:ext cx="446400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клетки хор"/>
          <p:cNvPicPr/>
          <p:nvPr/>
        </p:nvPicPr>
        <p:blipFill>
          <a:blip r:embed="rId3"/>
          <a:stretch/>
        </p:blipFill>
        <p:spPr>
          <a:xfrm>
            <a:off x="3635280" y="404640"/>
            <a:ext cx="2822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227280" y="620280"/>
            <a:ext cx="259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оматически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олов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04_00_01"/>
          <p:cNvPicPr/>
          <p:nvPr/>
        </p:nvPicPr>
        <p:blipFill>
          <a:blip r:embed="rId1"/>
          <a:stretch/>
        </p:blipFill>
        <p:spPr>
          <a:xfrm>
            <a:off x="324000" y="333360"/>
            <a:ext cx="489564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ig15"/>
          <p:cNvPicPr/>
          <p:nvPr/>
        </p:nvPicPr>
        <p:blipFill>
          <a:blip r:embed="rId2"/>
          <a:stretch/>
        </p:blipFill>
        <p:spPr>
          <a:xfrm>
            <a:off x="0" y="3933720"/>
            <a:ext cx="619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35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летки многоклеточных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4_00_01"/>
          <p:cNvPicPr/>
          <p:nvPr/>
        </p:nvPicPr>
        <p:blipFill>
          <a:blip r:embed="rId1"/>
          <a:stretch/>
        </p:blipFill>
        <p:spPr>
          <a:xfrm>
            <a:off x="250920" y="189000"/>
            <a:ext cx="4537080" cy="6297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43280" y="1989000"/>
            <a:ext cx="4321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ело многоклеточных животных состоит из специализированных кле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Клетки, которые имеют одинаковое строение и выполняют одни и те же функции объединяются в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6:47:05Z</dcterms:created>
  <dc:creator>Афонин</dc:creator>
  <dc:description/>
  <dc:language>en-US</dc:language>
  <cp:lastModifiedBy>Коля</cp:lastModifiedBy>
  <dcterms:modified xsi:type="dcterms:W3CDTF">2013-05-16T22:14:48Z</dcterms:modified>
  <cp:revision>35</cp:revision>
  <dc:subject/>
  <dc:title>Слайд 1</dc:title>
</cp:coreProperties>
</file>