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582-F17E-4982-9733-1B924D70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A6C-DA7E-4E52-9E6C-00405D69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5EDC-9FAD-49F3-9554-FBC6A1E5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42A-2586-4D9C-BA9E-2912BC21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E95-28DB-4179-92E8-286F9251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339-E271-454A-A605-D0D525C9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D10F-3FC4-41BB-A04E-1580DB37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D84-C2F5-4938-94E3-05A1A198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26ED-E478-46B7-9203-9093A2F8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CFA1-91EF-4FCF-A852-AC840E26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627-2691-4D0A-A077-42B22407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111-4F43-4EDC-8EBA-D98F3C06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4A56-F78F-40AF-94EE-F5B9404D62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2688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ПОНЯТИЕ О КЛЕТ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916360" y="5338800"/>
            <a:ext cx="60847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зентация подготовл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центом ИМОЯК ТПУ, д.м.н. Проваловой Н.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рис"/>
          <p:cNvPicPr/>
          <p:nvPr/>
        </p:nvPicPr>
        <p:blipFill>
          <a:blip r:embed="rId1"/>
          <a:stretch/>
        </p:blipFill>
        <p:spPr>
          <a:xfrm>
            <a:off x="1258920" y="1596960"/>
            <a:ext cx="393048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88000" y="188640"/>
            <a:ext cx="435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кани орган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43280" y="1989000"/>
            <a:ext cx="4321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Существует 4 типа ткан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Мыше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Соедини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Эпител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4464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Одноклеточные организ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04_00_02"/>
          <p:cNvPicPr/>
          <p:nvPr/>
        </p:nvPicPr>
        <p:blipFill>
          <a:blip r:embed="rId1"/>
          <a:stretch/>
        </p:blipFill>
        <p:spPr>
          <a:xfrm>
            <a:off x="250920" y="981000"/>
            <a:ext cx="3973320" cy="5705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4211640" y="1052640"/>
            <a:ext cx="475308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Клетки большинства Одноклеточных организмов содержат все части эукариотических кл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У Одноклеточных клетка выполняет функции целого организма: питание, выделение, дыхание, защита, размножение, рост и развитие, передви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Размеры одной клетки составляют несколько мик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состав эукариотической клетки входят:</a:t>
            </a: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цитоплазматическая мембрана (</a:t>
            </a:r>
            <a:r>
              <a:rPr b="1" i="1" lang="ru-RU" sz="2800" spc="-1" strike="noStrike">
                <a:solidFill>
                  <a:srgbClr val="cc0099"/>
                </a:solidFill>
                <a:latin typeface="Arial"/>
              </a:rPr>
              <a:t>плазмолемма </a:t>
            </a: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цитопла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я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органои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немембранные органо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одномембранные органо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двумембранные органо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67280" y="274320"/>
            <a:ext cx="3097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щий план строения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04_00_general"/>
          <p:cNvPicPr/>
          <p:nvPr/>
        </p:nvPicPr>
        <p:blipFill>
          <a:blip r:embed="rId1"/>
          <a:stretch/>
        </p:blipFill>
        <p:spPr>
          <a:xfrm>
            <a:off x="250920" y="260280"/>
            <a:ext cx="5553000" cy="64310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5940360" y="1916280"/>
            <a:ext cx="295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Несмотря на огромное разнообразие типов клеток, все они обладают общими чертами стро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Животная кле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04_00_zoo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116000" y="1125360"/>
            <a:ext cx="681192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аститель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04_00_phyto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755640" y="1413000"/>
            <a:ext cx="75531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Контрольные 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Как называется наука, которая изучает клет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С помощью какого прибора можно изучать клет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Какие вы знаете клет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Из каких компонентов состоит клет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Чем отличаются растительные клетки от животных кле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зучение клетки стало возможным с момента создания микроск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ookemicro"/>
          <p:cNvPicPr/>
          <p:nvPr/>
        </p:nvPicPr>
        <p:blipFill>
          <a:blip r:embed="rId1"/>
          <a:stretch/>
        </p:blipFill>
        <p:spPr>
          <a:xfrm>
            <a:off x="395280" y="1341360"/>
            <a:ext cx="4319640" cy="3591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leeuwenhoek"/>
          <p:cNvPicPr/>
          <p:nvPr/>
        </p:nvPicPr>
        <p:blipFill>
          <a:blip r:embed="rId2"/>
          <a:stretch/>
        </p:blipFill>
        <p:spPr>
          <a:xfrm>
            <a:off x="4500720" y="2708280"/>
            <a:ext cx="424800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икроскопы постоянно совершенствовал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powell"/>
          <p:cNvPicPr/>
          <p:nvPr/>
        </p:nvPicPr>
        <p:blipFill>
          <a:blip r:embed="rId1"/>
          <a:stretch/>
        </p:blipFill>
        <p:spPr>
          <a:xfrm>
            <a:off x="250920" y="1413000"/>
            <a:ext cx="4091040" cy="511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мик"/>
          <p:cNvPicPr/>
          <p:nvPr/>
        </p:nvPicPr>
        <p:blipFill>
          <a:blip r:embed="rId2"/>
          <a:stretch/>
        </p:blipFill>
        <p:spPr>
          <a:xfrm>
            <a:off x="5076720" y="1197000"/>
            <a:ext cx="3816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219640" y="333360"/>
            <a:ext cx="3672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В первые микроскопы можно было увидеть внешнее строение кл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Внутреннее строение клетки изучают при помощи современного светового и электронного микроскоп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микроскоп"/>
          <p:cNvPicPr/>
          <p:nvPr/>
        </p:nvPicPr>
        <p:blipFill>
          <a:blip r:embed="rId1"/>
          <a:stretch/>
        </p:blipFill>
        <p:spPr>
          <a:xfrm>
            <a:off x="2195640" y="3429000"/>
            <a:ext cx="2881080" cy="313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Figure 1: Cartoon depicting the difficulty controlling cancer."/>
          <p:cNvPicPr/>
          <p:nvPr/>
        </p:nvPicPr>
        <p:blipFill>
          <a:blip r:embed="rId2"/>
          <a:stretch/>
        </p:blipFill>
        <p:spPr>
          <a:xfrm>
            <a:off x="468360" y="115920"/>
            <a:ext cx="2951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Классификация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наличию яд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прокариотические клетки (прокарио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эукариотические клетки (эукарио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вид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растительные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животные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тип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соматические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половые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38400" y="981000"/>
            <a:ext cx="340524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прокариотическая клетка (прокарио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эукариотическая клетка (эукарио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04_00_03"/>
          <p:cNvPicPr/>
          <p:nvPr/>
        </p:nvPicPr>
        <p:blipFill>
          <a:blip r:embed="rId1"/>
          <a:stretch/>
        </p:blipFill>
        <p:spPr>
          <a:xfrm>
            <a:off x="179280" y="549360"/>
            <a:ext cx="5688000" cy="2368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04_00_zoo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395280" y="3141720"/>
            <a:ext cx="468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019640" y="836640"/>
            <a:ext cx="187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Растительная кл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Животная кл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04_00_phyto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324000" y="333360"/>
            <a:ext cx="3527280" cy="331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04_00_zoo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1332000" y="3500280"/>
            <a:ext cx="4464000" cy="314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клетки хор"/>
          <p:cNvPicPr/>
          <p:nvPr/>
        </p:nvPicPr>
        <p:blipFill>
          <a:blip r:embed="rId3"/>
          <a:stretch/>
        </p:blipFill>
        <p:spPr>
          <a:xfrm>
            <a:off x="3635280" y="404640"/>
            <a:ext cx="2822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227280" y="620280"/>
            <a:ext cx="2592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Соматические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Половые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04_00_01"/>
          <p:cNvPicPr/>
          <p:nvPr/>
        </p:nvPicPr>
        <p:blipFill>
          <a:blip r:embed="rId1"/>
          <a:stretch/>
        </p:blipFill>
        <p:spPr>
          <a:xfrm>
            <a:off x="324000" y="333360"/>
            <a:ext cx="4895640" cy="302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fig15"/>
          <p:cNvPicPr/>
          <p:nvPr/>
        </p:nvPicPr>
        <p:blipFill>
          <a:blip r:embed="rId2"/>
          <a:stretch/>
        </p:blipFill>
        <p:spPr>
          <a:xfrm>
            <a:off x="0" y="3933720"/>
            <a:ext cx="6191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88000" y="188640"/>
            <a:ext cx="435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летки многоклеточных живот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04_00_01"/>
          <p:cNvPicPr/>
          <p:nvPr/>
        </p:nvPicPr>
        <p:blipFill>
          <a:blip r:embed="rId1"/>
          <a:stretch/>
        </p:blipFill>
        <p:spPr>
          <a:xfrm>
            <a:off x="250920" y="189000"/>
            <a:ext cx="4537080" cy="6297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4643280" y="1989000"/>
            <a:ext cx="43214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ело многоклеточных животных состоит из специализированных клет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Клетки, которые имеют одинаковое строение и выполняют одни и те же функции объединяются в тк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16:47:05Z</dcterms:created>
  <dc:creator>Афонин</dc:creator>
  <dc:description/>
  <dc:language>en-US</dc:language>
  <cp:lastModifiedBy>Коля</cp:lastModifiedBy>
  <dcterms:modified xsi:type="dcterms:W3CDTF">2013-05-16T22:14:48Z</dcterms:modified>
  <cp:revision>35</cp:revision>
  <dc:subject/>
  <dc:title>Слайд 1</dc:title>
</cp:coreProperties>
</file>