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3948-7F2C-4361-B94D-79D2F8B5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BBDB-DB09-4148-B8D0-2418EEBD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3E71-3B65-42B7-AF67-D82083C9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5CD2-06E6-4508-BD9D-8C6DCFD4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AE08-F8EC-4BCA-9B9F-B46C3D00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CDD8-10B5-4E74-8ACA-8DF55A1A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B39D-1DB0-4ADE-BD05-1DC24F94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A6F1-1683-453B-83EE-8C2059DA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1345-2901-4815-AC20-D25238F1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A9F5-D891-4A81-8589-9F5F27F5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FC89-EF13-4398-8950-0480A470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B910-BBF1-4F89-8F4D-B74482E4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C40C-9CD4-4785-A8D5-F17A5191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E9F7-902A-42ED-94AE-93083BC4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15FD-73A5-48F9-B5D1-22D087A4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EE1C-EC62-4F3A-90E8-57059BBB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015F-3E12-4E25-8D6B-2E98F440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92B9-36AC-4A98-B2E2-767F13C0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E1C2-DD29-4496-8835-974DF16B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8C59-6D4F-44E9-940D-305E12DF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0921-10C0-41FA-9895-99AC40BD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237B-EDCB-499B-B7B5-2A2BBD7B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4499-03F7-4CC7-9B05-2BA02280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3578-3E51-42EA-8274-F3FA36F0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5228-087A-4476-BBE1-2EFEEE3CDD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6381-C475-420E-B5BB-18C51BE07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Творческий проект</a:t>
            </a:r>
            <a:br>
              <a:rPr sz="3600"/>
            </a:b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на тему:</a:t>
            </a:r>
            <a:br>
              <a:rPr sz="3600"/>
            </a:br>
            <a:r>
              <a:rPr b="0" lang="en-US" sz="4000" spc="-1" strike="noStrike">
                <a:solidFill>
                  <a:srgbClr val="99ffcc"/>
                </a:solidFill>
                <a:latin typeface="Arial"/>
              </a:rPr>
              <a:t>«Фракталы – геометрия</a:t>
            </a:r>
            <a:br>
              <a:rPr sz="4000"/>
            </a:br>
            <a:r>
              <a:rPr b="0" lang="en-US" sz="4000" spc="-1" strike="noStrike">
                <a:solidFill>
                  <a:srgbClr val="99ffcc"/>
                </a:solidFill>
                <a:latin typeface="Arial"/>
              </a:rPr>
              <a:t>природы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09120" y="304812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ницы 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дряшовой А.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ител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информат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дряшова С.Ю.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товск-2007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152280"/>
            <a:ext cx="8534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униципальное общеобразовательное учрежд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«Лицей города Котовска Тамбовской област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52280" y="3352680"/>
            <a:ext cx="2971800" cy="28940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019920" y="3276720"/>
            <a:ext cx="297180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6530a"/>
                </a:solidFill>
                <a:latin typeface="Arial"/>
              </a:rPr>
              <a:t>Множество Жули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343400" cy="38084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434340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e1ff"/>
                </a:solidFill>
                <a:latin typeface="Arial"/>
              </a:rPr>
              <a:t>Множество Кох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 flipH="1" rot="10800000">
            <a:off x="1371600" y="1218960"/>
            <a:ext cx="601992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4e444"/>
                </a:solidFill>
                <a:latin typeface="Arial"/>
              </a:rPr>
              <a:t>Орнамен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657600" cy="35812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572000" y="2743200"/>
            <a:ext cx="367020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0acee"/>
                </a:solidFill>
                <a:latin typeface="Arial"/>
              </a:rPr>
              <a:t>Звез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2819520" cy="26668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562720" y="1224000"/>
            <a:ext cx="2743200" cy="25988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3048120" y="3886200"/>
            <a:ext cx="288288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Плаз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10640" cy="52326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узнать, что такое «фракталы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изучить историю возникновения и развития фрактальной геометр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ознакомиться с биографией создателя фракталов – Бенуа Мандельбро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выполнить програм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создания фракталов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языках программир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Pascal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Logo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238880" y="1828800"/>
            <a:ext cx="1524240" cy="1320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0" y="271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447560" cy="132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0" y="271296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1800" y="3230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172200" y="4038480"/>
            <a:ext cx="2743200" cy="25704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16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0" y="1677960"/>
          <a:ext cx="182520" cy="7952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1800" y="2472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43200" y="152280"/>
            <a:ext cx="6019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9966"/>
                </a:solidFill>
                <a:uFillTx/>
                <a:latin typeface="Arial"/>
              </a:rPr>
              <a:t>Цель:</a:t>
            </a:r>
            <a:r>
              <a:rPr b="0" lang="en-US" sz="4400" spc="-1" strike="noStrike">
                <a:solidFill>
                  <a:srgbClr val="ff9966"/>
                </a:solidFill>
                <a:latin typeface="Arial"/>
              </a:rPr>
              <a:t> исследование фрактал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52280" y="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4400" spc="-1" strike="noStrike">
                <a:solidFill>
                  <a:srgbClr val="ff66cc"/>
                </a:solidFill>
                <a:latin typeface="Arial"/>
              </a:rPr>
              <a:t>Фрактал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ffcc"/>
                </a:solidFill>
                <a:latin typeface="Arial"/>
              </a:rPr>
              <a:t>      </a:t>
            </a:r>
            <a:r>
              <a:rPr b="1" i="1" lang="ru-RU" sz="3200" spc="-1" strike="noStrike">
                <a:solidFill>
                  <a:srgbClr val="99ffcc"/>
                </a:solidFill>
                <a:latin typeface="Arial"/>
              </a:rPr>
              <a:t>Фракталом</a:t>
            </a:r>
            <a:r>
              <a:rPr b="1" lang="ru-RU" sz="3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cc"/>
                </a:solidFill>
                <a:latin typeface="Arial"/>
              </a:rPr>
              <a:t>называется множество, размерность Хаусдорфа-Безиковича д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cc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99ffcc"/>
                </a:solidFill>
                <a:latin typeface="Arial"/>
              </a:rPr>
              <a:t>которого строго больше е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cc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99ffcc"/>
                </a:solidFill>
                <a:latin typeface="Arial"/>
              </a:rPr>
              <a:t>топологической размер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1218960" cy="11574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6172200" y="228600"/>
            <a:ext cx="1219320" cy="11365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79200" y="2514600"/>
            <a:ext cx="1503360" cy="15238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7315200" y="2438280"/>
            <a:ext cx="167652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0" y="2181240"/>
          <a:ext cx="182520" cy="1581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5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1800" y="3762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1752480" y="3962520"/>
            <a:ext cx="2430720" cy="2590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4572000" y="3962520"/>
            <a:ext cx="2590920" cy="25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25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250"/>
                            </p:stCondLst>
                            <p:childTnLst>
                              <p:par>
                                <p:cTn id="1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250"/>
                            </p:stCondLst>
                            <p:childTnLst>
                              <p:par>
                                <p:cTn id="19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250"/>
                            </p:stCondLst>
                            <p:childTnLst>
                              <p:par>
                                <p:cTn id="2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Arial"/>
              </a:rPr>
              <a:t>Бенуа Мандельброт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2075040" cy="3095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566280"/>
            <a:ext cx="87631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нуа Мандельброт родился в Варшаве в 1924 году.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36 году семья Мандельброта эмигрировала во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ранцию, в Париж . После войны Бенуа ста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удентом Сарбонны. В 1958 году Мандельбро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ступил к работе в научно исследовательск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нтр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BM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Йорктауне. Переформулировал зако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ипфа-Мандельброта. Также Мандельбро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следовал экономику и обнаружил, что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извольные, на первый взгляд, колебания це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гут следовать скрытому математическому порядку. Мандельброт увидел самоподобные фракталы там, где все остальные видели деньги и ткани. Сегодня Бену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ндельброт – профессор Йельск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ниверситета, член американск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кадемии искусств и наук и Националь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кадемии наук США. Он удостое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ногочисленных почетных степе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наград. Его последняя важная награда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мия Вольфа по физи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019920" y="4114800"/>
            <a:ext cx="2600280" cy="25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25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250"/>
                            </p:stCondLst>
                            <p:childTnLst>
                              <p:par>
                                <p:cTn id="2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ffcc"/>
                </a:solidFill>
                <a:latin typeface="Arial"/>
              </a:rPr>
              <a:t>Фракталы бывают нескольких видов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Множество Мандельбро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Множество </a:t>
            </a: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Серпинског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</a:rPr>
              <a:t>Драконова лома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4" action="ppaction://hlinksldjump"/>
              </a:rPr>
              <a:t>Множество </a:t>
            </a: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5" action="ppaction://hlinksldjump"/>
              </a:rPr>
              <a:t>Жули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6" action="ppaction://hlinksldjump"/>
              </a:rPr>
              <a:t>Множество Кох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7" action="ppaction://hlinksldjump"/>
              </a:rPr>
              <a:t>Орнамен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8" action="ppaction://hlinksldjump"/>
              </a:rPr>
              <a:t>Звез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ff99"/>
                </a:solidFill>
                <a:uFillTx/>
                <a:latin typeface="Arial"/>
                <a:hlinkClick r:id="rId9" action="ppaction://hlinksldjump"/>
              </a:rPr>
              <a:t>Плаз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0"/>
          <a:stretch/>
        </p:blipFill>
        <p:spPr>
          <a:xfrm>
            <a:off x="5105520" y="3048120"/>
            <a:ext cx="388620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2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900"/>
                            </p:stCondLst>
                            <p:childTnLst>
                              <p:par>
                                <p:cTn id="2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900"/>
                            </p:stCondLst>
                            <p:childTnLst>
                              <p:par>
                                <p:cTn id="2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900"/>
                            </p:stCondLst>
                            <p:childTnLst>
                              <p:par>
                                <p:cTn id="27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900"/>
                            </p:stCondLst>
                            <p:childTnLst>
                              <p:par>
                                <p:cTn id="2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7900"/>
                            </p:stCondLst>
                            <p:childTnLst>
                              <p:par>
                                <p:cTn id="2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8900"/>
                            </p:stCondLst>
                            <p:childTnLst>
                              <p:par>
                                <p:cTn id="2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9900"/>
                            </p:stCondLst>
                            <p:childTnLst>
                              <p:par>
                                <p:cTn id="30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900"/>
                            </p:stCondLst>
                            <p:childTnLst>
                              <p:par>
                                <p:cTn id="3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16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ракталы окружают людей в их повседневной жизни постоян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рактальная геометрия помогает людям во многих областях нау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армония есть и в недра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ал, и в пении ветров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чем везде она од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та же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791320" y="3276720"/>
            <a:ext cx="3111480" cy="3111480"/>
          </a:xfrm>
          <a:prstGeom prst="rect">
            <a:avLst/>
          </a:prstGeom>
          <a:ln w="0">
            <a:noFill/>
          </a:ln>
        </p:spPr>
      </p:pic>
      <p:sp>
        <p:nvSpPr>
          <p:cNvPr id="248" name="">
            <a:hlinkClick r:id="" action="ppaction://hlinkshowjump?jump=endshow"/>
          </p:cNvPr>
          <p:cNvSpPr/>
          <p:nvPr/>
        </p:nvSpPr>
        <p:spPr>
          <a:xfrm>
            <a:off x="8305920" y="640080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23289" y="10800"/>
                </a:moveTo>
                <a:lnTo>
                  <a:pt x="12784" y="17806"/>
                </a:lnTo>
                <a:lnTo>
                  <a:pt x="12784" y="3794"/>
                </a:lnTo>
                <a:close/>
              </a:path>
              <a:path fill="darken" w="39580" h="21600">
                <a:moveTo>
                  <a:pt x="25134" y="3794"/>
                </a:moveTo>
                <a:lnTo>
                  <a:pt x="25134" y="17806"/>
                </a:lnTo>
                <a:lnTo>
                  <a:pt x="26797" y="17806"/>
                </a:lnTo>
                <a:lnTo>
                  <a:pt x="26797" y="3794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9" dur="10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000"/>
                            </p:stCondLst>
                            <p:childTnLst>
                              <p:par>
                                <p:cTn id="3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8000"/>
                            </p:stCondLst>
                            <p:childTnLst>
                              <p:par>
                                <p:cTn id="3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Множество Мандельбро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429000" y="4648320"/>
            <a:ext cx="2057400" cy="19904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438280" y="990720"/>
            <a:ext cx="4305600" cy="35827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762120" y="4648320"/>
            <a:ext cx="2035080" cy="1990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6400800" y="4653000"/>
            <a:ext cx="2057400" cy="1930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33"/>
                </a:solidFill>
                <a:latin typeface="Arial"/>
              </a:rPr>
              <a:t>Множество Серпинског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943600" cy="56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раконова ломана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dracon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858000" cy="57117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10-30T06:09:10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