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E7C-45EC-4664-AA29-A172ECAC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33B-D8AB-41F5-9EBD-15573986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C7C-2D00-4F7C-82D8-652E787C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B89-8539-4DB5-9433-364ADFC7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F621-5159-4F93-BD73-4861220E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867A-8993-4DE8-8E9B-AC2F972F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B308-AB80-470B-93F6-8DDE89BD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E067-17BE-497E-A488-BF98F1E5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44B-014C-4156-ACE4-D787724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5965-34A1-4052-AF90-0491D11F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09A6-1CF2-43F3-9AF2-F07B4E70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858-EC60-4032-8A5C-B5B2265C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DF07-9DB6-4BDC-9D28-8C8A7BC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8290-1BAA-458B-9EE9-91983A5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0348-491D-42F0-8B99-D130708A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9CC7-5C1E-45F9-9D00-EFD06443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A6CB-1442-48BD-BD30-B6D08DC0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1D9-6B94-46BD-A23C-B6209042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FAB-98AC-457E-8CC4-7AD73E68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625-4378-4878-804C-7F5CC39C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E11-8F83-43D4-B755-8FB2AA12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8C5-47A6-4082-938C-C6A70052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7F5-498E-445C-B6C3-69056CD8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14C-7BA3-4F52-8859-6D9643F3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4E56-BE34-4C46-BF45-4576648B3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2A2C-99FC-4C03-8957-15B7CD968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на тему:</a:t>
            </a:r>
            <a:br>
              <a:rPr sz="3600"/>
            </a:br>
            <a:r>
              <a:rPr b="0" lang="en-US" sz="4000" spc="-1" strike="noStrike">
                <a:solidFill>
                  <a:srgbClr val="99ffcc"/>
                </a:solidFill>
                <a:latin typeface="Arial"/>
              </a:rPr>
              <a:t>«Фракталы – геометрия</a:t>
            </a:r>
            <a:br>
              <a:rPr sz="4000"/>
            </a:br>
            <a:r>
              <a:rPr b="0" lang="en-US" sz="4000" spc="-1" strike="noStrike">
                <a:solidFill>
                  <a:srgbClr val="99ffcc"/>
                </a:solidFill>
                <a:latin typeface="Arial"/>
              </a:rPr>
              <a:t>природ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120" y="30481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ы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шовой А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шова С.Ю.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вск-2007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52280"/>
            <a:ext cx="8534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Лицей города Котовска Тамбовской обла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2971800" cy="2894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019920" y="3276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6530a"/>
                </a:solidFill>
                <a:latin typeface="Arial"/>
              </a:rPr>
              <a:t>Множество Жули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43400" cy="3808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34340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e1ff"/>
                </a:solidFill>
                <a:latin typeface="Arial"/>
              </a:rPr>
              <a:t>Множество Кох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 flipH="1" rot="10800000">
            <a:off x="1371600" y="1218960"/>
            <a:ext cx="601992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e444"/>
                </a:solidFill>
                <a:latin typeface="Arial"/>
              </a:rPr>
              <a:t>Орна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576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6702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acee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562720" y="1224000"/>
            <a:ext cx="2743200" cy="259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28828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ла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5232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узнать, что такое «фракталы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изучить историю возникновения и развития фрактальной геомет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ознакомиться с биографией создателя фракталов – Бенуа Мандельбр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ыполнить пр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создания фракталов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языках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ascal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ogo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238880" y="1828800"/>
            <a:ext cx="1524240" cy="1320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447560" cy="13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0" y="271296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800" y="3230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743200" cy="257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6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677960"/>
          <a:ext cx="182520" cy="795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800" y="247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15228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66"/>
                </a:solidFill>
                <a:uFillTx/>
                <a:latin typeface="Arial"/>
              </a:rPr>
              <a:t>Цель:</a:t>
            </a: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 исследование фрактал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4400" spc="-1" strike="noStrike">
                <a:solidFill>
                  <a:srgbClr val="ff66cc"/>
                </a:solidFill>
                <a:latin typeface="Arial"/>
              </a:rPr>
              <a:t>Фрактал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cc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99ffcc"/>
                </a:solidFill>
                <a:latin typeface="Arial"/>
              </a:rPr>
              <a:t>Фракталом</a:t>
            </a:r>
            <a:r>
              <a:rPr b="1" lang="ru-RU" sz="3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называется множество, размерность Хаусдорфа-Безиковича д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которого строго больше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топологической размер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1218960" cy="1157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1219320" cy="1136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9200" y="2514600"/>
            <a:ext cx="1503360" cy="1523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315200" y="2438280"/>
            <a:ext cx="167652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0" y="2181240"/>
          <a:ext cx="182520" cy="1581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800" y="3762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430720" cy="2590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572000" y="3962520"/>
            <a:ext cx="259092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25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25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250"/>
                            </p:stCondLst>
                            <p:childTnLst>
                              <p:par>
                                <p:cTn id="1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25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</a:rPr>
              <a:t>Бенуа Мандельбро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075040" cy="3095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566280"/>
            <a:ext cx="8763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нуа Мандельброт родился в Варшаве в 1924 году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6 году семья Мандельброта эмигрировала во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анцию, в Париж . После войны Бенуа ст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ом Сарбонны. В 1958 году Мандельбр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ступил к работе в научно исследовательск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B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Йорктауне. Переформулировал зако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пфа-Мандельброта. Также Мандельбр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л экономику и обнаружил, что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звольные, на первый взгляд, колебания ц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гут следовать скрытому математическому порядку. Мандельброт увидел самоподобные фракталы там, где все остальные видели деньги и ткани. Сегодня Бену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ндельброт – профессор Йель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верситета, член америка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адемии искусств и наук и Националь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адемии наук США. Он удосто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численных почетных степе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наград. Его последняя важная наград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мия Вольфа по физ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60028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25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25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Arial"/>
              </a:rPr>
              <a:t>Фракталы бывают нескольких вид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ножество Мандельбр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Множество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Серпин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</a:rPr>
              <a:t>Драконова лома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Множество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Жули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Множество Кох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7" action="ppaction://hlinksldjump"/>
              </a:rPr>
              <a:t>Орна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8" action="ppaction://hlinksldjump"/>
              </a:rPr>
              <a:t>Звез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9" action="ppaction://hlinksldjump"/>
              </a:rPr>
              <a:t>Пла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0"/>
          <a:stretch/>
        </p:blipFill>
        <p:spPr>
          <a:xfrm>
            <a:off x="5105520" y="3048120"/>
            <a:ext cx="3886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90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900"/>
                            </p:stCondLst>
                            <p:childTnLst>
                              <p:par>
                                <p:cTn id="2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900"/>
                            </p:stCondLst>
                            <p:childTnLst>
                              <p:par>
                                <p:cTn id="2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900"/>
                            </p:stCondLst>
                            <p:childTnLst>
                              <p:par>
                                <p:cTn id="2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9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900"/>
                            </p:stCondLst>
                            <p:childTnLst>
                              <p:par>
                                <p:cTn id="2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9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900"/>
                            </p:stCondLst>
                            <p:childTnLst>
                              <p:par>
                                <p:cTn id="3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кталы окружают людей в их повседневной жизни постоя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ктальная геометрия помогает людям во многих областях на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рмония есть и в нед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л, и в пении ветров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чем везде она од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та ж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11480" cy="311148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" action="ppaction://hlinkshowjump?jump=endshow"/>
          </p:cNvPr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23289" y="10800"/>
                </a:moveTo>
                <a:lnTo>
                  <a:pt x="12784" y="17806"/>
                </a:lnTo>
                <a:lnTo>
                  <a:pt x="12784" y="3794"/>
                </a:lnTo>
                <a:close/>
              </a:path>
              <a:path fill="darken" w="39580" h="21600">
                <a:moveTo>
                  <a:pt x="25134" y="3794"/>
                </a:moveTo>
                <a:lnTo>
                  <a:pt x="25134" y="17806"/>
                </a:lnTo>
                <a:lnTo>
                  <a:pt x="26797" y="17806"/>
                </a:lnTo>
                <a:lnTo>
                  <a:pt x="26797" y="379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Множество Мандельбр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429000" y="4648320"/>
            <a:ext cx="2057400" cy="1990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4305600" cy="3582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2035080" cy="1990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400800" y="4653000"/>
            <a:ext cx="2057400" cy="1930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"/>
              </a:rPr>
              <a:t>Множество Серпинско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раконова ломана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dracon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5711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30T06:09:10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