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D3C4-7B14-4719-8210-D8453751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095-FC79-4EF8-B4F3-1519803F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6D3-7E9F-47B2-8456-6A221A9A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A3C-7189-407A-845A-47F2FAB6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D1F4-3FE8-4F21-8DCC-99675D68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8DBE-8F7E-47CA-963C-2C3DE38A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F6E5-E839-4431-B617-BB8C1A8C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6EB6-6F50-42F4-BB64-38D99A33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E20D-37D8-4558-9DF1-EA31987C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B525-C029-464E-AE62-5DDEC0FD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4EBB-806F-4E57-B049-EDCF4AD4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CAC-5B3C-4CE9-8593-C22D322E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52A6-4B51-4EAF-94D8-685F0F8F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CF2B-1D6C-4275-A112-B125F09F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7B5B-CA1F-4DDD-A8D4-1DBB4CDD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1CF0-C6C1-43D9-8589-616D553F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02F1-40D3-4151-AAB0-728F9BF0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429-042F-4393-80C7-C6476DA2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712-450A-4CFA-9007-E5791702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B3B-F4EC-49CC-97A1-E90B4CA3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00D-9615-4279-932D-602D0765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9D7-9F9F-406D-84B6-AE0D9755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893-E74E-4492-8B95-A6809D00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4A7-A8CF-456D-9354-4732FE9C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71A8-86DD-4E5E-9ECD-326F5757B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A058-2223-4FCC-854E-40A65A353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Творческий проект</a:t>
            </a:r>
            <a:br>
              <a:rPr sz="3600"/>
            </a:b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на тему:</a:t>
            </a:r>
            <a:br>
              <a:rPr sz="3600"/>
            </a:br>
            <a:r>
              <a:rPr b="0" lang="en-US" sz="4000" spc="-1" strike="noStrike">
                <a:solidFill>
                  <a:srgbClr val="99ffcc"/>
                </a:solidFill>
                <a:latin typeface="Arial"/>
              </a:rPr>
              <a:t>«Фракталы – геометрия</a:t>
            </a:r>
            <a:br>
              <a:rPr sz="4000"/>
            </a:br>
            <a:r>
              <a:rPr b="0" lang="en-US" sz="4000" spc="-1" strike="noStrike">
                <a:solidFill>
                  <a:srgbClr val="99ffcc"/>
                </a:solidFill>
                <a:latin typeface="Arial"/>
              </a:rPr>
              <a:t>природы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09120" y="304812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цы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дряшовой А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дряшова С.Ю.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вск-2007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52280"/>
            <a:ext cx="8534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«Лицей города Котовска Тамбовской обла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2971800" cy="2894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019920" y="3276720"/>
            <a:ext cx="297180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6530a"/>
                </a:solidFill>
                <a:latin typeface="Arial"/>
              </a:rPr>
              <a:t>Множество Жули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43400" cy="38084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34340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e1ff"/>
                </a:solidFill>
                <a:latin typeface="Arial"/>
              </a:rPr>
              <a:t>Множество Кох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 flipH="1" rot="10800000">
            <a:off x="1371600" y="1218960"/>
            <a:ext cx="601992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4e444"/>
                </a:solidFill>
                <a:latin typeface="Arial"/>
              </a:rPr>
              <a:t>Орнамен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657600" cy="3581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572000" y="2743200"/>
            <a:ext cx="36702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0acee"/>
                </a:solidFill>
                <a:latin typeface="Arial"/>
              </a:rPr>
              <a:t>Звез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2819520" cy="2666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562720" y="1224000"/>
            <a:ext cx="2743200" cy="2598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3048120" y="3886200"/>
            <a:ext cx="28828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Плаз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52326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узнать, что такое «фракталы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изучить историю возникновения и развития фрактальной геометр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ознакомиться с биографией создателя фракталов – Бенуа Мандельбро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выполнить програм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создания фракталов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языках программ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Pascal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Logo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238880" y="1828800"/>
            <a:ext cx="1524240" cy="1320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27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447560" cy="132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0" y="271296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800" y="3230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172200" y="4038480"/>
            <a:ext cx="2743200" cy="2570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16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677960"/>
          <a:ext cx="182520" cy="7952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1800" y="2472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152280"/>
            <a:ext cx="6019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9966"/>
                </a:solidFill>
                <a:uFillTx/>
                <a:latin typeface="Arial"/>
              </a:rPr>
              <a:t>Цель:</a:t>
            </a:r>
            <a:r>
              <a:rPr b="0" lang="en-US" sz="4400" spc="-1" strike="noStrike">
                <a:solidFill>
                  <a:srgbClr val="ff9966"/>
                </a:solidFill>
                <a:latin typeface="Arial"/>
              </a:rPr>
              <a:t> исследование фрактал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52280" y="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4400" spc="-1" strike="noStrike">
                <a:solidFill>
                  <a:srgbClr val="ff66cc"/>
                </a:solidFill>
                <a:latin typeface="Arial"/>
              </a:rPr>
              <a:t>Фрактал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ffcc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99ffcc"/>
                </a:solidFill>
                <a:latin typeface="Arial"/>
              </a:rPr>
              <a:t>Фракталом</a:t>
            </a:r>
            <a:r>
              <a:rPr b="1" lang="ru-RU" sz="3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называется множество, размерность Хаусдорфа-Безиковича д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которого строго больше е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топологической размер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1218960" cy="1157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1219320" cy="11365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9200" y="2514600"/>
            <a:ext cx="1503360" cy="15238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315200" y="2438280"/>
            <a:ext cx="167652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0" y="2181240"/>
          <a:ext cx="182520" cy="1581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1800" y="3762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1752480" y="3962520"/>
            <a:ext cx="2430720" cy="2590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4572000" y="3962520"/>
            <a:ext cx="2590920" cy="25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25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250"/>
                            </p:stCondLst>
                            <p:childTnLst>
                              <p:par>
                                <p:cTn id="1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250"/>
                            </p:stCondLst>
                            <p:childTnLst>
                              <p:par>
                                <p:cTn id="1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250"/>
                            </p:stCondLst>
                            <p:childTnLst>
                              <p:par>
                                <p:cTn id="2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</a:rPr>
              <a:t>Бенуа Мандельброт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075040" cy="3095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566280"/>
            <a:ext cx="8763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нуа Мандельброт родился в Варшаве в 1924 году.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6 году семья Мандельброта эмигрировала во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ранцию, в Париж . После войны Бенуа ста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удентом Сарбонны. В 1958 году Мандельбр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ступил к работе в научно исследовательск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нтр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B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Йорктауне. Переформулировал зако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ипфа-Мандельброта. Также Мандельбр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следовал экономику и обнаружил, что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звольные, на первый взгляд, колебания це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гут следовать скрытому математическому порядку. Мандельброт увидел самоподобные фракталы там, где все остальные видели деньги и ткани. Сегодня Бену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ндельброт – профессор Йельск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ниверситета, член американ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адемии искусств и наук и Националь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адемии наук США. Он удосто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очисленных почетных степе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наград. Его последняя важная награда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мия Вольфа по физи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019920" y="4114800"/>
            <a:ext cx="2600280" cy="25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25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25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cc"/>
                </a:solidFill>
                <a:latin typeface="Arial"/>
              </a:rPr>
              <a:t>Фракталы бывают нескольких видо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Множество Мандельбр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Множество </a:t>
            </a: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Серпинско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</a:rPr>
              <a:t>Драконова лома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4" action="ppaction://hlinksldjump"/>
              </a:rPr>
              <a:t>Множество </a:t>
            </a: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5" action="ppaction://hlinksldjump"/>
              </a:rPr>
              <a:t>Жули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6" action="ppaction://hlinksldjump"/>
              </a:rPr>
              <a:t>Множество Кох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7" action="ppaction://hlinksldjump"/>
              </a:rPr>
              <a:t>Орнамен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8" action="ppaction://hlinksldjump"/>
              </a:rPr>
              <a:t>Звез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9" action="ppaction://hlinksldjump"/>
              </a:rPr>
              <a:t>Пла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0"/>
          <a:stretch/>
        </p:blipFill>
        <p:spPr>
          <a:xfrm>
            <a:off x="5105520" y="3048120"/>
            <a:ext cx="38862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900"/>
                            </p:stCondLst>
                            <p:childTnLst>
                              <p:par>
                                <p:cTn id="2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900"/>
                            </p:stCondLst>
                            <p:childTnLst>
                              <p:par>
                                <p:cTn id="2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900"/>
                            </p:stCondLst>
                            <p:childTnLst>
                              <p:par>
                                <p:cTn id="2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900"/>
                            </p:stCondLst>
                            <p:childTnLst>
                              <p:par>
                                <p:cTn id="2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900"/>
                            </p:stCondLst>
                            <p:childTnLst>
                              <p:par>
                                <p:cTn id="2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8900"/>
                            </p:stCondLst>
                            <p:childTnLst>
                              <p:par>
                                <p:cTn id="2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900"/>
                            </p:stCondLst>
                            <p:childTnLst>
                              <p:par>
                                <p:cTn id="3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900"/>
                            </p:stCondLst>
                            <p:childTnLst>
                              <p:par>
                                <p:cTn id="3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16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ракталы окружают людей в их повседневной жизни постоян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рактальная геометрия помогает людям во многих областях нау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армония есть и в недр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л, и в пении ветров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чем везде она од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та же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3111480" cy="3111480"/>
          </a:xfrm>
          <a:prstGeom prst="rect">
            <a:avLst/>
          </a:prstGeom>
          <a:ln w="0">
            <a:noFill/>
          </a:ln>
        </p:spPr>
      </p:pic>
      <p:sp>
        <p:nvSpPr>
          <p:cNvPr id="248" name="">
            <a:hlinkClick r:id="" action="ppaction://hlinkshowjump?jump=endshow"/>
          </p:cNvPr>
          <p:cNvSpPr/>
          <p:nvPr/>
        </p:nvSpPr>
        <p:spPr>
          <a:xfrm>
            <a:off x="8305920" y="64008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23289" y="10800"/>
                </a:moveTo>
                <a:lnTo>
                  <a:pt x="12784" y="17806"/>
                </a:lnTo>
                <a:lnTo>
                  <a:pt x="12784" y="3794"/>
                </a:lnTo>
                <a:close/>
              </a:path>
              <a:path fill="darken" w="39580" h="21600">
                <a:moveTo>
                  <a:pt x="25134" y="3794"/>
                </a:moveTo>
                <a:lnTo>
                  <a:pt x="25134" y="17806"/>
                </a:lnTo>
                <a:lnTo>
                  <a:pt x="26797" y="17806"/>
                </a:lnTo>
                <a:lnTo>
                  <a:pt x="26797" y="3794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1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000"/>
                            </p:stCondLst>
                            <p:childTnLst>
                              <p:par>
                                <p:cTn id="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Множество Мандельбр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429000" y="4648320"/>
            <a:ext cx="2057400" cy="1990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438280" y="990720"/>
            <a:ext cx="4305600" cy="3582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762120" y="4648320"/>
            <a:ext cx="2035080" cy="1990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6400800" y="4653000"/>
            <a:ext cx="2057400" cy="1930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Arial"/>
              </a:rPr>
              <a:t>Множество Серпинско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4360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раконова ломана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dracon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858000" cy="5711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0-30T06:09:10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