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82D-DDE2-42B7-8774-116446E7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C52-B6B1-4505-9F5F-692F85D8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846-3F90-4364-87C5-0712C464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675-FBF4-4335-8E62-72D6654C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6DED-1A04-48E1-806B-D56DAD60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951F-471D-4E98-98A9-E49A6FFF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4FFA-5A52-4B24-81FC-F61AB70A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72BF-BE1F-4C24-9561-E9921CAC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41C7-34FE-4E5F-AD82-15A0A70B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13D9-8297-4769-BF24-01A09C73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6982-890A-4806-8F13-7508ABBE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7E5-4525-4170-91D3-D9A0C98C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EA09-BA72-4230-B6CC-736B25C4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EF96-6CFD-4DD5-936F-6883D3E4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AAD2-4AEE-4BBA-A48C-13454640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6B37-4713-49BE-B393-23CE4335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6BA9-3046-4F87-851A-DA9E6529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FFA-F81F-486C-8712-B363FB30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C11-5528-4A0A-AE87-8C2EE353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B68-AF2F-4094-ADF3-81B30215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748-90BE-4161-8A37-F55268D2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404-7CE8-458F-A3F1-8A2FA6B5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CF8-29AD-4791-B85F-1B43E0B5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CFB-1F79-431E-A4B1-0F444CF1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6A86-7230-4BCD-A0D3-353C9A9411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B2FA-E18F-4CF3-BE67-9B3FAD823C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апреле-мае 2011 группа посетила Россию — Москва, Санкт-Петербург, Екатеринбург, Новосибирс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641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пасибо за вним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хард Круспе — вокал, гита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но Жиро — б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енка Йоханссон — удар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сен Инвольтини — гита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ша Мозер — клавишные, программ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Emigra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группа, основанная Рихардом Круспе, также являющегося сооснователем очень популярной на данный момент группы Rammstein и ее соло-гитаристом. Новая группа Круспе Emigrate появилась в 2005 году во время творческого перерыва Rammste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Emigrate» — такое название получила пластинка по имени самой группы — с начала сентября попала на прилавки музыкальных магазинов Европы и уже получила дату релиза за океаном. В США она была выпущена 28 января 2008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можно предположить, что самостоятельно музыку Рихард начал писать еще более ранее-так в 1999 году он переехал в Нью-Йорк-город вдохновляющий его и где он может спокойно заниматься собственным проектом. Emigrate по его словам-это способ раскрыться творчески и самореализоваться как гитари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4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YA</cp:lastModifiedBy>
  <dcterms:modified xsi:type="dcterms:W3CDTF">2012-01-24T07:2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