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0197-DE42-41F5-ADFF-8F7D9E02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9D99-3979-4B53-8D77-4DCA02A6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8FFC-C08B-4641-91CB-D113F700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3667-EB2D-46C8-8A82-C09FC13A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ECFB-657C-4693-84D7-6B33C8AA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698C-F92B-47E2-96A6-DFDF495F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F0CB-FEA6-4154-AB1B-52EB87A9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B296-7F64-4435-9FE1-D9A1C23F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1698-DFAA-4B94-BA7F-5E4D6C33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DB68-E7BE-47A7-8B36-A184737F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B166-25B9-4B54-8441-C8F901AA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4A29-340C-4D85-BEDD-73F72EC8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EDE0-DF6B-4051-9A3F-E50CE68C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DA37-3EEE-4E64-BD02-6D16596E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566C-5B09-4671-AEBF-B4C1CC68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9F0C-E3DA-4CAD-B5B3-9E71C585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3011-8ACE-4652-971E-2AB5C1FB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3B2A-D77C-40C6-AED7-E9FB3F55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6CFD-8F07-44C7-A5EA-96954655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B22B-A5B6-427B-B99E-A2BB0960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5166-4E6A-45F5-B6A5-1362C139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A560-D912-4FE9-ADB8-C5E57E18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D14-D09D-4ED8-A941-47462330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610D-2BFE-43A7-9991-6088F931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0EE4-99B1-4316-B5F9-FE0B4E52AAB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C9F0-76CB-4E04-A97A-083591B2F2E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апреле-мае 2011 группа посетила Россию — Москва, Санкт-Петербург, Екатеринбург, Новосибирс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6248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6417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Спасибо за внимни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хард Круспе — вокал, гита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но Жиро — б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енка Йоханссон — удар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ьсен Инвольтини — гита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ша Мозер — клавишные, программ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Emigrat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— группа, основанная Рихардом Круспе, также являющегося сооснователем очень популярной на данный момент группы Rammstein и ее соло-гитаристом. Новая группа Круспе Emigrate появилась в 2005 году во время творческого перерыва Rammste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Emigrate» — такое название получила пластинка по имени самой группы — с начала сентября попала на прилавки музыкальных магазинов Европы и уже получила дату релиза за океаном. В США она была выпущена 28 января 2008 г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можно предположить, что самостоятельно музыку Рихард начал писать еще более ранее-так в 1999 году он переехал в Нью-Йорк-город вдохновляющий его и где он может спокойно заниматься собственным проектом. Emigrate по его словам-это способ раскрыться творчески и самореализоваться как гитарис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47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YA</cp:lastModifiedBy>
  <dcterms:modified xsi:type="dcterms:W3CDTF">2012-01-24T07:28:5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