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35D-9BC3-4866-B07F-20F52C8A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E79-A918-4F89-85B9-13615BEE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A5B-DB50-4D5E-BEA9-E322BD81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667-D3B4-4949-B0F1-F3E1DAC8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74E6-F80F-4AAF-9A2D-C185A8EE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0B71-B99C-4FB0-9094-CE22A2F8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B788-B7B4-4BF3-8049-CB625F83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308B-AA6B-4263-A2B7-C49EAA70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A4DE-212D-4F12-AE77-7E20B276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3B2D-6C1E-4CD7-8C93-E8C6DC08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EDED-4831-45F0-B163-EBC1FE4F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D3B-BCFE-4D0B-A7BE-B6F869E7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913D-62DD-469E-AF86-AC0EC801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C44D-B3EC-4DEB-9424-0793A1FD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AEA6-AC16-4AAB-9AD0-67C7F702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9B9B-684E-4596-A799-181CD6D6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87DA-EE23-477A-97A2-2AD47ED0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E2B-7A4C-43CF-BAEF-9FD8D522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460-120A-4F1D-B073-234713A2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80C-AD03-4F6C-9F41-29F1D820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388-FDF8-49EE-A63D-B290E22F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C34-1DB9-45BE-A2EA-FFB4164B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F17-02B2-4A18-88FB-0A4DF1FE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385-F702-403F-BFC2-D3E12C59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80E6-F3E7-4AC3-BADE-4C6B78FB71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F202-21BD-4467-BBF3-0B392AEEEE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апреле-мае 2011 группа посетила Россию — Москва, Санкт-Петербург, Екатеринбург, Новосибирс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641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Спасибо за вним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хард Круспе — вокал, гита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но Жиро — ба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енка Йоханссон — уда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сен Инвольтини — гита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ша Мозер — клавишные, программ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migra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группа, основанная Рихардом Круспе, также являющегося сооснователем очень популярной на данный момент группы Rammstein и ее соло-гитаристом. Новая группа Круспе Emigrate появилась в 2005 году во время творческого перерыва Rammste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Emigrate» — такое название получила пластинка по имени самой группы — с начала сентября попала на прилавки музыкальных магазинов Европы и уже получила дату релиза за океаном. В США она была выпущена 28 января 2008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можно предположить, что самостоятельно музыку Рихард начал писать еще более ранее-так в 1999 году он переехал в Нью-Йорк-город вдохновляющий его и где он может спокойно заниматься собственным проектом. Emigrate по его словам-это способ раскрыться творчески и самореализоваться как гитари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4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YA</cp:lastModifiedBy>
  <dcterms:modified xsi:type="dcterms:W3CDTF">2012-01-24T07:2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