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C91-5D32-45AD-856A-E8A5A9CE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770-AFAA-49E5-BB76-9C16EC13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B1AA8-5B65-4A64-BB9A-77BE8E2E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D6E2F-FBB5-491F-985C-28FBB63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CEA4A-DC27-469D-A7C3-2BB74DB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42A8-F110-45BA-AEDA-4162532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55E4-4AA2-48A8-9D2A-CD3CA93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C03EF-352E-4411-9EF2-183ED37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4FD7-0FD7-4B9F-9965-B174260C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9FE53-DC37-4146-A80B-A3F93BBE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0880-87BC-4D19-AE64-97A9BA2A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DA7-7DF1-4730-A858-DA7CF4AD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BF9-6F0F-4725-8EDE-E9B414B0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CA18-7DD9-4D6B-9EBC-64A8CABE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1F77-F0DD-4502-913B-C0EB0F9B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9B3-CB0D-45A9-945E-1A31DC8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C85A-CFF4-42EE-97CA-0B537315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6853-C5C6-4889-96D2-4D4E8034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5F30-BDBB-4803-8D03-CD6AC31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48F0-ADC3-45F3-ABA5-56BA7A6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A04-9E06-4A75-BF62-2448C589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7D74-E029-4667-B123-AF449FB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79DC-1B31-4171-AFCD-6FD3C410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811-1D7B-4E6D-A5A6-13AF6BA9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4E46-3B07-4475-8E4C-A6199CE4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8704-818F-47B3-8ED1-2881FFC1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FC1D-FA3D-4978-983E-4474C717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35A3-2396-47DF-9F99-16003849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DFB6-796D-4404-BCC8-AE876E6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5E71-BB1E-4A12-AD3B-FE1E7CF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374F-1C10-4669-AA15-A8248E9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726-C693-4562-B47D-DB0C2B45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C629-DAC0-4108-8681-395B0AA1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4149-7BD1-4E5D-B943-AC83F69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0255-1943-4F2F-ABAD-B013963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1EAE-C36D-4D64-AEB9-3FDDFB24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D745-8FE9-4136-AEEA-BAEBE50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4D7B-F615-4EE9-B817-6C3E376D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EAFC-61DD-4624-B672-4DA796C1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D88D-AD71-40B7-8928-8D88FBBF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819E-DE25-4894-9482-845B066A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7775-8D8E-4C07-B0AE-3887969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A8A-7E9B-4A74-87F8-C1D3AACC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B9FA-66EB-4BF2-AAFE-525A997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1E82-0801-4604-A82A-F55B237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3C24-C5A0-41AE-8B13-CEECD28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1FA3-EA48-40F4-B1C9-6D6C597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DACB-9C26-4B03-87E0-E52D3CA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4BEA-1C0D-473E-93DD-AE45D64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986D-1AA3-4A02-9C40-90B5B96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B7E4-0EBE-4A00-9DE2-6D8B9C67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52FD-1E77-483E-A5E3-93BBDF2F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9C06-C2D0-4B56-B4A2-701E17A3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229-D19B-48EB-A56F-B3EDAD73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9583-1B63-4E7C-BA46-1F1B1D8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5D44-0DF8-46A4-8033-6C3CF30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FE24-1DF9-40F2-9635-C6C4923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2EEF-C517-4B7C-8EE7-D18CB21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F4497-CE1C-4257-AED4-98A8E8B2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9370-513E-47FE-AB40-A615277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75CAA-6589-4BCF-AA57-5AC91D1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078F-D9C8-4C23-8A77-D1DEA192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D884-9D49-45C0-80AB-4A901BE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CBDE-F979-4203-A3A3-F06353FF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588-8182-401A-A054-15B2DDA8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5E7A-D1CB-40B1-9F8C-2F4D4187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6866A-F116-4176-BBDE-DDD70939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0C202-8AC0-4E2D-B85C-B6FC47FE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D4610-FD48-4856-AA72-8AB9A9D2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F3F2A-0506-4E44-AD41-CFB73860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4C7E-3D10-4949-BEEB-C1EAB8B6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E531-9619-465B-8EE5-75218EBC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6DAAF-675E-47D9-99E2-D1F1DEB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02C33-1C34-493B-BE4A-AFE0609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5EAD4-302D-49C8-9F31-E59235FE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4B3-300E-4D53-AD66-807AB94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56F8-19BF-40C2-A888-71CBD4CA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9E10-B374-4C7F-B1A5-95A351EE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8429-173E-4CB8-87C4-FA638174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38B90-658C-49A5-A56A-4E14951F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CBB4-1B92-4C7E-AD82-7A2A1B8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CAE1-DDBC-4D66-B459-20ADD2D8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F4DC-F68C-407F-8E3B-A664092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C275-051B-46B8-A7A9-BF3EE4E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2413-A309-45FF-A790-7A58B6F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3A5A-F01B-43D9-8A9B-F20BE3C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585-33A9-4FA4-897B-FE158F9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EE61-217F-4C92-A3D5-288AA81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399F-9668-481C-89C5-2C7D2D0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8981-2E5A-4EBF-A3B8-BA5D79FA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DADB2-8616-494A-ACF4-6F99CADA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1089-C3DB-4653-ACBB-4AA96EDE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0C2B-094C-4971-A697-84CBF788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FA4F-1224-44E4-9EFA-7693B1B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35A73-827D-45A2-B8DD-957533C9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BF79-A6DA-4AE6-A7B6-0CFAC11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B2EC-9E70-4F33-80BA-B81B4CD8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ADC-09AA-4AA0-876F-6A0E635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4A7F-21D1-4CEB-8EDD-E153765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D90AA-C4A4-4516-9007-835CC40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3854-27EF-4452-8538-2B24E62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D8C6-F640-4180-8277-A18FE5A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A95F-815A-4DE3-8807-C634D177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847E-AB1E-4B45-BD14-971160A5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7FADA-D6DD-4061-9E1B-9935BD85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31B27-1498-4209-A3C2-0E824E3F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7A83F-6CC4-4834-8873-92048F3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C9618-737A-4C42-992E-0A9ABF8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1A5B-0C46-4717-9107-D0F580E5B5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C2E-CB08-4080-980C-BFA9830531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314-A4BC-4BBF-97C3-B4B32CCDB5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3417-831F-4835-8C07-CC131A5D09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7161-E75F-45F6-A1BF-B835070EBB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B75F-66F4-481F-AAE6-1414BB885C0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D563-1FC0-4925-93C0-E058F1F04A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853-9FF3-4637-8E84-A9F8C4A8F5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9AF-D4CA-4D12-B3AC-C0892F9504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596880" y="560520"/>
            <a:ext cx="8369280" cy="2414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43200" y="255600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5540a"/>
                </a:solidFill>
                <a:latin typeface="Franklin Gothic Book"/>
              </a:rPr>
              <a:t>дизайнер-  моделье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Владимир\Рабочий стол\през.jpg"/>
          <p:cNvPicPr/>
          <p:nvPr/>
        </p:nvPicPr>
        <p:blipFill>
          <a:blip r:embed="rId2"/>
          <a:stretch/>
        </p:blipFill>
        <p:spPr>
          <a:xfrm>
            <a:off x="214200" y="2130480"/>
            <a:ext cx="2376720" cy="4322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4999680" y="5468760"/>
            <a:ext cx="36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ыполнила Трусова 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42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78596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делье́р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 русской традиции)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специалист по изготовлению моделей одежды, создатель экспериментальных образцов, определяющий образ и стиль, общее конструктивное решение, изобретающий новые технологические решения и разрабатывающий декор, выбирающий цвет и материалы, продумывающий аксессуары и дополн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C:\Documents and Settings\Владимир\Рабочий стол\76.jpg"/>
          <p:cNvPicPr/>
          <p:nvPr/>
        </p:nvPicPr>
        <p:blipFill>
          <a:blip r:embed="rId2"/>
          <a:stretch/>
        </p:blipFill>
        <p:spPr>
          <a:xfrm>
            <a:off x="500040" y="142920"/>
            <a:ext cx="3595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42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292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Плюсы професси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Увлекательная и творческая рабо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В компаниях, производящих одежду, средняя заработная плата модельера $ 500-700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Главные дизайнеры предприятия могут получать о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$ 1000 до 3000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Documents and Settings\Владимир\Рабочий стол\watermark.jpeg"/>
          <p:cNvPicPr/>
          <p:nvPr/>
        </p:nvPicPr>
        <p:blipFill>
          <a:blip r:embed="rId2"/>
          <a:stretch/>
        </p:blipFill>
        <p:spPr>
          <a:xfrm>
            <a:off x="4286160" y="4071960"/>
            <a:ext cx="3714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82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Минусы професси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Чтобы участвовать в элитных показах, по правилам "от кутюр" нужно представить от 4 до 60 ансамблей, причем любое изделие на 50-80 % должно быть сделано руками. Одно платье шьется минимум месяц, а особенно сложные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                                        </a:t>
            </a: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до полугода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Владимир\Рабочий стол\watermark.jpeg"/>
          <p:cNvPicPr/>
          <p:nvPr/>
        </p:nvPicPr>
        <p:blipFill>
          <a:blip r:embed="rId2"/>
          <a:stretch/>
        </p:blipFill>
        <p:spPr>
          <a:xfrm>
            <a:off x="4714920" y="357120"/>
            <a:ext cx="2752560" cy="925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Владимир\Рабочий стол\t3.jpg"/>
          <p:cNvPicPr/>
          <p:nvPr/>
        </p:nvPicPr>
        <p:blipFill>
          <a:blip r:embed="rId3"/>
          <a:stretch/>
        </p:blipFill>
        <p:spPr>
          <a:xfrm>
            <a:off x="357120" y="4857840"/>
            <a:ext cx="4013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61596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2" descr=""/>
          <p:cNvPicPr/>
          <p:nvPr/>
        </p:nvPicPr>
        <p:blipFill>
          <a:blip r:embed="rId2"/>
          <a:stretch/>
        </p:blipFill>
        <p:spPr>
          <a:xfrm>
            <a:off x="304920" y="158760"/>
            <a:ext cx="8686800" cy="5918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Documents and Settings\Владимир\Рабочий стол\презе.jpg"/>
          <p:cNvPicPr/>
          <p:nvPr/>
        </p:nvPicPr>
        <p:blipFill>
          <a:blip r:embed="rId3"/>
          <a:stretch/>
        </p:blipFill>
        <p:spPr>
          <a:xfrm>
            <a:off x="214200" y="2000160"/>
            <a:ext cx="30718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5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357120"/>
            <a:ext cx="8686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рьера и зарплат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На первых порах нужно быть готовым к работе                исполнителем на швейном производстве или в       бутиках известных дизайнеров-модельеров.    Начинающему кутюрье очень важно принимать  активное участие в различных российских и зарубежных показах. Это и заявка о себе в профессиональных кругах, и поиск потенциальных заказчиков, и презентация идеи, своеобразное подтверждение авторских прав. Главный дизайнер получает от 1000</a:t>
            </a:r>
            <a:r>
              <a:rPr b="0" lang="en-US" sz="2400" spc="-1" strike="noStrike">
                <a:solidFill>
                  <a:srgbClr val="c87d0e"/>
                </a:solidFill>
                <a:latin typeface="Franklin Gothic Book"/>
              </a:rPr>
              <a:t> $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 до 3000 </a:t>
            </a:r>
            <a:r>
              <a:rPr b="0" lang="en-US" sz="2400" spc="-1" strike="noStrike">
                <a:solidFill>
                  <a:srgbClr val="c87d0e"/>
                </a:solidFill>
                <a:latin typeface="Franklin Gothic Book"/>
              </a:rPr>
              <a:t>$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5" descr="C:\Documents and Settings\Владимир\Рабочий стол\careerchange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3071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Владимир\Рабочий стол\b_c93eb5642c44db6bb534de7b5445b770.jpg"/>
          <p:cNvPicPr/>
          <p:nvPr/>
        </p:nvPicPr>
        <p:blipFill>
          <a:blip r:embed="rId3"/>
          <a:stretch/>
        </p:blipFill>
        <p:spPr>
          <a:xfrm>
            <a:off x="2571840" y="5072040"/>
            <a:ext cx="421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3:44:38Z</dcterms:modified>
  <cp:revision>11</cp:revision>
  <dc:subject/>
  <dc:title>Профессия</dc:title>
</cp:coreProperties>
</file>