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E3D-F886-406E-A504-C00934FA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AB1-9855-4F21-9EAE-66FCEFA1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6DE1E-0BA7-45A5-9522-427DEDC7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EB073-13C9-4249-AE60-93949C1C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A84A3-1F95-4462-A167-F2F76524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44DF4-6A3E-4562-9084-020A7023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ECC08-C853-49F2-8E09-9E233A0B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BB4B9-7A58-4678-85B9-4B1C6F88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EEE45-0B4F-4212-86D0-2E9A35EF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49A8C-A08C-4374-B5B6-C63E90B2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276C3-FA41-40EE-9DEE-86A1B951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21A-00B3-48FA-A55E-71990088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8C8-DF40-43CC-870F-1F8FFA42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A19E-576A-4345-A8AE-2D6BFE36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5D6D-8BAD-4C7F-B696-92930B5C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4B23-E05E-436D-8AC5-726A8E3F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EDB0-329B-4401-A196-511AF051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698E-42EE-48FA-943F-83F908D1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0930-DBBA-43C3-B437-7C94875E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56E5-F5CC-494E-BC79-98371F31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47D-C585-4A8C-A1B3-1F258EC6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8371-DEE9-4DAD-8AE7-B820E6BC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7F9D-8436-4A1E-8A80-CFAA3285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7A9B-5B5C-4A5A-932F-8FF2F14A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9FEA-6A5F-4ED0-B26F-20AFACF9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BFCF-40C1-4BB8-9FBD-449D2FBC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748D-77E8-4B8B-9763-142AF1B0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4C454-B9BE-424F-BA1D-F2E69B8A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BCA6A-9401-4FEB-97D8-FB370981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2465B-D0A0-4C20-8E96-E522AB7B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CA56-24BC-49E1-A851-B71494CA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748-15AC-4E4F-90F2-98CE60E6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C1BB0-C596-49C4-A997-994769B8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36C2-73EE-4CDB-9481-618C16CB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4B650-5C15-40C8-8894-4071E458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2C286-A045-41BE-9FF7-5E2AB33E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1341-8E78-4672-A9E0-43FB1A58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3FFBD-49A1-4D3A-83DD-CADAFBE7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84AF5-78E2-4C8C-92E5-D7E00E4E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BBC6D-16D1-4E9A-ACA1-0CFB21D5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FC377-154E-43D1-B06F-D973E6DD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14D96-90AE-4334-97D8-D090D898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E89-78F7-40C8-AAF9-2BDE9383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A0D42-52BC-468D-891A-3BCD323B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E3021-A1BE-4F19-AE81-9BB0E34C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12B94-C400-492A-97AE-ED5BFCBC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5407E-D49C-4D45-A484-E6F3A56F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E1727-109E-4316-972F-26C978B5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0A41-D931-4BEE-B527-EC374AA8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7EF41-041D-47E7-AABF-8D4510BC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69CB4-FD0B-4E2C-8A3A-92A221C5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C85F9-D12F-425F-A3F6-EA0DD4BF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9F1D6-1B80-4003-B949-BF14F451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E20-50AB-4F1E-B6A4-0A8CD3C0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B04BE-9682-4586-A89A-A6538B16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DC8CA-04B5-4569-88FB-20E83E7E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B707A-BB96-4AA3-A4F1-E3BD4F0F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0AA08-A30B-4A78-A811-B03D1BBB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EB227-3D5A-478C-AF25-3A057BE2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CC55B-4E09-4E07-BF04-94720FB0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2B79B-A131-4A05-A410-A0BF9B90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DC7F1-4560-4FCB-9F28-4E732674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B9772-10E6-4EE5-8656-BD464670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91C6B-38E1-42EF-9647-FC5508D8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649-0835-4721-B42F-BE41E0A0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7A30A-0ED3-4821-8D35-386ED6CC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26B78-DDCF-4B6E-9AEA-00BF59C5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0CB7-9435-44C8-B345-C28B6E83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D91B6-5681-48DF-8A6C-0A22A637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D12BB-9B09-46C5-9DA1-41F6A7EF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84248-D9E0-4666-AD22-90143C2E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3237C-FF89-46EA-89E8-A4843FB9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55525-8E0B-42D1-9A23-18E9D59C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64936-2ADC-43E3-B38D-B8B7A6CF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ADC00-1CF8-4D40-B9A4-720813FB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2F1-B136-4302-947F-03869A7D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388A5-83EC-4249-A4E3-55247FBB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807F8-8465-4D7B-9368-AB58EE99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A9431-4F90-4699-BA20-24F14090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8C413-2063-4B1D-A0B1-DCA08ED0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BB2D2-B35A-4416-A192-D84FE106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C62FF-5248-4689-B63F-E920F073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5AEB0-7672-4DFB-82EB-D03A8E0C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5A710-ADFB-46D9-B7BE-B8840358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F7CDE-82CD-41F9-B3DF-D37C4E6C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DE85E-A663-48F5-A194-7F4AD1E7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F22-9F1E-49FE-8390-D457DBAB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244C0-5731-42AB-A8F5-7FFE1584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ED576-1AF0-4747-AFD0-63C6B85F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6E559-17B2-4DB3-8443-95EA65AD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631CE-01CE-4E08-A5FB-B1EB34DF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53D12-E1B6-4E5F-8299-EC7A6EE2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E451B-26B8-4CAE-AF98-92208684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2507E-7533-4A99-9268-D88EAA7C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37881-3B72-4713-8B84-8FCBD28E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E78D8-DF11-4CE4-B090-B5C88587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9451A-6895-46B5-8DE3-824A5295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6237-ACF0-476F-A644-B5EEEC2C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F9209-38B2-4247-B048-971D3D68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F43C0-A0BA-4A98-988E-10C40A6F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7B384-5E33-49D3-AD5A-939C2B81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6A12E-ECDC-4122-8E08-BAB5750F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13F7A-94CA-4006-96C9-E7E00D3A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5030A-2308-407B-924E-EE6EE72C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7A115-F684-4612-892E-404B42D8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318E9-887B-4292-AA4D-DE9AD744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502DC-D02D-48FD-9DFA-D1C1752A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D0C07-0629-48DE-B904-DE7B828E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2A5F-C440-40B6-AF02-158299E3195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566B-05D3-4A6D-995E-DB454511537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67BE-ECA5-4978-A98D-2763D23C395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7340-2B60-4190-B58E-739D0743CBD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117C-99BB-4F5A-87A7-A2277C8D6C8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AC6F-D52E-4E4B-BD9B-2D10F4DAB6C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BEBE-91C5-4F7B-8523-E7408E3E4D9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B0E7-4748-4B09-9F4B-E555C0DC6CC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87B6-8953-4CF7-A5A1-B51EF2655DA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596880" y="560520"/>
            <a:ext cx="8369280" cy="24145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743200" y="2556000"/>
            <a:ext cx="640080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85540a"/>
                </a:solidFill>
                <a:latin typeface="Franklin Gothic Book"/>
              </a:rPr>
              <a:t>дизайнер-  модельер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2" descr="C:\Documents and Settings\Владимир\Рабочий стол\през.jpg"/>
          <p:cNvPicPr/>
          <p:nvPr/>
        </p:nvPicPr>
        <p:blipFill>
          <a:blip r:embed="rId2"/>
          <a:stretch/>
        </p:blipFill>
        <p:spPr>
          <a:xfrm>
            <a:off x="214200" y="2130480"/>
            <a:ext cx="2376720" cy="43228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4999680" y="5468760"/>
            <a:ext cx="36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ыполнила Трусова Оль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ченица 9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42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785960"/>
            <a:ext cx="86868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оделье́р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(в русской традиции)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— специалист по изготовлению моделей одежды, создатель экспериментальных образцов, определяющий образ и стиль, общее конструктивное решение, изобретающий новые технологические решения и разрабатывающий декор, выбирающий цвет и материалы, продумывающий аксессуары и дополн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2" descr="C:\Documents and Settings\Владимир\Рабочий стол\76.jpg"/>
          <p:cNvPicPr/>
          <p:nvPr/>
        </p:nvPicPr>
        <p:blipFill>
          <a:blip r:embed="rId2"/>
          <a:stretch/>
        </p:blipFill>
        <p:spPr>
          <a:xfrm>
            <a:off x="500040" y="142920"/>
            <a:ext cx="35956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04920" y="414360"/>
            <a:ext cx="8686800" cy="42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42920"/>
            <a:ext cx="868680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Плюсы професси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Увлекательная и творческая работ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В компаниях, производящих одежду, средняя заработная плата модельера $ 500-700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Главные дизайнеры предприятия могут получать от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85540a"/>
                </a:solidFill>
                <a:latin typeface="Franklin Gothic Book"/>
              </a:rPr>
              <a:t>$ 1000 до 3000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C:\Documents and Settings\Владимир\Рабочий стол\watermark.jpeg"/>
          <p:cNvPicPr/>
          <p:nvPr/>
        </p:nvPicPr>
        <p:blipFill>
          <a:blip r:embed="rId2"/>
          <a:stretch/>
        </p:blipFill>
        <p:spPr>
          <a:xfrm>
            <a:off x="4286160" y="4071960"/>
            <a:ext cx="3714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825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2855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Franklin Gothic Book"/>
              </a:rPr>
              <a:t>Минусы професси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a010"/>
                </a:solidFill>
                <a:latin typeface="Franklin Gothic Book"/>
              </a:rPr>
              <a:t>Чтобы участвовать в элитных показах, по правилам "от кутюр" нужно представить от 4 до 60 ансамблей, причем любое изделие на 50-80 % должно быть сделано руками. Одно платье шьется минимум месяц, а особенно сложные 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a010"/>
                </a:solidFill>
                <a:latin typeface="Franklin Gothic Book"/>
              </a:rPr>
              <a:t>                                        </a:t>
            </a:r>
            <a:r>
              <a:rPr b="0" lang="ru-RU" sz="3200" spc="-1" strike="noStrike">
                <a:solidFill>
                  <a:srgbClr val="d2a010"/>
                </a:solidFill>
                <a:latin typeface="Franklin Gothic Book"/>
              </a:rPr>
              <a:t>до полугода..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C:\Documents and Settings\Владимир\Рабочий стол\watermark.jpeg"/>
          <p:cNvPicPr/>
          <p:nvPr/>
        </p:nvPicPr>
        <p:blipFill>
          <a:blip r:embed="rId2"/>
          <a:stretch/>
        </p:blipFill>
        <p:spPr>
          <a:xfrm>
            <a:off x="4714920" y="357120"/>
            <a:ext cx="2752560" cy="925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Documents and Settings\Владимир\Рабочий стол\t3.jpg"/>
          <p:cNvPicPr/>
          <p:nvPr/>
        </p:nvPicPr>
        <p:blipFill>
          <a:blip r:embed="rId3"/>
          <a:stretch/>
        </p:blipFill>
        <p:spPr>
          <a:xfrm>
            <a:off x="357120" y="4857840"/>
            <a:ext cx="40132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615960"/>
          </a:xfrm>
          <a:prstGeom prst="rect">
            <a:avLst/>
          </a:prstGeom>
          <a:ln w="0">
            <a:noFill/>
          </a:ln>
        </p:spPr>
      </p:pic>
      <p:pic>
        <p:nvPicPr>
          <p:cNvPr id="414" name="Содержимое 2" descr=""/>
          <p:cNvPicPr/>
          <p:nvPr/>
        </p:nvPicPr>
        <p:blipFill>
          <a:blip r:embed="rId2"/>
          <a:stretch/>
        </p:blipFill>
        <p:spPr>
          <a:xfrm>
            <a:off x="304920" y="158760"/>
            <a:ext cx="8686800" cy="5918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C:\Documents and Settings\Владимир\Рабочий стол\презе.jpg"/>
          <p:cNvPicPr/>
          <p:nvPr/>
        </p:nvPicPr>
        <p:blipFill>
          <a:blip r:embed="rId3"/>
          <a:stretch/>
        </p:blipFill>
        <p:spPr>
          <a:xfrm>
            <a:off x="214200" y="2000160"/>
            <a:ext cx="30718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59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357120"/>
            <a:ext cx="8686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Franklin Gothic Book"/>
              </a:rPr>
              <a:t>Карьера и зарплата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5008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c87d0e"/>
                </a:solidFill>
                <a:latin typeface="Franklin Gothic Book"/>
              </a:rPr>
              <a:t>На первых порах нужно быть готовым к работе                исполнителем на швейном производстве или в       бутиках известных дизайнеров-модельеров.    Начинающему кутюрье очень важно принимать  активное участие в различных российских и зарубежных показах. Это и заявка о себе в профессиональных кругах, и поиск потенциальных заказчиков, и презентация идеи, своеобразное подтверждение авторских прав. Главный дизайнер получает от 1000</a:t>
            </a:r>
            <a:r>
              <a:rPr b="0" lang="en-US" sz="2400" spc="-1" strike="noStrike">
                <a:solidFill>
                  <a:srgbClr val="c87d0e"/>
                </a:solidFill>
                <a:latin typeface="Franklin Gothic Book"/>
              </a:rPr>
              <a:t> $</a:t>
            </a:r>
            <a:r>
              <a:rPr b="0" lang="ru-RU" sz="2400" spc="-1" strike="noStrike">
                <a:solidFill>
                  <a:srgbClr val="c87d0e"/>
                </a:solidFill>
                <a:latin typeface="Franklin Gothic Book"/>
              </a:rPr>
              <a:t> до 3000 </a:t>
            </a:r>
            <a:r>
              <a:rPr b="0" lang="en-US" sz="2400" spc="-1" strike="noStrike">
                <a:solidFill>
                  <a:srgbClr val="c87d0e"/>
                </a:solidFill>
                <a:latin typeface="Franklin Gothic Book"/>
              </a:rPr>
              <a:t>$</a:t>
            </a:r>
            <a:r>
              <a:rPr b="0" lang="ru-RU" sz="2400" spc="-1" strike="noStrike">
                <a:solidFill>
                  <a:srgbClr val="c87d0e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5" descr="C:\Documents and Settings\Владимир\Рабочий стол\careerchange.jpg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3071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C:\Documents and Settings\Владимир\Рабочий стол\b_c93eb5642c44db6bb534de7b5445b770.jpg"/>
          <p:cNvPicPr/>
          <p:nvPr/>
        </p:nvPicPr>
        <p:blipFill>
          <a:blip r:embed="rId3"/>
          <a:stretch/>
        </p:blipFill>
        <p:spPr>
          <a:xfrm>
            <a:off x="2571840" y="5072040"/>
            <a:ext cx="42148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07T13:44:38Z</dcterms:modified>
  <cp:revision>11</cp:revision>
  <dc:subject/>
  <dc:title>Профессия</dc:title>
</cp:coreProperties>
</file>