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67B-D74C-4131-B03C-1621D8E2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F37-BC8A-40C0-B2B1-97FCBBDE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F8372-ECCC-42E1-A40A-ADAA1B4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25218-337A-47F2-BBED-4DCE6040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93F99-0294-4D0E-B58D-BBD6B044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4CF2F-6EC1-4426-9929-612A978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68DCF-CDC0-4C63-8744-1EEA033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6F00C-2BAA-41B7-B587-32B28F4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34754-3B39-4DC3-B5F1-A5F3E06E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AF16F-1F87-482E-ABFD-81A0C28C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99A6B-8039-47A4-B19B-C9FBF3D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435-2CB6-4454-882A-18EFAAAB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B6D-A3C4-40F7-8C78-14223F79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0587-1C86-4DB2-BFDE-5AC1FFEF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6F5-145D-49D1-AC61-3C66F44B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876F-6234-4AE6-A7FC-71278DA2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1395-8371-4F02-997D-586C1922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FBAC-8B05-451A-86EE-FC227C3C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45F-D58C-4D39-837B-F2308F4F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E377-4C84-4FAA-A67D-A07C95AF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6B9-F0AB-4AFE-BCF7-86CE7645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43D-2907-4424-B6F6-AD8A132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3D5-85AE-4B33-A595-3391C65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E10C-5D1F-4A15-B8E8-D2B1ED0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F1C5-9AFB-499B-A971-F6CB373E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FA69-5173-4941-A5D6-0D0CEAFF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FA11A-4EDB-4A0F-A5DD-C4FCE57C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9D63-F872-4279-A268-199F437B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6A76-E0A8-494F-8134-4B9A5F9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4528-A1B7-4B2D-99C4-3DBE8C3F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AF86-1EC6-4193-88EA-36639904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C1C-9CBC-4FCA-A7A8-01B80BB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4C07-C1C3-4098-AE27-853D8F82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5ABF-4145-4675-B420-F9C9CB5C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6137-089A-4C47-AD0D-CDC373A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71C1-1D03-4DD7-AEC4-3894769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7FA3-4E57-4D99-A098-1DD3547C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0DA9-01EC-410B-BE16-0E028458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03DD-E32D-434A-920D-EF1A4863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4952-0434-471B-90A7-AC97B547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3820-D37B-430D-8E1A-C9A4E53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2C0D-D0EF-498B-9AE6-9294712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E60-4EB8-455B-A63E-84F4775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D6D9-BBC8-4210-AB2B-0572A7F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EB52-2A98-4755-949B-97497625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B6414-49A3-427D-880B-D9ACF865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903E-D2B8-4C5E-8181-A0216D3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9CB4-E5F9-4C72-9DCE-D4762721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44CF-2CE1-4E48-AFD2-D33542F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0125-44E4-45F3-9434-FDE275CE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3F9D-DE4C-46D6-AFE6-C73C69B6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5BA0-8874-4DDB-86B9-022A0405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0BD6-AFCA-4E71-A893-3DB74FCD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353-0A69-4E59-BD4B-AB8F46CC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1204-036F-429B-BF18-C213A679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2958-A114-4BEA-A89E-95B2C1C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288CA-A783-49E3-842D-4D8AE66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3FFF9-A444-4AA5-A55A-ED52A7DC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8EBB-1051-4B51-AAAC-F7458794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29CB-F4CD-44C9-B2EB-4BA08400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C0BE-90B8-44A8-89F3-79CD1D7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4CA01-ED41-4DBE-AFE3-CB9496C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3953-E3E5-4F98-BF35-B34E1B04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51E5-BDDA-449A-931E-414FA230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DD8-DED3-40C2-B30C-B0E06318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11B4-B006-44ED-9C8B-DAC1E095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5C136-799A-4434-98D5-4735B57B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FB34-163E-4794-B37E-CB41809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1C61-9C68-49AE-88D2-32DADAE6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7F7D-0CAB-4DC1-B2E8-63202DA0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BF77E-9D24-4D32-AC3B-22FE6BC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75A6-1396-46D3-B2E0-E3BAC1DC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5128-30BE-4665-BA17-ED86C9C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C2E7-6E9A-425F-99E5-55F1FB47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29E7-9ABC-4E9A-B55C-D899039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F1A-4069-43D8-96E6-58D9A37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39AA-603B-4772-A49D-AC4E73AB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84E5D-5498-4619-BB6A-31F301A3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3E46B-35E3-4FED-BD1D-303F27CD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B9D9-8FBE-463D-82CD-27F019D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9F0D-D329-4C2A-A9B2-AEAF843A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45BCD-3153-46B5-A31E-1104BA67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9083-6810-4B97-8C11-EB799AE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D17D-CFFC-464D-A16C-948380C0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D857-A8DB-4B2F-9871-018FBD8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3DEF-1363-47FA-A9D0-BE1A5798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F7D-49FB-42FD-B060-8A22CAC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CF03-A431-4FD5-9FAD-2346227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A7D95-F981-4007-970B-08090D02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B175-FFB5-4322-A0A6-DC14CD43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070D-3892-4BC6-A44B-97E11F66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9E97-8C74-40DE-9651-BD9F5E2A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313B-E60F-49F0-A70F-2D701E59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14234-FD07-4D43-93CF-DAF72990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F1D58-00FF-4552-99DC-F41B91F5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B91B5-BCF0-49C5-900B-4CEB45E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2D319-00E3-42CC-9AFB-0FF85B3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CE4-9389-48CB-A29F-AE74DA9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9CD27-2173-4E79-913C-D712711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CCC1-A028-4535-A207-B919FA94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EA457-A568-4BBA-88ED-E68CEE2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D885F-31F0-41F9-AD6B-A48933D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3D77F-A3E5-4717-B030-3A873FFA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3C1FD-678C-4BC9-AF7D-756B3CA1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1C7A6-D19B-49D5-ABEC-DB5C7104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C031-362F-4503-807D-2C5A6F59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A8F4E-D4BE-414C-9B5F-52561FA2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0AFFB-E379-431D-8F85-301C5267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18D-7FB3-40F3-BFC3-384054625B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3803-2764-45FF-A110-A0C197FF28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A27-2F68-45E5-BA3C-E3E92F4F98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B32-18D3-4D64-B2C1-CB430210BC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90B-F579-4542-A2A0-3173D92A78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0B9-BD37-4F8D-9494-D394F7F495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9F4A-64C2-4099-9771-AA4DF1002D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4E9-02FB-444A-AFB7-F034C2665D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7C6-D371-453D-BE52-C1068F9C34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596880" y="560520"/>
            <a:ext cx="8369280" cy="2414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43200" y="255600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5540a"/>
                </a:solidFill>
                <a:latin typeface="Franklin Gothic Book"/>
              </a:rPr>
              <a:t>дизайнер-  моделье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Владимир\Рабочий стол\през.jpg"/>
          <p:cNvPicPr/>
          <p:nvPr/>
        </p:nvPicPr>
        <p:blipFill>
          <a:blip r:embed="rId2"/>
          <a:stretch/>
        </p:blipFill>
        <p:spPr>
          <a:xfrm>
            <a:off x="214200" y="2130480"/>
            <a:ext cx="2376720" cy="4322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4999680" y="5468760"/>
            <a:ext cx="36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ыполнила Трусова 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42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78596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делье́р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 русской традиции)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специалист по изготовлению моделей одежды, создатель экспериментальных образцов, определяющий образ и стиль, общее конструктивное решение, изобретающий новые технологические решения и разрабатывающий декор, выбирающий цвет и материалы, продумывающий аксессуары и дополн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C:\Documents and Settings\Владимир\Рабочий стол\76.jpg"/>
          <p:cNvPicPr/>
          <p:nvPr/>
        </p:nvPicPr>
        <p:blipFill>
          <a:blip r:embed="rId2"/>
          <a:stretch/>
        </p:blipFill>
        <p:spPr>
          <a:xfrm>
            <a:off x="500040" y="142920"/>
            <a:ext cx="3595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42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292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Плюсы професси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Увлекательная и творческая рабо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В компаниях, производящих одежду, средняя заработная плата модельера $ 500-700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Главные дизайнеры предприятия могут получать о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$ 1000 до 3000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Documents and Settings\Владимир\Рабочий стол\watermark.jpeg"/>
          <p:cNvPicPr/>
          <p:nvPr/>
        </p:nvPicPr>
        <p:blipFill>
          <a:blip r:embed="rId2"/>
          <a:stretch/>
        </p:blipFill>
        <p:spPr>
          <a:xfrm>
            <a:off x="4286160" y="4071960"/>
            <a:ext cx="3714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82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Минусы професси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Чтобы участвовать в элитных показах, по правилам "от кутюр" нужно представить от 4 до 60 ансамблей, причем любое изделие на 50-80 % должно быть сделано руками. Одно платье шьется минимум месяц, а особенно сложные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                                        </a:t>
            </a: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до полугода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Владимир\Рабочий стол\watermark.jpeg"/>
          <p:cNvPicPr/>
          <p:nvPr/>
        </p:nvPicPr>
        <p:blipFill>
          <a:blip r:embed="rId2"/>
          <a:stretch/>
        </p:blipFill>
        <p:spPr>
          <a:xfrm>
            <a:off x="4714920" y="357120"/>
            <a:ext cx="2752560" cy="925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Владимир\Рабочий стол\t3.jpg"/>
          <p:cNvPicPr/>
          <p:nvPr/>
        </p:nvPicPr>
        <p:blipFill>
          <a:blip r:embed="rId3"/>
          <a:stretch/>
        </p:blipFill>
        <p:spPr>
          <a:xfrm>
            <a:off x="357120" y="4857840"/>
            <a:ext cx="4013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61596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2" descr=""/>
          <p:cNvPicPr/>
          <p:nvPr/>
        </p:nvPicPr>
        <p:blipFill>
          <a:blip r:embed="rId2"/>
          <a:stretch/>
        </p:blipFill>
        <p:spPr>
          <a:xfrm>
            <a:off x="304920" y="158760"/>
            <a:ext cx="8686800" cy="5918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Documents and Settings\Владимир\Рабочий стол\презе.jpg"/>
          <p:cNvPicPr/>
          <p:nvPr/>
        </p:nvPicPr>
        <p:blipFill>
          <a:blip r:embed="rId3"/>
          <a:stretch/>
        </p:blipFill>
        <p:spPr>
          <a:xfrm>
            <a:off x="214200" y="2000160"/>
            <a:ext cx="30718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5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357120"/>
            <a:ext cx="8686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рьера и зарплат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На первых порах нужно быть готовым к работе                исполнителем на швейном производстве или в       бутиках известных дизайнеров-модельеров.    Начинающему кутюрье очень важно принимать  активное участие в различных российских и зарубежных показах. Это и заявка о себе в профессиональных кругах, и поиск потенциальных заказчиков, и презентация идеи, своеобразное подтверждение авторских прав. Главный дизайнер получает от 1000</a:t>
            </a:r>
            <a:r>
              <a:rPr b="0" lang="en-US" sz="2400" spc="-1" strike="noStrike">
                <a:solidFill>
                  <a:srgbClr val="c87d0e"/>
                </a:solidFill>
                <a:latin typeface="Franklin Gothic Book"/>
              </a:rPr>
              <a:t> $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 до 3000 </a:t>
            </a:r>
            <a:r>
              <a:rPr b="0" lang="en-US" sz="2400" spc="-1" strike="noStrike">
                <a:solidFill>
                  <a:srgbClr val="c87d0e"/>
                </a:solidFill>
                <a:latin typeface="Franklin Gothic Book"/>
              </a:rPr>
              <a:t>$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5" descr="C:\Documents and Settings\Владимир\Рабочий стол\careerchange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3071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Владимир\Рабочий стол\b_c93eb5642c44db6bb534de7b5445b770.jpg"/>
          <p:cNvPicPr/>
          <p:nvPr/>
        </p:nvPicPr>
        <p:blipFill>
          <a:blip r:embed="rId3"/>
          <a:stretch/>
        </p:blipFill>
        <p:spPr>
          <a:xfrm>
            <a:off x="2571840" y="5072040"/>
            <a:ext cx="421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3:44:38Z</dcterms:modified>
  <cp:revision>11</cp:revision>
  <dc:subject/>
  <dc:title>Профессия</dc:title>
</cp:coreProperties>
</file>