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655-B6F8-4997-A354-45EF9F837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2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1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9440" y="689040"/>
            <a:ext cx="796896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ЧУВСТВЕННОЕ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ПОЗНАНИЕ</a:t>
            </a:r>
            <a:endParaRPr b="1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6"/>
          <p:cNvGrpSpPr/>
          <p:nvPr/>
        </p:nvGrpSpPr>
        <p:grpSpPr>
          <a:xfrm>
            <a:off x="1538280" y="2519280"/>
            <a:ext cx="6068880" cy="3872160"/>
            <a:chOff x="1538280" y="2519280"/>
            <a:chExt cx="6068880" cy="3872160"/>
          </a:xfrm>
        </p:grpSpPr>
        <p:pic>
          <p:nvPicPr>
            <p:cNvPr id="82" name="Picture 11" descr="image007"/>
            <p:cNvPicPr/>
            <p:nvPr/>
          </p:nvPicPr>
          <p:blipFill>
            <a:blip r:embed="rId2"/>
            <a:stretch/>
          </p:blipFill>
          <p:spPr>
            <a:xfrm>
              <a:off x="1538280" y="2519280"/>
              <a:ext cx="566748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4"/>
            <p:cNvSpPr/>
            <p:nvPr/>
          </p:nvSpPr>
          <p:spPr>
            <a:xfrm>
              <a:off x="4851360" y="2814480"/>
              <a:ext cx="2755800" cy="345456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463920" y="731880"/>
            <a:ext cx="27176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909720" y="1371600"/>
            <a:ext cx="1981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имон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6157800" y="4557600"/>
            <a:ext cx="158616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Ель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230040" y="6245280"/>
            <a:ext cx="8658360" cy="380880"/>
            <a:chOff x="230040" y="6245280"/>
            <a:chExt cx="8658360" cy="380880"/>
          </a:xfrm>
        </p:grpSpPr>
        <p:pic>
          <p:nvPicPr>
            <p:cNvPr id="16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24760" y="624528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30040" y="62485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5" descr="кнопка возврата в меню"/>
            <p:cNvPicPr/>
            <p:nvPr/>
          </p:nvPicPr>
          <p:blipFill>
            <a:blip r:embed="rId3"/>
            <a:stretch/>
          </p:blipFill>
          <p:spPr>
            <a:xfrm>
              <a:off x="4149720" y="624672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73" name="Picture 2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12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7120" y="1568160"/>
            <a:ext cx="7696080" cy="9586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помощью органов чувств мы познаем отдельные предметы и явлени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 rot="21319200">
            <a:off x="1320480" y="3429000"/>
            <a:ext cx="6500880" cy="10360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можност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знан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граничен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2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42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то такое реальная действительность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ми средствами приема сигналов из внешнего мира обладает человек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е ощущения вы испытывали, купаясь летом в реке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 чего складываются восприятия? Приведите пример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ово ваше представление о носителях информации? Опишите и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0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560"/>
            <a:ext cx="90360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Чувственное познани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5" name="Picture 48" descr="4h"/>
          <p:cNvPicPr/>
          <p:nvPr/>
        </p:nvPicPr>
        <p:blipFill>
          <a:blip r:embed="rId1"/>
          <a:stretch/>
        </p:blipFill>
        <p:spPr>
          <a:xfrm rot="21021600">
            <a:off x="606240" y="4573080"/>
            <a:ext cx="2192040" cy="15591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Picture 49" descr="20659"/>
          <p:cNvPicPr/>
          <p:nvPr/>
        </p:nvPicPr>
        <p:blipFill>
          <a:blip r:embed="rId2"/>
          <a:stretch/>
        </p:blipFill>
        <p:spPr>
          <a:xfrm rot="687000">
            <a:off x="6393960" y="1604880"/>
            <a:ext cx="2237040" cy="1677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50" descr="105"/>
          <p:cNvPicPr/>
          <p:nvPr/>
        </p:nvPicPr>
        <p:blipFill>
          <a:blip r:embed="rId3"/>
          <a:stretch/>
        </p:blipFill>
        <p:spPr>
          <a:xfrm rot="704400">
            <a:off x="7559640" y="4397040"/>
            <a:ext cx="1244520" cy="16542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51" descr="pic_02"/>
          <p:cNvPicPr/>
          <p:nvPr/>
        </p:nvPicPr>
        <p:blipFill>
          <a:blip r:embed="rId4"/>
          <a:stretch/>
        </p:blipFill>
        <p:spPr>
          <a:xfrm rot="20786400">
            <a:off x="453960" y="1763640"/>
            <a:ext cx="2424240" cy="1735200"/>
          </a:xfrm>
          <a:prstGeom prst="rect">
            <a:avLst/>
          </a:prstGeom>
          <a:ln w="12600">
            <a:solidFill>
              <a:srgbClr val="9900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Picture 52" descr="037"/>
          <p:cNvPicPr/>
          <p:nvPr/>
        </p:nvPicPr>
        <p:blipFill>
          <a:blip r:embed="rId5"/>
          <a:stretch/>
        </p:blipFill>
        <p:spPr>
          <a:xfrm>
            <a:off x="3873600" y="4794120"/>
            <a:ext cx="2019240" cy="15145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53" descr="02-ruki1"/>
          <p:cNvPicPr/>
          <p:nvPr/>
        </p:nvPicPr>
        <p:blipFill>
          <a:blip r:embed="rId6"/>
          <a:stretch/>
        </p:blipFill>
        <p:spPr>
          <a:xfrm rot="11637000">
            <a:off x="6554160" y="3936600"/>
            <a:ext cx="1027080" cy="14032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1" name="Picture 54" descr="eyes_187"/>
          <p:cNvPicPr/>
          <p:nvPr/>
        </p:nvPicPr>
        <p:blipFill>
          <a:blip r:embed="rId7"/>
          <a:stretch/>
        </p:blipFill>
        <p:spPr>
          <a:xfrm>
            <a:off x="3765600" y="3693960"/>
            <a:ext cx="2335320" cy="912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2" name="Picture 55" descr="ear"/>
          <p:cNvPicPr/>
          <p:nvPr/>
        </p:nvPicPr>
        <p:blipFill>
          <a:blip r:embed="rId8"/>
          <a:stretch/>
        </p:blipFill>
        <p:spPr>
          <a:xfrm>
            <a:off x="3106800" y="1449360"/>
            <a:ext cx="812880" cy="182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1-0b"/>
          <p:cNvPicPr/>
          <p:nvPr/>
        </p:nvPicPr>
        <p:blipFill>
          <a:blip r:embed="rId9"/>
          <a:stretch/>
        </p:blipFill>
        <p:spPr>
          <a:xfrm>
            <a:off x="5402160" y="1422360"/>
            <a:ext cx="771480" cy="17701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94" name="Line 60"/>
          <p:cNvSpPr/>
          <p:nvPr/>
        </p:nvSpPr>
        <p:spPr>
          <a:xfrm flipV="1">
            <a:off x="2319480" y="2185920"/>
            <a:ext cx="1060200" cy="279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5" name="Line 62"/>
          <p:cNvSpPr/>
          <p:nvPr/>
        </p:nvSpPr>
        <p:spPr>
          <a:xfrm flipV="1">
            <a:off x="4325760" y="4257360"/>
            <a:ext cx="704880" cy="12668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6" name="Line 63"/>
          <p:cNvSpPr/>
          <p:nvPr/>
        </p:nvSpPr>
        <p:spPr>
          <a:xfrm flipH="1" flipV="1">
            <a:off x="6918120" y="4651200"/>
            <a:ext cx="927000" cy="317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97" name="Picture 64" descr="844_color-pencil-profile-mouth"/>
          <p:cNvPicPr/>
          <p:nvPr/>
        </p:nvPicPr>
        <p:blipFill>
          <a:blip r:embed="rId10"/>
          <a:stretch/>
        </p:blipFill>
        <p:spPr>
          <a:xfrm rot="20827200">
            <a:off x="2141280" y="3632040"/>
            <a:ext cx="1103040" cy="94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grpSp>
        <p:nvGrpSpPr>
          <p:cNvPr id="98" name="Group 78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99" name="Picture 2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кнопка назад">
              <a:hlinkClick r:id="" action="ppaction://hlinkshowjump?jump=previousslide"/>
            </p:cNvPr>
            <p:cNvPicPr/>
            <p:nvPr/>
          </p:nvPicPr>
          <p:blipFill>
            <a:blip r:embed="rId1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Line 65"/>
          <p:cNvSpPr/>
          <p:nvPr/>
        </p:nvSpPr>
        <p:spPr>
          <a:xfrm flipV="1">
            <a:off x="1776240" y="4121280"/>
            <a:ext cx="820800" cy="847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823000" y="2452680"/>
            <a:ext cx="1303200" cy="349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452680" y="2771640"/>
            <a:ext cx="3324240" cy="258444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2584440"/>
              <a:gd name="textAreaBottom" fmla="*/ 2584440 h 2584440"/>
            </a:gdLst>
            <a:ahLst/>
            <a:rect l="textAreaLeft" t="textAreaTop" r="textAreaRight" b="textAreaBottom"/>
            <a:pathLst>
              <a:path w="2094" h="1628">
                <a:moveTo>
                  <a:pt x="0" y="1628"/>
                </a:moveTo>
                <a:cubicBezTo>
                  <a:pt x="272" y="1493"/>
                  <a:pt x="544" y="1359"/>
                  <a:pt x="640" y="1161"/>
                </a:cubicBezTo>
                <a:cubicBezTo>
                  <a:pt x="736" y="963"/>
                  <a:pt x="459" y="591"/>
                  <a:pt x="576" y="439"/>
                </a:cubicBezTo>
                <a:cubicBezTo>
                  <a:pt x="693" y="287"/>
                  <a:pt x="1091" y="320"/>
                  <a:pt x="1344" y="247"/>
                </a:cubicBezTo>
                <a:cubicBezTo>
                  <a:pt x="1597" y="174"/>
                  <a:pt x="1966" y="41"/>
                  <a:pt x="20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4" name="Freeform 71"/>
          <p:cNvSpPr/>
          <p:nvPr/>
        </p:nvSpPr>
        <p:spPr>
          <a:xfrm>
            <a:off x="2481120" y="4441680"/>
            <a:ext cx="1743120" cy="11750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175040"/>
              <a:gd name="textAreaBottom" fmla="*/ 1175400 h 1175040"/>
            </a:gdLst>
            <a:ahLst/>
            <a:rect l="textAreaLeft" t="textAreaTop" r="textAreaRight" b="textAreaBottom"/>
            <a:pathLst>
              <a:path w="1098" h="740">
                <a:moveTo>
                  <a:pt x="0" y="740"/>
                </a:moveTo>
                <a:cubicBezTo>
                  <a:pt x="221" y="697"/>
                  <a:pt x="442" y="655"/>
                  <a:pt x="558" y="548"/>
                </a:cubicBezTo>
                <a:cubicBezTo>
                  <a:pt x="674" y="441"/>
                  <a:pt x="605" y="191"/>
                  <a:pt x="695" y="100"/>
                </a:cubicBezTo>
                <a:cubicBezTo>
                  <a:pt x="785" y="9"/>
                  <a:pt x="941" y="4"/>
                  <a:pt x="1098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5" name="Freeform 72"/>
          <p:cNvSpPr/>
          <p:nvPr/>
        </p:nvSpPr>
        <p:spPr>
          <a:xfrm>
            <a:off x="2365200" y="2757600"/>
            <a:ext cx="2221200" cy="1625400"/>
          </a:xfrm>
          <a:custGeom>
            <a:avLst/>
            <a:gdLst>
              <a:gd name="textAreaLeft" fmla="*/ 0 w 2221200"/>
              <a:gd name="textAreaRight" fmla="*/ 2221560 w 222120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399" h="1024">
                <a:moveTo>
                  <a:pt x="0" y="0"/>
                </a:moveTo>
                <a:cubicBezTo>
                  <a:pt x="272" y="74"/>
                  <a:pt x="544" y="149"/>
                  <a:pt x="777" y="320"/>
                </a:cubicBezTo>
                <a:cubicBezTo>
                  <a:pt x="1010" y="491"/>
                  <a:pt x="1297" y="907"/>
                  <a:pt x="1399" y="1024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6" name="Freeform 73"/>
          <p:cNvSpPr/>
          <p:nvPr/>
        </p:nvSpPr>
        <p:spPr>
          <a:xfrm>
            <a:off x="5138640" y="2801880"/>
            <a:ext cx="2162160" cy="15080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362" h="950">
                <a:moveTo>
                  <a:pt x="1362" y="0"/>
                </a:moveTo>
                <a:cubicBezTo>
                  <a:pt x="1036" y="94"/>
                  <a:pt x="711" y="189"/>
                  <a:pt x="484" y="347"/>
                </a:cubicBezTo>
                <a:cubicBezTo>
                  <a:pt x="257" y="505"/>
                  <a:pt x="81" y="850"/>
                  <a:pt x="0" y="95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7" name="Freeform 74"/>
          <p:cNvSpPr/>
          <p:nvPr/>
        </p:nvSpPr>
        <p:spPr>
          <a:xfrm>
            <a:off x="5268960" y="2917800"/>
            <a:ext cx="1201680" cy="2712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757" h="1709">
                <a:moveTo>
                  <a:pt x="0" y="1709"/>
                </a:moveTo>
                <a:cubicBezTo>
                  <a:pt x="246" y="1519"/>
                  <a:pt x="492" y="1330"/>
                  <a:pt x="612" y="1124"/>
                </a:cubicBezTo>
                <a:cubicBezTo>
                  <a:pt x="732" y="918"/>
                  <a:pt x="757" y="662"/>
                  <a:pt x="722" y="475"/>
                </a:cubicBezTo>
                <a:cubicBezTo>
                  <a:pt x="687" y="288"/>
                  <a:pt x="455" y="79"/>
                  <a:pt x="402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8" name="Freeform 75"/>
          <p:cNvSpPr/>
          <p:nvPr/>
        </p:nvSpPr>
        <p:spPr>
          <a:xfrm>
            <a:off x="3324240" y="2496960"/>
            <a:ext cx="869760" cy="2859120"/>
          </a:xfrm>
          <a:custGeom>
            <a:avLst/>
            <a:gdLst>
              <a:gd name="textAreaLeft" fmla="*/ 0 w 869760"/>
              <a:gd name="textAreaRight" fmla="*/ 870120 w 869760"/>
              <a:gd name="textAreaTop" fmla="*/ 0 h 2859120"/>
              <a:gd name="textAreaBottom" fmla="*/ 2859120 h 2859120"/>
            </a:gdLst>
            <a:ahLst/>
            <a:rect l="textAreaLeft" t="textAreaTop" r="textAreaRight" b="textAreaBottom"/>
            <a:pathLst>
              <a:path w="548" h="1801">
                <a:moveTo>
                  <a:pt x="548" y="1801"/>
                </a:moveTo>
                <a:cubicBezTo>
                  <a:pt x="329" y="1534"/>
                  <a:pt x="110" y="1267"/>
                  <a:pt x="55" y="1069"/>
                </a:cubicBezTo>
                <a:cubicBezTo>
                  <a:pt x="0" y="871"/>
                  <a:pt x="204" y="790"/>
                  <a:pt x="219" y="612"/>
                </a:cubicBezTo>
                <a:cubicBezTo>
                  <a:pt x="234" y="434"/>
                  <a:pt x="190" y="217"/>
                  <a:pt x="146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6821640" y="2816280"/>
            <a:ext cx="942840" cy="1595520"/>
          </a:xfrm>
          <a:custGeom>
            <a:avLst/>
            <a:gdLst>
              <a:gd name="textAreaLeft" fmla="*/ 0 w 942840"/>
              <a:gd name="textAreaRight" fmla="*/ 943200 w 9428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594" h="1005">
                <a:moveTo>
                  <a:pt x="0" y="1005"/>
                </a:moveTo>
                <a:cubicBezTo>
                  <a:pt x="183" y="778"/>
                  <a:pt x="367" y="551"/>
                  <a:pt x="466" y="384"/>
                </a:cubicBezTo>
                <a:cubicBezTo>
                  <a:pt x="565" y="217"/>
                  <a:pt x="573" y="64"/>
                  <a:pt x="5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0" name="Freeform 77"/>
          <p:cNvSpPr/>
          <p:nvPr/>
        </p:nvSpPr>
        <p:spPr>
          <a:xfrm>
            <a:off x="5748480" y="4397400"/>
            <a:ext cx="2133360" cy="13050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305000"/>
              <a:gd name="textAreaBottom" fmla="*/ 1305000 h 1305000"/>
            </a:gdLst>
            <a:ahLst/>
            <a:rect l="textAreaLeft" t="textAreaTop" r="textAreaRight" b="textAreaBottom"/>
            <a:pathLst>
              <a:path w="1344" h="822">
                <a:moveTo>
                  <a:pt x="1344" y="631"/>
                </a:moveTo>
                <a:cubicBezTo>
                  <a:pt x="1057" y="726"/>
                  <a:pt x="771" y="822"/>
                  <a:pt x="576" y="787"/>
                </a:cubicBezTo>
                <a:cubicBezTo>
                  <a:pt x="381" y="752"/>
                  <a:pt x="269" y="552"/>
                  <a:pt x="173" y="421"/>
                </a:cubicBezTo>
                <a:cubicBezTo>
                  <a:pt x="77" y="290"/>
                  <a:pt x="38" y="145"/>
                  <a:pt x="0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070"/>
          <p:cNvGrpSpPr/>
          <p:nvPr/>
        </p:nvGrpSpPr>
        <p:grpSpPr>
          <a:xfrm>
            <a:off x="4514760" y="1892160"/>
            <a:ext cx="3961080" cy="4243680"/>
            <a:chOff x="4514760" y="1892160"/>
            <a:chExt cx="3961080" cy="4243680"/>
          </a:xfrm>
        </p:grpSpPr>
        <p:sp>
          <p:nvSpPr>
            <p:cNvPr id="112" name="AutoShape 2057"/>
            <p:cNvSpPr/>
            <p:nvPr/>
          </p:nvSpPr>
          <p:spPr>
            <a:xfrm rot="10800000">
              <a:off x="6197760" y="1892160"/>
              <a:ext cx="576000" cy="3176640"/>
            </a:xfrm>
            <a:prstGeom prst="upArrow">
              <a:avLst>
                <a:gd name="adj1" fmla="val 50000"/>
                <a:gd name="adj2" fmla="val 137875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" name="Rectangle 2053">
              <a:hlinkClick r:id="rId1" action="ppaction://hlinksldjump"/>
            </p:cNvPr>
            <p:cNvSpPr/>
            <p:nvPr/>
          </p:nvSpPr>
          <p:spPr>
            <a:xfrm>
              <a:off x="4514760" y="5068800"/>
              <a:ext cx="3961080" cy="10670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Представл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4" name="Rectangle 2051">
            <a:hlinkClick r:id="rId2" action="ppaction://hlinksldjump"/>
          </p:cNvPr>
          <p:cNvSpPr/>
          <p:nvPr/>
        </p:nvSpPr>
        <p:spPr>
          <a:xfrm>
            <a:off x="1359000" y="682560"/>
            <a:ext cx="6408720" cy="12240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ffffff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Чувственное познание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5" name="Group 2065"/>
          <p:cNvGrpSpPr/>
          <p:nvPr/>
        </p:nvGrpSpPr>
        <p:grpSpPr>
          <a:xfrm>
            <a:off x="914400" y="1920960"/>
            <a:ext cx="2808360" cy="1728360"/>
            <a:chOff x="914400" y="1920960"/>
            <a:chExt cx="2808360" cy="1728360"/>
          </a:xfrm>
        </p:grpSpPr>
        <p:sp>
          <p:nvSpPr>
            <p:cNvPr id="116" name="Rectangle 2052">
              <a:hlinkClick r:id="rId3" action="ppaction://hlinksldjump"/>
            </p:cNvPr>
            <p:cNvSpPr/>
            <p:nvPr/>
          </p:nvSpPr>
          <p:spPr>
            <a:xfrm>
              <a:off x="914400" y="2612880"/>
              <a:ext cx="2808360" cy="10364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Ощущ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7" name="AutoShape 2055"/>
            <p:cNvSpPr/>
            <p:nvPr/>
          </p:nvSpPr>
          <p:spPr>
            <a:xfrm rot="10800000">
              <a:off x="2138040" y="1920960"/>
              <a:ext cx="576360" cy="691920"/>
            </a:xfrm>
            <a:prstGeom prst="upArrow">
              <a:avLst>
                <a:gd name="adj1" fmla="val 50000"/>
                <a:gd name="adj2" fmla="val 30012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18" name="Group 2069"/>
          <p:cNvGrpSpPr/>
          <p:nvPr/>
        </p:nvGrpSpPr>
        <p:grpSpPr>
          <a:xfrm>
            <a:off x="3033720" y="1906560"/>
            <a:ext cx="2881440" cy="2944800"/>
            <a:chOff x="3033720" y="1906560"/>
            <a:chExt cx="2881440" cy="2944800"/>
          </a:xfrm>
        </p:grpSpPr>
        <p:sp>
          <p:nvSpPr>
            <p:cNvPr id="119" name="Rectangle 2054">
              <a:hlinkClick r:id="rId4" action="ppaction://hlinksldjump"/>
            </p:cNvPr>
            <p:cNvSpPr/>
            <p:nvPr/>
          </p:nvSpPr>
          <p:spPr>
            <a:xfrm>
              <a:off x="3033720" y="3843360"/>
              <a:ext cx="2881440" cy="100800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Восприят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0" name="AutoShape 2056"/>
            <p:cNvSpPr/>
            <p:nvPr/>
          </p:nvSpPr>
          <p:spPr>
            <a:xfrm rot="10800000">
              <a:off x="4210200" y="1906560"/>
              <a:ext cx="576000" cy="1922400"/>
            </a:xfrm>
            <a:prstGeom prst="upArrow">
              <a:avLst>
                <a:gd name="adj1" fmla="val 50000"/>
                <a:gd name="adj2" fmla="val 83438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21" name="Group 2068"/>
          <p:cNvGrpSpPr/>
          <p:nvPr/>
        </p:nvGrpSpPr>
        <p:grpSpPr>
          <a:xfrm>
            <a:off x="220680" y="6264360"/>
            <a:ext cx="8686800" cy="380880"/>
            <a:chOff x="220680" y="6264360"/>
            <a:chExt cx="8686800" cy="380880"/>
          </a:xfrm>
        </p:grpSpPr>
        <p:pic>
          <p:nvPicPr>
            <p:cNvPr id="122" name="Picture 2058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5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80438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7"/>
          <p:cNvSpPr/>
          <p:nvPr/>
        </p:nvSpPr>
        <p:spPr>
          <a:xfrm>
            <a:off x="639720" y="461880"/>
            <a:ext cx="824724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ганы чувств человека – средства приема сигналов из внешнего мира для передачи их в мозг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дельные свойства объектов вызывают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нас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щущения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ах цветка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вкус земляники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тепло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холод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indent="3841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25" name="Picture 18" descr="2078461"/>
          <p:cNvPicPr/>
          <p:nvPr/>
        </p:nvPicPr>
        <p:blipFill>
          <a:blip r:embed="rId1"/>
          <a:stretch/>
        </p:blipFill>
        <p:spPr>
          <a:xfrm rot="20106000">
            <a:off x="5864040" y="3411000"/>
            <a:ext cx="731520" cy="1481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19" descr="klubnika"/>
          <p:cNvPicPr/>
          <p:nvPr/>
        </p:nvPicPr>
        <p:blipFill>
          <a:blip r:embed="rId2"/>
          <a:stretch/>
        </p:blipFill>
        <p:spPr>
          <a:xfrm rot="741000">
            <a:off x="6884640" y="3677760"/>
            <a:ext cx="1812960" cy="22320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Picture 20" descr="holod_small"/>
          <p:cNvPicPr/>
          <p:nvPr/>
        </p:nvPicPr>
        <p:blipFill>
          <a:blip r:embed="rId3"/>
          <a:stretch/>
        </p:blipFill>
        <p:spPr>
          <a:xfrm rot="771600">
            <a:off x="4971600" y="5032080"/>
            <a:ext cx="1543320" cy="1157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8" name="Picture 21" descr="1batarea_kot"/>
          <p:cNvPicPr/>
          <p:nvPr/>
        </p:nvPicPr>
        <p:blipFill>
          <a:blip r:embed="rId4"/>
          <a:stretch/>
        </p:blipFill>
        <p:spPr>
          <a:xfrm>
            <a:off x="541440" y="4719600"/>
            <a:ext cx="1726920" cy="129528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-842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3371760" y="1805040"/>
            <a:ext cx="2232000" cy="3247920"/>
            <a:chOff x="3371760" y="1805040"/>
            <a:chExt cx="2232000" cy="3247920"/>
          </a:xfrm>
        </p:grpSpPr>
        <p:sp>
          <p:nvSpPr>
            <p:cNvPr id="131" name="Rectangle 9"/>
            <p:cNvSpPr/>
            <p:nvPr/>
          </p:nvSpPr>
          <p:spPr>
            <a:xfrm>
              <a:off x="3371760" y="180504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71760" y="1805040"/>
              <a:ext cx="178596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MS Sans Serif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4345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В о с п р и я т и 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712800" y="1500120"/>
            <a:ext cx="5435640" cy="1928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то целостное отражение объекта, непосредственно воздействующего на наши органы чувств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5" name="Group 28"/>
          <p:cNvGrpSpPr/>
          <p:nvPr/>
        </p:nvGrpSpPr>
        <p:grpSpPr>
          <a:xfrm>
            <a:off x="3038400" y="2867040"/>
            <a:ext cx="5667480" cy="3871800"/>
            <a:chOff x="3038400" y="2867040"/>
            <a:chExt cx="5667480" cy="3871800"/>
          </a:xfrm>
        </p:grpSpPr>
        <p:pic>
          <p:nvPicPr>
            <p:cNvPr id="136" name="Picture 22" descr="image007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38400" y="2867040"/>
              <a:ext cx="56674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23"/>
            <p:cNvSpPr/>
            <p:nvPr/>
          </p:nvSpPr>
          <p:spPr>
            <a:xfrm>
              <a:off x="6332400" y="3259080"/>
              <a:ext cx="2346480" cy="338940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38" name="Group 3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39" name="Picture 18" descr="кнопка назад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51" descr="837"/>
          <p:cNvPicPr/>
          <p:nvPr/>
        </p:nvPicPr>
        <p:blipFill>
          <a:blip r:embed="rId1"/>
          <a:stretch/>
        </p:blipFill>
        <p:spPr>
          <a:xfrm>
            <a:off x="655560" y="969840"/>
            <a:ext cx="2540160" cy="2260800"/>
          </a:xfrm>
          <a:prstGeom prst="rect">
            <a:avLst/>
          </a:prstGeom>
          <a:ln w="1260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Picture 1052" descr="5561"/>
          <p:cNvPicPr/>
          <p:nvPr/>
        </p:nvPicPr>
        <p:blipFill>
          <a:blip r:embed="rId2"/>
          <a:stretch/>
        </p:blipFill>
        <p:spPr>
          <a:xfrm>
            <a:off x="5173560" y="3389400"/>
            <a:ext cx="230688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Text Box 1053"/>
          <p:cNvSpPr/>
          <p:nvPr/>
        </p:nvSpPr>
        <p:spPr>
          <a:xfrm>
            <a:off x="3463920" y="731880"/>
            <a:ext cx="26575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44" name="Text Box 1054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45" name="Group 106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6" name="Picture 1047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49" descr="кнопка назад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8"/>
          <p:cNvSpPr/>
          <p:nvPr/>
        </p:nvSpPr>
        <p:spPr>
          <a:xfrm>
            <a:off x="198360" y="646200"/>
            <a:ext cx="8720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, по-вашему мнению, воспринимает картину Исаака Левитана «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ладимирк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художник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иолог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еограф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дитель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2" name="Picture 20" descr="Левитан Владимирка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30360" y="1797120"/>
            <a:ext cx="6370920" cy="414648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052"/>
          <p:cNvSpPr/>
          <p:nvPr/>
        </p:nvSpPr>
        <p:spPr>
          <a:xfrm>
            <a:off x="339840" y="843120"/>
            <a:ext cx="5535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ные люди – разное восприятие объекта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сприятие каждого человека зависит от его прежнего опы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знаний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4" name="Picture 205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5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56"/>
          <p:cNvSpPr/>
          <p:nvPr/>
        </p:nvSpPr>
        <p:spPr>
          <a:xfrm>
            <a:off x="357120" y="4572000"/>
            <a:ext cx="8272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 каждый человек обязательно восхитится талантом художника!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7" name="Group 2060"/>
          <p:cNvGrpSpPr/>
          <p:nvPr/>
        </p:nvGrpSpPr>
        <p:grpSpPr>
          <a:xfrm>
            <a:off x="5586480" y="782640"/>
            <a:ext cx="3300480" cy="3007440"/>
            <a:chOff x="5586480" y="782640"/>
            <a:chExt cx="3300480" cy="3007440"/>
          </a:xfrm>
        </p:grpSpPr>
        <p:pic>
          <p:nvPicPr>
            <p:cNvPr id="158" name="Picture 2057" descr="26-024"/>
            <p:cNvPicPr/>
            <p:nvPr/>
          </p:nvPicPr>
          <p:blipFill>
            <a:blip r:embed="rId3"/>
            <a:stretch/>
          </p:blipFill>
          <p:spPr>
            <a:xfrm>
              <a:off x="6093000" y="782640"/>
              <a:ext cx="23238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058"/>
            <p:cNvSpPr/>
            <p:nvPr/>
          </p:nvSpPr>
          <p:spPr>
            <a:xfrm>
              <a:off x="5586480" y="3086280"/>
              <a:ext cx="33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Исаак Ильич Левитан</a:t>
              </a:r>
              <a:br>
                <a:rPr sz="2000"/>
              </a:b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 (1861-1900)</a:t>
              </a:r>
              <a:endParaRPr b="0" lang="en-US" sz="20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7" descr="кнопка вперед копия"/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редставлени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468360" y="2133720"/>
            <a:ext cx="7531200" cy="15238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ый образ объекта, в данный момент нами не воспринимаемого, но воспринятого ранее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6T19:34:52Z</dcterms:modified>
  <cp:revision>73</cp:revision>
  <dc:subject/>
  <dc:title>PowerPoint Presentation</dc:title>
</cp:coreProperties>
</file>