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178C-E29D-403B-A76B-029A477F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4734-D7C9-40C3-8DA8-D5A8E723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9542-1208-4036-B52E-EDFA7D02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C514-5DCE-4720-9F86-A821B64C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56EA-E3AF-4615-BCFC-C0A181B6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AB39-75F6-4D41-B774-33C8A571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E8AB-3608-466A-A651-91227FBF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B5B7-B621-4027-85FA-5D63F1C8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3A6C-7F71-4FE5-A053-32F650B7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D01A-5F25-43E9-A73C-9DEA506D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6A20-03F6-4B91-89B3-B81A7F93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1484-7F8D-4D24-9CFD-AB601477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4531-AA26-483B-9D59-E771A73C0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знаки равенства треуг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иленок Г.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«Новогоренская СОШ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6002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752480"/>
            <a:ext cx="7924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1905120"/>
            <a:ext cx="79246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ризнаки равенства треугольник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Цели и задачи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Практическ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Таблица признаков равенства треуг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Решение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воение материала через практикум и теор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Формирование логического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Научиться видеть различие и сходство в доказательствах призна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ытаться развивать способности обучающихся к самообразова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Формирование умений саморегулирования своей учебно- познава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. Построить треугольник по двум данным сторонам и  углу между ни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/>
          <p:nvPr/>
        </p:nvCxnSpPr>
        <p:spPr>
          <a:xfrm>
            <a:off x="533160" y="2195280"/>
            <a:ext cx="190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/>
          <p:nvPr/>
        </p:nvCxnSpPr>
        <p:spPr>
          <a:xfrm flipV="1">
            <a:off x="533520" y="1509120"/>
            <a:ext cx="12196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/>
          <p:nvPr/>
        </p:nvCxnSpPr>
        <p:spPr>
          <a:xfrm>
            <a:off x="1752120" y="1509480"/>
            <a:ext cx="6865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5" name=""/>
          <p:cNvGrpSpPr/>
          <p:nvPr/>
        </p:nvGrpSpPr>
        <p:grpSpPr>
          <a:xfrm>
            <a:off x="533160" y="1814040"/>
            <a:ext cx="686160" cy="609480"/>
            <a:chOff x="533160" y="1814040"/>
            <a:chExt cx="686160" cy="609480"/>
          </a:xfrm>
        </p:grpSpPr>
        <p:cxnSp>
          <p:nvCxnSpPr>
            <p:cNvPr id="56" name=""/>
            <p:cNvCxnSpPr/>
            <p:nvPr/>
          </p:nvCxnSpPr>
          <p:spPr>
            <a:xfrm>
              <a:off x="533160" y="2194920"/>
              <a:ext cx="686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" name=""/>
            <p:cNvCxnSpPr/>
            <p:nvPr/>
          </p:nvCxnSpPr>
          <p:spPr>
            <a:xfrm flipV="1">
              <a:off x="533160" y="1814040"/>
              <a:ext cx="68652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8" name=""/>
            <p:cNvSpPr/>
            <p:nvPr/>
          </p:nvSpPr>
          <p:spPr>
            <a:xfrm>
              <a:off x="838440" y="19666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743200" y="1433520"/>
            <a:ext cx="449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181440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кладываем отрезо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 свободной стороне уг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150984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ладываем заданный уг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12193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рем отрезо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81600" y="2155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14698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21193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единяем единственно возможным образ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бодные концы отрез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509840"/>
            <a:ext cx="1904760" cy="685800"/>
          </a:xfrm>
          <a:prstGeom prst="triangle">
            <a:avLst>
              <a:gd name="adj" fmla="val 63917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2819520"/>
            <a:ext cx="8229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2. Построить треугольник по данной стороне  и двум углам, прилежащим к н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4160" y="306216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рем данный отрез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/>
          <p:nvPr/>
        </p:nvCxnSpPr>
        <p:spPr>
          <a:xfrm>
            <a:off x="609480" y="4343040"/>
            <a:ext cx="190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" name=""/>
          <p:cNvSpPr/>
          <p:nvPr/>
        </p:nvSpPr>
        <p:spPr>
          <a:xfrm>
            <a:off x="2592000" y="3367080"/>
            <a:ext cx="23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ладываем угол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09120" y="3885480"/>
            <a:ext cx="609840" cy="685080"/>
            <a:chOff x="609120" y="3885480"/>
            <a:chExt cx="609840" cy="685080"/>
          </a:xfrm>
        </p:grpSpPr>
        <p:cxnSp>
          <p:nvCxnSpPr>
            <p:cNvPr id="72" name=""/>
            <p:cNvCxnSpPr/>
            <p:nvPr/>
          </p:nvCxnSpPr>
          <p:spPr>
            <a:xfrm>
              <a:off x="609120" y="4343040"/>
              <a:ext cx="6102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3" name=""/>
            <p:cNvCxnSpPr/>
            <p:nvPr/>
          </p:nvCxnSpPr>
          <p:spPr>
            <a:xfrm flipV="1">
              <a:off x="609480" y="3885480"/>
              <a:ext cx="457920" cy="45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" name=""/>
            <p:cNvSpPr/>
            <p:nvPr/>
          </p:nvSpPr>
          <p:spPr>
            <a:xfrm>
              <a:off x="686160" y="4114440"/>
              <a:ext cx="303840" cy="4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976680" y="392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2000" y="3672000"/>
            <a:ext cx="23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ладываем угол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04760" y="3884400"/>
            <a:ext cx="609840" cy="762120"/>
            <a:chOff x="1904760" y="3884400"/>
            <a:chExt cx="609840" cy="762120"/>
          </a:xfrm>
        </p:grpSpPr>
        <p:cxnSp>
          <p:nvCxnSpPr>
            <p:cNvPr id="78" name=""/>
            <p:cNvCxnSpPr/>
            <p:nvPr/>
          </p:nvCxnSpPr>
          <p:spPr>
            <a:xfrm flipH="1" flipV="1">
              <a:off x="2133000" y="3884400"/>
              <a:ext cx="38160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" name=""/>
            <p:cNvCxnSpPr/>
            <p:nvPr/>
          </p:nvCxnSpPr>
          <p:spPr>
            <a:xfrm>
              <a:off x="1904760" y="4341960"/>
              <a:ext cx="6102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0" name=""/>
            <p:cNvSpPr/>
            <p:nvPr/>
          </p:nvSpPr>
          <p:spPr>
            <a:xfrm flipH="1">
              <a:off x="2133360" y="4037040"/>
              <a:ext cx="3038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891080" y="392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560" y="3976560"/>
            <a:ext cx="53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лим полупрямые, исходящие из углов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/>
          <p:nvPr/>
        </p:nvCxnSpPr>
        <p:spPr>
          <a:xfrm flipH="1" flipV="1">
            <a:off x="1523520" y="3123360"/>
            <a:ext cx="99144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/>
          <p:nvPr/>
        </p:nvCxnSpPr>
        <p:spPr>
          <a:xfrm flipH="1">
            <a:off x="608760" y="3123720"/>
            <a:ext cx="1220040" cy="1221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"/>
          <p:cNvSpPr/>
          <p:nvPr/>
        </p:nvSpPr>
        <p:spPr>
          <a:xfrm>
            <a:off x="609480" y="3276720"/>
            <a:ext cx="1905120" cy="1066680"/>
          </a:xfrm>
          <a:prstGeom prst="triangle">
            <a:avLst>
              <a:gd name="adj" fmla="val 55000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4572000"/>
            <a:ext cx="8229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3. Построить треугольник по трем данным сторон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4815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рем отрезо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/>
          <p:nvPr/>
        </p:nvCxnSpPr>
        <p:spPr>
          <a:xfrm>
            <a:off x="456840" y="6476760"/>
            <a:ext cx="1981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2590920" y="511956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ладываем от одного конца отрезка расстояни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840" y="5029200"/>
            <a:ext cx="91368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54244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ладываем от другого конца отрезка расстояни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1371600" y="5105160"/>
            <a:ext cx="91368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57294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чку пересечения соединяем отрезкам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 концами отрезк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81600" y="643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V="1">
            <a:off x="457200" y="5333400"/>
            <a:ext cx="99144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/>
          <p:nvPr/>
        </p:nvCxnSpPr>
        <p:spPr>
          <a:xfrm>
            <a:off x="1447560" y="5333760"/>
            <a:ext cx="99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595080" y="552276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67400" y="5522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5334120"/>
            <a:ext cx="1981080" cy="1143000"/>
          </a:xfrm>
          <a:prstGeom prst="triangle">
            <a:avLst>
              <a:gd name="adj" fmla="val 50000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300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8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500"/>
                            </p:stCondLst>
                            <p:childTnLst>
                              <p:par>
                                <p:cTn id="17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500"/>
                            </p:stCondLst>
                            <p:childTnLst>
                              <p:par>
                                <p:cTn id="183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457200" y="2057400"/>
          <a:ext cx="8381880" cy="4225680"/>
        </p:xfrm>
        <a:graphic>
          <a:graphicData uri="http://schemas.openxmlformats.org/drawingml/2006/table">
            <a:tbl>
              <a:tblPr/>
              <a:tblGrid>
                <a:gridCol w="627120"/>
                <a:gridCol w="3328920"/>
                <a:gridCol w="1530360"/>
                <a:gridCol w="2895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 равенства треуголь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 (дан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аза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две стороны и угол м/д ними одного треугольника соответственно равны двум сторонам и углу м/д ними другого треугольника, то такие треугольники рав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=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=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угл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двум сторонам и углу м/д ни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сторона и два угла, прилежащие к ней одного треугольника, соответственно равны стороне и двум углам, прилежащим к ней, другого треугольника, то такие треугольники рав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=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угл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угл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стороне и двум углам, прилежащим к н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три стороны одного треугольника соответственно равны трем сторонам другого треугольника, то такие треугольники равн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=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=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=В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трем сторона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1447920" y="380880"/>
            <a:ext cx="1295280" cy="1143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720" y="417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11920" y="417600"/>
            <a:ext cx="37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ь: тр-к АВС = тр-ку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2000" y="228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4800" y="1523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92720" y="1523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84720" y="380880"/>
            <a:ext cx="1295280" cy="1143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2360" y="22860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80880" y="152388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28800" y="15238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80880" y="2971800"/>
            <a:ext cx="8382240" cy="1892160"/>
            <a:chOff x="380880" y="2971800"/>
            <a:chExt cx="8382240" cy="1892160"/>
          </a:xfrm>
        </p:grpSpPr>
        <p:sp>
          <p:nvSpPr>
            <p:cNvPr id="113" name=""/>
            <p:cNvSpPr/>
            <p:nvPr/>
          </p:nvSpPr>
          <p:spPr>
            <a:xfrm>
              <a:off x="380880" y="2971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" name=""/>
            <p:cNvCxnSpPr/>
            <p:nvPr/>
          </p:nvCxnSpPr>
          <p:spPr>
            <a:xfrm>
              <a:off x="456840" y="3047760"/>
              <a:ext cx="8078040" cy="1080"/>
            </a:xfrm>
            <a:prstGeom prst="straightConnector1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sp>
          <p:nvSpPr>
            <p:cNvPr id="115" name=""/>
            <p:cNvSpPr/>
            <p:nvPr/>
          </p:nvSpPr>
          <p:spPr>
            <a:xfrm>
              <a:off x="685800" y="3200400"/>
              <a:ext cx="2209680" cy="762120"/>
            </a:xfrm>
            <a:prstGeom prst="triangle">
              <a:avLst>
                <a:gd name="adj" fmla="val 6688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0800000">
              <a:off x="685800" y="3962520"/>
              <a:ext cx="2209680" cy="761760"/>
            </a:xfrm>
            <a:prstGeom prst="triangle">
              <a:avLst>
                <a:gd name="adj" fmla="val 6688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" y="3595680"/>
              <a:ext cx="28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9520" y="36720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09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14400" y="4495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67040" y="373392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2361600" y="3734280"/>
              <a:ext cx="304200" cy="456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63" y="145"/>
                  </a:moveTo>
                  <a:arcTo wR="10800" hR="10800" stAng="-4836361" swAng="4836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63" y="145"/>
                  </a:moveTo>
                  <a:arcTo wR="10800" hR="10800" stAng="-4836361" swAng="483636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762120" y="3809520"/>
              <a:ext cx="1519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838440" y="37332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666880" y="3809880"/>
              <a:ext cx="15192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590920" y="3733920"/>
              <a:ext cx="151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91120" y="3075120"/>
              <a:ext cx="457200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ано: тр-к АВС и тр-к ВАС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щая сторо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&lt; 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САВ =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&lt;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С</a:t>
              </a:r>
              <a:r>
                <a:rPr b="0" lang="ru-RU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ВА и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&lt;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АВС=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&lt;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ВАС</a:t>
              </a:r>
              <a:r>
                <a:rPr b="0" lang="ru-RU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_____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казать: т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 АВ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р-ку ВАС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80880" y="1219320"/>
            <a:ext cx="7698960" cy="1807920"/>
            <a:chOff x="380880" y="1219320"/>
            <a:chExt cx="7698960" cy="1807920"/>
          </a:xfrm>
        </p:grpSpPr>
        <p:sp>
          <p:nvSpPr>
            <p:cNvPr id="129" name=""/>
            <p:cNvSpPr/>
            <p:nvPr/>
          </p:nvSpPr>
          <p:spPr>
            <a:xfrm>
              <a:off x="380880" y="1219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2658960"/>
              <a:ext cx="28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20680" y="2133720"/>
              <a:ext cx="1143000" cy="685800"/>
            </a:xfrm>
            <a:prstGeom prst="triangle">
              <a:avLst>
                <a:gd name="adj" fmla="val 90991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0800000">
              <a:off x="2034720" y="1447560"/>
              <a:ext cx="1143000" cy="685800"/>
            </a:xfrm>
            <a:prstGeom prst="triangle">
              <a:avLst>
                <a:gd name="adj" fmla="val 90991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11400" y="2133720"/>
              <a:ext cx="76320" cy="7596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40000" y="25909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54400" y="12193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54200" y="1219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94360" y="1446120"/>
              <a:ext cx="3885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ано: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есекает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D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 точке 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СО=О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D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, АО=ОВ.__________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казать: т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 А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=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р-ку ВО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09680" y="19810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9" name=""/>
            <p:cNvCxnSpPr/>
            <p:nvPr/>
          </p:nvCxnSpPr>
          <p:spPr>
            <a:xfrm flipV="1">
              <a:off x="1980720" y="1675800"/>
              <a:ext cx="229320" cy="76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1980720" y="1752480"/>
              <a:ext cx="229320" cy="76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1" name=""/>
            <p:cNvCxnSpPr/>
            <p:nvPr/>
          </p:nvCxnSpPr>
          <p:spPr>
            <a:xfrm flipH="1" flipV="1">
              <a:off x="1599480" y="2285280"/>
              <a:ext cx="15300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2" name=""/>
            <p:cNvCxnSpPr/>
            <p:nvPr/>
          </p:nvCxnSpPr>
          <p:spPr>
            <a:xfrm flipV="1">
              <a:off x="2133360" y="2361600"/>
              <a:ext cx="229320" cy="76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3" name=""/>
            <p:cNvCxnSpPr/>
            <p:nvPr/>
          </p:nvCxnSpPr>
          <p:spPr>
            <a:xfrm flipV="1">
              <a:off x="2133360" y="2438280"/>
              <a:ext cx="229320" cy="76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4" name=""/>
            <p:cNvCxnSpPr/>
            <p:nvPr/>
          </p:nvCxnSpPr>
          <p:spPr>
            <a:xfrm flipH="1" flipV="1">
              <a:off x="2513880" y="1676160"/>
              <a:ext cx="15300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  <p:grpSp>
        <p:nvGrpSpPr>
          <p:cNvPr id="145" name=""/>
          <p:cNvGrpSpPr/>
          <p:nvPr/>
        </p:nvGrpSpPr>
        <p:grpSpPr>
          <a:xfrm>
            <a:off x="380880" y="4800600"/>
            <a:ext cx="8153640" cy="1663560"/>
            <a:chOff x="380880" y="4800600"/>
            <a:chExt cx="8153640" cy="1663560"/>
          </a:xfrm>
        </p:grpSpPr>
        <p:cxnSp>
          <p:nvCxnSpPr>
            <p:cNvPr id="146" name=""/>
            <p:cNvCxnSpPr/>
            <p:nvPr/>
          </p:nvCxnSpPr>
          <p:spPr>
            <a:xfrm>
              <a:off x="456840" y="4876560"/>
              <a:ext cx="8078040" cy="1080"/>
            </a:xfrm>
            <a:prstGeom prst="straightConnector1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sp>
          <p:nvSpPr>
            <p:cNvPr id="147" name=""/>
            <p:cNvSpPr/>
            <p:nvPr/>
          </p:nvSpPr>
          <p:spPr>
            <a:xfrm>
              <a:off x="380880" y="4800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" y="5334120"/>
              <a:ext cx="1066680" cy="761760"/>
            </a:xfrm>
            <a:prstGeom prst="triangle">
              <a:avLst>
                <a:gd name="adj" fmla="val 12796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62320" y="5334120"/>
              <a:ext cx="1066680" cy="761760"/>
            </a:xfrm>
            <a:prstGeom prst="triangle">
              <a:avLst>
                <a:gd name="adj" fmla="val 12796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0400" y="50436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52480" y="57913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" y="6019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86000" y="6095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05320" y="57150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720" y="50292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92920" y="4875120"/>
              <a:ext cx="4025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ано: тр-к КМ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тр-ку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иметр тр-ка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MN = 72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м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PS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=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20 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см.,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R = 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25 см._____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йти: стороны тр-ка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M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81280" y="4800600"/>
            <a:ext cx="51818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иленок Г.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«Новогоренская С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12-18T09:46:2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