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114-5EAD-4AE1-8229-0B8AB6EE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389-BC24-4E05-8FC5-1D02DDDF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0F1-F01E-4A70-9BA6-24317175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4AD-EB0D-4DA4-834E-7E4BB418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AE1-E5CF-4B57-9EB0-83408A5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5B9-AD27-442B-997D-BEA570C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A7F-387C-4191-A153-7B30D38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5E9-B96F-4685-8EF2-3F4FCEC1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516-34BC-4A8D-B110-2B524CF8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76E-5393-4424-A973-6FE6767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99B-1C30-48DE-85F6-B4231D9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2A8-2857-42C2-9A56-EA5BBBC7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FEA-E75F-4379-AC10-B56D0605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5;&#1086;&#1075;&#1088;&#1077;&#1096;&#1085;&#1086;&#1089;&#1090;&#1100;" TargetMode="External"/><Relationship Id="rId3" Type="http://schemas.openxmlformats.org/officeDocument/2006/relationships/hyperlink" Target="http://stanislav-zevalev.narod.ru/lab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384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абораторный практикум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 по геометрии </a:t>
            </a:r>
            <a:br>
              <a:rPr sz="4400"/>
            </a:b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Учитель математики и физики моу Ромненская со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Русина Г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0"/>
            <a:ext cx="5257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ямоуг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острых углов А и 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3284640"/>
          <a:ext cx="8640720" cy="3408120"/>
        </p:xfrm>
        <a:graphic>
          <a:graphicData uri="http://schemas.openxmlformats.org/drawingml/2006/table">
            <a:tbl>
              <a:tblPr/>
              <a:tblGrid>
                <a:gridCol w="2266920"/>
                <a:gridCol w="2125440"/>
                <a:gridCol w="2124000"/>
                <a:gridCol w="2124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А и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95640" y="1989000"/>
            <a:ext cx="4572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 о сумме острых углов прямоугольного треугольника.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нешний угол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градусную меру внешнего угла треугольника с суммой двух углов этого треугольника, не смежных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Линей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4076640"/>
            <a:ext cx="2232000" cy="2521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659772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6093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3789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609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17080" y="6093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4160" y="6308640"/>
            <a:ext cx="2851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859200">
            <a:off x="5530680" y="4249800"/>
            <a:ext cx="72000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720" y="6165720"/>
            <a:ext cx="86256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9280" y="2997360"/>
          <a:ext cx="8785440" cy="3860280"/>
        </p:xfrm>
        <a:graphic>
          <a:graphicData uri="http://schemas.openxmlformats.org/drawingml/2006/table">
            <a:tbl>
              <a:tblPr/>
              <a:tblGrid>
                <a:gridCol w="2305080"/>
                <a:gridCol w="1366920"/>
                <a:gridCol w="3313080"/>
                <a:gridCol w="1800360"/>
              </a:tblGrid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    Угол ВС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765000"/>
            <a:ext cx="903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оизв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острых углов А,  В и внешнего угла ВС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 Найдите отношение суммы углов А и В к градусной мере угла 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Сделайте вывод о свойстве внешнего угла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2924280"/>
            <a:ext cx="0" cy="39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451640" y="2997360"/>
                <a:ext cx="1297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С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Вертикальные уг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84464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градусные меры вертикальны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 Линейка, транспор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4149720"/>
            <a:ext cx="44658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40000" y="4005000"/>
            <a:ext cx="410364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50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653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54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5084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933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5950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Нарисуйте 3 пары пересекающихся пря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.Обозначьте образованные  углы по часовой стрелке 1,2,3,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.Измерьте градусные меры этих уг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4.Результаты измерений занесите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Сравните углы 1 с 3, 2 с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.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2492280"/>
          <a:ext cx="8785440" cy="4064040"/>
        </p:xfrm>
        <a:graphic>
          <a:graphicData uri="http://schemas.openxmlformats.org/drawingml/2006/table">
            <a:tbl>
              <a:tblPr/>
              <a:tblGrid>
                <a:gridCol w="2305080"/>
                <a:gridCol w="2160720"/>
                <a:gridCol w="2160360"/>
                <a:gridCol w="2159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  2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  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1 и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2 и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619280" y="249228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249228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4922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войство прямоугольного треугольника, </a:t>
            </a:r>
            <a:br>
              <a:rPr sz="4000"/>
            </a:b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одержащего угол 30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13372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Сравнить длины гипотенузы и катета, лежащего напротив угл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°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борудование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 Линейка, транспор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292640"/>
            <a:ext cx="4176720" cy="180036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7340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30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66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5805360"/>
            <a:ext cx="288720" cy="2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5808600"/>
            <a:ext cx="154080" cy="290520"/>
          </a:xfrm>
          <a:custGeom>
            <a:avLst/>
            <a:gdLst/>
            <a:ahLst/>
            <a:rect l="l" t="t" r="r" b="b"/>
            <a:pathLst>
              <a:path w="97" h="183">
                <a:moveTo>
                  <a:pt x="97" y="0"/>
                </a:moveTo>
                <a:cubicBezTo>
                  <a:pt x="74" y="8"/>
                  <a:pt x="51" y="13"/>
                  <a:pt x="29" y="21"/>
                </a:cubicBezTo>
                <a:cubicBezTo>
                  <a:pt x="15" y="40"/>
                  <a:pt x="4" y="88"/>
                  <a:pt x="2" y="115"/>
                </a:cubicBezTo>
                <a:cubicBezTo>
                  <a:pt x="0" y="142"/>
                  <a:pt x="12" y="169"/>
                  <a:pt x="15" y="1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0"/>
            <a:ext cx="52578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прямоугольных тре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длины гипотенузы АВ и катета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 Найдите отношение длины гипотенузы к длине ка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Сделайте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2997360"/>
          <a:ext cx="8783640" cy="369540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016360"/>
                <a:gridCol w="215892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нуз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 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093080" y="3068640"/>
                <a:ext cx="1366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Погр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tanislav-zevalev.narod.ru/lab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Геометрия 7-9. Л.С.Атанасян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йство 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умма углов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умма острых углов прямоуголь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нешний угол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ертикальные уг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ойство прямоугольного треугольника,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держащего угол 30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Темы лабораторных работ практику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Лабораторны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абораторная работа это одно из важных звеньев учебного процесса. В лабораторных занятиях учащиеся получают навыки экспериментальной работы, умение обращаться с приборами, самостоятельно делать выводы из полученных опытных данных и тем самым более глубоко и полно усваивать теоре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полнение лабораторных работ связано с измерением различных физических величин и последующей обработкой и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мерение — нахождение значения физической величины опытным путем с помощью средств измер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ямое измерение — определение значений физической величины непосредственно средствами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Погрешность изме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ценка отклонения величины измеренного значения величины от её истинного значения. Погрешность измерения является характеристикой (мерой) точности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ыяснить с абсолютной точностью истинное значение любой величины невозможно, то невозможно и указать величину отклонения измеренного значения от истинного. Это отклонение принято называть ошибкой 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рументальные / приборные 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грешности, которые определяются погрешностями применяемых средств измерений и вызываются несовершенством принципа действия, неточностью градуировки шкалы, ненаглядностью при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бъективные / операторные / личные погреш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огрешности, обусловленные степенью внимательности, сосредоточенности, подготовленности и другими качествами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ка ученическая, длиной до 50см, имеющая цену деления 1мм, имеет инструментальную погрешность    1мм. Транспортир -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508720" y="5805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101080" y="5805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Свойство равнобедренного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Сравнить углы при основ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равнобедрен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Линей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8900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9000"/>
            <a:ext cx="6840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.Постройте 3 равнобедренных треугольника АВС, с основанием 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.Измерьте градусные меры углов А 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.Результаты измерений занесите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.Сравните углы А и 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2708280"/>
          <a:ext cx="8641800" cy="3889080"/>
        </p:xfrm>
        <a:graphic>
          <a:graphicData uri="http://schemas.openxmlformats.org/drawingml/2006/table">
            <a:tbl>
              <a:tblPr/>
              <a:tblGrid>
                <a:gridCol w="2266560"/>
                <a:gridCol w="2126880"/>
                <a:gridCol w="2125080"/>
                <a:gridCol w="2123280"/>
              </a:tblGrid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 углы А и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Сумма углов тре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7082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пределить сумму углов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Линейка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Указания к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49360"/>
            <a:ext cx="770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.Постройте 3 треугольника АВ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.Измерьте градусные меры углов А.В.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.Результаты измерений занесите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.Найдите сумму углов А.,В,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делайте вывод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2276640"/>
          <a:ext cx="8785440" cy="4419360"/>
        </p:xfrm>
        <a:graphic>
          <a:graphicData uri="http://schemas.openxmlformats.org/drawingml/2006/table">
            <a:tbl>
              <a:tblPr/>
              <a:tblGrid>
                <a:gridCol w="2305080"/>
                <a:gridCol w="1366920"/>
                <a:gridCol w="3313080"/>
                <a:gridCol w="1800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В       Угол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глов А,  В и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364000" y="227664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Сумма острых углов прямоугольного треуг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50028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Цель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Найти значение суммы острых углов прямоугольного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Оборудование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Линейка, транспор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15:10Z</dcterms:created>
  <dc:creator>Русина</dc:creator>
  <dc:description/>
  <dc:language>en-US</dc:language>
  <cp:lastModifiedBy>Русина</cp:lastModifiedBy>
  <dcterms:modified xsi:type="dcterms:W3CDTF">2003-01-02T18:48:21Z</dcterms:modified>
  <cp:revision>2</cp:revision>
  <dc:subject/>
  <dc:title>Лабораторный практикум  по геометрии  7 класс</dc:title>
</cp:coreProperties>
</file>