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A47-5648-4AE3-981A-0F30C8A3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ACD-F7ED-47CC-8B45-FA6EABAE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FCA-20A2-46CA-A8ED-BC3BF53A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865-CCEF-4416-8CE7-9282DDE1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728-5FF0-4736-935D-74641BE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D1C-6157-43E3-8A1C-54E6EC45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005-3700-4A35-B49C-AD23EFC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068-1B0D-4C31-A05A-209995D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EC7-E06E-408F-9060-CECF3E1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BB8-21B2-4B1E-B083-6A0780EA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FB7-2D37-480C-B9D6-D4FE7B86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370-F848-4760-A3A6-E5C8D70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D4C-7A5C-4DAA-A581-A71B24BE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75;&#1088;&#1077;&#1096;&#1085;&#1086;&#1089;&#1090;&#1100;" TargetMode="External"/><Relationship Id="rId3" Type="http://schemas.openxmlformats.org/officeDocument/2006/relationships/hyperlink" Target="http://stanislav-zevalev.narod.ru/lab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38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й практикум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по геометрии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Учитель математики и физики моу Ромненская со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Русина Г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0"/>
            <a:ext cx="52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 и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3284640"/>
          <a:ext cx="8640720" cy="3408120"/>
        </p:xfrm>
        <a:graphic>
          <a:graphicData uri="http://schemas.openxmlformats.org/drawingml/2006/table">
            <a:tbl>
              <a:tblPr/>
              <a:tblGrid>
                <a:gridCol w="2266920"/>
                <a:gridCol w="2125440"/>
                <a:gridCol w="2124000"/>
                <a:gridCol w="212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 и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95640" y="1989000"/>
            <a:ext cx="4572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о сумме острых углов прямоугольного треугольника.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нешний угол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ую меру внешнего угла треугольника с суммой двух углов этого треугольника, не смежных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4076640"/>
            <a:ext cx="223200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659772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6093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609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17080" y="609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4160" y="6308640"/>
            <a:ext cx="2851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859200">
            <a:off x="5530680" y="424980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720" y="6165720"/>
            <a:ext cx="862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9280" y="2997360"/>
          <a:ext cx="8785440" cy="386028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Угол ВС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765000"/>
            <a:ext cx="90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оизв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,  В и внешнего угла ВС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суммы углов А и В к градусной мере угла 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 о свойстве внешнего угла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924280"/>
            <a:ext cx="0" cy="39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451640" y="2997360"/>
                <a:ext cx="1297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С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84464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ые меры вертикальны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149720"/>
            <a:ext cx="44658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40000" y="4005000"/>
            <a:ext cx="410364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0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65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54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50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9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5950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Нарисуйте 3 пары пересекающихся пря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.Обозначьте образованные  углы по часовой стрелке 1,2,3,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.Измерьте градусные меры этих уг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равните углы 1 с 3, 2 с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2492280"/>
          <a:ext cx="8785440" cy="4064040"/>
        </p:xfrm>
        <a:graphic>
          <a:graphicData uri="http://schemas.openxmlformats.org/drawingml/2006/table">
            <a:tbl>
              <a:tblPr/>
              <a:tblGrid>
                <a:gridCol w="2305080"/>
                <a:gridCol w="2160720"/>
                <a:gridCol w="2160360"/>
                <a:gridCol w="2159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2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1 и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2 и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61928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492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войство прямоугольного треугольника, </a:t>
            </a:r>
            <a:br>
              <a:rPr sz="4000"/>
            </a:b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одержащего угол 30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13372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Сравнить длины гипотенузы и катета, лежащего напротив угл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292640"/>
            <a:ext cx="4176720" cy="180036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66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805360"/>
            <a:ext cx="288720" cy="2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5808600"/>
            <a:ext cx="154080" cy="290520"/>
          </a:xfrm>
          <a:custGeom>
            <a:avLst/>
            <a:gdLst/>
            <a:ahLst/>
            <a:rect l="l" t="t" r="r" b="b"/>
            <a:pathLst>
              <a:path w="97" h="183">
                <a:moveTo>
                  <a:pt x="97" y="0"/>
                </a:moveTo>
                <a:cubicBezTo>
                  <a:pt x="74" y="8"/>
                  <a:pt x="51" y="13"/>
                  <a:pt x="29" y="21"/>
                </a:cubicBezTo>
                <a:cubicBezTo>
                  <a:pt x="15" y="40"/>
                  <a:pt x="4" y="88"/>
                  <a:pt x="2" y="115"/>
                </a:cubicBezTo>
                <a:cubicBezTo>
                  <a:pt x="0" y="142"/>
                  <a:pt x="12" y="169"/>
                  <a:pt x="15" y="1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0"/>
            <a:ext cx="52578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длины гипотенузы АВ и катета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длины гипотенузы к длине ка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2997360"/>
          <a:ext cx="8783640" cy="369540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016360"/>
                <a:gridCol w="2158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нуз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 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93080" y="3068640"/>
                <a:ext cx="1366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Погр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anislav-zevalev.narod.ru/lab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Геометрия 7-9. Л.С.Атанасян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нешний угол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ртикальные уг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прямоугольного треугольника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держащего угол 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Темы лабораторных работ практику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бораторная работа это одно из важных звеньев учебного процесса. В лабораторных занятиях учащиеся получают навыки экспериментальной работы, умение обращаться с приборами, самостоятельно делать выводы из полученных опытных данных и тем самым более глубоко и полно усваивать теоре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ение лабораторных работ связано с измерением различных физических величин и последующей обработкой 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рение — нахождение значения физической величины опытным путем с помощью средств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ое измерение — определение значений физической величины непосредственно средствам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Погрешность изме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ценка отклонения величины измеренного значения величины от её истинного значения. Погрешность измерения является характеристикой (мерой) точност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ыяснить с абсолютной точностью истинное значение любой величины невозможно, то невозможно и указать величину отклонения измеренного значения от истинного. Это отклонение принято называть ошибкой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ментальные / прибор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которые определяются погрешностями применяемых средств измерений и вызываются несовершенством принципа действия, неточностью градуировки шкалы, ненаглядностью при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бъективные / операторные / лич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обусловленные степенью внимательности, сосредоточенности, подготовленности и другими качествами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ка ученическая, длиной до 50см, имеющая цену деления 1мм, имеет инструментальную погрешность    1мм. Транспортир -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50872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10108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войство равнобедренного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углы при основ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9000"/>
            <a:ext cx="6840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Постройте 3 равнобедренных треугольника АВС, с основанием 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Измерьте градусные меры углов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Сравните углы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2708280"/>
          <a:ext cx="8641800" cy="3889080"/>
        </p:xfrm>
        <a:graphic>
          <a:graphicData uri="http://schemas.openxmlformats.org/drawingml/2006/table">
            <a:tbl>
              <a:tblPr/>
              <a:tblGrid>
                <a:gridCol w="2266560"/>
                <a:gridCol w="2126880"/>
                <a:gridCol w="2125080"/>
                <a:gridCol w="2123280"/>
              </a:tblGrid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углы А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умма углов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7082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пределить сумму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49360"/>
            <a:ext cx="770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треугольника АВ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углов А.В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Найдите сумму углов А.,В,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2276640"/>
          <a:ext cx="8785440" cy="441936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   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,  В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364000" y="227664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Сумма острых углов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500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Найти значение суммы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15:10Z</dcterms:created>
  <dc:creator>Русина</dc:creator>
  <dc:description/>
  <dc:language>en-US</dc:language>
  <cp:lastModifiedBy>Русина</cp:lastModifiedBy>
  <dcterms:modified xsi:type="dcterms:W3CDTF">2003-01-02T18:48:21Z</dcterms:modified>
  <cp:revision>2</cp:revision>
  <dc:subject/>
  <dc:title>Лабораторный практикум  по геометрии  7 класс</dc:title>
</cp:coreProperties>
</file>