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4DA-E29B-47D0-9A74-7B4A386E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019-31A9-4AFD-B820-D7DF158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7E4-8A24-4A91-ADC7-89BB271D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7C8-A139-44F0-A2D5-9EADC43C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CB0-A467-4097-A81C-465A5F62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EA3-50FD-44AA-B23F-1809326B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890-7B53-4FE1-A8B5-1FF4F0F1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0F2-178A-485B-A172-3567095C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968-A785-4202-96D2-FBB4F03E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3C9-AB34-46E2-8BFB-2D3FE18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997-BC76-4598-87BD-27E803C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C19-63B4-4A7C-AE89-F0B24A41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4932-5553-4079-8747-0513AF15A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86;&#1075;&#1088;&#1077;&#1096;&#1085;&#1086;&#1089;&#1090;&#1100;" TargetMode="External"/><Relationship Id="rId3" Type="http://schemas.openxmlformats.org/officeDocument/2006/relationships/hyperlink" Target="http://stanislav-zevalev.narod.ru/lab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384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Лабораторный практикум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 по геометрии 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Учитель математики и физики моу Ромненская со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Русина Г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0"/>
            <a:ext cx="5257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прямоугольных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градусные меры острых углов А и 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3284640"/>
          <a:ext cx="8640720" cy="3408120"/>
        </p:xfrm>
        <a:graphic>
          <a:graphicData uri="http://schemas.openxmlformats.org/drawingml/2006/table">
            <a:tbl>
              <a:tblPr/>
              <a:tblGrid>
                <a:gridCol w="2266920"/>
                <a:gridCol w="2125440"/>
                <a:gridCol w="2124000"/>
                <a:gridCol w="212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глов А и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995640" y="1989000"/>
            <a:ext cx="45720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 о сумме острых углов прямоугольного треугольника.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Внешний угол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Сравнить градусную меру внешнего угла треугольника с суммой двух углов этого треугольника, не смежных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Линей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4076640"/>
            <a:ext cx="223200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6597720"/>
            <a:ext cx="381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6093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378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609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17080" y="609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4160" y="6308640"/>
            <a:ext cx="28512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859200">
            <a:off x="5530680" y="4249800"/>
            <a:ext cx="720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720" y="6165720"/>
            <a:ext cx="86256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9280" y="2997360"/>
          <a:ext cx="8785440" cy="3860280"/>
        </p:xfrm>
        <a:graphic>
          <a:graphicData uri="http://schemas.openxmlformats.org/drawingml/2006/table">
            <a:tbl>
              <a:tblPr/>
              <a:tblGrid>
                <a:gridCol w="2305080"/>
                <a:gridCol w="1366920"/>
                <a:gridCol w="3313080"/>
                <a:gridCol w="1800360"/>
              </a:tblGrid>
              <a:tr h="10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В    Угол ВС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765000"/>
            <a:ext cx="90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произвольных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градусные меры острых углов А,  В и внешнего угла ВСД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. Найдите отношение суммы углов А и В к градусной мере угла 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Сделайте вывод о свойстве внешнего угла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2924280"/>
            <a:ext cx="0" cy="39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451640" y="2997360"/>
                <a:ext cx="1297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С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84464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Сравнить градусные меры вертикальны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 Линейка, транспор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4149720"/>
            <a:ext cx="44658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340000" y="4005000"/>
            <a:ext cx="410364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50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465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54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5084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3933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5950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Нарисуйте 3 пары пересекающихся прям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.Обозначьте образованные  углы по часовой стрелке 1,2,3,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.Измерьте градусные меры этих уг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.Результаты измерений занесите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равните углы 1 с 3, 2 с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.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2492280"/>
          <a:ext cx="8785440" cy="4064040"/>
        </p:xfrm>
        <a:graphic>
          <a:graphicData uri="http://schemas.openxmlformats.org/drawingml/2006/table">
            <a:tbl>
              <a:tblPr/>
              <a:tblGrid>
                <a:gridCol w="2305080"/>
                <a:gridCol w="2160720"/>
                <a:gridCol w="2160360"/>
                <a:gridCol w="2159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2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   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 1 и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 2 и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619280" y="249228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249228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492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4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Свойство прямоугольного треугольника, </a:t>
            </a:r>
            <a:br>
              <a:rPr sz="4000"/>
            </a:b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содержащего угол 30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13372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Сравнить длины гипотенузы и катета, лежащего напротив угл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°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борудование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 Линейка, транспор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4292640"/>
            <a:ext cx="4176720" cy="1800360"/>
          </a:xfrm>
          <a:prstGeom prst="rtTriangl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7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5661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414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5805360"/>
            <a:ext cx="288720" cy="28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5808600"/>
            <a:ext cx="154080" cy="290520"/>
          </a:xfrm>
          <a:custGeom>
            <a:avLst/>
            <a:gdLst/>
            <a:ahLst/>
            <a:rect l="l" t="t" r="r" b="b"/>
            <a:pathLst>
              <a:path w="97" h="183">
                <a:moveTo>
                  <a:pt x="97" y="0"/>
                </a:moveTo>
                <a:cubicBezTo>
                  <a:pt x="74" y="8"/>
                  <a:pt x="51" y="13"/>
                  <a:pt x="29" y="21"/>
                </a:cubicBezTo>
                <a:cubicBezTo>
                  <a:pt x="15" y="40"/>
                  <a:pt x="4" y="88"/>
                  <a:pt x="2" y="115"/>
                </a:cubicBezTo>
                <a:cubicBezTo>
                  <a:pt x="0" y="142"/>
                  <a:pt x="12" y="169"/>
                  <a:pt x="15" y="1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0"/>
            <a:ext cx="525780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прямоугольных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длины гипотенузы АВ и катета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. Найдите отношение длины гипотенузы к длине ка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Сделайте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8000" y="2997360"/>
          <a:ext cx="8783640" cy="3695400"/>
        </p:xfrm>
        <a:graphic>
          <a:graphicData uri="http://schemas.openxmlformats.org/drawingml/2006/table">
            <a:tbl>
              <a:tblPr/>
              <a:tblGrid>
                <a:gridCol w="2303280"/>
                <a:gridCol w="2305080"/>
                <a:gridCol w="2016360"/>
                <a:gridCol w="215892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нуза 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 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093080" y="3068640"/>
                <a:ext cx="1366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Погр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tanislav-zevalev.narod.ru/lab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Геометрия 7-9. Л.С.Атанасян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ойство равнобедрен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умма углов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умма острых углов прямоуголь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нешний угол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ртикальные уг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ойство прямоугольного треугольника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держащего угол 3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Темы лабораторных работ практику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Лабораторны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бораторная работа это одно из важных звеньев учебного процесса. В лабораторных занятиях учащиеся получают навыки экспериментальной работы, умение обращаться с приборами, самостоятельно делать выводы из полученных опытных данных и тем самым более глубоко и полно усваивать теоретически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олнение лабораторных работ связано с измерением различных физических величин и последующей обработкой и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рение — нахождение значения физической величины опытным путем с помощью средств изме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ое измерение — определение значений физической величины непосредственно средствами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Погрешность изме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ценка отклонения величины измеренного значения величины от её истинного значения. Погрешность измерения является характеристикой (мерой) точности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ыяснить с абсолютной точностью истинное значение любой величины невозможно, то невозможно и указать величину отклонения измеренного значения от истинного. Это отклонение принято называть ошибкой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рументальные / приборные погреш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огрешности, которые определяются погрешностями применяемых средств измерений и вызываются несовершенством принципа действия, неточностью градуировки шкалы, ненаглядностью при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бъективные / операторные / личные погреш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огрешности, обусловленные степенью внимательности, сосредоточенности, подготовленности и другими качествами опер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ка ученическая, длиной до 50см, имеющая цену деления 1мм, имеет инструментальную погрешность    1мм. Транспортир -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508720" y="5805360"/>
                <a:ext cx="1396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101080" y="5805360"/>
                <a:ext cx="1396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Свойство равнобедренного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Сравнить углы при основ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равнобедрен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Линей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8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9000"/>
            <a:ext cx="6840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.Постройте 3 равнобедренных треугольника АВС, с основанием 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.Измерьте градусные меры углов А и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.Результаты измерений занесите в табл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.Сравните углы А и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2708280"/>
          <a:ext cx="8641800" cy="3889080"/>
        </p:xfrm>
        <a:graphic>
          <a:graphicData uri="http://schemas.openxmlformats.org/drawingml/2006/table">
            <a:tbl>
              <a:tblPr/>
              <a:tblGrid>
                <a:gridCol w="2266560"/>
                <a:gridCol w="2126880"/>
                <a:gridCol w="2125080"/>
                <a:gridCol w="2123280"/>
              </a:tblGrid>
              <a:tr h="104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 углы А и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Сумма углов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7082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Определить сумму углов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Линейка, 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49360"/>
            <a:ext cx="770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треугольника АВ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градусные меры углов А.В.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.Найдите сумму углов А.,В,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.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2276640"/>
          <a:ext cx="8785440" cy="4419360"/>
        </p:xfrm>
        <a:graphic>
          <a:graphicData uri="http://schemas.openxmlformats.org/drawingml/2006/table">
            <a:tbl>
              <a:tblPr/>
              <a:tblGrid>
                <a:gridCol w="2305080"/>
                <a:gridCol w="1366920"/>
                <a:gridCol w="3313080"/>
                <a:gridCol w="1800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В       Угол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глов А,  В и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364000" y="227664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Сумма острых углов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50028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Найти значение суммы острых углов прямоуголь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Линейка, 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15:10Z</dcterms:created>
  <dc:creator>Русина</dc:creator>
  <dc:description/>
  <dc:language>en-US</dc:language>
  <cp:lastModifiedBy>Русина</cp:lastModifiedBy>
  <dcterms:modified xsi:type="dcterms:W3CDTF">2003-01-02T18:48:21Z</dcterms:modified>
  <cp:revision>2</cp:revision>
  <dc:subject/>
  <dc:title>Лабораторный практикум  по геометрии  7 класс</dc:title>
</cp:coreProperties>
</file>