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C3A-A461-46D7-AB95-B3A155AA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67C-E64C-486C-A2FC-1C23B016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D28-2DF6-4B53-B613-C5BE03F6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B96-C370-43C8-A686-0C764400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B1E-1E9E-4E9E-87AB-72D60659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F8D-A2BE-4D1D-AD1F-79DCD1B9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8E5-166A-4256-8492-339E79C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926-522A-4EB5-A712-5FF63A53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06B-9590-4C32-8815-1EB765F7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F83-E4BE-4536-B31E-88F85F6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EDE-0F02-4329-BF4F-E35D862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589-78AF-4E51-A1CD-4D72C00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DD29-3B7E-4B93-91BF-7608410EBE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395280" y="1700280"/>
            <a:ext cx="81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08000" y="119160"/>
            <a:ext cx="889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ниципальное казённое дошкольное 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Детский сад общеразвивающего вида «Солшышко»</a:t>
            </a:r>
            <a:br>
              <a:rPr sz="28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Боровиха Первомайского района Алтайского кр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роек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«Здоровый образ жизн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26920" y="350028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0"/>
          <p:cNvSpPr/>
          <p:nvPr/>
        </p:nvSpPr>
        <p:spPr>
          <a:xfrm>
            <a:off x="1908000" y="3860640"/>
            <a:ext cx="6624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тели: Семёнова И.В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гулина А.А.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7e7ff"/>
                </a:solidFill>
                <a:latin typeface="Arial"/>
              </a:rPr>
              <a:t>Физкультминутки</a:t>
            </a: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 на занятиях умственной деятельностью применяются с целью предупреждения утомления на занятии. Используются пособия:</a:t>
            </a:r>
            <a:br>
              <a:rPr sz="1400"/>
            </a:b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массажер «Орешки»,»Бильбоке»</a:t>
            </a:r>
            <a:br>
              <a:rPr sz="1400"/>
            </a:b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Цель:Развитие ловкости,внимания, глазомера, быстроты реакции, формирование навыков самоконтроля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6" descr="SDC14047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3" name="Picture 7" descr="SDC14051"/>
          <p:cNvPicPr/>
          <p:nvPr/>
        </p:nvPicPr>
        <p:blipFill>
          <a:blip r:embed="rId2"/>
          <a:stretch/>
        </p:blipFill>
        <p:spPr>
          <a:xfrm>
            <a:off x="465120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b7e7ff"/>
                </a:solidFill>
                <a:latin typeface="Arial"/>
              </a:rPr>
              <a:t>Гимнастика после дневного сна </a:t>
            </a: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 в сочетании с контрастными воздушными ваннами помогает улучшить настроение детей, поднять мышечный тонус, способствует профилактике  нарушений стопы. 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Массажные коврики «Калейдоскоп»,»Сосновые шишки»</a:t>
            </a:r>
            <a:br>
              <a:rPr sz="1300"/>
            </a:b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Цель:профилактика плоскостопия.</a:t>
            </a:r>
            <a:endParaRPr b="0" lang="en-US" sz="13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5" name="Picture 7" descr="SDC14024"/>
          <p:cNvPicPr/>
          <p:nvPr/>
        </p:nvPicPr>
        <p:blipFill>
          <a:blip r:embed="rId1"/>
          <a:stretch/>
        </p:blipFill>
        <p:spPr>
          <a:xfrm>
            <a:off x="352440" y="1676520"/>
            <a:ext cx="4087800" cy="4422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6" name="Picture 8" descr="SDC14019"/>
          <p:cNvPicPr/>
          <p:nvPr/>
        </p:nvPicPr>
        <p:blipFill>
          <a:blip r:embed="rId2"/>
          <a:stretch/>
        </p:blipFill>
        <p:spPr>
          <a:xfrm rot="3616200">
            <a:off x="5792040" y="1560960"/>
            <a:ext cx="2914560" cy="218592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7" name="Picture 9" descr="SDC14025"/>
          <p:cNvPicPr/>
          <p:nvPr/>
        </p:nvPicPr>
        <p:blipFill>
          <a:blip r:embed="rId3"/>
          <a:stretch/>
        </p:blipFill>
        <p:spPr>
          <a:xfrm>
            <a:off x="5230800" y="396252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итание </a:t>
            </a:r>
            <a:r>
              <a:rPr b="1" lang="ru-RU" sz="1600" spc="-1" strike="noStrike">
                <a:solidFill>
                  <a:srgbClr val="b7e7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это одно из важнейших условий существования человека, сохранения его здоровья и трудоспособности.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Вот и полдник подошел,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ли дети все за стол.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7" descr="SDC14056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20" name="Picture 8" descr="SDC14057"/>
          <p:cNvPicPr/>
          <p:nvPr/>
        </p:nvPicPr>
        <p:blipFill>
          <a:blip r:embed="rId2"/>
          <a:stretch/>
        </p:blipFill>
        <p:spPr>
          <a:xfrm>
            <a:off x="465120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едполагаемые результаты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дет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представления о З О 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двигательной актив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рес к занятиям физического разви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одител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адение культурно-гигиеническими навы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влечение всех родителей в работу над проек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новых форм и методов работы с родителями в работе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5406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тандартное оборудование стимулирует интерес детей, желание двигаться, участвовать в играх; вызывает радость и положительные эмо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тандартное оборудование объединяет физкультуру с игрой, что создает условия для наиболее полного самовыражения ребенка в двигательн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ярких цветных пособий повышает у детей интерес к занятиям, придает им необходимую эмоциональную окрас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ь проекта:</a:t>
            </a:r>
            <a:br>
              <a:rPr sz="32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научить ребёнка быть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здоровым душой и телом,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тремиться творить свое здоровье, применяя знания 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мения в согласии с законами природы и бытия.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46" name="Группа 27"/>
          <p:cNvGrpSpPr/>
          <p:nvPr/>
        </p:nvGrpSpPr>
        <p:grpSpPr>
          <a:xfrm>
            <a:off x="755640" y="2205000"/>
            <a:ext cx="7531200" cy="4438800"/>
            <a:chOff x="755640" y="2205000"/>
            <a:chExt cx="7531200" cy="4438800"/>
          </a:xfrm>
        </p:grpSpPr>
        <p:grpSp>
          <p:nvGrpSpPr>
            <p:cNvPr id="47" name="Овал 10"/>
            <p:cNvGrpSpPr/>
            <p:nvPr/>
          </p:nvGrpSpPr>
          <p:grpSpPr>
            <a:xfrm>
              <a:off x="3021480" y="3862080"/>
              <a:ext cx="2824920" cy="1336320"/>
              <a:chOff x="3021480" y="3862080"/>
              <a:chExt cx="2824920" cy="1336320"/>
            </a:xfrm>
          </p:grpSpPr>
          <p:pic>
            <p:nvPicPr>
              <p:cNvPr id="48" name="Овал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1480" y="3862080"/>
                <a:ext cx="2824920" cy="13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3471120" y="4071600"/>
                <a:ext cx="192096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00"/>
                    </a:solidFill>
                    <a:latin typeface="Arial"/>
                  </a:rPr>
                  <a:t>Участник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00"/>
                    </a:solidFill>
                    <a:latin typeface="Arial"/>
                  </a:rPr>
                  <a:t>проект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" name="Скругленный прямоугольник 11"/>
            <p:cNvGrpSpPr/>
            <p:nvPr/>
          </p:nvGrpSpPr>
          <p:grpSpPr>
            <a:xfrm>
              <a:off x="1476720" y="5664240"/>
              <a:ext cx="2193840" cy="979560"/>
              <a:chOff x="1476720" y="5664240"/>
              <a:chExt cx="2193840" cy="979560"/>
            </a:xfrm>
          </p:grpSpPr>
          <p:pic>
            <p:nvPicPr>
              <p:cNvPr id="51" name="Скругленный прямоугольник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6720" y="5664240"/>
                <a:ext cx="2193840" cy="9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75720" y="5737320"/>
                <a:ext cx="1998360" cy="78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Воспитатели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Скругленный прямоугольник 13"/>
            <p:cNvGrpSpPr/>
            <p:nvPr/>
          </p:nvGrpSpPr>
          <p:grpSpPr>
            <a:xfrm>
              <a:off x="6189120" y="3571560"/>
              <a:ext cx="2097720" cy="973440"/>
              <a:chOff x="6189120" y="3571560"/>
              <a:chExt cx="2097720" cy="973440"/>
            </a:xfrm>
          </p:grpSpPr>
          <p:pic>
            <p:nvPicPr>
              <p:cNvPr id="54" name="Скругленный прямоугольник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89120" y="3571560"/>
                <a:ext cx="209772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6284520" y="3645360"/>
                <a:ext cx="190836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Родител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Скругленный прямоугольник 14"/>
            <p:cNvGrpSpPr/>
            <p:nvPr/>
          </p:nvGrpSpPr>
          <p:grpSpPr>
            <a:xfrm>
              <a:off x="755640" y="3571560"/>
              <a:ext cx="1941480" cy="973440"/>
              <a:chOff x="755640" y="3571560"/>
              <a:chExt cx="1941480" cy="973440"/>
            </a:xfrm>
          </p:grpSpPr>
          <p:pic>
            <p:nvPicPr>
              <p:cNvPr id="57" name="Скругленный прямоугольник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755640" y="3571560"/>
                <a:ext cx="194148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851400" y="3645360"/>
                <a:ext cx="174924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Воспитанники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Скругленный прямоугольник 15"/>
            <p:cNvGrpSpPr/>
            <p:nvPr/>
          </p:nvGrpSpPr>
          <p:grpSpPr>
            <a:xfrm>
              <a:off x="5371920" y="5591520"/>
              <a:ext cx="2247840" cy="979560"/>
              <a:chOff x="5371920" y="5591520"/>
              <a:chExt cx="2247840" cy="979560"/>
            </a:xfrm>
          </p:grpSpPr>
          <p:pic>
            <p:nvPicPr>
              <p:cNvPr id="60" name="Скругленный прямоугольник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371920" y="5591520"/>
                <a:ext cx="2247840" cy="9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70200" y="5664960"/>
                <a:ext cx="2052360" cy="78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Медицинский персонал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Скругленный прямоугольник 16"/>
            <p:cNvGrpSpPr/>
            <p:nvPr/>
          </p:nvGrpSpPr>
          <p:grpSpPr>
            <a:xfrm>
              <a:off x="3201840" y="2205000"/>
              <a:ext cx="2368080" cy="973440"/>
              <a:chOff x="3201840" y="2205000"/>
              <a:chExt cx="2368080" cy="973440"/>
            </a:xfrm>
          </p:grpSpPr>
          <p:pic>
            <p:nvPicPr>
              <p:cNvPr id="63" name="Скругленный прямоугольник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1840" y="2205000"/>
                <a:ext cx="236808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3296160" y="2275560"/>
                <a:ext cx="218016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Администрация детского сада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5" name="Picture 45" descr=""/>
            <p:cNvPicPr/>
            <p:nvPr/>
          </p:nvPicPr>
          <p:blipFill>
            <a:blip r:embed="rId7"/>
            <a:stretch/>
          </p:blipFill>
          <p:spPr>
            <a:xfrm rot="19639200">
              <a:off x="1720440" y="2628360"/>
              <a:ext cx="1515240" cy="9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5" descr=""/>
            <p:cNvPicPr/>
            <p:nvPr/>
          </p:nvPicPr>
          <p:blipFill>
            <a:blip r:embed="rId8"/>
            <a:stretch/>
          </p:blipFill>
          <p:spPr>
            <a:xfrm rot="1953000">
              <a:off x="5532840" y="2636640"/>
              <a:ext cx="1556640" cy="9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5" descr=""/>
            <p:cNvPicPr/>
            <p:nvPr/>
          </p:nvPicPr>
          <p:blipFill>
            <a:blip r:embed="rId9"/>
            <a:stretch/>
          </p:blipFill>
          <p:spPr>
            <a:xfrm rot="14567400">
              <a:off x="1305720" y="4495680"/>
              <a:ext cx="12315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5" descr=""/>
            <p:cNvPicPr/>
            <p:nvPr/>
          </p:nvPicPr>
          <p:blipFill>
            <a:blip r:embed="rId10"/>
            <a:stretch/>
          </p:blipFill>
          <p:spPr>
            <a:xfrm rot="7120200">
              <a:off x="6256080" y="4403520"/>
              <a:ext cx="11775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5" descr=""/>
            <p:cNvPicPr/>
            <p:nvPr/>
          </p:nvPicPr>
          <p:blipFill>
            <a:blip r:embed="rId11"/>
            <a:stretch/>
          </p:blipFill>
          <p:spPr>
            <a:xfrm rot="10800000">
              <a:off x="3706920" y="5694480"/>
              <a:ext cx="162972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-4284720" y="1557360"/>
            <a:ext cx="180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571680"/>
            <a:ext cx="77752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«Забота о здоровье - важнейшая работа воспитателя. От жизнерадостности, бодрости детей зависит их духовная жизнь, мировоззрение, умственное развитие, прочность знаний, вера в свои силы.»                                                                                 В. Сухомлинский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28760" y="1785960"/>
            <a:ext cx="75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уальность т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0" y="2386080"/>
            <a:ext cx="6858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многообразных факторов, влияющих на состояние здоровья и работоспособность растущего организма, двигательная активность – это естественная потребность в движении, удовлетворение которой является важнейшим условием всестороннего развития и воспитания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2286000" y="428616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оритеты в режиме дня принадлежат физкультурно-оздоровительной  деятельности. К ним относятся такие виды двигательной деятельности: утренняя гимнастика, подвижные игры и физические упражнения во время прогулок, занятия, физкультминутки на занятиях с умственной нагрузкой и т.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395280" y="1700280"/>
            <a:ext cx="81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826920" y="350028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Diagram 20"/>
          <p:cNvGrpSpPr/>
          <p:nvPr/>
        </p:nvGrpSpPr>
        <p:grpSpPr>
          <a:xfrm>
            <a:off x="3654360" y="2087640"/>
            <a:ext cx="5313600" cy="4719240"/>
            <a:chOff x="3654360" y="2087640"/>
            <a:chExt cx="5313600" cy="4719240"/>
          </a:xfrm>
        </p:grpSpPr>
        <p:sp>
          <p:nvSpPr>
            <p:cNvPr id="78" name="_s1028"/>
            <p:cNvSpPr/>
            <p:nvPr/>
          </p:nvSpPr>
          <p:spPr>
            <a:xfrm flipH="1" flipV="1">
              <a:off x="5029920" y="3855240"/>
              <a:ext cx="64188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1029"/>
            <p:cNvSpPr/>
            <p:nvPr/>
          </p:nvSpPr>
          <p:spPr>
            <a:xfrm>
              <a:off x="3654360" y="2972880"/>
              <a:ext cx="1475280" cy="117900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Исследов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_s1030"/>
            <p:cNvSpPr/>
            <p:nvPr/>
          </p:nvSpPr>
          <p:spPr>
            <a:xfrm flipH="1">
              <a:off x="5029920" y="4740480"/>
              <a:ext cx="64188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1031"/>
            <p:cNvSpPr/>
            <p:nvPr/>
          </p:nvSpPr>
          <p:spPr>
            <a:xfrm>
              <a:off x="3656160" y="4744080"/>
              <a:ext cx="1475280" cy="11790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рганизац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1032"/>
            <p:cNvSpPr/>
            <p:nvPr/>
          </p:nvSpPr>
          <p:spPr>
            <a:xfrm>
              <a:off x="6310080" y="5034240"/>
              <a:ext cx="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1033"/>
            <p:cNvSpPr/>
            <p:nvPr/>
          </p:nvSpPr>
          <p:spPr>
            <a:xfrm>
              <a:off x="5575680" y="5627880"/>
              <a:ext cx="1475280" cy="1179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 Schoolbook"/>
                  <a:ea typeface="Arial"/>
                </a:rPr>
                <a:t>Воспит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034"/>
            <p:cNvSpPr/>
            <p:nvPr/>
          </p:nvSpPr>
          <p:spPr>
            <a:xfrm>
              <a:off x="6948000" y="4740480"/>
              <a:ext cx="64152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_s1035"/>
            <p:cNvSpPr/>
            <p:nvPr/>
          </p:nvSpPr>
          <p:spPr>
            <a:xfrm>
              <a:off x="7492680" y="4740480"/>
              <a:ext cx="1475280" cy="1179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рофилакт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1036"/>
            <p:cNvSpPr/>
            <p:nvPr/>
          </p:nvSpPr>
          <p:spPr>
            <a:xfrm flipV="1">
              <a:off x="6948000" y="3855240"/>
              <a:ext cx="64152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1037"/>
            <p:cNvSpPr/>
            <p:nvPr/>
          </p:nvSpPr>
          <p:spPr>
            <a:xfrm>
              <a:off x="7490880" y="2971440"/>
              <a:ext cx="1475280" cy="1179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Диагност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1038"/>
            <p:cNvSpPr/>
            <p:nvPr/>
          </p:nvSpPr>
          <p:spPr>
            <a:xfrm flipV="1">
              <a:off x="6310080" y="3264480"/>
              <a:ext cx="0" cy="59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5573880" y="2087640"/>
              <a:ext cx="1475280" cy="1179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буч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040"/>
            <p:cNvSpPr/>
            <p:nvPr/>
          </p:nvSpPr>
          <p:spPr>
            <a:xfrm>
              <a:off x="5573880" y="3858840"/>
              <a:ext cx="1475280" cy="1179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снов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на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Схема 18" descr=""/>
          <p:cNvPicPr/>
          <p:nvPr/>
        </p:nvPicPr>
        <p:blipFill>
          <a:blip r:embed="rId1"/>
          <a:stretch/>
        </p:blipFill>
        <p:spPr>
          <a:xfrm>
            <a:off x="-890640" y="2103480"/>
            <a:ext cx="5389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"/>
          <p:cNvSpPr/>
          <p:nvPr/>
        </p:nvSpPr>
        <p:spPr>
          <a:xfrm>
            <a:off x="1000080" y="12384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следовательская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3635280" y="112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4067280" y="486900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179280" y="692280"/>
            <a:ext cx="5178600" cy="29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веде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ниторинг здоровья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ледование жилищно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товых усло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кетирование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ческое обслед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714760" y="4214880"/>
            <a:ext cx="58579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результатам созданы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  физкультминуток, утренней и бодрящей гимна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ланируем созд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аспорт здоровья групп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Дневник здоровья воспитанни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32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офилактика переутомления на занятиях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713880"/>
            <a:ext cx="89298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ение периода адаптации к содержанию материала в начале зан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ый ритм и темп зан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моциональность, артистизм педаго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нообразие видов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приемов поощрения, подбадри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ование нестандартных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динамических пау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142920"/>
            <a:ext cx="8091360" cy="18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доровьесберегающие технологии решают задачи рациональной организации образовательного процесс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14200" y="1700280"/>
            <a:ext cx="48578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ансеризация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илактические привив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двигательной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таминиза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оприятия в период повышенной заболеваемости  ОРВИ, эпидемии грипп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жим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7e7ff"/>
                </a:solidFill>
                <a:latin typeface="Arial"/>
              </a:rPr>
              <a:t>Утренняя гимнастика</a:t>
            </a: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 направлена на поднятие эмоционального и мышечного тонуса детей. Применяем на утренней гимнастике различные пособия.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Например:  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«Веселая веревка»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Цель: Развитие равновесия, координации движения.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7" descr="SDC14026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4" name="Picture 9" descr="SDC14028"/>
          <p:cNvPicPr/>
          <p:nvPr/>
        </p:nvPicPr>
        <p:blipFill>
          <a:blip r:embed="rId2"/>
          <a:stretch/>
        </p:blipFill>
        <p:spPr>
          <a:xfrm rot="21268200">
            <a:off x="5292360" y="4365360"/>
            <a:ext cx="2916360" cy="21873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5" name="Picture 13" descr="SDC14029"/>
          <p:cNvPicPr/>
          <p:nvPr/>
        </p:nvPicPr>
        <p:blipFill>
          <a:blip r:embed="rId3"/>
          <a:stretch/>
        </p:blipFill>
        <p:spPr>
          <a:xfrm rot="337200">
            <a:off x="5319720" y="1983960"/>
            <a:ext cx="3027240" cy="225288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«Змея», «Кочки»</a:t>
            </a:r>
            <a:br>
              <a:rPr sz="20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Использование: для различного вида ходьбы, бега, прыжков. </a:t>
            </a: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Цель: развитие ловкости, координации движения, равновесия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7" descr="SDC14032"/>
          <p:cNvPicPr/>
          <p:nvPr/>
        </p:nvPicPr>
        <p:blipFill>
          <a:blip r:embed="rId1"/>
          <a:stretch/>
        </p:blipFill>
        <p:spPr>
          <a:xfrm rot="21013800">
            <a:off x="885960" y="1676160"/>
            <a:ext cx="3027240" cy="21351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8" name="Picture 8" descr="SDC14040"/>
          <p:cNvPicPr/>
          <p:nvPr/>
        </p:nvPicPr>
        <p:blipFill>
          <a:blip r:embed="rId2"/>
          <a:stretch/>
        </p:blipFill>
        <p:spPr>
          <a:xfrm rot="21336000">
            <a:off x="5230800" y="1676520"/>
            <a:ext cx="3032280" cy="21351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9" name="Picture 11" descr="SDC14042"/>
          <p:cNvPicPr/>
          <p:nvPr/>
        </p:nvPicPr>
        <p:blipFill>
          <a:blip r:embed="rId3"/>
          <a:stretch/>
        </p:blipFill>
        <p:spPr>
          <a:xfrm rot="352200">
            <a:off x="880920" y="396252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0" name="Picture 12" descr="SDC14044"/>
          <p:cNvPicPr/>
          <p:nvPr/>
        </p:nvPicPr>
        <p:blipFill>
          <a:blip r:embed="rId4"/>
          <a:stretch/>
        </p:blipFill>
        <p:spPr>
          <a:xfrm rot="20722800">
            <a:off x="5230440" y="396216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5:41:17Z</dcterms:created>
  <dc:creator>Admin</dc:creator>
  <dc:description/>
  <dc:language>en-US</dc:language>
  <cp:lastModifiedBy>Ольга</cp:lastModifiedBy>
  <dcterms:modified xsi:type="dcterms:W3CDTF">2014-04-24T07:32:03Z</dcterms:modified>
  <cp:revision>21</cp:revision>
  <dc:subject/>
  <dc:title>Муниципальное бюджетное дошкольное образовательное учреждение «Детский сад общеобразовательного вида «Алтынчеч» города Буинска Буинского района Республики Татарстан</dc:title>
</cp:coreProperties>
</file>