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ABC-9EC8-4CA3-98C6-7CB03910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B5C-8D88-42DE-A234-3454E7DD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C72-40EA-43BD-AE80-B8ECBD7F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819-42DB-4D11-BC47-432269E1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39C-5620-464B-89DE-458D54D0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AB1-E946-4335-9F57-43BE1736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CF5-62E2-49DA-A08B-C0492B71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FB7-EB65-4971-858F-AA98448B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E093-B113-48EC-B9C6-7159FA83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8C2-1A30-4C5A-A1F2-2CB27C14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02F-2525-41F4-A0B1-AB862F8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27C-4E5C-468D-A245-E06C1FA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3E1-8FB7-4707-87AC-9AD115E1EB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395280" y="1700280"/>
            <a:ext cx="81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108000" y="119160"/>
            <a:ext cx="889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униципальное казённое дошколь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Детский сад общеразвивающего вида «Солшышко»</a:t>
            </a:r>
            <a:br>
              <a:rPr sz="28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Боровиха Первомайского района Алтай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оек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«Здоровый образ жизни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826920" y="350028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0"/>
          <p:cNvSpPr/>
          <p:nvPr/>
        </p:nvSpPr>
        <p:spPr>
          <a:xfrm>
            <a:off x="1908000" y="3860640"/>
            <a:ext cx="6624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тели: Семёнова И.В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гулина А.А.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7e7ff"/>
                </a:solidFill>
                <a:latin typeface="Arial"/>
              </a:rPr>
              <a:t>Физкультминутки</a:t>
            </a: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 на занятиях умственной деятельностью применяются с целью предупреждения утомления на занятии. Используются пособия: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массажер «Орешки»,»Бильбоке»</a:t>
            </a:r>
            <a:br>
              <a:rPr sz="1400"/>
            </a:br>
            <a:r>
              <a:rPr b="0" lang="ru-RU" sz="1400" spc="-1" strike="noStrike">
                <a:solidFill>
                  <a:srgbClr val="b7e7ff"/>
                </a:solidFill>
                <a:latin typeface="Arial"/>
              </a:rPr>
              <a:t>Цель:Развитие ловкости,внимания, глазомера, быстроты реакции, формирование навыков самоконтроля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6" descr="SDC14047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3" name="Picture 7" descr="SDC14051"/>
          <p:cNvPicPr/>
          <p:nvPr/>
        </p:nvPicPr>
        <p:blipFill>
          <a:blip r:embed="rId2"/>
          <a:stretch/>
        </p:blipFill>
        <p:spPr>
          <a:xfrm>
            <a:off x="465120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b7e7ff"/>
                </a:solidFill>
                <a:latin typeface="Arial"/>
              </a:rPr>
              <a:t>Гимнастика после дневного сна </a:t>
            </a: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 в сочетании с контрастными воздушными ваннами помогает улучшить настроение детей, поднять мышечный тонус, способствует профилактике  нарушений стопы. 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Массажные коврики «Калейдоскоп»,»Сосновые шишки»</a:t>
            </a:r>
            <a:br>
              <a:rPr sz="1300"/>
            </a:br>
            <a:r>
              <a:rPr b="0" lang="ru-RU" sz="1300" spc="-1" strike="noStrike">
                <a:solidFill>
                  <a:srgbClr val="b7e7ff"/>
                </a:solidFill>
                <a:latin typeface="Arial"/>
              </a:rPr>
              <a:t>Цель:профилактика плоскостопия.</a:t>
            </a:r>
            <a:endParaRPr b="0" lang="en-US" sz="13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5" name="Picture 7" descr="SDC14024"/>
          <p:cNvPicPr/>
          <p:nvPr/>
        </p:nvPicPr>
        <p:blipFill>
          <a:blip r:embed="rId1"/>
          <a:stretch/>
        </p:blipFill>
        <p:spPr>
          <a:xfrm>
            <a:off x="352440" y="1676520"/>
            <a:ext cx="4087800" cy="4422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6" name="Picture 8" descr="SDC14019"/>
          <p:cNvPicPr/>
          <p:nvPr/>
        </p:nvPicPr>
        <p:blipFill>
          <a:blip r:embed="rId2"/>
          <a:stretch/>
        </p:blipFill>
        <p:spPr>
          <a:xfrm rot="3616200">
            <a:off x="5792040" y="1560960"/>
            <a:ext cx="2914560" cy="218592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7" name="Picture 9" descr="SDC14025"/>
          <p:cNvPicPr/>
          <p:nvPr/>
        </p:nvPicPr>
        <p:blipFill>
          <a:blip r:embed="rId3"/>
          <a:stretch/>
        </p:blipFill>
        <p:spPr>
          <a:xfrm>
            <a:off x="5230800" y="396252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Питание </a:t>
            </a:r>
            <a:r>
              <a:rPr b="1" lang="ru-RU" sz="1600" spc="-1" strike="noStrike">
                <a:solidFill>
                  <a:srgbClr val="b7e7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это одно из важнейших условий существования человека, сохранения его здоровья и трудоспособности.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Вот и полдник подошел,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Сели дети все за стол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7" descr="SDC14056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20" name="Picture 8" descr="SDC14057"/>
          <p:cNvPicPr/>
          <p:nvPr/>
        </p:nvPicPr>
        <p:blipFill>
          <a:blip r:embed="rId2"/>
          <a:stretch/>
        </p:blipFill>
        <p:spPr>
          <a:xfrm>
            <a:off x="465120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едполагаемые результаты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дет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представления о З О 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двигательной актив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ес к занятиям физического разви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одител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дение культурно-гигиеническими навы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влечение всех родителей в работу над проек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новых форм и методов работы с родителями в работе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571760"/>
            <a:ext cx="854064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тандартное оборудование стимулирует интерес детей, желание двигаться, участвовать в играх; вызывает радость и положительные эмо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тандартное оборудование объединяет физкультуру с игрой, что создает условия для наиболее полного самовыражения ребенка в двигательн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ярких цветных пособий повышает у детей интерес к занятиям, придает им необходимую эмоциональную окрас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учить ребёнка быть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здоровым душой и телом,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тремиться творить свое здоровье, применяя знания 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мения в согласии с законами природы и бытия.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46" name="Группа 27"/>
          <p:cNvGrpSpPr/>
          <p:nvPr/>
        </p:nvGrpSpPr>
        <p:grpSpPr>
          <a:xfrm>
            <a:off x="755640" y="2205000"/>
            <a:ext cx="7531200" cy="4438800"/>
            <a:chOff x="755640" y="2205000"/>
            <a:chExt cx="7531200" cy="4438800"/>
          </a:xfrm>
        </p:grpSpPr>
        <p:grpSp>
          <p:nvGrpSpPr>
            <p:cNvPr id="47" name="Овал 10"/>
            <p:cNvGrpSpPr/>
            <p:nvPr/>
          </p:nvGrpSpPr>
          <p:grpSpPr>
            <a:xfrm>
              <a:off x="3021480" y="3862080"/>
              <a:ext cx="2824920" cy="1336320"/>
              <a:chOff x="3021480" y="3862080"/>
              <a:chExt cx="2824920" cy="1336320"/>
            </a:xfrm>
          </p:grpSpPr>
          <p:pic>
            <p:nvPicPr>
              <p:cNvPr id="48" name="Овал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021480" y="3862080"/>
                <a:ext cx="2824920" cy="13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>
                <a:off x="3471120" y="4071600"/>
                <a:ext cx="1920960" cy="86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00"/>
                    </a:solidFill>
                    <a:latin typeface="Arial"/>
                  </a:rPr>
                  <a:t>Участник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00"/>
                    </a:solidFill>
                    <a:latin typeface="Arial"/>
                  </a:rPr>
                  <a:t>проект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" name="Скругленный прямоугольник 11"/>
            <p:cNvGrpSpPr/>
            <p:nvPr/>
          </p:nvGrpSpPr>
          <p:grpSpPr>
            <a:xfrm>
              <a:off x="1476720" y="5664240"/>
              <a:ext cx="2193840" cy="979560"/>
              <a:chOff x="1476720" y="5664240"/>
              <a:chExt cx="2193840" cy="979560"/>
            </a:xfrm>
          </p:grpSpPr>
          <p:pic>
            <p:nvPicPr>
              <p:cNvPr id="51" name="Скругленный прямоугольник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1476720" y="5664240"/>
                <a:ext cx="2193840" cy="9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575720" y="5737320"/>
                <a:ext cx="199836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Воспитатели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Скругленный прямоугольник 13"/>
            <p:cNvGrpSpPr/>
            <p:nvPr/>
          </p:nvGrpSpPr>
          <p:grpSpPr>
            <a:xfrm>
              <a:off x="6189120" y="3571560"/>
              <a:ext cx="2097720" cy="973440"/>
              <a:chOff x="6189120" y="3571560"/>
              <a:chExt cx="2097720" cy="973440"/>
            </a:xfrm>
          </p:grpSpPr>
          <p:pic>
            <p:nvPicPr>
              <p:cNvPr id="54" name="Скругленный прямоугольник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89120" y="3571560"/>
                <a:ext cx="209772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6284520" y="3645360"/>
                <a:ext cx="190836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Родител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Скругленный прямоугольник 14"/>
            <p:cNvGrpSpPr/>
            <p:nvPr/>
          </p:nvGrpSpPr>
          <p:grpSpPr>
            <a:xfrm>
              <a:off x="755640" y="3571560"/>
              <a:ext cx="1941480" cy="973440"/>
              <a:chOff x="755640" y="3571560"/>
              <a:chExt cx="1941480" cy="973440"/>
            </a:xfrm>
          </p:grpSpPr>
          <p:pic>
            <p:nvPicPr>
              <p:cNvPr id="57" name="Скругленный прямоугольник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755640" y="3571560"/>
                <a:ext cx="194148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851400" y="3645360"/>
                <a:ext cx="174924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Воспитанники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Скругленный прямоугольник 15"/>
            <p:cNvGrpSpPr/>
            <p:nvPr/>
          </p:nvGrpSpPr>
          <p:grpSpPr>
            <a:xfrm>
              <a:off x="5371920" y="5591520"/>
              <a:ext cx="2247840" cy="979560"/>
              <a:chOff x="5371920" y="5591520"/>
              <a:chExt cx="2247840" cy="979560"/>
            </a:xfrm>
          </p:grpSpPr>
          <p:pic>
            <p:nvPicPr>
              <p:cNvPr id="60" name="Скругленный прямоугольник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371920" y="5591520"/>
                <a:ext cx="2247840" cy="9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70200" y="5664960"/>
                <a:ext cx="2052360" cy="78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Медицинский персонал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Скругленный прямоугольник 16"/>
            <p:cNvGrpSpPr/>
            <p:nvPr/>
          </p:nvGrpSpPr>
          <p:grpSpPr>
            <a:xfrm>
              <a:off x="3201840" y="2205000"/>
              <a:ext cx="2368080" cy="973440"/>
              <a:chOff x="3201840" y="2205000"/>
              <a:chExt cx="2368080" cy="973440"/>
            </a:xfrm>
          </p:grpSpPr>
          <p:pic>
            <p:nvPicPr>
              <p:cNvPr id="63" name="Скругленный прямоугольник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1840" y="2205000"/>
                <a:ext cx="236808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3296160" y="2275560"/>
                <a:ext cx="2180160" cy="78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52"/>
                    </a:solidFill>
                    <a:latin typeface="Arial"/>
                  </a:rPr>
                  <a:t>Администрация детского сад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5" name="Picture 45" descr=""/>
            <p:cNvPicPr/>
            <p:nvPr/>
          </p:nvPicPr>
          <p:blipFill>
            <a:blip r:embed="rId7"/>
            <a:stretch/>
          </p:blipFill>
          <p:spPr>
            <a:xfrm rot="19639200">
              <a:off x="1720440" y="2628360"/>
              <a:ext cx="151524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5" descr=""/>
            <p:cNvPicPr/>
            <p:nvPr/>
          </p:nvPicPr>
          <p:blipFill>
            <a:blip r:embed="rId8"/>
            <a:stretch/>
          </p:blipFill>
          <p:spPr>
            <a:xfrm rot="1953000">
              <a:off x="5532840" y="2636640"/>
              <a:ext cx="1556640" cy="94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5" descr=""/>
            <p:cNvPicPr/>
            <p:nvPr/>
          </p:nvPicPr>
          <p:blipFill>
            <a:blip r:embed="rId9"/>
            <a:stretch/>
          </p:blipFill>
          <p:spPr>
            <a:xfrm rot="14567400">
              <a:off x="1305720" y="4495680"/>
              <a:ext cx="12315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5" descr=""/>
            <p:cNvPicPr/>
            <p:nvPr/>
          </p:nvPicPr>
          <p:blipFill>
            <a:blip r:embed="rId10"/>
            <a:stretch/>
          </p:blipFill>
          <p:spPr>
            <a:xfrm rot="7120200">
              <a:off x="6256080" y="4403520"/>
              <a:ext cx="1177560" cy="11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45" descr=""/>
            <p:cNvPicPr/>
            <p:nvPr/>
          </p:nvPicPr>
          <p:blipFill>
            <a:blip r:embed="rId11"/>
            <a:stretch/>
          </p:blipFill>
          <p:spPr>
            <a:xfrm rot="10800000">
              <a:off x="3706920" y="5694480"/>
              <a:ext cx="162972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-4284720" y="1557360"/>
            <a:ext cx="180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571680"/>
            <a:ext cx="77752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«Забота о здоровье - важнейшая работа воспитателя. От жизнерадостности, бодрости детей зависит их духовная жизнь, мировоззрение, умственное развитие, прочность знаний, вера в свои силы.»                                                                                 В. Сухомлинский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428760" y="17859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уальность т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0" y="238608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многообразных факторов, влияющих на состояние здоровья и работоспособность растущего организма, двигательная активность – это естественная потребность в движении, удовлетворение которой является важнейшим условием всестороннего развития и воспитания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2286000" y="428616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оритеты в режиме дня принадлежат физкультурно-оздоровительной  деятельности. К ним относятся такие виды двигательной деятельности: утренняя гимнастика, подвижные игры и физические упражнения во время прогулок, занятия, физкультминутки на занятиях с умственной нагрузкой и т.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4"/>
          <p:cNvSpPr/>
          <p:nvPr/>
        </p:nvSpPr>
        <p:spPr>
          <a:xfrm>
            <a:off x="395280" y="1700280"/>
            <a:ext cx="81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826920" y="3500280"/>
            <a:ext cx="18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Diagram 20"/>
          <p:cNvGrpSpPr/>
          <p:nvPr/>
        </p:nvGrpSpPr>
        <p:grpSpPr>
          <a:xfrm>
            <a:off x="3654360" y="2087640"/>
            <a:ext cx="5313600" cy="4719240"/>
            <a:chOff x="3654360" y="2087640"/>
            <a:chExt cx="5313600" cy="4719240"/>
          </a:xfrm>
        </p:grpSpPr>
        <p:sp>
          <p:nvSpPr>
            <p:cNvPr id="78" name="_s1028"/>
            <p:cNvSpPr/>
            <p:nvPr/>
          </p:nvSpPr>
          <p:spPr>
            <a:xfrm flipH="1" flipV="1">
              <a:off x="5029920" y="3855240"/>
              <a:ext cx="64188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029"/>
            <p:cNvSpPr/>
            <p:nvPr/>
          </p:nvSpPr>
          <p:spPr>
            <a:xfrm>
              <a:off x="3654360" y="2972880"/>
              <a:ext cx="1475280" cy="117900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Исследов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_s1030"/>
            <p:cNvSpPr/>
            <p:nvPr/>
          </p:nvSpPr>
          <p:spPr>
            <a:xfrm flipH="1">
              <a:off x="5029920" y="4740480"/>
              <a:ext cx="64188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031"/>
            <p:cNvSpPr/>
            <p:nvPr/>
          </p:nvSpPr>
          <p:spPr>
            <a:xfrm>
              <a:off x="3656160" y="4744080"/>
              <a:ext cx="1475280" cy="11790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рганизац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032"/>
            <p:cNvSpPr/>
            <p:nvPr/>
          </p:nvSpPr>
          <p:spPr>
            <a:xfrm>
              <a:off x="6310080" y="5034240"/>
              <a:ext cx="0" cy="59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5575680" y="5627880"/>
              <a:ext cx="1475280" cy="1179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entury Schoolbook"/>
                  <a:ea typeface="Arial"/>
                </a:rPr>
                <a:t>Воспита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6948000" y="4740480"/>
              <a:ext cx="64152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_s1035"/>
            <p:cNvSpPr/>
            <p:nvPr/>
          </p:nvSpPr>
          <p:spPr>
            <a:xfrm>
              <a:off x="7492680" y="4740480"/>
              <a:ext cx="1475280" cy="11790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Профилак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036"/>
            <p:cNvSpPr/>
            <p:nvPr/>
          </p:nvSpPr>
          <p:spPr>
            <a:xfrm flipV="1">
              <a:off x="6948000" y="3855240"/>
              <a:ext cx="641520" cy="29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37"/>
            <p:cNvSpPr/>
            <p:nvPr/>
          </p:nvSpPr>
          <p:spPr>
            <a:xfrm>
              <a:off x="7490880" y="2971440"/>
              <a:ext cx="1475280" cy="11790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Диагности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_s1038"/>
            <p:cNvSpPr/>
            <p:nvPr/>
          </p:nvSpPr>
          <p:spPr>
            <a:xfrm flipV="1">
              <a:off x="6310080" y="3264480"/>
              <a:ext cx="0" cy="59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5573880" y="2087640"/>
              <a:ext cx="1475280" cy="117900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бучени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040"/>
            <p:cNvSpPr/>
            <p:nvPr/>
          </p:nvSpPr>
          <p:spPr>
            <a:xfrm>
              <a:off x="5573880" y="3858840"/>
              <a:ext cx="1475280" cy="11790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Основ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направл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Схема 18" descr=""/>
          <p:cNvPicPr/>
          <p:nvPr/>
        </p:nvPicPr>
        <p:blipFill>
          <a:blip r:embed="rId1"/>
          <a:stretch/>
        </p:blipFill>
        <p:spPr>
          <a:xfrm>
            <a:off x="-890640" y="2103480"/>
            <a:ext cx="5389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3"/>
          <p:cNvSpPr/>
          <p:nvPr/>
        </p:nvSpPr>
        <p:spPr>
          <a:xfrm>
            <a:off x="1000080" y="12384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сследовательская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3635280" y="1125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067280" y="486900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6"/>
          <p:cNvSpPr/>
          <p:nvPr/>
        </p:nvSpPr>
        <p:spPr>
          <a:xfrm>
            <a:off x="179280" y="692280"/>
            <a:ext cx="5178600" cy="29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веде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ниторинг здоровь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следование жилищно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товых усло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кетирование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ческое обслед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714760" y="4214880"/>
            <a:ext cx="5857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 результатам созданы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  физкультминуток, утренней и бодрящей гимна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ланируем созд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аспорт здоровья групп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Дневник здоровья воспитанни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32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офилактика переутомления на занятиях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713880"/>
            <a:ext cx="89298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ение периода адаптации к содержанию материала в начале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ый ритм и темп заня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моциональность, артистизм педаго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нообразие видов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приемов поощрения, подбадри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ование нестандартных заня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динамических пау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142920"/>
            <a:ext cx="809136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доровьесберегающие технологии решают задачи рациональной организации образовательного процесс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4200" y="1700280"/>
            <a:ext cx="48578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ансеризация воспитан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актические приви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двигательн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таминиза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оприятия в период повышенной заболеваемости  ОРВИ, эпидемии грипп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жим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7e7ff"/>
                </a:solidFill>
                <a:latin typeface="Arial"/>
              </a:rPr>
              <a:t>Утренняя гимнастика</a:t>
            </a: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 направлена на поднятие эмоционального и мышечного тонуса детей. Применяем на утренней гимнастике различные пособия.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Например:  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«Веселая веревка»</a:t>
            </a:r>
            <a:br>
              <a:rPr sz="1600"/>
            </a:br>
            <a:r>
              <a:rPr b="0" lang="ru-RU" sz="1600" spc="-1" strike="noStrike">
                <a:solidFill>
                  <a:srgbClr val="b7e7ff"/>
                </a:solidFill>
                <a:latin typeface="Arial"/>
              </a:rPr>
              <a:t>Цель: Развитие равновесия, координации движения.</a:t>
            </a:r>
            <a:endParaRPr b="0" lang="en-US" sz="1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7" descr="SDC14026"/>
          <p:cNvPicPr/>
          <p:nvPr/>
        </p:nvPicPr>
        <p:blipFill>
          <a:blip r:embed="rId1"/>
          <a:stretch/>
        </p:blipFill>
        <p:spPr>
          <a:xfrm>
            <a:off x="301680" y="2406600"/>
            <a:ext cx="4191120" cy="296244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4" name="Picture 9" descr="SDC14028"/>
          <p:cNvPicPr/>
          <p:nvPr/>
        </p:nvPicPr>
        <p:blipFill>
          <a:blip r:embed="rId2"/>
          <a:stretch/>
        </p:blipFill>
        <p:spPr>
          <a:xfrm rot="21268200">
            <a:off x="5292360" y="4365360"/>
            <a:ext cx="2916360" cy="21873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5" name="Picture 13" descr="SDC14029"/>
          <p:cNvPicPr/>
          <p:nvPr/>
        </p:nvPicPr>
        <p:blipFill>
          <a:blip r:embed="rId3"/>
          <a:stretch/>
        </p:blipFill>
        <p:spPr>
          <a:xfrm rot="337200">
            <a:off x="5319720" y="1983960"/>
            <a:ext cx="3027240" cy="225288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«Змея», «Кочки»</a:t>
            </a:r>
            <a:br>
              <a:rPr sz="20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Использование: для различного вида ходьбы, бега, прыжков. 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Цель: развитие ловкости, координации движения, равновес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7" descr="SDC14032"/>
          <p:cNvPicPr/>
          <p:nvPr/>
        </p:nvPicPr>
        <p:blipFill>
          <a:blip r:embed="rId1"/>
          <a:stretch/>
        </p:blipFill>
        <p:spPr>
          <a:xfrm rot="21013800">
            <a:off x="885960" y="1676160"/>
            <a:ext cx="3027240" cy="21351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8" name="Picture 8" descr="SDC14040"/>
          <p:cNvPicPr/>
          <p:nvPr/>
        </p:nvPicPr>
        <p:blipFill>
          <a:blip r:embed="rId2"/>
          <a:stretch/>
        </p:blipFill>
        <p:spPr>
          <a:xfrm rot="21336000">
            <a:off x="5230800" y="1676520"/>
            <a:ext cx="3032280" cy="213516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09" name="Picture 11" descr="SDC14042"/>
          <p:cNvPicPr/>
          <p:nvPr/>
        </p:nvPicPr>
        <p:blipFill>
          <a:blip r:embed="rId3"/>
          <a:stretch/>
        </p:blipFill>
        <p:spPr>
          <a:xfrm rot="352200">
            <a:off x="880920" y="396252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  <p:pic>
        <p:nvPicPr>
          <p:cNvPr id="110" name="Picture 12" descr="SDC14044"/>
          <p:cNvPicPr/>
          <p:nvPr/>
        </p:nvPicPr>
        <p:blipFill>
          <a:blip r:embed="rId4"/>
          <a:stretch/>
        </p:blipFill>
        <p:spPr>
          <a:xfrm rot="20722800">
            <a:off x="5230440" y="3962160"/>
            <a:ext cx="3032280" cy="2136600"/>
          </a:xfrm>
          <a:prstGeom prst="rect">
            <a:avLst/>
          </a:prstGeom>
          <a:ln w="38160">
            <a:solidFill>
              <a:srgbClr val="0000a4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5:41:17Z</dcterms:created>
  <dc:creator>Admin</dc:creator>
  <dc:description/>
  <dc:language>en-US</dc:language>
  <cp:lastModifiedBy>Ольга</cp:lastModifiedBy>
  <dcterms:modified xsi:type="dcterms:W3CDTF">2014-04-24T07:32:03Z</dcterms:modified>
  <cp:revision>21</cp:revision>
  <dc:subject/>
  <dc:title>Муниципальное бюджетное дошкольное образовательное учреждение «Детский сад общеобразовательного вида «Алтынчеч» города Буинска Буинского района Республики Татарстан</dc:title>
</cp:coreProperties>
</file>