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clap.wav" ContentType="audio/x-wav"/>
  <Override PartName="/ppt/media/image16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724-6CAF-46B5-B24B-D47C9BBE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262-133F-482F-926C-7B2E8B1B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5DD-9162-4C0D-B364-50E1334D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E80-4BDC-4955-8C2F-DA92A132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3DA5-7B07-4D4B-8A30-4DF03553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8BD9-2DC5-4486-A3A5-42D2F2F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2EB8-A8E3-4687-8A48-0E90D2FE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C3D3-32D5-4F7D-B09C-6F7DEB6A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E7E5-598C-49D7-AFA2-1F3DE978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E15C-E956-4CDC-AFA3-4AD3DE6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DF3E-BC8E-4342-8302-EA6B856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7E5-4AB5-4394-BE0C-BBDF2019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7830-F7D2-4D4B-803C-0B70EA7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F62E-D86E-49C3-BE90-25BCCB0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72E9-CEFF-4724-BD92-38D066EA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1D15-0CB7-4183-B37A-6E9C898F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29A6-31DA-4ABF-BCA2-1B3B0D5B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B5C-E910-42FE-92AD-1C3AFAD5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3E9-F4E4-4817-9A2E-CA14E425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EF1-622A-4C3D-B09F-C54B491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86C-21C9-45EF-B9BF-6C95826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3A3-8830-4CAC-ADFA-B5D041F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1BF-8C6D-4E3C-ADEA-015DC90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496-36C0-4E14-B7AE-064B807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7182-7272-43E5-9524-5DDA2660EF1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C0BF-676C-4054-81F3-91F5EBE05FF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доровье, музыка и 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73216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данова Оль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в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У «Гимназия №48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учный руководитель: учитель технологии высшей катег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айдамака Людмила Васи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565360"/>
            <a:ext cx="2737080" cy="22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ву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человеческим ух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47628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501336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вуково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425400">
            <a:off x="3973320" y="1003320"/>
            <a:ext cx="792000" cy="2185920"/>
          </a:xfrm>
          <a:prstGeom prst="upArrow">
            <a:avLst>
              <a:gd name="adj1" fmla="val 50000"/>
              <a:gd name="adj2" fmla="val 69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6883800">
            <a:off x="3900240" y="4027320"/>
            <a:ext cx="792360" cy="2185920"/>
          </a:xfrm>
          <a:prstGeom prst="upArrow">
            <a:avLst>
              <a:gd name="adj1" fmla="val 50000"/>
              <a:gd name="adj2" fmla="val 6896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476240" y="2732040"/>
            <a:ext cx="792360" cy="1754280"/>
          </a:xfrm>
          <a:prstGeom prst="upArrow">
            <a:avLst>
              <a:gd name="adj1" fmla="val 50000"/>
              <a:gd name="adj2" fmla="val 5535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708280"/>
            <a:ext cx="2664000" cy="165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59640" y="112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227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7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39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348000" y="4581360"/>
            <a:ext cx="278784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005360"/>
            <a:ext cx="165564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781360"/>
            <a:ext cx="1584360" cy="93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ром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700280"/>
            <a:ext cx="1584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иб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1268280"/>
            <a:ext cx="165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зона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2492280"/>
            <a:ext cx="165564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1557360"/>
            <a:ext cx="158436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371628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7787600">
            <a:off x="2476080" y="437292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528000">
            <a:off x="2586960" y="303732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282200">
            <a:off x="3189240" y="250308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276640"/>
            <a:ext cx="515880" cy="2125440"/>
          </a:xfrm>
          <a:prstGeom prst="upArrow">
            <a:avLst>
              <a:gd name="adj1" fmla="val 50000"/>
              <a:gd name="adj2" fmla="val 1030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60800">
            <a:off x="5435280" y="234900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617200">
            <a:off x="6186600" y="289404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3327000">
            <a:off x="6435720" y="4157280"/>
            <a:ext cx="482400" cy="898560"/>
          </a:xfrm>
          <a:prstGeom prst="upArrow">
            <a:avLst>
              <a:gd name="adj1" fmla="val 50000"/>
              <a:gd name="adj2" fmla="val 465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486900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515772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ыс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230200">
            <a:off x="6508440" y="509256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383000">
            <a:off x="2403360" y="509220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9960" y="33336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Характеристики музыкального зв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Живой организм состоит на 90% из воды и поэтому положительное влияние классической музыки подтверждают исследования японского учёного Эмото Масару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682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н провел исследования  кристаллизации воды с различной степенью загрязнения, при воздействии на воду классической и рок музыки, агрессивными и позитивными фраз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4170" b="7190"/>
          <a:stretch/>
        </p:blipFill>
        <p:spPr>
          <a:xfrm>
            <a:off x="611280" y="2492280"/>
            <a:ext cx="3600360" cy="3232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0" t="2521" r="0" b="3120"/>
          <a:stretch/>
        </p:blipFill>
        <p:spPr>
          <a:xfrm>
            <a:off x="5435640" y="2565360"/>
            <a:ext cx="3403440" cy="32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7560" y="595008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одный танец кав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3440" y="5950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.Бетхов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941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представленных снимков видно, что идеальную кристаллизацию даёт вода, на которую оказала влияние народная и классическая му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392" b="5347"/>
          <a:stretch/>
        </p:blipFill>
        <p:spPr>
          <a:xfrm>
            <a:off x="539640" y="333360"/>
            <a:ext cx="3745080" cy="347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0" r="1091" b="7250"/>
          <a:stretch/>
        </p:blipFill>
        <p:spPr>
          <a:xfrm>
            <a:off x="5003640" y="404640"/>
            <a:ext cx="3745080" cy="3434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97000" y="40194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.А.Моц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7240" y="4221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С.Б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1865" b="3394"/>
          <a:stretch/>
        </p:blipFill>
        <p:spPr>
          <a:xfrm>
            <a:off x="2627280" y="1700280"/>
            <a:ext cx="4826160" cy="4645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074320" y="549360"/>
            <a:ext cx="60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отическая кристаллизация во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рослушавшей» «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vy metal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ной сделан анализ изменения частоты пульса после прослушивания произведения Г.Свиридова «Время, вперёд!»неподготовленных слушателей.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Количество респондентов 11 человек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375" t="1358" r="6576" b="4873"/>
          <a:stretch/>
        </p:blipFill>
        <p:spPr>
          <a:xfrm>
            <a:off x="2195640" y="1989000"/>
            <a:ext cx="5040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, показало: образцы, которые подвергались воздействию тонизирующей музыкой ежедневно в течение часа, растут намного активнее, а ростки фасоли регулярно «слушающие» музыку, проросли раньше на 2 дня. Следовательно, мне удалось подтвердить положительное влияние классической музыки на рост жив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525636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Проведённый среди  50 учащихся мониторинг выявил следующее: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вопрос «Какую музыку вы хотели бы слушать во время перемен?» учащиеся ответили следующим образом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1341" b="3912"/>
          <a:stretch/>
        </p:blipFill>
        <p:spPr>
          <a:xfrm>
            <a:off x="2340000" y="1916280"/>
            <a:ext cx="4896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На вопрос: «Чувствуете ли вы эмоциональный комфорт, слушая классическую музыку во время перемен?» ответы распределились так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5531"/>
          <a:stretch/>
        </p:blipFill>
        <p:spPr>
          <a:xfrm>
            <a:off x="2124000" y="1773360"/>
            <a:ext cx="511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сновании рекомендаций проф. Шушарджана С.А. по применению музыки в релаксационных целях, я подобрала музыкальный материал для прослушивания во время перемен. Список составлен с учётом имеющихся  у записей и представлен в приложении к рабо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60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ах технологии я обратила внимание на постоянное звучание классической музыки во время выполнения практических работ. На вопрос, заданный учителю, получила ответ, что музыка композиторов-классиков позитивно влияет на эмоциональное состояние человека. Обратилась к работам музыкальных психологов и врачей, исследовавших эту проблему. Изученный материал навёл на мысль о профилактике эмоциональной усталости во время занятий в гимназии, а проведённые исследования, укрепили в решении создания данной работы. Проблема актуальна, так как позволяет выбрать один из способов сохранения позитивного психоэмоционального самочувствия в экстремальных  условиях проживания на Крайнем Севе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ключение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596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так, в современных условиях, когда человек подвержен частым стрессам, широко применяется воздействие музыкой на психоэмоциональную сферу. Учеными исследовано положительное влияние классической музыки на организм, подтверждено экспериментально и даны рекомендации по применению музыкального материала в различных целях. Изучая эти сведения я обогатила свои знания в области музыки, физиологии человека, физики,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 позволило убедиться в позитивном влиянии музыки на человека и растения. Проведённый среди учащихся мониторинг показал, что звучание классической музыки во время перемен имеет положительный эффект. Подобранный  музыкальный материал можно прослушивать на уроках изобразите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ние лучших образцов мировой музыкальной культуры будет способствовать повышению общего уровня культуры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155400" y="60357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С.Бах Ш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80095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7999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Цель работы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сследование воздействия музыки на живой организм, подбор музыкального материала для прослушивания во время перем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Задачи исследо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на основе изучения литературы познакомиться с технологией использования лучших образцов классической музыки для создания эмоционального комфорта и релаксации учащихся во время учебного процесса, основываясь на результатах проведённых наблюдений, сделать оптимальный выбор музыкальных произведений для прослуши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Объек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растения,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Предме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реакция живого организма на воздействие музы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3695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чебное применение музыки имеет многовековую историю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ид, одухотворенно играя на лютне, излечил Саула от нервной депресс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ифагор применял музыку во время занятий математикой, так как считал, что она благотворно влияет на интелл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ристотель считал музыку средством не только лечения, но и очищения души. И богиня древних римлян Минерва с равной благосклонностью покровительствовала и музыкантам, и врач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древнейшие учения земных цивилизаций содержат накопленный тысячелетиями опыт положительного воздействия музыки на растения, животных и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1640" y="503280"/>
            <a:ext cx="2523960" cy="635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3789360"/>
            <a:ext cx="1812960" cy="237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1780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914720" y="260280"/>
            <a:ext cx="3695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ытки научного осмысления механизма воздействия музыки на человека стали предприниматься в конц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 Появляются данные о благотворном влиянии музыки на центральную нервную систему, дыхание, кровообращение. Отмечается стимулирующее воздействие маршевой музыки на мышечную работоспособность уставших солдат, а мелодии доставляющие человеку радость, замедляют пульс, способствуют расширению сосудов и нормализуют артериальное д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55480" y="474012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Дворжак «Славянский танец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33704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С помощью медицинского работника гимназии был сделан анализ заболеваемости учащихся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5157360"/>
            <a:ext cx="72072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к видим, большой процент заболеваний нервной системы, глаз, органов пищеварения. Хорошо известно, что эти болезни, а так же утомляемость, усталость, вызываются испытываемым эмоциональным состоянием. Музыка же способна вызвать массу положительных эмоций, способствуя созданию эмоционального комфорта чело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71640" y="836640"/>
          <a:ext cx="39769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836640"/>
                    <a:ext cx="39769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Психика реагирует на музыку даже тогда, когда мы ,жуя бутерброд или читая книгу, привычно включаем вполголоса магнитофон и, практически не замечая воздействия музыкальных звуков, осуществляем какую-либо свою деятельность на фоне ненавязчивых мелод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960" y="306864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35640" y="299736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19486800">
            <a:off x="3368160" y="2727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1397400">
            <a:off x="5866920" y="2276280"/>
            <a:ext cx="824040" cy="81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 rot="2328600">
            <a:off x="1476360" y="2205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 rot="20565000">
            <a:off x="7164000" y="2276280"/>
            <a:ext cx="824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7704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Музыка – это, прежде всего звук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вук, как физическое явление –  это упругие колебания и волны, возникающие и распространяющиеся в газах, жидкостях и твёрдых телах, воспринимаемые человеческим ух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ound"/>
          <p:cNvSpPr/>
          <p:nvPr/>
        </p:nvSpPr>
        <p:spPr>
          <a:xfrm rot="11926800">
            <a:off x="5508360" y="2348640"/>
            <a:ext cx="2952720" cy="374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2276640"/>
            <a:ext cx="2448000" cy="201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в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человечески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ух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1700280"/>
            <a:ext cx="71640" cy="576360"/>
          </a:xfrm>
          <a:prstGeom prst="upArrow">
            <a:avLst>
              <a:gd name="adj1" fmla="val 50000"/>
              <a:gd name="adj2" fmla="val 20113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33360"/>
            <a:ext cx="21607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льтра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2050560" y="436572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5157720"/>
            <a:ext cx="216072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нфра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33360"/>
            <a:ext cx="4319640" cy="35892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70812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высокий звук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принимаемый человеческим ух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няется в медицине с лечебной цел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6093000"/>
            <a:ext cx="4032000" cy="360360"/>
          </a:xfrm>
          <a:custGeom>
            <a:avLst/>
            <a:gdLst>
              <a:gd name="textAreaLeft" fmla="*/ 705600 w 4032000"/>
              <a:gd name="textAreaRight" fmla="*/ 2923200 w 40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08560" y="4524480"/>
            <a:ext cx="441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низкий звук не воспринимаем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ловеческим ухом. Вызывает чув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сталости, страха, повышенную раздражим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6:36:16Z</dcterms:created>
  <dc:creator>Бабушка</dc:creator>
  <dc:description/>
  <dc:language>en-US</dc:language>
  <cp:lastModifiedBy>Бабушка</cp:lastModifiedBy>
  <dcterms:modified xsi:type="dcterms:W3CDTF">2007-01-24T15:03:29Z</dcterms:modified>
  <cp:revision>18</cp:revision>
  <dc:subject/>
  <dc:title>Здоровье, музыка и мы</dc:title>
</cp:coreProperties>
</file>