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clap.wav" ContentType="audio/x-wav"/>
  <Override PartName="/ppt/media/image16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D39-2044-45CE-9B42-D379A14C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CFF-B527-4E04-BB2E-AC577D3E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5051-8892-4EA3-8A64-1D0607C9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E25-626A-4892-A517-4AECBF76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040F-AB5A-492E-B439-5A18F64B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5A4A-F760-4A10-93ED-4622B063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66E8-4BF3-43EE-BC50-2FA30FA1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98A4-C9EC-408C-BA7E-B9F80BC5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07D6-BE72-431D-97F7-29D9E553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D28B-661A-482E-A5E6-E4DCA356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8C81-EECA-4E53-8668-38FE6FCE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117-24E7-417B-A42F-2B58F862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96ED-39F2-4C35-865D-DBAAAF6E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3702-B164-4935-A581-66D2F1B7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5BA3-4D06-4442-85D9-56045EF9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76F3-F994-4438-B599-8CDC6D0D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810C-7A62-4604-8A87-3DAA5956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926D-A49C-4907-ADD2-A6C6EBD9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226A-A151-46B9-A0F1-BC84718D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54C-5F45-4A90-92FF-F1CF5851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8AE-C66A-404C-AF60-ED5EB8DC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06E-C20D-4975-8712-FCDF089C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5D85-C362-4096-85D9-4AB3B44D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645-1161-44F9-BCF3-F8CB821F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7801-8120-42CC-A7BC-E6080ABB2C3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3A40-A1F2-47C7-B09D-7D06A1ED09A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7086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доровье, музыка и м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58920" y="2276280"/>
            <a:ext cx="732168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тор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данова Оль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 в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У «Гимназия №48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учный руководитель: учитель технологии высшей категор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айдамака Людмила Василь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00000" y="2565360"/>
            <a:ext cx="2737080" cy="2232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Зву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воспринимаем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человеческим ух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35640" y="476280"/>
            <a:ext cx="2521080" cy="1440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узыкальный зв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64000" y="5013360"/>
            <a:ext cx="2521080" cy="1440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вуковой у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425400">
            <a:off x="3973320" y="1003320"/>
            <a:ext cx="792000" cy="2185920"/>
          </a:xfrm>
          <a:prstGeom prst="upArrow">
            <a:avLst>
              <a:gd name="adj1" fmla="val 50000"/>
              <a:gd name="adj2" fmla="val 69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6883800">
            <a:off x="3900240" y="4027320"/>
            <a:ext cx="792360" cy="2185920"/>
          </a:xfrm>
          <a:prstGeom prst="upArrow">
            <a:avLst>
              <a:gd name="adj1" fmla="val 50000"/>
              <a:gd name="adj2" fmla="val 6896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4476240" y="2732040"/>
            <a:ext cx="792360" cy="1754280"/>
          </a:xfrm>
          <a:prstGeom prst="upArrow">
            <a:avLst>
              <a:gd name="adj1" fmla="val 50000"/>
              <a:gd name="adj2" fmla="val 5535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0360" y="2708280"/>
            <a:ext cx="2664000" cy="1655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у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659640" y="112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227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276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398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348000" y="4581360"/>
            <a:ext cx="2787840" cy="19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Музыкальный зв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4005360"/>
            <a:ext cx="1655640" cy="93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емб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2781360"/>
            <a:ext cx="1584360" cy="93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ромк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7640" y="1700280"/>
            <a:ext cx="1584360" cy="936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ибр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35280" y="1268280"/>
            <a:ext cx="1656000" cy="863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езонан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7080" y="2492280"/>
            <a:ext cx="1655640" cy="792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ем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6000" y="1557360"/>
            <a:ext cx="1584360" cy="863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она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08720" y="3716280"/>
            <a:ext cx="1584360" cy="865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ит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7787600">
            <a:off x="2476080" y="4372920"/>
            <a:ext cx="482760" cy="898560"/>
          </a:xfrm>
          <a:prstGeom prst="upArrow">
            <a:avLst>
              <a:gd name="adj1" fmla="val 50000"/>
              <a:gd name="adj2" fmla="val 465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8528000">
            <a:off x="2586960" y="3037320"/>
            <a:ext cx="506160" cy="1720800"/>
          </a:xfrm>
          <a:prstGeom prst="upArrow">
            <a:avLst>
              <a:gd name="adj1" fmla="val 50000"/>
              <a:gd name="adj2" fmla="val 8499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9282200">
            <a:off x="3189240" y="2503080"/>
            <a:ext cx="514440" cy="1811520"/>
          </a:xfrm>
          <a:prstGeom prst="upArrow">
            <a:avLst>
              <a:gd name="adj1" fmla="val 50000"/>
              <a:gd name="adj2" fmla="val 8803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2276640"/>
            <a:ext cx="515880" cy="2125440"/>
          </a:xfrm>
          <a:prstGeom prst="upArrow">
            <a:avLst>
              <a:gd name="adj1" fmla="val 50000"/>
              <a:gd name="adj2" fmla="val 10300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60800">
            <a:off x="5435280" y="2349000"/>
            <a:ext cx="514440" cy="1811520"/>
          </a:xfrm>
          <a:prstGeom prst="upArrow">
            <a:avLst>
              <a:gd name="adj1" fmla="val 50000"/>
              <a:gd name="adj2" fmla="val 8803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617200">
            <a:off x="6186600" y="2894040"/>
            <a:ext cx="506160" cy="1720800"/>
          </a:xfrm>
          <a:prstGeom prst="upArrow">
            <a:avLst>
              <a:gd name="adj1" fmla="val 50000"/>
              <a:gd name="adj2" fmla="val 8499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3327000">
            <a:off x="6435720" y="4157280"/>
            <a:ext cx="482400" cy="898560"/>
          </a:xfrm>
          <a:prstGeom prst="upArrow">
            <a:avLst>
              <a:gd name="adj1" fmla="val 50000"/>
              <a:gd name="adj2" fmla="val 465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08720" y="4869000"/>
            <a:ext cx="1584360" cy="865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инам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5157720"/>
            <a:ext cx="1584360" cy="865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ыс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5230200">
            <a:off x="6508440" y="5092560"/>
            <a:ext cx="482760" cy="898560"/>
          </a:xfrm>
          <a:prstGeom prst="upArrow">
            <a:avLst>
              <a:gd name="adj1" fmla="val 50000"/>
              <a:gd name="adj2" fmla="val 465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383000">
            <a:off x="2403360" y="5092200"/>
            <a:ext cx="482760" cy="898560"/>
          </a:xfrm>
          <a:prstGeom prst="upArrow">
            <a:avLst>
              <a:gd name="adj1" fmla="val 50000"/>
              <a:gd name="adj2" fmla="val 465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79960" y="333360"/>
            <a:ext cx="62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Характеристики музыкального зву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Живой организм состоит на 90% из воды и поэтому положительное влияние классической музыки подтверждают исследования японского учёного Эмото Масару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682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н провел исследования  кристаллизации воды с различной степенью загрязнения, при воздействии на воду классической и рок музыки, агрессивными и позитивными фраз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4170" b="7190"/>
          <a:stretch/>
        </p:blipFill>
        <p:spPr>
          <a:xfrm>
            <a:off x="611280" y="2492280"/>
            <a:ext cx="3600360" cy="3232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rcRect l="0" t="2521" r="0" b="3120"/>
          <a:stretch/>
        </p:blipFill>
        <p:spPr>
          <a:xfrm>
            <a:off x="5435640" y="2565360"/>
            <a:ext cx="3403440" cy="3211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087560" y="5950080"/>
            <a:ext cx="29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родный танец кава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53440" y="59500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.Бетхов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494172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 представленных снимков видно, что идеальную кристаллизацию даёт вода, на которую оказала влияние народная и классическая музы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392" b="5347"/>
          <a:stretch/>
        </p:blipFill>
        <p:spPr>
          <a:xfrm>
            <a:off x="539640" y="333360"/>
            <a:ext cx="3745080" cy="3479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rcRect l="0" t="0" r="1091" b="7250"/>
          <a:stretch/>
        </p:blipFill>
        <p:spPr>
          <a:xfrm>
            <a:off x="5003640" y="404640"/>
            <a:ext cx="3745080" cy="34340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97000" y="401940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.А.Моца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7240" y="422100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.С.Б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1865" b="3394"/>
          <a:stretch/>
        </p:blipFill>
        <p:spPr>
          <a:xfrm>
            <a:off x="2627280" y="1700280"/>
            <a:ext cx="4826160" cy="4645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074320" y="549360"/>
            <a:ext cx="609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аотическая кристаллизация вод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прослушавшей» «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avy metal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Мной сделан анализ изменения частоты пульса после прослушивания произведения Г.Свиридова «Время, вперёд!»неподготовленных слушателей.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Количество респондентов 11 человек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375" t="1358" r="6576" b="4873"/>
          <a:stretch/>
        </p:blipFill>
        <p:spPr>
          <a:xfrm>
            <a:off x="2195640" y="1989000"/>
            <a:ext cx="50403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115640" y="404640"/>
            <a:ext cx="7543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блюдение за ростом растений, показало: образцы, которые подвергались воздействию тонизирующей музыкой ежедневно в течение часа, растут намного активнее, а ростки фасоли регулярно «слушающие» музыку, проросли раньше на 2 дня. Следовательно, мне удалось подтвердить положительное влияние классической музыки на рост живого организ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525636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Проведённый среди  50 учащихся мониторинг выявил следующее:</a:t>
            </a:r>
            <a:br>
              <a:rPr sz="1800"/>
            </a:b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на вопрос «Какую музыку вы хотели бы слушать во время перемен?» учащиеся ответили следующим образом: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0" t="0" r="1341" b="3912"/>
          <a:stretch/>
        </p:blipFill>
        <p:spPr>
          <a:xfrm>
            <a:off x="2340000" y="1916280"/>
            <a:ext cx="4896000" cy="46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На вопрос: «Чувствуете ли вы эмоциональный комфорт, слушая классическую музыку во время перемен?» ответы распределились так: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5531"/>
          <a:stretch/>
        </p:blipFill>
        <p:spPr>
          <a:xfrm>
            <a:off x="2124000" y="1773360"/>
            <a:ext cx="5112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981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основании рекомендаций проф. Шушарджана С.А. по применению музыки в релаксационных целях, я подобрала музыкальный материал для прослушивания во время перемен. Список составлен с учётом имеющихся  у записей и представлен в приложении к рабо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вед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604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уроках технологии я обратила внимание на постоянное звучание классической музыки во время выполнения практических работ. На вопрос, заданный учителю, получила ответ, что музыка композиторов-классиков позитивно влияет на эмоциональное состояние человека. Обратилась к работам музыкальных психологов и врачей, исследовавших эту проблему. Изученный материал навёл на мысль о профилактике эмоциональной усталости во время занятий в гимназии, а проведённые исследования, укрепили в решении создания данной работы. Проблема актуальна, так как позволяет выбрать один из способов сохранения позитивного психоэмоционального самочувствия в экстремальных  условиях проживания на Крайнем Север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аключение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596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так, в современных условиях, когда человек подвержен частым стрессам, широко применяется воздействие музыкой на психоэмоциональную сферу. Учеными исследовано положительное влияние классической музыки на организм, подтверждено экспериментально и даны рекомендации по применению музыкального материала в различных целях. Изучая эти сведения я обогатила свои знания в области музыки, физиологии человека, физики, биолог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блюдение за ростом растений позволило убедиться в позитивном влиянии музыки на человека и растения. Проведённый среди учащихся мониторинг показал, что звучание классической музыки во время перемен имеет положительный эффект. Подобранный  музыкальный материал можно прослушивать на уроках изобразитель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пользование лучших образцов мировой музыкальной культуры будет способствовать повышению общего уровня культуры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771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155400" y="60357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.С.Бах Шу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2" dur="80095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79992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Цель работы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сследование воздействия музыки на живой организм, подбор музыкального материала для прослушивания во время перем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Задачи исследова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на основе изучения литературы познакомиться с технологией использования лучших образцов классической музыки для создания эмоционального комфорта и релаксации учащихся во время учебного процесса, основываясь на результатах проведённых наблюдений, сделать оптимальный выбор музыкальных произведений для прослуши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Объект исследования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растения, челове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Предмет исследования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реакция живого организма на воздействие музы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36954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ечебное применение музыки имеет многовековую историю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вид, одухотворенно играя на лютне, излечил Саула от нервной депресс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ифагор применял музыку во время занятий математикой, так как считал, что она благотворно влияет на интеллек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ристотель считал музыку средством не только лечения, но и очищения души. И богиня древних римлян Минерва с равной благосклонностью покровительствовала и музыкантам, и врача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древнейшие учения земных цивилизаций содержат накопленный тысячелетиями опыт положительного воздействия музыки на растения, животных и чело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11640" y="503280"/>
            <a:ext cx="2523960" cy="6354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093080" y="3789360"/>
            <a:ext cx="1812960" cy="237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093080" y="549360"/>
            <a:ext cx="17809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914720" y="260280"/>
            <a:ext cx="3695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пытки научного осмысления механизма воздействия музыки на человека стали предприниматься в конц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X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чал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ка. Появляются данные о благотворном влиянии музыки на центральную нервную систему, дыхание, кровообращение. Отмечается стимулирующее воздействие маршевой музыки на мышечную работоспособность уставших солдат, а мелодии доставляющие человеку радость, замедляют пульс, способствуют расширению сосудов и нормализуют артериальное давл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55480" y="4740120"/>
            <a:ext cx="37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. Дворжак «Славянский танец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337045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С помощью медицинского работника гимназии был сделан анализ заболеваемости учащихся</a:t>
            </a: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3280" y="5157360"/>
            <a:ext cx="72072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ак видим, большой процент заболеваний нервной системы, глаз, органов пищеварения. Хорошо известно, что эти болезни, а так же утомляемость, усталость, вызываются испытываемым эмоциональным состоянием. Музыка же способна вызвать массу положительных эмоций, способствуя созданию эмоционального комфорта челове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71640" y="836640"/>
          <a:ext cx="3976920" cy="42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836640"/>
                    <a:ext cx="397692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Психика реагирует на музыку даже тогда, когда мы ,жуя бутерброд или читая книгу, привычно включаем вполголоса магнитофон и, практически не замечая воздействия музыкальных звуков, осуществляем какую-либо свою деятельность на фоне ненавязчивых мелодий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39960" y="3068640"/>
            <a:ext cx="2830320" cy="2919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435640" y="2997360"/>
            <a:ext cx="2830320" cy="2919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 rot="19486800">
            <a:off x="3368160" y="2727000"/>
            <a:ext cx="777960" cy="774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 rot="1397400">
            <a:off x="5866920" y="2276280"/>
            <a:ext cx="824040" cy="819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 rot="2328600">
            <a:off x="1476360" y="2205000"/>
            <a:ext cx="777960" cy="774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 rot="20565000">
            <a:off x="7164000" y="2276280"/>
            <a:ext cx="824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640" y="304920"/>
            <a:ext cx="7704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Музыка – это, прежде всего звук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вук, как физическое явление –  это упругие колебания и волны, возникающие и распространяющиеся в газах, жидкостях и твёрдых телах, воспринимаемые человеческим ух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Sound"/>
          <p:cNvSpPr/>
          <p:nvPr/>
        </p:nvSpPr>
        <p:spPr>
          <a:xfrm rot="11926800">
            <a:off x="5508360" y="2348640"/>
            <a:ext cx="2952720" cy="3745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2276640"/>
            <a:ext cx="2448000" cy="2016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Зву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Воспринимаем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человечески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ух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4000" y="1700280"/>
            <a:ext cx="71640" cy="576360"/>
          </a:xfrm>
          <a:prstGeom prst="upArrow">
            <a:avLst>
              <a:gd name="adj1" fmla="val 50000"/>
              <a:gd name="adj2" fmla="val 201131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333360"/>
            <a:ext cx="216072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ультразв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2050560" y="4365720"/>
            <a:ext cx="71640" cy="720720"/>
          </a:xfrm>
          <a:prstGeom prst="upArrow">
            <a:avLst>
              <a:gd name="adj1" fmla="val 50000"/>
              <a:gd name="adj2" fmla="val 25150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5157720"/>
            <a:ext cx="2160720" cy="136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нфразв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333360"/>
            <a:ext cx="4319640" cy="358920"/>
          </a:xfrm>
          <a:custGeom>
            <a:avLst/>
            <a:gdLst>
              <a:gd name="textAreaLeft" fmla="*/ 756000 w 4319640"/>
              <a:gd name="textAreaRight" fmla="*/ 3132000 w 431964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56000" y="708120"/>
            <a:ext cx="47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чень высокий звук 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спринимаемый человеческим ух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меняется в медицине с лечебной цел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6093000"/>
            <a:ext cx="4032000" cy="360360"/>
          </a:xfrm>
          <a:custGeom>
            <a:avLst/>
            <a:gdLst>
              <a:gd name="textAreaLeft" fmla="*/ 705600 w 4032000"/>
              <a:gd name="textAreaRight" fmla="*/ 2923200 w 4032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08560" y="4524480"/>
            <a:ext cx="441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чень низкий звук не воспринимаем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еловеческим ухом. Вызывает чувст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сталости, страха, повышенную раздражим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6:36:16Z</dcterms:created>
  <dc:creator>Бабушка</dc:creator>
  <dc:description/>
  <dc:language>en-US</dc:language>
  <cp:lastModifiedBy>Бабушка</cp:lastModifiedBy>
  <dcterms:modified xsi:type="dcterms:W3CDTF">2007-01-24T15:03:29Z</dcterms:modified>
  <cp:revision>18</cp:revision>
  <dc:subject/>
  <dc:title>Здоровье, музыка и мы</dc:title>
</cp:coreProperties>
</file>