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8.png" ContentType="image/png"/>
  <Override PartName="/ppt/media/image3.wmf" ContentType="image/x-wmf"/>
  <Override PartName="/ppt/media/image56.png" ContentType="image/png"/>
  <Override PartName="/ppt/media/image55.png" ContentType="image/png"/>
  <Override PartName="/ppt/media/image12.wmf" ContentType="image/x-wmf"/>
  <Override PartName="/ppt/media/image20.jpeg" ContentType="image/jpeg"/>
  <Override PartName="/ppt/media/image53.png" ContentType="image/png"/>
  <Override PartName="/ppt/media/image10.wmf" ContentType="image/x-wmf"/>
  <Override PartName="/ppt/media/image46.png" ContentType="image/png"/>
  <Override PartName="/ppt/media/image45.png" ContentType="image/png"/>
  <Override PartName="/ppt/media/image43.wmf" ContentType="image/x-wmf"/>
  <Override PartName="/ppt/media/image59.png" ContentType="image/png"/>
  <Override PartName="/ppt/media/image4.wmf" ContentType="image/x-wmf"/>
  <Override PartName="/ppt/media/image14.jpeg" ContentType="image/jpeg"/>
  <Override PartName="/ppt/media/image41.jpeg" ContentType="image/jpeg"/>
  <Override PartName="/ppt/media/image66.png" ContentType="image/png"/>
  <Override PartName="/ppt/media/image16.jpeg" ContentType="image/jpeg"/>
  <Override PartName="/ppt/media/image9.gif" ContentType="image/gif"/>
  <Override PartName="/ppt/media/image69.jpeg" ContentType="image/jpeg"/>
  <Override PartName="/ppt/media/image18.jpeg" ContentType="image/jpeg"/>
  <Override PartName="/ppt/media/image19.jpeg" ContentType="image/jpeg"/>
  <Override PartName="/ppt/media/image22.jpeg" ContentType="image/jpeg"/>
  <Override PartName="/ppt/media/image71.jpeg" ContentType="image/jpeg"/>
  <Override PartName="/ppt/media/image60.wmf" ContentType="image/x-wmf"/>
  <Override PartName="/ppt/media/image36.jpeg" ContentType="image/jpeg"/>
  <Override PartName="/ppt/media/image2.wmf" ContentType="image/x-wmf"/>
  <Override PartName="/ppt/media/image57.png" ContentType="image/png"/>
  <Override PartName="/ppt/media/image63.png" ContentType="image/png"/>
  <Override PartName="/ppt/media/image68.png" ContentType="image/png"/>
  <Override PartName="/ppt/media/image1.jpeg" ContentType="image/jpeg"/>
  <Override PartName="/ppt/media/image35.jpeg" ContentType="image/jpeg"/>
  <Override PartName="/ppt/media/image67.png" ContentType="image/png"/>
  <Override PartName="/ppt/media/image37.jpeg" ContentType="image/jpeg"/>
  <Override PartName="/ppt/media/image64.png" ContentType="image/png"/>
  <Override PartName="/ppt/media/image15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61.wmf" ContentType="image/x-wmf"/>
  <Override PartName="/ppt/media/image70.jpeg" ContentType="image/jpeg"/>
  <Override PartName="/ppt/media/image39.jpeg" ContentType="image/jpeg"/>
  <Override PartName="/ppt/media/image5.png" ContentType="image/png"/>
  <Override PartName="/ppt/media/image26.jpeg" ContentType="image/jpeg"/>
  <Override PartName="/ppt/media/image29.jpeg" ContentType="image/jpeg"/>
  <Override PartName="/ppt/media/image21.jpeg" ContentType="image/jpeg"/>
  <Override PartName="/ppt/media/image65.png" ContentType="image/png"/>
  <Override PartName="/ppt/media/image42.wmf" ContentType="image/x-wmf"/>
  <Override PartName="/ppt/media/image23.jpeg" ContentType="image/jpeg"/>
  <Override PartName="/ppt/media/image24.jpeg" ContentType="image/jpeg"/>
  <Override PartName="/ppt/media/image52.wmf" ContentType="image/x-wmf"/>
  <Override PartName="/ppt/media/image27.jpeg" ContentType="image/jpeg"/>
  <Override PartName="/ppt/media/image6.jpeg" ContentType="image/jpeg"/>
  <Override PartName="/ppt/media/image7.wmf" ContentType="image/x-wmf"/>
  <Override PartName="/ppt/media/image30.jpeg" ContentType="image/jpeg"/>
  <Override PartName="/ppt/media/image49.wmf" ContentType="image/x-wmf"/>
  <Override PartName="/ppt/media/image8.wmf" ContentType="image/x-wmf"/>
  <Override PartName="/ppt/media/image40.png" ContentType="image/png"/>
  <Override PartName="/ppt/media/image25.jpeg" ContentType="image/jpeg"/>
  <Override PartName="/ppt/media/image32.png" ContentType="image/png"/>
  <Override PartName="/ppt/media/image31.jpeg" ContentType="image/jpeg"/>
  <Override PartName="/ppt/media/image47.wmf" ContentType="image/x-wmf"/>
  <Override PartName="/ppt/media/image13.jpeg" ContentType="image/jpeg"/>
  <Override PartName="/ppt/media/image17.jpeg" ContentType="image/jpeg"/>
  <Override PartName="/ppt/media/image54.png" ContentType="image/png"/>
  <Override PartName="/ppt/media/image11.wmf" ContentType="image/x-wmf"/>
  <Override PartName="/ppt/media/image50.png" ContentType="image/png"/>
  <Override PartName="/ppt/media/image48.wmf" ContentType="image/x-wmf"/>
  <Override PartName="/ppt/media/image33.jpeg" ContentType="image/jpeg"/>
  <Override PartName="/ppt/media/image34.jpeg" ContentType="image/jpeg"/>
  <Override PartName="/ppt/media/image44.gif" ContentType="image/gif"/>
  <Override PartName="/ppt/media/image3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D55A-FBCB-44E1-BF6B-487C75A2D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294C-9EAF-49F9-8DD0-156E27868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C66-3732-4144-A27B-D0AAF2AF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CDB-C130-4EBA-925B-23E0DC42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333-8E6E-494A-A6B8-1ECDF179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219-56E7-4055-B05B-25D2BB01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78DC-6602-4470-8E23-20A8139A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0B82-0E58-4064-BF0F-0BEFE5EF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77D2-E679-49CA-8ECA-BB223BE0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AB14-5A0C-496E-A16A-197F77C9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1A3E-16B7-4637-AD5E-3B5A3087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1C53-FFCF-4E1B-9979-3EA16171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0F29-58CE-412B-9E5F-C635646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174-8820-4C77-8BC5-620572D3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B4F1-F014-42DE-B937-B69C1103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8301-DF0F-4B86-A1F2-27A0B31B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86D6-CE21-4BD3-9EA3-D06942DC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B7BD-D9A8-4A0D-8584-F97CBB15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7672-1735-4073-B281-C175D720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5DF9-69D0-4D69-8787-DF1C845B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2894-4983-4499-8F94-F68FE08D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D1D1-1FB4-47A9-97D4-5841EBCE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5467D-39A4-4433-8127-C1785E2A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50D9-357B-4977-8AAD-EB976076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DC8-4BAE-49E8-9D00-F4B94F36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DDC2D-5734-44D6-A3EC-2AD1A857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56A2-6B97-4498-B264-D49E2C63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1D3D-ACDC-4DE4-9C70-10AFC8C6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11F4-696C-4EF0-BD78-FA914D4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CDCA-27DD-4E1D-87CA-C1DDE015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3240-4BD6-4060-9331-6689005B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30A92-AA98-4F84-A36F-606BF27F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DAD8D-780C-4166-9DDC-48F56719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140F0-BEAD-49CD-B9FB-1196EC23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F6CBB-FA5A-457F-9DD6-03AF9A51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DA2-EFD8-4373-867E-9F9D31D8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71374-1E78-4D89-8534-AF5CF2F2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545AF-CBCC-4255-818C-B577754D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1105B-B7E6-46C4-B71D-78C16A90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EF6E3-85A9-489B-9654-6AB45800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5E72C-FB0A-4EAE-BEA9-BFCBCA7D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8D5DB-CACF-4AA3-88DE-CE2171F9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999F6-F106-4320-9EF3-EB29320E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3CBFF-5C66-4E21-B190-1058FCB8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1746B-AC99-4582-8B42-4CDA9FEB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E7952-E5D9-4780-939A-68B3D0C6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14A-9143-428F-8A68-0A6867E5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B3E4-0C03-4699-8DB0-DA136675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D010F-F955-4039-84EA-4B8B2BFF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1E946-1D59-4A99-AA3A-C634DC68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941BA-CF43-4773-9C0C-6FD81060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DCC64-591E-4A87-BEFB-A00F7FCB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E19D-AEE5-491A-9C2F-43C6030D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0933-4DCC-4A50-AE93-EE8F50B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AF8EB-69BE-4340-941F-E5ED53F6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2973C-C9E4-48E3-80B7-04A916ED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8C0AC-A17F-4ECF-A0F1-E8B665A5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975-6D35-4445-B45B-E33953FB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19FA0-E154-49A7-93FF-22449F2C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3E5-3434-41FD-822C-55BD93EA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3BC-6E8F-4D0C-A410-F7E423AA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6F3-AC9D-4EFA-8774-E7DD5FDA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EEB7-F15F-4A99-BB44-93458F35C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9FB0-2A65-477F-81E5-33EDD7545FB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9A5C-1D6C-4B7A-8D76-11B0684ED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18CF-22B9-49B4-B3AA-0B59EE71675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4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EF8E-CDB6-401D-B939-1F6A024014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image" Target="../media/image30.jpeg"/><Relationship Id="rId22" Type="http://schemas.openxmlformats.org/officeDocument/2006/relationships/image" Target="../media/image31.jpeg"/><Relationship Id="rId23" Type="http://schemas.openxmlformats.org/officeDocument/2006/relationships/image" Target="../media/image32.png"/><Relationship Id="rId24" Type="http://schemas.openxmlformats.org/officeDocument/2006/relationships/image" Target="../media/image33.jpeg"/><Relationship Id="rId25" Type="http://schemas.openxmlformats.org/officeDocument/2006/relationships/image" Target="../media/image34.jpeg"/><Relationship Id="rId26" Type="http://schemas.openxmlformats.org/officeDocument/2006/relationships/image" Target="../media/image35.jpeg"/><Relationship Id="rId27" Type="http://schemas.openxmlformats.org/officeDocument/2006/relationships/image" Target="../media/image36.jpeg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2.wmf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image" Target="../media/image52.wmf"/><Relationship Id="rId9" Type="http://schemas.openxmlformats.org/officeDocument/2006/relationships/image" Target="../media/image55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2.wmf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2.wmf"/><Relationship Id="rId7" Type="http://schemas.openxmlformats.org/officeDocument/2006/relationships/image" Target="../media/image59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6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826920" y="1844640"/>
            <a:ext cx="74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писанные угл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6"/>
          <p:cNvSpPr txBox="1"/>
          <p:nvPr/>
        </p:nvSpPr>
        <p:spPr>
          <a:xfrm>
            <a:off x="971640" y="476280"/>
            <a:ext cx="756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асанова Е.И., учитель математики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7"/>
          <p:cNvSpPr txBox="1"/>
          <p:nvPr/>
        </p:nvSpPr>
        <p:spPr>
          <a:xfrm>
            <a:off x="684360" y="1125360"/>
            <a:ext cx="820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"МСОШ № 16", г. Миасса, Челябинской обла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WordArt 9"/>
          <p:cNvSpPr txBox="1"/>
          <p:nvPr/>
        </p:nvSpPr>
        <p:spPr>
          <a:xfrm>
            <a:off x="2124000" y="3860640"/>
            <a:ext cx="139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10"/>
          <p:cNvSpPr txBox="1"/>
          <p:nvPr/>
        </p:nvSpPr>
        <p:spPr>
          <a:xfrm>
            <a:off x="1332000" y="5373720"/>
            <a:ext cx="61434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. С. Атанасян,"Геометрия 7-9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Oval 2"/>
          <p:cNvSpPr/>
          <p:nvPr/>
        </p:nvSpPr>
        <p:spPr>
          <a:xfrm>
            <a:off x="324000" y="836640"/>
            <a:ext cx="3095640" cy="28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183528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1763640" y="2276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5" descr="Рисунок21"/>
          <p:cNvPicPr/>
          <p:nvPr/>
        </p:nvPicPr>
        <p:blipFill>
          <a:blip r:embed="rId1"/>
          <a:stretch/>
        </p:blipFill>
        <p:spPr>
          <a:xfrm rot="20060400">
            <a:off x="1042920" y="981000"/>
            <a:ext cx="1144800" cy="1154160"/>
          </a:xfrm>
          <a:prstGeom prst="rect">
            <a:avLst/>
          </a:prstGeom>
          <a:ln w="0">
            <a:noFill/>
          </a:ln>
        </p:spPr>
      </p:pic>
      <p:sp>
        <p:nvSpPr>
          <p:cNvPr id="402" name="Line 26"/>
          <p:cNvSpPr/>
          <p:nvPr/>
        </p:nvSpPr>
        <p:spPr>
          <a:xfrm>
            <a:off x="183528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7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Рисунок21"/>
          <p:cNvPicPr/>
          <p:nvPr/>
        </p:nvPicPr>
        <p:blipFill>
          <a:blip r:embed="rId2"/>
          <a:stretch/>
        </p:blipFill>
        <p:spPr>
          <a:xfrm rot="11241000">
            <a:off x="610920" y="1988280"/>
            <a:ext cx="1166760" cy="979560"/>
          </a:xfrm>
          <a:prstGeom prst="rect">
            <a:avLst/>
          </a:prstGeom>
          <a:ln w="0">
            <a:noFill/>
          </a:ln>
        </p:spPr>
      </p:pic>
      <p:sp>
        <p:nvSpPr>
          <p:cNvPr id="405" name="Line 29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1" descr="Рисунок26"/>
          <p:cNvPicPr/>
          <p:nvPr/>
        </p:nvPicPr>
        <p:blipFill>
          <a:blip r:embed="rId3"/>
          <a:stretch/>
        </p:blipFill>
        <p:spPr>
          <a:xfrm rot="12043200">
            <a:off x="1476000" y="2491920"/>
            <a:ext cx="360360" cy="216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4"/>
          <p:cNvSpPr/>
          <p:nvPr/>
        </p:nvSpPr>
        <p:spPr>
          <a:xfrm>
            <a:off x="250920" y="29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5"/>
          <p:cNvSpPr/>
          <p:nvPr/>
        </p:nvSpPr>
        <p:spPr>
          <a:xfrm>
            <a:off x="1619280" y="40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6"/>
          <p:cNvSpPr/>
          <p:nvPr/>
        </p:nvSpPr>
        <p:spPr>
          <a:xfrm>
            <a:off x="1619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7"/>
          <p:cNvSpPr/>
          <p:nvPr/>
        </p:nvSpPr>
        <p:spPr>
          <a:xfrm>
            <a:off x="197964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47"/>
          <p:cNvSpPr/>
          <p:nvPr/>
        </p:nvSpPr>
        <p:spPr>
          <a:xfrm flipV="1">
            <a:off x="1692360" y="1699920"/>
            <a:ext cx="3585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8"/>
          <p:cNvSpPr/>
          <p:nvPr/>
        </p:nvSpPr>
        <p:spPr>
          <a:xfrm>
            <a:off x="1187280" y="2421000"/>
            <a:ext cx="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9"/>
          <p:cNvSpPr/>
          <p:nvPr/>
        </p:nvSpPr>
        <p:spPr>
          <a:xfrm flipV="1">
            <a:off x="539640" y="2276640"/>
            <a:ext cx="1295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50"/>
          <p:cNvSpPr txBox="1"/>
          <p:nvPr/>
        </p:nvSpPr>
        <p:spPr>
          <a:xfrm>
            <a:off x="3635280" y="1341360"/>
            <a:ext cx="5200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еличина вписанного уг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5" name="WordArt 51"/>
          <p:cNvSpPr txBox="1"/>
          <p:nvPr/>
        </p:nvSpPr>
        <p:spPr>
          <a:xfrm>
            <a:off x="3780000" y="2133720"/>
            <a:ext cx="4143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а половине дуги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52"/>
          <p:cNvSpPr txBox="1"/>
          <p:nvPr/>
        </p:nvSpPr>
        <p:spPr>
          <a:xfrm>
            <a:off x="3708360" y="2852640"/>
            <a:ext cx="4962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а которую он опираетс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3132000" y="37162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ivaldi"/>
              </a:rPr>
              <a:t>Теор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3995640" y="260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ivaldi"/>
              </a:rPr>
              <a:t>Замечен фак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684360" y="4365720"/>
            <a:ext cx="7848360" cy="192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писанный угол измеряется половиной дуги, на которую он опира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250920" y="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лу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Oval 2"/>
          <p:cNvSpPr/>
          <p:nvPr/>
        </p:nvSpPr>
        <p:spPr>
          <a:xfrm>
            <a:off x="324000" y="836640"/>
            <a:ext cx="3095640" cy="28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83528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5"/>
          <p:cNvSpPr/>
          <p:nvPr/>
        </p:nvSpPr>
        <p:spPr>
          <a:xfrm>
            <a:off x="1763640" y="2276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Рисунок21"/>
          <p:cNvPicPr/>
          <p:nvPr/>
        </p:nvPicPr>
        <p:blipFill>
          <a:blip r:embed="rId1"/>
          <a:stretch/>
        </p:blipFill>
        <p:spPr>
          <a:xfrm rot="20060400">
            <a:off x="1042920" y="981000"/>
            <a:ext cx="1144800" cy="1154160"/>
          </a:xfrm>
          <a:prstGeom prst="rect">
            <a:avLst/>
          </a:prstGeom>
          <a:ln w="0">
            <a:noFill/>
          </a:ln>
        </p:spPr>
      </p:pic>
      <p:sp>
        <p:nvSpPr>
          <p:cNvPr id="426" name="Line 7"/>
          <p:cNvSpPr/>
          <p:nvPr/>
        </p:nvSpPr>
        <p:spPr>
          <a:xfrm>
            <a:off x="183528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9" descr="Рисунок21"/>
          <p:cNvPicPr/>
          <p:nvPr/>
        </p:nvPicPr>
        <p:blipFill>
          <a:blip r:embed="rId2"/>
          <a:stretch/>
        </p:blipFill>
        <p:spPr>
          <a:xfrm rot="11241000">
            <a:off x="610920" y="1988280"/>
            <a:ext cx="1166760" cy="979560"/>
          </a:xfrm>
          <a:prstGeom prst="rect">
            <a:avLst/>
          </a:prstGeom>
          <a:ln w="0">
            <a:noFill/>
          </a:ln>
        </p:spPr>
      </p:pic>
      <p:sp>
        <p:nvSpPr>
          <p:cNvPr id="429" name="Line 10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1" descr="Рисунок26"/>
          <p:cNvPicPr/>
          <p:nvPr/>
        </p:nvPicPr>
        <p:blipFill>
          <a:blip r:embed="rId3"/>
          <a:stretch/>
        </p:blipFill>
        <p:spPr>
          <a:xfrm rot="12043200">
            <a:off x="1476000" y="2491920"/>
            <a:ext cx="360360" cy="2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2"/>
          <p:cNvSpPr/>
          <p:nvPr/>
        </p:nvSpPr>
        <p:spPr>
          <a:xfrm>
            <a:off x="250920" y="29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1619280" y="40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619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197964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6"/>
          <p:cNvSpPr/>
          <p:nvPr/>
        </p:nvSpPr>
        <p:spPr>
          <a:xfrm flipV="1">
            <a:off x="1692360" y="1699920"/>
            <a:ext cx="3585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7"/>
          <p:cNvSpPr/>
          <p:nvPr/>
        </p:nvSpPr>
        <p:spPr>
          <a:xfrm>
            <a:off x="1187280" y="2421000"/>
            <a:ext cx="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8"/>
          <p:cNvSpPr/>
          <p:nvPr/>
        </p:nvSpPr>
        <p:spPr>
          <a:xfrm flipV="1">
            <a:off x="539640" y="2276640"/>
            <a:ext cx="1295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2"/>
          <p:cNvSpPr/>
          <p:nvPr/>
        </p:nvSpPr>
        <p:spPr>
          <a:xfrm>
            <a:off x="3708360" y="620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3"/>
          <p:cNvSpPr/>
          <p:nvPr/>
        </p:nvSpPr>
        <p:spPr>
          <a:xfrm>
            <a:off x="4859280" y="549360"/>
            <a:ext cx="32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2"/>
          <p:cNvSpPr/>
          <p:nvPr/>
        </p:nvSpPr>
        <p:spPr>
          <a:xfrm>
            <a:off x="3492360" y="76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8" descr=""/>
          <p:cNvPicPr/>
          <p:nvPr/>
        </p:nvPicPr>
        <p:blipFill>
          <a:blip r:embed="rId4"/>
          <a:stretch/>
        </p:blipFill>
        <p:spPr>
          <a:xfrm>
            <a:off x="5003640" y="765000"/>
            <a:ext cx="723960" cy="390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9" descr=""/>
          <p:cNvPicPr/>
          <p:nvPr/>
        </p:nvPicPr>
        <p:blipFill>
          <a:blip r:embed="rId5"/>
          <a:stretch/>
        </p:blipFill>
        <p:spPr>
          <a:xfrm>
            <a:off x="5796000" y="692280"/>
            <a:ext cx="276120" cy="447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" descr=""/>
          <p:cNvPicPr/>
          <p:nvPr/>
        </p:nvPicPr>
        <p:blipFill>
          <a:blip r:embed="rId6"/>
          <a:stretch/>
        </p:blipFill>
        <p:spPr>
          <a:xfrm>
            <a:off x="6012000" y="692280"/>
            <a:ext cx="552240" cy="3999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1" descr=""/>
          <p:cNvPicPr/>
          <p:nvPr/>
        </p:nvPicPr>
        <p:blipFill>
          <a:blip r:embed="rId7"/>
          <a:stretch/>
        </p:blipFill>
        <p:spPr>
          <a:xfrm>
            <a:off x="7020000" y="692280"/>
            <a:ext cx="304560" cy="4474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2" descr=""/>
          <p:cNvPicPr/>
          <p:nvPr/>
        </p:nvPicPr>
        <p:blipFill>
          <a:blip r:embed="rId8"/>
          <a:stretch/>
        </p:blipFill>
        <p:spPr>
          <a:xfrm>
            <a:off x="4716360" y="1700280"/>
            <a:ext cx="1114560" cy="504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3" descr=""/>
          <p:cNvPicPr/>
          <p:nvPr/>
        </p:nvPicPr>
        <p:blipFill>
          <a:blip r:embed="rId9"/>
          <a:stretch/>
        </p:blipFill>
        <p:spPr>
          <a:xfrm>
            <a:off x="4572000" y="1197000"/>
            <a:ext cx="4392720" cy="4572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4"/>
          <p:cNvSpPr/>
          <p:nvPr/>
        </p:nvSpPr>
        <p:spPr>
          <a:xfrm>
            <a:off x="3564000" y="2276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-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5" descr=""/>
          <p:cNvPicPr/>
          <p:nvPr/>
        </p:nvPicPr>
        <p:blipFill>
          <a:blip r:embed="rId10"/>
          <a:stretch/>
        </p:blipFill>
        <p:spPr>
          <a:xfrm>
            <a:off x="5003640" y="2205000"/>
            <a:ext cx="1819440" cy="5144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6" descr=""/>
          <p:cNvPicPr/>
          <p:nvPr/>
        </p:nvPicPr>
        <p:blipFill>
          <a:blip r:embed="rId11"/>
          <a:stretch/>
        </p:blipFill>
        <p:spPr>
          <a:xfrm>
            <a:off x="6372360" y="2133720"/>
            <a:ext cx="1914480" cy="7048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47"/>
          <p:cNvSpPr/>
          <p:nvPr/>
        </p:nvSpPr>
        <p:spPr>
          <a:xfrm>
            <a:off x="3708360" y="2852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8" descr=""/>
          <p:cNvPicPr/>
          <p:nvPr/>
        </p:nvPicPr>
        <p:blipFill>
          <a:blip r:embed="rId12"/>
          <a:stretch/>
        </p:blipFill>
        <p:spPr>
          <a:xfrm>
            <a:off x="2124000" y="3573360"/>
            <a:ext cx="1266840" cy="447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9" descr=""/>
          <p:cNvPicPr/>
          <p:nvPr/>
        </p:nvPicPr>
        <p:blipFill>
          <a:blip r:embed="rId13"/>
          <a:stretch/>
        </p:blipFill>
        <p:spPr>
          <a:xfrm>
            <a:off x="3527280" y="3573360"/>
            <a:ext cx="5616720" cy="466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0" descr=""/>
          <p:cNvPicPr/>
          <p:nvPr/>
        </p:nvPicPr>
        <p:blipFill>
          <a:blip r:embed="rId14"/>
          <a:stretch/>
        </p:blipFill>
        <p:spPr>
          <a:xfrm>
            <a:off x="468360" y="4149720"/>
            <a:ext cx="4392720" cy="485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1" descr=""/>
          <p:cNvPicPr/>
          <p:nvPr/>
        </p:nvPicPr>
        <p:blipFill>
          <a:blip r:embed="rId15"/>
          <a:stretch/>
        </p:blipFill>
        <p:spPr>
          <a:xfrm>
            <a:off x="4859280" y="414972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2" descr=""/>
          <p:cNvPicPr/>
          <p:nvPr/>
        </p:nvPicPr>
        <p:blipFill>
          <a:blip r:embed="rId16"/>
          <a:stretch/>
        </p:blipFill>
        <p:spPr>
          <a:xfrm>
            <a:off x="5435640" y="4221000"/>
            <a:ext cx="361800" cy="390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3" descr=""/>
          <p:cNvPicPr/>
          <p:nvPr/>
        </p:nvPicPr>
        <p:blipFill>
          <a:blip r:embed="rId17"/>
          <a:stretch/>
        </p:blipFill>
        <p:spPr>
          <a:xfrm>
            <a:off x="5796000" y="4149720"/>
            <a:ext cx="666720" cy="466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4" descr=""/>
          <p:cNvPicPr/>
          <p:nvPr/>
        </p:nvPicPr>
        <p:blipFill>
          <a:blip r:embed="rId18"/>
          <a:stretch/>
        </p:blipFill>
        <p:spPr>
          <a:xfrm>
            <a:off x="6588000" y="4221000"/>
            <a:ext cx="752760" cy="3715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5" descr=""/>
          <p:cNvPicPr/>
          <p:nvPr/>
        </p:nvPicPr>
        <p:blipFill>
          <a:blip r:embed="rId19"/>
          <a:stretch/>
        </p:blipFill>
        <p:spPr>
          <a:xfrm>
            <a:off x="7451640" y="4221000"/>
            <a:ext cx="1095480" cy="400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7" descr=""/>
          <p:cNvPicPr/>
          <p:nvPr/>
        </p:nvPicPr>
        <p:blipFill>
          <a:blip r:embed="rId20"/>
          <a:stretch/>
        </p:blipFill>
        <p:spPr>
          <a:xfrm>
            <a:off x="611280" y="4797360"/>
            <a:ext cx="1152360" cy="362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8" descr=""/>
          <p:cNvPicPr/>
          <p:nvPr/>
        </p:nvPicPr>
        <p:blipFill>
          <a:blip r:embed="rId21"/>
          <a:stretch/>
        </p:blipFill>
        <p:spPr>
          <a:xfrm>
            <a:off x="1763640" y="4797360"/>
            <a:ext cx="1584360" cy="314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9" descr=""/>
          <p:cNvPicPr/>
          <p:nvPr/>
        </p:nvPicPr>
        <p:blipFill>
          <a:blip r:embed="rId22"/>
          <a:stretch/>
        </p:blipFill>
        <p:spPr>
          <a:xfrm>
            <a:off x="6372360" y="450864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0" descr=""/>
          <p:cNvPicPr/>
          <p:nvPr/>
        </p:nvPicPr>
        <p:blipFill>
          <a:blip r:embed="rId23"/>
          <a:stretch/>
        </p:blipFill>
        <p:spPr>
          <a:xfrm>
            <a:off x="3348000" y="4941720"/>
            <a:ext cx="162000" cy="17172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61"/>
          <p:cNvSpPr/>
          <p:nvPr/>
        </p:nvSpPr>
        <p:spPr>
          <a:xfrm>
            <a:off x="147636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2"/>
          <p:cNvSpPr/>
          <p:nvPr/>
        </p:nvSpPr>
        <p:spPr>
          <a:xfrm>
            <a:off x="75564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3" descr=""/>
          <p:cNvPicPr/>
          <p:nvPr/>
        </p:nvPicPr>
        <p:blipFill>
          <a:blip r:embed="rId24"/>
          <a:stretch/>
        </p:blipFill>
        <p:spPr>
          <a:xfrm>
            <a:off x="3708360" y="4653000"/>
            <a:ext cx="4552920" cy="6476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4" descr=""/>
          <p:cNvPicPr/>
          <p:nvPr/>
        </p:nvPicPr>
        <p:blipFill>
          <a:blip r:embed="rId25"/>
          <a:stretch/>
        </p:blipFill>
        <p:spPr>
          <a:xfrm>
            <a:off x="3851280" y="5157720"/>
            <a:ext cx="2266920" cy="7239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5" descr=""/>
          <p:cNvPicPr/>
          <p:nvPr/>
        </p:nvPicPr>
        <p:blipFill>
          <a:blip r:embed="rId26"/>
          <a:stretch/>
        </p:blipFill>
        <p:spPr>
          <a:xfrm>
            <a:off x="3780000" y="5734080"/>
            <a:ext cx="3990960" cy="819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7" descr=""/>
          <p:cNvPicPr/>
          <p:nvPr/>
        </p:nvPicPr>
        <p:blipFill>
          <a:blip r:embed="rId27"/>
          <a:stretch/>
        </p:blipFill>
        <p:spPr>
          <a:xfrm>
            <a:off x="6659640" y="765000"/>
            <a:ext cx="19980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Oval 3"/>
          <p:cNvSpPr/>
          <p:nvPr/>
        </p:nvSpPr>
        <p:spPr>
          <a:xfrm>
            <a:off x="1403280" y="620640"/>
            <a:ext cx="3384720" cy="316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8"/>
          <p:cNvSpPr/>
          <p:nvPr/>
        </p:nvSpPr>
        <p:spPr>
          <a:xfrm>
            <a:off x="133200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9"/>
          <p:cNvSpPr/>
          <p:nvPr/>
        </p:nvSpPr>
        <p:spPr>
          <a:xfrm>
            <a:off x="284328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78800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5"/>
          <p:cNvSpPr/>
          <p:nvPr/>
        </p:nvSpPr>
        <p:spPr>
          <a:xfrm>
            <a:off x="298764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7" descr="Рисунок19"/>
          <p:cNvPicPr/>
          <p:nvPr/>
        </p:nvPicPr>
        <p:blipFill>
          <a:blip r:embed="rId1"/>
          <a:stretch/>
        </p:blipFill>
        <p:spPr>
          <a:xfrm rot="3630000">
            <a:off x="2269800" y="1050840"/>
            <a:ext cx="1800360" cy="1228680"/>
          </a:xfrm>
          <a:prstGeom prst="rect">
            <a:avLst/>
          </a:prstGeom>
          <a:ln w="0">
            <a:noFill/>
          </a:ln>
        </p:spPr>
      </p:pic>
      <p:sp>
        <p:nvSpPr>
          <p:cNvPr id="475" name="Line 48"/>
          <p:cNvSpPr/>
          <p:nvPr/>
        </p:nvSpPr>
        <p:spPr>
          <a:xfrm flipH="1">
            <a:off x="1834920" y="620640"/>
            <a:ext cx="136836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49"/>
          <p:cNvSpPr/>
          <p:nvPr/>
        </p:nvSpPr>
        <p:spPr>
          <a:xfrm>
            <a:off x="3203640" y="692280"/>
            <a:ext cx="143964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53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1981080" cy="542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4" descr=""/>
          <p:cNvPicPr/>
          <p:nvPr/>
        </p:nvPicPr>
        <p:blipFill>
          <a:blip r:embed="rId3"/>
          <a:stretch/>
        </p:blipFill>
        <p:spPr>
          <a:xfrm>
            <a:off x="7093080" y="1628640"/>
            <a:ext cx="1438200" cy="762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5" descr=""/>
          <p:cNvPicPr/>
          <p:nvPr/>
        </p:nvPicPr>
        <p:blipFill>
          <a:blip r:embed="rId4"/>
          <a:stretch/>
        </p:blipFill>
        <p:spPr>
          <a:xfrm>
            <a:off x="5292720" y="2492280"/>
            <a:ext cx="3324240" cy="828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6" descr=""/>
          <p:cNvPicPr/>
          <p:nvPr/>
        </p:nvPicPr>
        <p:blipFill>
          <a:blip r:embed="rId5"/>
          <a:stretch/>
        </p:blipFill>
        <p:spPr>
          <a:xfrm>
            <a:off x="1042920" y="4365720"/>
            <a:ext cx="7332840" cy="1028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7" descr=""/>
          <p:cNvPicPr/>
          <p:nvPr/>
        </p:nvPicPr>
        <p:blipFill>
          <a:blip r:embed="rId6"/>
          <a:stretch/>
        </p:blipFill>
        <p:spPr>
          <a:xfrm>
            <a:off x="2771640" y="5734080"/>
            <a:ext cx="3333960" cy="9237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8" descr="Рисунок18"/>
          <p:cNvPicPr/>
          <p:nvPr/>
        </p:nvPicPr>
        <p:blipFill>
          <a:blip r:embed="rId7"/>
          <a:stretch/>
        </p:blipFill>
        <p:spPr>
          <a:xfrm rot="7165200">
            <a:off x="2579760" y="1027440"/>
            <a:ext cx="1159200" cy="6332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0" descr="Рисунок20"/>
          <p:cNvPicPr/>
          <p:nvPr/>
        </p:nvPicPr>
        <p:blipFill>
          <a:blip r:embed="rId8"/>
          <a:stretch/>
        </p:blipFill>
        <p:spPr>
          <a:xfrm>
            <a:off x="3132000" y="620640"/>
            <a:ext cx="1008360" cy="2016360"/>
          </a:xfrm>
          <a:prstGeom prst="rect">
            <a:avLst/>
          </a:prstGeom>
          <a:ln w="0">
            <a:noFill/>
          </a:ln>
        </p:spPr>
      </p:pic>
      <p:sp>
        <p:nvSpPr>
          <p:cNvPr id="484" name="Line 61"/>
          <p:cNvSpPr/>
          <p:nvPr/>
        </p:nvSpPr>
        <p:spPr>
          <a:xfrm flipH="1">
            <a:off x="3131640" y="620640"/>
            <a:ext cx="7164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62"/>
          <p:cNvSpPr/>
          <p:nvPr/>
        </p:nvSpPr>
        <p:spPr>
          <a:xfrm>
            <a:off x="3132000" y="2276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3"/>
          <p:cNvSpPr/>
          <p:nvPr/>
        </p:nvSpPr>
        <p:spPr>
          <a:xfrm>
            <a:off x="324000" y="189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слу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Oval 4"/>
          <p:cNvSpPr/>
          <p:nvPr/>
        </p:nvSpPr>
        <p:spPr>
          <a:xfrm>
            <a:off x="2195640" y="1341360"/>
            <a:ext cx="270036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6"/>
          <p:cNvSpPr/>
          <p:nvPr/>
        </p:nvSpPr>
        <p:spPr>
          <a:xfrm>
            <a:off x="3492360" y="2492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4"/>
          <p:cNvSpPr/>
          <p:nvPr/>
        </p:nvSpPr>
        <p:spPr>
          <a:xfrm>
            <a:off x="3564000" y="1341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7" descr="Рисунок21"/>
          <p:cNvPicPr/>
          <p:nvPr/>
        </p:nvPicPr>
        <p:blipFill>
          <a:blip r:embed="rId1"/>
          <a:stretch/>
        </p:blipFill>
        <p:spPr>
          <a:xfrm rot="21424800">
            <a:off x="2411280" y="1341000"/>
            <a:ext cx="1228680" cy="12366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42"/>
          <p:cNvSpPr/>
          <p:nvPr/>
        </p:nvSpPr>
        <p:spPr>
          <a:xfrm>
            <a:off x="169236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3"/>
          <p:cNvSpPr/>
          <p:nvPr/>
        </p:nvSpPr>
        <p:spPr>
          <a:xfrm>
            <a:off x="327672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4"/>
          <p:cNvSpPr/>
          <p:nvPr/>
        </p:nvSpPr>
        <p:spPr>
          <a:xfrm>
            <a:off x="22683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6"/>
          <p:cNvSpPr/>
          <p:nvPr/>
        </p:nvSpPr>
        <p:spPr>
          <a:xfrm>
            <a:off x="334800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8"/>
          <p:cNvSpPr/>
          <p:nvPr/>
        </p:nvSpPr>
        <p:spPr>
          <a:xfrm flipH="1">
            <a:off x="2700000" y="1341360"/>
            <a:ext cx="86364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9"/>
          <p:cNvSpPr/>
          <p:nvPr/>
        </p:nvSpPr>
        <p:spPr>
          <a:xfrm flipH="1">
            <a:off x="2195280" y="1341360"/>
            <a:ext cx="136836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324000" y="18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слу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WordArt 5"/>
          <p:cNvSpPr txBox="1"/>
          <p:nvPr/>
        </p:nvSpPr>
        <p:spPr>
          <a:xfrm>
            <a:off x="611280" y="189000"/>
            <a:ext cx="410508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1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1116000" y="1197000"/>
            <a:ext cx="61912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Как быстро циркулем и линей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"/>
          <p:cNvSpPr/>
          <p:nvPr/>
        </p:nvSpPr>
        <p:spPr>
          <a:xfrm>
            <a:off x="1692360" y="4941720"/>
            <a:ext cx="4174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8"/>
          <p:cNvSpPr/>
          <p:nvPr/>
        </p:nvSpPr>
        <p:spPr>
          <a:xfrm flipV="1">
            <a:off x="1692360" y="3068280"/>
            <a:ext cx="3887640" cy="18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9" descr="Удивление"/>
          <p:cNvPicPr/>
          <p:nvPr/>
        </p:nvPicPr>
        <p:blipFill>
          <a:blip r:embed="rId1"/>
          <a:stretch/>
        </p:blipFill>
        <p:spPr>
          <a:xfrm>
            <a:off x="6516720" y="260280"/>
            <a:ext cx="657360" cy="67644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0"/>
          <p:cNvSpPr/>
          <p:nvPr/>
        </p:nvSpPr>
        <p:spPr>
          <a:xfrm>
            <a:off x="1258920" y="177336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построить сразу несколько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1476360" y="2349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равных данному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1" dur="2000" fill="hold"/>
                                        <p:tgtEl>
                                          <p:spTgt spid="5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692360" y="3573360"/>
            <a:ext cx="6480000" cy="1760760"/>
            <a:chOff x="1692360" y="3573360"/>
            <a:chExt cx="6480000" cy="1760760"/>
          </a:xfrm>
        </p:grpSpPr>
        <p:sp>
          <p:nvSpPr>
            <p:cNvPr id="506" name="Freeform 3"/>
            <p:cNvSpPr/>
            <p:nvPr/>
          </p:nvSpPr>
          <p:spPr>
            <a:xfrm>
              <a:off x="1692360" y="3573360"/>
              <a:ext cx="2977920" cy="161784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1617840"/>
                <a:gd name="textAreaBottom" fmla="*/ 1618200 h 1617840"/>
              </a:gdLst>
              <a:ahLst/>
              <a:rect l="textAreaLeft" t="textAreaTop" r="textAreaRight" b="textAreaBottom"/>
              <a:pathLst>
                <a:path w="1876" h="1019">
                  <a:moveTo>
                    <a:pt x="16" y="862"/>
                  </a:moveTo>
                  <a:lnTo>
                    <a:pt x="1286" y="0"/>
                  </a:lnTo>
                  <a:lnTo>
                    <a:pt x="1558" y="91"/>
                  </a:lnTo>
                  <a:lnTo>
                    <a:pt x="1740" y="273"/>
                  </a:lnTo>
                  <a:lnTo>
                    <a:pt x="1876" y="545"/>
                  </a:lnTo>
                  <a:lnTo>
                    <a:pt x="1831" y="726"/>
                  </a:lnTo>
                  <a:lnTo>
                    <a:pt x="1760" y="1019"/>
                  </a:lnTo>
                  <a:lnTo>
                    <a:pt x="24" y="859"/>
                  </a:lnTo>
                  <a:lnTo>
                    <a:pt x="0" y="891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"/>
            <p:cNvSpPr/>
            <p:nvPr/>
          </p:nvSpPr>
          <p:spPr>
            <a:xfrm>
              <a:off x="5194440" y="3716280"/>
              <a:ext cx="2977920" cy="161784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1617840"/>
                <a:gd name="textAreaBottom" fmla="*/ 1618200 h 1617840"/>
              </a:gdLst>
              <a:ahLst/>
              <a:rect l="textAreaLeft" t="textAreaTop" r="textAreaRight" b="textAreaBottom"/>
              <a:pathLst>
                <a:path w="1876" h="1019">
                  <a:moveTo>
                    <a:pt x="16" y="862"/>
                  </a:moveTo>
                  <a:lnTo>
                    <a:pt x="1286" y="0"/>
                  </a:lnTo>
                  <a:lnTo>
                    <a:pt x="1558" y="91"/>
                  </a:lnTo>
                  <a:lnTo>
                    <a:pt x="1740" y="273"/>
                  </a:lnTo>
                  <a:lnTo>
                    <a:pt x="1876" y="545"/>
                  </a:lnTo>
                  <a:lnTo>
                    <a:pt x="1831" y="726"/>
                  </a:lnTo>
                  <a:lnTo>
                    <a:pt x="1760" y="1019"/>
                  </a:lnTo>
                  <a:lnTo>
                    <a:pt x="24" y="859"/>
                  </a:lnTo>
                  <a:lnTo>
                    <a:pt x="0" y="891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5"/>
          <p:cNvSpPr/>
          <p:nvPr/>
        </p:nvSpPr>
        <p:spPr>
          <a:xfrm>
            <a:off x="1267200" y="4797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3137400" y="50864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2697480" y="3573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8"/>
          <p:cNvSpPr/>
          <p:nvPr/>
        </p:nvSpPr>
        <p:spPr>
          <a:xfrm flipH="1">
            <a:off x="5232240" y="3213000"/>
            <a:ext cx="2735280" cy="185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rc 9"/>
          <p:cNvSpPr/>
          <p:nvPr/>
        </p:nvSpPr>
        <p:spPr>
          <a:xfrm>
            <a:off x="5326200" y="3886200"/>
            <a:ext cx="1333440" cy="17575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757520"/>
              <a:gd name="textAreaBottom" fmla="*/ 1757880 h 1757520"/>
            </a:gdLst>
            <a:ahLst/>
            <a:rect l="textAreaLeft" t="textAreaTop" r="textAreaRight" b="textAreaBottom"/>
            <a:pathLst>
              <a:path fill="none" w="21600" h="30118">
                <a:moveTo>
                  <a:pt x="9452" y="-1"/>
                </a:moveTo>
                <a:cubicBezTo>
                  <a:pt x="16883" y="3616"/>
                  <a:pt x="21600" y="11157"/>
                  <a:pt x="21600" y="19422"/>
                </a:cubicBezTo>
                <a:cubicBezTo>
                  <a:pt x="21600" y="23172"/>
                  <a:pt x="20623" y="26859"/>
                  <a:pt x="18765" y="30117"/>
                </a:cubicBezTo>
              </a:path>
              <a:path stroke="0" w="21600" h="30118">
                <a:moveTo>
                  <a:pt x="9452" y="-1"/>
                </a:moveTo>
                <a:cubicBezTo>
                  <a:pt x="16883" y="3616"/>
                  <a:pt x="21600" y="11157"/>
                  <a:pt x="21600" y="19422"/>
                </a:cubicBezTo>
                <a:cubicBezTo>
                  <a:pt x="21600" y="23172"/>
                  <a:pt x="20623" y="26859"/>
                  <a:pt x="18765" y="30117"/>
                </a:cubicBezTo>
                <a:lnTo>
                  <a:pt x="0" y="19422"/>
                </a:lnTo>
                <a:lnTo>
                  <a:pt x="9452" y="-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rc 10"/>
          <p:cNvSpPr/>
          <p:nvPr/>
        </p:nvSpPr>
        <p:spPr>
          <a:xfrm>
            <a:off x="1746360" y="3630600"/>
            <a:ext cx="1422360" cy="2006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fill="none" w="21600" h="31420">
                <a:moveTo>
                  <a:pt x="6088" y="-1"/>
                </a:moveTo>
                <a:cubicBezTo>
                  <a:pt x="15284" y="2701"/>
                  <a:pt x="21600" y="11139"/>
                  <a:pt x="21600" y="20724"/>
                </a:cubicBezTo>
                <a:cubicBezTo>
                  <a:pt x="21600" y="24474"/>
                  <a:pt x="20623" y="28161"/>
                  <a:pt x="18765" y="31419"/>
                </a:cubicBezTo>
              </a:path>
              <a:path stroke="0" w="21600" h="31420">
                <a:moveTo>
                  <a:pt x="6088" y="-1"/>
                </a:moveTo>
                <a:cubicBezTo>
                  <a:pt x="15284" y="2701"/>
                  <a:pt x="21600" y="11139"/>
                  <a:pt x="21600" y="20724"/>
                </a:cubicBezTo>
                <a:cubicBezTo>
                  <a:pt x="21600" y="24474"/>
                  <a:pt x="20623" y="28161"/>
                  <a:pt x="18765" y="31419"/>
                </a:cubicBezTo>
                <a:lnTo>
                  <a:pt x="0" y="20724"/>
                </a:lnTo>
                <a:lnTo>
                  <a:pt x="6088" y="-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1"/>
          <p:cNvSpPr/>
          <p:nvPr/>
        </p:nvSpPr>
        <p:spPr>
          <a:xfrm flipH="1">
            <a:off x="1704960" y="3068640"/>
            <a:ext cx="2735280" cy="185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2"/>
          <p:cNvSpPr/>
          <p:nvPr/>
        </p:nvSpPr>
        <p:spPr>
          <a:xfrm>
            <a:off x="1704960" y="4927680"/>
            <a:ext cx="2587680" cy="228600"/>
          </a:xfrm>
          <a:custGeom>
            <a:avLst/>
            <a:gdLst>
              <a:gd name="textAreaLeft" fmla="*/ 0 w 2587680"/>
              <a:gd name="textAreaRight" fmla="*/ 2588040 w 2587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630" h="144">
                <a:moveTo>
                  <a:pt x="0" y="0"/>
                </a:moveTo>
                <a:lnTo>
                  <a:pt x="163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2841480" y="4076640"/>
            <a:ext cx="7488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4"/>
          <p:cNvSpPr/>
          <p:nvPr/>
        </p:nvSpPr>
        <p:spPr>
          <a:xfrm>
            <a:off x="3098880" y="5013360"/>
            <a:ext cx="9036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278280" y="33336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  <a:ea typeface="Arial"/>
              </a:rPr>
              <a:t>Построение угла, равного дан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6"/>
          <p:cNvGrpSpPr/>
          <p:nvPr/>
        </p:nvGrpSpPr>
        <p:grpSpPr>
          <a:xfrm>
            <a:off x="5270400" y="1973880"/>
            <a:ext cx="1421280" cy="3084120"/>
            <a:chOff x="5270400" y="1973880"/>
            <a:chExt cx="1421280" cy="3084120"/>
          </a:xfrm>
        </p:grpSpPr>
        <p:sp>
          <p:nvSpPr>
            <p:cNvPr id="520" name="Freeform 17"/>
            <p:cNvSpPr/>
            <p:nvPr/>
          </p:nvSpPr>
          <p:spPr>
            <a:xfrm flipH="1" rot="21521400">
              <a:off x="5304600" y="1988640"/>
              <a:ext cx="1352520" cy="3030480"/>
            </a:xfrm>
            <a:custGeom>
              <a:avLst/>
              <a:gdLst>
                <a:gd name="textAreaLeft" fmla="*/ -360 w 1352520"/>
                <a:gd name="textAreaRight" fmla="*/ 1352520 w 135252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8"/>
            <p:cNvSpPr/>
            <p:nvPr/>
          </p:nvSpPr>
          <p:spPr>
            <a:xfrm flipH="1" rot="21521400">
              <a:off x="5314320" y="4465080"/>
              <a:ext cx="341280" cy="588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9"/>
            <p:cNvSpPr/>
            <p:nvPr/>
          </p:nvSpPr>
          <p:spPr>
            <a:xfrm flipH="1" rot="21521400">
              <a:off x="5325480" y="48175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0"/>
            <p:cNvSpPr/>
            <p:nvPr/>
          </p:nvSpPr>
          <p:spPr>
            <a:xfrm flipH="1" rot="21521400">
              <a:off x="5366520" y="2005920"/>
              <a:ext cx="1181160" cy="2532240"/>
            </a:xfrm>
            <a:custGeom>
              <a:avLst/>
              <a:gdLst>
                <a:gd name="textAreaLeft" fmla="*/ -360 w 1181160"/>
                <a:gd name="textAreaRight" fmla="*/ 1181160 w 1181160"/>
                <a:gd name="textAreaTop" fmla="*/ 0 h 2532240"/>
                <a:gd name="textAreaBottom" fmla="*/ 2532600 h 25322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Arc 21"/>
          <p:cNvSpPr/>
          <p:nvPr/>
        </p:nvSpPr>
        <p:spPr>
          <a:xfrm rot="15103800">
            <a:off x="6025680" y="4279320"/>
            <a:ext cx="1333800" cy="1216080"/>
          </a:xfrm>
          <a:custGeom>
            <a:avLst/>
            <a:gdLst>
              <a:gd name="textAreaLeft" fmla="*/ 0 w 1333800"/>
              <a:gd name="textAreaRight" fmla="*/ 1334160 w 133380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fill="none" w="21600" h="20829">
                <a:moveTo>
                  <a:pt x="19075" y="0"/>
                </a:moveTo>
                <a:cubicBezTo>
                  <a:pt x="20733" y="3120"/>
                  <a:pt x="21600" y="6599"/>
                  <a:pt x="21600" y="10133"/>
                </a:cubicBezTo>
                <a:cubicBezTo>
                  <a:pt x="21600" y="13883"/>
                  <a:pt x="20623" y="17570"/>
                  <a:pt x="18765" y="20828"/>
                </a:cubicBezTo>
              </a:path>
              <a:path stroke="0" w="21600" h="20829">
                <a:moveTo>
                  <a:pt x="19075" y="0"/>
                </a:moveTo>
                <a:cubicBezTo>
                  <a:pt x="20733" y="3120"/>
                  <a:pt x="21600" y="6599"/>
                  <a:pt x="21600" y="10133"/>
                </a:cubicBezTo>
                <a:cubicBezTo>
                  <a:pt x="21600" y="13883"/>
                  <a:pt x="20623" y="17570"/>
                  <a:pt x="18765" y="20828"/>
                </a:cubicBezTo>
                <a:lnTo>
                  <a:pt x="0" y="10133"/>
                </a:lnTo>
                <a:lnTo>
                  <a:pt x="19075" y="0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22"/>
          <p:cNvSpPr/>
          <p:nvPr/>
        </p:nvSpPr>
        <p:spPr>
          <a:xfrm>
            <a:off x="6372360" y="424008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3"/>
          <p:cNvSpPr/>
          <p:nvPr/>
        </p:nvSpPr>
        <p:spPr>
          <a:xfrm>
            <a:off x="674640" y="1052640"/>
            <a:ext cx="348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__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роить:  __ О = __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4"/>
          <p:cNvSpPr/>
          <p:nvPr/>
        </p:nvSpPr>
        <p:spPr>
          <a:xfrm>
            <a:off x="5007600" y="5086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5"/>
          <p:cNvSpPr/>
          <p:nvPr/>
        </p:nvSpPr>
        <p:spPr>
          <a:xfrm>
            <a:off x="6653520" y="5229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6"/>
          <p:cNvSpPr/>
          <p:nvPr/>
        </p:nvSpPr>
        <p:spPr>
          <a:xfrm>
            <a:off x="666252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7"/>
          <p:cNvSpPr/>
          <p:nvPr/>
        </p:nvSpPr>
        <p:spPr>
          <a:xfrm>
            <a:off x="385920" y="5818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28"/>
          <p:cNvGrpSpPr/>
          <p:nvPr/>
        </p:nvGrpSpPr>
        <p:grpSpPr>
          <a:xfrm>
            <a:off x="-1174680" y="2283120"/>
            <a:ext cx="5816520" cy="5365440"/>
            <a:chOff x="-1174680" y="2283120"/>
            <a:chExt cx="5816520" cy="5365440"/>
          </a:xfrm>
        </p:grpSpPr>
        <p:grpSp>
          <p:nvGrpSpPr>
            <p:cNvPr id="532" name="Group 29"/>
            <p:cNvGrpSpPr/>
            <p:nvPr/>
          </p:nvGrpSpPr>
          <p:grpSpPr>
            <a:xfrm>
              <a:off x="1753560" y="2283120"/>
              <a:ext cx="2888280" cy="3313080"/>
              <a:chOff x="1753560" y="2283120"/>
              <a:chExt cx="2888280" cy="3313080"/>
            </a:xfrm>
          </p:grpSpPr>
          <p:sp>
            <p:nvSpPr>
              <p:cNvPr id="533" name="Freeform 30"/>
              <p:cNvSpPr/>
              <p:nvPr/>
            </p:nvSpPr>
            <p:spPr>
              <a:xfrm rot="1935000">
                <a:off x="2619000" y="2395440"/>
                <a:ext cx="1306440" cy="306108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61080"/>
                  <a:gd name="textAreaBottom" fmla="*/ 3061440 h 3061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1"/>
              <p:cNvSpPr/>
              <p:nvPr/>
            </p:nvSpPr>
            <p:spPr>
              <a:xfrm rot="1935000">
                <a:off x="2865600" y="4959720"/>
                <a:ext cx="327960" cy="5947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2"/>
              <p:cNvSpPr/>
              <p:nvPr/>
            </p:nvSpPr>
            <p:spPr>
              <a:xfrm rot="1935000">
                <a:off x="2958120" y="5340600"/>
                <a:ext cx="126000" cy="2260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Group 33"/>
              <p:cNvGrpSpPr/>
              <p:nvPr/>
            </p:nvGrpSpPr>
            <p:grpSpPr>
              <a:xfrm>
                <a:off x="1753560" y="2350440"/>
                <a:ext cx="2823840" cy="2804760"/>
                <a:chOff x="1753560" y="2350440"/>
                <a:chExt cx="2823840" cy="2804760"/>
              </a:xfrm>
            </p:grpSpPr>
            <p:sp>
              <p:nvSpPr>
                <p:cNvPr id="537" name="Freeform 34"/>
                <p:cNvSpPr/>
                <p:nvPr/>
              </p:nvSpPr>
              <p:spPr>
                <a:xfrm rot="1935000">
                  <a:off x="2841480" y="2457360"/>
                  <a:ext cx="1141200" cy="255744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57440"/>
                    <a:gd name="textAreaBottom" fmla="*/ 2557440 h 255744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8" name="Group 35"/>
                <p:cNvGrpSpPr/>
                <p:nvPr/>
              </p:nvGrpSpPr>
              <p:grpSpPr>
                <a:xfrm>
                  <a:off x="1753560" y="2500560"/>
                  <a:ext cx="2087280" cy="2654640"/>
                  <a:chOff x="1753560" y="2500560"/>
                  <a:chExt cx="2087280" cy="2654640"/>
                </a:xfrm>
              </p:grpSpPr>
              <p:sp>
                <p:nvSpPr>
                  <p:cNvPr id="539" name="Freeform 36"/>
                  <p:cNvSpPr/>
                  <p:nvPr/>
                </p:nvSpPr>
                <p:spPr>
                  <a:xfrm rot="1935000">
                    <a:off x="2500920" y="2374200"/>
                    <a:ext cx="367920" cy="29070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07000"/>
                      <a:gd name="textAreaBottom" fmla="*/ 2907360 h 29070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7"/>
                  <p:cNvSpPr/>
                  <p:nvPr/>
                </p:nvSpPr>
                <p:spPr>
                  <a:xfrm rot="1935000">
                    <a:off x="3320640" y="2603520"/>
                    <a:ext cx="440640" cy="4255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1" name="Group 38"/>
            <p:cNvGrpSpPr/>
            <p:nvPr/>
          </p:nvGrpSpPr>
          <p:grpSpPr>
            <a:xfrm>
              <a:off x="-1174680" y="4323960"/>
              <a:ext cx="2853720" cy="3324600"/>
              <a:chOff x="-1174680" y="4323960"/>
              <a:chExt cx="2853720" cy="3324600"/>
            </a:xfrm>
          </p:grpSpPr>
          <p:sp>
            <p:nvSpPr>
              <p:cNvPr id="542" name="Freeform 39"/>
              <p:cNvSpPr/>
              <p:nvPr/>
            </p:nvSpPr>
            <p:spPr>
              <a:xfrm rot="12676800">
                <a:off x="-474840" y="4470480"/>
                <a:ext cx="1306440" cy="306108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61080"/>
                  <a:gd name="textAreaBottom" fmla="*/ 3061440 h 3061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0"/>
              <p:cNvSpPr/>
              <p:nvPr/>
            </p:nvSpPr>
            <p:spPr>
              <a:xfrm rot="12676800">
                <a:off x="231840" y="4366080"/>
                <a:ext cx="329760" cy="59472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594720"/>
                  <a:gd name="textAreaBottom" fmla="*/ 595080 h 5947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1"/>
              <p:cNvSpPr/>
              <p:nvPr/>
            </p:nvSpPr>
            <p:spPr>
              <a:xfrm rot="12676800">
                <a:off x="340560" y="4356000"/>
                <a:ext cx="126000" cy="2260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Group 42"/>
              <p:cNvGrpSpPr/>
              <p:nvPr/>
            </p:nvGrpSpPr>
            <p:grpSpPr>
              <a:xfrm>
                <a:off x="-1109880" y="4752000"/>
                <a:ext cx="2788920" cy="2830320"/>
                <a:chOff x="-1109880" y="4752000"/>
                <a:chExt cx="2788920" cy="2830320"/>
              </a:xfrm>
            </p:grpSpPr>
            <p:sp>
              <p:nvSpPr>
                <p:cNvPr id="546" name="Freeform 43"/>
                <p:cNvSpPr/>
                <p:nvPr/>
              </p:nvSpPr>
              <p:spPr>
                <a:xfrm rot="12676800">
                  <a:off x="-528840" y="4914360"/>
                  <a:ext cx="1141200" cy="255744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57440"/>
                    <a:gd name="textAreaBottom" fmla="*/ 2557440 h 255744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7" name="Group 44"/>
                <p:cNvGrpSpPr/>
                <p:nvPr/>
              </p:nvGrpSpPr>
              <p:grpSpPr>
                <a:xfrm>
                  <a:off x="-370080" y="4752000"/>
                  <a:ext cx="2049120" cy="2675520"/>
                  <a:chOff x="-370080" y="4752000"/>
                  <a:chExt cx="2049120" cy="2675520"/>
                </a:xfrm>
              </p:grpSpPr>
              <p:sp>
                <p:nvSpPr>
                  <p:cNvPr id="548" name="Freeform 45"/>
                  <p:cNvSpPr/>
                  <p:nvPr/>
                </p:nvSpPr>
                <p:spPr>
                  <a:xfrm rot="12676800">
                    <a:off x="582840" y="4636080"/>
                    <a:ext cx="367920" cy="29070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07000"/>
                      <a:gd name="textAreaBottom" fmla="*/ 2907360 h 29070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Oval 46"/>
                  <p:cNvSpPr/>
                  <p:nvPr/>
                </p:nvSpPr>
                <p:spPr>
                  <a:xfrm rot="12676800">
                    <a:off x="-291600" y="6902640"/>
                    <a:ext cx="440640" cy="4255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50" name="Group 47"/>
          <p:cNvGrpSpPr/>
          <p:nvPr/>
        </p:nvGrpSpPr>
        <p:grpSpPr>
          <a:xfrm>
            <a:off x="54360" y="2496600"/>
            <a:ext cx="6193080" cy="5081040"/>
            <a:chOff x="54360" y="2496600"/>
            <a:chExt cx="6193080" cy="5081040"/>
          </a:xfrm>
        </p:grpSpPr>
        <p:grpSp>
          <p:nvGrpSpPr>
            <p:cNvPr id="551" name="Group 48"/>
            <p:cNvGrpSpPr/>
            <p:nvPr/>
          </p:nvGrpSpPr>
          <p:grpSpPr>
            <a:xfrm>
              <a:off x="2805480" y="2496600"/>
              <a:ext cx="3441960" cy="2802960"/>
              <a:chOff x="2805480" y="2496600"/>
              <a:chExt cx="3441960" cy="2802960"/>
            </a:xfrm>
          </p:grpSpPr>
          <p:sp>
            <p:nvSpPr>
              <p:cNvPr id="552" name="Freeform 49"/>
              <p:cNvSpPr/>
              <p:nvPr/>
            </p:nvSpPr>
            <p:spPr>
              <a:xfrm flipH="1" rot="3529800">
                <a:off x="3859920" y="2317320"/>
                <a:ext cx="1363680" cy="3161160"/>
              </a:xfrm>
              <a:custGeom>
                <a:avLst/>
                <a:gdLst>
                  <a:gd name="textAreaLeft" fmla="*/ 360 w 1363680"/>
                  <a:gd name="textAreaRight" fmla="*/ 1364400 w 1363680"/>
                  <a:gd name="textAreaTop" fmla="*/ 0 h 3161160"/>
                  <a:gd name="textAreaBottom" fmla="*/ 3161520 h 31611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50"/>
              <p:cNvSpPr/>
              <p:nvPr/>
            </p:nvSpPr>
            <p:spPr>
              <a:xfrm flipH="1" rot="3529800">
                <a:off x="2985120" y="3808440"/>
                <a:ext cx="344520" cy="61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154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51"/>
              <p:cNvSpPr/>
              <p:nvPr/>
            </p:nvSpPr>
            <p:spPr>
              <a:xfrm flipH="1" rot="3529800">
                <a:off x="2890440" y="4006800"/>
                <a:ext cx="131760" cy="233280"/>
              </a:xfrm>
              <a:custGeom>
                <a:avLst/>
                <a:gdLst>
                  <a:gd name="textAreaLeft" fmla="*/ 360 w 131760"/>
                  <a:gd name="textAreaRight" fmla="*/ 132480 w 1317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52"/>
              <p:cNvSpPr/>
              <p:nvPr/>
            </p:nvSpPr>
            <p:spPr>
              <a:xfrm flipH="1" rot="3529800">
                <a:off x="4144680" y="2435400"/>
                <a:ext cx="1190880" cy="2641680"/>
              </a:xfrm>
              <a:custGeom>
                <a:avLst/>
                <a:gdLst>
                  <a:gd name="textAreaLeft" fmla="*/ 360 w 1190880"/>
                  <a:gd name="textAreaRight" fmla="*/ 1191600 w 119088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Group 53"/>
              <p:cNvGrpSpPr/>
              <p:nvPr/>
            </p:nvGrpSpPr>
            <p:grpSpPr>
              <a:xfrm>
                <a:off x="3021840" y="3407040"/>
                <a:ext cx="2967120" cy="1636920"/>
                <a:chOff x="3021840" y="3407040"/>
                <a:chExt cx="2967120" cy="1636920"/>
              </a:xfrm>
            </p:grpSpPr>
            <p:sp>
              <p:nvSpPr>
                <p:cNvPr id="557" name="Freeform 54"/>
                <p:cNvSpPr/>
                <p:nvPr/>
              </p:nvSpPr>
              <p:spPr>
                <a:xfrm flipH="1" rot="4189800">
                  <a:off x="4304880" y="2845080"/>
                  <a:ext cx="383760" cy="3002040"/>
                </a:xfrm>
                <a:custGeom>
                  <a:avLst/>
                  <a:gdLst>
                    <a:gd name="textAreaLeft" fmla="*/ 360 w 383760"/>
                    <a:gd name="textAreaRight" fmla="*/ 384480 w 383760"/>
                    <a:gd name="textAreaTop" fmla="*/ 0 h 3002040"/>
                    <a:gd name="textAreaBottom" fmla="*/ 3002400 h 30020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Oval 55"/>
                <p:cNvSpPr/>
                <p:nvPr/>
              </p:nvSpPr>
              <p:spPr>
                <a:xfrm flipH="1" rot="4189800">
                  <a:off x="5473440" y="3478680"/>
                  <a:ext cx="459720" cy="439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Group 56"/>
            <p:cNvGrpSpPr/>
            <p:nvPr/>
          </p:nvGrpSpPr>
          <p:grpSpPr>
            <a:xfrm>
              <a:off x="54360" y="4775760"/>
              <a:ext cx="3409920" cy="2801880"/>
              <a:chOff x="54360" y="4775760"/>
              <a:chExt cx="3409920" cy="2801880"/>
            </a:xfrm>
          </p:grpSpPr>
          <p:sp>
            <p:nvSpPr>
              <p:cNvPr id="560" name="Freeform 57"/>
              <p:cNvSpPr/>
              <p:nvPr/>
            </p:nvSpPr>
            <p:spPr>
              <a:xfrm flipV="1" rot="3530400">
                <a:off x="1077120" y="4596120"/>
                <a:ext cx="1363680" cy="3160080"/>
              </a:xfrm>
              <a:custGeom>
                <a:avLst/>
                <a:gdLst>
                  <a:gd name="textAreaLeft" fmla="*/ 0 w 1363680"/>
                  <a:gd name="textAreaRight" fmla="*/ 1364040 w 1363680"/>
                  <a:gd name="textAreaTop" fmla="*/ 360 h 3160080"/>
                  <a:gd name="textAreaBottom" fmla="*/ 3160800 h 3160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" name="Group 58"/>
              <p:cNvGrpSpPr/>
              <p:nvPr/>
            </p:nvGrpSpPr>
            <p:grpSpPr>
              <a:xfrm>
                <a:off x="315720" y="5030280"/>
                <a:ext cx="2967120" cy="1637280"/>
                <a:chOff x="315720" y="5030280"/>
                <a:chExt cx="2967120" cy="1637280"/>
              </a:xfrm>
            </p:grpSpPr>
            <p:sp>
              <p:nvSpPr>
                <p:cNvPr id="562" name="Freeform 59"/>
                <p:cNvSpPr/>
                <p:nvPr/>
              </p:nvSpPr>
              <p:spPr>
                <a:xfrm flipV="1" rot="4190400">
                  <a:off x="1615320" y="4226760"/>
                  <a:ext cx="384120" cy="30020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-360 h 3002040"/>
                    <a:gd name="textAreaBottom" fmla="*/ 3002040 h 30020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Oval 60"/>
                <p:cNvSpPr/>
                <p:nvPr/>
              </p:nvSpPr>
              <p:spPr>
                <a:xfrm flipV="1" rot="4190400">
                  <a:off x="371160" y="6156000"/>
                  <a:ext cx="460080" cy="439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4" name="Oval 61"/>
          <p:cNvSpPr/>
          <p:nvPr/>
        </p:nvSpPr>
        <p:spPr>
          <a:xfrm>
            <a:off x="1631880" y="48704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2"/>
          <p:cNvSpPr/>
          <p:nvPr/>
        </p:nvSpPr>
        <p:spPr>
          <a:xfrm>
            <a:off x="5207040" y="5084640"/>
            <a:ext cx="3936960" cy="37476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2480" h="236">
                <a:moveTo>
                  <a:pt x="0" y="0"/>
                </a:moveTo>
                <a:lnTo>
                  <a:pt x="2480" y="2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63"/>
          <p:cNvSpPr/>
          <p:nvPr/>
        </p:nvSpPr>
        <p:spPr>
          <a:xfrm>
            <a:off x="6607080" y="517680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4"/>
          <p:cNvSpPr/>
          <p:nvPr/>
        </p:nvSpPr>
        <p:spPr>
          <a:xfrm flipV="1">
            <a:off x="1619280" y="12682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6"/>
          <p:cNvSpPr/>
          <p:nvPr/>
        </p:nvSpPr>
        <p:spPr>
          <a:xfrm flipV="1">
            <a:off x="2484360" y="1628640"/>
            <a:ext cx="289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7"/>
          <p:cNvSpPr/>
          <p:nvPr/>
        </p:nvSpPr>
        <p:spPr>
          <a:xfrm flipH="1">
            <a:off x="3564000" y="16286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0.34583 0.04953 E">
                                      <p:cBhvr>
                                        <p:cTn id="557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584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0.38229 0.02847 E">
                                      <p:cBhvr>
                                        <p:cTn id="593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900000">
                                      <p:cBhvr>
                                        <p:cTn id="59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59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0.38351 0.02245 E">
                                      <p:cBhvr>
                                        <p:cTn id="632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60000">
                                      <p:cBhvr>
                                        <p:cTn id="63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20000">
                                      <p:cBhvr>
                                        <p:cTn id="637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WordArt 2"/>
          <p:cNvSpPr txBox="1"/>
          <p:nvPr/>
        </p:nvSpPr>
        <p:spPr>
          <a:xfrm>
            <a:off x="468360" y="189000"/>
            <a:ext cx="367200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1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2268360" y="1341360"/>
            <a:ext cx="45356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4"/>
          <p:cNvSpPr/>
          <p:nvPr/>
        </p:nvSpPr>
        <p:spPr>
          <a:xfrm>
            <a:off x="1692360" y="4941720"/>
            <a:ext cx="4174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 flipV="1">
            <a:off x="1692360" y="3068280"/>
            <a:ext cx="3887640" cy="18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Удивление"/>
          <p:cNvPicPr/>
          <p:nvPr/>
        </p:nvPicPr>
        <p:blipFill>
          <a:blip r:embed="rId1"/>
          <a:stretch/>
        </p:blipFill>
        <p:spPr>
          <a:xfrm>
            <a:off x="4427640" y="692280"/>
            <a:ext cx="909360" cy="936360"/>
          </a:xfrm>
          <a:prstGeom prst="rect">
            <a:avLst/>
          </a:prstGeom>
          <a:ln w="0">
            <a:noFill/>
          </a:ln>
        </p:spPr>
      </p:pic>
      <p:sp>
        <p:nvSpPr>
          <p:cNvPr id="575" name="WordArt 7"/>
          <p:cNvSpPr txBox="1"/>
          <p:nvPr/>
        </p:nvSpPr>
        <p:spPr>
          <a:xfrm>
            <a:off x="2050920" y="1557360"/>
            <a:ext cx="15526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ыстро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6" name="WordArt 8"/>
          <p:cNvSpPr txBox="1"/>
          <p:nvPr/>
        </p:nvSpPr>
        <p:spPr>
          <a:xfrm>
            <a:off x="5508720" y="1197000"/>
            <a:ext cx="333360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азу несколько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56384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WordArt 10"/>
          <p:cNvSpPr txBox="1"/>
          <p:nvPr/>
        </p:nvSpPr>
        <p:spPr>
          <a:xfrm rot="21070200">
            <a:off x="1692000" y="2565000"/>
            <a:ext cx="25048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реше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9" name="WordArt 11"/>
          <p:cNvSpPr txBox="1"/>
          <p:nvPr/>
        </p:nvSpPr>
        <p:spPr>
          <a:xfrm>
            <a:off x="5796000" y="2349360"/>
            <a:ext cx="25048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реше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6" dur="2000" fill="hold"/>
                                        <p:tgtEl>
                                          <p:spTgt spid="5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WordArt 2"/>
          <p:cNvSpPr txBox="1"/>
          <p:nvPr/>
        </p:nvSpPr>
        <p:spPr>
          <a:xfrm>
            <a:off x="539640" y="189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1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2268360" y="1341360"/>
            <a:ext cx="45356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6"/>
          <p:cNvSpPr/>
          <p:nvPr/>
        </p:nvSpPr>
        <p:spPr>
          <a:xfrm>
            <a:off x="3059280" y="1125360"/>
            <a:ext cx="3600360" cy="324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8"/>
          <p:cNvSpPr/>
          <p:nvPr/>
        </p:nvSpPr>
        <p:spPr>
          <a:xfrm flipV="1">
            <a:off x="4572000" y="3068640"/>
            <a:ext cx="2735280" cy="1295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rc 9"/>
          <p:cNvSpPr/>
          <p:nvPr/>
        </p:nvSpPr>
        <p:spPr>
          <a:xfrm rot="3796200">
            <a:off x="5536080" y="2248560"/>
            <a:ext cx="1366560" cy="113652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fill="none" w="21518" h="21600">
                <a:moveTo>
                  <a:pt x="-1" y="121"/>
                </a:moveTo>
                <a:cubicBezTo>
                  <a:pt x="761" y="40"/>
                  <a:pt x="1526" y="-1"/>
                  <a:pt x="2292" y="0"/>
                </a:cubicBezTo>
                <a:cubicBezTo>
                  <a:pt x="10398" y="0"/>
                  <a:pt x="17822" y="4539"/>
                  <a:pt x="21517" y="11755"/>
                </a:cubicBezTo>
              </a:path>
              <a:path stroke="0" w="21518" h="21600">
                <a:moveTo>
                  <a:pt x="-1" y="121"/>
                </a:moveTo>
                <a:cubicBezTo>
                  <a:pt x="761" y="40"/>
                  <a:pt x="1526" y="-1"/>
                  <a:pt x="2292" y="0"/>
                </a:cubicBezTo>
                <a:cubicBezTo>
                  <a:pt x="10398" y="0"/>
                  <a:pt x="17822" y="4539"/>
                  <a:pt x="21517" y="11755"/>
                </a:cubicBezTo>
                <a:lnTo>
                  <a:pt x="2292" y="21600"/>
                </a:lnTo>
                <a:lnTo>
                  <a:pt x="-1" y="12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3203640" y="2133720"/>
            <a:ext cx="3672000" cy="1439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"/>
          <p:cNvSpPr/>
          <p:nvPr/>
        </p:nvSpPr>
        <p:spPr>
          <a:xfrm flipV="1">
            <a:off x="3203640" y="1844280"/>
            <a:ext cx="432108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2"/>
          <p:cNvSpPr/>
          <p:nvPr/>
        </p:nvSpPr>
        <p:spPr>
          <a:xfrm>
            <a:off x="4211640" y="73166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3"/>
          <p:cNvSpPr/>
          <p:nvPr/>
        </p:nvSpPr>
        <p:spPr>
          <a:xfrm>
            <a:off x="5148360" y="6858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6"/>
          <p:cNvSpPr/>
          <p:nvPr/>
        </p:nvSpPr>
        <p:spPr>
          <a:xfrm flipV="1">
            <a:off x="3203640" y="1557000"/>
            <a:ext cx="4105080" cy="1832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7"/>
          <p:cNvSpPr/>
          <p:nvPr/>
        </p:nvSpPr>
        <p:spPr>
          <a:xfrm>
            <a:off x="3203640" y="3389400"/>
            <a:ext cx="4535280" cy="11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9"/>
          <p:cNvSpPr/>
          <p:nvPr/>
        </p:nvSpPr>
        <p:spPr>
          <a:xfrm>
            <a:off x="6372360" y="191628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1"/>
          <p:cNvSpPr/>
          <p:nvPr/>
        </p:nvSpPr>
        <p:spPr>
          <a:xfrm>
            <a:off x="6443640" y="3429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3"/>
          <p:cNvSpPr/>
          <p:nvPr/>
        </p:nvSpPr>
        <p:spPr>
          <a:xfrm flipV="1">
            <a:off x="4572000" y="1341000"/>
            <a:ext cx="2303640" cy="302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4"/>
          <p:cNvSpPr/>
          <p:nvPr/>
        </p:nvSpPr>
        <p:spPr>
          <a:xfrm>
            <a:off x="4356000" y="1197000"/>
            <a:ext cx="2664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5"/>
          <p:cNvSpPr/>
          <p:nvPr/>
        </p:nvSpPr>
        <p:spPr>
          <a:xfrm>
            <a:off x="4356000" y="1197000"/>
            <a:ext cx="259236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7"/>
          <p:cNvSpPr/>
          <p:nvPr/>
        </p:nvSpPr>
        <p:spPr>
          <a:xfrm>
            <a:off x="395280" y="465300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ivaldi"/>
              </a:rPr>
              <a:t>Следствие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8"/>
          <p:cNvSpPr/>
          <p:nvPr/>
        </p:nvSpPr>
        <p:spPr>
          <a:xfrm>
            <a:off x="2627280" y="458136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ivaldi"/>
              </a:rPr>
              <a:t>Вписанные углы, опирающиеся на одну и ту же дугу,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WordArt 2"/>
          <p:cNvSpPr txBox="1"/>
          <p:nvPr/>
        </p:nvSpPr>
        <p:spPr>
          <a:xfrm>
            <a:off x="611280" y="189000"/>
            <a:ext cx="410508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2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250920" y="2349360"/>
            <a:ext cx="79930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Как быстро циркулем и линей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6" descr="Удивление"/>
          <p:cNvPicPr/>
          <p:nvPr/>
        </p:nvPicPr>
        <p:blipFill>
          <a:blip r:embed="rId1"/>
          <a:stretch/>
        </p:blipFill>
        <p:spPr>
          <a:xfrm>
            <a:off x="6516720" y="260280"/>
            <a:ext cx="657360" cy="6764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7"/>
          <p:cNvSpPr/>
          <p:nvPr/>
        </p:nvSpPr>
        <p:spPr>
          <a:xfrm>
            <a:off x="971640" y="314172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построить прямой уго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3087360" y="656640"/>
            <a:ext cx="2851560" cy="3070080"/>
            <a:chOff x="3087360" y="656640"/>
            <a:chExt cx="2851560" cy="3070080"/>
          </a:xfrm>
        </p:grpSpPr>
        <p:sp>
          <p:nvSpPr>
            <p:cNvPr id="603" name="Freeform 3"/>
            <p:cNvSpPr/>
            <p:nvPr/>
          </p:nvSpPr>
          <p:spPr>
            <a:xfrm rot="21001200">
              <a:off x="4389120" y="744480"/>
              <a:ext cx="1270080" cy="289404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Group 4"/>
            <p:cNvGrpSpPr/>
            <p:nvPr/>
          </p:nvGrpSpPr>
          <p:grpSpPr>
            <a:xfrm>
              <a:off x="3087360" y="683640"/>
              <a:ext cx="2851560" cy="2999160"/>
              <a:chOff x="3087360" y="683640"/>
              <a:chExt cx="2851560" cy="2999160"/>
            </a:xfrm>
          </p:grpSpPr>
          <p:grpSp>
            <p:nvGrpSpPr>
              <p:cNvPr id="605" name="Group 5"/>
              <p:cNvGrpSpPr/>
              <p:nvPr/>
            </p:nvGrpSpPr>
            <p:grpSpPr>
              <a:xfrm>
                <a:off x="5533200" y="2985840"/>
                <a:ext cx="405720" cy="544680"/>
                <a:chOff x="5533200" y="2985840"/>
                <a:chExt cx="405720" cy="544680"/>
              </a:xfrm>
            </p:grpSpPr>
            <p:sp>
              <p:nvSpPr>
                <p:cNvPr id="606" name="Freeform 6"/>
                <p:cNvSpPr/>
                <p:nvPr/>
              </p:nvSpPr>
              <p:spPr>
                <a:xfrm>
                  <a:off x="5533200" y="2985840"/>
                  <a:ext cx="40572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7"/>
                <p:cNvSpPr/>
                <p:nvPr/>
              </p:nvSpPr>
              <p:spPr>
                <a:xfrm>
                  <a:off x="5751720" y="3282840"/>
                  <a:ext cx="185400" cy="24768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Group 8"/>
              <p:cNvGrpSpPr/>
              <p:nvPr/>
            </p:nvGrpSpPr>
            <p:grpSpPr>
              <a:xfrm>
                <a:off x="3087360" y="683640"/>
                <a:ext cx="2667960" cy="2999160"/>
                <a:chOff x="3087360" y="683640"/>
                <a:chExt cx="2667960" cy="2999160"/>
              </a:xfrm>
            </p:grpSpPr>
            <p:sp>
              <p:nvSpPr>
                <p:cNvPr id="609" name="Freeform 9"/>
                <p:cNvSpPr/>
                <p:nvPr/>
              </p:nvSpPr>
              <p:spPr>
                <a:xfrm rot="21001200">
                  <a:off x="4443480" y="761400"/>
                  <a:ext cx="1110600" cy="2417760"/>
                </a:xfrm>
                <a:custGeom>
                  <a:avLst/>
                  <a:gdLst>
                    <a:gd name="textAreaLeft" fmla="*/ 0 w 1110600"/>
                    <a:gd name="textAreaRight" fmla="*/ 1110960 w 111060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0" name="Group 10"/>
                <p:cNvGrpSpPr/>
                <p:nvPr/>
              </p:nvGrpSpPr>
              <p:grpSpPr>
                <a:xfrm>
                  <a:off x="3087360" y="1023480"/>
                  <a:ext cx="1699920" cy="2659320"/>
                  <a:chOff x="3087360" y="1023480"/>
                  <a:chExt cx="1699920" cy="2659320"/>
                </a:xfrm>
              </p:grpSpPr>
              <p:sp>
                <p:nvSpPr>
                  <p:cNvPr id="611" name="Freeform 11"/>
                  <p:cNvSpPr/>
                  <p:nvPr/>
                </p:nvSpPr>
                <p:spPr>
                  <a:xfrm rot="1453200">
                    <a:off x="3634920" y="982080"/>
                    <a:ext cx="357840" cy="274788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12"/>
                  <p:cNvSpPr/>
                  <p:nvPr/>
                </p:nvSpPr>
                <p:spPr>
                  <a:xfrm rot="1453200">
                    <a:off x="4294440" y="1093680"/>
                    <a:ext cx="429120" cy="401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13" name="Group 13"/>
          <p:cNvGrpSpPr/>
          <p:nvPr/>
        </p:nvGrpSpPr>
        <p:grpSpPr>
          <a:xfrm>
            <a:off x="4428720" y="404640"/>
            <a:ext cx="418320" cy="5571360"/>
            <a:chOff x="4428720" y="404640"/>
            <a:chExt cx="418320" cy="5571360"/>
          </a:xfrm>
        </p:grpSpPr>
        <p:sp>
          <p:nvSpPr>
            <p:cNvPr id="614" name="Text Box 14"/>
            <p:cNvSpPr/>
            <p:nvPr/>
          </p:nvSpPr>
          <p:spPr>
            <a:xfrm>
              <a:off x="4428720" y="5516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5"/>
            <p:cNvSpPr/>
            <p:nvPr/>
          </p:nvSpPr>
          <p:spPr>
            <a:xfrm>
              <a:off x="4473720" y="404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Arc 16"/>
          <p:cNvSpPr/>
          <p:nvPr/>
        </p:nvSpPr>
        <p:spPr>
          <a:xfrm rot="20740200">
            <a:off x="3171600" y="556920"/>
            <a:ext cx="2746080" cy="5418000"/>
          </a:xfrm>
          <a:custGeom>
            <a:avLst/>
            <a:gdLst>
              <a:gd name="textAreaLeft" fmla="*/ 0 w 2746080"/>
              <a:gd name="textAreaRight" fmla="*/ 2746440 w 2746080"/>
              <a:gd name="textAreaTop" fmla="*/ 0 h 5418000"/>
              <a:gd name="textAreaBottom" fmla="*/ 5418360 h 5418000"/>
            </a:gdLst>
            <a:ahLst/>
            <a:rect l="textAreaLeft" t="textAreaTop" r="textAreaRight" b="textAreaBottom"/>
            <a:pathLst>
              <a:path fill="none" w="22069" h="41179">
                <a:moveTo>
                  <a:pt x="9591" y="-1"/>
                </a:moveTo>
                <a:cubicBezTo>
                  <a:pt x="17202" y="3545"/>
                  <a:pt x="22069" y="11181"/>
                  <a:pt x="22069" y="19579"/>
                </a:cubicBezTo>
                <a:cubicBezTo>
                  <a:pt x="22069" y="31508"/>
                  <a:pt x="12398" y="41179"/>
                  <a:pt x="469" y="41179"/>
                </a:cubicBezTo>
                <a:cubicBezTo>
                  <a:pt x="312" y="41179"/>
                  <a:pt x="156" y="41177"/>
                  <a:pt x="0" y="41173"/>
                </a:cubicBezTo>
              </a:path>
              <a:path stroke="0" w="22069" h="41179">
                <a:moveTo>
                  <a:pt x="9591" y="-1"/>
                </a:moveTo>
                <a:cubicBezTo>
                  <a:pt x="17202" y="3545"/>
                  <a:pt x="22069" y="11181"/>
                  <a:pt x="22069" y="19579"/>
                </a:cubicBezTo>
                <a:cubicBezTo>
                  <a:pt x="22069" y="31508"/>
                  <a:pt x="12398" y="41179"/>
                  <a:pt x="469" y="41179"/>
                </a:cubicBezTo>
                <a:cubicBezTo>
                  <a:pt x="312" y="41179"/>
                  <a:pt x="156" y="41177"/>
                  <a:pt x="0" y="41173"/>
                </a:cubicBezTo>
                <a:lnTo>
                  <a:pt x="469" y="19579"/>
                </a:lnTo>
                <a:lnTo>
                  <a:pt x="9591" y="-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rc 17"/>
          <p:cNvSpPr/>
          <p:nvPr/>
        </p:nvSpPr>
        <p:spPr>
          <a:xfrm flipH="1" rot="859800">
            <a:off x="3153600" y="500040"/>
            <a:ext cx="2808360" cy="5513760"/>
          </a:xfrm>
          <a:custGeom>
            <a:avLst/>
            <a:gdLst>
              <a:gd name="textAreaLeft" fmla="*/ -360 w 2808360"/>
              <a:gd name="textAreaRight" fmla="*/ 2808360 w 2808360"/>
              <a:gd name="textAreaTop" fmla="*/ 0 h 5513760"/>
              <a:gd name="textAreaBottom" fmla="*/ 5514120 h 5513760"/>
            </a:gdLst>
            <a:ahLst/>
            <a:rect l="textAreaLeft" t="textAreaTop" r="textAreaRight" b="textAreaBottom"/>
            <a:pathLst>
              <a:path fill="none" w="21600" h="40873">
                <a:moveTo>
                  <a:pt x="9570" y="0"/>
                </a:moveTo>
                <a:cubicBezTo>
                  <a:pt x="16937" y="3641"/>
                  <a:pt x="21600" y="11146"/>
                  <a:pt x="21600" y="19364"/>
                </a:cubicBezTo>
                <a:cubicBezTo>
                  <a:pt x="21600" y="30525"/>
                  <a:pt x="13095" y="-25687"/>
                  <a:pt x="1980" y="-24664"/>
                </a:cubicBezTo>
              </a:path>
              <a:path stroke="0" w="21600" h="40873">
                <a:moveTo>
                  <a:pt x="9570" y="0"/>
                </a:moveTo>
                <a:cubicBezTo>
                  <a:pt x="16937" y="3641"/>
                  <a:pt x="21600" y="11146"/>
                  <a:pt x="21600" y="19364"/>
                </a:cubicBezTo>
                <a:cubicBezTo>
                  <a:pt x="21600" y="30525"/>
                  <a:pt x="13095" y="-25687"/>
                  <a:pt x="1980" y="-24664"/>
                </a:cubicBezTo>
                <a:lnTo>
                  <a:pt x="0" y="19364"/>
                </a:lnTo>
                <a:lnTo>
                  <a:pt x="9570" y="0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8"/>
          <p:cNvSpPr/>
          <p:nvPr/>
        </p:nvSpPr>
        <p:spPr>
          <a:xfrm>
            <a:off x="4500720" y="5950080"/>
            <a:ext cx="698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9"/>
          <p:cNvSpPr/>
          <p:nvPr/>
        </p:nvSpPr>
        <p:spPr>
          <a:xfrm>
            <a:off x="4491000" y="9619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0"/>
          <p:cNvSpPr/>
          <p:nvPr/>
        </p:nvSpPr>
        <p:spPr>
          <a:xfrm>
            <a:off x="6013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1"/>
          <p:cNvSpPr/>
          <p:nvPr/>
        </p:nvSpPr>
        <p:spPr>
          <a:xfrm>
            <a:off x="2557440" y="364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22"/>
          <p:cNvSpPr/>
          <p:nvPr/>
        </p:nvSpPr>
        <p:spPr>
          <a:xfrm>
            <a:off x="1333440" y="3517920"/>
            <a:ext cx="6400800" cy="144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032" h="1">
                <a:moveTo>
                  <a:pt x="0" y="0"/>
                </a:moveTo>
                <a:lnTo>
                  <a:pt x="4032" y="0"/>
                </a:lnTo>
              </a:path>
            </a:pathLst>
          </a:custGeom>
          <a:noFill/>
          <a:ln w="381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3"/>
          <p:cNvGrpSpPr/>
          <p:nvPr/>
        </p:nvGrpSpPr>
        <p:grpSpPr>
          <a:xfrm>
            <a:off x="4068720" y="3429000"/>
            <a:ext cx="503280" cy="581400"/>
            <a:chOff x="4068720" y="3429000"/>
            <a:chExt cx="503280" cy="581400"/>
          </a:xfrm>
        </p:grpSpPr>
        <p:sp>
          <p:nvSpPr>
            <p:cNvPr id="624" name="Text Box 24"/>
            <p:cNvSpPr/>
            <p:nvPr/>
          </p:nvSpPr>
          <p:spPr>
            <a:xfrm>
              <a:off x="4068720" y="342900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25"/>
            <p:cNvSpPr/>
            <p:nvPr/>
          </p:nvSpPr>
          <p:spPr>
            <a:xfrm>
              <a:off x="4502160" y="3500280"/>
              <a:ext cx="69840" cy="71640"/>
            </a:xfrm>
            <a:prstGeom prst="ellipse">
              <a:avLst/>
            </a:prstGeom>
            <a:solidFill>
              <a:srgbClr val="0000cc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6"/>
          <p:cNvGrpSpPr/>
          <p:nvPr/>
        </p:nvGrpSpPr>
        <p:grpSpPr>
          <a:xfrm>
            <a:off x="-129600" y="634680"/>
            <a:ext cx="6492240" cy="5662440"/>
            <a:chOff x="-129600" y="634680"/>
            <a:chExt cx="6492240" cy="5662440"/>
          </a:xfrm>
        </p:grpSpPr>
        <p:sp>
          <p:nvSpPr>
            <p:cNvPr id="627" name="Freeform 27"/>
            <p:cNvSpPr/>
            <p:nvPr/>
          </p:nvSpPr>
          <p:spPr>
            <a:xfrm flipH="1" flipV="1" rot="4206600">
              <a:off x="811800" y="319680"/>
              <a:ext cx="1270080" cy="2894040"/>
            </a:xfrm>
            <a:custGeom>
              <a:avLst/>
              <a:gdLst>
                <a:gd name="textAreaLeft" fmla="*/ 360 w 1270080"/>
                <a:gd name="textAreaRight" fmla="*/ 1270800 w 1270080"/>
                <a:gd name="textAreaTop" fmla="*/ -360 h 2894040"/>
                <a:gd name="textAreaBottom" fmla="*/ 289404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28"/>
            <p:cNvGrpSpPr/>
            <p:nvPr/>
          </p:nvGrpSpPr>
          <p:grpSpPr>
            <a:xfrm>
              <a:off x="-91440" y="634680"/>
              <a:ext cx="3284280" cy="2806920"/>
              <a:chOff x="-91440" y="634680"/>
              <a:chExt cx="3284280" cy="2806920"/>
            </a:xfrm>
          </p:grpSpPr>
          <p:grpSp>
            <p:nvGrpSpPr>
              <p:cNvPr id="629" name="Group 29"/>
              <p:cNvGrpSpPr/>
              <p:nvPr/>
            </p:nvGrpSpPr>
            <p:grpSpPr>
              <a:xfrm>
                <a:off x="2072160" y="634680"/>
                <a:ext cx="599760" cy="492120"/>
                <a:chOff x="2072160" y="634680"/>
                <a:chExt cx="599760" cy="492120"/>
              </a:xfrm>
            </p:grpSpPr>
            <p:sp>
              <p:nvSpPr>
                <p:cNvPr id="630" name="Freeform 30"/>
                <p:cNvSpPr/>
                <p:nvPr/>
              </p:nvSpPr>
              <p:spPr>
                <a:xfrm flipH="1" flipV="1" rot="4804800">
                  <a:off x="2169000" y="611280"/>
                  <a:ext cx="405720" cy="537840"/>
                </a:xfrm>
                <a:custGeom>
                  <a:avLst/>
                  <a:gdLst>
                    <a:gd name="textAreaLeft" fmla="*/ -360 w 405720"/>
                    <a:gd name="textAreaRight" fmla="*/ 405720 w 405720"/>
                    <a:gd name="textAreaTop" fmla="*/ 360 h 537840"/>
                    <a:gd name="textAreaBottom" fmla="*/ 538560 h 53784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31"/>
                <p:cNvSpPr/>
                <p:nvPr/>
              </p:nvSpPr>
              <p:spPr>
                <a:xfrm flipH="1" flipV="1" rot="4804800">
                  <a:off x="2409840" y="623880"/>
                  <a:ext cx="185400" cy="247680"/>
                </a:xfrm>
                <a:custGeom>
                  <a:avLst/>
                  <a:gdLst>
                    <a:gd name="textAreaLeft" fmla="*/ -360 w 185400"/>
                    <a:gd name="textAreaRight" fmla="*/ 185400 w 185400"/>
                    <a:gd name="textAreaTop" fmla="*/ 360 h 247680"/>
                    <a:gd name="textAreaBottom" fmla="*/ 24840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Group 32"/>
              <p:cNvGrpSpPr/>
              <p:nvPr/>
            </p:nvGrpSpPr>
            <p:grpSpPr>
              <a:xfrm>
                <a:off x="-91440" y="894600"/>
                <a:ext cx="3284280" cy="2547000"/>
                <a:chOff x="-91440" y="894600"/>
                <a:chExt cx="3284280" cy="2547000"/>
              </a:xfrm>
            </p:grpSpPr>
            <p:sp>
              <p:nvSpPr>
                <p:cNvPr id="633" name="Freeform 33"/>
                <p:cNvSpPr/>
                <p:nvPr/>
              </p:nvSpPr>
              <p:spPr>
                <a:xfrm flipH="1" flipV="1" rot="4206000">
                  <a:off x="678960" y="618480"/>
                  <a:ext cx="1109880" cy="2417760"/>
                </a:xfrm>
                <a:custGeom>
                  <a:avLst/>
                  <a:gdLst>
                    <a:gd name="textAreaLeft" fmla="*/ -360 w 1109880"/>
                    <a:gd name="textAreaRight" fmla="*/ 1109880 w 1109880"/>
                    <a:gd name="textAreaTop" fmla="*/ 360 h 2417760"/>
                    <a:gd name="textAreaBottom" fmla="*/ 241848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4" name="Group 34"/>
                <p:cNvGrpSpPr/>
                <p:nvPr/>
              </p:nvGrpSpPr>
              <p:grpSpPr>
                <a:xfrm>
                  <a:off x="404640" y="2169000"/>
                  <a:ext cx="2788200" cy="1272600"/>
                  <a:chOff x="404640" y="2169000"/>
                  <a:chExt cx="2788200" cy="1272600"/>
                </a:xfrm>
              </p:grpSpPr>
              <p:sp>
                <p:nvSpPr>
                  <p:cNvPr id="635" name="Freeform 35"/>
                  <p:cNvSpPr/>
                  <p:nvPr/>
                </p:nvSpPr>
                <p:spPr>
                  <a:xfrm flipH="1" flipV="1" rot="6258000">
                    <a:off x="1638000" y="1554480"/>
                    <a:ext cx="357840" cy="274752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360 h 2747520"/>
                      <a:gd name="textAreaBottom" fmla="*/ 2748240 h 27475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Oval 36"/>
                  <p:cNvSpPr/>
                  <p:nvPr/>
                </p:nvSpPr>
                <p:spPr>
                  <a:xfrm flipH="1" flipV="1" rot="6258000">
                    <a:off x="437760" y="222516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37" name="Group 37"/>
            <p:cNvGrpSpPr/>
            <p:nvPr/>
          </p:nvGrpSpPr>
          <p:grpSpPr>
            <a:xfrm>
              <a:off x="3039840" y="3489120"/>
              <a:ext cx="3322800" cy="2808000"/>
              <a:chOff x="3039840" y="3489120"/>
              <a:chExt cx="3322800" cy="2808000"/>
            </a:xfrm>
          </p:grpSpPr>
          <p:sp>
            <p:nvSpPr>
              <p:cNvPr id="638" name="Freeform 38"/>
              <p:cNvSpPr/>
              <p:nvPr/>
            </p:nvSpPr>
            <p:spPr>
              <a:xfrm rot="4206000">
                <a:off x="4151160" y="3718800"/>
                <a:ext cx="1269360" cy="2894040"/>
              </a:xfrm>
              <a:custGeom>
                <a:avLst/>
                <a:gdLst>
                  <a:gd name="textAreaLeft" fmla="*/ 0 w 1269360"/>
                  <a:gd name="textAreaRight" fmla="*/ 1269720 w 1269360"/>
                  <a:gd name="textAreaTop" fmla="*/ 0 h 2894040"/>
                  <a:gd name="textAreaBottom" fmla="*/ 2894400 h 2894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9" name="Group 39"/>
              <p:cNvGrpSpPr/>
              <p:nvPr/>
            </p:nvGrpSpPr>
            <p:grpSpPr>
              <a:xfrm>
                <a:off x="3039840" y="3489120"/>
                <a:ext cx="3284640" cy="2808000"/>
                <a:chOff x="3039840" y="3489120"/>
                <a:chExt cx="3284640" cy="2808000"/>
              </a:xfrm>
            </p:grpSpPr>
            <p:grpSp>
              <p:nvGrpSpPr>
                <p:cNvPr id="640" name="Group 40"/>
                <p:cNvGrpSpPr/>
                <p:nvPr/>
              </p:nvGrpSpPr>
              <p:grpSpPr>
                <a:xfrm>
                  <a:off x="3560040" y="5803560"/>
                  <a:ext cx="600480" cy="493560"/>
                  <a:chOff x="3560040" y="5803560"/>
                  <a:chExt cx="600480" cy="493560"/>
                </a:xfrm>
              </p:grpSpPr>
              <p:sp>
                <p:nvSpPr>
                  <p:cNvPr id="641" name="Freeform 41"/>
                  <p:cNvSpPr/>
                  <p:nvPr/>
                </p:nvSpPr>
                <p:spPr>
                  <a:xfrm rot="4804800">
                    <a:off x="3659040" y="5778720"/>
                    <a:ext cx="40248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Freeform 42"/>
                  <p:cNvSpPr/>
                  <p:nvPr/>
                </p:nvSpPr>
                <p:spPr>
                  <a:xfrm rot="4804800">
                    <a:off x="3638880" y="6060960"/>
                    <a:ext cx="183960" cy="248400"/>
                  </a:xfrm>
                  <a:custGeom>
                    <a:avLst/>
                    <a:gdLst>
                      <a:gd name="textAreaLeft" fmla="*/ 0 w 183960"/>
                      <a:gd name="textAreaRight" fmla="*/ 184320 w 183960"/>
                      <a:gd name="textAreaTop" fmla="*/ 0 h 248400"/>
                      <a:gd name="textAreaBottom" fmla="*/ 248760 h 24840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43"/>
                <p:cNvGrpSpPr/>
                <p:nvPr/>
              </p:nvGrpSpPr>
              <p:grpSpPr>
                <a:xfrm>
                  <a:off x="3039840" y="3489120"/>
                  <a:ext cx="3284640" cy="2547000"/>
                  <a:chOff x="3039840" y="3489120"/>
                  <a:chExt cx="3284640" cy="2547000"/>
                </a:xfrm>
              </p:grpSpPr>
              <p:sp>
                <p:nvSpPr>
                  <p:cNvPr id="644" name="Freeform 44"/>
                  <p:cNvSpPr/>
                  <p:nvPr/>
                </p:nvSpPr>
                <p:spPr>
                  <a:xfrm rot="4206000">
                    <a:off x="4444200" y="3893760"/>
                    <a:ext cx="1109520" cy="2417760"/>
                  </a:xfrm>
                  <a:custGeom>
                    <a:avLst/>
                    <a:gdLst>
                      <a:gd name="textAreaLeft" fmla="*/ 0 w 1109520"/>
                      <a:gd name="textAreaRight" fmla="*/ 1109880 w 1109520"/>
                      <a:gd name="textAreaTop" fmla="*/ 0 h 2417760"/>
                      <a:gd name="textAreaBottom" fmla="*/ 2418120 h 24177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5" name="Group 45"/>
                  <p:cNvGrpSpPr/>
                  <p:nvPr/>
                </p:nvGrpSpPr>
                <p:grpSpPr>
                  <a:xfrm>
                    <a:off x="3039840" y="3489120"/>
                    <a:ext cx="2788200" cy="1272600"/>
                    <a:chOff x="3039840" y="3489120"/>
                    <a:chExt cx="2788200" cy="1272600"/>
                  </a:xfrm>
                </p:grpSpPr>
                <p:sp>
                  <p:nvSpPr>
                    <p:cNvPr id="646" name="Freeform 46"/>
                    <p:cNvSpPr/>
                    <p:nvPr/>
                  </p:nvSpPr>
                  <p:spPr>
                    <a:xfrm rot="6258000">
                      <a:off x="4236120" y="2628720"/>
                      <a:ext cx="357840" cy="2747520"/>
                    </a:xfrm>
                    <a:custGeom>
                      <a:avLst/>
                      <a:gdLst>
                        <a:gd name="textAreaLeft" fmla="*/ 0 w 357840"/>
                        <a:gd name="textAreaRight" fmla="*/ 357840 w 357840"/>
                        <a:gd name="textAreaTop" fmla="*/ 0 h 2747520"/>
                        <a:gd name="textAreaBottom" fmla="*/ 2747880 h 274752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Oval 47"/>
                    <p:cNvSpPr/>
                    <p:nvPr/>
                  </p:nvSpPr>
                  <p:spPr>
                    <a:xfrm rot="6258000">
                      <a:off x="5365800" y="4303080"/>
                      <a:ext cx="428760" cy="4021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648" name="Group 48"/>
          <p:cNvGrpSpPr/>
          <p:nvPr/>
        </p:nvGrpSpPr>
        <p:grpSpPr>
          <a:xfrm>
            <a:off x="2673360" y="707760"/>
            <a:ext cx="6492240" cy="5662440"/>
            <a:chOff x="2673360" y="707760"/>
            <a:chExt cx="6492240" cy="5662440"/>
          </a:xfrm>
        </p:grpSpPr>
        <p:sp>
          <p:nvSpPr>
            <p:cNvPr id="649" name="Freeform 49"/>
            <p:cNvSpPr/>
            <p:nvPr/>
          </p:nvSpPr>
          <p:spPr>
            <a:xfrm flipV="1" rot="17393400">
              <a:off x="6953400" y="392760"/>
              <a:ext cx="1270080" cy="289404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-360 h 2894040"/>
                <a:gd name="textAreaBottom" fmla="*/ 289404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50"/>
            <p:cNvGrpSpPr/>
            <p:nvPr/>
          </p:nvGrpSpPr>
          <p:grpSpPr>
            <a:xfrm>
              <a:off x="5843160" y="707760"/>
              <a:ext cx="3284280" cy="2806920"/>
              <a:chOff x="5843160" y="707760"/>
              <a:chExt cx="3284280" cy="2806920"/>
            </a:xfrm>
          </p:grpSpPr>
          <p:grpSp>
            <p:nvGrpSpPr>
              <p:cNvPr id="651" name="Group 51"/>
              <p:cNvGrpSpPr/>
              <p:nvPr/>
            </p:nvGrpSpPr>
            <p:grpSpPr>
              <a:xfrm>
                <a:off x="6364080" y="707760"/>
                <a:ext cx="599760" cy="492120"/>
                <a:chOff x="6364080" y="707760"/>
                <a:chExt cx="599760" cy="492120"/>
              </a:xfrm>
            </p:grpSpPr>
            <p:sp>
              <p:nvSpPr>
                <p:cNvPr id="652" name="Freeform 52"/>
                <p:cNvSpPr/>
                <p:nvPr/>
              </p:nvSpPr>
              <p:spPr>
                <a:xfrm flipV="1" rot="16795200">
                  <a:off x="6460920" y="684360"/>
                  <a:ext cx="405720" cy="537840"/>
                </a:xfrm>
                <a:custGeom>
                  <a:avLst/>
                  <a:gdLst>
                    <a:gd name="textAreaLeft" fmla="*/ 0 w 405720"/>
                    <a:gd name="textAreaRight" fmla="*/ 406080 w 405720"/>
                    <a:gd name="textAreaTop" fmla="*/ 360 h 537840"/>
                    <a:gd name="textAreaBottom" fmla="*/ 538560 h 53784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53"/>
                <p:cNvSpPr/>
                <p:nvPr/>
              </p:nvSpPr>
              <p:spPr>
                <a:xfrm flipV="1" rot="16795200">
                  <a:off x="6440400" y="696960"/>
                  <a:ext cx="185400" cy="24768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360 h 247680"/>
                    <a:gd name="textAreaBottom" fmla="*/ 24840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Group 54"/>
              <p:cNvGrpSpPr/>
              <p:nvPr/>
            </p:nvGrpSpPr>
            <p:grpSpPr>
              <a:xfrm>
                <a:off x="5843160" y="967680"/>
                <a:ext cx="3284280" cy="2547000"/>
                <a:chOff x="5843160" y="967680"/>
                <a:chExt cx="3284280" cy="2547000"/>
              </a:xfrm>
            </p:grpSpPr>
            <p:sp>
              <p:nvSpPr>
                <p:cNvPr id="655" name="Freeform 55"/>
                <p:cNvSpPr/>
                <p:nvPr/>
              </p:nvSpPr>
              <p:spPr>
                <a:xfrm flipV="1" rot="17394000">
                  <a:off x="7246800" y="691560"/>
                  <a:ext cx="1109880" cy="2417760"/>
                </a:xfrm>
                <a:custGeom>
                  <a:avLst/>
                  <a:gdLst>
                    <a:gd name="textAreaLeft" fmla="*/ 0 w 1109880"/>
                    <a:gd name="textAreaRight" fmla="*/ 1110240 w 1109880"/>
                    <a:gd name="textAreaTop" fmla="*/ 360 h 2417760"/>
                    <a:gd name="textAreaBottom" fmla="*/ 241848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" name="Group 56"/>
                <p:cNvGrpSpPr/>
                <p:nvPr/>
              </p:nvGrpSpPr>
              <p:grpSpPr>
                <a:xfrm>
                  <a:off x="5843160" y="2242080"/>
                  <a:ext cx="2788200" cy="1272600"/>
                  <a:chOff x="5843160" y="2242080"/>
                  <a:chExt cx="2788200" cy="1272600"/>
                </a:xfrm>
              </p:grpSpPr>
              <p:sp>
                <p:nvSpPr>
                  <p:cNvPr id="657" name="Freeform 57"/>
                  <p:cNvSpPr/>
                  <p:nvPr/>
                </p:nvSpPr>
                <p:spPr>
                  <a:xfrm flipV="1" rot="15342000">
                    <a:off x="7039440" y="1627560"/>
                    <a:ext cx="357840" cy="274752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360 h 2747520"/>
                      <a:gd name="textAreaBottom" fmla="*/ 2748240 h 27475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Oval 58"/>
                  <p:cNvSpPr/>
                  <p:nvPr/>
                </p:nvSpPr>
                <p:spPr>
                  <a:xfrm flipV="1" rot="15342000">
                    <a:off x="8169120" y="229824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9" name="Group 59"/>
            <p:cNvGrpSpPr/>
            <p:nvPr/>
          </p:nvGrpSpPr>
          <p:grpSpPr>
            <a:xfrm>
              <a:off x="2673360" y="3562200"/>
              <a:ext cx="3322800" cy="2808000"/>
              <a:chOff x="2673360" y="3562200"/>
              <a:chExt cx="3322800" cy="2808000"/>
            </a:xfrm>
          </p:grpSpPr>
          <p:sp>
            <p:nvSpPr>
              <p:cNvPr id="660" name="Freeform 60"/>
              <p:cNvSpPr/>
              <p:nvPr/>
            </p:nvSpPr>
            <p:spPr>
              <a:xfrm flipH="1" rot="17394000">
                <a:off x="3614760" y="3791880"/>
                <a:ext cx="1269360" cy="2894040"/>
              </a:xfrm>
              <a:custGeom>
                <a:avLst/>
                <a:gdLst>
                  <a:gd name="textAreaLeft" fmla="*/ 360 w 1269360"/>
                  <a:gd name="textAreaRight" fmla="*/ 1270080 w 1269360"/>
                  <a:gd name="textAreaTop" fmla="*/ 0 h 2894040"/>
                  <a:gd name="textAreaBottom" fmla="*/ 2894400 h 2894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Group 61"/>
              <p:cNvGrpSpPr/>
              <p:nvPr/>
            </p:nvGrpSpPr>
            <p:grpSpPr>
              <a:xfrm>
                <a:off x="2711520" y="3562200"/>
                <a:ext cx="3284640" cy="2808000"/>
                <a:chOff x="2711520" y="3562200"/>
                <a:chExt cx="3284640" cy="2808000"/>
              </a:xfrm>
            </p:grpSpPr>
            <p:grpSp>
              <p:nvGrpSpPr>
                <p:cNvPr id="662" name="Group 62"/>
                <p:cNvGrpSpPr/>
                <p:nvPr/>
              </p:nvGrpSpPr>
              <p:grpSpPr>
                <a:xfrm>
                  <a:off x="4875120" y="5876640"/>
                  <a:ext cx="596880" cy="493560"/>
                  <a:chOff x="4875120" y="5876640"/>
                  <a:chExt cx="596880" cy="493560"/>
                </a:xfrm>
              </p:grpSpPr>
              <p:sp>
                <p:nvSpPr>
                  <p:cNvPr id="663" name="Freeform 63"/>
                  <p:cNvSpPr/>
                  <p:nvPr/>
                </p:nvSpPr>
                <p:spPr>
                  <a:xfrm flipH="1" rot="16795200">
                    <a:off x="4970520" y="5854680"/>
                    <a:ext cx="4057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Freeform 64"/>
                  <p:cNvSpPr/>
                  <p:nvPr/>
                </p:nvSpPr>
                <p:spPr>
                  <a:xfrm flipH="1" rot="16795200">
                    <a:off x="5213520" y="6134760"/>
                    <a:ext cx="185400" cy="245880"/>
                  </a:xfrm>
                  <a:custGeom>
                    <a:avLst/>
                    <a:gdLst>
                      <a:gd name="textAreaLeft" fmla="*/ -360 w 185400"/>
                      <a:gd name="textAreaRight" fmla="*/ 185400 w 185400"/>
                      <a:gd name="textAreaTop" fmla="*/ 0 h 245880"/>
                      <a:gd name="textAreaBottom" fmla="*/ 246240 h 24588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Group 65"/>
                <p:cNvGrpSpPr/>
                <p:nvPr/>
              </p:nvGrpSpPr>
              <p:grpSpPr>
                <a:xfrm>
                  <a:off x="2711520" y="3562200"/>
                  <a:ext cx="3284640" cy="2547000"/>
                  <a:chOff x="2711520" y="3562200"/>
                  <a:chExt cx="3284640" cy="2547000"/>
                </a:xfrm>
              </p:grpSpPr>
              <p:sp>
                <p:nvSpPr>
                  <p:cNvPr id="666" name="Freeform 66"/>
                  <p:cNvSpPr/>
                  <p:nvPr/>
                </p:nvSpPr>
                <p:spPr>
                  <a:xfrm flipH="1" rot="17394000">
                    <a:off x="3482280" y="3966840"/>
                    <a:ext cx="1109520" cy="2417760"/>
                  </a:xfrm>
                  <a:custGeom>
                    <a:avLst/>
                    <a:gdLst>
                      <a:gd name="textAreaLeft" fmla="*/ 360 w 1109520"/>
                      <a:gd name="textAreaRight" fmla="*/ 1110240 w 1109520"/>
                      <a:gd name="textAreaTop" fmla="*/ 0 h 2417760"/>
                      <a:gd name="textAreaBottom" fmla="*/ 2418120 h 24177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7" name="Group 67"/>
                  <p:cNvGrpSpPr/>
                  <p:nvPr/>
                </p:nvGrpSpPr>
                <p:grpSpPr>
                  <a:xfrm>
                    <a:off x="3207960" y="3562200"/>
                    <a:ext cx="2788200" cy="1272600"/>
                    <a:chOff x="3207960" y="3562200"/>
                    <a:chExt cx="2788200" cy="1272600"/>
                  </a:xfrm>
                </p:grpSpPr>
                <p:sp>
                  <p:nvSpPr>
                    <p:cNvPr id="668" name="Freeform 68"/>
                    <p:cNvSpPr/>
                    <p:nvPr/>
                  </p:nvSpPr>
                  <p:spPr>
                    <a:xfrm flipH="1" rot="15342000">
                      <a:off x="4441320" y="2701800"/>
                      <a:ext cx="357840" cy="2747520"/>
                    </a:xfrm>
                    <a:custGeom>
                      <a:avLst/>
                      <a:gdLst>
                        <a:gd name="textAreaLeft" fmla="*/ 0 w 357840"/>
                        <a:gd name="textAreaRight" fmla="*/ 357840 w 357840"/>
                        <a:gd name="textAreaTop" fmla="*/ 0 h 2747520"/>
                        <a:gd name="textAreaBottom" fmla="*/ 2747880 h 274752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Oval 69"/>
                    <p:cNvSpPr/>
                    <p:nvPr/>
                  </p:nvSpPr>
                  <p:spPr>
                    <a:xfrm flipH="1" rot="15342000">
                      <a:off x="3241080" y="4376160"/>
                      <a:ext cx="428760" cy="4021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670" name="Freeform 70"/>
          <p:cNvSpPr/>
          <p:nvPr/>
        </p:nvSpPr>
        <p:spPr>
          <a:xfrm>
            <a:off x="4533840" y="660240"/>
            <a:ext cx="12600" cy="5473800"/>
          </a:xfrm>
          <a:custGeom>
            <a:avLst/>
            <a:gdLst>
              <a:gd name="textAreaLeft" fmla="*/ 0 w 12600"/>
              <a:gd name="textAreaRight" fmla="*/ 12960 w 12600"/>
              <a:gd name="textAreaTop" fmla="*/ 0 h 5473800"/>
              <a:gd name="textAreaBottom" fmla="*/ 5473800 h 5473800"/>
            </a:gdLst>
            <a:ahLst/>
            <a:rect l="textAreaLeft" t="textAreaTop" r="textAreaRight" b="textAreaBottom"/>
            <a:pathLst>
              <a:path w="8" h="3448">
                <a:moveTo>
                  <a:pt x="0" y="0"/>
                </a:moveTo>
                <a:lnTo>
                  <a:pt x="8" y="34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rc 71"/>
          <p:cNvSpPr/>
          <p:nvPr/>
        </p:nvSpPr>
        <p:spPr>
          <a:xfrm rot="1735800">
            <a:off x="4776840" y="2997360"/>
            <a:ext cx="1307880" cy="91260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912600"/>
              <a:gd name="textAreaBottom" fmla="*/ 912960 h 912600"/>
            </a:gdLst>
            <a:ahLst/>
            <a:rect l="textAreaLeft" t="textAreaTop" r="textAreaRight" b="textAreaBottom"/>
            <a:pathLst>
              <a:path fill="none" w="21197" h="15620">
                <a:moveTo>
                  <a:pt x="14918" y="-1"/>
                </a:moveTo>
                <a:cubicBezTo>
                  <a:pt x="18145" y="3081"/>
                  <a:pt x="20338" y="7086"/>
                  <a:pt x="21196" y="11465"/>
                </a:cubicBezTo>
              </a:path>
              <a:path stroke="0" w="21197" h="15620">
                <a:moveTo>
                  <a:pt x="14918" y="-1"/>
                </a:moveTo>
                <a:cubicBezTo>
                  <a:pt x="18145" y="3081"/>
                  <a:pt x="20338" y="7086"/>
                  <a:pt x="21196" y="11465"/>
                </a:cubicBezTo>
                <a:lnTo>
                  <a:pt x="0" y="15620"/>
                </a:lnTo>
                <a:lnTo>
                  <a:pt x="14918" y="-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72"/>
          <p:cNvGrpSpPr/>
          <p:nvPr/>
        </p:nvGrpSpPr>
        <p:grpSpPr>
          <a:xfrm>
            <a:off x="1890000" y="601200"/>
            <a:ext cx="5240880" cy="5870880"/>
            <a:chOff x="1890000" y="601200"/>
            <a:chExt cx="5240880" cy="5870880"/>
          </a:xfrm>
        </p:grpSpPr>
        <p:grpSp>
          <p:nvGrpSpPr>
            <p:cNvPr id="673" name="Group 73"/>
            <p:cNvGrpSpPr/>
            <p:nvPr/>
          </p:nvGrpSpPr>
          <p:grpSpPr>
            <a:xfrm>
              <a:off x="4537080" y="601200"/>
              <a:ext cx="2593800" cy="3384720"/>
              <a:chOff x="4537080" y="601200"/>
              <a:chExt cx="2593800" cy="3384720"/>
            </a:xfrm>
          </p:grpSpPr>
          <p:sp>
            <p:nvSpPr>
              <p:cNvPr id="674" name="Freeform 74"/>
              <p:cNvSpPr/>
              <p:nvPr/>
            </p:nvSpPr>
            <p:spPr>
              <a:xfrm rot="1447800">
                <a:off x="5248440" y="732960"/>
                <a:ext cx="1306440" cy="309384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93840"/>
                  <a:gd name="textAreaBottom" fmla="*/ 3094200 h 30938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75"/>
              <p:cNvSpPr/>
              <p:nvPr/>
            </p:nvSpPr>
            <p:spPr>
              <a:xfrm rot="1447800">
                <a:off x="5679360" y="3343680"/>
                <a:ext cx="327960" cy="6012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76"/>
              <p:cNvSpPr/>
              <p:nvPr/>
            </p:nvSpPr>
            <p:spPr>
              <a:xfrm rot="1447800">
                <a:off x="5799960" y="3727440"/>
                <a:ext cx="126000" cy="22860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77"/>
              <p:cNvGrpSpPr/>
              <p:nvPr/>
            </p:nvGrpSpPr>
            <p:grpSpPr>
              <a:xfrm>
                <a:off x="4537080" y="657720"/>
                <a:ext cx="2526480" cy="3025800"/>
                <a:chOff x="4537080" y="657720"/>
                <a:chExt cx="2526480" cy="3025800"/>
              </a:xfrm>
            </p:grpSpPr>
            <p:sp>
              <p:nvSpPr>
                <p:cNvPr id="678" name="Freeform 78"/>
                <p:cNvSpPr/>
                <p:nvPr/>
              </p:nvSpPr>
              <p:spPr>
                <a:xfrm rot="1447800">
                  <a:off x="5443560" y="777960"/>
                  <a:ext cx="1141200" cy="258480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84800"/>
                    <a:gd name="textAreaBottom" fmla="*/ 2585160 h 258480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9" name="Group 79"/>
                <p:cNvGrpSpPr/>
                <p:nvPr/>
              </p:nvGrpSpPr>
              <p:grpSpPr>
                <a:xfrm>
                  <a:off x="4537080" y="846720"/>
                  <a:ext cx="1767960" cy="2836800"/>
                  <a:chOff x="4537080" y="846720"/>
                  <a:chExt cx="1767960" cy="2836800"/>
                </a:xfrm>
              </p:grpSpPr>
              <p:sp>
                <p:nvSpPr>
                  <p:cNvPr id="680" name="Freeform 80"/>
                  <p:cNvSpPr/>
                  <p:nvPr/>
                </p:nvSpPr>
                <p:spPr>
                  <a:xfrm rot="1447800">
                    <a:off x="5121360" y="799200"/>
                    <a:ext cx="367920" cy="29376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37600"/>
                      <a:gd name="textAreaBottom" fmla="*/ 2937960 h 29376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Oval 81"/>
                  <p:cNvSpPr/>
                  <p:nvPr/>
                </p:nvSpPr>
                <p:spPr>
                  <a:xfrm rot="1447800">
                    <a:off x="5795640" y="918000"/>
                    <a:ext cx="440640" cy="4298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2" name="Group 82"/>
            <p:cNvGrpSpPr/>
            <p:nvPr/>
          </p:nvGrpSpPr>
          <p:grpSpPr>
            <a:xfrm>
              <a:off x="1890000" y="3083760"/>
              <a:ext cx="2552760" cy="3388320"/>
              <a:chOff x="1890000" y="3083760"/>
              <a:chExt cx="2552760" cy="3388320"/>
            </a:xfrm>
          </p:grpSpPr>
          <p:sp>
            <p:nvSpPr>
              <p:cNvPr id="683" name="Freeform 83"/>
              <p:cNvSpPr/>
              <p:nvPr/>
            </p:nvSpPr>
            <p:spPr>
              <a:xfrm rot="12189600">
                <a:off x="2445840" y="3245760"/>
                <a:ext cx="1306440" cy="309384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93840"/>
                  <a:gd name="textAreaBottom" fmla="*/ 3094200 h 30938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84"/>
              <p:cNvSpPr/>
              <p:nvPr/>
            </p:nvSpPr>
            <p:spPr>
              <a:xfrm rot="12189600">
                <a:off x="2967120" y="3124440"/>
                <a:ext cx="329760" cy="60120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85"/>
              <p:cNvSpPr/>
              <p:nvPr/>
            </p:nvSpPr>
            <p:spPr>
              <a:xfrm rot="12189600">
                <a:off x="3048480" y="3115440"/>
                <a:ext cx="126000" cy="22860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Group 86"/>
              <p:cNvGrpSpPr/>
              <p:nvPr/>
            </p:nvGrpSpPr>
            <p:grpSpPr>
              <a:xfrm>
                <a:off x="1957680" y="3372120"/>
                <a:ext cx="2485080" cy="3044880"/>
                <a:chOff x="1957680" y="3372120"/>
                <a:chExt cx="2485080" cy="3044880"/>
              </a:xfrm>
            </p:grpSpPr>
            <p:sp>
              <p:nvSpPr>
                <p:cNvPr id="687" name="Freeform 87"/>
                <p:cNvSpPr/>
                <p:nvPr/>
              </p:nvSpPr>
              <p:spPr>
                <a:xfrm rot="12189600">
                  <a:off x="2419920" y="3711600"/>
                  <a:ext cx="1141200" cy="258480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84800"/>
                    <a:gd name="textAreaBottom" fmla="*/ 2585160 h 258480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Group 88"/>
                <p:cNvGrpSpPr/>
                <p:nvPr/>
              </p:nvGrpSpPr>
              <p:grpSpPr>
                <a:xfrm>
                  <a:off x="2718000" y="3372120"/>
                  <a:ext cx="1724760" cy="2854080"/>
                  <a:chOff x="2718000" y="3372120"/>
                  <a:chExt cx="1724760" cy="2854080"/>
                </a:xfrm>
              </p:grpSpPr>
              <p:sp>
                <p:nvSpPr>
                  <p:cNvPr id="689" name="Freeform 89"/>
                  <p:cNvSpPr/>
                  <p:nvPr/>
                </p:nvSpPr>
                <p:spPr>
                  <a:xfrm rot="12189600">
                    <a:off x="3511800" y="3325680"/>
                    <a:ext cx="367920" cy="29376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37600"/>
                      <a:gd name="textAreaBottom" fmla="*/ 2937960 h 29376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Oval 90"/>
                  <p:cNvSpPr/>
                  <p:nvPr/>
                </p:nvSpPr>
                <p:spPr>
                  <a:xfrm rot="12189600">
                    <a:off x="2784600" y="5726880"/>
                    <a:ext cx="440640" cy="4298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91" name="Arc 91"/>
          <p:cNvSpPr/>
          <p:nvPr/>
        </p:nvSpPr>
        <p:spPr>
          <a:xfrm flipH="1" rot="19864200">
            <a:off x="2986920" y="2997360"/>
            <a:ext cx="1320840" cy="884160"/>
          </a:xfrm>
          <a:custGeom>
            <a:avLst/>
            <a:gdLst>
              <a:gd name="textAreaLeft" fmla="*/ -360 w 1320840"/>
              <a:gd name="textAreaRight" fmla="*/ 1320840 w 13208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fill="none" w="21386" h="15141">
                <a:moveTo>
                  <a:pt x="15404" y="0"/>
                </a:moveTo>
                <a:cubicBezTo>
                  <a:pt x="18641" y="3293"/>
                  <a:pt x="20737" y="7536"/>
                  <a:pt x="21385" y="12108"/>
                </a:cubicBezTo>
              </a:path>
              <a:path stroke="0" w="21386" h="15141">
                <a:moveTo>
                  <a:pt x="15404" y="0"/>
                </a:moveTo>
                <a:cubicBezTo>
                  <a:pt x="18641" y="3293"/>
                  <a:pt x="20737" y="7536"/>
                  <a:pt x="21385" y="12108"/>
                </a:cubicBezTo>
                <a:lnTo>
                  <a:pt x="0" y="15141"/>
                </a:lnTo>
                <a:lnTo>
                  <a:pt x="15404" y="0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92"/>
          <p:cNvGrpSpPr/>
          <p:nvPr/>
        </p:nvGrpSpPr>
        <p:grpSpPr>
          <a:xfrm>
            <a:off x="2059560" y="609840"/>
            <a:ext cx="5017680" cy="5927400"/>
            <a:chOff x="2059560" y="609840"/>
            <a:chExt cx="5017680" cy="5927400"/>
          </a:xfrm>
        </p:grpSpPr>
        <p:grpSp>
          <p:nvGrpSpPr>
            <p:cNvPr id="693" name="Group 93"/>
            <p:cNvGrpSpPr/>
            <p:nvPr/>
          </p:nvGrpSpPr>
          <p:grpSpPr>
            <a:xfrm>
              <a:off x="2059560" y="609840"/>
              <a:ext cx="2457720" cy="3361680"/>
              <a:chOff x="2059560" y="609840"/>
              <a:chExt cx="2457720" cy="3361680"/>
            </a:xfrm>
          </p:grpSpPr>
          <p:sp>
            <p:nvSpPr>
              <p:cNvPr id="694" name="Freeform 94"/>
              <p:cNvSpPr/>
              <p:nvPr/>
            </p:nvSpPr>
            <p:spPr>
              <a:xfrm flipH="1" rot="20280000">
                <a:off x="2592000" y="733680"/>
                <a:ext cx="1262160" cy="3087360"/>
              </a:xfrm>
              <a:custGeom>
                <a:avLst/>
                <a:gdLst>
                  <a:gd name="textAreaLeft" fmla="*/ 360 w 1262160"/>
                  <a:gd name="textAreaRight" fmla="*/ 1262880 w 1262160"/>
                  <a:gd name="textAreaTop" fmla="*/ 0 h 3087360"/>
                  <a:gd name="textAreaBottom" fmla="*/ 3087720 h 30873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95"/>
              <p:cNvSpPr/>
              <p:nvPr/>
            </p:nvSpPr>
            <p:spPr>
              <a:xfrm flipH="1" rot="20280000">
                <a:off x="3082680" y="3334320"/>
                <a:ext cx="316800" cy="5994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96"/>
              <p:cNvSpPr/>
              <p:nvPr/>
            </p:nvSpPr>
            <p:spPr>
              <a:xfrm flipH="1" rot="20280000">
                <a:off x="3159720" y="3716280"/>
                <a:ext cx="121680" cy="227880"/>
              </a:xfrm>
              <a:custGeom>
                <a:avLst/>
                <a:gdLst>
                  <a:gd name="textAreaLeft" fmla="*/ 360 w 121680"/>
                  <a:gd name="textAreaRight" fmla="*/ 122400 w 1216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7" name="Group 97"/>
              <p:cNvGrpSpPr/>
              <p:nvPr/>
            </p:nvGrpSpPr>
            <p:grpSpPr>
              <a:xfrm>
                <a:off x="2125080" y="661680"/>
                <a:ext cx="2392200" cy="3057480"/>
                <a:chOff x="2125080" y="661680"/>
                <a:chExt cx="2392200" cy="3057480"/>
              </a:xfrm>
            </p:grpSpPr>
            <p:sp>
              <p:nvSpPr>
                <p:cNvPr id="698" name="Freeform 98"/>
                <p:cNvSpPr/>
                <p:nvPr/>
              </p:nvSpPr>
              <p:spPr>
                <a:xfrm flipH="1" rot="20280000">
                  <a:off x="2568240" y="774000"/>
                  <a:ext cx="1101960" cy="2579760"/>
                </a:xfrm>
                <a:custGeom>
                  <a:avLst/>
                  <a:gdLst>
                    <a:gd name="textAreaLeft" fmla="*/ -360 w 1101960"/>
                    <a:gd name="textAreaRight" fmla="*/ 1101960 w 1101960"/>
                    <a:gd name="textAreaTop" fmla="*/ 0 h 2579760"/>
                    <a:gd name="textAreaBottom" fmla="*/ 2580120 h 257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Group 99"/>
                <p:cNvGrpSpPr/>
                <p:nvPr/>
              </p:nvGrpSpPr>
              <p:grpSpPr>
                <a:xfrm>
                  <a:off x="2863440" y="854640"/>
                  <a:ext cx="1653840" cy="2864520"/>
                  <a:chOff x="2863440" y="854640"/>
                  <a:chExt cx="1653840" cy="2864520"/>
                </a:xfrm>
              </p:grpSpPr>
              <p:sp>
                <p:nvSpPr>
                  <p:cNvPr id="700" name="Freeform 100"/>
                  <p:cNvSpPr/>
                  <p:nvPr/>
                </p:nvSpPr>
                <p:spPr>
                  <a:xfrm flipH="1" rot="20280000">
                    <a:off x="3624840" y="827640"/>
                    <a:ext cx="354960" cy="2931840"/>
                  </a:xfrm>
                  <a:custGeom>
                    <a:avLst/>
                    <a:gdLst>
                      <a:gd name="textAreaLeft" fmla="*/ 360 w 354960"/>
                      <a:gd name="textAreaRight" fmla="*/ 355680 w 354960"/>
                      <a:gd name="textAreaTop" fmla="*/ 0 h 2931840"/>
                      <a:gd name="textAreaBottom" fmla="*/ 2932200 h 2931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Oval 101"/>
                  <p:cNvSpPr/>
                  <p:nvPr/>
                </p:nvSpPr>
                <p:spPr>
                  <a:xfrm flipH="1" rot="20280000">
                    <a:off x="2928240" y="918360"/>
                    <a:ext cx="425160" cy="429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2" name="Group 102"/>
            <p:cNvGrpSpPr/>
            <p:nvPr/>
          </p:nvGrpSpPr>
          <p:grpSpPr>
            <a:xfrm>
              <a:off x="4663440" y="3172320"/>
              <a:ext cx="2413800" cy="3364920"/>
              <a:chOff x="4663440" y="3172320"/>
              <a:chExt cx="2413800" cy="3364920"/>
            </a:xfrm>
          </p:grpSpPr>
          <p:sp>
            <p:nvSpPr>
              <p:cNvPr id="703" name="Freeform 103"/>
              <p:cNvSpPr/>
              <p:nvPr/>
            </p:nvSpPr>
            <p:spPr>
              <a:xfrm flipH="1" rot="9538200">
                <a:off x="5302800" y="3325680"/>
                <a:ext cx="1262160" cy="3087720"/>
              </a:xfrm>
              <a:custGeom>
                <a:avLst/>
                <a:gdLst>
                  <a:gd name="textAreaLeft" fmla="*/ 360 w 1262160"/>
                  <a:gd name="textAreaRight" fmla="*/ 1262880 w 1262160"/>
                  <a:gd name="textAreaTop" fmla="*/ 0 h 3087720"/>
                  <a:gd name="textAreaBottom" fmla="*/ 3088080 h 30877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04"/>
              <p:cNvSpPr/>
              <p:nvPr/>
            </p:nvSpPr>
            <p:spPr>
              <a:xfrm flipH="1" rot="9538200">
                <a:off x="5778720" y="3209040"/>
                <a:ext cx="318240" cy="599760"/>
              </a:xfrm>
              <a:custGeom>
                <a:avLst/>
                <a:gdLst>
                  <a:gd name="textAreaLeft" fmla="*/ 360 w 318240"/>
                  <a:gd name="textAreaRight" fmla="*/ 318960 w 31824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05"/>
              <p:cNvSpPr/>
              <p:nvPr/>
            </p:nvSpPr>
            <p:spPr>
              <a:xfrm flipH="1" rot="9538200">
                <a:off x="5901840" y="3202560"/>
                <a:ext cx="121320" cy="227880"/>
              </a:xfrm>
              <a:custGeom>
                <a:avLst/>
                <a:gdLst>
                  <a:gd name="textAreaLeft" fmla="*/ -360 w 121320"/>
                  <a:gd name="textAreaRight" fmla="*/ 121320 w 12132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Group 106"/>
              <p:cNvGrpSpPr/>
              <p:nvPr/>
            </p:nvGrpSpPr>
            <p:grpSpPr>
              <a:xfrm>
                <a:off x="4663440" y="3411720"/>
                <a:ext cx="2347920" cy="3075120"/>
                <a:chOff x="4663440" y="3411720"/>
                <a:chExt cx="2347920" cy="3075120"/>
              </a:xfrm>
            </p:grpSpPr>
            <p:sp>
              <p:nvSpPr>
                <p:cNvPr id="707" name="Freeform 107"/>
                <p:cNvSpPr/>
                <p:nvPr/>
              </p:nvSpPr>
              <p:spPr>
                <a:xfrm flipH="1" rot="9538200">
                  <a:off x="5483160" y="3795120"/>
                  <a:ext cx="1101960" cy="2579760"/>
                </a:xfrm>
                <a:custGeom>
                  <a:avLst/>
                  <a:gdLst>
                    <a:gd name="textAreaLeft" fmla="*/ -360 w 1101960"/>
                    <a:gd name="textAreaRight" fmla="*/ 1101960 w 1101960"/>
                    <a:gd name="textAreaTop" fmla="*/ 0 h 2579760"/>
                    <a:gd name="textAreaBottom" fmla="*/ 2580120 h 257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" name="Group 108"/>
                <p:cNvGrpSpPr/>
                <p:nvPr/>
              </p:nvGrpSpPr>
              <p:grpSpPr>
                <a:xfrm>
                  <a:off x="4663440" y="3411720"/>
                  <a:ext cx="1609200" cy="2880000"/>
                  <a:chOff x="4663440" y="3411720"/>
                  <a:chExt cx="1609200" cy="2880000"/>
                </a:xfrm>
              </p:grpSpPr>
              <p:sp>
                <p:nvSpPr>
                  <p:cNvPr id="709" name="Freeform 109"/>
                  <p:cNvSpPr/>
                  <p:nvPr/>
                </p:nvSpPr>
                <p:spPr>
                  <a:xfrm flipH="1" rot="9538200">
                    <a:off x="5177880" y="3377160"/>
                    <a:ext cx="354960" cy="2932200"/>
                  </a:xfrm>
                  <a:custGeom>
                    <a:avLst/>
                    <a:gdLst>
                      <a:gd name="textAreaLeft" fmla="*/ 360 w 354960"/>
                      <a:gd name="textAreaRight" fmla="*/ 355680 w 35496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Oval 110"/>
                  <p:cNvSpPr/>
                  <p:nvPr/>
                </p:nvSpPr>
                <p:spPr>
                  <a:xfrm flipH="1" rot="9538200">
                    <a:off x="5784480" y="5800680"/>
                    <a:ext cx="425160" cy="42876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11" name="Oval 111"/>
          <p:cNvSpPr/>
          <p:nvPr/>
        </p:nvSpPr>
        <p:spPr>
          <a:xfrm>
            <a:off x="3059280" y="3429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112"/>
          <p:cNvSpPr/>
          <p:nvPr/>
        </p:nvSpPr>
        <p:spPr>
          <a:xfrm>
            <a:off x="5867280" y="3429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19"/>
          <p:cNvSpPr/>
          <p:nvPr/>
        </p:nvSpPr>
        <p:spPr>
          <a:xfrm>
            <a:off x="109440" y="115920"/>
            <a:ext cx="32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ерпендикуляр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ям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40000">
                                      <p:cBhvr>
                                        <p:cTn id="82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88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0">
                                      <p:cBhvr>
                                        <p:cTn id="93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0">
                                      <p:cBhvr>
                                        <p:cTn id="95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презентация"/>
          <p:cNvPicPr/>
          <p:nvPr/>
        </p:nvPicPr>
        <p:blipFill>
          <a:blip r:embed="rId1"/>
          <a:stretch/>
        </p:blipFill>
        <p:spPr>
          <a:xfrm>
            <a:off x="0" y="0"/>
            <a:ext cx="6208560" cy="8282160"/>
          </a:xfrm>
          <a:prstGeom prst="rect">
            <a:avLst/>
          </a:prstGeom>
          <a:ln w="0">
            <a:noFill/>
          </a:ln>
        </p:spPr>
      </p:pic>
      <p:sp>
        <p:nvSpPr>
          <p:cNvPr id="303" name="WordArt 5"/>
          <p:cNvSpPr txBox="1"/>
          <p:nvPr/>
        </p:nvSpPr>
        <p:spPr>
          <a:xfrm>
            <a:off x="6300720" y="1773360"/>
            <a:ext cx="2702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6"/>
          <p:cNvSpPr txBox="1"/>
          <p:nvPr/>
        </p:nvSpPr>
        <p:spPr>
          <a:xfrm>
            <a:off x="6300720" y="3933720"/>
            <a:ext cx="23716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05" name="Picture 7" descr="презентация"/>
          <p:cNvPicPr/>
          <p:nvPr/>
        </p:nvPicPr>
        <p:blipFill>
          <a:blip r:embed="rId2"/>
          <a:stretch/>
        </p:blipFill>
        <p:spPr>
          <a:xfrm>
            <a:off x="0" y="0"/>
            <a:ext cx="6208560" cy="8282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Рисунок7"/>
          <p:cNvPicPr/>
          <p:nvPr/>
        </p:nvPicPr>
        <p:blipFill>
          <a:blip r:embed="rId3"/>
          <a:stretch/>
        </p:blipFill>
        <p:spPr>
          <a:xfrm>
            <a:off x="4356000" y="2708280"/>
            <a:ext cx="647640" cy="282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Рисунок3"/>
          <p:cNvPicPr/>
          <p:nvPr/>
        </p:nvPicPr>
        <p:blipFill>
          <a:blip r:embed="rId4"/>
          <a:stretch/>
        </p:blipFill>
        <p:spPr>
          <a:xfrm>
            <a:off x="4284720" y="2852640"/>
            <a:ext cx="604800" cy="282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Рисунок37"/>
          <p:cNvPicPr/>
          <p:nvPr/>
        </p:nvPicPr>
        <p:blipFill>
          <a:blip r:embed="rId5"/>
          <a:stretch/>
        </p:blipFill>
        <p:spPr>
          <a:xfrm rot="20188800">
            <a:off x="2626920" y="6292440"/>
            <a:ext cx="5572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WordArt 2"/>
          <p:cNvSpPr txBox="1"/>
          <p:nvPr/>
        </p:nvSpPr>
        <p:spPr>
          <a:xfrm>
            <a:off x="611280" y="189000"/>
            <a:ext cx="410508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2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395280" y="981000"/>
            <a:ext cx="79930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Как быстро циркулем и линей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4" descr="Удивление"/>
          <p:cNvPicPr/>
          <p:nvPr/>
        </p:nvPicPr>
        <p:blipFill>
          <a:blip r:embed="rId1"/>
          <a:stretch/>
        </p:blipFill>
        <p:spPr>
          <a:xfrm>
            <a:off x="6516720" y="260280"/>
            <a:ext cx="657360" cy="676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5"/>
          <p:cNvSpPr/>
          <p:nvPr/>
        </p:nvSpPr>
        <p:spPr>
          <a:xfrm>
            <a:off x="826920" y="1484280"/>
            <a:ext cx="69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построить прямой уго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6"/>
          <p:cNvSpPr/>
          <p:nvPr/>
        </p:nvSpPr>
        <p:spPr>
          <a:xfrm>
            <a:off x="2340000" y="2060640"/>
            <a:ext cx="3529080" cy="331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7"/>
          <p:cNvSpPr/>
          <p:nvPr/>
        </p:nvSpPr>
        <p:spPr>
          <a:xfrm>
            <a:off x="2340000" y="3645000"/>
            <a:ext cx="352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5364000" y="256536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0"/>
          <p:cNvSpPr/>
          <p:nvPr/>
        </p:nvSpPr>
        <p:spPr>
          <a:xfrm>
            <a:off x="5364000" y="2565360"/>
            <a:ext cx="86364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2"/>
          <p:cNvSpPr/>
          <p:nvPr/>
        </p:nvSpPr>
        <p:spPr>
          <a:xfrm>
            <a:off x="4211640" y="3573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9"/>
          <p:cNvSpPr/>
          <p:nvPr/>
        </p:nvSpPr>
        <p:spPr>
          <a:xfrm>
            <a:off x="324000" y="544500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ivaldi"/>
              </a:rPr>
              <a:t>Следствие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0"/>
          <p:cNvSpPr/>
          <p:nvPr/>
        </p:nvSpPr>
        <p:spPr>
          <a:xfrm>
            <a:off x="2700360" y="5445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Vivaldi"/>
              </a:rPr>
              <a:t>Вписанный угол, опирающийся на полуокружность - </a:t>
            </a:r>
            <a:r>
              <a:rPr b="1" i="1" lang="ru-RU" sz="3200" spc="-1" strike="noStrike">
                <a:solidFill>
                  <a:srgbClr val="ff0000"/>
                </a:solidFill>
                <a:latin typeface="Vivaldi"/>
              </a:rPr>
              <a:t>прямой</a:t>
            </a:r>
            <a:r>
              <a:rPr b="1" i="1" lang="ru-RU" sz="3200" spc="-1" strike="noStrike">
                <a:solidFill>
                  <a:srgbClr val="000000"/>
                </a:solidFill>
                <a:latin typeface="Vivald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1" descr=""/>
          <p:cNvPicPr/>
          <p:nvPr/>
        </p:nvPicPr>
        <p:blipFill>
          <a:blip r:embed="rId2"/>
          <a:stretch/>
        </p:blipFill>
        <p:spPr>
          <a:xfrm rot="20149200">
            <a:off x="5076720" y="2637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26" name="Line 22"/>
          <p:cNvSpPr/>
          <p:nvPr/>
        </p:nvSpPr>
        <p:spPr>
          <a:xfrm flipH="1">
            <a:off x="1907640" y="2565360"/>
            <a:ext cx="352908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-25236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-2700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6" descr="цирк"/>
          <p:cNvPicPr/>
          <p:nvPr/>
        </p:nvPicPr>
        <p:blipFill>
          <a:blip r:embed="rId1"/>
          <a:stretch/>
        </p:blipFill>
        <p:spPr>
          <a:xfrm>
            <a:off x="4284720" y="1413000"/>
            <a:ext cx="4338720" cy="52084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7" descr="Рисунок1линей"/>
          <p:cNvPicPr/>
          <p:nvPr/>
        </p:nvPicPr>
        <p:blipFill>
          <a:blip r:embed="rId2"/>
          <a:stretch/>
        </p:blipFill>
        <p:spPr>
          <a:xfrm>
            <a:off x="539640" y="4941720"/>
            <a:ext cx="6276960" cy="6508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8" descr="Рисунок1каранд"/>
          <p:cNvPicPr/>
          <p:nvPr/>
        </p:nvPicPr>
        <p:blipFill>
          <a:blip r:embed="rId3"/>
          <a:stretch/>
        </p:blipFill>
        <p:spPr>
          <a:xfrm>
            <a:off x="2921040" y="3106800"/>
            <a:ext cx="3303720" cy="6444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9" descr="Рисунок1каранд"/>
          <p:cNvPicPr/>
          <p:nvPr/>
        </p:nvPicPr>
        <p:blipFill>
          <a:blip r:embed="rId4"/>
          <a:stretch/>
        </p:blipFill>
        <p:spPr>
          <a:xfrm rot="18952200">
            <a:off x="1476360" y="2565000"/>
            <a:ext cx="3303720" cy="644400"/>
          </a:xfrm>
          <a:prstGeom prst="rect">
            <a:avLst/>
          </a:prstGeom>
          <a:ln w="0">
            <a:noFill/>
          </a:ln>
        </p:spPr>
      </p:pic>
      <p:sp>
        <p:nvSpPr>
          <p:cNvPr id="733" name="WordArt 10"/>
          <p:cNvSpPr txBox="1"/>
          <p:nvPr/>
        </p:nvSpPr>
        <p:spPr>
          <a:xfrm>
            <a:off x="2195640" y="47628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" descr="Решение задач"/>
          <p:cNvPicPr/>
          <p:nvPr/>
        </p:nvPicPr>
        <p:blipFill>
          <a:blip r:embed="rId1"/>
          <a:stretch/>
        </p:blipFill>
        <p:spPr>
          <a:xfrm>
            <a:off x="900000" y="-171360"/>
            <a:ext cx="7143840" cy="6669000"/>
          </a:xfrm>
          <a:prstGeom prst="rect">
            <a:avLst/>
          </a:prstGeom>
          <a:ln w="0">
            <a:noFill/>
          </a:ln>
        </p:spPr>
      </p:pic>
      <p:sp>
        <p:nvSpPr>
          <p:cNvPr id="735" name="WordArt 8"/>
          <p:cNvSpPr txBox="1"/>
          <p:nvPr/>
        </p:nvSpPr>
        <p:spPr>
          <a:xfrm rot="1873800">
            <a:off x="2771280" y="2349000"/>
            <a:ext cx="3146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36" name="WordArt 9"/>
          <p:cNvSpPr txBox="1"/>
          <p:nvPr/>
        </p:nvSpPr>
        <p:spPr>
          <a:xfrm rot="2158800">
            <a:off x="2268000" y="3357720"/>
            <a:ext cx="25686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головы"/>
          <p:cNvPicPr/>
          <p:nvPr/>
        </p:nvPicPr>
        <p:blipFill>
          <a:blip r:embed="rId1"/>
          <a:stretch/>
        </p:blipFill>
        <p:spPr>
          <a:xfrm>
            <a:off x="971640" y="1125360"/>
            <a:ext cx="5576760" cy="397368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6"/>
          <p:cNvGrpSpPr/>
          <p:nvPr/>
        </p:nvGrpSpPr>
        <p:grpSpPr>
          <a:xfrm>
            <a:off x="4846680" y="2044080"/>
            <a:ext cx="3774960" cy="4541760"/>
            <a:chOff x="4846680" y="2044080"/>
            <a:chExt cx="3774960" cy="4541760"/>
          </a:xfrm>
        </p:grpSpPr>
        <p:pic>
          <p:nvPicPr>
            <p:cNvPr id="739" name="Picture 10" descr="Рисунок 102"/>
            <p:cNvPicPr/>
            <p:nvPr/>
          </p:nvPicPr>
          <p:blipFill>
            <a:blip r:embed="rId2"/>
            <a:stretch/>
          </p:blipFill>
          <p:spPr>
            <a:xfrm rot="3616800">
              <a:off x="4695480" y="3304800"/>
              <a:ext cx="4076640" cy="20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WordArt 13"/>
            <p:cNvSpPr txBox="1"/>
            <p:nvPr/>
          </p:nvSpPr>
          <p:spPr>
            <a:xfrm rot="2975400">
              <a:off x="6263280" y="425664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2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41" name="Group 17"/>
          <p:cNvGrpSpPr/>
          <p:nvPr/>
        </p:nvGrpSpPr>
        <p:grpSpPr>
          <a:xfrm>
            <a:off x="46080" y="2486880"/>
            <a:ext cx="4102200" cy="4260600"/>
            <a:chOff x="46080" y="2486880"/>
            <a:chExt cx="4102200" cy="4260600"/>
          </a:xfrm>
        </p:grpSpPr>
        <p:pic>
          <p:nvPicPr>
            <p:cNvPr id="742" name="Picture 9" descr="Рисунок 102"/>
            <p:cNvPicPr/>
            <p:nvPr/>
          </p:nvPicPr>
          <p:blipFill>
            <a:blip r:embed="rId5"/>
            <a:stretch/>
          </p:blipFill>
          <p:spPr>
            <a:xfrm rot="7907400">
              <a:off x="116640" y="3636000"/>
              <a:ext cx="396072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WordArt 12"/>
            <p:cNvSpPr txBox="1"/>
            <p:nvPr/>
          </p:nvSpPr>
          <p:spPr>
            <a:xfrm rot="19338600">
              <a:off x="1331640" y="4868640"/>
              <a:ext cx="1368360" cy="50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1</a:t>
              </a:r>
              <a:endPara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44" name="Group 19"/>
          <p:cNvGrpSpPr/>
          <p:nvPr/>
        </p:nvGrpSpPr>
        <p:grpSpPr>
          <a:xfrm>
            <a:off x="4067280" y="333360"/>
            <a:ext cx="4032000" cy="1996920"/>
            <a:chOff x="4067280" y="333360"/>
            <a:chExt cx="4032000" cy="1996920"/>
          </a:xfrm>
        </p:grpSpPr>
        <p:pic>
          <p:nvPicPr>
            <p:cNvPr id="745" name="Picture 8" descr="Рисунок 102"/>
            <p:cNvPicPr/>
            <p:nvPr/>
          </p:nvPicPr>
          <p:blipFill>
            <a:blip r:embed="rId8"/>
            <a:stretch/>
          </p:blipFill>
          <p:spPr>
            <a:xfrm>
              <a:off x="4067280" y="333360"/>
              <a:ext cx="4032000" cy="19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WordArt 14"/>
            <p:cNvSpPr txBox="1"/>
            <p:nvPr/>
          </p:nvSpPr>
          <p:spPr>
            <a:xfrm rot="352200">
              <a:off x="5795640" y="83664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3</a:t>
              </a:r>
              <a:endPara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4"/>
          <p:cNvSpPr/>
          <p:nvPr/>
        </p:nvSpPr>
        <p:spPr>
          <a:xfrm>
            <a:off x="25830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5"/>
          <p:cNvSpPr/>
          <p:nvPr/>
        </p:nvSpPr>
        <p:spPr>
          <a:xfrm>
            <a:off x="838080" y="2666880"/>
            <a:ext cx="3584520" cy="352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6"/>
          <p:cNvSpPr/>
          <p:nvPr/>
        </p:nvSpPr>
        <p:spPr>
          <a:xfrm flipV="1" rot="1060800">
            <a:off x="899640" y="3212640"/>
            <a:ext cx="4849920" cy="863280"/>
          </a:xfrm>
          <a:custGeom>
            <a:avLst/>
            <a:gdLst>
              <a:gd name="textAreaLeft" fmla="*/ 0 w 4849920"/>
              <a:gd name="textAreaRight" fmla="*/ 4850280 w 4849920"/>
              <a:gd name="textAreaTop" fmla="*/ 360 h 863280"/>
              <a:gd name="textAreaBottom" fmla="*/ 864000 h 863280"/>
            </a:gdLst>
            <a:ahLst/>
            <a:rect l="textAreaLeft" t="textAreaTop" r="textAreaRight" b="textAreaBottom"/>
            <a:pathLst>
              <a:path w="2904" h="344">
                <a:moveTo>
                  <a:pt x="0" y="0"/>
                </a:moveTo>
                <a:lnTo>
                  <a:pt x="2904" y="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7"/>
          <p:cNvSpPr/>
          <p:nvPr/>
        </p:nvSpPr>
        <p:spPr>
          <a:xfrm>
            <a:off x="1763640" y="3933720"/>
            <a:ext cx="3998880" cy="205920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2059200"/>
              <a:gd name="textAreaBottom" fmla="*/ 2059560 h 2059200"/>
            </a:gdLst>
            <a:ahLst/>
            <a:rect l="textAreaLeft" t="textAreaTop" r="textAreaRight" b="textAreaBottom"/>
            <a:pathLst>
              <a:path w="2526" h="1322">
                <a:moveTo>
                  <a:pt x="2526" y="0"/>
                </a:moveTo>
                <a:lnTo>
                  <a:pt x="0" y="132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rc 8"/>
          <p:cNvSpPr/>
          <p:nvPr/>
        </p:nvSpPr>
        <p:spPr>
          <a:xfrm rot="4455000">
            <a:off x="367200" y="3744000"/>
            <a:ext cx="2701800" cy="1783080"/>
          </a:xfrm>
          <a:custGeom>
            <a:avLst/>
            <a:gdLst>
              <a:gd name="textAreaLeft" fmla="*/ 0 w 2701800"/>
              <a:gd name="textAreaRight" fmla="*/ 2702160 w 2701800"/>
              <a:gd name="textAreaTop" fmla="*/ 0 h 1783080"/>
              <a:gd name="textAreaBottom" fmla="*/ 1783440 h 1783080"/>
            </a:gdLst>
            <a:ahLst/>
            <a:rect l="textAreaLeft" t="textAreaTop" r="textAreaRight" b="textAreaBottom"/>
            <a:pathLst>
              <a:path fill="none" w="33192" h="21600">
                <a:moveTo>
                  <a:pt x="33191" y="14563"/>
                </a:moveTo>
                <a:cubicBezTo>
                  <a:pt x="29099" y="19046"/>
                  <a:pt x="23309" y="21599"/>
                  <a:pt x="17240" y="21600"/>
                </a:cubicBezTo>
                <a:cubicBezTo>
                  <a:pt x="10464" y="21600"/>
                  <a:pt x="4081" y="18420"/>
                  <a:pt x="-1" y="13013"/>
                </a:cubicBezTo>
              </a:path>
              <a:path stroke="0" w="33192" h="21600">
                <a:moveTo>
                  <a:pt x="33191" y="14563"/>
                </a:moveTo>
                <a:cubicBezTo>
                  <a:pt x="29099" y="19046"/>
                  <a:pt x="23309" y="21599"/>
                  <a:pt x="17240" y="21600"/>
                </a:cubicBezTo>
                <a:cubicBezTo>
                  <a:pt x="10464" y="21600"/>
                  <a:pt x="4081" y="18420"/>
                  <a:pt x="-1" y="13013"/>
                </a:cubicBezTo>
                <a:lnTo>
                  <a:pt x="17240" y="0"/>
                </a:lnTo>
                <a:lnTo>
                  <a:pt x="33191" y="14563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9"/>
          <p:cNvSpPr/>
          <p:nvPr/>
        </p:nvSpPr>
        <p:spPr>
          <a:xfrm>
            <a:off x="1763640" y="3789360"/>
            <a:ext cx="2521080" cy="22161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556" h="1442">
                <a:moveTo>
                  <a:pt x="1556" y="0"/>
                </a:moveTo>
                <a:lnTo>
                  <a:pt x="0" y="1442"/>
                </a:lnTo>
              </a:path>
            </a:pathLst>
          </a:custGeom>
          <a:noFill/>
          <a:ln w="1908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5651640" y="3860640"/>
            <a:ext cx="5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5006160" y="38606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7"/>
          <p:cNvSpPr/>
          <p:nvPr/>
        </p:nvSpPr>
        <p:spPr>
          <a:xfrm rot="16200000">
            <a:off x="182160" y="4437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f7e"/>
                </a:solidFill>
                <a:latin typeface="Arial"/>
              </a:rPr>
              <a:t>100</a:t>
            </a:r>
            <a:r>
              <a:rPr b="1" lang="en-US" sz="1800" spc="-1" strike="noStrike">
                <a:solidFill>
                  <a:srgbClr val="003f7e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31"/>
          <p:cNvGrpSpPr/>
          <p:nvPr/>
        </p:nvGrpSpPr>
        <p:grpSpPr>
          <a:xfrm>
            <a:off x="2693520" y="3249000"/>
            <a:ext cx="2059200" cy="1928520"/>
            <a:chOff x="2693520" y="3249000"/>
            <a:chExt cx="2059200" cy="1928520"/>
          </a:xfrm>
        </p:grpSpPr>
        <p:sp>
          <p:nvSpPr>
            <p:cNvPr id="757" name="Text Box 13"/>
            <p:cNvSpPr/>
            <p:nvPr/>
          </p:nvSpPr>
          <p:spPr>
            <a:xfrm rot="229800">
              <a:off x="4235400" y="47016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rc 14"/>
            <p:cNvSpPr/>
            <p:nvPr/>
          </p:nvSpPr>
          <p:spPr>
            <a:xfrm rot="17130600">
              <a:off x="3211200" y="3202200"/>
              <a:ext cx="863640" cy="173160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731600"/>
                <a:gd name="textAreaBottom" fmla="*/ 1731960 h 1731600"/>
              </a:gdLst>
              <a:ahLst/>
              <a:rect l="textAreaLeft" t="textAreaTop" r="textAreaRight" b="textAreaBottom"/>
              <a:pathLst>
                <a:path fill="none" w="12651" h="21529">
                  <a:moveTo>
                    <a:pt x="12651" y="17507"/>
                  </a:moveTo>
                  <a:cubicBezTo>
                    <a:pt x="9451" y="19819"/>
                    <a:pt x="5679" y="21210"/>
                    <a:pt x="1745" y="21529"/>
                  </a:cubicBezTo>
                </a:path>
                <a:path stroke="0" w="12651" h="21529">
                  <a:moveTo>
                    <a:pt x="12651" y="17507"/>
                  </a:moveTo>
                  <a:cubicBezTo>
                    <a:pt x="9451" y="19819"/>
                    <a:pt x="5679" y="21210"/>
                    <a:pt x="1745" y="21529"/>
                  </a:cubicBezTo>
                  <a:lnTo>
                    <a:pt x="0" y="0"/>
                  </a:lnTo>
                  <a:lnTo>
                    <a:pt x="12651" y="17507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5"/>
            <p:cNvSpPr/>
            <p:nvPr/>
          </p:nvSpPr>
          <p:spPr>
            <a:xfrm rot="229800">
              <a:off x="3844080" y="4094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8"/>
            <p:cNvSpPr/>
            <p:nvPr/>
          </p:nvSpPr>
          <p:spPr>
            <a:xfrm rot="229800">
              <a:off x="4336920" y="3259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Rectangle 19"/>
          <p:cNvSpPr/>
          <p:nvPr/>
        </p:nvSpPr>
        <p:spPr>
          <a:xfrm>
            <a:off x="82908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0"/>
          <p:cNvSpPr/>
          <p:nvPr/>
        </p:nvSpPr>
        <p:spPr>
          <a:xfrm>
            <a:off x="1260720" y="609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21"/>
          <p:cNvSpPr/>
          <p:nvPr/>
        </p:nvSpPr>
        <p:spPr>
          <a:xfrm>
            <a:off x="253440" y="2602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2"/>
          <p:cNvSpPr/>
          <p:nvPr/>
        </p:nvSpPr>
        <p:spPr>
          <a:xfrm>
            <a:off x="1188360" y="260280"/>
            <a:ext cx="70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точку, лежащую вне окружности, проведены две секущ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23"/>
          <p:cNvSpPr/>
          <p:nvPr/>
        </p:nvSpPr>
        <p:spPr>
          <a:xfrm>
            <a:off x="972720" y="69228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ющие угол в 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5"/>
          <p:cNvSpPr/>
          <p:nvPr/>
        </p:nvSpPr>
        <p:spPr>
          <a:xfrm>
            <a:off x="3638160" y="69228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дуга окружности, заключ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6"/>
          <p:cNvSpPr/>
          <p:nvPr/>
        </p:nvSpPr>
        <p:spPr>
          <a:xfrm>
            <a:off x="1045080" y="1125360"/>
            <a:ext cx="46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сторонами этого угла, равна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7"/>
          <p:cNvSpPr/>
          <p:nvPr/>
        </p:nvSpPr>
        <p:spPr>
          <a:xfrm>
            <a:off x="5651640" y="1125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меньшую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9" descr="джин"/>
          <p:cNvPicPr/>
          <p:nvPr/>
        </p:nvPicPr>
        <p:blipFill>
          <a:blip r:embed="rId1"/>
          <a:stretch/>
        </p:blipFill>
        <p:spPr>
          <a:xfrm>
            <a:off x="5292720" y="1557360"/>
            <a:ext cx="3598920" cy="3519360"/>
          </a:xfrm>
          <a:prstGeom prst="rect">
            <a:avLst/>
          </a:prstGeom>
          <a:ln w="0">
            <a:noFill/>
          </a:ln>
        </p:spPr>
      </p:pic>
      <p:sp>
        <p:nvSpPr>
          <p:cNvPr id="770" name="Oval 30"/>
          <p:cNvSpPr/>
          <p:nvPr/>
        </p:nvSpPr>
        <p:spPr>
          <a:xfrm>
            <a:off x="5724360" y="393372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32"/>
          <p:cNvSpPr/>
          <p:nvPr/>
        </p:nvSpPr>
        <p:spPr>
          <a:xfrm>
            <a:off x="2627280" y="443700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33"/>
          <p:cNvSpPr/>
          <p:nvPr/>
        </p:nvSpPr>
        <p:spPr>
          <a:xfrm>
            <a:off x="2556000" y="4149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6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6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5616720" cy="40356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" descr=""/>
          <p:cNvPicPr/>
          <p:nvPr/>
        </p:nvPicPr>
        <p:blipFill>
          <a:blip r:embed="rId2"/>
          <a:stretch/>
        </p:blipFill>
        <p:spPr>
          <a:xfrm>
            <a:off x="-181080" y="1916280"/>
            <a:ext cx="3745080" cy="2489040"/>
          </a:xfrm>
          <a:prstGeom prst="rect">
            <a:avLst/>
          </a:prstGeom>
          <a:ln w="0">
            <a:noFill/>
          </a:ln>
        </p:spPr>
      </p:pic>
      <p:grpSp>
        <p:nvGrpSpPr>
          <p:cNvPr id="775" name="Group 8"/>
          <p:cNvGrpSpPr/>
          <p:nvPr/>
        </p:nvGrpSpPr>
        <p:grpSpPr>
          <a:xfrm>
            <a:off x="5292720" y="620640"/>
            <a:ext cx="4032000" cy="1996920"/>
            <a:chOff x="5292720" y="620640"/>
            <a:chExt cx="4032000" cy="1996920"/>
          </a:xfrm>
        </p:grpSpPr>
        <p:pic>
          <p:nvPicPr>
            <p:cNvPr id="776" name="Picture 9" descr="Рисунок 102"/>
            <p:cNvPicPr/>
            <p:nvPr/>
          </p:nvPicPr>
          <p:blipFill>
            <a:blip r:embed="rId3"/>
            <a:stretch/>
          </p:blipFill>
          <p:spPr>
            <a:xfrm>
              <a:off x="5292720" y="620640"/>
              <a:ext cx="4032000" cy="19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WordArt 10"/>
            <p:cNvSpPr txBox="1"/>
            <p:nvPr/>
          </p:nvSpPr>
          <p:spPr>
            <a:xfrm rot="352200">
              <a:off x="7021080" y="112392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3</a:t>
              </a:r>
              <a:endPara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78" name="Group 11"/>
          <p:cNvGrpSpPr/>
          <p:nvPr/>
        </p:nvGrpSpPr>
        <p:grpSpPr>
          <a:xfrm>
            <a:off x="6219000" y="2611800"/>
            <a:ext cx="3261240" cy="4011480"/>
            <a:chOff x="6219000" y="2611800"/>
            <a:chExt cx="3261240" cy="4011480"/>
          </a:xfrm>
        </p:grpSpPr>
        <p:pic>
          <p:nvPicPr>
            <p:cNvPr id="779" name="Picture 12" descr="Рисунок 102"/>
            <p:cNvPicPr/>
            <p:nvPr/>
          </p:nvPicPr>
          <p:blipFill>
            <a:blip r:embed="rId6"/>
            <a:stretch/>
          </p:blipFill>
          <p:spPr>
            <a:xfrm rot="3616800">
              <a:off x="6013440" y="3787920"/>
              <a:ext cx="367200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WordArt 13"/>
            <p:cNvSpPr txBox="1"/>
            <p:nvPr/>
          </p:nvSpPr>
          <p:spPr>
            <a:xfrm rot="2975400">
              <a:off x="7399440" y="4584960"/>
              <a:ext cx="1427040" cy="41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2</a:t>
              </a:r>
              <a:endPara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Oval 4"/>
          <p:cNvSpPr/>
          <p:nvPr/>
        </p:nvSpPr>
        <p:spPr>
          <a:xfrm>
            <a:off x="1905120" y="198108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rc 5"/>
          <p:cNvSpPr/>
          <p:nvPr/>
        </p:nvSpPr>
        <p:spPr>
          <a:xfrm flipV="1" rot="17281200">
            <a:off x="1792800" y="2104200"/>
            <a:ext cx="2266920" cy="1604880"/>
          </a:xfrm>
          <a:custGeom>
            <a:avLst/>
            <a:gdLst>
              <a:gd name="textAreaLeft" fmla="*/ 0 w 2266920"/>
              <a:gd name="textAreaRight" fmla="*/ 2267280 w 2266920"/>
              <a:gd name="textAreaTop" fmla="*/ 360 h 1604880"/>
              <a:gd name="textAreaBottom" fmla="*/ 1605600 h 1604880"/>
            </a:gdLst>
            <a:ahLst/>
            <a:rect l="textAreaLeft" t="textAreaTop" r="textAreaRight" b="textAreaBottom"/>
            <a:pathLst>
              <a:path fill="none" w="29781" h="21600">
                <a:moveTo>
                  <a:pt x="29780" y="3880"/>
                </a:moveTo>
                <a:cubicBezTo>
                  <a:pt x="27906" y="14143"/>
                  <a:pt x="18964" y="21599"/>
                  <a:pt x="8532" y="21600"/>
                </a:cubicBezTo>
                <a:cubicBezTo>
                  <a:pt x="5598" y="21600"/>
                  <a:pt x="2695" y="21002"/>
                  <a:pt x="0" y="19843"/>
                </a:cubicBezTo>
              </a:path>
              <a:path stroke="0" w="29781" h="21600">
                <a:moveTo>
                  <a:pt x="29780" y="3880"/>
                </a:moveTo>
                <a:cubicBezTo>
                  <a:pt x="27906" y="14143"/>
                  <a:pt x="18964" y="21599"/>
                  <a:pt x="8532" y="21600"/>
                </a:cubicBezTo>
                <a:cubicBezTo>
                  <a:pt x="5598" y="21600"/>
                  <a:pt x="2695" y="21002"/>
                  <a:pt x="0" y="19843"/>
                </a:cubicBezTo>
                <a:lnTo>
                  <a:pt x="8532" y="0"/>
                </a:lnTo>
                <a:lnTo>
                  <a:pt x="29780" y="3880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rc 6"/>
          <p:cNvSpPr/>
          <p:nvPr/>
        </p:nvSpPr>
        <p:spPr>
          <a:xfrm flipV="1" rot="2496600">
            <a:off x="2273040" y="2475360"/>
            <a:ext cx="2663640" cy="28908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2890800"/>
              <a:gd name="textAreaBottom" fmla="*/ 2890800 h 2890800"/>
            </a:gdLst>
            <a:ahLst/>
            <a:rect l="textAreaLeft" t="textAreaTop" r="textAreaRight" b="textAreaBottom"/>
            <a:pathLst>
              <a:path fill="none" w="36031" h="38637">
                <a:moveTo>
                  <a:pt x="0" y="5528"/>
                </a:moveTo>
                <a:cubicBezTo>
                  <a:pt x="3964" y="1968"/>
                  <a:pt x="9103" y="-1"/>
                  <a:pt x="14431" y="0"/>
                </a:cubicBezTo>
                <a:cubicBezTo>
                  <a:pt x="26360" y="0"/>
                  <a:pt x="36031" y="9670"/>
                  <a:pt x="36031" y="21600"/>
                </a:cubicBezTo>
                <a:cubicBezTo>
                  <a:pt x="36031" y="28258"/>
                  <a:pt x="32960" y="34544"/>
                  <a:pt x="27708" y="38636"/>
                </a:cubicBezTo>
              </a:path>
              <a:path stroke="0" w="36031" h="38637">
                <a:moveTo>
                  <a:pt x="0" y="5528"/>
                </a:moveTo>
                <a:cubicBezTo>
                  <a:pt x="3964" y="1968"/>
                  <a:pt x="9103" y="-1"/>
                  <a:pt x="14431" y="0"/>
                </a:cubicBezTo>
                <a:cubicBezTo>
                  <a:pt x="26360" y="0"/>
                  <a:pt x="36031" y="9670"/>
                  <a:pt x="36031" y="21600"/>
                </a:cubicBezTo>
                <a:cubicBezTo>
                  <a:pt x="36031" y="28258"/>
                  <a:pt x="32960" y="34544"/>
                  <a:pt x="27708" y="38636"/>
                </a:cubicBezTo>
                <a:lnTo>
                  <a:pt x="14431" y="21600"/>
                </a:lnTo>
                <a:lnTo>
                  <a:pt x="0" y="55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7"/>
          <p:cNvSpPr/>
          <p:nvPr/>
        </p:nvSpPr>
        <p:spPr>
          <a:xfrm>
            <a:off x="1905120" y="3352680"/>
            <a:ext cx="3225600" cy="1333800"/>
          </a:xfrm>
          <a:custGeom>
            <a:avLst/>
            <a:gdLst>
              <a:gd name="textAreaLeft" fmla="*/ 0 w 3225600"/>
              <a:gd name="textAreaRight" fmla="*/ 3225960 w 3225600"/>
              <a:gd name="textAreaTop" fmla="*/ 0 h 1333800"/>
              <a:gd name="textAreaBottom" fmla="*/ 1334160 h 1333800"/>
            </a:gdLst>
            <a:ahLst/>
            <a:rect l="textAreaLeft" t="textAreaTop" r="textAreaRight" b="textAreaBottom"/>
            <a:pathLst>
              <a:path w="2032" h="840">
                <a:moveTo>
                  <a:pt x="1739" y="840"/>
                </a:moveTo>
                <a:lnTo>
                  <a:pt x="0" y="272"/>
                </a:lnTo>
                <a:lnTo>
                  <a:pt x="20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8"/>
          <p:cNvSpPr/>
          <p:nvPr/>
        </p:nvSpPr>
        <p:spPr>
          <a:xfrm>
            <a:off x="3730680" y="2006640"/>
            <a:ext cx="947520" cy="2666880"/>
          </a:xfrm>
          <a:custGeom>
            <a:avLst/>
            <a:gdLst>
              <a:gd name="textAreaLeft" fmla="*/ 0 w 947520"/>
              <a:gd name="textAreaRight" fmla="*/ 947880 w 9475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597" h="1680">
                <a:moveTo>
                  <a:pt x="0" y="0"/>
                </a:moveTo>
                <a:lnTo>
                  <a:pt x="597" y="16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9"/>
          <p:cNvSpPr/>
          <p:nvPr/>
        </p:nvSpPr>
        <p:spPr>
          <a:xfrm>
            <a:off x="1905120" y="1987560"/>
            <a:ext cx="3200400" cy="182232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822320"/>
              <a:gd name="textAreaBottom" fmla="*/ 1822680 h 1822320"/>
            </a:gdLst>
            <a:ahLst/>
            <a:rect l="textAreaLeft" t="textAreaTop" r="textAreaRight" b="textAreaBottom"/>
            <a:pathLst>
              <a:path w="2016" h="1148">
                <a:moveTo>
                  <a:pt x="0" y="1148"/>
                </a:moveTo>
                <a:lnTo>
                  <a:pt x="1150" y="0"/>
                </a:lnTo>
                <a:lnTo>
                  <a:pt x="2016" y="8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3492360" y="3500280"/>
            <a:ext cx="986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1"/>
          <p:cNvSpPr/>
          <p:nvPr/>
        </p:nvSpPr>
        <p:spPr>
          <a:xfrm>
            <a:off x="3581280" y="2133720"/>
            <a:ext cx="273240" cy="139680"/>
          </a:xfrm>
          <a:custGeom>
            <a:avLst/>
            <a:gdLst>
              <a:gd name="textAreaLeft" fmla="*/ 0 w 273240"/>
              <a:gd name="textAreaRight" fmla="*/ 273600 w 2732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72" h="88">
                <a:moveTo>
                  <a:pt x="172" y="0"/>
                </a:moveTo>
                <a:lnTo>
                  <a:pt x="84" y="88"/>
                </a:lnTo>
                <a:lnTo>
                  <a:pt x="0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2"/>
          <p:cNvSpPr/>
          <p:nvPr/>
        </p:nvSpPr>
        <p:spPr>
          <a:xfrm>
            <a:off x="2197800" y="3429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 flipV="1">
            <a:off x="1979640" y="3357360"/>
            <a:ext cx="316872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1476360" y="260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градусную меру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140508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522144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8"/>
          <p:cNvSpPr/>
          <p:nvPr/>
        </p:nvSpPr>
        <p:spPr>
          <a:xfrm>
            <a:off x="3565800" y="155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9"/>
          <p:cNvSpPr/>
          <p:nvPr/>
        </p:nvSpPr>
        <p:spPr>
          <a:xfrm>
            <a:off x="471816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0" descr="Рисунок101"/>
          <p:cNvPicPr/>
          <p:nvPr/>
        </p:nvPicPr>
        <p:blipFill>
          <a:blip r:embed="rId1"/>
          <a:stretch/>
        </p:blipFill>
        <p:spPr>
          <a:xfrm rot="10099800">
            <a:off x="2050200" y="3573000"/>
            <a:ext cx="225720" cy="1666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1" descr="Рис 88"/>
          <p:cNvPicPr/>
          <p:nvPr/>
        </p:nvPicPr>
        <p:blipFill>
          <a:blip r:embed="rId2"/>
          <a:stretch/>
        </p:blipFill>
        <p:spPr>
          <a:xfrm>
            <a:off x="4211640" y="4221000"/>
            <a:ext cx="382680" cy="4701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22"/>
          <p:cNvSpPr/>
          <p:nvPr/>
        </p:nvSpPr>
        <p:spPr>
          <a:xfrm>
            <a:off x="4500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3"/>
          <p:cNvSpPr/>
          <p:nvPr/>
        </p:nvSpPr>
        <p:spPr>
          <a:xfrm>
            <a:off x="1763640" y="2205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3" dur="2000" fill="hold"/>
                                        <p:tgtEl>
                                          <p:spTgt spid="7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11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688000" cy="40402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2" descr=""/>
          <p:cNvPicPr/>
          <p:nvPr/>
        </p:nvPicPr>
        <p:blipFill>
          <a:blip r:embed="rId2"/>
          <a:stretch/>
        </p:blipFill>
        <p:spPr>
          <a:xfrm>
            <a:off x="-757080" y="1413000"/>
            <a:ext cx="3744720" cy="24890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3" descr=""/>
          <p:cNvPicPr/>
          <p:nvPr/>
        </p:nvPicPr>
        <p:blipFill>
          <a:blip r:embed="rId3"/>
          <a:stretch/>
        </p:blipFill>
        <p:spPr>
          <a:xfrm rot="5988600">
            <a:off x="4834080" y="115056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2" descr="пламя"/>
          <p:cNvPicPr/>
          <p:nvPr/>
        </p:nvPicPr>
        <p:blipFill>
          <a:blip r:embed="rId4"/>
          <a:stretch/>
        </p:blipFill>
        <p:spPr>
          <a:xfrm>
            <a:off x="4356000" y="198900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804" name="WordArt 23"/>
          <p:cNvSpPr txBox="1"/>
          <p:nvPr/>
        </p:nvSpPr>
        <p:spPr>
          <a:xfrm rot="19322400">
            <a:off x="4788000" y="1052280"/>
            <a:ext cx="2340000" cy="54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3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5" name="WordArt 24"/>
          <p:cNvSpPr txBox="1"/>
          <p:nvPr/>
        </p:nvSpPr>
        <p:spPr>
          <a:xfrm rot="4647000">
            <a:off x="3960000" y="3175560"/>
            <a:ext cx="233964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3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6" name="WordArt 25"/>
          <p:cNvSpPr txBox="1"/>
          <p:nvPr/>
        </p:nvSpPr>
        <p:spPr>
          <a:xfrm rot="1044600">
            <a:off x="1908000" y="1628280"/>
            <a:ext cx="234000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3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Oval 4"/>
          <p:cNvSpPr/>
          <p:nvPr/>
        </p:nvSpPr>
        <p:spPr>
          <a:xfrm>
            <a:off x="2340000" y="155736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5"/>
          <p:cNvSpPr/>
          <p:nvPr/>
        </p:nvSpPr>
        <p:spPr>
          <a:xfrm rot="496800">
            <a:off x="2626920" y="1557360"/>
            <a:ext cx="2819520" cy="25257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525760"/>
              <a:gd name="textAreaBottom" fmla="*/ 2526120 h 2525760"/>
            </a:gdLst>
            <a:ahLst/>
            <a:rect l="textAreaLeft" t="textAreaTop" r="textAreaRight" b="textAreaBottom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529452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205308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8"/>
          <p:cNvSpPr/>
          <p:nvPr/>
        </p:nvSpPr>
        <p:spPr>
          <a:xfrm>
            <a:off x="234180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"/>
          <p:cNvSpPr/>
          <p:nvPr/>
        </p:nvSpPr>
        <p:spPr>
          <a:xfrm>
            <a:off x="536616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0"/>
          <p:cNvSpPr/>
          <p:nvPr/>
        </p:nvSpPr>
        <p:spPr>
          <a:xfrm>
            <a:off x="3997440" y="119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1"/>
          <p:cNvSpPr/>
          <p:nvPr/>
        </p:nvSpPr>
        <p:spPr>
          <a:xfrm>
            <a:off x="4286160" y="17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2"/>
          <p:cNvSpPr/>
          <p:nvPr/>
        </p:nvSpPr>
        <p:spPr>
          <a:xfrm>
            <a:off x="2558520" y="33577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13"/>
          <p:cNvSpPr/>
          <p:nvPr/>
        </p:nvSpPr>
        <p:spPr>
          <a:xfrm>
            <a:off x="3924360" y="30686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2"/>
          <p:cNvSpPr/>
          <p:nvPr/>
        </p:nvSpPr>
        <p:spPr>
          <a:xfrm>
            <a:off x="3852720" y="2895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0</a:t>
            </a:r>
            <a:r>
              <a:rPr b="1" lang="ru-RU" sz="20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3"/>
          <p:cNvSpPr/>
          <p:nvPr/>
        </p:nvSpPr>
        <p:spPr>
          <a:xfrm>
            <a:off x="838080" y="1600200"/>
            <a:ext cx="2819520" cy="25257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525760"/>
              <a:gd name="textAreaBottom" fmla="*/ 2526120 h 2525760"/>
            </a:gdLst>
            <a:ahLst/>
            <a:rect l="textAreaLeft" t="textAreaTop" r="textAreaRight" b="textAreaBottom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500040" y="4038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821" name="Freeform 6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8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0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1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2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3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Rectangle 14"/>
          <p:cNvSpPr/>
          <p:nvPr/>
        </p:nvSpPr>
        <p:spPr>
          <a:xfrm>
            <a:off x="1905120" y="3049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градусную меру уг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5"/>
          <p:cNvSpPr/>
          <p:nvPr/>
        </p:nvSpPr>
        <p:spPr>
          <a:xfrm>
            <a:off x="2101320" y="320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652320" y="16002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17"/>
          <p:cNvSpPr/>
          <p:nvPr/>
        </p:nvSpPr>
        <p:spPr>
          <a:xfrm>
            <a:off x="2211480" y="31590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ct 18"/>
              <p:cNvSpPr txBox="1"/>
              <p:nvPr/>
            </p:nvSpPr>
            <p:spPr>
              <a:xfrm>
                <a:off x="4006800" y="27115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4" name="Text Box 19"/>
          <p:cNvSpPr/>
          <p:nvPr/>
        </p:nvSpPr>
        <p:spPr>
          <a:xfrm>
            <a:off x="3581280" y="1981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0"/>
          <p:cNvSpPr/>
          <p:nvPr/>
        </p:nvSpPr>
        <p:spPr>
          <a:xfrm>
            <a:off x="362412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1"/>
          <p:cNvSpPr/>
          <p:nvPr/>
        </p:nvSpPr>
        <p:spPr>
          <a:xfrm>
            <a:off x="2023920" y="1219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2"/>
          <p:cNvSpPr/>
          <p:nvPr/>
        </p:nvSpPr>
        <p:spPr>
          <a:xfrm>
            <a:off x="880920" y="3505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3"/>
          <p:cNvSpPr/>
          <p:nvPr/>
        </p:nvSpPr>
        <p:spPr>
          <a:xfrm>
            <a:off x="2328840" y="16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4"/>
          <p:cNvSpPr/>
          <p:nvPr/>
        </p:nvSpPr>
        <p:spPr>
          <a:xfrm>
            <a:off x="3852720" y="3062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5"/>
          <p:cNvSpPr/>
          <p:nvPr/>
        </p:nvSpPr>
        <p:spPr>
          <a:xfrm>
            <a:off x="804960" y="3489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rc 26"/>
          <p:cNvSpPr/>
          <p:nvPr/>
        </p:nvSpPr>
        <p:spPr>
          <a:xfrm flipV="1" rot="15367800">
            <a:off x="1055160" y="1521720"/>
            <a:ext cx="2694240" cy="2789280"/>
          </a:xfrm>
          <a:custGeom>
            <a:avLst/>
            <a:gdLst>
              <a:gd name="textAreaLeft" fmla="*/ 0 w 2694240"/>
              <a:gd name="textAreaRight" fmla="*/ 2694600 w 2694240"/>
              <a:gd name="textAreaTop" fmla="*/ 360 h 2789280"/>
              <a:gd name="textAreaBottom" fmla="*/ 2790000 h 2789280"/>
            </a:gdLst>
            <a:ahLst/>
            <a:rect l="textAreaLeft" t="textAreaTop" r="textAreaRight" b="textAreaBottom"/>
            <a:pathLst>
              <a:path fill="none" w="35830" h="37282">
                <a:moveTo>
                  <a:pt x="-1" y="5349"/>
                </a:moveTo>
                <a:cubicBezTo>
                  <a:pt x="3938" y="1901"/>
                  <a:pt x="8995" y="-1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531"/>
                  <a:pt x="33390" y="33202"/>
                  <a:pt x="29083" y="37281"/>
                </a:cubicBezTo>
              </a:path>
              <a:path stroke="0" w="35830" h="37282">
                <a:moveTo>
                  <a:pt x="-1" y="5349"/>
                </a:moveTo>
                <a:cubicBezTo>
                  <a:pt x="3938" y="1901"/>
                  <a:pt x="8995" y="-1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531"/>
                  <a:pt x="33390" y="33202"/>
                  <a:pt x="29083" y="37281"/>
                </a:cubicBezTo>
                <a:lnTo>
                  <a:pt x="14230" y="21600"/>
                </a:lnTo>
                <a:lnTo>
                  <a:pt x="-1" y="534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rc 27"/>
          <p:cNvSpPr/>
          <p:nvPr/>
        </p:nvSpPr>
        <p:spPr>
          <a:xfrm flipV="1" rot="21052200">
            <a:off x="882360" y="1608120"/>
            <a:ext cx="2703600" cy="1560600"/>
          </a:xfrm>
          <a:custGeom>
            <a:avLst/>
            <a:gdLst>
              <a:gd name="textAreaLeft" fmla="*/ 0 w 2703600"/>
              <a:gd name="textAreaRight" fmla="*/ 2703960 w 2703600"/>
              <a:gd name="textAreaTop" fmla="*/ -360 h 1560600"/>
              <a:gd name="textAreaBottom" fmla="*/ 1560600 h 1560600"/>
            </a:gdLst>
            <a:ahLst/>
            <a:rect l="textAreaLeft" t="textAreaTop" r="textAreaRight" b="textAreaBottom"/>
            <a:pathLst>
              <a:path fill="none" w="36141" h="21600">
                <a:moveTo>
                  <a:pt x="36140" y="9402"/>
                </a:moveTo>
                <a:cubicBezTo>
                  <a:pt x="32534" y="16861"/>
                  <a:pt x="24979" y="21599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</a:path>
              <a:path stroke="0" w="36141" h="21600">
                <a:moveTo>
                  <a:pt x="36140" y="9402"/>
                </a:moveTo>
                <a:cubicBezTo>
                  <a:pt x="32534" y="16861"/>
                  <a:pt x="24979" y="21599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  <a:lnTo>
                  <a:pt x="16695" y="0"/>
                </a:lnTo>
                <a:lnTo>
                  <a:pt x="36140" y="9402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28"/>
          <p:cNvSpPr/>
          <p:nvPr/>
        </p:nvSpPr>
        <p:spPr>
          <a:xfrm>
            <a:off x="919080" y="3819600"/>
            <a:ext cx="241560" cy="155520"/>
          </a:xfrm>
          <a:custGeom>
            <a:avLst/>
            <a:gdLst>
              <a:gd name="textAreaLeft" fmla="*/ 0 w 241560"/>
              <a:gd name="textAreaRight" fmla="*/ 241920 w 2415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52" h="98">
                <a:moveTo>
                  <a:pt x="152" y="98"/>
                </a:moveTo>
                <a:cubicBezTo>
                  <a:pt x="141" y="85"/>
                  <a:pt x="113" y="34"/>
                  <a:pt x="88" y="18"/>
                </a:cubicBezTo>
                <a:cubicBezTo>
                  <a:pt x="63" y="2"/>
                  <a:pt x="18" y="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9"/>
          <p:cNvSpPr/>
          <p:nvPr/>
        </p:nvSpPr>
        <p:spPr>
          <a:xfrm>
            <a:off x="457200" y="2057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30"/>
          <p:cNvGrpSpPr/>
          <p:nvPr/>
        </p:nvGrpSpPr>
        <p:grpSpPr>
          <a:xfrm>
            <a:off x="2341440" y="1676520"/>
            <a:ext cx="72720" cy="98280"/>
            <a:chOff x="2341440" y="1676520"/>
            <a:chExt cx="72720" cy="98280"/>
          </a:xfrm>
        </p:grpSpPr>
        <p:sp>
          <p:nvSpPr>
            <p:cNvPr id="846" name="Freeform 31"/>
            <p:cNvSpPr/>
            <p:nvPr/>
          </p:nvSpPr>
          <p:spPr>
            <a:xfrm>
              <a:off x="2354040" y="1685880"/>
              <a:ext cx="60120" cy="88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8" h="56">
                  <a:moveTo>
                    <a:pt x="36" y="0"/>
                  </a:moveTo>
                  <a:cubicBezTo>
                    <a:pt x="35" y="7"/>
                    <a:pt x="38" y="33"/>
                    <a:pt x="32" y="42"/>
                  </a:cubicBezTo>
                  <a:cubicBezTo>
                    <a:pt x="26" y="51"/>
                    <a:pt x="7" y="53"/>
                    <a:pt x="0" y="56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2"/>
            <p:cNvSpPr/>
            <p:nvPr/>
          </p:nvSpPr>
          <p:spPr>
            <a:xfrm>
              <a:off x="2341440" y="1676520"/>
              <a:ext cx="50760" cy="66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2" h="42">
                  <a:moveTo>
                    <a:pt x="32" y="0"/>
                  </a:moveTo>
                  <a:cubicBezTo>
                    <a:pt x="31" y="6"/>
                    <a:pt x="29" y="27"/>
                    <a:pt x="24" y="34"/>
                  </a:cubicBezTo>
                  <a:cubicBezTo>
                    <a:pt x="19" y="41"/>
                    <a:pt x="5" y="40"/>
                    <a:pt x="0" y="4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Freeform 33"/>
          <p:cNvSpPr/>
          <p:nvPr/>
        </p:nvSpPr>
        <p:spPr>
          <a:xfrm>
            <a:off x="5334120" y="1600200"/>
            <a:ext cx="2819160" cy="25257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525760"/>
              <a:gd name="textAreaBottom" fmla="*/ 2526120 h 2525760"/>
            </a:gdLst>
            <a:ahLst/>
            <a:rect l="textAreaLeft" t="textAreaTop" r="textAreaRight" b="textAreaBottom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4"/>
          <p:cNvSpPr/>
          <p:nvPr/>
        </p:nvSpPr>
        <p:spPr>
          <a:xfrm>
            <a:off x="4995720" y="4038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5"/>
          <p:cNvSpPr/>
          <p:nvPr/>
        </p:nvSpPr>
        <p:spPr>
          <a:xfrm>
            <a:off x="6597000" y="320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36"/>
          <p:cNvSpPr/>
          <p:nvPr/>
        </p:nvSpPr>
        <p:spPr>
          <a:xfrm>
            <a:off x="5181480" y="16002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37"/>
          <p:cNvSpPr/>
          <p:nvPr/>
        </p:nvSpPr>
        <p:spPr>
          <a:xfrm>
            <a:off x="6705720" y="3124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8"/>
          <p:cNvSpPr/>
          <p:nvPr/>
        </p:nvSpPr>
        <p:spPr>
          <a:xfrm>
            <a:off x="8077320" y="1981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9"/>
          <p:cNvSpPr/>
          <p:nvPr/>
        </p:nvSpPr>
        <p:spPr>
          <a:xfrm>
            <a:off x="812016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40"/>
          <p:cNvSpPr/>
          <p:nvPr/>
        </p:nvSpPr>
        <p:spPr>
          <a:xfrm>
            <a:off x="6519960" y="1219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1"/>
          <p:cNvSpPr/>
          <p:nvPr/>
        </p:nvSpPr>
        <p:spPr>
          <a:xfrm>
            <a:off x="5376960" y="35053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42"/>
          <p:cNvSpPr/>
          <p:nvPr/>
        </p:nvSpPr>
        <p:spPr>
          <a:xfrm>
            <a:off x="6824520" y="16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43"/>
          <p:cNvSpPr/>
          <p:nvPr/>
        </p:nvSpPr>
        <p:spPr>
          <a:xfrm>
            <a:off x="5600880" y="2325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44"/>
          <p:cNvSpPr/>
          <p:nvPr/>
        </p:nvSpPr>
        <p:spPr>
          <a:xfrm>
            <a:off x="5415120" y="3819600"/>
            <a:ext cx="241200" cy="155520"/>
          </a:xfrm>
          <a:custGeom>
            <a:avLst/>
            <a:gdLst>
              <a:gd name="textAreaLeft" fmla="*/ 0 w 241200"/>
              <a:gd name="textAreaRight" fmla="*/ 241560 w 241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52" h="98">
                <a:moveTo>
                  <a:pt x="152" y="98"/>
                </a:moveTo>
                <a:cubicBezTo>
                  <a:pt x="141" y="85"/>
                  <a:pt x="113" y="34"/>
                  <a:pt x="88" y="18"/>
                </a:cubicBezTo>
                <a:cubicBezTo>
                  <a:pt x="63" y="2"/>
                  <a:pt x="18" y="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5"/>
          <p:cNvSpPr/>
          <p:nvPr/>
        </p:nvSpPr>
        <p:spPr>
          <a:xfrm>
            <a:off x="4952880" y="2057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46"/>
          <p:cNvGrpSpPr/>
          <p:nvPr/>
        </p:nvGrpSpPr>
        <p:grpSpPr>
          <a:xfrm>
            <a:off x="6837480" y="1676520"/>
            <a:ext cx="72720" cy="98280"/>
            <a:chOff x="6837480" y="1676520"/>
            <a:chExt cx="72720" cy="98280"/>
          </a:xfrm>
        </p:grpSpPr>
        <p:sp>
          <p:nvSpPr>
            <p:cNvPr id="862" name="Freeform 47"/>
            <p:cNvSpPr/>
            <p:nvPr/>
          </p:nvSpPr>
          <p:spPr>
            <a:xfrm>
              <a:off x="6850080" y="1685880"/>
              <a:ext cx="60120" cy="88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8" h="56">
                  <a:moveTo>
                    <a:pt x="36" y="0"/>
                  </a:moveTo>
                  <a:cubicBezTo>
                    <a:pt x="35" y="7"/>
                    <a:pt x="38" y="33"/>
                    <a:pt x="32" y="42"/>
                  </a:cubicBezTo>
                  <a:cubicBezTo>
                    <a:pt x="26" y="51"/>
                    <a:pt x="7" y="53"/>
                    <a:pt x="0" y="56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8"/>
            <p:cNvSpPr/>
            <p:nvPr/>
          </p:nvSpPr>
          <p:spPr>
            <a:xfrm>
              <a:off x="6837480" y="1676520"/>
              <a:ext cx="50760" cy="66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2" h="42">
                  <a:moveTo>
                    <a:pt x="32" y="0"/>
                  </a:moveTo>
                  <a:cubicBezTo>
                    <a:pt x="31" y="6"/>
                    <a:pt x="29" y="27"/>
                    <a:pt x="24" y="34"/>
                  </a:cubicBezTo>
                  <a:cubicBezTo>
                    <a:pt x="19" y="41"/>
                    <a:pt x="5" y="40"/>
                    <a:pt x="0" y="4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49"/>
          <p:cNvGrpSpPr/>
          <p:nvPr/>
        </p:nvGrpSpPr>
        <p:grpSpPr>
          <a:xfrm>
            <a:off x="5384880" y="3416400"/>
            <a:ext cx="761760" cy="497160"/>
            <a:chOff x="5384880" y="3416400"/>
            <a:chExt cx="761760" cy="497160"/>
          </a:xfrm>
        </p:grpSpPr>
        <p:sp>
          <p:nvSpPr>
            <p:cNvPr id="865" name="Text Box 50"/>
            <p:cNvSpPr/>
            <p:nvPr/>
          </p:nvSpPr>
          <p:spPr>
            <a:xfrm>
              <a:off x="5384880" y="35146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1"/>
            <p:cNvSpPr/>
            <p:nvPr/>
          </p:nvSpPr>
          <p:spPr>
            <a:xfrm flipV="1">
              <a:off x="5422680" y="3416400"/>
              <a:ext cx="240840" cy="15552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360 h 155520"/>
                <a:gd name="textAreaBottom" fmla="*/ 156240 h 155520"/>
              </a:gdLst>
              <a:ahLst/>
              <a:rect l="textAreaLeft" t="textAreaTop" r="textAreaRight" b="textAreaBottom"/>
              <a:pathLst>
                <a:path w="152" h="98">
                  <a:moveTo>
                    <a:pt x="152" y="98"/>
                  </a:moveTo>
                  <a:cubicBezTo>
                    <a:pt x="141" y="85"/>
                    <a:pt x="113" y="34"/>
                    <a:pt x="88" y="18"/>
                  </a:cubicBezTo>
                  <a:cubicBezTo>
                    <a:pt x="63" y="2"/>
                    <a:pt x="18" y="4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52"/>
          <p:cNvGrpSpPr/>
          <p:nvPr/>
        </p:nvGrpSpPr>
        <p:grpSpPr>
          <a:xfrm>
            <a:off x="6019560" y="2666880"/>
            <a:ext cx="178200" cy="1079640"/>
            <a:chOff x="6019560" y="2666880"/>
            <a:chExt cx="178200" cy="1079640"/>
          </a:xfrm>
        </p:grpSpPr>
        <p:sp>
          <p:nvSpPr>
            <p:cNvPr id="868" name="Line 53"/>
            <p:cNvSpPr/>
            <p:nvPr/>
          </p:nvSpPr>
          <p:spPr>
            <a:xfrm flipH="1">
              <a:off x="6019560" y="266688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6121440" y="3441600"/>
              <a:ext cx="76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Arc 55"/>
          <p:cNvSpPr/>
          <p:nvPr/>
        </p:nvSpPr>
        <p:spPr>
          <a:xfrm flipV="1" rot="699000">
            <a:off x="5584680" y="2090160"/>
            <a:ext cx="2734920" cy="2788920"/>
          </a:xfrm>
          <a:custGeom>
            <a:avLst/>
            <a:gdLst>
              <a:gd name="textAreaLeft" fmla="*/ 0 w 2734920"/>
              <a:gd name="textAreaRight" fmla="*/ 2735280 w 2734920"/>
              <a:gd name="textAreaTop" fmla="*/ -360 h 2788920"/>
              <a:gd name="textAreaBottom" fmla="*/ 2788920 h 2788920"/>
            </a:gdLst>
            <a:ahLst/>
            <a:rect l="textAreaLeft" t="textAreaTop" r="textAreaRight" b="textAreaBottom"/>
            <a:pathLst>
              <a:path fill="none" w="36378" h="37282">
                <a:moveTo>
                  <a:pt x="0" y="5846"/>
                </a:moveTo>
                <a:cubicBezTo>
                  <a:pt x="4004" y="2090"/>
                  <a:pt x="9288" y="-1"/>
                  <a:pt x="14778" y="0"/>
                </a:cubicBezTo>
                <a:cubicBezTo>
                  <a:pt x="26707" y="0"/>
                  <a:pt x="36378" y="9670"/>
                  <a:pt x="36378" y="21600"/>
                </a:cubicBezTo>
                <a:cubicBezTo>
                  <a:pt x="36378" y="27531"/>
                  <a:pt x="33938" y="33202"/>
                  <a:pt x="29631" y="37281"/>
                </a:cubicBezTo>
              </a:path>
              <a:path stroke="0" w="36378" h="37282">
                <a:moveTo>
                  <a:pt x="0" y="5846"/>
                </a:moveTo>
                <a:cubicBezTo>
                  <a:pt x="4004" y="2090"/>
                  <a:pt x="9288" y="-1"/>
                  <a:pt x="14778" y="0"/>
                </a:cubicBezTo>
                <a:cubicBezTo>
                  <a:pt x="26707" y="0"/>
                  <a:pt x="36378" y="9670"/>
                  <a:pt x="36378" y="21600"/>
                </a:cubicBezTo>
                <a:cubicBezTo>
                  <a:pt x="36378" y="27531"/>
                  <a:pt x="33938" y="33202"/>
                  <a:pt x="29631" y="37281"/>
                </a:cubicBezTo>
                <a:lnTo>
                  <a:pt x="14778" y="21600"/>
                </a:lnTo>
                <a:lnTo>
                  <a:pt x="0" y="5846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6"/>
          <p:cNvSpPr/>
          <p:nvPr/>
        </p:nvSpPr>
        <p:spPr>
          <a:xfrm>
            <a:off x="5600880" y="2324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rc 57"/>
          <p:cNvSpPr/>
          <p:nvPr/>
        </p:nvSpPr>
        <p:spPr>
          <a:xfrm flipV="1" rot="699000">
            <a:off x="6802200" y="2218320"/>
            <a:ext cx="1623960" cy="1662120"/>
          </a:xfrm>
          <a:custGeom>
            <a:avLst/>
            <a:gdLst>
              <a:gd name="textAreaLeft" fmla="*/ 0 w 1623960"/>
              <a:gd name="textAreaRight" fmla="*/ 1624320 w 1623960"/>
              <a:gd name="textAreaTop" fmla="*/ -360 h 1662120"/>
              <a:gd name="textAreaBottom" fmla="*/ 1662120 h 1662120"/>
            </a:gdLst>
            <a:ahLst/>
            <a:rect l="textAreaLeft" t="textAreaTop" r="textAreaRight" b="textAreaBottom"/>
            <a:pathLst>
              <a:path fill="none" w="21600" h="22217">
                <a:moveTo>
                  <a:pt x="20587" y="0"/>
                </a:moveTo>
                <a:cubicBezTo>
                  <a:pt x="21258" y="2113"/>
                  <a:pt x="21600" y="4317"/>
                  <a:pt x="21600" y="6535"/>
                </a:cubicBezTo>
                <a:cubicBezTo>
                  <a:pt x="21600" y="12466"/>
                  <a:pt x="19160" y="18137"/>
                  <a:pt x="14853" y="22216"/>
                </a:cubicBezTo>
              </a:path>
              <a:path stroke="0" w="21600" h="22217">
                <a:moveTo>
                  <a:pt x="20587" y="0"/>
                </a:moveTo>
                <a:cubicBezTo>
                  <a:pt x="21258" y="2113"/>
                  <a:pt x="21600" y="4317"/>
                  <a:pt x="21600" y="6535"/>
                </a:cubicBezTo>
                <a:cubicBezTo>
                  <a:pt x="21600" y="12466"/>
                  <a:pt x="19160" y="18137"/>
                  <a:pt x="14853" y="22216"/>
                </a:cubicBezTo>
                <a:lnTo>
                  <a:pt x="0" y="6535"/>
                </a:lnTo>
                <a:lnTo>
                  <a:pt x="20587" y="0"/>
                </a:lnTo>
                <a:close/>
              </a:path>
            </a:pathLst>
          </a:custGeom>
          <a:noFill/>
          <a:ln w="38160">
            <a:solidFill>
              <a:srgbClr val="0066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58"/>
          <p:cNvSpPr/>
          <p:nvPr/>
        </p:nvSpPr>
        <p:spPr>
          <a:xfrm>
            <a:off x="1523880" y="5943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>
              <a:alphaModFix amt="3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59"/>
          <p:cNvSpPr/>
          <p:nvPr/>
        </p:nvSpPr>
        <p:spPr>
          <a:xfrm>
            <a:off x="5943600" y="5943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>
              <a:alphaModFix amt="3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60">
            <a:hlinkClick r:id="" action="ppaction://hlinkshowjump?jump=nextslide"/>
          </p:cNvPr>
          <p:cNvSpPr/>
          <p:nvPr/>
        </p:nvSpPr>
        <p:spPr>
          <a:xfrm>
            <a:off x="81532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>
              <a:alphaModFix amt="6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61"/>
          <p:cNvGrpSpPr/>
          <p:nvPr/>
        </p:nvGrpSpPr>
        <p:grpSpPr>
          <a:xfrm>
            <a:off x="5410080" y="3429000"/>
            <a:ext cx="762120" cy="497160"/>
            <a:chOff x="5410080" y="3429000"/>
            <a:chExt cx="762120" cy="497160"/>
          </a:xfrm>
        </p:grpSpPr>
        <p:sp>
          <p:nvSpPr>
            <p:cNvPr id="877" name="Text Box 62"/>
            <p:cNvSpPr/>
            <p:nvPr/>
          </p:nvSpPr>
          <p:spPr>
            <a:xfrm>
              <a:off x="5410080" y="3527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63"/>
            <p:cNvSpPr/>
            <p:nvPr/>
          </p:nvSpPr>
          <p:spPr>
            <a:xfrm flipV="1">
              <a:off x="5448240" y="3429000"/>
              <a:ext cx="241200" cy="1555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360 h 155520"/>
                <a:gd name="textAreaBottom" fmla="*/ 156240 h 155520"/>
              </a:gdLst>
              <a:ahLst/>
              <a:rect l="textAreaLeft" t="textAreaTop" r="textAreaRight" b="textAreaBottom"/>
              <a:pathLst>
                <a:path w="152" h="98">
                  <a:moveTo>
                    <a:pt x="152" y="98"/>
                  </a:moveTo>
                  <a:cubicBezTo>
                    <a:pt x="141" y="85"/>
                    <a:pt x="113" y="34"/>
                    <a:pt x="88" y="18"/>
                  </a:cubicBezTo>
                  <a:cubicBezTo>
                    <a:pt x="63" y="2"/>
                    <a:pt x="18" y="4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00556 -0.10833 L -0.00625 -0.12685 E">
                                      <p:cBhvr>
                                        <p:cTn id="1258" dur="2000" fill="hold"/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260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C 0.01944 -0.05255 0.04166 -0.09375 0.06389 -0.14607 C 0.08333 -0.18935 0.1 -0.27269 0.11666 -0.30301 C 0.12222 -0.31551 0.11944 -0.30834 0.12222 -0.32408 L 0.13333 -0.37107 E">
                                      <p:cBhvr>
                                        <p:cTn id="1271" dur="2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-0.15834 -0.18449 E">
                                      <p:cBhvr>
                                        <p:cTn id="1286" dur="200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8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1291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00556 -0.10833 L -0.00625 -0.12685 E">
                                      <p:cBhvr>
                                        <p:cTn id="1315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10972 -0.05625 L 0.14444 -0.07477 E">
                                      <p:cBhvr>
                                        <p:cTn id="1363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титуль"/>
          <p:cNvPicPr/>
          <p:nvPr/>
        </p:nvPicPr>
        <p:blipFill>
          <a:blip r:embed="rId1"/>
          <a:stretch/>
        </p:blipFill>
        <p:spPr>
          <a:xfrm>
            <a:off x="395280" y="549360"/>
            <a:ext cx="4780080" cy="5586480"/>
          </a:xfrm>
          <a:prstGeom prst="rect">
            <a:avLst/>
          </a:prstGeom>
          <a:ln w="0">
            <a:noFill/>
          </a:ln>
        </p:spPr>
      </p:pic>
      <p:sp>
        <p:nvSpPr>
          <p:cNvPr id="310" name="WordArt 7"/>
          <p:cNvSpPr txBox="1"/>
          <p:nvPr/>
        </p:nvSpPr>
        <p:spPr>
          <a:xfrm>
            <a:off x="1979640" y="1773360"/>
            <a:ext cx="40323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ма урок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" name="WordArt 8"/>
          <p:cNvSpPr txBox="1"/>
          <p:nvPr/>
        </p:nvSpPr>
        <p:spPr>
          <a:xfrm>
            <a:off x="4211640" y="3500280"/>
            <a:ext cx="432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писанные угл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688000" cy="40402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3" descr=""/>
          <p:cNvPicPr/>
          <p:nvPr/>
        </p:nvPicPr>
        <p:blipFill>
          <a:blip r:embed="rId2"/>
          <a:stretch/>
        </p:blipFill>
        <p:spPr>
          <a:xfrm rot="20760600">
            <a:off x="-684000" y="2133360"/>
            <a:ext cx="3745080" cy="248904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4" descr=""/>
          <p:cNvPicPr/>
          <p:nvPr/>
        </p:nvPicPr>
        <p:blipFill>
          <a:blip r:embed="rId3"/>
          <a:stretch/>
        </p:blipFill>
        <p:spPr>
          <a:xfrm rot="8407800">
            <a:off x="5292720" y="1699920"/>
            <a:ext cx="2736720" cy="18190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8" descr=""/>
          <p:cNvPicPr/>
          <p:nvPr/>
        </p:nvPicPr>
        <p:blipFill>
          <a:blip r:embed="rId4"/>
          <a:stretch/>
        </p:blipFill>
        <p:spPr>
          <a:xfrm rot="3628800">
            <a:off x="2143800" y="-46800"/>
            <a:ext cx="3744720" cy="24894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0" descr=""/>
          <p:cNvPicPr/>
          <p:nvPr/>
        </p:nvPicPr>
        <p:blipFill>
          <a:blip r:embed="rId5"/>
          <a:stretch/>
        </p:blipFill>
        <p:spPr>
          <a:xfrm>
            <a:off x="3492360" y="2924280"/>
            <a:ext cx="261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0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33 0.06 0.06267 0.137 0.064 C 0.198 0.06667 0.248 0.05067 0.249 0.03067 C 0.249 0.01067 0.2 -0.008 0.138 -0.00933 C 0.107 -0.00933 0.079 -0.00667 0.059 0 C 0.03 0.00933 0.013 0.024 0.013 0.04133 C 0.013 0.05067 0.018 0.06 0.027 0.068 C 0.048 0.08533 0.089 0.09733 0.136 0.09867 C 0.191 0.10133 0.236 0.08667 0.236 0.06933 C 0.237 0.05067 0.192 0.03467 0.137 0.032 C 0.109 0.032 0.084 0.03467 0.065 0.04 C 0.04 0.04933 0.024 0.064 0.024 0.07867 C 0.024 0.08667 0.029 0.09467 0.037 0.10267 C 0.056 0.11733 0.092 0.12933 0.135 0.13067 C 0.185 0.132 0.225 0.11867 0.225 0.10267 C 0.226 0.08667 0.186 0.072 0.136 0.07067 C 0.111 0.06933 0.088 0.072 0.071 0.07733 C 0.048 0.08533 0.035 0.09733 0.035 0.112 C 0.035 0.11867 0.039 0.12667 0.046 0.13333 C 0.063 0.14667 0.096 0.15733 0.134 0.15867 C 0.179 0.15867 0.215 0.148 0.215 0.13333 C 0.215 0.11867 0.18 0.10533 0.135 0.104 C 0.113 0.104 0.092 0.10667 0.077 0.11067 C 0.056 0.11733 0.044 0.12933 0.043 0.14133 C 0.043 0.148 0.048 0.15467 0.054 0.16 C 0.069 0.17333 0.099 0.18267 0.133 0.18267 C 0.173 0.184 0.206 0.17467 0.206 0.16133 C 0.207 0.148 0.174 0.136 0.134 0.13467 C 0.114 0.13467 0.095 0.136 0.082 0.14133 C 0.063 0.14667 0.052 0.15733 0.052 0.168 C 0.052 0.17467 0.055 0.18 0.061 0.18533 C 0.075 0.19733 0.101 0.20533 0.132 0.20667 C 0.169 0.20667 0.198 0.19867 0.198 0.18667 C 0.199 0.17467 0.17 0.164 0.133 0.16267 C 0.115 0.16267 0.099 0.164 0.087 0.168 C 0.07 0.17333 0.06 0.18267 0.06 0.19333 C 0.06 0.19867 0.063 0.20267 0.068 0.208 C 0.08 0.21867 0.104 0.22533 0.132 0.22667 C 0.165 0.228 0.191 0.22 0.191 0.208 C 0.191 0.19867 0.166 0.188 0.133 0.188 C 0.116 0.18667 0.101 0.18933 0.09 0.192 C 0.075 0.19733 0.066 0.20533 0.066 0.21467 C 0.066 0.22 0.069 0.224 0.074 0.228 C 0.085 0.23733 0.107 0.244 0.131 0.24533 C 0.161 0.24667 0.185 0.23867 0.185 0.22933 C 0.185 0.21867 0.161 0.21067 0.132 0.20933 C 0.118 0.20933 0.104 0.21067 0.094 0.21467 C 0.08 0.21867 0.072 0.22533 0.072 0.23467 C 0.072 0.23867 0.075 0.24267 0.079 0.24667 C 0.089 0.25467 0.108 0.26133 0.131 0.26133 C 0.157 0.26267 0.179 0.256 0.179 0.24667 C 0.179 0.23867 0.158 0.23067 0.131 0.23067 C 0.119 0.22933 0.106 0.23067 0.097 0.23333 C 0.085 0.23867 0.078 0.24533 0.078 0.252 C 0.078 0.256 0.08 0.26 0.084 0.26267 C 0.093 0.27067 0.11 0.276 0.131 0.27733 C 0.155 0.27733 0.174 0.27067 0.174 0.264 C 0.174 0.256 0.155 0.248 0.131 0.248 C 0.119 0.248 0.108 0.24933 0.101 0.252 C 0.089 0.25467 0.083 0.26133 0.083 0.268 C 0.083 0.27067 0.085 0.27467 0.088 0.27733 C 0.096 0.28533 0.112 0.28933 0.13 0.29067 C 0.152 0.29067 0.169 0.28533 0.169 0.27867 C 0.169 0.27067 0.152 0.26533 0.131 0.264 C 0.12 0.264 0.11 0.26533 0.103 0.268 C 0.093 0.27067 0.087 0.276 0.087 0.28267 C 0.087 0.28533 0.089 0.288 0.092 0.29067 E">
                                      <p:cBhvr>
                                        <p:cTn id="1372" dur="2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01 0.29074 L -0.00243 0.00718 E">
                                      <p:cBhvr>
                                        <p:cTn id="1375" dur="3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2.96296E-006 L 0.09461 0.28356 E">
                                      <p:cBhvr>
                                        <p:cTn id="1378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6" dur="2000" fill="hold"/>
                                        <p:tgtEl>
                                          <p:spTgt spid="8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5 -0.12107 L -0.00104 -0.31019 E">
                                      <p:cBhvr>
                                        <p:cTn id="1389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4"/>
          <p:cNvSpPr/>
          <p:nvPr/>
        </p:nvSpPr>
        <p:spPr>
          <a:xfrm>
            <a:off x="755640" y="26028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ivaldi"/>
              </a:rPr>
              <a:t>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Picture 11" descr="перо"/>
          <p:cNvPicPr/>
          <p:nvPr/>
        </p:nvPicPr>
        <p:blipFill>
          <a:blip r:embed="rId1"/>
          <a:stretch/>
        </p:blipFill>
        <p:spPr>
          <a:xfrm>
            <a:off x="3708360" y="765000"/>
            <a:ext cx="5216400" cy="5216760"/>
          </a:xfrm>
          <a:prstGeom prst="rect">
            <a:avLst/>
          </a:prstGeom>
          <a:ln w="0">
            <a:noFill/>
          </a:ln>
        </p:spPr>
      </p:pic>
      <p:sp>
        <p:nvSpPr>
          <p:cNvPr id="886" name="Text Box 12"/>
          <p:cNvSpPr/>
          <p:nvPr/>
        </p:nvSpPr>
        <p:spPr>
          <a:xfrm>
            <a:off x="1403280" y="981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Найди ошибку в формулировк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611280" y="155736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Вписанным называется угол, вершина которого лежит на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5"/>
          <p:cNvSpPr/>
          <p:nvPr/>
        </p:nvSpPr>
        <p:spPr>
          <a:xfrm>
            <a:off x="1403280" y="3860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Закончи фраз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6"/>
          <p:cNvSpPr/>
          <p:nvPr/>
        </p:nvSpPr>
        <p:spPr>
          <a:xfrm>
            <a:off x="684360" y="4437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Вписанные углы равны, ес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7"/>
          <p:cNvSpPr/>
          <p:nvPr/>
        </p:nvSpPr>
        <p:spPr>
          <a:xfrm>
            <a:off x="684360" y="49417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писанный угол прямой, ес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8"/>
          <p:cNvSpPr/>
          <p:nvPr/>
        </p:nvSpPr>
        <p:spPr>
          <a:xfrm>
            <a:off x="539640" y="2492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писанный угол измеряется величиной дуги, на которую он опир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.71, выучить определение вписанного угл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орему о вписанном угл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записав док-во 3 случая) 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а следствия из не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№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57- выполнить письменно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№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54-уст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 Box 4"/>
          <p:cNvSpPr/>
          <p:nvPr/>
        </p:nvSpPr>
        <p:spPr>
          <a:xfrm>
            <a:off x="1619280" y="40464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ivald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2752560" cy="3095640"/>
          </a:xfrm>
          <a:prstGeom prst="rect">
            <a:avLst/>
          </a:prstGeom>
          <a:ln w="0">
            <a:noFill/>
          </a:ln>
        </p:spPr>
      </p:pic>
      <p:sp>
        <p:nvSpPr>
          <p:cNvPr id="896" name="Text Box 8"/>
          <p:cNvSpPr/>
          <p:nvPr/>
        </p:nvSpPr>
        <p:spPr>
          <a:xfrm>
            <a:off x="3851280" y="2276640"/>
            <a:ext cx="439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итель математики МОУ «МСОШ № 16»     города   Миасса Челябин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лан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вторение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накомство с определением вписанного  уг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оказательство теоремы, выражающей свойство вписанного угла. (3 случ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ормулировка двух следствий из теор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актическа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ешение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тог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омашнее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65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59"/>
          <p:cNvGrpSpPr/>
          <p:nvPr/>
        </p:nvGrpSpPr>
        <p:grpSpPr>
          <a:xfrm>
            <a:off x="684360" y="2060640"/>
            <a:ext cx="2952720" cy="3095640"/>
            <a:chOff x="684360" y="2060640"/>
            <a:chExt cx="2952720" cy="3095640"/>
          </a:xfrm>
        </p:grpSpPr>
        <p:sp>
          <p:nvSpPr>
            <p:cNvPr id="315" name="Oval 42"/>
            <p:cNvSpPr/>
            <p:nvPr/>
          </p:nvSpPr>
          <p:spPr>
            <a:xfrm>
              <a:off x="684360" y="2421000"/>
              <a:ext cx="2952720" cy="2735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3"/>
            <p:cNvSpPr/>
            <p:nvPr/>
          </p:nvSpPr>
          <p:spPr>
            <a:xfrm flipH="1">
              <a:off x="1402920" y="3789360"/>
              <a:ext cx="79236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4"/>
            <p:cNvSpPr/>
            <p:nvPr/>
          </p:nvSpPr>
          <p:spPr>
            <a:xfrm>
              <a:off x="2195640" y="3789360"/>
              <a:ext cx="93636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5"/>
            <p:cNvSpPr/>
            <p:nvPr/>
          </p:nvSpPr>
          <p:spPr>
            <a:xfrm>
              <a:off x="1979640" y="386064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46"/>
            <p:cNvSpPr/>
            <p:nvPr/>
          </p:nvSpPr>
          <p:spPr>
            <a:xfrm>
              <a:off x="1835280" y="2060640"/>
              <a:ext cx="12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1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47"/>
          <p:cNvSpPr/>
          <p:nvPr/>
        </p:nvSpPr>
        <p:spPr>
          <a:xfrm>
            <a:off x="1763640" y="530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3"/>
          <p:cNvSpPr/>
          <p:nvPr/>
        </p:nvSpPr>
        <p:spPr>
          <a:xfrm>
            <a:off x="4356000" y="26028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. По рисунку  б). найти величину   внешнего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5"/>
          <p:cNvSpPr/>
          <p:nvPr/>
        </p:nvSpPr>
        <p:spPr>
          <a:xfrm>
            <a:off x="4427640" y="83664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ь величину внешнего угла и угла при осн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6"/>
          <p:cNvSpPr/>
          <p:nvPr/>
        </p:nvSpPr>
        <p:spPr>
          <a:xfrm>
            <a:off x="421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60"/>
          <p:cNvGrpSpPr/>
          <p:nvPr/>
        </p:nvGrpSpPr>
        <p:grpSpPr>
          <a:xfrm>
            <a:off x="539640" y="476280"/>
            <a:ext cx="6985080" cy="4465440"/>
            <a:chOff x="539640" y="476280"/>
            <a:chExt cx="6985080" cy="4465440"/>
          </a:xfrm>
        </p:grpSpPr>
        <p:sp>
          <p:nvSpPr>
            <p:cNvPr id="325" name="Text Box 48"/>
            <p:cNvSpPr/>
            <p:nvPr/>
          </p:nvSpPr>
          <p:spPr>
            <a:xfrm>
              <a:off x="539640" y="476280"/>
              <a:ext cx="38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. По рисунку  а). найти величину 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9"/>
            <p:cNvSpPr/>
            <p:nvPr/>
          </p:nvSpPr>
          <p:spPr>
            <a:xfrm flipH="1">
              <a:off x="5076720" y="2276640"/>
              <a:ext cx="1800000" cy="26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0"/>
            <p:cNvSpPr/>
            <p:nvPr/>
          </p:nvSpPr>
          <p:spPr>
            <a:xfrm>
              <a:off x="6229080" y="3213000"/>
              <a:ext cx="1079640" cy="17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51"/>
            <p:cNvSpPr/>
            <p:nvPr/>
          </p:nvSpPr>
          <p:spPr>
            <a:xfrm flipH="1">
              <a:off x="5076720" y="49417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2"/>
            <p:cNvSpPr/>
            <p:nvPr/>
          </p:nvSpPr>
          <p:spPr>
            <a:xfrm>
              <a:off x="6661080" y="4508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57"/>
            <p:cNvSpPr/>
            <p:nvPr/>
          </p:nvSpPr>
          <p:spPr>
            <a:xfrm>
              <a:off x="5581440" y="3860640"/>
              <a:ext cx="21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8"/>
            <p:cNvSpPr/>
            <p:nvPr/>
          </p:nvSpPr>
          <p:spPr>
            <a:xfrm flipH="1">
              <a:off x="6516000" y="3860640"/>
              <a:ext cx="2890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61"/>
          <p:cNvSpPr/>
          <p:nvPr/>
        </p:nvSpPr>
        <p:spPr>
          <a:xfrm>
            <a:off x="5292720" y="5229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ценр"/>
          <p:cNvPicPr/>
          <p:nvPr/>
        </p:nvPicPr>
        <p:blipFill>
          <a:blip r:embed="rId1"/>
          <a:stretch/>
        </p:blipFill>
        <p:spPr>
          <a:xfrm>
            <a:off x="324000" y="981000"/>
            <a:ext cx="3238200" cy="3435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Вписан"/>
          <p:cNvPicPr/>
          <p:nvPr/>
        </p:nvPicPr>
        <p:blipFill>
          <a:blip r:embed="rId2"/>
          <a:stretch/>
        </p:blipFill>
        <p:spPr>
          <a:xfrm>
            <a:off x="5148360" y="836640"/>
            <a:ext cx="3297240" cy="38592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7"/>
          <p:cNvSpPr/>
          <p:nvPr/>
        </p:nvSpPr>
        <p:spPr>
          <a:xfrm>
            <a:off x="395280" y="333360"/>
            <a:ext cx="8497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ivaldi"/>
              </a:rPr>
              <a:t>Чем похожи и чем различаются углы АОВ и АС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179280" y="486900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ivaldi"/>
              </a:rPr>
              <a:t>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2340000" y="4816440"/>
            <a:ext cx="655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Vivaldi"/>
              </a:rPr>
              <a:t>Угол, вершина которого лежит на  окружности,   а   стороны   пересекают  ее,   называется          </a:t>
            </a:r>
            <a:r>
              <a:rPr b="1" i="1" lang="ru-RU" sz="3200" spc="-1" strike="noStrike">
                <a:solidFill>
                  <a:srgbClr val="ff0000"/>
                </a:solidFill>
                <a:latin typeface="Vivaldi"/>
              </a:rPr>
              <a:t>в п и с а н н ы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826920" y="1341360"/>
            <a:ext cx="1728720" cy="1656000"/>
            <a:chOff x="826920" y="1341360"/>
            <a:chExt cx="1728720" cy="1656000"/>
          </a:xfrm>
        </p:grpSpPr>
        <p:sp>
          <p:nvSpPr>
            <p:cNvPr id="339" name="Oval 3"/>
            <p:cNvSpPr/>
            <p:nvPr/>
          </p:nvSpPr>
          <p:spPr>
            <a:xfrm>
              <a:off x="826920" y="1341360"/>
              <a:ext cx="1728720" cy="1656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"/>
            <p:cNvSpPr/>
            <p:nvPr/>
          </p:nvSpPr>
          <p:spPr>
            <a:xfrm flipH="1">
              <a:off x="1116000" y="1341360"/>
              <a:ext cx="57600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1692000" y="1341360"/>
              <a:ext cx="71928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6"/>
          <p:cNvGrpSpPr/>
          <p:nvPr/>
        </p:nvGrpSpPr>
        <p:grpSpPr>
          <a:xfrm>
            <a:off x="5796000" y="1989000"/>
            <a:ext cx="2016000" cy="2231640"/>
            <a:chOff x="5796000" y="1989000"/>
            <a:chExt cx="2016000" cy="2231640"/>
          </a:xfrm>
        </p:grpSpPr>
        <p:sp>
          <p:nvSpPr>
            <p:cNvPr id="343" name="Oval 7"/>
            <p:cNvSpPr/>
            <p:nvPr/>
          </p:nvSpPr>
          <p:spPr>
            <a:xfrm>
              <a:off x="5796000" y="2563560"/>
              <a:ext cx="1655640" cy="16570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8"/>
            <p:cNvSpPr/>
            <p:nvPr/>
          </p:nvSpPr>
          <p:spPr>
            <a:xfrm flipH="1">
              <a:off x="5940360" y="2563560"/>
              <a:ext cx="503280" cy="12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9"/>
            <p:cNvSpPr/>
            <p:nvPr/>
          </p:nvSpPr>
          <p:spPr>
            <a:xfrm flipV="1">
              <a:off x="6443640" y="1989000"/>
              <a:ext cx="13683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0"/>
          <p:cNvGrpSpPr/>
          <p:nvPr/>
        </p:nvGrpSpPr>
        <p:grpSpPr>
          <a:xfrm>
            <a:off x="1692360" y="3573360"/>
            <a:ext cx="2232000" cy="2663640"/>
            <a:chOff x="1692360" y="3573360"/>
            <a:chExt cx="2232000" cy="2663640"/>
          </a:xfrm>
        </p:grpSpPr>
        <p:sp>
          <p:nvSpPr>
            <p:cNvPr id="347" name="Oval 11"/>
            <p:cNvSpPr/>
            <p:nvPr/>
          </p:nvSpPr>
          <p:spPr>
            <a:xfrm>
              <a:off x="1692360" y="4149360"/>
              <a:ext cx="2232000" cy="2087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2"/>
            <p:cNvSpPr/>
            <p:nvPr/>
          </p:nvSpPr>
          <p:spPr>
            <a:xfrm flipH="1">
              <a:off x="2123640" y="3573360"/>
              <a:ext cx="79236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3"/>
            <p:cNvSpPr/>
            <p:nvPr/>
          </p:nvSpPr>
          <p:spPr>
            <a:xfrm>
              <a:off x="2916360" y="3573360"/>
              <a:ext cx="71928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4"/>
          <p:cNvGrpSpPr/>
          <p:nvPr/>
        </p:nvGrpSpPr>
        <p:grpSpPr>
          <a:xfrm>
            <a:off x="5076720" y="4581360"/>
            <a:ext cx="1800000" cy="1728720"/>
            <a:chOff x="5076720" y="4581360"/>
            <a:chExt cx="1800000" cy="1728720"/>
          </a:xfrm>
        </p:grpSpPr>
        <p:sp>
          <p:nvSpPr>
            <p:cNvPr id="351" name="Oval 15"/>
            <p:cNvSpPr/>
            <p:nvPr/>
          </p:nvSpPr>
          <p:spPr>
            <a:xfrm>
              <a:off x="5076720" y="4581360"/>
              <a:ext cx="1800000" cy="1728720"/>
            </a:xfrm>
            <a:prstGeom prst="ellipse">
              <a:avLst/>
            </a:prstGeom>
            <a:solidFill>
              <a:srgbClr val="c3aa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>
              <a:off x="5941800" y="4581360"/>
              <a:ext cx="93492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>
              <a:off x="5941800" y="4581360"/>
              <a:ext cx="14292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18"/>
          <p:cNvSpPr/>
          <p:nvPr/>
        </p:nvSpPr>
        <p:spPr>
          <a:xfrm>
            <a:off x="755640" y="189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рисунки, на которых изображены вписанные углы. Достаточно щелкнуть по ним мы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1547640" y="198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5292720" y="5084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1"/>
          <p:cNvSpPr/>
          <p:nvPr/>
        </p:nvSpPr>
        <p:spPr>
          <a:xfrm>
            <a:off x="3132000" y="3284640"/>
            <a:ext cx="1871640" cy="503280"/>
          </a:xfrm>
          <a:prstGeom prst="wedgeRectCallout">
            <a:avLst>
              <a:gd name="adj1" fmla="val -32189"/>
              <a:gd name="adj2" fmla="val 13612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а не на 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2"/>
          <p:cNvSpPr/>
          <p:nvPr/>
        </p:nvSpPr>
        <p:spPr>
          <a:xfrm>
            <a:off x="6659640" y="1268280"/>
            <a:ext cx="2484360" cy="1008360"/>
          </a:xfrm>
          <a:prstGeom prst="wedgeRoundRectCallout">
            <a:avLst>
              <a:gd name="adj1" fmla="val -45078"/>
              <a:gd name="adj2" fmla="val 444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рона не пересекает окру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3" descr="janitor"/>
          <p:cNvPicPr/>
          <p:nvPr/>
        </p:nvPicPr>
        <p:blipFill>
          <a:blip r:embed="rId1"/>
          <a:stretch/>
        </p:blipFill>
        <p:spPr>
          <a:xfrm>
            <a:off x="4284720" y="1268280"/>
            <a:ext cx="2736720" cy="246384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24">
            <a:hlinkClick r:id="" action="ppaction://hlinkshowjump?jump=nextslide"/>
          </p:cNvPr>
          <p:cNvSpPr/>
          <p:nvPr/>
        </p:nvSpPr>
        <p:spPr>
          <a:xfrm>
            <a:off x="8317080" y="6381720"/>
            <a:ext cx="647640" cy="476280"/>
          </a:xfrm>
          <a:custGeom>
            <a:avLst/>
            <a:gdLst>
              <a:gd name="textAreaLeft" fmla="*/ 30600 w 647640"/>
              <a:gd name="textAreaRight" fmla="*/ 617040 w 6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6" y="3794"/>
                </a:moveTo>
                <a:lnTo>
                  <a:pt x="21689" y="10800"/>
                </a:lnTo>
                <a:lnTo>
                  <a:pt x="76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5" descr="janitor"/>
          <p:cNvPicPr/>
          <p:nvPr/>
        </p:nvPicPr>
        <p:blipFill>
          <a:blip r:embed="rId2"/>
          <a:stretch/>
        </p:blipFill>
        <p:spPr>
          <a:xfrm>
            <a:off x="179280" y="3284640"/>
            <a:ext cx="2960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4"/>
          <p:cNvSpPr txBox="1"/>
          <p:nvPr/>
        </p:nvSpPr>
        <p:spPr>
          <a:xfrm>
            <a:off x="755640" y="2349360"/>
            <a:ext cx="4143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я, как выражаетс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WordArt 5"/>
          <p:cNvSpPr txBox="1"/>
          <p:nvPr/>
        </p:nvSpPr>
        <p:spPr>
          <a:xfrm>
            <a:off x="1187280" y="3141720"/>
            <a:ext cx="55152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чина центрального угл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4" name="WordArt 6"/>
          <p:cNvSpPr txBox="1"/>
          <p:nvPr/>
        </p:nvSpPr>
        <p:spPr>
          <a:xfrm>
            <a:off x="2268360" y="4005360"/>
            <a:ext cx="500076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з дугу, на которую о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5" name="WordArt 7"/>
          <p:cNvSpPr txBox="1"/>
          <p:nvPr/>
        </p:nvSpPr>
        <p:spPr>
          <a:xfrm>
            <a:off x="5651640" y="4797360"/>
            <a:ext cx="2114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ирае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324000" y="404640"/>
            <a:ext cx="828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ivaldi"/>
              </a:rPr>
              <a:t>Выразить величину вписанного уг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Vivaldi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Oval 5"/>
          <p:cNvSpPr/>
          <p:nvPr/>
        </p:nvSpPr>
        <p:spPr>
          <a:xfrm rot="647400">
            <a:off x="3347640" y="2060640"/>
            <a:ext cx="3384720" cy="316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6227640" y="549360"/>
            <a:ext cx="270036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 flipH="1">
            <a:off x="6227640" y="549360"/>
            <a:ext cx="136872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 flipH="1">
            <a:off x="6732360" y="549360"/>
            <a:ext cx="86364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0" descr="Рисунок21"/>
          <p:cNvPicPr/>
          <p:nvPr/>
        </p:nvPicPr>
        <p:blipFill>
          <a:blip r:embed="rId1"/>
          <a:stretch/>
        </p:blipFill>
        <p:spPr>
          <a:xfrm rot="21424800">
            <a:off x="6443640" y="620280"/>
            <a:ext cx="1228680" cy="1236600"/>
          </a:xfrm>
          <a:prstGeom prst="rect">
            <a:avLst/>
          </a:prstGeom>
          <a:ln w="0">
            <a:noFill/>
          </a:ln>
        </p:spPr>
      </p:pic>
      <p:sp>
        <p:nvSpPr>
          <p:cNvPr id="373" name="Line 21"/>
          <p:cNvSpPr/>
          <p:nvPr/>
        </p:nvSpPr>
        <p:spPr>
          <a:xfrm flipH="1">
            <a:off x="6732360" y="549360"/>
            <a:ext cx="86364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7"/>
          <p:cNvSpPr/>
          <p:nvPr/>
        </p:nvSpPr>
        <p:spPr>
          <a:xfrm flipH="1">
            <a:off x="3708000" y="2060640"/>
            <a:ext cx="136836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0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0" y="836640"/>
            <a:ext cx="3095640" cy="28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8" descr="Рисунок21"/>
          <p:cNvPicPr/>
          <p:nvPr/>
        </p:nvPicPr>
        <p:blipFill>
          <a:blip r:embed="rId2"/>
          <a:stretch/>
        </p:blipFill>
        <p:spPr>
          <a:xfrm rot="20060400">
            <a:off x="755640" y="980640"/>
            <a:ext cx="1144440" cy="1154160"/>
          </a:xfrm>
          <a:prstGeom prst="rect">
            <a:avLst/>
          </a:prstGeom>
          <a:ln w="0">
            <a:noFill/>
          </a:ln>
        </p:spPr>
      </p:pic>
      <p:sp>
        <p:nvSpPr>
          <p:cNvPr id="378" name="Line 29"/>
          <p:cNvSpPr/>
          <p:nvPr/>
        </p:nvSpPr>
        <p:spPr>
          <a:xfrm>
            <a:off x="154764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2"/>
          <p:cNvSpPr/>
          <p:nvPr/>
        </p:nvSpPr>
        <p:spPr>
          <a:xfrm flipH="1">
            <a:off x="250920" y="836640"/>
            <a:ext cx="1295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7"/>
          <p:cNvSpPr/>
          <p:nvPr/>
        </p:nvSpPr>
        <p:spPr>
          <a:xfrm>
            <a:off x="0" y="29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8"/>
          <p:cNvSpPr/>
          <p:nvPr/>
        </p:nvSpPr>
        <p:spPr>
          <a:xfrm>
            <a:off x="1368360" y="40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9"/>
          <p:cNvSpPr/>
          <p:nvPr/>
        </p:nvSpPr>
        <p:spPr>
          <a:xfrm>
            <a:off x="136836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1"/>
          <p:cNvSpPr/>
          <p:nvPr/>
        </p:nvSpPr>
        <p:spPr>
          <a:xfrm>
            <a:off x="3276720" y="44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4788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6516720" y="429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4"/>
          <p:cNvSpPr/>
          <p:nvPr/>
        </p:nvSpPr>
        <p:spPr>
          <a:xfrm>
            <a:off x="4859280" y="530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579600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745164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6516720" y="2708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0"/>
          <p:cNvSpPr/>
          <p:nvPr/>
        </p:nvSpPr>
        <p:spPr>
          <a:xfrm>
            <a:off x="2843280" y="2602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Vivaldi"/>
              </a:rPr>
              <a:t>Рассмотрим 3 случая</a:t>
            </a: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51" descr="Рисунок19"/>
          <p:cNvPicPr/>
          <p:nvPr/>
        </p:nvPicPr>
        <p:blipFill>
          <a:blip r:embed="rId3"/>
          <a:stretch/>
        </p:blipFill>
        <p:spPr>
          <a:xfrm rot="3540600">
            <a:off x="3810960" y="2676960"/>
            <a:ext cx="2520720" cy="1719360"/>
          </a:xfrm>
          <a:prstGeom prst="rect">
            <a:avLst/>
          </a:prstGeom>
          <a:ln w="0">
            <a:noFill/>
          </a:ln>
        </p:spPr>
      </p:pic>
      <p:sp>
        <p:nvSpPr>
          <p:cNvPr id="392" name="Line 53"/>
          <p:cNvSpPr/>
          <p:nvPr/>
        </p:nvSpPr>
        <p:spPr>
          <a:xfrm>
            <a:off x="5076720" y="2060640"/>
            <a:ext cx="151308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4"/>
          <p:cNvSpPr/>
          <p:nvPr/>
        </p:nvSpPr>
        <p:spPr>
          <a:xfrm>
            <a:off x="5003640" y="3716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5"/>
          <p:cNvSpPr/>
          <p:nvPr/>
        </p:nvSpPr>
        <p:spPr>
          <a:xfrm>
            <a:off x="7596360" y="17002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9"/>
          <p:cNvSpPr/>
          <p:nvPr/>
        </p:nvSpPr>
        <p:spPr>
          <a:xfrm>
            <a:off x="2268360" y="710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71"/>
          <p:cNvSpPr/>
          <p:nvPr/>
        </p:nvSpPr>
        <p:spPr>
          <a:xfrm>
            <a:off x="1547640" y="2205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01:33:58Z</dcterms:created>
  <dc:creator>Екатерина</dc:creator>
  <dc:description/>
  <dc:language>en-US</dc:language>
  <cp:lastModifiedBy>Коля</cp:lastModifiedBy>
  <dcterms:modified xsi:type="dcterms:W3CDTF">2013-03-30T22:10:17Z</dcterms:modified>
  <cp:revision>35</cp:revision>
  <dc:subject/>
  <dc:title>Слайд 1</dc:title>
</cp:coreProperties>
</file>