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9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4DA-015F-43FB-A3AA-0F19F7BF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AB9-4E03-47E7-84EB-712042EF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035-2E51-4D8E-A56B-360AAF2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ED7-5D7B-41C0-A7A4-E7A8BFF4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E88-C354-41C6-AE63-A27A2A80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715B-B8C4-44A4-B08E-42482F0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4BBA-EBE3-43A5-9117-93545EE2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6FD-F5E6-4225-93B5-C75ED39A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E531-F3AB-4FB6-9B9A-9EB0E72D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A10-3BBF-4BBE-8C96-656731DA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6CCE-1F94-482C-B84C-530F4817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8EB-D2FD-44DD-BB25-83D84864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0040-EA5F-4F3F-86D1-36D3B089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6C1-EBA9-4561-9EB1-4187937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D0C4-E105-4314-99F1-1CA65E9B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86D8-B896-43AA-8BC2-B85E7C46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7F3C-C7A6-4482-9232-2EE29181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D84-15B1-454B-AC75-0E7A3296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89D-4503-47CB-98A2-7514A97C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657-C282-4212-87DC-2D681A0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5FB-6CC8-472C-9112-D8309036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B0E-5AB2-4BD9-925F-63B1E054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7A9-A444-4F96-83E2-211AEE0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140-24FE-46AE-B4EE-C0ED6701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8701-9E68-45DA-98FA-5E23937BA1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5355-2321-4C9E-ABD6-6A83D399359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2916360" y="1341360"/>
            <a:ext cx="59896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и её доминионы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95640" y="6308640"/>
            <a:ext cx="51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шенина Т.В.- 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3581280"/>
            <a:ext cx="7696080" cy="3200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результате длительной борьбы стороны постепен-но пришли к компромиссу: в 1830г. запрещен ноч-ной труд подростков, сокращен рабочий день для детей; с 1824 г. в стране стали действовать тред-юнионы, которые повели борьбу за улучшение положения рабоч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бочий класс стал активным участником чартист-ского движения, отстаивая свои политические пра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42056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395720" y="998640"/>
            <a:ext cx="2395080" cy="22885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ер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честе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азгон рабо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монстр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8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ик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Рисунок2"/>
          <p:cNvPicPr/>
          <p:nvPr/>
        </p:nvPicPr>
        <p:blipFill>
          <a:blip r:embed="rId3"/>
          <a:stretch/>
        </p:blipFill>
        <p:spPr>
          <a:xfrm>
            <a:off x="4068720" y="907920"/>
            <a:ext cx="4896000" cy="2590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3504960"/>
            <a:ext cx="7696080" cy="327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е эти меры снизили социальную напряженность, но уровень жизни рабочих оставался низк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ля того чтобы избежать выступлений революцион-ного характера, предприниматели нашли хитрый ход они разобщили единство рядов рабочих тем, что стали платить квалифицированным работни-кам относительно высокую зарпла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Этих людей стали называть «Рабочая аристокра-т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03520" y="1692360"/>
            <a:ext cx="217728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истокра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Рисунок1"/>
          <p:cNvPicPr/>
          <p:nvPr/>
        </p:nvPicPr>
        <p:blipFill>
          <a:blip r:embed="rId3"/>
          <a:stretch/>
        </p:blipFill>
        <p:spPr>
          <a:xfrm>
            <a:off x="4427640" y="917640"/>
            <a:ext cx="4321080" cy="2520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3047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сле 1870 г. высокие темпы развития страны заме-длились.Это объяснялось нежеланием англичан использовать новые виды энергии-электричество и жидкое топливо. В торговле немцы более точно учитывали потребности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е это привело к тому, что в к.19 века, Англия усту-пила пальму первенства США и Герма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Экономические трудности в к.19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609200" y="1290600"/>
            <a:ext cx="2128320" cy="1922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19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4"/>
          <p:cNvPicPr/>
          <p:nvPr/>
        </p:nvPicPr>
        <p:blipFill>
          <a:blip r:embed="rId3"/>
          <a:stretch/>
        </p:blipFill>
        <p:spPr>
          <a:xfrm>
            <a:off x="4140360" y="932040"/>
            <a:ext cx="4608360" cy="2732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16000" y="1341000"/>
            <a:ext cx="4427640" cy="53276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эпоху королевы Виктории в Англии оформился парламентский реж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ризнание принципа ответственности кабинета министров перед пар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вобода слова, печати, манифес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здание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ред-юнионов (профсоюз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Queen_Victoria_Golden_Jubilee"/>
          <p:cNvPicPr/>
          <p:nvPr/>
        </p:nvPicPr>
        <p:blipFill>
          <a:blip r:embed="rId1"/>
          <a:stretch/>
        </p:blipFill>
        <p:spPr>
          <a:xfrm>
            <a:off x="1332000" y="1413000"/>
            <a:ext cx="3228840" cy="4581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61880" y="6165720"/>
            <a:ext cx="3175560" cy="45972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а Вик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6"/>
          <p:cNvSpPr/>
          <p:nvPr/>
        </p:nvSpPr>
        <p:spPr>
          <a:xfrm>
            <a:off x="6732720" y="3933720"/>
            <a:ext cx="2160360" cy="273708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737080"/>
              <a:gd name="textAreaBottom" fmla="*/ 2631960 h 2737080"/>
            </a:gdLst>
            <a:ahLst/>
            <a:rect l="textAreaLeft" t="textAreaTop" r="textAreaRight" b="textAreaBottom"/>
            <a:pathLst>
              <a:path w="21600" h="27365">
                <a:moveTo>
                  <a:pt x="3600" y="0"/>
                </a:moveTo>
                <a:arcTo wR="3600" hR="3600" stAng="16200000" swAng="-5400000"/>
                <a:lnTo>
                  <a:pt x="0" y="23765"/>
                </a:lnTo>
                <a:arcTo wR="3600" hR="3600" stAng="10800000" swAng="-5400000"/>
                <a:lnTo>
                  <a:pt x="18000" y="27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907640" y="1197000"/>
            <a:ext cx="6264360" cy="719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олитические партии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258920" y="270828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Консерватив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924360" y="357336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Лейборист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6443640" y="270828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Либе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4932360" y="1989000"/>
            <a:ext cx="504720" cy="1584360"/>
          </a:xfrm>
          <a:prstGeom prst="downArrow">
            <a:avLst>
              <a:gd name="adj1" fmla="val 50000"/>
              <a:gd name="adj2" fmla="val 78477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2340000" y="198900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7451640" y="1989000"/>
            <a:ext cx="432000" cy="6480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1332000" y="3933720"/>
            <a:ext cx="2160360" cy="273708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737080"/>
              <a:gd name="textAreaBottom" fmla="*/ 2631960 h 2737080"/>
            </a:gdLst>
            <a:ahLst/>
            <a:rect l="textAreaLeft" t="textAreaTop" r="textAreaRight" b="textAreaBottom"/>
            <a:pathLst>
              <a:path w="21600" h="27365">
                <a:moveTo>
                  <a:pt x="3600" y="0"/>
                </a:moveTo>
                <a:arcTo wR="3600" hR="3600" stAng="16200000" swAng="-5400000"/>
                <a:lnTo>
                  <a:pt x="0" y="23765"/>
                </a:lnTo>
                <a:arcTo wR="3600" hR="3600" stAng="10800000" swAng="-5400000"/>
                <a:lnTo>
                  <a:pt x="18000" y="27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1476360" y="4005360"/>
            <a:ext cx="196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интересы земельных собственни-ков и богатых аренд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2195640" y="364500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6732720" y="3860640"/>
            <a:ext cx="241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  интересы буржуазии, интеллиген-ции, высоко- оплачиваемых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7524720" y="3645000"/>
            <a:ext cx="43200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8"/>
          <p:cNvSpPr/>
          <p:nvPr/>
        </p:nvSpPr>
        <p:spPr>
          <a:xfrm>
            <a:off x="4067280" y="4869000"/>
            <a:ext cx="2160360" cy="1800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нтере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боч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ласса,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фсою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9"/>
          <p:cNvSpPr/>
          <p:nvPr/>
        </p:nvSpPr>
        <p:spPr>
          <a:xfrm>
            <a:off x="5003640" y="4508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755640" y="2133720"/>
            <a:ext cx="838836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нглии оформилась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двухпартийная политическая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система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ервативная и Либеральная партии боролись за власть. Партия, получившая большинство мест в парламенте, имела право сформировать правитель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1532520" y="5516640"/>
            <a:ext cx="3211920" cy="11912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ая коро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к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графия с.19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105520" y="990720"/>
            <a:ext cx="3962160" cy="579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сле спада чартистского движения борьба за все-общее избирательное право не прекрат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уржуазия по-прежнему была очень слабо пред-ставлена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прос приобрел особую остроту в сер. 6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Лидер либералов У.Гладс-тон внес проект избира-тельной ре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 его не поддержали и партия расколо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3"/>
          <a:stretch/>
        </p:blipFill>
        <p:spPr>
          <a:xfrm>
            <a:off x="1379520" y="1052640"/>
            <a:ext cx="3552840" cy="4427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092320" y="5734080"/>
            <a:ext cx="177804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зраэ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35600" y="1066320"/>
            <a:ext cx="4208400" cy="5791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 власти пришли консер-ваторы во главе с Б.Ди-зраэли. Он неожиданно поддержал своего про-тив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Реформа 1867 г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окончатель-но уничтожила 46 «гнилых» местечка, сни -зила имущественный цен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85 г. Гладстон провел третью реформу, оконча-тельно уничтожив «местечк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Число избирателей возро-сло до 13 %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5"/>
          <p:cNvPicPr/>
          <p:nvPr/>
        </p:nvPicPr>
        <p:blipFill>
          <a:blip r:embed="rId3"/>
          <a:stretch/>
        </p:blipFill>
        <p:spPr>
          <a:xfrm>
            <a:off x="1258920" y="1052640"/>
            <a:ext cx="3444840" cy="4467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76720" y="1557360"/>
            <a:ext cx="3888000" cy="4827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рд Пальмерс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ониальные захв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кобритания – страна, в которой «никогда не заходит солнц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Pp01101"/>
          <p:cNvPicPr/>
          <p:nvPr/>
        </p:nvPicPr>
        <p:blipFill>
          <a:blip r:embed="rId1"/>
          <a:stretch/>
        </p:blipFill>
        <p:spPr>
          <a:xfrm>
            <a:off x="1403280" y="1773360"/>
            <a:ext cx="3301920" cy="3673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еш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ak0618i"/>
          <p:cNvPicPr/>
          <p:nvPr/>
        </p:nvPicPr>
        <p:blipFill>
          <a:blip r:embed="rId1"/>
          <a:stretch/>
        </p:blipFill>
        <p:spPr>
          <a:xfrm>
            <a:off x="3419640" y="2421000"/>
            <a:ext cx="2733480" cy="2017800"/>
          </a:xfrm>
          <a:prstGeom prst="rect">
            <a:avLst/>
          </a:prstGeom>
          <a:ln w="0">
            <a:noFill/>
          </a:ln>
        </p:spPr>
      </p:pic>
      <p:sp>
        <p:nvSpPr>
          <p:cNvPr id="165" name="Line 3"/>
          <p:cNvSpPr/>
          <p:nvPr/>
        </p:nvSpPr>
        <p:spPr>
          <a:xfrm>
            <a:off x="6372360" y="3573360"/>
            <a:ext cx="1295280" cy="100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 flipH="1">
            <a:off x="1547640" y="3500280"/>
            <a:ext cx="1656000" cy="720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 flipH="1" flipV="1">
            <a:off x="1835280" y="1483920"/>
            <a:ext cx="1512720" cy="10810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6372360" y="1197000"/>
            <a:ext cx="1224000" cy="1224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 flipV="1">
            <a:off x="4932360" y="1197000"/>
            <a:ext cx="0" cy="100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684360" y="404640"/>
            <a:ext cx="194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д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372360" y="404640"/>
            <a:ext cx="2474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страл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2843280" y="5950080"/>
            <a:ext cx="3024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ая Зеланд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3635280" y="549360"/>
            <a:ext cx="2114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рм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611280" y="4437000"/>
            <a:ext cx="2114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6969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над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96969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4"/>
          <p:cNvSpPr txBox="1"/>
          <p:nvPr/>
        </p:nvSpPr>
        <p:spPr>
          <a:xfrm>
            <a:off x="6516720" y="4724280"/>
            <a:ext cx="19479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падная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фрик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240" y="692280"/>
            <a:ext cx="7620120" cy="5403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анада, Австралия, Новая Зеландия – доминионы Анг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Times New Roman"/>
              </a:rPr>
              <a:t>Доминион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англ. - владение) – это территория в составе Британской империи, обладающая правом самоуправления и признающая власть английского монарх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54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1.Англия-«мастерская мира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2.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3.Экономические трудности в к.19 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4.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5.Внеш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инионы Англ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6000" y="1628640"/>
            <a:ext cx="7667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§ 12, вопрос 1 – устн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опрос 5- рассказ по плану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1 группа – Кан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группа – Австрал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 группа – Новая Зеланд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§ 17 – чем отличалось положение Индии от положения доминионов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620120" cy="5105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Что способствовало экономическому возвышению и падению Англии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g00317_"/>
          <p:cNvPicPr/>
          <p:nvPr/>
        </p:nvPicPr>
        <p:blipFill>
          <a:blip r:embed="rId3"/>
          <a:stretch/>
        </p:blipFill>
        <p:spPr>
          <a:xfrm>
            <a:off x="0" y="434340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32480"/>
            <a:ext cx="91440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84480" y="1267920"/>
            <a:ext cx="4259160" cy="518508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рожила 82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64 года прави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с 1837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9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Национальный Символ Англ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Образец женщины, жены и мат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«Бабушка Европ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b5d139i"/>
          <p:cNvPicPr/>
          <p:nvPr/>
        </p:nvPicPr>
        <p:blipFill>
          <a:blip r:embed="rId1"/>
          <a:stretch/>
        </p:blipFill>
        <p:spPr>
          <a:xfrm>
            <a:off x="1116000" y="1557360"/>
            <a:ext cx="3543480" cy="39592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93" name="Rectangle 5"/>
          <p:cNvSpPr/>
          <p:nvPr/>
        </p:nvSpPr>
        <p:spPr>
          <a:xfrm>
            <a:off x="133200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ролева Виктория (1819-19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88800" y="5734080"/>
            <a:ext cx="3175560" cy="45972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а Вик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2000" y="1341000"/>
            <a:ext cx="7619760" cy="525636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Расцвет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колониа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мпе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сильно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вторитет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государ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03280" y="26028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Викторианская эпо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gerb"/>
          <p:cNvPicPr/>
          <p:nvPr/>
        </p:nvPicPr>
        <p:blipFill>
          <a:blip r:embed="rId1"/>
          <a:stretch/>
        </p:blipFill>
        <p:spPr>
          <a:xfrm>
            <a:off x="5049720" y="2205000"/>
            <a:ext cx="40942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"/>
          <p:cNvSpPr/>
          <p:nvPr/>
        </p:nvSpPr>
        <p:spPr>
          <a:xfrm>
            <a:off x="2484360" y="333360"/>
            <a:ext cx="4319640" cy="1728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ahoma"/>
              </a:rPr>
              <a:t>Анг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0" y="3213000"/>
            <a:ext cx="2627280" cy="2232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астер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6408720" y="3141720"/>
            <a:ext cx="2735280" cy="2160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и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звоз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132000" y="3860640"/>
            <a:ext cx="2808360" cy="230364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и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банк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8647400">
            <a:off x="1802520" y="2310120"/>
            <a:ext cx="1670040" cy="595440"/>
          </a:xfrm>
          <a:prstGeom prst="leftArrow">
            <a:avLst>
              <a:gd name="adj1" fmla="val 50000"/>
              <a:gd name="adj2" fmla="val 70118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rot="16200000">
            <a:off x="3852000" y="2635560"/>
            <a:ext cx="1582920" cy="574920"/>
          </a:xfrm>
          <a:prstGeom prst="leftArrow">
            <a:avLst>
              <a:gd name="adj1" fmla="val 50000"/>
              <a:gd name="adj2" fmla="val 68832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 rot="14098200">
            <a:off x="5955480" y="2260800"/>
            <a:ext cx="1368360" cy="534960"/>
          </a:xfrm>
          <a:prstGeom prst="leftArrow">
            <a:avLst>
              <a:gd name="adj1" fmla="val 50000"/>
              <a:gd name="adj2" fmla="val 63947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IN00204_"/>
          <p:cNvPicPr/>
          <p:nvPr/>
        </p:nvPicPr>
        <p:blipFill>
          <a:blip r:embed="rId1"/>
          <a:stretch/>
        </p:blipFill>
        <p:spPr>
          <a:xfrm>
            <a:off x="7451640" y="5157720"/>
            <a:ext cx="1135080" cy="151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HM00426_"/>
          <p:cNvPicPr/>
          <p:nvPr/>
        </p:nvPicPr>
        <p:blipFill>
          <a:blip r:embed="rId2"/>
          <a:stretch/>
        </p:blipFill>
        <p:spPr>
          <a:xfrm>
            <a:off x="3924360" y="5589720"/>
            <a:ext cx="1238040" cy="109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MP00646_"/>
          <p:cNvPicPr/>
          <p:nvPr/>
        </p:nvPicPr>
        <p:blipFill>
          <a:blip r:embed="rId3"/>
          <a:stretch/>
        </p:blipFill>
        <p:spPr>
          <a:xfrm>
            <a:off x="539640" y="5099040"/>
            <a:ext cx="18716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48000" y="984240"/>
            <a:ext cx="3995640" cy="5873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о  1870 г. темпы разви-тия промышленности, несмотря на постоян-ные экономические кризисы были стаби-льно высоки. За 40 лет выплавка стали уве-личилась в 4раза, добыча угля в 3,5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Англии были придума- ны новые методы вы-плавки стали, появи-лись холодильные ус-тановки и другие нов-ш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нглия стала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«Мастерс-кой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глия-«мастерская мира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3"/>
          <p:cNvPicPr/>
          <p:nvPr/>
        </p:nvPicPr>
        <p:blipFill>
          <a:blip r:embed="rId3"/>
          <a:stretch/>
        </p:blipFill>
        <p:spPr>
          <a:xfrm>
            <a:off x="1763640" y="907920"/>
            <a:ext cx="3054600" cy="4803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1" name="Text Box 8"/>
          <p:cNvSpPr/>
          <p:nvPr/>
        </p:nvSpPr>
        <p:spPr>
          <a:xfrm>
            <a:off x="1590840" y="5805360"/>
            <a:ext cx="346500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елитейный завод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чес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05160" y="914400"/>
            <a:ext cx="388620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51 г. на всемирной промышленной выставке техническое превосходство Англии было подавляющ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коре государство отка-залось от вмешательст-ва в торговые отноше-ния и английские това-ры заполонили ми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вые приемы организа-ции производства Анг-лия распространила и в свои коло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глия-«мастерская мира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575360" y="5654520"/>
            <a:ext cx="318312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мирная выста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ндон.185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6"/>
          <p:cNvPicPr/>
          <p:nvPr/>
        </p:nvPicPr>
        <p:blipFill>
          <a:blip r:embed="rId3"/>
          <a:stretch/>
        </p:blipFill>
        <p:spPr>
          <a:xfrm>
            <a:off x="1403280" y="1052640"/>
            <a:ext cx="3672000" cy="4322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780000" y="888840"/>
            <a:ext cx="4968720" cy="3279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4266720"/>
            <a:ext cx="7956720" cy="2590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течение 19 в. Англия была ареной столкновений пролетариата и буржуазии. Предприниматели, стре- мясь увеличить прибыли, пытались увеличить ра-бочий день и уменьшить зарплату. Широко исполь-зовался дешевый труд детей и женщ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Численность рабочих быстро росла и не заметить назревавший конфликт было невозм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533240" y="1506600"/>
            <a:ext cx="1845000" cy="1922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Д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ндо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щ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в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7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7:59:17Z</dcterms:created>
  <dc:creator>Чернов Алксей</dc:creator>
  <dc:description/>
  <dc:language>en-US</dc:language>
  <cp:lastModifiedBy>завучи</cp:lastModifiedBy>
  <dcterms:modified xsi:type="dcterms:W3CDTF">2012-10-30T06:34:51Z</dcterms:modified>
  <cp:revision>29</cp:revision>
  <dc:subject/>
  <dc:title>Презентация PowerPoint</dc:title>
</cp:coreProperties>
</file>