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9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86D-291D-4CAB-BF2C-CFF5D7AF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DCE-6DC4-4FD3-868A-BAA40C7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122-4692-4834-923E-915B6CF0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277-0EA8-4B2A-AFAA-8D998530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753-858B-4D01-873F-87EF1AB9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36EB-1790-4397-8076-23A5F4E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661D-2C9F-4485-816F-DE24CEE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AA0-7E80-4917-95B2-B0D54E5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473-00B0-472B-874A-E925E20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EB7-3FCD-4A5E-B7D8-8F2EED7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34EA-7312-4DCA-B315-734867F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8BF-4C77-442F-AC9E-A943F40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BBC4-926D-49A6-86CF-21BE35E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04B5-95A0-4C1C-8426-E7F0CF8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D55-5094-44EF-886D-8237909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058-59B3-4F07-A8F1-60C9F9D8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BC6-652F-4792-A6C0-E5A5682B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2DB-8417-4BE4-B899-2B98740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7C0-8112-40E3-88DD-94D6BE66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E0B-39DF-4028-83CD-A2E5514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13F-F14F-47A2-9E6B-7B1A446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4AB-A5F5-463C-9702-38180D8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372-4DCC-4C22-8F90-7E08FAA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61D-8E33-4F7C-A5B8-A3E2717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5BA-1D42-453D-A86E-7C3E5329B2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FCE-C015-4C49-B629-1B762C39408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2916360" y="1341360"/>
            <a:ext cx="59896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и её доминионы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95640" y="6308640"/>
            <a:ext cx="51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шенина Т.В.- 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3581280"/>
            <a:ext cx="7696080" cy="3200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результате длительной борьбы стороны постепен-но пришли к компромиссу: в 1830г. запрещен ноч-ной труд подростков, сокращен рабочий день для детей; с 1824 г. в стране стали действовать тред-юнионы, которые повели борьбу за улучшение положения рабоч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ий класс стал активным участником чартист-ского движения, отстаивая свои политические пра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42056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395720" y="998640"/>
            <a:ext cx="2395080" cy="22885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ер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гон рабо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монст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ик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Рисунок2"/>
          <p:cNvPicPr/>
          <p:nvPr/>
        </p:nvPicPr>
        <p:blipFill>
          <a:blip r:embed="rId3"/>
          <a:stretch/>
        </p:blipFill>
        <p:spPr>
          <a:xfrm>
            <a:off x="4068720" y="907920"/>
            <a:ext cx="4896000" cy="2590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3504960"/>
            <a:ext cx="7696080" cy="327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и меры снизили социальную напряженность, но уровень жизни рабочих оставался низк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ля того чтобы избежать выступлений революцион-ного характера, предприниматели нашли хитрый ход они разобщили единство рядов рабочих тем, что стали платить квалифицированным работни-кам относительно высокую зар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Этих людей стали называть «Рабочая аристокра-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03520" y="1692360"/>
            <a:ext cx="217728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истокр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Рисунок1"/>
          <p:cNvPicPr/>
          <p:nvPr/>
        </p:nvPicPr>
        <p:blipFill>
          <a:blip r:embed="rId3"/>
          <a:stretch/>
        </p:blipFill>
        <p:spPr>
          <a:xfrm>
            <a:off x="4427640" y="917640"/>
            <a:ext cx="4321080" cy="2520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3047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1870 г. высокие темпы развития страны заме-длились.Это объяснялось нежеланием англичан использовать новые виды энергии-электричество и жидкое топливо. В торговле немцы более точно учитывали потребности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о привело к тому, что в к.19 века, Англия усту-пила пальму первенства США и Герма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кономические трудности в к.19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609200" y="1290600"/>
            <a:ext cx="212832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19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4"/>
          <p:cNvPicPr/>
          <p:nvPr/>
        </p:nvPicPr>
        <p:blipFill>
          <a:blip r:embed="rId3"/>
          <a:stretch/>
        </p:blipFill>
        <p:spPr>
          <a:xfrm>
            <a:off x="4140360" y="932040"/>
            <a:ext cx="4608360" cy="2732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1341000"/>
            <a:ext cx="4427640" cy="5327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эпоху королевы Виктории в Англии оформился парламентский реж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изнание принципа ответственности кабинета министров перед пар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вобода слова, печати, манифес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здание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ред-юнионов (профсоюз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Queen_Victoria_Golden_Jubilee"/>
          <p:cNvPicPr/>
          <p:nvPr/>
        </p:nvPicPr>
        <p:blipFill>
          <a:blip r:embed="rId1"/>
          <a:stretch/>
        </p:blipFill>
        <p:spPr>
          <a:xfrm>
            <a:off x="1332000" y="1413000"/>
            <a:ext cx="3228840" cy="4581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61880" y="616572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6"/>
          <p:cNvSpPr/>
          <p:nvPr/>
        </p:nvSpPr>
        <p:spPr>
          <a:xfrm>
            <a:off x="673272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907640" y="1197000"/>
            <a:ext cx="6264360" cy="719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олитические партии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258920" y="270828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Консервати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924360" y="357336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ейборист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443640" y="270828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ибе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4932360" y="198900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2340000" y="198900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7451640" y="1989000"/>
            <a:ext cx="432000" cy="648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33200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476360" y="4005360"/>
            <a:ext cx="196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интересы земельных собственни-ков и богатых аренд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2195640" y="3645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6732720" y="3860640"/>
            <a:ext cx="241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  интересы буржуазии, интеллиген-ции, высоко- оплачиваем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7524720" y="3645000"/>
            <a:ext cx="43200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4067280" y="4869000"/>
            <a:ext cx="2160360" cy="18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нтере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ласса,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фсою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5003640" y="450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755640" y="2133720"/>
            <a:ext cx="838836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нглии оформилась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двухпартийная политическая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истема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ервативная и Либеральная партии боролись за власть. Партия, получившая большинство мест в парламенте, имела право сформировать правитель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532520" y="5516640"/>
            <a:ext cx="3211920" cy="11912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ая коро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к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графия с.19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105520" y="990720"/>
            <a:ext cx="3962160" cy="579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спада чартистского движения борьба за все-общее избирательное право не прекрат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уржуазия по-прежнему была очень слабо пред-ставлена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прос приобрел особую остроту в сер. 6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идер либералов У.Гладс-тон внес проект избира-тельной ре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 его не поддержали и партия расколо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3"/>
          <a:stretch/>
        </p:blipFill>
        <p:spPr>
          <a:xfrm>
            <a:off x="1379520" y="1052640"/>
            <a:ext cx="3552840" cy="442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092320" y="5734080"/>
            <a:ext cx="177804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раэ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5600" y="1066320"/>
            <a:ext cx="4208400" cy="5791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 власти пришли консер-ваторы во главе с Б.Ди-зраэли. Он неожиданно поддержал своего про-тив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Реформа 1867 г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окончатель-но уничтожила 46 «гнилых» местечка, сни -зила имущественный цен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85 г. Гладстон провел третью реформу, оконча-тельно уничтожив «местеч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о избирателей возро-сло до 13 %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5"/>
          <p:cNvPicPr/>
          <p:nvPr/>
        </p:nvPicPr>
        <p:blipFill>
          <a:blip r:embed="rId3"/>
          <a:stretch/>
        </p:blipFill>
        <p:spPr>
          <a:xfrm>
            <a:off x="1258920" y="1052640"/>
            <a:ext cx="3444840" cy="4467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76720" y="1557360"/>
            <a:ext cx="3888000" cy="4827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рд Пальмерс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ониальные захв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обритания – страна, в которой «никогда не заходит солн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Pp01101"/>
          <p:cNvPicPr/>
          <p:nvPr/>
        </p:nvPicPr>
        <p:blipFill>
          <a:blip r:embed="rId1"/>
          <a:stretch/>
        </p:blipFill>
        <p:spPr>
          <a:xfrm>
            <a:off x="1403280" y="1773360"/>
            <a:ext cx="3301920" cy="3673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ak0618i"/>
          <p:cNvPicPr/>
          <p:nvPr/>
        </p:nvPicPr>
        <p:blipFill>
          <a:blip r:embed="rId1"/>
          <a:stretch/>
        </p:blipFill>
        <p:spPr>
          <a:xfrm>
            <a:off x="3419640" y="2421000"/>
            <a:ext cx="2733480" cy="201780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>
            <a:off x="6372360" y="3573360"/>
            <a:ext cx="129528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 flipH="1">
            <a:off x="1547640" y="3500280"/>
            <a:ext cx="1656000" cy="720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H="1" flipV="1">
            <a:off x="1835280" y="1483920"/>
            <a:ext cx="1512720" cy="1081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6372360" y="1197000"/>
            <a:ext cx="1224000" cy="1224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4932360" y="1197000"/>
            <a:ext cx="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684360" y="404640"/>
            <a:ext cx="194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372360" y="404640"/>
            <a:ext cx="247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страл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2843280" y="5950080"/>
            <a:ext cx="3024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ая Зела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3635280" y="549360"/>
            <a:ext cx="211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рм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611280" y="4437000"/>
            <a:ext cx="211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6969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над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96969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6516720" y="4724280"/>
            <a:ext cx="19479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падная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фрик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240" y="692280"/>
            <a:ext cx="7620120" cy="5403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анада, Австралия, Новая Зеландия – доминионы Анг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Times New Roman"/>
              </a:rPr>
              <a:t>Доминион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англ. - владение) – это территория в составе Британской империи, обладающая правом самоуправления и признающая власть английского монарх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4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1.Англия-«мастерская мир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2.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3.Экономические трудности в к.19 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4.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5.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инионы Англ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66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2, вопрос 1 – уст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опрос 5- рассказ по плану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 группа – Кан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группа – Австра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 группа – Новая Зеланд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7 – чем отличалось положение Индии от положения доминион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620120" cy="5105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Что способствовало экономическому возвышению и падению Англии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3"/>
          <a:stretch/>
        </p:blipFill>
        <p:spPr>
          <a:xfrm>
            <a:off x="0" y="434340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32480"/>
            <a:ext cx="91440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4480" y="1267920"/>
            <a:ext cx="4259160" cy="518508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рожила 82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64 года прави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с 1837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9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циональный Символ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Образец женщины, жены и мат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«Бабушка Европ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b5d139i"/>
          <p:cNvPicPr/>
          <p:nvPr/>
        </p:nvPicPr>
        <p:blipFill>
          <a:blip r:embed="rId1"/>
          <a:stretch/>
        </p:blipFill>
        <p:spPr>
          <a:xfrm>
            <a:off x="1116000" y="1557360"/>
            <a:ext cx="3543480" cy="39592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93" name="Rectangle 5"/>
          <p:cNvSpPr/>
          <p:nvPr/>
        </p:nvSpPr>
        <p:spPr>
          <a:xfrm>
            <a:off x="133200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ролева Виктория (1819-19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88800" y="573408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619760" cy="525636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сцвет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колони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мпе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сильно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вторитет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03280" y="26028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Викторианская эпо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gerb"/>
          <p:cNvPicPr/>
          <p:nvPr/>
        </p:nvPicPr>
        <p:blipFill>
          <a:blip r:embed="rId1"/>
          <a:stretch/>
        </p:blipFill>
        <p:spPr>
          <a:xfrm>
            <a:off x="5049720" y="2205000"/>
            <a:ext cx="40942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2484360" y="333360"/>
            <a:ext cx="4319640" cy="1728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ahoma"/>
              </a:rPr>
              <a:t>Анг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0" y="3213000"/>
            <a:ext cx="2627280" cy="2232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асте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6408720" y="3141720"/>
            <a:ext cx="2735280" cy="2160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132000" y="3860640"/>
            <a:ext cx="2808360" cy="230364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8647400">
            <a:off x="1802520" y="2310120"/>
            <a:ext cx="1670040" cy="595440"/>
          </a:xfrm>
          <a:prstGeom prst="leftArrow">
            <a:avLst>
              <a:gd name="adj1" fmla="val 50000"/>
              <a:gd name="adj2" fmla="val 70118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16200000">
            <a:off x="3852000" y="2635560"/>
            <a:ext cx="1582920" cy="574920"/>
          </a:xfrm>
          <a:prstGeom prst="leftArrow">
            <a:avLst>
              <a:gd name="adj1" fmla="val 50000"/>
              <a:gd name="adj2" fmla="val 68832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 rot="14098200">
            <a:off x="5955480" y="2260800"/>
            <a:ext cx="1368360" cy="534960"/>
          </a:xfrm>
          <a:prstGeom prst="leftArrow">
            <a:avLst>
              <a:gd name="adj1" fmla="val 50000"/>
              <a:gd name="adj2" fmla="val 63947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IN00204_"/>
          <p:cNvPicPr/>
          <p:nvPr/>
        </p:nvPicPr>
        <p:blipFill>
          <a:blip r:embed="rId1"/>
          <a:stretch/>
        </p:blipFill>
        <p:spPr>
          <a:xfrm>
            <a:off x="7451640" y="5157720"/>
            <a:ext cx="11350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HM00426_"/>
          <p:cNvPicPr/>
          <p:nvPr/>
        </p:nvPicPr>
        <p:blipFill>
          <a:blip r:embed="rId2"/>
          <a:stretch/>
        </p:blipFill>
        <p:spPr>
          <a:xfrm>
            <a:off x="3924360" y="5589720"/>
            <a:ext cx="1238040" cy="109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MP00646_"/>
          <p:cNvPicPr/>
          <p:nvPr/>
        </p:nvPicPr>
        <p:blipFill>
          <a:blip r:embed="rId3"/>
          <a:stretch/>
        </p:blipFill>
        <p:spPr>
          <a:xfrm>
            <a:off x="539640" y="5099040"/>
            <a:ext cx="18716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48000" y="984240"/>
            <a:ext cx="3995640" cy="58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-тия промышленности, несмотря на постоян-ные экономические кризисы были стаби-льно высоки. За 40 лет выплавка стали уве-личилась в 4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- ны новые методы вы-плавки стали, появи-лись холодильные ус-тановки и другие нов-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нглия стала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«Мастерс-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3"/>
          <p:cNvPicPr/>
          <p:nvPr/>
        </p:nvPicPr>
        <p:blipFill>
          <a:blip r:embed="rId3"/>
          <a:stretch/>
        </p:blipFill>
        <p:spPr>
          <a:xfrm>
            <a:off x="1763640" y="907920"/>
            <a:ext cx="3054600" cy="4803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1" name="Text Box 8"/>
          <p:cNvSpPr/>
          <p:nvPr/>
        </p:nvSpPr>
        <p:spPr>
          <a:xfrm>
            <a:off x="1590840" y="5805360"/>
            <a:ext cx="346500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елитейный завод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05160" y="914400"/>
            <a:ext cx="388620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коре государство отка-залось от вмешательст-ва в торговые отноше-ния и английские това-ры заполонили ми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вые приемы организа-ции производства Анг-лия распространила и в свои коло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575360" y="5654520"/>
            <a:ext cx="318312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мирная выст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.185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6"/>
          <p:cNvPicPr/>
          <p:nvPr/>
        </p:nvPicPr>
        <p:blipFill>
          <a:blip r:embed="rId3"/>
          <a:stretch/>
        </p:blipFill>
        <p:spPr>
          <a:xfrm>
            <a:off x="1403280" y="1052640"/>
            <a:ext cx="3672000" cy="4322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780000" y="888840"/>
            <a:ext cx="4968720" cy="3279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4266720"/>
            <a:ext cx="7956720" cy="2590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течение 19 в. Англия была ареной столкновений пролетариата и буржуазии. Предприниматели, стре- мясь увеличить прибыли, пытались увеличить ра-бочий день и уменьшить зарплату. Широко исполь-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енность рабочих быстро росла и не заметить назревавший конфликт было невозм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33240" y="1506600"/>
            <a:ext cx="184500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Д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щ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в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завучи</cp:lastModifiedBy>
  <dcterms:modified xsi:type="dcterms:W3CDTF">2012-10-30T06:34:51Z</dcterms:modified>
  <cp:revision>29</cp:revision>
  <dc:subject/>
  <dc:title>Презентация PowerPoint</dc:title>
</cp:coreProperties>
</file>