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844E-8A0E-4139-BB80-E9CEE122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B7D-F271-4039-B7C6-D0D7305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193-975C-469B-9F62-88D15E7B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B7C-17E8-4DEC-B54C-6B8F0FF7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C7E-5A9D-473B-BF8A-AA393437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7B9-A3C6-47F3-BEBF-2DD85C7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50B-2079-49E6-8955-5335712F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A3B-C9D2-4DFC-8C4D-EA7D40DA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C8-E261-417B-9D38-AB46DC0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615-C50E-453D-960F-ED7EC15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2BA-6665-4700-A1E8-AF7A785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085-207E-4A5E-A713-176C485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D88-EFDB-434F-BD89-4662A0B28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831960"/>
            <a:ext cx="44197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80"/>
                </a:solidFill>
                <a:latin typeface="Times New Roman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906480"/>
          <a:ext cx="1752480" cy="56005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40 : 7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 + 38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 * 1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00-16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 * 12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-27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 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:1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³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0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-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8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814400"/>
          <a:ext cx="2895480" cy="46944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44" name="Прямоугольник 9" descr=""/>
          <p:cNvPicPr/>
          <p:nvPr/>
        </p:nvPicPr>
        <p:blipFill>
          <a:blip r:embed="rId1"/>
          <a:stretch/>
        </p:blipFill>
        <p:spPr>
          <a:xfrm>
            <a:off x="500040" y="2908440"/>
            <a:ext cx="75963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8600" y="2379960"/>
            <a:ext cx="86104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- 3 см, ширина – 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Сожмите  кисть  столько  раз чему равна  площадь  прямоуголь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Вращайте туловищем столько раз, чему равен периметр  прямоугольника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исядьте  столько  раз,  чему равна  площадь  квадрата  со  стороной  3 с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3" descr=""/>
          <p:cNvPicPr/>
          <p:nvPr/>
        </p:nvPicPr>
        <p:blipFill>
          <a:blip r:embed="rId1"/>
          <a:stretch/>
        </p:blipFill>
        <p:spPr>
          <a:xfrm>
            <a:off x="725400" y="950760"/>
            <a:ext cx="7925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52280" y="1744920"/>
            <a:ext cx="883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роить прямоугольник заданной длины (а) и высоты (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каждой вершины отложить отрезок, равный половине ширины (в) под углом 45 град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ть концы отрезков, причем невидимые грани – пунктирной ли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420840"/>
            <a:ext cx="7578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8" descr=""/>
          <p:cNvPicPr/>
          <p:nvPr/>
        </p:nvPicPr>
        <p:blipFill>
          <a:blip r:embed="rId1"/>
          <a:stretch/>
        </p:blipFill>
        <p:spPr>
          <a:xfrm>
            <a:off x="3621240" y="871560"/>
            <a:ext cx="4962240" cy="156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990720" y="2236680"/>
            <a:ext cx="5105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28600" y="200160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68 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ушло проволоки на каркас модели прямоугольного параллелепипеда, если его измерения 10 см, 7 см и 5 см?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та прямоугольного параллелепипеда равна 2,4 дм. Длина в три раза меньше высоты, а ширина в 6 раз меньше высоты. Найти площадь основания прямоугольного параллелепипе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1030320"/>
            <a:ext cx="68835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8"/>
          <p:cNvGrpSpPr/>
          <p:nvPr/>
        </p:nvGrpSpPr>
        <p:grpSpPr>
          <a:xfrm>
            <a:off x="7086600" y="2590920"/>
            <a:ext cx="1752480" cy="2209680"/>
            <a:chOff x="7086600" y="2590920"/>
            <a:chExt cx="1752480" cy="2209680"/>
          </a:xfrm>
        </p:grpSpPr>
        <p:sp>
          <p:nvSpPr>
            <p:cNvPr id="175" name="AutoShape 79"/>
            <p:cNvSpPr/>
            <p:nvPr/>
          </p:nvSpPr>
          <p:spPr>
            <a:xfrm flipH="1" rot="5400000">
              <a:off x="6858000" y="2819520"/>
              <a:ext cx="2209680" cy="1752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0"/>
            <p:cNvSpPr/>
            <p:nvPr/>
          </p:nvSpPr>
          <p:spPr>
            <a:xfrm flipH="1" rot="5400000">
              <a:off x="8706600" y="4196880"/>
              <a:ext cx="720" cy="25344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 flipH="1">
              <a:off x="821124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 flipH="1">
              <a:off x="781452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7516440" y="2591280"/>
              <a:ext cx="0" cy="25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7516440" y="3098520"/>
              <a:ext cx="0" cy="32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7516440" y="3606120"/>
              <a:ext cx="0" cy="47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7516440" y="4221720"/>
              <a:ext cx="0" cy="108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7"/>
            <p:cNvSpPr/>
            <p:nvPr/>
          </p:nvSpPr>
          <p:spPr>
            <a:xfrm flipH="1" rot="5400000">
              <a:off x="7614000" y="4228920"/>
              <a:ext cx="360" cy="20088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 flipH="1">
              <a:off x="7318080" y="4330440"/>
              <a:ext cx="198360" cy="21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 flipV="1">
              <a:off x="7086960" y="4619520"/>
              <a:ext cx="165240" cy="1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533520" y="533520"/>
            <a:ext cx="2361960" cy="2743200"/>
            <a:chOff x="533520" y="533520"/>
            <a:chExt cx="2361960" cy="2743200"/>
          </a:xfrm>
        </p:grpSpPr>
        <p:sp>
          <p:nvSpPr>
            <p:cNvPr id="187" name="AutoShape 3"/>
            <p:cNvSpPr/>
            <p:nvPr/>
          </p:nvSpPr>
          <p:spPr>
            <a:xfrm>
              <a:off x="533520" y="533520"/>
              <a:ext cx="2361960" cy="27432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1043280" y="541800"/>
              <a:ext cx="720" cy="396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>
              <a:off x="1036800" y="1102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1036800" y="1723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2624040" y="2603520"/>
              <a:ext cx="271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H="1">
              <a:off x="2004840" y="2603520"/>
              <a:ext cx="348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H="1">
              <a:off x="1307520" y="2603520"/>
              <a:ext cx="502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H="1">
              <a:off x="1036800" y="2603520"/>
              <a:ext cx="115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1036800" y="2293200"/>
              <a:ext cx="720" cy="3146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 flipH="1">
              <a:off x="804240" y="2603520"/>
              <a:ext cx="232200" cy="310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 flipV="1">
              <a:off x="533520" y="3017880"/>
              <a:ext cx="193680" cy="25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25"/>
          <p:cNvSpPr/>
          <p:nvPr/>
        </p:nvSpPr>
        <p:spPr>
          <a:xfrm>
            <a:off x="457200" y="32004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990720" y="25146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9907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457200" y="9907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9"/>
          <p:cNvSpPr/>
          <p:nvPr/>
        </p:nvSpPr>
        <p:spPr>
          <a:xfrm>
            <a:off x="28195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0"/>
          <p:cNvSpPr/>
          <p:nvPr/>
        </p:nvSpPr>
        <p:spPr>
          <a:xfrm>
            <a:off x="2209680" y="1066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2819520" y="25909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2209680" y="32004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78"/>
          <p:cNvGrpSpPr/>
          <p:nvPr/>
        </p:nvGrpSpPr>
        <p:grpSpPr>
          <a:xfrm>
            <a:off x="3809520" y="533160"/>
            <a:ext cx="2133720" cy="2819160"/>
            <a:chOff x="3809520" y="533160"/>
            <a:chExt cx="2133720" cy="2819160"/>
          </a:xfrm>
        </p:grpSpPr>
        <p:sp>
          <p:nvSpPr>
            <p:cNvPr id="207" name="AutoShape 79"/>
            <p:cNvSpPr/>
            <p:nvPr/>
          </p:nvSpPr>
          <p:spPr>
            <a:xfrm flipH="1" rot="5400000">
              <a:off x="3466440" y="875880"/>
              <a:ext cx="2819160" cy="21337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0"/>
            <p:cNvSpPr/>
            <p:nvPr/>
          </p:nvSpPr>
          <p:spPr>
            <a:xfrm flipH="1" rot="5400000">
              <a:off x="5781600" y="2589120"/>
              <a:ext cx="1080" cy="3085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08520"/>
                <a:gd name="textAreaBottom" fmla="*/ 308520 h 3085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17860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 flipH="1">
              <a:off x="469548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>
              <a:off x="4332960" y="533520"/>
              <a:ext cx="0" cy="3232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4332960" y="1180800"/>
              <a:ext cx="0" cy="4158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>
              <a:off x="4332960" y="1827360"/>
              <a:ext cx="0" cy="600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4332960" y="2613240"/>
              <a:ext cx="0" cy="1386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7"/>
            <p:cNvSpPr/>
            <p:nvPr/>
          </p:nvSpPr>
          <p:spPr>
            <a:xfrm flipH="1" rot="5400000">
              <a:off x="4451760" y="2628720"/>
              <a:ext cx="720" cy="2448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8"/>
            <p:cNvSpPr/>
            <p:nvPr/>
          </p:nvSpPr>
          <p:spPr>
            <a:xfrm flipH="1">
              <a:off x="4091400" y="2751840"/>
              <a:ext cx="241560" cy="2772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9"/>
            <p:cNvSpPr/>
            <p:nvPr/>
          </p:nvSpPr>
          <p:spPr>
            <a:xfrm flipV="1">
              <a:off x="3809880" y="3121200"/>
              <a:ext cx="201240" cy="23112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Прямая соединительная линия 61"/>
          <p:cNvSpPr/>
          <p:nvPr/>
        </p:nvSpPr>
        <p:spPr>
          <a:xfrm>
            <a:off x="3809880" y="3352680"/>
            <a:ext cx="1600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63"/>
          <p:cNvSpPr/>
          <p:nvPr/>
        </p:nvSpPr>
        <p:spPr>
          <a:xfrm flipV="1">
            <a:off x="4330800" y="2743200"/>
            <a:ext cx="1612800" cy="9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65"/>
          <p:cNvSpPr/>
          <p:nvPr/>
        </p:nvSpPr>
        <p:spPr>
          <a:xfrm flipV="1">
            <a:off x="5410080" y="2819160"/>
            <a:ext cx="53352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71"/>
          <p:cNvSpPr/>
          <p:nvPr/>
        </p:nvSpPr>
        <p:spPr>
          <a:xfrm flipV="1">
            <a:off x="3809880" y="2742840"/>
            <a:ext cx="524160" cy="600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72"/>
          <p:cNvSpPr/>
          <p:nvPr/>
        </p:nvSpPr>
        <p:spPr>
          <a:xfrm>
            <a:off x="3809880" y="1066680"/>
            <a:ext cx="16002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3"/>
          <p:cNvSpPr/>
          <p:nvPr/>
        </p:nvSpPr>
        <p:spPr>
          <a:xfrm flipV="1">
            <a:off x="4343400" y="533520"/>
            <a:ext cx="1612800" cy="9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 flipV="1">
            <a:off x="5410080" y="533160"/>
            <a:ext cx="533520" cy="5331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83"/>
          <p:cNvSpPr/>
          <p:nvPr/>
        </p:nvSpPr>
        <p:spPr>
          <a:xfrm flipV="1">
            <a:off x="3809880" y="533160"/>
            <a:ext cx="533520" cy="523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86"/>
          <p:cNvSpPr/>
          <p:nvPr/>
        </p:nvSpPr>
        <p:spPr>
          <a:xfrm flipH="1">
            <a:off x="3808080" y="1068480"/>
            <a:ext cx="32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7"/>
          <p:cNvSpPr/>
          <p:nvPr/>
        </p:nvSpPr>
        <p:spPr>
          <a:xfrm flipH="1">
            <a:off x="5409720" y="1066680"/>
            <a:ext cx="180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88"/>
          <p:cNvSpPr/>
          <p:nvPr/>
        </p:nvSpPr>
        <p:spPr>
          <a:xfrm flipH="1">
            <a:off x="59436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89"/>
          <p:cNvSpPr/>
          <p:nvPr/>
        </p:nvSpPr>
        <p:spPr>
          <a:xfrm flipH="1">
            <a:off x="43434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8"/>
          <p:cNvGrpSpPr/>
          <p:nvPr/>
        </p:nvGrpSpPr>
        <p:grpSpPr>
          <a:xfrm>
            <a:off x="6781680" y="609120"/>
            <a:ext cx="1905120" cy="2667240"/>
            <a:chOff x="6781680" y="609120"/>
            <a:chExt cx="1905120" cy="2667240"/>
          </a:xfrm>
        </p:grpSpPr>
        <p:sp>
          <p:nvSpPr>
            <p:cNvPr id="231" name="AutoShape 79"/>
            <p:cNvSpPr/>
            <p:nvPr/>
          </p:nvSpPr>
          <p:spPr>
            <a:xfrm flipH="1" rot="5400000">
              <a:off x="6400440" y="990000"/>
              <a:ext cx="2667240" cy="19051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 flipH="1" rot="5400000">
              <a:off x="8542440" y="2562480"/>
              <a:ext cx="720" cy="2754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5400"/>
                <a:gd name="textAreaBottom" fmla="*/ 275400 h 2754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 flipH="1">
              <a:off x="800424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 flipH="1">
              <a:off x="757296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7248960" y="609480"/>
              <a:ext cx="0" cy="30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7248960" y="1221840"/>
              <a:ext cx="0" cy="39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7248960" y="1833840"/>
              <a:ext cx="0" cy="568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7248960" y="2576880"/>
              <a:ext cx="0" cy="131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 flipH="1" rot="5400000">
              <a:off x="7354800" y="2598120"/>
              <a:ext cx="720" cy="2185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 flipH="1">
              <a:off x="7033320" y="2708280"/>
              <a:ext cx="215640" cy="26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 flipV="1">
              <a:off x="6782040" y="3057840"/>
              <a:ext cx="179640" cy="218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02"/>
          <p:cNvSpPr/>
          <p:nvPr/>
        </p:nvSpPr>
        <p:spPr>
          <a:xfrm>
            <a:off x="6324480" y="914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4"/>
          <p:cNvSpPr/>
          <p:nvPr/>
        </p:nvSpPr>
        <p:spPr>
          <a:xfrm flipH="1">
            <a:off x="6779880" y="1068480"/>
            <a:ext cx="324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6"/>
          <p:cNvSpPr/>
          <p:nvPr/>
        </p:nvSpPr>
        <p:spPr>
          <a:xfrm>
            <a:off x="6781680" y="1066680"/>
            <a:ext cx="14479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8"/>
          <p:cNvSpPr/>
          <p:nvPr/>
        </p:nvSpPr>
        <p:spPr>
          <a:xfrm flipV="1">
            <a:off x="6781680" y="609480"/>
            <a:ext cx="4572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304920" y="3809880"/>
            <a:ext cx="2057400" cy="243864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6248520" y="3809880"/>
            <a:ext cx="190476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Группа 152" descr=""/>
          <p:cNvPicPr/>
          <p:nvPr/>
        </p:nvPicPr>
        <p:blipFill>
          <a:blip r:embed="rId1"/>
          <a:stretch/>
        </p:blipFill>
        <p:spPr>
          <a:xfrm>
            <a:off x="298440" y="3803760"/>
            <a:ext cx="2073240" cy="24508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/>
          <p:cNvSpPr/>
          <p:nvPr/>
        </p:nvSpPr>
        <p:spPr>
          <a:xfrm>
            <a:off x="3352680" y="3886200"/>
            <a:ext cx="198144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80"/>
          <p:cNvGrpSpPr/>
          <p:nvPr/>
        </p:nvGrpSpPr>
        <p:grpSpPr>
          <a:xfrm>
            <a:off x="3354480" y="3884760"/>
            <a:ext cx="1981080" cy="2365200"/>
            <a:chOff x="3354480" y="3884760"/>
            <a:chExt cx="1981080" cy="2365200"/>
          </a:xfrm>
        </p:grpSpPr>
        <p:sp>
          <p:nvSpPr>
            <p:cNvPr id="251" name="Прямая соединительная линия 157"/>
            <p:cNvSpPr/>
            <p:nvPr/>
          </p:nvSpPr>
          <p:spPr>
            <a:xfrm flipH="1">
              <a:off x="3886200" y="3886200"/>
              <a:ext cx="288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Группа 166"/>
            <p:cNvGrpSpPr/>
            <p:nvPr/>
          </p:nvGrpSpPr>
          <p:grpSpPr>
            <a:xfrm>
              <a:off x="3354480" y="3884760"/>
              <a:ext cx="1981080" cy="2365200"/>
              <a:chOff x="3354480" y="3884760"/>
              <a:chExt cx="1981080" cy="2365200"/>
            </a:xfrm>
          </p:grpSpPr>
          <p:sp>
            <p:nvSpPr>
              <p:cNvPr id="253" name="Параллелограмм 154"/>
              <p:cNvSpPr/>
              <p:nvPr/>
            </p:nvSpPr>
            <p:spPr>
              <a:xfrm>
                <a:off x="3354480" y="388476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Параллелограмм 155"/>
              <p:cNvSpPr/>
              <p:nvPr/>
            </p:nvSpPr>
            <p:spPr>
              <a:xfrm>
                <a:off x="3354480" y="571500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Прямая соединительная линия 159"/>
              <p:cNvSpPr/>
              <p:nvPr/>
            </p:nvSpPr>
            <p:spPr>
              <a:xfrm flipH="1">
                <a:off x="4800600" y="4419720"/>
                <a:ext cx="1440" cy="18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Группа 81"/>
          <p:cNvGrpSpPr/>
          <p:nvPr/>
        </p:nvGrpSpPr>
        <p:grpSpPr>
          <a:xfrm>
            <a:off x="6248160" y="3809880"/>
            <a:ext cx="1905120" cy="2362320"/>
            <a:chOff x="6248160" y="3809880"/>
            <a:chExt cx="1905120" cy="2362320"/>
          </a:xfrm>
        </p:grpSpPr>
        <p:grpSp>
          <p:nvGrpSpPr>
            <p:cNvPr id="257" name="Группа 79"/>
            <p:cNvGrpSpPr/>
            <p:nvPr/>
          </p:nvGrpSpPr>
          <p:grpSpPr>
            <a:xfrm>
              <a:off x="6248520" y="3809880"/>
              <a:ext cx="1904760" cy="2362320"/>
              <a:chOff x="6248520" y="3809880"/>
              <a:chExt cx="1904760" cy="2362320"/>
            </a:xfrm>
          </p:grpSpPr>
          <p:sp>
            <p:nvSpPr>
              <p:cNvPr id="258" name="Блок-схема: данные 168"/>
              <p:cNvSpPr/>
              <p:nvPr/>
            </p:nvSpPr>
            <p:spPr>
              <a:xfrm flipH="1" rot="16200000">
                <a:off x="674352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Блок-схема: данные 169"/>
              <p:cNvSpPr/>
              <p:nvPr/>
            </p:nvSpPr>
            <p:spPr>
              <a:xfrm flipH="1" rot="16200000">
                <a:off x="529596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рямая соединительная линия 171"/>
              <p:cNvSpPr/>
              <p:nvPr/>
            </p:nvSpPr>
            <p:spPr>
              <a:xfrm flipH="1" flipV="1">
                <a:off x="6705360" y="5715000"/>
                <a:ext cx="1447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Прямая соединительная линия 173"/>
            <p:cNvSpPr/>
            <p:nvPr/>
          </p:nvSpPr>
          <p:spPr>
            <a:xfrm flipH="1" flipV="1">
              <a:off x="6248160" y="4267080"/>
              <a:ext cx="1447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914400" y="34290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20 № 789, № 7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2" descr=""/>
          <p:cNvPicPr/>
          <p:nvPr/>
        </p:nvPicPr>
        <p:blipFill>
          <a:blip r:embed="rId1"/>
          <a:stretch/>
        </p:blipFill>
        <p:spPr>
          <a:xfrm>
            <a:off x="1560600" y="957240"/>
            <a:ext cx="5797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414360"/>
            <a:ext cx="5254560" cy="156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6" descr=""/>
          <p:cNvPicPr/>
          <p:nvPr/>
        </p:nvPicPr>
        <p:blipFill>
          <a:blip r:embed="rId2"/>
          <a:stretch/>
        </p:blipFill>
        <p:spPr>
          <a:xfrm>
            <a:off x="2438280" y="1908000"/>
            <a:ext cx="5877000" cy="11955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8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6461280" cy="11998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9" descr=""/>
          <p:cNvPicPr/>
          <p:nvPr/>
        </p:nvPicPr>
        <p:blipFill>
          <a:blip r:embed="rId4"/>
          <a:stretch/>
        </p:blipFill>
        <p:spPr>
          <a:xfrm>
            <a:off x="2590920" y="5334120"/>
            <a:ext cx="5205240" cy="11998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990720" y="2057400"/>
            <a:ext cx="838080" cy="743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914400" y="3809880"/>
            <a:ext cx="838080" cy="743040"/>
          </a:xfrm>
          <a:prstGeom prst="smileyFace">
            <a:avLst>
              <a:gd name="adj" fmla="val 805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914400" y="5334120"/>
            <a:ext cx="838080" cy="7426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2" descr=""/>
          <p:cNvPicPr/>
          <p:nvPr/>
        </p:nvPicPr>
        <p:blipFill>
          <a:blip r:embed="rId1"/>
          <a:stretch/>
        </p:blipFill>
        <p:spPr>
          <a:xfrm>
            <a:off x="878040" y="1311120"/>
            <a:ext cx="76327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2133720"/>
          </a:xfrm>
          <a:prstGeom prst="rect">
            <a:avLst/>
          </a:prstGeom>
          <a:solidFill>
            <a:srgbClr val="fefaf4"/>
          </a:solidFill>
          <a:ln w="7632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Прямоугольный параллелепипе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925040" cy="838080"/>
          </a:xfrm>
          <a:prstGeom prst="rect">
            <a:avLst/>
          </a:prstGeom>
          <a:solidFill>
            <a:srgbClr val="fefaf4"/>
          </a:solidFill>
          <a:ln w="5724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Цель урока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" y="2971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онятием прямоугольный параллелепипед, его составными частями, их свойствами, нахождением периметра и площадями их составны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161928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4"/>
          <a:stretch/>
        </p:blipFill>
        <p:spPr>
          <a:xfrm>
            <a:off x="3048120" y="365760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"/>
          <p:cNvPicPr/>
          <p:nvPr/>
        </p:nvPicPr>
        <p:blipFill>
          <a:blip r:embed="rId5"/>
          <a:srcRect l="0" t="0" r="47240" b="13434"/>
          <a:stretch/>
        </p:blipFill>
        <p:spPr>
          <a:xfrm>
            <a:off x="3581280" y="1523880"/>
            <a:ext cx="145260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6"/>
          <a:stretch/>
        </p:blipFill>
        <p:spPr>
          <a:xfrm>
            <a:off x="457200" y="914400"/>
            <a:ext cx="2590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142640"/>
            <a:ext cx="5410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рямоугольный параллелепип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8"/>
          <p:cNvGrpSpPr/>
          <p:nvPr/>
        </p:nvGrpSpPr>
        <p:grpSpPr>
          <a:xfrm>
            <a:off x="2895120" y="2666520"/>
            <a:ext cx="2705400" cy="3086280"/>
            <a:chOff x="2895120" y="2666520"/>
            <a:chExt cx="2705400" cy="3086280"/>
          </a:xfrm>
        </p:grpSpPr>
        <p:sp>
          <p:nvSpPr>
            <p:cNvPr id="56" name="AutoShape 79"/>
            <p:cNvSpPr/>
            <p:nvPr/>
          </p:nvSpPr>
          <p:spPr>
            <a:xfrm flipH="1" rot="5400000">
              <a:off x="2703960" y="2856600"/>
              <a:ext cx="3086280" cy="27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0"/>
            <p:cNvSpPr/>
            <p:nvPr/>
          </p:nvSpPr>
          <p:spPr>
            <a:xfrm flipH="1" rot="5400000">
              <a:off x="5395680" y="4890600"/>
              <a:ext cx="1080" cy="3913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1"/>
            <p:cNvSpPr/>
            <p:nvPr/>
          </p:nvSpPr>
          <p:spPr>
            <a:xfrm flipH="1">
              <a:off x="463104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2"/>
            <p:cNvSpPr/>
            <p:nvPr/>
          </p:nvSpPr>
          <p:spPr>
            <a:xfrm flipH="1">
              <a:off x="401832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3"/>
            <p:cNvSpPr/>
            <p:nvPr/>
          </p:nvSpPr>
          <p:spPr>
            <a:xfrm>
              <a:off x="3558960" y="2666520"/>
              <a:ext cx="0" cy="35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4"/>
            <p:cNvSpPr/>
            <p:nvPr/>
          </p:nvSpPr>
          <p:spPr>
            <a:xfrm>
              <a:off x="3558960" y="3375000"/>
              <a:ext cx="0" cy="455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85"/>
            <p:cNvSpPr/>
            <p:nvPr/>
          </p:nvSpPr>
          <p:spPr>
            <a:xfrm>
              <a:off x="3558960" y="4083480"/>
              <a:ext cx="0" cy="657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6"/>
            <p:cNvSpPr/>
            <p:nvPr/>
          </p:nvSpPr>
          <p:spPr>
            <a:xfrm>
              <a:off x="3558960" y="4943880"/>
              <a:ext cx="0" cy="151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7"/>
            <p:cNvSpPr/>
            <p:nvPr/>
          </p:nvSpPr>
          <p:spPr>
            <a:xfrm flipH="1" rot="5400000">
              <a:off x="3709800" y="4939560"/>
              <a:ext cx="720" cy="3103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8"/>
            <p:cNvSpPr/>
            <p:nvPr/>
          </p:nvSpPr>
          <p:spPr>
            <a:xfrm flipH="1">
              <a:off x="3252960" y="5095440"/>
              <a:ext cx="306000" cy="30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9"/>
            <p:cNvSpPr/>
            <p:nvPr/>
          </p:nvSpPr>
          <p:spPr>
            <a:xfrm flipV="1">
              <a:off x="2895480" y="5499720"/>
              <a:ext cx="254880" cy="25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57"/>
          <p:cNvSpPr/>
          <p:nvPr/>
        </p:nvSpPr>
        <p:spPr>
          <a:xfrm>
            <a:off x="244080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8"/>
          <p:cNvSpPr/>
          <p:nvPr/>
        </p:nvSpPr>
        <p:spPr>
          <a:xfrm>
            <a:off x="30481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6386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1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2"/>
          <p:cNvSpPr/>
          <p:nvPr/>
        </p:nvSpPr>
        <p:spPr>
          <a:xfrm>
            <a:off x="2441160" y="5562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3"/>
          <p:cNvSpPr/>
          <p:nvPr/>
        </p:nvSpPr>
        <p:spPr>
          <a:xfrm>
            <a:off x="5029200" y="5562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5"/>
          <p:cNvSpPr/>
          <p:nvPr/>
        </p:nvSpPr>
        <p:spPr>
          <a:xfrm>
            <a:off x="57150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3048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8"/>
          <p:cNvSpPr/>
          <p:nvPr/>
        </p:nvSpPr>
        <p:spPr>
          <a:xfrm>
            <a:off x="2819520" y="2209680"/>
            <a:ext cx="2819160" cy="251460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281952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23" descr=""/>
          <p:cNvPicPr/>
          <p:nvPr/>
        </p:nvPicPr>
        <p:blipFill>
          <a:blip r:embed="rId1"/>
          <a:stretch/>
        </p:blipFill>
        <p:spPr>
          <a:xfrm>
            <a:off x="6242040" y="987480"/>
            <a:ext cx="2603520" cy="237168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1"/>
          <p:cNvSpPr/>
          <p:nvPr/>
        </p:nvSpPr>
        <p:spPr>
          <a:xfrm>
            <a:off x="2819520" y="2209680"/>
            <a:ext cx="2819160" cy="609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6"/>
          <p:cNvGrpSpPr/>
          <p:nvPr/>
        </p:nvGrpSpPr>
        <p:grpSpPr>
          <a:xfrm>
            <a:off x="0" y="1828800"/>
            <a:ext cx="2590920" cy="2361960"/>
            <a:chOff x="0" y="1828800"/>
            <a:chExt cx="2590920" cy="2361960"/>
          </a:xfrm>
        </p:grpSpPr>
        <p:sp>
          <p:nvSpPr>
            <p:cNvPr id="80" name="Freeform 24"/>
            <p:cNvSpPr/>
            <p:nvPr/>
          </p:nvSpPr>
          <p:spPr>
            <a:xfrm>
              <a:off x="0" y="361800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0" y="182880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12"/>
          <p:cNvSpPr/>
          <p:nvPr/>
        </p:nvSpPr>
        <p:spPr>
          <a:xfrm>
            <a:off x="5029200" y="2209680"/>
            <a:ext cx="609480" cy="2514600"/>
          </a:xfrm>
          <a:custGeom>
            <a:avLst/>
            <a:gdLst>
              <a:gd name="textAreaLeft" fmla="*/ 0 w 609480"/>
              <a:gd name="textAreaRight" fmla="*/ 609840 w 609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9"/>
          <p:cNvGrpSpPr/>
          <p:nvPr/>
        </p:nvGrpSpPr>
        <p:grpSpPr>
          <a:xfrm>
            <a:off x="5181480" y="4419720"/>
            <a:ext cx="2285640" cy="2286000"/>
            <a:chOff x="5181480" y="4419720"/>
            <a:chExt cx="2285640" cy="2286000"/>
          </a:xfrm>
        </p:grpSpPr>
        <p:sp>
          <p:nvSpPr>
            <p:cNvPr id="84" name="Freeform 27"/>
            <p:cNvSpPr/>
            <p:nvPr/>
          </p:nvSpPr>
          <p:spPr>
            <a:xfrm>
              <a:off x="5181480" y="441972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6972840" y="441972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22" descr=""/>
          <p:cNvPicPr/>
          <p:nvPr/>
        </p:nvPicPr>
        <p:blipFill>
          <a:blip r:embed="rId2"/>
          <a:stretch/>
        </p:blipFill>
        <p:spPr>
          <a:xfrm>
            <a:off x="2773440" y="719280"/>
            <a:ext cx="3286080" cy="15667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4" descr=""/>
          <p:cNvPicPr/>
          <p:nvPr/>
        </p:nvPicPr>
        <p:blipFill>
          <a:blip r:embed="rId3"/>
          <a:stretch/>
        </p:blipFill>
        <p:spPr>
          <a:xfrm>
            <a:off x="554040" y="4591080"/>
            <a:ext cx="2390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89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101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106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111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63"/>
          <p:cNvSpPr txBox="1"/>
          <p:nvPr/>
        </p:nvSpPr>
        <p:spPr>
          <a:xfrm>
            <a:off x="762120" y="6858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6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117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47" descr=""/>
          <p:cNvPicPr/>
          <p:nvPr/>
        </p:nvPicPr>
        <p:blipFill>
          <a:blip r:embed="rId1"/>
          <a:stretch/>
        </p:blipFill>
        <p:spPr>
          <a:xfrm>
            <a:off x="2749680" y="566640"/>
            <a:ext cx="3114720" cy="15670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8" descr=""/>
          <p:cNvPicPr/>
          <p:nvPr/>
        </p:nvPicPr>
        <p:blipFill>
          <a:blip r:embed="rId2"/>
          <a:stretch/>
        </p:blipFill>
        <p:spPr>
          <a:xfrm>
            <a:off x="5735520" y="3524400"/>
            <a:ext cx="2944800" cy="28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752480" y="1905120"/>
            <a:ext cx="4648320" cy="4038480"/>
            <a:chOff x="1752480" y="1905120"/>
            <a:chExt cx="4648320" cy="4038480"/>
          </a:xfrm>
        </p:grpSpPr>
        <p:sp>
          <p:nvSpPr>
            <p:cNvPr id="128" name="AutoShape 3"/>
            <p:cNvSpPr/>
            <p:nvPr/>
          </p:nvSpPr>
          <p:spPr>
            <a:xfrm>
              <a:off x="1752480" y="19051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2755800" y="19177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2743200" y="2743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743200" y="36576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H="1">
              <a:off x="5867280" y="49528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H="1">
              <a:off x="4647960" y="49528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3276360" y="49528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H="1">
              <a:off x="2742840" y="49528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743200" y="44956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2286000" y="49528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1752480" y="55627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1219320" y="1447920"/>
            <a:ext cx="5943600" cy="4772160"/>
            <a:chOff x="1219320" y="1447920"/>
            <a:chExt cx="5943600" cy="4772160"/>
          </a:xfrm>
        </p:grpSpPr>
        <p:sp>
          <p:nvSpPr>
            <p:cNvPr id="140" name="Text Box 15"/>
            <p:cNvSpPr/>
            <p:nvPr/>
          </p:nvSpPr>
          <p:spPr>
            <a:xfrm>
              <a:off x="2209680" y="14479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6629400" y="14479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5410080" y="2590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1219320" y="25146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2209680" y="4267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6477120" y="43736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5486400" y="551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1219320" y="54864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25"/>
          <p:cNvSpPr/>
          <p:nvPr/>
        </p:nvSpPr>
        <p:spPr>
          <a:xfrm>
            <a:off x="16765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6668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26668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16765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>
            <a:off x="63244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0"/>
          <p:cNvSpPr/>
          <p:nvPr/>
        </p:nvSpPr>
        <p:spPr>
          <a:xfrm>
            <a:off x="53341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63244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53341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37" descr=""/>
          <p:cNvPicPr/>
          <p:nvPr/>
        </p:nvPicPr>
        <p:blipFill>
          <a:blip r:embed="rId1"/>
          <a:stretch/>
        </p:blipFill>
        <p:spPr>
          <a:xfrm>
            <a:off x="2378160" y="414360"/>
            <a:ext cx="4778280" cy="1566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2" descr=""/>
          <p:cNvPicPr/>
          <p:nvPr/>
        </p:nvPicPr>
        <p:blipFill>
          <a:blip r:embed="rId2"/>
          <a:stretch/>
        </p:blipFill>
        <p:spPr>
          <a:xfrm>
            <a:off x="6497640" y="3906720"/>
            <a:ext cx="231156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5"/>
          <p:cNvSpPr/>
          <p:nvPr/>
        </p:nvSpPr>
        <p:spPr>
          <a:xfrm>
            <a:off x="685800" y="2209680"/>
            <a:ext cx="3657600" cy="412920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3429000" y="5410080"/>
            <a:ext cx="914400" cy="889200"/>
          </a:xfrm>
          <a:custGeom>
            <a:avLst/>
            <a:gdLst>
              <a:gd name="textAreaLeft" fmla="*/ 0 w 914400"/>
              <a:gd name="textAreaRight" fmla="*/ 914760 w 9144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340" h="340">
                <a:moveTo>
                  <a:pt x="340" y="0"/>
                </a:moveTo>
                <a:lnTo>
                  <a:pt x="0" y="34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3429000" y="3124080"/>
            <a:ext cx="46080" cy="3200400"/>
          </a:xfrm>
          <a:custGeom>
            <a:avLst/>
            <a:gdLst>
              <a:gd name="textAreaLeft" fmla="*/ 0 w 46080"/>
              <a:gd name="textAreaRight" fmla="*/ 46440 w 460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" h="1000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0"/>
          <p:cNvSpPr/>
          <p:nvPr/>
        </p:nvSpPr>
        <p:spPr>
          <a:xfrm>
            <a:off x="685800" y="6324480"/>
            <a:ext cx="27432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22" descr=""/>
          <p:cNvPicPr/>
          <p:nvPr/>
        </p:nvPicPr>
        <p:blipFill>
          <a:blip r:embed="rId1"/>
          <a:stretch/>
        </p:blipFill>
        <p:spPr>
          <a:xfrm>
            <a:off x="5430960" y="2395440"/>
            <a:ext cx="3378240" cy="156708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23" descr=""/>
          <p:cNvPicPr/>
          <p:nvPr/>
        </p:nvPicPr>
        <p:blipFill>
          <a:blip r:embed="rId2"/>
          <a:stretch/>
        </p:blipFill>
        <p:spPr>
          <a:xfrm>
            <a:off x="5211720" y="3767040"/>
            <a:ext cx="4035600" cy="1567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4" descr=""/>
          <p:cNvPicPr/>
          <p:nvPr/>
        </p:nvPicPr>
        <p:blipFill>
          <a:blip r:embed="rId3"/>
          <a:stretch/>
        </p:blipFill>
        <p:spPr>
          <a:xfrm>
            <a:off x="5200560" y="5138640"/>
            <a:ext cx="3986280" cy="156708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26" descr=""/>
          <p:cNvPicPr/>
          <p:nvPr/>
        </p:nvPicPr>
        <p:blipFill>
          <a:blip r:embed="rId4"/>
          <a:stretch/>
        </p:blipFill>
        <p:spPr>
          <a:xfrm>
            <a:off x="1768320" y="262080"/>
            <a:ext cx="539460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</dc:creator>
  <dc:description/>
  <dc:language>en-US</dc:language>
  <cp:lastModifiedBy>Коля</cp:lastModifiedBy>
  <dcterms:modified xsi:type="dcterms:W3CDTF">2013-03-30T22:08:13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