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12.wmf" ContentType="image/x-wmf"/>
  <Override PartName="/ppt/media/image14.jpeg" ContentType="image/jpeg"/>
  <Override PartName="/ppt/media/image8.wmf" ContentType="image/x-wmf"/>
  <Override PartName="/ppt/media/image10.gif" ContentType="image/gif"/>
  <Override PartName="/ppt/media/image26.jpeg" ContentType="image/jpeg"/>
  <Override PartName="/ppt/media/image18.wmf" ContentType="image/x-wmf"/>
  <Override PartName="/ppt/media/image7.gif" ContentType="image/gif"/>
  <Override PartName="/ppt/media/image20.wmf" ContentType="image/x-wmf"/>
  <Override PartName="/ppt/media/image9.wmf" ContentType="image/x-wmf"/>
  <Override PartName="/ppt/media/image11.gif" ContentType="image/gif"/>
  <Override PartName="/ppt/media/image13.jpeg" ContentType="image/jpeg"/>
  <Override PartName="/ppt/media/image31.jpeg" ContentType="image/jpeg"/>
  <Override PartName="/ppt/media/image22.gif" ContentType="image/gif"/>
  <Override PartName="/ppt/media/image25.jpeg" ContentType="image/jpeg"/>
  <Override PartName="/ppt/media/image27.png" ContentType="image/png"/>
  <Override PartName="/ppt/media/image30.wmf" ContentType="image/x-wmf"/>
  <Override PartName="/ppt/media/image4.gif" ContentType="image/gif"/>
  <Override PartName="/ppt/media/image6.wmf" ContentType="image/x-wmf"/>
  <Override PartName="/ppt/media/image29.wmf" ContentType="image/x-wmf"/>
  <Override PartName="/ppt/media/image3.gif" ContentType="image/gif"/>
  <Override PartName="/ppt/media/image5.gif" ContentType="image/gif"/>
  <Override PartName="/ppt/media/image1.wmf" ContentType="image/x-wmf"/>
  <Override PartName="/ppt/media/image15.jpeg" ContentType="image/jpeg"/>
  <Override PartName="/ppt/media/image16.jpeg" ContentType="image/jpeg"/>
  <Override PartName="/ppt/media/image17.wmf" ContentType="image/x-wmf"/>
  <Override PartName="/ppt/media/image19.wmf" ContentType="image/x-wmf"/>
  <Override PartName="/ppt/media/image2.wmf" ContentType="image/x-wmf"/>
  <Override PartName="/ppt/media/image21.jpeg" ContentType="image/jpeg"/>
  <Override PartName="/ppt/media/image2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CE0-88E7-4B53-8032-779C9FBA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D43-58D3-4423-A4B5-1A2D84B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050-1B06-461A-9D85-BE8E66CF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69D-7CDB-40E0-9323-03A7592F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784-8DE9-4A4D-9E82-A7F4B2A9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01B-3CDF-493C-B579-6BAF5DA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B95-105A-42DD-BACA-A9101F4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4F9-C31A-4A29-8832-1B356596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8BC-AD8F-403B-909C-084597F0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CE5-CB43-4934-B4D6-5369853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6C0-B1D5-4BE5-9C5F-70F5A3EC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0F2-B468-4705-808D-37CAAFA4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CB9B-9168-4C16-B577-A81EB72D5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hyperlink" Target="file:///podv_lod.pps" TargetMode="External"/><Relationship Id="rId6" Type="http://schemas.openxmlformats.org/officeDocument/2006/relationships/image" Target="../media/image21.jpeg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file:///vozdux.pps" TargetMode="External"/><Relationship Id="rId3" Type="http://schemas.openxmlformats.org/officeDocument/2006/relationships/hyperlink" Target="file:///vozdux.pps" TargetMode="External"/><Relationship Id="rId4" Type="http://schemas.openxmlformats.org/officeDocument/2006/relationships/hyperlink" Target="file:///vozdux.pps" TargetMode="External"/><Relationship Id="rId5" Type="http://schemas.openxmlformats.org/officeDocument/2006/relationships/slide" Target="slide4.xm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rhimed.pps" TargetMode="External"/><Relationship Id="rId2" Type="http://schemas.openxmlformats.org/officeDocument/2006/relationships/hyperlink" Target="file:///o%20plav.pub" TargetMode="External"/><Relationship Id="rId3" Type="http://schemas.openxmlformats.org/officeDocument/2006/relationships/hyperlink" Target="file:///web-site.htm" TargetMode="External"/><Relationship Id="rId4" Type="http://schemas.openxmlformats.org/officeDocument/2006/relationships/hyperlink" Target="file:///web-site.htm" TargetMode="External"/><Relationship Id="rId5" Type="http://schemas.openxmlformats.org/officeDocument/2006/relationships/hyperlink" Target="file:///krosv_.xls" TargetMode="Externa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png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hyperlink" Target="file:///lab_rab.ppt" TargetMode="Externa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hyperlink" Target="file:///kros_lod.ppt" TargetMode="External"/><Relationship Id="rId7" Type="http://schemas.openxmlformats.org/officeDocument/2006/relationships/hyperlink" Target="file:///&#1082;&#1088;&#1086;&#1089;&#1089;&#1074;&#1086;&#1088;&#1076;%20&#1087;&#1086;&#1076;&#1074;%20&#1083;..ppt" TargetMode="External"/><Relationship Id="rId8" Type="http://schemas.openxmlformats.org/officeDocument/2006/relationships/slide" Target="slide12.xml"/><Relationship Id="rId9" Type="http://schemas.openxmlformats.org/officeDocument/2006/relationships/hyperlink" Target="file:///Arhimed.pps" TargetMode="External"/><Relationship Id="rId10" Type="http://schemas.openxmlformats.org/officeDocument/2006/relationships/hyperlink" Target="file:///o%20plav.pub" TargetMode="External"/><Relationship Id="rId11" Type="http://schemas.openxmlformats.org/officeDocument/2006/relationships/hyperlink" Target="file:///&#1054;%20&#1087;&#1083;&#1072;&#1074;&#1072;&#1102;&#1097;&#1080;&#1093;%20&#1080;%20&#1090;&#1086;&#1085;&#1091;&#1097;&#1080;&#1093;.pub" TargetMode="External"/><Relationship Id="rId12" Type="http://schemas.openxmlformats.org/officeDocument/2006/relationships/hyperlink" Target="file:///web-site.htm" TargetMode="External"/><Relationship Id="rId13" Type="http://schemas.openxmlformats.org/officeDocument/2006/relationships/hyperlink" Target="file:///web-site.htm" TargetMode="External"/><Relationship Id="rId14" Type="http://schemas.openxmlformats.org/officeDocument/2006/relationships/hyperlink" Target="file:///krosv_.xls" TargetMode="External"/><Relationship Id="rId15" Type="http://schemas.openxmlformats.org/officeDocument/2006/relationships/slide" Target="slide13.xml"/><Relationship Id="rId16" Type="http://schemas.openxmlformats.org/officeDocument/2006/relationships/hyperlink" Target="file:///test%2010_1.doc" TargetMode="External"/><Relationship Id="rId17" Type="http://schemas.openxmlformats.org/officeDocument/2006/relationships/hyperlink" Target="file:///..%5Cstudent_support/&#1058;&#1077;&#1089;&#1090;%2010_2.doc" TargetMode="External"/><Relationship Id="rId18" Type="http://schemas.openxmlformats.org/officeDocument/2006/relationships/hyperlink" Target="file:///test%2010_2.doc" TargetMode="External"/><Relationship Id="rId19" Type="http://schemas.openxmlformats.org/officeDocument/2006/relationships/hyperlink" Target="file:///&#1058;&#1077;&#1089;&#1090;%2010_2.doc" TargetMode="External"/><Relationship Id="rId20" Type="http://schemas.openxmlformats.org/officeDocument/2006/relationships/image" Target="../media/image6.wmf"/><Relationship Id="rId21" Type="http://schemas.openxmlformats.org/officeDocument/2006/relationships/slide" Target="slide14.xml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isberg.avi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4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am_rab.doc" TargetMode="External"/><Relationship Id="rId2" Type="http://schemas.openxmlformats.org/officeDocument/2006/relationships/hyperlink" Target="file:///sam_rab.doc" TargetMode="External"/><Relationship Id="rId3" Type="http://schemas.openxmlformats.org/officeDocument/2006/relationships/hyperlink" Target="file:///exper.pps" TargetMode="External"/><Relationship Id="rId4" Type="http://schemas.openxmlformats.org/officeDocument/2006/relationships/hyperlink" Target="file:///exs_zad.ppt" TargetMode="External"/><Relationship Id="rId5" Type="http://schemas.openxmlformats.org/officeDocument/2006/relationships/hyperlink" Target="file:///exs_zad.ppt" TargetMode="External"/><Relationship Id="rId6" Type="http://schemas.openxmlformats.org/officeDocument/2006/relationships/hyperlink" Target="file:///Oster.ppt" TargetMode="External"/><Relationship Id="rId7" Type="http://schemas.openxmlformats.org/officeDocument/2006/relationships/hyperlink" Target="file:///Oster.ppt" TargetMode="External"/><Relationship Id="rId8" Type="http://schemas.openxmlformats.org/officeDocument/2006/relationships/image" Target="../media/image17.wmf"/><Relationship Id="rId9" Type="http://schemas.openxmlformats.org/officeDocument/2006/relationships/slide" Target="slide4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84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П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лавание тел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ические материал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учителей физ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640" y="4652640"/>
            <a:ext cx="5897520" cy="180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: учитель 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школы №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ова Надежд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0199841"/>
          <p:cNvPicPr/>
          <p:nvPr/>
        </p:nvPicPr>
        <p:blipFill>
          <a:blip r:embed="rId1"/>
          <a:stretch/>
        </p:blipFill>
        <p:spPr>
          <a:xfrm>
            <a:off x="395280" y="5013360"/>
            <a:ext cx="1324080" cy="1433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j0290336"/>
          <p:cNvPicPr/>
          <p:nvPr/>
        </p:nvPicPr>
        <p:blipFill>
          <a:blip r:embed="rId2"/>
          <a:stretch/>
        </p:blipFill>
        <p:spPr>
          <a:xfrm>
            <a:off x="6372360" y="333360"/>
            <a:ext cx="237492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j0189225"/>
          <p:cNvPicPr/>
          <p:nvPr/>
        </p:nvPicPr>
        <p:blipFill>
          <a:blip r:embed="rId3"/>
          <a:stretch/>
        </p:blipFill>
        <p:spPr>
          <a:xfrm>
            <a:off x="684360" y="549360"/>
            <a:ext cx="2016000" cy="1247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908000" y="692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-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j0287501"/>
          <p:cNvPicPr/>
          <p:nvPr/>
        </p:nvPicPr>
        <p:blipFill>
          <a:blip r:embed="rId1"/>
          <a:stretch/>
        </p:blipFill>
        <p:spPr>
          <a:xfrm>
            <a:off x="395280" y="549360"/>
            <a:ext cx="1363680" cy="2049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 flipH="1">
            <a:off x="202500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971640" y="580536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195640" y="1341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вание с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j0339356"/>
          <p:cNvPicPr/>
          <p:nvPr/>
        </p:nvPicPr>
        <p:blipFill>
          <a:blip r:embed="rId2"/>
          <a:stretch/>
        </p:blipFill>
        <p:spPr>
          <a:xfrm>
            <a:off x="6300720" y="692280"/>
            <a:ext cx="2376720" cy="1914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6300720" y="270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из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j0344093"/>
          <p:cNvPicPr/>
          <p:nvPr/>
        </p:nvPicPr>
        <p:blipFill>
          <a:blip r:embed="rId3"/>
          <a:stretch/>
        </p:blipFill>
        <p:spPr>
          <a:xfrm>
            <a:off x="3492360" y="2494080"/>
            <a:ext cx="2232000" cy="1930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 flipV="1" rot="10834200">
            <a:off x="3492360" y="465264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енные кораб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j0237279"/>
          <p:cNvPicPr/>
          <p:nvPr/>
        </p:nvPicPr>
        <p:blipFill>
          <a:blip r:embed="rId4"/>
          <a:stretch/>
        </p:blipFill>
        <p:spPr>
          <a:xfrm>
            <a:off x="468360" y="4149720"/>
            <a:ext cx="2556000" cy="1657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0"/>
          <p:cNvSpPr/>
          <p:nvPr/>
        </p:nvSpPr>
        <p:spPr>
          <a:xfrm>
            <a:off x="6156360" y="5805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Подводные л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ship2_2"/>
          <p:cNvPicPr/>
          <p:nvPr/>
        </p:nvPicPr>
        <p:blipFill>
          <a:blip r:embed="rId6"/>
          <a:stretch/>
        </p:blipFill>
        <p:spPr>
          <a:xfrm>
            <a:off x="6156360" y="3357720"/>
            <a:ext cx="2592360" cy="21589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23"/>
          <p:cNvSpPr txBox="1"/>
          <p:nvPr/>
        </p:nvSpPr>
        <p:spPr>
          <a:xfrm rot="19967400">
            <a:off x="610920" y="3068640"/>
            <a:ext cx="1743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йсбер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AutoShape 24">
            <a:hlinkClick r:id="rId7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-путешествие с выполнением экспериментального задания Воздухопла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2491920"/>
            <a:ext cx="2449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д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здух ш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j0283634"/>
          <p:cNvPicPr/>
          <p:nvPr/>
        </p:nvPicPr>
        <p:blipFill>
          <a:blip r:embed="rId1"/>
          <a:stretch/>
        </p:blipFill>
        <p:spPr>
          <a:xfrm>
            <a:off x="6084720" y="2852640"/>
            <a:ext cx="2627640" cy="22370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435640" y="508464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пускаем пузыри. Почему они поднимаются ввер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059280" y="5013360"/>
            <a:ext cx="2160360" cy="947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Из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истории с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7"/>
          <p:cNvSpPr txBox="1"/>
          <p:nvPr/>
        </p:nvSpPr>
        <p:spPr>
          <a:xfrm rot="19965600">
            <a:off x="395280" y="4723920"/>
            <a:ext cx="204804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россворд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8"/>
          <p:cNvSpPr txBox="1"/>
          <p:nvPr/>
        </p:nvSpPr>
        <p:spPr>
          <a:xfrm>
            <a:off x="6804000" y="1557360"/>
            <a:ext cx="17524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одво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улка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AutoShape 19">
            <a:hlinkClick r:id="rId5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0"/>
          <p:cNvGraphicFramePr/>
          <p:nvPr/>
        </p:nvGraphicFramePr>
        <p:xfrm>
          <a:off x="3059280" y="1773360"/>
          <a:ext cx="2376360" cy="30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59280" y="1773360"/>
                    <a:ext cx="237636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6696000" cy="37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повторения пройденного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спользуются творческие задания учащихся: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презентац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публикац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web-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сай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кроссвор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граждение (грамоты 1, 2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image003"/>
          <p:cNvPicPr/>
          <p:nvPr/>
        </p:nvPicPr>
        <p:blipFill>
          <a:blip r:embed="rId6"/>
          <a:stretch/>
        </p:blipFill>
        <p:spPr>
          <a:xfrm>
            <a:off x="250920" y="260280"/>
            <a:ext cx="1152360" cy="99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image010"/>
          <p:cNvPicPr/>
          <p:nvPr/>
        </p:nvPicPr>
        <p:blipFill>
          <a:blip r:embed="rId7"/>
          <a:stretch/>
        </p:blipFill>
        <p:spPr>
          <a:xfrm>
            <a:off x="7956720" y="333360"/>
            <a:ext cx="863280" cy="84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image015"/>
          <p:cNvPicPr/>
          <p:nvPr/>
        </p:nvPicPr>
        <p:blipFill>
          <a:blip r:embed="rId8"/>
          <a:stretch/>
        </p:blipFill>
        <p:spPr>
          <a:xfrm>
            <a:off x="468360" y="4791240"/>
            <a:ext cx="2519280" cy="160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image042"/>
          <p:cNvPicPr/>
          <p:nvPr/>
        </p:nvPicPr>
        <p:blipFill>
          <a:blip r:embed="rId9"/>
          <a:stretch/>
        </p:blipFill>
        <p:spPr>
          <a:xfrm>
            <a:off x="7093080" y="4076640"/>
            <a:ext cx="1699920" cy="232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j0300840"/>
          <p:cNvPicPr/>
          <p:nvPr/>
        </p:nvPicPr>
        <p:blipFill>
          <a:blip r:embed="rId10"/>
          <a:stretch/>
        </p:blipFill>
        <p:spPr>
          <a:xfrm>
            <a:off x="8101080" y="1628640"/>
            <a:ext cx="576360" cy="484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5"/>
          <p:cNvSpPr/>
          <p:nvPr/>
        </p:nvSpPr>
        <p:spPr>
          <a:xfrm>
            <a:off x="8820000" y="6669000"/>
            <a:ext cx="324000" cy="189000"/>
          </a:xfrm>
          <a:custGeom>
            <a:avLst/>
            <a:gdLst>
              <a:gd name="textAreaLeft" fmla="*/ 12240 w 324000"/>
              <a:gd name="textAreaRight" fmla="*/ 311760 w 324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6999" h="21600">
                <a:moveTo>
                  <a:pt x="0" y="0"/>
                </a:moveTo>
                <a:lnTo>
                  <a:pt x="36999" y="0"/>
                </a:lnTo>
                <a:lnTo>
                  <a:pt x="36999" y="21600"/>
                </a:lnTo>
                <a:lnTo>
                  <a:pt x="0" y="21600"/>
                </a:lnTo>
                <a:close/>
              </a:path>
              <a:path fill="lightenLess" w="36999" h="21600">
                <a:moveTo>
                  <a:pt x="0" y="0"/>
                </a:moveTo>
                <a:lnTo>
                  <a:pt x="36999" y="0"/>
                </a:lnTo>
                <a:lnTo>
                  <a:pt x="35599" y="1400"/>
                </a:lnTo>
                <a:lnTo>
                  <a:pt x="1400" y="1400"/>
                </a:lnTo>
                <a:close/>
              </a:path>
              <a:path fill="darken" w="36999" h="21600">
                <a:moveTo>
                  <a:pt x="36999" y="0"/>
                </a:moveTo>
                <a:lnTo>
                  <a:pt x="36999" y="21600"/>
                </a:lnTo>
                <a:lnTo>
                  <a:pt x="35599" y="20200"/>
                </a:lnTo>
                <a:lnTo>
                  <a:pt x="35599" y="1400"/>
                </a:lnTo>
                <a:close/>
              </a:path>
              <a:path fill="darkenLess" w="36999" h="21600">
                <a:moveTo>
                  <a:pt x="36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99" y="20200"/>
                </a:lnTo>
                <a:close/>
              </a:path>
              <a:path fill="lighten" w="36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99" h="21600">
                <a:moveTo>
                  <a:pt x="11493" y="10800"/>
                </a:moveTo>
                <a:lnTo>
                  <a:pt x="25506" y="3794"/>
                </a:lnTo>
                <a:lnTo>
                  <a:pt x="255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835280" y="8366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контроля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трольная работа № 5 по теме «Давление твердых тел, жидкостей и газов» (тест1, тест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image003"/>
          <p:cNvPicPr/>
          <p:nvPr/>
        </p:nvPicPr>
        <p:blipFill>
          <a:blip r:embed="rId1"/>
          <a:stretch/>
        </p:blipFill>
        <p:spPr>
          <a:xfrm>
            <a:off x="5219640" y="3573360"/>
            <a:ext cx="3451320" cy="255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j0299125"/>
          <p:cNvPicPr/>
          <p:nvPr/>
        </p:nvPicPr>
        <p:blipFill>
          <a:blip r:embed="rId2"/>
          <a:stretch/>
        </p:blipFill>
        <p:spPr>
          <a:xfrm>
            <a:off x="468360" y="260280"/>
            <a:ext cx="1316160" cy="21589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3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5689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данной темы рекомендую проводить с использованием метода проектов, который способствует развитию самостоятельности, творческого поиска, умения модулировать и структурировать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j0232155"/>
          <p:cNvPicPr/>
          <p:nvPr/>
        </p:nvPicPr>
        <p:blipFill>
          <a:blip r:embed="rId1"/>
          <a:stretch/>
        </p:blipFill>
        <p:spPr>
          <a:xfrm>
            <a:off x="7236000" y="2781360"/>
            <a:ext cx="1533240" cy="29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j0189225"/>
          <p:cNvPicPr/>
          <p:nvPr/>
        </p:nvPicPr>
        <p:blipFill>
          <a:blip r:embed="rId2"/>
          <a:stretch/>
        </p:blipFill>
        <p:spPr>
          <a:xfrm>
            <a:off x="250920" y="404640"/>
            <a:ext cx="2592360" cy="1605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ованных материа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college.ru/physics/Theory/op25part1/content/chapter1/section/paragraph15/theor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fizika.ru/didakt/t03-1~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archive.1september.ru/fiz/1999/no7_2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slb.com/seed/ru/ask/q_and_a/buoyanc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и физики 7 класс ( авторы Перышкин, Пин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есты по физике 7  класс» Алмаева Л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изика - юным» сост. Ергомышева М.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временный урок физики в современной школе» под редакцией Разумовского В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-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абораторные работы и контрольные задания по физике. Тетрадь для учащихся 7 класса» Астахова Т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6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619280" y="2133720"/>
            <a:ext cx="4248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адежда Николае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тель физик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109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Ом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лодова 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.т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8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2-42-75, 42-47-0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.почта:sch099@omsknet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ad46r@rambl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endshow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Y"/>
          <p:cNvPicPr/>
          <p:nvPr/>
        </p:nvPicPr>
        <p:blipFill>
          <a:blip r:embed="rId1"/>
          <a:stretch/>
        </p:blipFill>
        <p:spPr>
          <a:xfrm>
            <a:off x="6300720" y="1844640"/>
            <a:ext cx="2519280" cy="2879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7643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П по теме «Условия плавания тел» (блок темы «Давление твердых тел, жидкостей и газов») может использоваться  на уроках физики в 7классе, он показывает возможности использования метода проектов информационных технологий на уроках физики. В пакете приводятся материалы для обобщения и систематизации знаний, экспериментальные задания, способствующие развитию логического мышления учащихся,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303428"/>
          <p:cNvPicPr/>
          <p:nvPr/>
        </p:nvPicPr>
        <p:blipFill>
          <a:blip r:embed="rId1"/>
          <a:stretch/>
        </p:blipFill>
        <p:spPr>
          <a:xfrm>
            <a:off x="324000" y="189000"/>
            <a:ext cx="151128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j0286755"/>
          <p:cNvPicPr/>
          <p:nvPr/>
        </p:nvPicPr>
        <p:blipFill>
          <a:blip r:embed="rId2"/>
          <a:stretch/>
        </p:blipFill>
        <p:spPr>
          <a:xfrm>
            <a:off x="7093080" y="404640"/>
            <a:ext cx="1217520" cy="957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447920" y="685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ополагающи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380880" y="1371600"/>
            <a:ext cx="8458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очему одни тела плавают, а другие тонут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5280" y="21337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темы учебной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14400" y="3048120"/>
            <a:ext cx="7315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возникает сила, выталкивающая тело из жидк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такой Архиме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ыл открыт закон Архиме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силы действуют на тело, погруженное в жидк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исходит, если сила тяжести больше архимедовой сил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исходит, если сила тяжести меньше архимедовой сил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исходит, если сила тяжести равна архимедовой си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ирование по теме "Плавание тел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56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лавание тел.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" action="ppaction://hlinksldjump"/>
              </a:rPr>
              <a:t>Урок-бесе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использованием фронтального эксперимента. Выдача тем проекта. Экспериментальное задание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2" action="ppaction://hlinksldjump"/>
              </a:rPr>
              <a:t>Решение задач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Самостоятельная работа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Лабораторная работа № 8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Выяснение условий плавания тела в жидкости»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лавание судов.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4" action="ppaction://hlinksldjump"/>
              </a:rPr>
              <a:t>Урок-конференц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здухоплавание.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5" action="ppaction://hlinksldjump"/>
              </a:rPr>
              <a:t>Урок-путешеств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 выполнением экспериментального задания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Кроссворд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.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8" action="ppaction://hlinksldjump"/>
              </a:rPr>
              <a:t>Повторение тем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используются творческие задания учащихся: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презентац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0"/>
              </a:rPr>
              <a:t>публикация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1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  <a:hlinkClick r:id="rId12"/>
              </a:rPr>
              <a:t>web-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3"/>
              </a:rPr>
              <a:t>сай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4"/>
              </a:rPr>
              <a:t>кроссвор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Подведение итогов. Награждение (грамоты 1, 2)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5" action="ppaction://hlinksldjump"/>
              </a:rPr>
              <a:t>Урок контроля знани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теме «Давление твердых тел, жидкостей и газов» (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6"/>
              </a:rPr>
              <a:t>тест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7"/>
              </a:rPr>
              <a:t>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8"/>
              </a:rPr>
              <a:t>тест2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9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215084"/>
          <p:cNvPicPr/>
          <p:nvPr/>
        </p:nvPicPr>
        <p:blipFill>
          <a:blip r:embed="rId20"/>
          <a:stretch/>
        </p:blipFill>
        <p:spPr>
          <a:xfrm>
            <a:off x="250920" y="907920"/>
            <a:ext cx="2050920" cy="10731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>
            <a:hlinkClick r:id="rId21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Плавание тел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ые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биться усвоения условий плавания тел на основе изучения понятия о выталкивающей с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вать умения учащихся определять  выталкивающую силу. Уметь объяснять причины возникновения выталкивающей силы, уметь рассчитывать ее величину. Применять знания при объяснении причин:  почему тела в одних жидкостях плавают, а в других тонут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ение логически мыслить, развивать творческую 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питывать добросовестное отношение к учебе, стремление к познанию новог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36399"/>
          <p:cNvPicPr/>
          <p:nvPr/>
        </p:nvPicPr>
        <p:blipFill>
          <a:blip r:embed="rId1"/>
          <a:stretch/>
        </p:blipFill>
        <p:spPr>
          <a:xfrm>
            <a:off x="539640" y="476280"/>
            <a:ext cx="9702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30935"/>
          <p:cNvPicPr/>
          <p:nvPr/>
        </p:nvPicPr>
        <p:blipFill>
          <a:blip r:embed="rId2"/>
          <a:stretch/>
        </p:blipFill>
        <p:spPr>
          <a:xfrm>
            <a:off x="7093080" y="260280"/>
            <a:ext cx="1755720" cy="1839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ораторные сосуды с водой, мас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тел разной плотности одинаковых разме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убень картофе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ирка с поваренной солью, пластил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ирка с пес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 параллелепипед из пенопл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оме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линдр измеритель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ьный компьютер с мультимедийным проекто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к с материалами УМ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87501"/>
          <p:cNvPicPr/>
          <p:nvPr/>
        </p:nvPicPr>
        <p:blipFill>
          <a:blip r:embed="rId1"/>
          <a:stretch/>
        </p:blipFill>
        <p:spPr>
          <a:xfrm>
            <a:off x="324000" y="189000"/>
            <a:ext cx="136188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j0336977"/>
          <p:cNvPicPr/>
          <p:nvPr/>
        </p:nvPicPr>
        <p:blipFill>
          <a:blip r:embed="rId2"/>
          <a:stretch/>
        </p:blipFill>
        <p:spPr>
          <a:xfrm>
            <a:off x="7451640" y="981000"/>
            <a:ext cx="1008000" cy="968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торение и закрепление темы: "Архимедова сила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чение и закрепление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онстрация фрагмента мультипликационного фильма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«Айсберги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«Почему айсберги не тонут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плотности жидкости и вещества, погруженного в жидкость, в случаях, когда тело плавает на поверхности или то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ие плавания тел внутри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ия плавания тел (общий выво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ние на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тоды и приемы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е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онстрация видеофраг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нтальные опы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ческие выводы и интуитивные догадки школь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 на доске и в тетра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j0336976"/>
          <p:cNvPicPr/>
          <p:nvPr/>
        </p:nvPicPr>
        <p:blipFill>
          <a:blip r:embed="rId2"/>
          <a:stretch/>
        </p:blipFill>
        <p:spPr>
          <a:xfrm>
            <a:off x="8101080" y="414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j0303428"/>
          <p:cNvPicPr/>
          <p:nvPr/>
        </p:nvPicPr>
        <p:blipFill>
          <a:blip r:embed="rId3"/>
          <a:stretch/>
        </p:blipFill>
        <p:spPr>
          <a:xfrm>
            <a:off x="7956720" y="214200"/>
            <a:ext cx="936360" cy="91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j0186164"/>
          <p:cNvPicPr/>
          <p:nvPr/>
        </p:nvPicPr>
        <p:blipFill>
          <a:blip r:embed="rId4"/>
          <a:stretch/>
        </p:blipFill>
        <p:spPr>
          <a:xfrm>
            <a:off x="324000" y="260280"/>
            <a:ext cx="831600" cy="115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2"/>
          <p:cNvSpPr/>
          <p:nvPr/>
        </p:nvSpPr>
        <p:spPr>
          <a:xfrm>
            <a:off x="468360" y="1700280"/>
            <a:ext cx="83818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2438280"/>
            <a:ext cx="8381880" cy="41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4427640" y="170028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дос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4365360"/>
            <a:ext cx="12351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в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шарик2"/>
          <p:cNvPicPr/>
          <p:nvPr/>
        </p:nvPicPr>
        <p:blipFill>
          <a:blip r:embed="rId1"/>
          <a:stretch/>
        </p:blipFill>
        <p:spPr>
          <a:xfrm>
            <a:off x="2916360" y="1916280"/>
            <a:ext cx="1079280" cy="2403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2771640" y="4365720"/>
            <a:ext cx="187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вновес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219640" y="4365720"/>
            <a:ext cx="115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н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164360" y="4365720"/>
            <a:ext cx="14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0" descr="шарик1"/>
          <p:cNvPicPr/>
          <p:nvPr/>
        </p:nvPicPr>
        <p:blipFill>
          <a:blip r:embed="rId3"/>
          <a:stretch/>
        </p:blipFill>
        <p:spPr>
          <a:xfrm>
            <a:off x="755640" y="1916280"/>
            <a:ext cx="107964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шарик3"/>
          <p:cNvPicPr/>
          <p:nvPr/>
        </p:nvPicPr>
        <p:blipFill>
          <a:blip r:embed="rId4"/>
          <a:stretch/>
        </p:blipFill>
        <p:spPr>
          <a:xfrm>
            <a:off x="5076720" y="1916280"/>
            <a:ext cx="1079640" cy="237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" descr="шарик4"/>
          <p:cNvPicPr/>
          <p:nvPr/>
        </p:nvPicPr>
        <p:blipFill>
          <a:blip r:embed="rId5"/>
          <a:stretch/>
        </p:blipFill>
        <p:spPr>
          <a:xfrm>
            <a:off x="7164360" y="1916280"/>
            <a:ext cx="1079640" cy="2376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8000" y="4723920"/>
            <a:ext cx="266364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4.Самостоя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68360" y="155736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1. Домашнее экспериментальное задание:   может ли плавать картоф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92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 flipV="1" rot="10800000">
            <a:off x="5221080" y="16275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2. Экспериментальная задача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 flipV="1" rot="10760400">
            <a:off x="468000" y="4869000"/>
            <a:ext cx="331164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3. Задачи  из кни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Г. Остера «Физ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j0301252"/>
          <p:cNvPicPr/>
          <p:nvPr/>
        </p:nvPicPr>
        <p:blipFill>
          <a:blip r:embed="rId8"/>
          <a:stretch/>
        </p:blipFill>
        <p:spPr>
          <a:xfrm>
            <a:off x="3780000" y="3141720"/>
            <a:ext cx="1800000" cy="15397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3">
            <a:hlinkClick r:id="rId9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03:24Z</dcterms:created>
  <dc:creator>Дмитрий Лапчик</dc:creator>
  <dc:description/>
  <dc:language>en-US</dc:language>
  <cp:lastModifiedBy>ZooM</cp:lastModifiedBy>
  <dcterms:modified xsi:type="dcterms:W3CDTF">2013-11-27T23:10:36Z</dcterms:modified>
  <cp:revision>253</cp:revision>
  <dc:subject/>
  <dc:title>Слайд 1</dc:title>
</cp:coreProperties>
</file>