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5819-E665-49E3-AAF6-F4BF711ED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5C55-24A0-47CE-A1AE-48C5179DA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C843-8081-4724-9C98-DEB85234B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EEB58-7C10-4012-BC1E-62417F784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C91BF-5004-45A3-8599-8B4D02821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C1F1B-73C5-4931-8488-57D17A672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E82AA-7822-4CCA-85DA-122FDDBBE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92C06-AB14-4B6A-AA59-16D0C67F4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FB94-20D2-4FAC-B291-874D035D2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9EED-4321-403B-9D82-7E3002DC2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170C-152A-4681-95EF-B06FF367B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5172-7E93-43EE-AA7C-DE4F05144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204A-AEFF-4668-851B-3D44AC967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436B-ED4B-4F89-8910-9CE5D0DBD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13A7-7C52-4D5C-82F5-B7631E5BA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6C9A-0927-4B2D-95A6-D061771ED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50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CB80-99D5-4C48-8354-D310C83EC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A68D-0859-475E-82CF-2C82D81B4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74B0-C5FC-4A05-BF79-55B531E0D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0AE0-4409-4909-84F9-BB6AB1963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CF11F-611B-47DC-9177-ED85E8098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smetro.ru/" TargetMode="External"/><Relationship Id="rId3" Type="http://schemas.openxmlformats.org/officeDocument/2006/relationships/hyperlink" Target="http://www.news.metro.ru/" TargetMode="External"/><Relationship Id="rId4" Type="http://schemas.openxmlformats.org/officeDocument/2006/relationships/hyperlink" Target="http://www.mosgortran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0"/>
            <a:ext cx="9396360" cy="67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Транспорт Москв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лекси Парккил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илле Мяки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школа восточной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Лаппеенрант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Йоенс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верное самое дешёвое перед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ное сре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оезд стоит примерно 10 рублей и к тому же маршрутное такси намног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обычный автобус из-з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аленького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40360" y="4427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6800" y="395280"/>
            <a:ext cx="8884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248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учебного за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440" y="1844640"/>
            <a:ext cx="9945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Прогуляйтесь пешком или доедьте на маршрутном такси до станции метро «Университ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	</a:t>
            </a: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Рядом со станцией находится трамвайная остановка. Сев на трамвай номер 22 или 26, и доехав до остановки «Новочерёмушкинской», выйдя из трамвая, вы увидете учебное заведение ЦМО М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9506160" cy="71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0000" y="360360"/>
            <a:ext cx="86644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сточ</a:t>
            </a:r>
            <a:r>
              <a:rPr b="1" lang="ru-RU" sz="5400" spc="-1" strike="noStrike" baseline="-1000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40000"/>
            <a:ext cx="9720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os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news.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mosgortrans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wikipedia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yandex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ши Фот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http://ru.wikipedia.org/wiki/Университет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станция_метро,_Мос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440000"/>
            <a:ext cx="91425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о транспорт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 учебного за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е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 транспорте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рогие билеты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5 руб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30 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ного возмож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жен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много людей исполь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 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жете купить билеты в автобусе, трамвае и трол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се, или в киосках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 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е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, потому что никогда не зна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то может сл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лет для проезда в автобусе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трамвае и троллей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  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рок действия – voimassaolo pvm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                         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Количество поездок – matkojen lukumäärä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Стоимость в рублях – Hinta ru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Если нет билет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вы заплатите штраф в размере стo руб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9280" y="179280"/>
            <a:ext cx="3240000" cy="485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59280" y="360360"/>
            <a:ext cx="33228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768320"/>
            <a:ext cx="907092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ое метро, система линий метрополитена в Москве (Россия). Это наиболее интенсивно используемая система метро в мир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тро включает 278,3 км путей, 12 линий и 172 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ий метрополитен работает с 5:35 до 01:00. При этом надо учитывать, что на многих станциях с двумя и более выходами только один открыт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89840" y="179280"/>
            <a:ext cx="20908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54080"/>
            <a:ext cx="9070920" cy="86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час ночи останавливаются эскалаторы для входа пассажиров и в переходах, с конечных станций отправляется последний поезд, все станции работают только на выход. Для припозднившихся пассажиров ещё есть шанс уехать из центра города на окра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некоторым праздникам (Пасха, День города, Новый Год) руководство города иногда принимает решение об изменении времени работы Московского метрополит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ний интервал между поездами (от отправления одного состава до отправления следующего) составляет 2,5 минуты. Минимальный интервал в часы пик ― 90 секунд, максимальный интервал может достигать 1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60360"/>
            <a:ext cx="9070920" cy="76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“Университет” находится недалеко от М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а относится 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ной линии, её послед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“Ули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бельского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положена между станциями “Воробьёвы горы” и “Проспект Вернадског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 снаружи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ну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1640" y="3564000"/>
            <a:ext cx="467532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78400" y="3492360"/>
            <a:ext cx="47023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ак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1768320"/>
            <a:ext cx="9069480" cy="61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альтернативны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ы, иностранцам надо быть тихо - а то им придётся платить больш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уществует два типа такси - законные и 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законные. Законные стоят дороже, но они 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ного безопаснее незако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ймать такси не сос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ляе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руда - надо просто 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нуть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08720" y="17928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ёгок, доставит вас на мест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автобус и в места, в которые даже на метро не добр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чень удоб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В школу можно без труда добраться на трамвае номер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04000" y="4608360"/>
            <a:ext cx="3660840" cy="27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20:25Z</dcterms:created>
  <dc:creator/>
  <dc:description>Presentation Layout Template</dc:description>
  <dc:language>en-US</dc:language>
  <cp:lastModifiedBy>u-dl</cp:lastModifiedBy>
  <dcterms:modified xsi:type="dcterms:W3CDTF">2009-06-19T17:00:13Z</dcterms:modified>
  <cp:revision>42</cp:revision>
  <dc:subject/>
  <dc:title>Brown</dc:title>
</cp:coreProperties>
</file>