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90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B731B-BC0F-41B8-9F45-1F7396711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1C0B7-5E0B-4ED3-9E73-E98FC9859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B4FFB-A17C-42B9-BB8C-C0B386031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ACF20-EA61-47DD-A3E7-B097EFDC1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3CC2A-0105-43F8-BFB6-4971DAEB6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A8B9-DC61-4B1A-9A4B-410A43A39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38B93-03EF-4A03-9958-1C288E31B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82B62-1606-44D5-9637-E84F0C734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BFF2-0085-4E37-A7D3-F0D9F2193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CC42-9E00-4E72-85E4-3E850DE0C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FFEC-76F8-47FC-9CE3-843DCCFA8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DC46-C1A9-4310-B9CA-D6B4CDEBF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850E-F542-458D-818F-6EDD2F13C7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9C29-2E8D-4EBA-A1C4-983CADEF5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3843-B8E1-487A-A588-A2A91613A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BA84-360D-4B14-85EA-5979DFD9E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50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CEDA-5098-4B12-AE3C-A4ACD8662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5367-73E3-412A-8A93-E5C382D5F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70D2-B768-4F4D-8872-8E133C12A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745B-8721-4450-BF77-69D70132A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647A2-CD6D-45F4-A84D-F92FFDA6E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smetro.ru/" TargetMode="External"/><Relationship Id="rId3" Type="http://schemas.openxmlformats.org/officeDocument/2006/relationships/hyperlink" Target="http://www.news.metro.ru/" TargetMode="External"/><Relationship Id="rId4" Type="http://schemas.openxmlformats.org/officeDocument/2006/relationships/hyperlink" Target="http://www.mosgortran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0"/>
            <a:ext cx="9396360" cy="67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6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6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Транспорт Москв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Алекси Парккила 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илле Мякин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школа восточной финля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Лаппеенранта 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Йоенсу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Маршрутное так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верное самое дешёвое перед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ное сре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роезд стоит примерно 10 рублей и к тому же маршрутное такси намного быстре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ем обычный автобус из-з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ег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аленького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40360" y="4427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6800" y="395280"/>
            <a:ext cx="88840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248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Как добраться от общежития до ва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учебного за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9440" y="1844640"/>
            <a:ext cx="9945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Прогуляйтесь пешком или доедьте на маршрутном такси до станции метро «Университет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	</a:t>
            </a: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Рядом со станцией находится трамвайная остановка. Сев на трамвай номер 22 или 26, и доехав до остановки «Новочерёмушкинской», выйдя из трамвая, вы увидете учебное заведение ЦМО М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7280" y="144360"/>
            <a:ext cx="9506160" cy="710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0000" y="360360"/>
            <a:ext cx="86644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4080"/>
                <a:tab algn="l" pos="9423360"/>
                <a:tab algn="l" pos="987264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5400" spc="-1" strike="noStrike" baseline="-1000">
                <a:solidFill>
                  <a:srgbClr val="ffffff"/>
                </a:solidFill>
                <a:latin typeface="Times New Roman"/>
              </a:rPr>
              <a:t>Источ</a:t>
            </a:r>
            <a:r>
              <a:rPr b="1" lang="ru-RU" sz="5400" spc="-1" strike="noStrike" baseline="-1000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5400" spc="-1" strike="noStrike" baseline="-1000">
                <a:solidFill>
                  <a:srgbClr val="ffffff"/>
                </a:solidFill>
                <a:latin typeface="Times New Roman"/>
              </a:rPr>
              <a:t>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440000"/>
            <a:ext cx="9720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osmetro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news.metro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mosgortrans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wikipedia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yandex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ши Фото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http://ru.wikipedia.org/wiki/Университет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станция_метро,_Моск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440000"/>
            <a:ext cx="91425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лав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о транспорт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сковское ме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рам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ршрутное та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Как добраться от общежития до вашего учебного заве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о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Главн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е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о транспорте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рогие билеты 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5 руб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 30 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ного возможност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женн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много людей исполь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 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 можете купить билеты в автобусе, трамвае и трол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се, или в киосках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танц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х 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ет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до быть осторожным, потому что никогда не зна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что может сл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лет для проезда в автобусе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трамвае и троллейб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  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Срок действия – voimassaolo pvm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                                                            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Количество поездок – matkojen lukumäärä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                                   Стоимость в рублях – Hinta ru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Если нет билет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вы заплатите штраф в размере стo рубл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9280" y="179280"/>
            <a:ext cx="3240000" cy="485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759280" y="360360"/>
            <a:ext cx="332280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Московское ме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3280" y="1768320"/>
            <a:ext cx="907092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сковское метро, система линий метрополитена в Москве (Россия). Это наиболее интенсивно используемая система метро в мир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тро включает 278,3 км путей, 12 линий и 172 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сковский метрополитен работает с 5:35 до 01:00. При этом надо учитывать, что на многих станциях с двумя и более выходами только один открыт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89840" y="179280"/>
            <a:ext cx="209088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154080"/>
            <a:ext cx="9070920" cy="86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час ночи останавливаются эскалаторы для входа пассажиров и в переходах, с конечных станций отправляется последний поезд, все станции работают только на выход. Для припозднившихся пассажиров ещё есть шанс уехать из центра города на окра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некоторым праздникам (Пасха, День города, Новый Год) руководство города иногда принимает решение об изменении времени работы Московского метрополит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ний интервал между поездами (от отправления одного состава до отправления следующего) составляет 2,5 минуты. Минимальный интервал в часы пик ― 90 секунд, максимальный интервал может достигать 1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360360"/>
            <a:ext cx="9070920" cy="76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анция “Университет” находится недалеко от М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на относится 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сной линии, её послед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станц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“Ули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бельского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сположена между станциями “Воробьёвы горы” и “Проспект Вернадского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анция  снаружи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ну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1640" y="3564000"/>
            <a:ext cx="4675320" cy="324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78400" y="3492360"/>
            <a:ext cx="470232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3280" y="295200"/>
            <a:ext cx="90694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Так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1768320"/>
            <a:ext cx="9069480" cy="61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до быть осторож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альтернативны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ы, иностранцам надо быть тихо - а то им придётся платить больше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уществует два типа такси - законные и н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законные. Законные стоят дороже, но они 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ного безопаснее незако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ймать такси не сос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ляе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г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руда - надо просто 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нуть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08720" y="17928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295200"/>
            <a:ext cx="90694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Трамв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ёгок, доставит вас на место быстре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ем автобус и в места, в которые даже на метро не добр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чень удоб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В школу можно без труда добраться на трамвае номер 2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2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04000" y="4608360"/>
            <a:ext cx="3660840" cy="274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6:20:25Z</dcterms:created>
  <dc:creator/>
  <dc:description>Presentation Layout Template</dc:description>
  <dc:language>en-US</dc:language>
  <cp:lastModifiedBy>u-dl</cp:lastModifiedBy>
  <dcterms:modified xsi:type="dcterms:W3CDTF">2009-06-19T17:00:13Z</dcterms:modified>
  <cp:revision>42</cp:revision>
  <dc:subject/>
  <dc:title>Brown</dc:title>
</cp:coreProperties>
</file>