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90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381A6-4AB6-483A-B243-49E53FC10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54F3A-869B-4657-B187-5BC8FDF1F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06640" y="812880"/>
            <a:ext cx="5338440" cy="400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06640" y="812880"/>
            <a:ext cx="534168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D9734-2B4D-42EF-A1D6-CB60D0179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ADA93-37C5-4AED-90A1-50A928AE7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16341-D529-4489-9AFF-EDF19D847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531B9-3C1B-4E81-BE1D-47A5CF5A0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0E63C-8AED-440F-811B-D23B360EE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8ACC0-3796-4210-908D-E98B50F31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7739-4E47-4442-BA7D-F2737FC67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18B9-B627-4A8F-9C04-53E6DD52F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DF7D-5ABB-470F-8E2E-B1B8ACA9B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2143-5E34-4101-A172-99AE0A0E4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599A-9848-422A-B848-B987F48E24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FD64-94BB-49FB-8FA9-4C4172772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C314-9BB9-47DE-ACAE-230542119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B52D-2C55-4E49-8F39-C1D9D7829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93760"/>
            <a:ext cx="905508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6602-4057-496E-9348-7B7934642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0E41-C9DF-4A2E-A762-2C789FB8F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DBB7-76B7-4EEB-BC31-C341EFC7D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DC15-5BDC-4717-A4A6-458FE4981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93760"/>
            <a:ext cx="90550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9BADE-1993-4FE1-AF2F-0D1FD9CC4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smetro.ru/" TargetMode="External"/><Relationship Id="rId3" Type="http://schemas.openxmlformats.org/officeDocument/2006/relationships/hyperlink" Target="http://www.news.metro.ru/" TargetMode="External"/><Relationship Id="rId4" Type="http://schemas.openxmlformats.org/officeDocument/2006/relationships/hyperlink" Target="http://www.mosgortrans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0"/>
            <a:ext cx="9396360" cy="67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6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6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6600" spc="-1" strike="noStrike">
                <a:solidFill>
                  <a:srgbClr val="ffffff"/>
                </a:solidFill>
                <a:latin typeface="Times New Roman"/>
              </a:rPr>
              <a:t>Транспорт Москв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Алекси Парккила 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илле Мякин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школа восточной финлян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Лаппеенранта 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Йоенсу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i-FI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Маршрутное так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верное самое дешёвое перед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ное сре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роезд стоит примерно 10 рублей и к тому же маршрутное такси намного быстре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ем обычный автобус из-з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ег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аленького раз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40360" y="4427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6800" y="395280"/>
            <a:ext cx="88840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248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Как добраться от общежития до ваш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</a:t>
            </a: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учебного завед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9440" y="1844640"/>
            <a:ext cx="9945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baseline="-1000">
                <a:solidFill>
                  <a:srgbClr val="fffeff"/>
                </a:solidFill>
                <a:latin typeface="Times New Roman"/>
              </a:rPr>
              <a:t>Прогуляйтесь пешком или доедьте на маршрутном такси до станции метро «Университет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baseline="-1000">
                <a:solidFill>
                  <a:srgbClr val="fffeff"/>
                </a:solidFill>
                <a:latin typeface="Times New Roman"/>
              </a:rPr>
              <a:t>	</a:t>
            </a:r>
            <a:r>
              <a:rPr b="0" lang="ru-RU" sz="4400" spc="-1" strike="noStrike" baseline="-1000">
                <a:solidFill>
                  <a:srgbClr val="fffeff"/>
                </a:solidFill>
                <a:latin typeface="Times New Roman"/>
              </a:rPr>
              <a:t>Рядом со станцией находится трамвайная остановка. Сев на трамвай номер 22 или 26, и доехав до остановки «Новочерёмушкинской», выйдя из трамвая, вы увидете учебное заведение ЦМО МГ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7280" y="144360"/>
            <a:ext cx="9506160" cy="710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0000" y="360360"/>
            <a:ext cx="86644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4080"/>
                <a:tab algn="l" pos="9423360"/>
                <a:tab algn="l" pos="987264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32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1" lang="en-US" sz="5400" spc="-1" strike="noStrike" baseline="-1000">
                <a:solidFill>
                  <a:srgbClr val="ffffff"/>
                </a:solidFill>
                <a:latin typeface="Times New Roman"/>
              </a:rPr>
              <a:t>Источ</a:t>
            </a:r>
            <a:r>
              <a:rPr b="1" lang="ru-RU" sz="5400" spc="-1" strike="noStrike" baseline="-1000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5400" spc="-1" strike="noStrike" baseline="-1000">
                <a:solidFill>
                  <a:srgbClr val="ffffff"/>
                </a:solidFill>
                <a:latin typeface="Times New Roman"/>
              </a:rPr>
              <a:t>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440000"/>
            <a:ext cx="97203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mosmetro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news.metro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www.mosgortrans.com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www.wikipedia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www.yandex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Н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ши Фото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http://ru.wikipedia.org/wiki/Университет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станция_метро,_Моск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640" y="1440000"/>
            <a:ext cx="91425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лав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о транспорт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осковское мет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рам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ршрутное так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Как добраться от общежития до вашего учебного заве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точ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Главн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е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о транспорте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дорогие билеты 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5 руб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 30 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ного возможност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женны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много людей исполь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 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 можете купить билеты в автобусе, трамвае и трол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се, или в киосках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танц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х 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етр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до быть осторожным, потому что никогда не зна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что может сл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илет для проезда в автобусе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трамвае и троллейб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  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r>
              <a:rPr b="0" lang="en-US" sz="2800" spc="-1" strike="noStrike" baseline="-33000">
                <a:solidFill>
                  <a:srgbClr val="dffed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Срок действия – voimassaolo pvm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                                                            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Количество поездок – matkojen lukumäärä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                                   Стоимость в рублях – Hinta ru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Если нет билет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вы заплатите штраф в размере стo рубл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19280" y="179280"/>
            <a:ext cx="3240000" cy="485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759280" y="360360"/>
            <a:ext cx="332280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Московское ме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3280" y="1768320"/>
            <a:ext cx="907092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сковское метро, система линий метрополитена в Москве (Россия). Это наиболее интенсивно используемая система метро в мир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тро включает 278,3 км путей, 12 линий и 172 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сковский метрополитен работает с 5:35 до 01:00. При этом надо учитывать, что на многих станциях с двумя и более выходами только один открыт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989840" y="179280"/>
            <a:ext cx="2090880" cy="25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154080"/>
            <a:ext cx="9070920" cy="86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1 час ночи останавливаются эскалаторы для входа пассажиров и в переходах, с конечных станций отправляется последний поезд, все станции работают только на выход. Для припозднившихся пассажиров ещё есть шанс уехать из центра города на окра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некоторым праздникам (Пасха, День города, Новый Год) руководство города иногда принимает решение об изменении времени работы Московского метрополит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едний интервал между поездами (от отправления одного состава до отправления следующего) составляет 2,5 минуты. Минимальный интервал в часы пик ― 90 секунд, максимальный интервал может достигать 1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360360"/>
            <a:ext cx="9070920" cy="76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анция “Университет” находится недалеко от М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на относится 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сной линии, её послед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станц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“Ули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дбельского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сположена между станциями “Воробьёвы горы” и “Проспект Вернадского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Wingdings" charset="2"/>
              <a:buChar char=""/>
              <a:tabLst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танция  снаружи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зну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17600"/>
                <a:tab algn="l" pos="865080"/>
                <a:tab algn="l" pos="1314360"/>
                <a:tab algn="l" pos="1763640"/>
                <a:tab algn="l" pos="2212920"/>
                <a:tab algn="l" pos="2662200"/>
                <a:tab algn="l" pos="3111480"/>
                <a:tab algn="l" pos="3560760"/>
                <a:tab algn="l" pos="4010040"/>
                <a:tab algn="l" pos="4459320"/>
                <a:tab algn="l" pos="4908600"/>
                <a:tab algn="l" pos="5357880"/>
                <a:tab algn="l" pos="5807160"/>
                <a:tab algn="l" pos="6256440"/>
                <a:tab algn="l" pos="6705720"/>
                <a:tab algn="l" pos="7155000"/>
                <a:tab algn="l" pos="7604280"/>
                <a:tab algn="l" pos="8053560"/>
                <a:tab algn="l" pos="8502480"/>
                <a:tab algn="l" pos="8951760"/>
                <a:tab algn="l" pos="9401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1640" y="3564000"/>
            <a:ext cx="4675320" cy="324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78400" y="3492360"/>
            <a:ext cx="470232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03280" y="295200"/>
            <a:ext cx="90694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Так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1768320"/>
            <a:ext cx="9069480" cy="61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до быть осторож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- альтернативны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ы, иностранцам надо быть тихо - а то им придётся платить больше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уществует два типа такси - законные и н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законные. Законные стоят дороже, но они 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ного безопаснее незако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ймать такси не сос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ляе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г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руда - надо просто 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нуть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08720" y="17928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3280" y="295200"/>
            <a:ext cx="906948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Трамв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ёгок, доставит вас на место быстре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ем автобус и в места, в которые даже на метро не добр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чень удоб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В школу можно без труда добраться на трамвае номер 2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2</a:t>
            </a:r>
            <a:r>
              <a:rPr b="0" lang="fi-FI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904000" y="4608360"/>
            <a:ext cx="3660840" cy="274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6:20:25Z</dcterms:created>
  <dc:creator/>
  <dc:description>Presentation Layout Template</dc:description>
  <dc:language>en-US</dc:language>
  <cp:lastModifiedBy>u-dl</cp:lastModifiedBy>
  <dcterms:modified xsi:type="dcterms:W3CDTF">2009-06-19T17:00:13Z</dcterms:modified>
  <cp:revision>42</cp:revision>
  <dc:subject/>
  <dc:title>Brown</dc:title>
</cp:coreProperties>
</file>