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EB0-E56D-4A73-A0E2-ECB01FFC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A021-836F-4B0C-B690-9F399CB3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721-C680-4163-BCBA-46314F2B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FC5-A87D-47C5-AD35-6C372260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9238-5609-46D8-9982-45EC2925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EE92-A594-4A05-9522-0C68A5D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C859-650B-4328-B327-D8A36E3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13D4-EDF3-4407-9D2E-10B9E0A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66BA-1AB5-46B0-BA8B-26C64C72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48A-77C4-408C-9702-373D138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D8D-6BCD-42ED-9570-754A54E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A81-4D17-43C9-8545-64B03A3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27A0-966C-4F78-8CEF-3B3B586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90F7-9414-4464-8879-FCDAC952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B1A3-957C-4217-8C4C-F6FC7307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7074-FDEC-498A-942F-774F9A1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20C5-27EC-4906-BB58-B01AFFD7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22C-7F6C-4DE6-A76C-F86E66B7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F4A-0A53-44BA-AF8D-7B0B054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516-C5D3-4CD4-8567-586AC8C7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746-B72A-4D39-A82B-30171266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CBE-EF52-40EE-ABB3-853601C7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C7A-06DA-41F7-836B-ECAC319F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CA9-BB75-4684-B1A8-22B4B01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9E3-546C-4ED3-AC5E-A976945623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17C3-4182-4F67-9661-7849570C68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403280" y="2276640"/>
            <a:ext cx="604836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межные угл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zvonok"/>
          <p:cNvPicPr/>
          <p:nvPr/>
        </p:nvPicPr>
        <p:blipFill>
          <a:blip r:embed="rId1"/>
          <a:stretch/>
        </p:blipFill>
        <p:spPr>
          <a:xfrm>
            <a:off x="1187280" y="4292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8"/>
          <p:cNvSpPr txBox="1"/>
          <p:nvPr/>
        </p:nvSpPr>
        <p:spPr>
          <a:xfrm>
            <a:off x="539640" y="220500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сотрудничество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ознаком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определением смежных уг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теоремой о смежных углах и ее доказательст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о следствиями из теоремы о смежных угл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 видами уг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Научиться решать задачи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900000" y="620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урок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611280" y="549360"/>
            <a:ext cx="639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 смежных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3280" y="148428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прямую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00720" y="191628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строим точку О, принадлежащую прямой А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56000" y="2637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роведем луч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916360" y="299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Получили </a:t>
            </a:r>
            <a:r>
              <a:rPr b="1" i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3429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а 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84360" y="386064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тороны ОА и 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26920" y="422100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ОС и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ВОС – смежные уг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 flipV="1">
            <a:off x="684360" y="1268280"/>
            <a:ext cx="3600360" cy="2232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9640" y="306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19640" y="1268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3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26836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5148360" y="299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В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6443640" y="2997360"/>
            <a:ext cx="27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углы  у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500720" y="3429000"/>
            <a:ext cx="187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б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132000" y="3860640"/>
            <a:ext cx="52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дополнительные полупря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7"/>
          <p:cNvSpPr txBox="1"/>
          <p:nvPr/>
        </p:nvSpPr>
        <p:spPr>
          <a:xfrm>
            <a:off x="611280" y="4653000"/>
            <a:ext cx="30574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еделе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68360" y="5013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Два угла, у которых одна сторона общая, а две другие являются дополнительными полупрямыми, называются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смеж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5"/>
          <p:cNvSpPr/>
          <p:nvPr/>
        </p:nvSpPr>
        <p:spPr>
          <a:xfrm>
            <a:off x="1971720" y="2406600"/>
            <a:ext cx="100080" cy="243000"/>
          </a:xfrm>
          <a:prstGeom prst="pie">
            <a:avLst/>
          </a:pr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2009880" y="2314440"/>
            <a:ext cx="453960" cy="55800"/>
          </a:xfrm>
          <a:prstGeom prst="pie">
            <a:avLst/>
          </a:pr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394920" y="1916280"/>
            <a:ext cx="1873080" cy="576000"/>
          </a:xfrm>
          <a:prstGeom prst="line">
            <a:avLst/>
          </a:prstGeom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 flipH="1">
            <a:off x="684360" y="2492280"/>
            <a:ext cx="1584000" cy="1008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 flipV="1">
            <a:off x="2268360" y="1268280"/>
            <a:ext cx="1943280" cy="1224000"/>
          </a:xfrm>
          <a:prstGeom prst="line">
            <a:avLst/>
          </a:prstGeom>
          <a:ln w="38160">
            <a:solidFill>
              <a:srgbClr val="009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2124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611280" y="404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орема о смежных углах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33336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Сумма смежных углов равна 180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611280" y="1628280"/>
            <a:ext cx="3097080" cy="18716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1908000" y="1341000"/>
            <a:ext cx="0" cy="13669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3357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492360" y="162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47640" y="1341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72000" y="1557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284720" y="213372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4284720" y="1989000"/>
            <a:ext cx="30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ас)  и </a:t>
            </a:r>
            <a:r>
              <a:rPr b="1" i="1" lang="en-GB" sz="18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(вс) - см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1700280" y="2538360"/>
            <a:ext cx="203040" cy="298440"/>
          </a:xfrm>
          <a:prstGeom prst="pie">
            <a:avLst/>
          </a:prstGeom>
          <a:noFill/>
          <a:ln w="284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9"/>
          <p:cNvSpPr/>
          <p:nvPr/>
        </p:nvSpPr>
        <p:spPr>
          <a:xfrm>
            <a:off x="1922400" y="2538360"/>
            <a:ext cx="130320" cy="5544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0"/>
          <p:cNvSpPr/>
          <p:nvPr/>
        </p:nvSpPr>
        <p:spPr>
          <a:xfrm>
            <a:off x="1922400" y="2406600"/>
            <a:ext cx="204840" cy="149400"/>
          </a:xfrm>
          <a:prstGeom prst="pie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427640" y="2421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572000" y="292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ас)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  +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</a:t>
            </a: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) = 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700360" y="33577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95280" y="3860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) – развер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3276720" y="386064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ав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5867280" y="38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611280" y="4292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Луч с проходит между сторонами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ав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11280" y="4724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значит </a:t>
            </a:r>
            <a:r>
              <a:rPr b="1" i="1" lang="en-GB" sz="2000" spc="-1" strike="noStrike">
                <a:solidFill>
                  <a:srgbClr val="ff0066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(ав)</a:t>
            </a: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=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16360" y="47242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(св-во измерения угл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84360" y="536256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Получили, что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ас)  + </a:t>
            </a:r>
            <a:r>
              <a:rPr b="1" i="1" lang="en-GB" sz="2000" spc="-1" strike="noStrike">
                <a:solidFill>
                  <a:srgbClr val="0066ff"/>
                </a:solidFill>
                <a:latin typeface="Arial"/>
              </a:rPr>
              <a:t>∟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(вс)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= 180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°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755640" y="620640"/>
            <a:ext cx="243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221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1.  Если два угла равны, то смежные с ними углы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900000" y="1989000"/>
            <a:ext cx="2521080" cy="115272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V="1">
            <a:off x="826920" y="3357720"/>
            <a:ext cx="2808360" cy="1366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539280" y="2133720"/>
            <a:ext cx="1584360" cy="43344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3"/>
          <p:cNvSpPr/>
          <p:nvPr/>
        </p:nvSpPr>
        <p:spPr>
          <a:xfrm flipH="1" flipV="1">
            <a:off x="1042560" y="3789360"/>
            <a:ext cx="1081080" cy="287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877080" y="292428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1835280" y="2492280"/>
            <a:ext cx="1440" cy="2509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1863720" y="4000680"/>
            <a:ext cx="33480" cy="18252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4"/>
          <p:cNvSpPr/>
          <p:nvPr/>
        </p:nvSpPr>
        <p:spPr>
          <a:xfrm>
            <a:off x="1979640" y="2421000"/>
            <a:ext cx="365040" cy="921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1920960" y="3849840"/>
            <a:ext cx="318960" cy="15084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979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4764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979640" y="21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47636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4140360" y="206064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;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 – смежные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428472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4140360" y="3068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 очевидно, что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428472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755640" y="549360"/>
            <a:ext cx="388764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дств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17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227640" y="197820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5651640" y="170028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 и  </a:t>
            </a:r>
            <a:r>
              <a:rPr b="1" i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2 смежны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64328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588000" y="2205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90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755640" y="2133720"/>
            <a:ext cx="3456000" cy="12952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H="1" flipV="1">
            <a:off x="1618920" y="1267920"/>
            <a:ext cx="649080" cy="15843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 flipH="1">
            <a:off x="1979640" y="2708280"/>
            <a:ext cx="216000" cy="730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>
            <a:off x="1979640" y="2781360"/>
            <a:ext cx="71280" cy="1429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268360" y="2349360"/>
            <a:ext cx="7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61928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165400" y="2633760"/>
            <a:ext cx="223920" cy="147600"/>
          </a:xfrm>
          <a:prstGeom prst="pie">
            <a:avLst/>
          </a:prstGeom>
          <a:noFill/>
          <a:ln w="3816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268360" y="2997360"/>
            <a:ext cx="65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2.  Если один из смежных углов прямой, то и другой тоже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39640" y="4076640"/>
            <a:ext cx="82076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1187280" y="450864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3.  Если угол не развернутый, то его градусная мера меньше 180 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°</a:t>
            </a: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684360" y="549360"/>
            <a:ext cx="345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угло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219640" y="184464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А =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1332000" y="1628640"/>
            <a:ext cx="86364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2195640" y="1628640"/>
            <a:ext cx="2232000" cy="1440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195640" y="2924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2050920" y="2707920"/>
            <a:ext cx="289080" cy="14436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2340000" y="2708280"/>
            <a:ext cx="144360" cy="2160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4643280" y="24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А -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68360" y="3284640"/>
            <a:ext cx="8280360" cy="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148360" y="3284640"/>
            <a:ext cx="37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В мен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 flipV="1">
            <a:off x="971640" y="3357360"/>
            <a:ext cx="237636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971640" y="3789360"/>
            <a:ext cx="1944720" cy="4316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755640" y="342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643280" y="393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В – ост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2"/>
          <p:cNvSpPr/>
          <p:nvPr/>
        </p:nvSpPr>
        <p:spPr>
          <a:xfrm>
            <a:off x="468360" y="4581360"/>
            <a:ext cx="8207280" cy="730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5076720" y="4653000"/>
            <a:ext cx="32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Угол С больше 9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611280" y="4797360"/>
            <a:ext cx="1584360" cy="79236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2195640" y="4941720"/>
            <a:ext cx="1871640" cy="64800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1835280" y="5516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4643280" y="522936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Угол С - ту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333360"/>
            <a:ext cx="18921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843280" y="404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Найти смежные углы, если один из них в 4 раза меньше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V="1">
            <a:off x="611280" y="1628280"/>
            <a:ext cx="3024000" cy="20876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908000" y="1267920"/>
            <a:ext cx="719280" cy="158436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2057400" y="2490840"/>
            <a:ext cx="160200" cy="115920"/>
          </a:xfrm>
          <a:prstGeom prst="pie">
            <a:avLst/>
          </a:prstGeom>
          <a:noFill/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/>
          <p:cNvSpPr/>
          <p:nvPr/>
        </p:nvSpPr>
        <p:spPr>
          <a:xfrm>
            <a:off x="1774800" y="2560680"/>
            <a:ext cx="236520" cy="297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124000" y="220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547640" y="242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572000" y="1484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3708360" y="1916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- см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76720" y="227664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в 4 раза меньше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2771640" y="27813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4140360" y="2781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и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3059280" y="3284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755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Пусть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х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3276720" y="37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тогда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( 4х )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900000" y="422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1 + </a:t>
            </a: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2 = 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80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3419640" y="4292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Arial"/>
              </a:rPr>
              <a:t>(по теореме о смежных угл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>
            <a:off x="611280" y="4653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Составим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500364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+ 4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5003640" y="501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5х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5076720" y="5300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х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84360" y="53006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 =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611280" y="580536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1) </a:t>
            </a:r>
            <a:r>
              <a:rPr b="1" lang="en-GB" sz="2400" spc="-1" strike="noStrike">
                <a:solidFill>
                  <a:srgbClr val="9933ff"/>
                </a:solidFill>
                <a:latin typeface="Arial"/>
              </a:rPr>
              <a:t>∟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2 = 36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  <a:ea typeface="Arial"/>
              </a:rPr>
              <a:t>∙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4 = 144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90000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Ответ: 36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, 144 </a:t>
            </a: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684360" y="549360"/>
            <a:ext cx="429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ее задани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9" name="Picture 5" descr="book"/>
          <p:cNvPicPr/>
          <p:nvPr/>
        </p:nvPicPr>
        <p:blipFill>
          <a:blip r:embed="rId1"/>
          <a:stretch/>
        </p:blipFill>
        <p:spPr>
          <a:xfrm>
            <a:off x="6372360" y="4005360"/>
            <a:ext cx="241776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5"/>
          <p:cNvPicPr/>
          <p:nvPr/>
        </p:nvPicPr>
        <p:blipFill>
          <a:blip r:embed="rId2"/>
          <a:stretch/>
        </p:blipFill>
        <p:spPr>
          <a:xfrm>
            <a:off x="468360" y="3789360"/>
            <a:ext cx="2286000" cy="2435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82692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1.Знать теорему о смежных углах, ее доказательства и следствия из теоремы, (п. 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63700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2. №2 (устно), № 4 ( 1, 2, 4), стр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979640" y="342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ценки за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9:36:54Z</dcterms:created>
  <dc:creator>User</dc:creator>
  <dc:description/>
  <dc:language>en-US</dc:language>
  <cp:lastModifiedBy>User</cp:lastModifiedBy>
  <dcterms:modified xsi:type="dcterms:W3CDTF">2010-04-07T21:06:59Z</dcterms:modified>
  <cp:revision>24</cp:revision>
  <dc:subject/>
  <dc:title>Слайд 1</dc:title>
</cp:coreProperties>
</file>