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603-2A29-4E57-9AF9-0833F2F2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EF6-CAC1-4951-8693-6C6B8D86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36F-2F8C-4503-8FC9-ED8EBA64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E09-EB9D-4DCA-A0B8-01B7BC20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38B9-271B-4C50-AD68-C1C68C52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4B8-8EBD-46A2-9219-03180671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3C2-79AB-4887-83BA-7723CB8D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6481-F920-4007-AAF4-57BAE426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9B7E-2094-4B02-B9DB-128150E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FD0-46FB-40EE-9B82-D8FEFE27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B34F-66E5-4095-8DE9-F3BF5EE1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3B0-E938-475D-8C1F-9D2DFCF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701-BCA4-4F80-96A8-EF66764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875A-7512-4788-8A40-5391F2E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C501-04FE-45CC-8C7A-FE310C36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4D07-4E0C-4A9A-ADF2-DED8D084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3E42-9540-44EA-82DF-EBC8F991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715-2F7E-43C6-A4E8-D351AFED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0CA-FD38-4A38-BBCC-56E270A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47E-C98A-4F21-B515-8A413A15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5FE-004B-40C6-9253-A964F8A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2BD-AAD2-4661-9ABF-FE83A5C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920-725D-4BE1-972D-0517957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BC0-FEEC-4638-9974-F1BAA5B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1BD-1F27-49DE-BFD9-6B309A28E15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7C91-08B6-4884-80AE-8FE3F91A358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684360" y="549360"/>
            <a:ext cx="3456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219640" y="184464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 =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332000" y="1628640"/>
            <a:ext cx="86364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2195640" y="1628640"/>
            <a:ext cx="223200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195640" y="2924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2050920" y="2707920"/>
            <a:ext cx="289080" cy="144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340000" y="2708280"/>
            <a:ext cx="144360" cy="216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4643280" y="24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А -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68360" y="3284640"/>
            <a:ext cx="82803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148360" y="328464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В мен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 flipV="1">
            <a:off x="971640" y="3357360"/>
            <a:ext cx="237636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971640" y="3789360"/>
            <a:ext cx="194472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75564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4643280" y="39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В – ост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468360" y="4581360"/>
            <a:ext cx="8207280" cy="73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5076720" y="4653000"/>
            <a:ext cx="32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С бол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611280" y="4797360"/>
            <a:ext cx="158436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2195640" y="4941720"/>
            <a:ext cx="1871640" cy="64800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1835280" y="551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643280" y="522936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С -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684360" y="549360"/>
            <a:ext cx="42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5" descr="book"/>
          <p:cNvPicPr/>
          <p:nvPr/>
        </p:nvPicPr>
        <p:blipFill>
          <a:blip r:embed="rId1"/>
          <a:stretch/>
        </p:blipFill>
        <p:spPr>
          <a:xfrm>
            <a:off x="6372360" y="4005360"/>
            <a:ext cx="2417760" cy="194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5"/>
          <p:cNvPicPr/>
          <p:nvPr/>
        </p:nvPicPr>
        <p:blipFill>
          <a:blip r:embed="rId2"/>
          <a:stretch/>
        </p:blipFill>
        <p:spPr>
          <a:xfrm>
            <a:off x="468360" y="3789360"/>
            <a:ext cx="2286000" cy="2435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82692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1.Знать теорему о смежных углах, ее доказательства и следствия из теоремы, (п.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637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2. №2 (устно), № 4 ( 1, 2, 4), стр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342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ценки за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User</cp:lastModifiedBy>
  <dcterms:modified xsi:type="dcterms:W3CDTF">2010-04-07T21:06:59Z</dcterms:modified>
  <cp:revision>24</cp:revision>
  <dc:subject/>
  <dc:title>Слайд 1</dc:title>
</cp:coreProperties>
</file>