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DE3-1A57-4772-9549-2C8B22DD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C5F-2D6C-47D7-85FC-933C8029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FC-E6B0-4529-B544-71BD7241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57A-B885-47AD-83A0-97999ECA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A9F-62E7-43DC-97A8-B35054FE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5505-4703-4B9D-8DA4-66BAC37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5AD3-C092-4F3C-80AB-0E82008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354E-0243-4F4E-A616-E0FB634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72E0-B180-41C5-A24E-40B066F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96F8-EAAC-402B-9441-C24323F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000-006C-4C39-9594-41962399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D84-5816-4364-825F-0AF9806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8E2-EAFB-4F4F-A933-8B012F2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C51F-606C-41E7-874D-33D3D67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1B31-15D9-47C7-AB97-6962A512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3415-FFB2-4123-BB46-16706499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EF62-86C4-463F-A2C2-81CB7E9D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BB6-1EB5-47C7-831E-479E300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D174-7F19-4DAA-858E-05872D8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F18-8744-4442-87E6-1F03DDB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A01-41F2-47CD-8552-B15792E3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161-9392-4FA9-B246-58F4019C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0B6-1C1C-4DDF-BD86-33B42B2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367-4061-43B6-B382-314F86E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EA44B8-500A-4B18-9EB4-8A681D31D79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5FA949-BC06-4436-A4CA-09581FA548F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03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5000" cy="41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удейство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но гимнастике и прыжкам в воду судьи оценивают различные стороны выступления по 10-бальной системе. Дискретность оценки - 0,1 балла. Две группы судей, по 5 человек в каждой располагаются вокруг бассейна. Одна группа оценивает технику исполнения, другая - артисциз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РОИЗВОЛЬН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извольных упражнений и команды и дуэты могут сами подбирать упражнения и музыку. Они должны не только создать единую композицию, но и включить в нее сложные элементы. При выполнении произвольной программы спортсменки тоже должны использовать всю площадь бассейна, изменять в процессе режим и темп, включать новые элементы, неожиданные рисунки движений, их изменение и движения над водой. Произвольная программа продолжается в течение 4 минут для дуэтов и 5 минут для команд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683160" cy="410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48320" y="2060640"/>
            <a:ext cx="403848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Первая команда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команда пловцов была создана в 1882 в Англии, а в 1930-х гг. художественное плавание получило распространение в Европе и США. В 1952 году на чемпионате Франции состоялись первые выступления спортсменок в воде под музык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195640" y="277920"/>
            <a:ext cx="4968720" cy="610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йские спортсменки не раз отличались в соревнованиях этого вида спорта. С 1987 года по настоящее время Юниорская сборная команда по синхронному плаванию является абсолютным Чемпионом Европы и Мира, а с 1993 года сборная команда России по синхронному плаванию занимает все лидирующие позиции в Европ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достью мирового синхронного плавания считаются трехкратные олимпийские чемпион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льга Брусникина, Наталья Ищенко,  Мария Киселева и двукратные олимпийские чемпионы Давыдова, Ермакова, Новокщенова, Азаро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Наград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Олимпийских Играх в Сиднее (2000 год) и в Афинах (2004 год) сборная команда России завоевала все золотые меда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265720" y="1698480"/>
            <a:ext cx="3295800" cy="387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Российские спортсменк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Что представляет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хронное плавание представляет собой смесь гимнастики, акробатики и плавания. Этот вид спорта связан с выполнением в воде различных фигур под музыку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ое синхронное плавание ведет свою историю из Древней Греции и Рима, где во время праздников юноши и девушки устраивали в воде хороводы. Видом спорта синхронное плавание стало лишь в конце 19 века, и изначально называлось «художественное плавание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Автор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азонова Дарь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чен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лья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цей № 7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 «А»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264360" cy="455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7568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Этот вид плавания заключается в совершенном по форме осуществлении плавательных движений и безупречном выполнении фигур большей или меньшей сложности. Так же как фигуристка на льду, спортсменка в синхронном плавании стремится к эстетическому выполнению труднейших элементов движения. Ритмичность движений должна быть синхронна с ритмом музыкального сопровождения. Каждое выступление имеет определенную тему, выражаемую музыкой и движением. В большинстве случаев исходным моментом в оформлении выступления является музыка, содержание которой определяет необходимые позы, элементы движений и жесты. Кроме того, суть синхронного плавания заключается в неподвижном изображении на воде определенных рисунков группой спортсменок. Музыка служит для большей выразительности изображаемого. Переход от одного рисунка к другому выполняется в определенных местах музыкального произведения. Спортсменки изображают на поверхности воды рисунки, сменяющиеся по принципу калейдоскопа. Переход от одного рисунка к другому спортсменки выполняют в положении на спине или под водой.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12144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оревно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РЕВНОВА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ремя соревнований участницы должны выполнить перед судьями две программы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ая — чисто техническая, обязательная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ая — вольное выступление (произвольная программа)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бязательную программу должны входить определенные элементы, выполняемые в строгом порядке (6 фигур соло, 7 дуэтом и 8 в команде), а произвольная программа позволяет участницам демонстрировать художественные композиции, включающие технические элементы по их собственному выбору, объединенные общей хореографией. За каждую программу ставятся две оцен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Синхронное Плавание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ТЕХНИЧЕСКАЯ ПРОГРАММА»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ебования к технике исполнения в синхронном плавании очень жесткие. Спортсменки могут выполнять упражнения под произвольный музыкальный аккомпанемент, но они должны выполнить все элементы в строго установленном порядке. Требуемые к выполнению элементы определяются каждые 4 года Техническим комитетом синхронного плавания. На выполнение каждого элемента программы дуэтам дается 20 секунд, командам 50 секунд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«ПОДГОТОВКА К ВЫПОЛНЕНИЮ» (исходное положение)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всех программ участницам предоставляется 10 секунд для занятия исходного положения. Оно задает тон всему выступлению, дает понять судьям и зрителям, что стоит ожидать от выступления и создает хорошее первое впечатл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2:04:35Z</dcterms:created>
  <dc:creator>Даша</dc:creator>
  <dc:description/>
  <dc:language>en-US</dc:language>
  <cp:lastModifiedBy>XP</cp:lastModifiedBy>
  <dcterms:modified xsi:type="dcterms:W3CDTF">2011-10-09T05:40:56Z</dcterms:modified>
  <cp:revision>19</cp:revision>
  <dc:subject/>
  <dc:title>PowerPoint Presentation</dc:title>
</cp:coreProperties>
</file>