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DCD-117F-443F-BCFC-2C997880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0F5-C526-47E0-8DFB-B75CF946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533-DBA2-444F-8C4F-3ACC9812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E72-78C6-465A-B650-5E88B486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B276-31B9-4746-9AA0-1BE71AA6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A2AD-48A9-4787-A23B-536A80C3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16AE-25CE-4E71-8C86-03F47541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4BC3-6DDC-4933-935F-9E8DB373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0322-66B8-42EC-A220-DE60128F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A6AC-7A51-49D8-AEFE-82951D8D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A0AF-7ACE-4CFA-9B0A-4009B1CA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0BC-6BE2-4275-BFCC-1B9BA25F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6390-F17A-44CC-BE5E-C044353E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A21A-B1FD-4239-87C4-6ACBF301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E45F-FE9F-48FE-A7C9-0FFD9BAF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956C-5960-4610-BCBE-4D5404C9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694A-E468-42F8-8FD3-76B5A5BA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974-CBAF-40CE-9AC4-6751AA1C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5B9-31CF-4C14-9432-EFBC4174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A66-F566-40C7-9EC8-CCFB58C7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31B-CA79-493E-85AE-C5C3259A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BAE-B45F-4F0A-A974-B4E1A0C2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5C9-E528-4C3B-A49E-94A05D45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1C3-078E-4468-B99A-FF47AD1B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F86A1B-4A94-4DF6-BC3A-A49BB4211B8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A7F02F-36CE-405B-B53E-A7E5E8BD857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4038480" cy="4103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15000" cy="41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удейство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обно гимнастике и прыжкам в воду судьи оценивают различные стороны выступления по 10-бальной системе. Дискретность оценки - 0,1 балла. Две группы судей, по 5 человек в каждой располагаются вокруг бассейна. Одна группа оценивает технику исполнения, другая - артисциз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3880" y="1805040"/>
            <a:ext cx="60962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ПРОИЗВОЛЬНАЯ ПРОГРАММА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извольных упражнений и команды и дуэты могут сами подбирать упражнения и музыку. Они должны не только создать единую композицию, но и включить в нее сложные элементы. При выполнении произвольной программы спортсменки тоже должны использовать всю площадь бассейна, изменять в процессе режим и темп, включать новые элементы, неожиданные рисунки движений, их изменение и движения над водой. Произвольная программа продолжается в течение 4 минут для дуэтов и 5 минут для команд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3683160" cy="4105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48320" y="2060640"/>
            <a:ext cx="403848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Первая команд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команда пловцов была создана в 1882 в Англии, а в 1930-х гг. художественное плавание получило распространение в Европе и США. В 1952 году на чемпионате Франции состоялись первые выступления спортсменок в воде под музы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195640" y="277920"/>
            <a:ext cx="4968720" cy="610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Российские спортсменк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йские спортсменки не раз отличались в соревнованиях этого вида спорта. С 1987 года по настоящее время Юниорская сборная команда по синхронному плаванию является абсолютным Чемпионом Европы и Мира, а с 1993 года сборная команда России по синхронному плаванию занимает все лидирующие позиции в Европ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достью мирового синхронного плавания считаются трехкратные олимпийские чемпионы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льга Брусникина, Наталья Ищенко,  Мария Киселева и двукратные олимпийские чемпионы Давыдова, Ермакова, Новокщенова, Азаро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Наград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лимпийских Играх в Сиднее (2000 год) и в Афинах (2004 год) сборная команда России завоевала все золотые меда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265720" y="1698480"/>
            <a:ext cx="3295800" cy="38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Российские спортсменк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Что представляет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хронное плавание представляет собой смесь гимнастики, акробатики и плавания. Этот вид спорта связан с выполнением в воде различных фигур под музыку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ое синхронное плавание ведет свою историю из Древней Греции и Рима, где во время праздников юноши и девушки устраивали в воде хороводы. Видом спорта синхронное плавание стало лишь в конце 19 века, и изначально называлось «художественное плавание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Автор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зонова Дарь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чен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лья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цей № 7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 «А»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64360" cy="455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тот вид плавания заключается в совершенном по форме осуществлении плавательных движений и безупречном выполнении фигур большей или меньшей сложности. Так же как фигуристка на льду, спортсменка в синхронном плавании стремится к эстетическому выполнению труднейших элементов движения. Ритмичность движений должна быть синхронна с ритмом музыкального сопровождения. Каждое выступление имеет определенную тему, выражаемую музыкой и движением. В большинстве случаев исходным моментом в оформлении выступления является музыка, содержание которой определяет необходимые позы, элементы движений и жесты. Кроме того, суть синхронного плавания заключается в неподвижном изображении на воде определенных рисунков группой спортсменок. Музыка служит для большей выразительности изображаемого. Переход от одного рисунка к другому выполняется в определенных местах музыкального произведения. Спортсменки изображают на поверхности воды рисунки, сменяющиеся по принципу калейдоскопа. Переход от одного рисунка к другому спортсменки выполняют в положении на спине или под водой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121440" cy="65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оревно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ЕВНОВА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время соревнований участницы должны выполнить перед судьями две программы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ая — чисто техническая, обязательная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ая — вольное выступление (произвольная программа)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язательную программу должны входить определенные элементы, выполняемые в строгом порядке (6 фигур соло, 7 дуэтом и 8 в команде), а произвольная программа позволяет участницам демонстрировать художественные композиции, включающие технические элементы по их собственному выбору, объединенные общей хореографией. За каждую программу ставятся две оцен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ТЕХНИЧЕСКАЯ ПРОГРАММА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бования к технике исполнения в синхронном плавании очень жесткие. Спортсменки могут выполнять упражнения под произвольный музыкальный аккомпанемент, но они должны выполнить все элементы в строго установленном порядке. Требуемые к выполнению элементы определяются каждые 4 года Техническим комитетом синхронного плавания. На выполнение каждого элемента программы дуэтам дается 20 секунд, командам 50 секунд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ПОДГОТОВКА К ВЫПОЛНЕНИЮ» (исходное положение)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ыполнении всех программ участницам предоставляется 10 секунд для занятия исходного положения. Оно задает тон всему выступлению, дает понять судьям и зрителям, что стоит ожидать от выступления и создает хорошее первое впечатл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2:04:35Z</dcterms:created>
  <dc:creator>Даша</dc:creator>
  <dc:description/>
  <dc:language>en-US</dc:language>
  <cp:lastModifiedBy>XP</cp:lastModifiedBy>
  <dcterms:modified xsi:type="dcterms:W3CDTF">2011-10-09T05:40:56Z</dcterms:modified>
  <cp:revision>19</cp:revision>
  <dc:subject/>
  <dc:title>PowerPoint Presentation</dc:title>
</cp:coreProperties>
</file>