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4D34-D001-4BFB-999F-0F479361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4B8E-4504-4F99-92B4-94AF8F9B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AD1E-9170-4029-8AED-6260654B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2F3A-4092-4D9F-B236-D79974DB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64E7-4275-4187-B177-C1D5175D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D331-714C-4124-892C-960E2501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FF61-487D-4C01-AA4B-ACC45A31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A59E-DBAC-477C-8B97-C8A6A072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3FA6-B2A4-4161-9162-8999F045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C899-BF58-4705-A527-B94979A2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39A9-4C16-4E26-A02C-9D3C1597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7745-BD8B-4233-98DF-B14F6055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C170-9927-4D43-BB6C-02689C6C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2291-028C-49F6-B1A3-0FDA1709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2C06-A1CF-424F-AD04-6B0F9862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FFB7-52E8-4D98-B6E0-FACC835B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F1AC-74BC-4126-BFBB-9DA88C23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3EEB-F82F-4E14-B5DE-67F8C578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735A-8871-4E58-ADBB-2BFA1125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096E-74F5-45A3-B7AC-E1BCB657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F66-5BAB-459C-8394-90E210EF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2AB8-8C49-4E52-9AAE-075E427F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42C4-848E-4FBE-BCD2-C0873686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5A48-BD0A-4D0E-A379-806EE267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4" name="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6" name="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35" name="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53" name="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3659F5-5C95-4227-8087-A4584EC74B1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21" name="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DEA76C6-5321-420B-96A7-64F72AF25DA6}" type="slidenum">
              <a:rPr b="0" lang="ru-RU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инхронное Плавание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773360"/>
            <a:ext cx="4038480" cy="4103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403848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инхронное Плавание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715000" cy="417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удейство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обно гимнастике и прыжкам в воду судьи оценивают различные стороны выступления по 10-бальной системе. Дискретность оценки - 0,1 балла. Две группы судей, по 5 человек в каждой располагаются вокруг бассейна. Одна группа оценивает технику исполнения, другая - артисцизм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инхронное Плавание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523880" y="1805040"/>
            <a:ext cx="60962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ПРОИЗВОЛЬНАЯ ПРОГРАММА»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7080" indent="-307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оизвольных упражнений и команды и дуэты могут сами подбирать упражнения и музыку. Они должны не только создать единую композицию, но и включить в нее сложные элементы. При выполнении произвольной программы спортсменки тоже должны использовать всю площадь бассейна, изменять в процессе режим и темп, включать новые элементы, неожиданные рисунки движений, их изменение и движения над водой. Произвольная программа продолжается в течение 4 минут для дуэтов и 5 минут для команд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инхронное Плавание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989000"/>
            <a:ext cx="3683160" cy="4105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648320" y="2060640"/>
            <a:ext cx="403848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Первая команд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ая команда пловцов была создана в 1882 в Англии, а в 1930-х гг. художественное плавание получило распространение в Европе и США. В 1952 году на чемпионате Франции состоялись первые выступления спортсменок в воде под музык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195640" y="277920"/>
            <a:ext cx="4968720" cy="610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Российские спортсменки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ссийские спортсменки не раз отличались в соревнованиях этого вида спорта. С 1987 года по настоящее время Юниорская сборная команда по синхронному плаванию является абсолютным Чемпионом Европы и Мира, а с 1993 года сборная команда России по синхронному плаванию занимает все лидирующие позиции в Европ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рдостью мирового синхронного плавания считаются трехкратные олимпийские чемпионы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льга Брусникина, Наталья Ищенко,  Мария Киселева и двукратные олимпийские чемпионы Давыдова, Ермакова, Новокщенова, Азаров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Награды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Олимпийских Играх в Сиднее (2000 год) и в Афинах (2004 год) сборная команда России завоевала все золотые меда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265720" y="1698480"/>
            <a:ext cx="3295800" cy="387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Российские спортсменки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26436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Что представляет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хронное плавание представляет собой смесь гимнастики, акробатики и плавания. Этот вид спорта связан с выполнением в воде различных фигур под музыку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ое синхронное плавание ведет свою историю из Древней Греции и Рима, где во время праздников юноши и девушки устраивали в воде хороводы. Видом спорта синхронное плавание стало лишь в конце 19 века, и изначально называлось «художественное плавание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Авторы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азонова Дарья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дченк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лья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ицей № 7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 «А» 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4038840" cy="41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инхронное Плавание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264360" cy="455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Этот вид плавания заключается в совершенном по форме осуществлении плавательных движений и безупречном выполнении фигур большей или меньшей сложности. Так же как фигуристка на льду, спортсменка в синхронном плавании стремится к эстетическому выполнению труднейших элементов движения. Ритмичность движений должна быть синхронна с ритмом музыкального сопровождения. Каждое выступление имеет определенную тему, выражаемую музыкой и движением. В большинстве случаев исходным моментом в оформлении выступления является музыка, содержание которой определяет необходимые позы, элементы движений и жесты. Кроме того, суть синхронного плавания заключается в неподвижном изображении на воде определенных рисунков группой спортсменок. Музыка служит для большей выразительности изображаемого. Переход от одного рисунка к другому выполняется в определенных местах музыкального произведения. Спортсменки изображают на поверхности воды рисунки, сменяющиеся по принципу калейдоскопа. Переход от одного рисунка к другому спортсменки выполняют в положении на спине или под водой.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6121440" cy="65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оревнование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РЕВНОВАНИ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 время соревнований участницы должны выполнить перед судьями две программы: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ая — чисто техническая, обязательная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орая — вольное выступление (произвольная программа)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бязательную программу должны входить определенные элементы, выполняемые в строгом порядке (6 фигур соло, 7 дуэтом и 8 в команде), а произвольная программа позволяет участницам демонстрировать художественные композиции, включающие технические элементы по их собственному выбору, объединенные общей хореографией. За каждую программу ставятся две оценк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инхронное Плавание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ТЕХНИЧЕСКАЯ ПРОГРАММА»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ебования к технике исполнения в синхронном плавании очень жесткие. Спортсменки могут выполнять упражнения под произвольный музыкальный аккомпанемент, но они должны выполнить все элементы в строго установленном порядке. Требуемые к выполнению элементы определяются каждые 4 года Техническим комитетом синхронного плавания. На выполнение каждого элемента программы дуэтам дается 20 секунд, командам 50 секунд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ПОДГОТОВКА К ВЫПОЛНЕНИЮ» (исходное положение) 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выполнении всех программ участницам предоставляется 10 секунд для занятия исходного положения. Оно задает тон всему выступлению, дает понять судьям и зрителям, что стоит ожидать от выступления и создает хорошее первое впечатле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2:04:35Z</dcterms:created>
  <dc:creator>Даша</dc:creator>
  <dc:description/>
  <dc:language>en-US</dc:language>
  <cp:lastModifiedBy>XP</cp:lastModifiedBy>
  <dcterms:modified xsi:type="dcterms:W3CDTF">2011-10-09T05:40:56Z</dcterms:modified>
  <cp:revision>19</cp:revision>
  <dc:subject/>
  <dc:title>PowerPoint Presentation</dc:title>
</cp:coreProperties>
</file>