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8E6-5FC0-4CAD-A43E-D7A487F8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A3C-9B40-4CED-A6AB-1B100B3F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63C-CB4B-4409-900C-8DA236F9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7D7D-23B6-4E99-9DE9-9288A488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D230-26C6-48F3-846A-3048599D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5A06-71AF-4683-A0E0-A0A82075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5520-5D8E-426E-8AF6-389521B8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4DA2-79CD-4BC4-8852-4698FC69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BD19-8401-4034-BDA3-AC412BEC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E9FF-B550-423A-A298-BDC8FA08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42B5-8788-424F-819F-32D94584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524-6918-4F90-A2D3-F1F2D1B1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565A-CEB4-4119-A3DB-E37E0985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B7CD-CA3B-40A2-BE8D-274329BB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4CE8-34AE-406B-85EA-B98842F4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5D4F-8997-4EF0-A1A7-B0EBD290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8D7F-01EB-45E8-9691-4D255171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E5D98-2C44-4560-A291-E3E8620E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6D5F6-1A74-425C-BAFD-C157A3F3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EC7BC-1701-4EDE-924B-85D72CBB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B9DDB-B4B6-464A-8D8C-521B29B5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04D25-1EEE-43B3-9907-438A67B4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DAE-0F05-4453-B2DF-A736DAB8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C7218-2A20-49F3-90ED-7086C8A4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9011E-C72E-4F31-96A6-0506D7CB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FBC39-E239-42C0-9677-C7738673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C8CBE-1D8E-43B8-8F9C-8C2C3C63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B7C2A-6D11-4F11-9C64-3CFA562E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2DE63-4FC5-4F93-9CCC-5AF16665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6890B-16A1-484B-AB15-C902B179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9149F-3ED9-44BC-86C2-3D3EE4EB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7086F-2D46-4EE9-88D7-F1A14D8B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3FD8B-AAFC-4AEE-B974-195FD924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C33-5A36-4AD4-9AEC-780FC551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684EA-4071-4509-949A-A66A9414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B19A7-FBA7-4150-84FC-3B1BC933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A4F36-BC87-423E-9467-7DA79069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6E4FD-FD94-4D1E-8DD9-9CC4FFDE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E68E4-ABD9-4F24-A4A9-8E7ADA10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E8E2E-2199-48FD-A4F7-63BD922C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DD29D-8B18-4D19-ACFD-174242DB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57A70-35B0-4A74-B90B-718081B8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8D260-8287-4638-88EF-10558C44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165F42-9B86-407E-BEA2-F61CB96B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0A28-55B5-4C4B-A0EF-722087EE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654FC0-D4D7-4A61-AB7B-2A1B70A8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463548-56C6-401C-9D47-637B290C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AC7606-3C5A-480E-9729-75AD210C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FACDE0-0BE6-4F9F-922A-D60C2D87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BB161-0F25-4ECF-A868-F693E3E3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2586A3-4FED-4D60-B8BE-E392D7BD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3E4C36-2E60-4EBE-8416-9AC582C8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45812C-EAC9-4306-8288-9C500A64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657543-FA5D-45B3-9314-096A9F78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0C8830-3320-4BD0-8C47-67116EE7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FBD-AA25-4690-84D8-97EA38D6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03860E-5AF3-4EEA-8306-C9F54C81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31CB9-C6E0-4037-A39A-75CF9AFF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40489-4B75-4EAE-971F-14F57BE3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3BD5E9-3088-40EF-B534-6AE3895C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61346C-B8B1-4B55-9027-BCACD116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6175CF-C92E-4EBB-8E5E-B852F289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952487-6A20-45A2-B9E4-0C030A96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5305C9-89BC-4DC1-A0E1-6D8BA3F1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BECE60-75CA-4816-8347-91BFB202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07754-C447-4B37-8B72-B6F756D1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BCE0-0BDA-435C-850B-E5F18B67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C42699-6A72-4F60-8EE9-C707BF13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E184A7-BE8C-4080-BB75-5CAA2EE2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C91982-C07B-48A0-8684-5670291C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1E146D-670E-4964-A7F5-F13172A7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4F7D0C-82FC-46FB-90E3-9EAF2443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C96CC7-CA32-4E7B-A2D5-812D4728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F0254F-4FF2-4A21-A771-E6433F6C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2B52D4-9862-4736-9AB8-3507D476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0272EE-ED3F-4649-A26A-E5053EB4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DE1221-6400-4B21-BA52-5DEACB7E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693-209B-481F-A721-97C6032B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F8CC82-3BDA-4ECE-9F99-AB8AD02C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43D637-03AE-42BE-9DC0-CAF214AB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2CED78-CC52-4D3E-B104-7DD83A93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2627FB-F10F-46EB-BEE1-6CC6439B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984592-D4D0-4FD3-B891-F1897EC7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14A-A1BA-4D6F-A27E-0042E96D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8205-F245-471E-98D8-2A66385DE6F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9935-11EF-4675-A739-00BA8CC5E0B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E700-518D-4D10-A10B-E6B4EEF5563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1B5A-4900-40B1-B3DA-94229CFD1AF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BB18-3EAE-43A8-92E9-D3709DD3915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E12F-C200-4619-9B5C-2A75BAB5FD2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FBA8-15ED-4D58-8ABB-0C4FA2D2CE2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</a:t>
            </a:r>
            <a:r>
              <a:rPr b="0" lang="ru-RU" sz="3000" spc="-1" strike="noStrike">
                <a:solidFill>
                  <a:srgbClr val="a91b9f"/>
                </a:solidFill>
                <a:latin typeface="Century Schoolbook"/>
              </a:rPr>
              <a:t>С ДНЁМ РОЖДЕНИЯ!!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2" descr="D:\ЛАРИСА НЕ ТРОГАТЬ\Рабочий стол\Юлька\Картинки\ef9e0f11a1bd.jpg"/>
          <p:cNvPicPr/>
          <p:nvPr/>
        </p:nvPicPr>
        <p:blipFill>
          <a:blip r:embed="rId1"/>
          <a:stretch/>
        </p:blipFill>
        <p:spPr>
          <a:xfrm>
            <a:off x="539640" y="1700280"/>
            <a:ext cx="7174080" cy="48466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     </a:t>
            </a: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 ДНЁМ РОЖДЕНЬЯ!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857160" y="1722600"/>
            <a:ext cx="7315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6172200" cy="1008000"/>
          </a:xfrm>
          <a:prstGeom prst="rect">
            <a:avLst/>
          </a:prstGeom>
          <a:noFill/>
          <a:ln w="9360">
            <a:solidFill>
              <a:srgbClr val="f19e91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687"/>
                </a:solidFill>
                <a:latin typeface="Century Schoolbook"/>
              </a:rPr>
              <a:t>               </a:t>
            </a:r>
            <a:r>
              <a:rPr b="1" lang="ru-RU" sz="2400" spc="-1" strike="noStrike">
                <a:solidFill>
                  <a:srgbClr val="eb6e5a"/>
                </a:solidFill>
                <a:latin typeface="Century Schoolbook"/>
              </a:rPr>
              <a:t>ДОРОГОЙ И ЛЮБИМОЙ!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763280" y="1557360"/>
            <a:ext cx="6172200" cy="1371600"/>
          </a:xfrm>
          <a:prstGeom prst="rect">
            <a:avLst/>
          </a:prstGeom>
          <a:solidFill>
            <a:srgbClr val="f9e181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181"/>
                </a:solidFill>
                <a:latin typeface="Century Schoolbook"/>
              </a:rPr>
              <a:t>                   </a:t>
            </a:r>
            <a:r>
              <a:rPr b="1" lang="ru-RU" sz="1800" spc="-1" strike="noStrike">
                <a:solidFill>
                  <a:srgbClr val="feb687"/>
                </a:solidFill>
                <a:latin typeface="Century Schoolbook"/>
              </a:rPr>
              <a:t>Пусть солнце светит в этот день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b687"/>
                </a:solidFill>
                <a:latin typeface="Century Schoolbook"/>
              </a:rPr>
              <a:t>                   </a:t>
            </a:r>
            <a:r>
              <a:rPr b="1" lang="ru-RU" sz="1800" spc="-1" strike="noStrike">
                <a:solidFill>
                  <a:srgbClr val="feb687"/>
                </a:solidFill>
                <a:latin typeface="Century Schoolbook"/>
              </a:rPr>
              <a:t>И всё хорошее с улыбкой повторится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b687"/>
                </a:solidFill>
                <a:latin typeface="Century Schoolbook"/>
              </a:rPr>
              <a:t>                   </a:t>
            </a:r>
            <a:r>
              <a:rPr b="1" lang="ru-RU" sz="1800" spc="-1" strike="noStrike">
                <a:solidFill>
                  <a:srgbClr val="feb687"/>
                </a:solidFill>
                <a:latin typeface="Century Schoolbook"/>
              </a:rPr>
              <a:t>Пусть в твои двери никогд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b687"/>
                </a:solidFill>
                <a:latin typeface="Century Schoolbook"/>
              </a:rPr>
              <a:t>                   </a:t>
            </a:r>
            <a:r>
              <a:rPr b="1" lang="ru-RU" sz="1800" spc="-1" strike="noStrike">
                <a:solidFill>
                  <a:srgbClr val="feb687"/>
                </a:solidFill>
                <a:latin typeface="Century Schoolbook"/>
              </a:rPr>
              <a:t>Отчаянье с бедою не стучится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Рисунок 3" descr="DSC00772.jpg"/>
          <p:cNvPicPr/>
          <p:nvPr/>
        </p:nvPicPr>
        <p:blipFill>
          <a:blip r:embed="rId1"/>
          <a:stretch/>
        </p:blipFill>
        <p:spPr>
          <a:xfrm>
            <a:off x="2484360" y="3716280"/>
            <a:ext cx="2303640" cy="307332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4"/>
          <p:cNvSpPr/>
          <p:nvPr/>
        </p:nvSpPr>
        <p:spPr>
          <a:xfrm>
            <a:off x="2728080" y="328464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Century Schoolbook"/>
              </a:rPr>
              <a:t>Моя мамоч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Рисунок 5" descr="DSCN2420.JPG"/>
          <p:cNvPicPr/>
          <p:nvPr/>
        </p:nvPicPr>
        <p:blipFill>
          <a:blip r:embed="rId2"/>
          <a:stretch/>
        </p:blipFill>
        <p:spPr>
          <a:xfrm>
            <a:off x="5219640" y="3716280"/>
            <a:ext cx="2284560" cy="304632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6"/>
          <p:cNvSpPr/>
          <p:nvPr/>
        </p:nvSpPr>
        <p:spPr>
          <a:xfrm>
            <a:off x="5435640" y="328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оя мамоч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        </a:t>
            </a:r>
            <a:r>
              <a:rPr b="0" lang="ru-RU" sz="3000" spc="-1" strike="noStrike">
                <a:solidFill>
                  <a:srgbClr val="a91b9f"/>
                </a:solidFill>
                <a:latin typeface="Century Schoolbook"/>
              </a:rPr>
              <a:t>    </a:t>
            </a:r>
            <a:r>
              <a:rPr b="0" lang="ru-RU" sz="3000" spc="-1" strike="noStrike">
                <a:solidFill>
                  <a:srgbClr val="a91b9f"/>
                </a:solidFill>
                <a:latin typeface="Century Schoolbook"/>
              </a:rPr>
              <a:t>ЖИЗНЬ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55640" y="1341360"/>
            <a:ext cx="6840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Когда то в семье Фисенко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В 1982 году,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Родилась девочка,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Назвали её Маришка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Росла она не по дням,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А по часам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Жила хорошо,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Всё у неё было…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Прошло много лет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И вот ей уже 31 год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Вырастила 2 детей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И они её очень любит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6" descr=""/>
          <p:cNvPicPr/>
          <p:nvPr/>
        </p:nvPicPr>
        <p:blipFill>
          <a:blip r:embed="rId1"/>
          <a:stretch/>
        </p:blipFill>
        <p:spPr>
          <a:xfrm>
            <a:off x="5364000" y="4581360"/>
            <a:ext cx="2303640" cy="19497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2555640" cy="1916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8" descr=""/>
          <p:cNvPicPr/>
          <p:nvPr/>
        </p:nvPicPr>
        <p:blipFill>
          <a:blip r:embed="rId3"/>
          <a:stretch/>
        </p:blipFill>
        <p:spPr>
          <a:xfrm rot="20418600">
            <a:off x="179280" y="907560"/>
            <a:ext cx="2772000" cy="3078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4"/>
          <a:stretch/>
        </p:blipFill>
        <p:spPr>
          <a:xfrm rot="1374600">
            <a:off x="5275080" y="882360"/>
            <a:ext cx="3166920" cy="351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2d050"/>
                </a:solidFill>
                <a:latin typeface="Century Schoolbook"/>
              </a:rPr>
              <a:t>                     </a:t>
            </a:r>
            <a:r>
              <a:rPr b="0" lang="ru-RU" sz="3000" spc="-1" strike="noStrike">
                <a:solidFill>
                  <a:srgbClr val="92d050"/>
                </a:solidFill>
                <a:latin typeface="Century Schoolbook"/>
              </a:rPr>
              <a:t>ЛЮБОВЬ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456000" cy="48736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325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136000" cy="6480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        </a:t>
            </a:r>
            <a:r>
              <a:rPr b="0" lang="ru-RU" sz="3000" spc="-1" strike="noStrike">
                <a:solidFill>
                  <a:srgbClr val="00b050"/>
                </a:solidFill>
                <a:latin typeface="Century Schoolbook"/>
              </a:rPr>
              <a:t>ЕЁ РАД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Picture 2" descr="D:\ЛАРИСА НЕ ТРОГАТЬ\Рабочий стол\Юлька\Семья\Остриковы\DSCN0700.jpg"/>
          <p:cNvPicPr/>
          <p:nvPr/>
        </p:nvPicPr>
        <p:blipFill>
          <a:blip r:embed="rId1"/>
          <a:stretch/>
        </p:blipFill>
        <p:spPr>
          <a:xfrm>
            <a:off x="941400" y="1600200"/>
            <a:ext cx="64990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Century Schoolbook"/>
              </a:rPr>
              <a:t>    </a:t>
            </a:r>
            <a:r>
              <a:rPr b="0" lang="ru-RU" sz="3000" spc="-1" strike="noStrike">
                <a:solidFill>
                  <a:srgbClr val="ffc000"/>
                </a:solidFill>
                <a:latin typeface="Century Schoolbook"/>
              </a:rPr>
              <a:t>ПУСТЬ ВСЕ ДРУЗЬЯ ТЕБЯ ПОЗДРАВЛЯЮТ!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143000" y="1727280"/>
            <a:ext cx="60958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ЭТУ ОТКРЫТКУ ТЕБЕ ДАРИТ ЮЛЯШКА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72010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11640" y="2636640"/>
            <a:ext cx="4176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МАМОЧКА , ТЫ ЛУЧШЕ ВСЕХ!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36003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4:43:53Z</dcterms:created>
  <dc:creator>Admin</dc:creator>
  <dc:description/>
  <dc:language>en-US</dc:language>
  <cp:lastModifiedBy>Admin</cp:lastModifiedBy>
  <dcterms:modified xsi:type="dcterms:W3CDTF">2013-03-25T07:55:42Z</dcterms:modified>
  <cp:revision>11</cp:revision>
  <dc:subject/>
  <dc:title>               Дорогой и любимой!</dc:title>
</cp:coreProperties>
</file>