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12F-155C-4ED1-B177-AB4F7265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622-E778-45D2-93D4-D6D2EF8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C01-5ABD-4B52-A744-7D919433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144-7C3E-4EE7-9BCF-EBCF4E3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A5EC-2B5A-4BCE-887C-1DECC2C1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4B88-3384-4737-9713-88F2B59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F5AE-E4FE-4FE0-8703-03E29305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FB7D-C5EA-4693-85A1-EB90943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F95D-423B-4078-B4B8-20FB111D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613-7A59-4C65-83E6-18D23CFE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5C63-9729-4F50-9C43-4DFC9F5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686-4E88-461F-9F5D-1921D941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A6CF-9514-4100-AB7D-A97B3C6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EDA0-BCAF-4727-AAE7-A87A77E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CD0-FDFB-43F2-953D-C74AD21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DDD-5EC5-4324-9F3B-98A33BAA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9700-44B4-46B5-84E2-E034B6CB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C6335-B9B3-40BB-ABA0-7FB46A78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2A5BF-33EB-4BB8-BAC7-A44DF6C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A97C7-0D27-47C3-B5A8-B3E4F5E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C9953-775D-4F63-991D-1C22BEB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A0514-2601-41D9-B385-56AB812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776-29BE-462F-BCA6-A472676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AECBC-DAAE-4670-8F98-1553B00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6AEF0-4577-41EE-AD0B-1FB3A5A5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7F946-3D3E-4FD8-9341-642828A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E7DA3-DE90-4EED-986F-F8ACDE3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E12A5-F140-45BE-9F57-74FF88A5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85BC4-5E35-4629-9EC9-8387027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C8C8D-4B66-4860-9108-A3D56C0F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9DFA-38F2-45F4-867E-DFF86EE2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BF56-B4DA-46DE-BCE9-3A5FFA30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0285-B008-405F-8C1C-655EB91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576-AA7A-402F-8BD8-BCB0461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5B85-1458-40FF-AE11-12BF603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B606-690D-4CCE-A036-551AF0E3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6610-1E86-4673-9CB3-3876E312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B220-F251-49A8-9C90-88074668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DC87-F154-47DA-B1DB-9028215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2F39-75B3-464E-B309-EF177CB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6A2D-53B5-446B-87EC-5035E64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488D-EE13-41FF-8C3B-3B6A8F3E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8E14-ED74-46F4-B4F8-DFD4DCF9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8A0EC-E711-4759-B483-F38B5F2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C39-6962-4AE7-9D66-BAF463C8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F5373-7D67-4C85-9560-C1AD5AF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B84A6-64AB-49E9-8EF3-E8FFC69E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B0989-1EDE-4DC4-A43F-3BF3F48E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ED7E1-1391-4125-90D9-89770C9F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4A375-E420-436A-8393-2700983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DDF2A-B173-4A27-8E09-E196E7F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F022C-F2E3-4971-B86F-90A324C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1A3A2-E4B0-4E2C-AF0B-EB0BB71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781F6-5020-4BE1-866F-4BF183C7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E0E6E-B651-4DF2-ABE5-D46AD244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588-5698-49E7-AF15-FE2C56A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D4F90-DB44-4EFF-8AF8-C3B6616A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A195B-4262-44EB-BFC4-F9365E25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20064-8894-467A-BD9B-36B0413A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02D02-1C2B-4AAD-BACD-51CAAB9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F5F28-119E-4B19-A517-78B068C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79AB1-5FAB-4F7D-AE04-55AA2F8D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D809E-317B-4F0D-A33F-3B5CACC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9D9EF-4455-403E-85FE-9704387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2786D-5107-472C-96C2-FE76E85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396B7-F345-466F-B9FB-72A695B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8FA-A76C-4D14-8032-2E54F31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46121-254B-4DBC-A1AA-E006A475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8960B-3F06-4EF7-9FE0-15F193C3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FFD6A-9824-44DA-8D03-8EEABC14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A91E3-AF1B-47DF-8D0F-34952D05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944CF-3B82-46D8-B649-FF80B526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B8085-4EC9-4FA1-9351-CEEC9AC2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03152-B583-4245-81C4-2657D85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8A227-C2A3-41BA-ADEC-3D657289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17526-197D-47B5-868E-8E82386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A7F8A-9798-410B-96DF-B06DE75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E6B-B21F-48B6-A72A-D090985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2BA2F-26FD-4393-AEAB-8F1F7A0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14796-CDA6-496D-AFED-D6A4B1B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EBB1D-E28E-4C69-922B-1BB9004C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0D87D-A17B-4D19-ACCE-F235BB1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A1EE5-DB85-40FD-BDD5-F13C9826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9C6-5CF3-4235-8F49-9C0001D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079-EA2A-4CB2-BE49-2B2DC90F1D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C062-846D-41C6-AD82-63399E3DA6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735D-788B-4B1B-A7E3-D812075B0C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2AC-AED7-413B-8DD9-C3F56E11E1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DCA-37EA-4BC8-A160-9A3E0AB485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EA0-D5D7-4066-B48A-49E3BE1CF4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B42-E674-457D-A9D4-C05FD76D6C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С ДНЁМ РОЖДЕНИЯ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D:\ЛАРИСА НЕ ТРОГАТЬ\Рабочий стол\Юлька\Картинки\ef9e0f11a1bd.jpg"/>
          <p:cNvPicPr/>
          <p:nvPr/>
        </p:nvPicPr>
        <p:blipFill>
          <a:blip r:embed="rId1"/>
          <a:stretch/>
        </p:blipFill>
        <p:spPr>
          <a:xfrm>
            <a:off x="539640" y="1700280"/>
            <a:ext cx="7174080" cy="4846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 ДНЁМ РОЖДЕНЬЯ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857160" y="1722600"/>
            <a:ext cx="7315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172200" cy="1008000"/>
          </a:xfrm>
          <a:prstGeom prst="rect">
            <a:avLst/>
          </a:prstGeom>
          <a:noFill/>
          <a:ln w="9360">
            <a:solidFill>
              <a:srgbClr val="f19e91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687"/>
                </a:solidFill>
                <a:latin typeface="Century Schoolbook"/>
              </a:rPr>
              <a:t>             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ДОРОГОЙ И ЛЮБИМОЙ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63280" y="1557360"/>
            <a:ext cx="6172200" cy="1371600"/>
          </a:xfrm>
          <a:prstGeom prst="rect">
            <a:avLst/>
          </a:prstGeom>
          <a:solidFill>
            <a:srgbClr val="f9e18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181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солнце светит в этот день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И всё хорошее с улыбкой повтор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в твои двери никог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Отчаянье с бедою не стуч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Рисунок 3" descr="DSC00772.jpg"/>
          <p:cNvPicPr/>
          <p:nvPr/>
        </p:nvPicPr>
        <p:blipFill>
          <a:blip r:embed="rId1"/>
          <a:stretch/>
        </p:blipFill>
        <p:spPr>
          <a:xfrm>
            <a:off x="2484360" y="3716280"/>
            <a:ext cx="2303640" cy="30733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728080" y="3284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5" descr="DSCN2420.JPG"/>
          <p:cNvPicPr/>
          <p:nvPr/>
        </p:nvPicPr>
        <p:blipFill>
          <a:blip r:embed="rId2"/>
          <a:stretch/>
        </p:blipFill>
        <p:spPr>
          <a:xfrm>
            <a:off x="5219640" y="3716280"/>
            <a:ext cx="2284560" cy="30463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6"/>
          <p:cNvSpPr/>
          <p:nvPr/>
        </p:nvSpPr>
        <p:spPr>
          <a:xfrm>
            <a:off x="543564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ЖИЗН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5640" y="1341360"/>
            <a:ext cx="6840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Когда то в семье Фисенко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 1982 году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дилась девочка,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Назвали её Мариш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сла она не по дням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А по часам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Жила хорошо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сё у неё было…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Прошло много ле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вот ей уже 31 год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ырастила 2 детей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они её очень любит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5364000" y="4581360"/>
            <a:ext cx="2303640" cy="1949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555640" cy="1916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"/>
          <p:cNvPicPr/>
          <p:nvPr/>
        </p:nvPicPr>
        <p:blipFill>
          <a:blip r:embed="rId3"/>
          <a:stretch/>
        </p:blipFill>
        <p:spPr>
          <a:xfrm rot="20418600">
            <a:off x="179280" y="907560"/>
            <a:ext cx="2772000" cy="3078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4"/>
          <a:stretch/>
        </p:blipFill>
        <p:spPr>
          <a:xfrm rot="1374600">
            <a:off x="5275080" y="882360"/>
            <a:ext cx="3166920" cy="35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                     </a:t>
            </a: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ЛЮБОВ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56000" cy="487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25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ЕЁ РАД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D:\ЛАРИСА НЕ ТРОГАТЬ\Рабочий стол\Юлька\Семья\Остриковы\DSCN0700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ПУСТЬ ВСЕ ДРУЗЬЯ ТЕБЯ ПОЗДРАВЛЯЮТ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143000" y="1727280"/>
            <a:ext cx="60958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ЭТУ ОТКРЫТКУ ТЕБЕ ДАРИТ ЮЛЯШК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201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11640" y="2636640"/>
            <a:ext cx="4176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ОЧКА , ТЫ ЛУЧШЕ ВСЕХ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600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43:53Z</dcterms:created>
  <dc:creator>Admin</dc:creator>
  <dc:description/>
  <dc:language>en-US</dc:language>
  <cp:lastModifiedBy>Admin</cp:lastModifiedBy>
  <dcterms:modified xsi:type="dcterms:W3CDTF">2013-03-25T07:55:42Z</dcterms:modified>
  <cp:revision>11</cp:revision>
  <dc:subject/>
  <dc:title>               Дорогой и любимой!</dc:title>
</cp:coreProperties>
</file>