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CEA4-0BA7-4DAC-BCDB-6AC2F0AA3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A8BA-A8C0-44E5-BACA-2FA738EFC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CCA9-911A-44A4-B5CA-F622D4655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39F4-584A-4205-BF1C-71BEC0500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E4984-3F67-40A7-B080-CBB1C412E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3F1EC-AF5A-412E-8786-C64615BEB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DE310-6646-499D-8F5A-5B745D88F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EED84-E817-4F55-947E-01FC9F7A7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B946A-993C-442F-A388-272CF6DC1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68A2D-8898-42E4-B0C7-80FF7031D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90794-09E3-43FC-89ED-8F03D90A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0A94-8AB9-4187-8F12-9AB9C4805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BA4D3-D441-444B-949D-1A6D754E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FFBBD-1307-4300-92DF-D568D7E6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88318-7EEB-4127-A2DD-618809AE4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56E05-1ED6-478D-BD7B-4F83C8B4E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0098A-60AF-4D6D-B97A-F37E32344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62D58C-49BD-47D1-AD77-6EDA2BB4B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8D71F2-41A4-4FCA-87CD-E86F28830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E43900-8FA4-4A24-A8F4-863721EC0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30F454-BE80-4C66-8F87-7663E8C6D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6A9668-F53D-4D4E-9977-F15348566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D865-4D66-485F-8DA8-CD6ECDD36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44A06E-103F-4DA8-B571-C361A9F62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A0F0BA-5CA8-41E6-A3A9-659509BF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D23712-E129-4DD3-A19E-D5E37F85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259C98-DA62-4C46-9567-841B0FE8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C34801-39F3-4DD0-A205-A4ED34CB9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15A6FB-1693-4D7C-84BA-62D527D1D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2E0442-D261-4D05-BD67-683F409CD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A31D3-8FDD-4F77-8059-5C40E3913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DA643-AA01-40F0-B6B1-D3DB34CC1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88164-2A3E-436F-B0B0-3C69F1506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F0DF-C56F-4A77-B970-0BC543B8D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803C8-D8EB-45DD-BFC8-1620A6646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C59F2-1706-4581-9B5C-A87C16F27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E7BD5-E2FC-448C-AC32-45907982D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D7BFF-E096-4332-B4AB-D3D67C69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5B497-02C6-4915-AF17-FBC7128D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1E877-6A0F-466E-8DC9-2B74B358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A622D-75A8-4B83-B056-2F94955B3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5B593-C6C8-48ED-A744-18FFD3CAB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156F9-1A51-435F-9F7A-5C3774BBD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8DE0FF-B09B-47FD-B269-6934E1BB5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B782-4787-4CD0-9063-068290D7C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512BC4-38BF-4B46-B193-C79286D6D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56F0FF-CFDE-4784-93F4-5BFA7376B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DB1789-5576-4CA3-B19B-CCFFB53C3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09D3EA-E94B-4BC4-B699-D78F95865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92DEEB-2495-48E6-B355-519E5A4C3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FB9FEB-A66E-4052-82FD-BAC40304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4F2655-05CB-4CAE-8403-CC8965A2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50A682-AADB-4546-9E61-30C8FFD4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1A187A-BD90-4A03-BF59-E5CCAD7BB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1D9A81-5325-411B-AD93-9B1705864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9DF2-80B5-4A4F-A49E-AFC2CFF21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8D27EC-476F-4A73-80CD-2B6006EF5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EBABF6-9BD2-4D50-A68E-35AF30A67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EAE133-C770-49BD-9CE2-74A1F6592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1D2F4E-4E83-4FED-B807-F1F5715DF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16EF8E-8859-40F2-A86D-F32172101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B632B2-D2C0-4D3E-8D70-7CC476528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3CBD8D-4CB6-496F-9D9F-A540D06E9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6ACA43-F332-47A3-8AF2-3FE346BB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24140B-81EB-477C-8F89-C4BEB311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F1A995-6FDE-421F-9CAF-28545861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C856-6099-4C40-A465-A6A09EB5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A49228-FB21-4A64-9481-6FCF0C23E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C4EFEA-BA9C-4124-95A5-4D3F28182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454B5D-67E7-40A2-B7F2-DB5946C9D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FDB389-FCC1-4900-9967-351BFA011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1DE791-0A3E-4895-B47B-9FA456B3C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892590-03CC-41B6-A287-070648B48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99CEE6-D8AD-43A0-A776-88F9D9F1C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828697-E468-4BE8-81B1-1395EAADA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B857DF-99A2-4B16-AE94-B1E39D5C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E79C88-F7FE-4D14-B992-6EFC3CC7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3766-C19B-43E8-98FC-331C7DCC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C2A709-501E-4F31-92C7-1503ABA8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A908B7-48DB-4CCD-B434-BE1CE2ED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0C3D42-886B-4D4F-A039-A288A9A63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7C087E-68CE-482B-BCE5-10F04ACC7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82E22D-1B87-48A7-A832-434FE9C0D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8CB7-3A1F-4708-B0BA-03A76BBF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49DC0-EDBD-4FDD-8C1B-C0BFEB9ADC7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C07BD-4FEB-4B2B-BCFF-2DF06AE14EB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B3F4C-A820-4737-9F40-0EB23794906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39388-2941-4B10-827B-C6649E51401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5E88-FE66-4DBF-A960-9947A1F1056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B1BC7-D447-4639-8E2E-3AB3CA47EF6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555AA-74D3-4F7C-B225-2A26E9B0BFE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            </a:t>
            </a:r>
            <a:r>
              <a:rPr b="0" lang="ru-RU" sz="3000" spc="-1" strike="noStrike">
                <a:solidFill>
                  <a:srgbClr val="a91b9f"/>
                </a:solidFill>
                <a:latin typeface="Century Schoolbook"/>
              </a:rPr>
              <a:t>С ДНЁМ РОЖДЕНИЯ!!!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2" name="Picture 2" descr="D:\ЛАРИСА НЕ ТРОГАТЬ\Рабочий стол\Юлька\Картинки\ef9e0f11a1bd.jpg"/>
          <p:cNvPicPr/>
          <p:nvPr/>
        </p:nvPicPr>
        <p:blipFill>
          <a:blip r:embed="rId1"/>
          <a:stretch/>
        </p:blipFill>
        <p:spPr>
          <a:xfrm>
            <a:off x="539640" y="1700280"/>
            <a:ext cx="7174080" cy="484668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                  </a:t>
            </a:r>
            <a:r>
              <a:rPr b="0" lang="ru-RU" sz="3000" spc="-1" strike="noStrike">
                <a:solidFill>
                  <a:srgbClr val="c00000"/>
                </a:solidFill>
                <a:latin typeface="Century Schoolbook"/>
              </a:rPr>
              <a:t>С ДНЁМ РОЖДЕНЬЯ!!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9" name="Picture 2" descr=""/>
          <p:cNvPicPr/>
          <p:nvPr/>
        </p:nvPicPr>
        <p:blipFill>
          <a:blip r:embed="rId1"/>
          <a:stretch/>
        </p:blipFill>
        <p:spPr>
          <a:xfrm>
            <a:off x="857160" y="1722600"/>
            <a:ext cx="7315200" cy="46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763280" y="333360"/>
            <a:ext cx="6172200" cy="1008000"/>
          </a:xfrm>
          <a:prstGeom prst="rect">
            <a:avLst/>
          </a:prstGeom>
          <a:noFill/>
          <a:ln w="9360">
            <a:solidFill>
              <a:srgbClr val="f19e91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b687"/>
                </a:solidFill>
                <a:latin typeface="Century Schoolbook"/>
              </a:rPr>
              <a:t>               </a:t>
            </a:r>
            <a:r>
              <a:rPr b="1" lang="ru-RU" sz="2400" spc="-1" strike="noStrike">
                <a:solidFill>
                  <a:srgbClr val="eb6e5a"/>
                </a:solidFill>
                <a:latin typeface="Century Schoolbook"/>
              </a:rPr>
              <a:t>ДОРОГОЙ И ЛЮБИМОЙ!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1763280" y="1557360"/>
            <a:ext cx="6172200" cy="1371600"/>
          </a:xfrm>
          <a:prstGeom prst="rect">
            <a:avLst/>
          </a:prstGeom>
          <a:solidFill>
            <a:srgbClr val="f9e181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9e181"/>
                </a:solidFill>
                <a:latin typeface="Century Schoolbook"/>
              </a:rPr>
              <a:t>                   </a:t>
            </a:r>
            <a:r>
              <a:rPr b="1" lang="ru-RU" sz="1800" spc="-1" strike="noStrike">
                <a:solidFill>
                  <a:srgbClr val="feb687"/>
                </a:solidFill>
                <a:latin typeface="Century Schoolbook"/>
              </a:rPr>
              <a:t>Пусть солнце светит в этот день,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eb687"/>
                </a:solidFill>
                <a:latin typeface="Century Schoolbook"/>
              </a:rPr>
              <a:t>                   </a:t>
            </a:r>
            <a:r>
              <a:rPr b="1" lang="ru-RU" sz="1800" spc="-1" strike="noStrike">
                <a:solidFill>
                  <a:srgbClr val="feb687"/>
                </a:solidFill>
                <a:latin typeface="Century Schoolbook"/>
              </a:rPr>
              <a:t>И всё хорошее с улыбкой повторится!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eb687"/>
                </a:solidFill>
                <a:latin typeface="Century Schoolbook"/>
              </a:rPr>
              <a:t>                   </a:t>
            </a:r>
            <a:r>
              <a:rPr b="1" lang="ru-RU" sz="1800" spc="-1" strike="noStrike">
                <a:solidFill>
                  <a:srgbClr val="feb687"/>
                </a:solidFill>
                <a:latin typeface="Century Schoolbook"/>
              </a:rPr>
              <a:t>Пусть в твои двери никогд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eb687"/>
                </a:solidFill>
                <a:latin typeface="Century Schoolbook"/>
              </a:rPr>
              <a:t>                   </a:t>
            </a:r>
            <a:r>
              <a:rPr b="1" lang="ru-RU" sz="1800" spc="-1" strike="noStrike">
                <a:solidFill>
                  <a:srgbClr val="feb687"/>
                </a:solidFill>
                <a:latin typeface="Century Schoolbook"/>
              </a:rPr>
              <a:t>Отчаянье с бедою не стучится!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Рисунок 3" descr="DSC00772.jpg"/>
          <p:cNvPicPr/>
          <p:nvPr/>
        </p:nvPicPr>
        <p:blipFill>
          <a:blip r:embed="rId1"/>
          <a:stretch/>
        </p:blipFill>
        <p:spPr>
          <a:xfrm>
            <a:off x="2484360" y="3716280"/>
            <a:ext cx="2303640" cy="3073320"/>
          </a:xfrm>
          <a:prstGeom prst="rect">
            <a:avLst/>
          </a:prstGeom>
          <a:ln w="0">
            <a:noFill/>
          </a:ln>
        </p:spPr>
      </p:pic>
      <p:sp>
        <p:nvSpPr>
          <p:cNvPr id="356" name="Прямоугольник 4"/>
          <p:cNvSpPr/>
          <p:nvPr/>
        </p:nvSpPr>
        <p:spPr>
          <a:xfrm>
            <a:off x="2728080" y="3284640"/>
            <a:ext cx="17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f0"/>
                </a:solidFill>
                <a:latin typeface="Century Schoolbook"/>
              </a:rPr>
              <a:t>Моя мамочк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Рисунок 5" descr="DSCN2420.JPG"/>
          <p:cNvPicPr/>
          <p:nvPr/>
        </p:nvPicPr>
        <p:blipFill>
          <a:blip r:embed="rId2"/>
          <a:stretch/>
        </p:blipFill>
        <p:spPr>
          <a:xfrm>
            <a:off x="5219640" y="3716280"/>
            <a:ext cx="2284560" cy="3046320"/>
          </a:xfrm>
          <a:prstGeom prst="rect">
            <a:avLst/>
          </a:prstGeom>
          <a:ln w="0">
            <a:noFill/>
          </a:ln>
        </p:spPr>
      </p:pic>
      <p:sp>
        <p:nvSpPr>
          <p:cNvPr id="358" name="Прямоугольник 6"/>
          <p:cNvSpPr/>
          <p:nvPr/>
        </p:nvSpPr>
        <p:spPr>
          <a:xfrm>
            <a:off x="5435640" y="3284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Моя мамочк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                     </a:t>
            </a:r>
            <a:r>
              <a:rPr b="0" lang="ru-RU" sz="3000" spc="-1" strike="noStrike">
                <a:solidFill>
                  <a:srgbClr val="a91b9f"/>
                </a:solidFill>
                <a:latin typeface="Century Schoolbook"/>
              </a:rPr>
              <a:t>    </a:t>
            </a:r>
            <a:r>
              <a:rPr b="0" lang="ru-RU" sz="3000" spc="-1" strike="noStrike">
                <a:solidFill>
                  <a:srgbClr val="a91b9f"/>
                </a:solidFill>
                <a:latin typeface="Century Schoolbook"/>
              </a:rPr>
              <a:t>ЖИЗНЬ…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755640" y="1341360"/>
            <a:ext cx="684072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7030a0"/>
                </a:solidFill>
                <a:latin typeface="Century Schoolbook"/>
              </a:rPr>
              <a:t>                                                       </a:t>
            </a:r>
            <a:r>
              <a:rPr b="0" i="1" lang="ru-RU" sz="1200" spc="-1" strike="noStrike">
                <a:solidFill>
                  <a:srgbClr val="7030a0"/>
                </a:solidFill>
                <a:latin typeface="Century Schoolbook"/>
              </a:rPr>
              <a:t>Когда то в семье Фисенко 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7030a0"/>
                </a:solidFill>
                <a:latin typeface="Century Schoolbook"/>
              </a:rPr>
              <a:t>                                                       </a:t>
            </a:r>
            <a:r>
              <a:rPr b="0" i="1" lang="ru-RU" sz="1200" spc="-1" strike="noStrike">
                <a:solidFill>
                  <a:srgbClr val="7030a0"/>
                </a:solidFill>
                <a:latin typeface="Century Schoolbook"/>
              </a:rPr>
              <a:t>В 1982 году,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7030a0"/>
                </a:solidFill>
                <a:latin typeface="Century Schoolbook"/>
              </a:rPr>
              <a:t>                                                       </a:t>
            </a:r>
            <a:r>
              <a:rPr b="0" i="1" lang="ru-RU" sz="1200" spc="-1" strike="noStrike">
                <a:solidFill>
                  <a:srgbClr val="7030a0"/>
                </a:solidFill>
                <a:latin typeface="Century Schoolbook"/>
              </a:rPr>
              <a:t>Родилась девочка, 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7030a0"/>
                </a:solidFill>
                <a:latin typeface="Century Schoolbook"/>
              </a:rPr>
              <a:t>                                                       </a:t>
            </a:r>
            <a:r>
              <a:rPr b="0" i="1" lang="ru-RU" sz="1200" spc="-1" strike="noStrike">
                <a:solidFill>
                  <a:srgbClr val="7030a0"/>
                </a:solidFill>
                <a:latin typeface="Century Schoolbook"/>
              </a:rPr>
              <a:t>Назвали её Маришка.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7030a0"/>
                </a:solidFill>
                <a:latin typeface="Century Schoolbook"/>
              </a:rPr>
              <a:t>                                                       </a:t>
            </a:r>
            <a:r>
              <a:rPr b="0" i="1" lang="ru-RU" sz="1200" spc="-1" strike="noStrike">
                <a:solidFill>
                  <a:srgbClr val="7030a0"/>
                </a:solidFill>
                <a:latin typeface="Century Schoolbook"/>
              </a:rPr>
              <a:t>Росла она не по дням,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7030a0"/>
                </a:solidFill>
                <a:latin typeface="Century Schoolbook"/>
              </a:rPr>
              <a:t>                                                       </a:t>
            </a:r>
            <a:r>
              <a:rPr b="0" i="1" lang="ru-RU" sz="1200" spc="-1" strike="noStrike">
                <a:solidFill>
                  <a:srgbClr val="7030a0"/>
                </a:solidFill>
                <a:latin typeface="Century Schoolbook"/>
              </a:rPr>
              <a:t>А по часам.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7030a0"/>
                </a:solidFill>
                <a:latin typeface="Century Schoolbook"/>
              </a:rPr>
              <a:t>                                                       </a:t>
            </a:r>
            <a:r>
              <a:rPr b="0" i="1" lang="ru-RU" sz="1200" spc="-1" strike="noStrike">
                <a:solidFill>
                  <a:srgbClr val="7030a0"/>
                </a:solidFill>
                <a:latin typeface="Century Schoolbook"/>
              </a:rPr>
              <a:t>Жила хорошо,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7030a0"/>
                </a:solidFill>
                <a:latin typeface="Century Schoolbook"/>
              </a:rPr>
              <a:t>                                                       </a:t>
            </a:r>
            <a:r>
              <a:rPr b="0" i="1" lang="ru-RU" sz="1200" spc="-1" strike="noStrike">
                <a:solidFill>
                  <a:srgbClr val="7030a0"/>
                </a:solidFill>
                <a:latin typeface="Century Schoolbook"/>
              </a:rPr>
              <a:t>Всё у неё было….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7030a0"/>
                </a:solidFill>
                <a:latin typeface="Century Schoolbook"/>
              </a:rPr>
              <a:t>                                                       </a:t>
            </a:r>
            <a:r>
              <a:rPr b="0" i="1" lang="ru-RU" sz="1200" spc="-1" strike="noStrike">
                <a:solidFill>
                  <a:srgbClr val="7030a0"/>
                </a:solidFill>
                <a:latin typeface="Century Schoolbook"/>
              </a:rPr>
              <a:t>Прошло много лет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7030a0"/>
                </a:solidFill>
                <a:latin typeface="Century Schoolbook"/>
              </a:rPr>
              <a:t>                                                       </a:t>
            </a:r>
            <a:r>
              <a:rPr b="0" i="1" lang="ru-RU" sz="1200" spc="-1" strike="noStrike">
                <a:solidFill>
                  <a:srgbClr val="7030a0"/>
                </a:solidFill>
                <a:latin typeface="Century Schoolbook"/>
              </a:rPr>
              <a:t>И вот ей уже 31 год 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7030a0"/>
                </a:solidFill>
                <a:latin typeface="Century Schoolbook"/>
              </a:rPr>
              <a:t>                                                       </a:t>
            </a:r>
            <a:r>
              <a:rPr b="0" i="1" lang="ru-RU" sz="1200" spc="-1" strike="noStrike">
                <a:solidFill>
                  <a:srgbClr val="7030a0"/>
                </a:solidFill>
                <a:latin typeface="Century Schoolbook"/>
              </a:rPr>
              <a:t>Вырастила 2 детей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7030a0"/>
                </a:solidFill>
                <a:latin typeface="Century Schoolbook"/>
              </a:rPr>
              <a:t>                                                       </a:t>
            </a:r>
            <a:r>
              <a:rPr b="0" i="1" lang="ru-RU" sz="1200" spc="-1" strike="noStrike">
                <a:solidFill>
                  <a:srgbClr val="7030a0"/>
                </a:solidFill>
                <a:latin typeface="Century Schoolbook"/>
              </a:rPr>
              <a:t>И они её очень любит.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1" name="Picture 6" descr=""/>
          <p:cNvPicPr/>
          <p:nvPr/>
        </p:nvPicPr>
        <p:blipFill>
          <a:blip r:embed="rId1"/>
          <a:stretch/>
        </p:blipFill>
        <p:spPr>
          <a:xfrm>
            <a:off x="5364000" y="4581360"/>
            <a:ext cx="2303640" cy="194976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7" descr=""/>
          <p:cNvPicPr/>
          <p:nvPr/>
        </p:nvPicPr>
        <p:blipFill>
          <a:blip r:embed="rId2"/>
          <a:stretch/>
        </p:blipFill>
        <p:spPr>
          <a:xfrm>
            <a:off x="250920" y="4581360"/>
            <a:ext cx="2555640" cy="19162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8" descr=""/>
          <p:cNvPicPr/>
          <p:nvPr/>
        </p:nvPicPr>
        <p:blipFill>
          <a:blip r:embed="rId3"/>
          <a:stretch/>
        </p:blipFill>
        <p:spPr>
          <a:xfrm rot="20418600">
            <a:off x="179280" y="907560"/>
            <a:ext cx="2772000" cy="30783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4"/>
          <a:stretch/>
        </p:blipFill>
        <p:spPr>
          <a:xfrm rot="1374600">
            <a:off x="5275080" y="882360"/>
            <a:ext cx="3166920" cy="3517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2d050"/>
                </a:solidFill>
                <a:latin typeface="Century Schoolbook"/>
              </a:rPr>
              <a:t>                     </a:t>
            </a:r>
            <a:r>
              <a:rPr b="0" lang="ru-RU" sz="3000" spc="-1" strike="noStrike">
                <a:solidFill>
                  <a:srgbClr val="92d050"/>
                </a:solidFill>
                <a:latin typeface="Century Schoolbook"/>
              </a:rPr>
              <a:t>ЛЮБОВЬ…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3456000" cy="48736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3" descr=""/>
          <p:cNvPicPr/>
          <p:nvPr/>
        </p:nvPicPr>
        <p:blipFill>
          <a:blip r:embed="rId2"/>
          <a:stretch/>
        </p:blipFill>
        <p:spPr>
          <a:xfrm>
            <a:off x="4427640" y="1484280"/>
            <a:ext cx="32590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9" name="Picture 6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8136000" cy="64800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                     </a:t>
            </a:r>
            <a:r>
              <a:rPr b="0" lang="ru-RU" sz="3000" spc="-1" strike="noStrike">
                <a:solidFill>
                  <a:srgbClr val="00b050"/>
                </a:solidFill>
                <a:latin typeface="Century Schoolbook"/>
              </a:rPr>
              <a:t>ЕЁ РАДОСТЬ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1" name="Picture 2" descr="D:\ЛАРИСА НЕ ТРОГАТЬ\Рабочий стол\Юлька\Семья\Остриковы\DSCN0700.jpg"/>
          <p:cNvPicPr/>
          <p:nvPr/>
        </p:nvPicPr>
        <p:blipFill>
          <a:blip r:embed="rId1"/>
          <a:stretch/>
        </p:blipFill>
        <p:spPr>
          <a:xfrm>
            <a:off x="941400" y="1600200"/>
            <a:ext cx="649908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000"/>
                </a:solidFill>
                <a:latin typeface="Century Schoolbook"/>
              </a:rPr>
              <a:t>    </a:t>
            </a:r>
            <a:r>
              <a:rPr b="0" lang="ru-RU" sz="3000" spc="-1" strike="noStrike">
                <a:solidFill>
                  <a:srgbClr val="ffc000"/>
                </a:solidFill>
                <a:latin typeface="Century Schoolbook"/>
              </a:rPr>
              <a:t>ПУСТЬ ВСЕ ДРУЗЬЯ ТЕБЯ ПОЗДРАВЛЯЮТ!!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3" name="Picture 3" descr=""/>
          <p:cNvPicPr/>
          <p:nvPr/>
        </p:nvPicPr>
        <p:blipFill>
          <a:blip r:embed="rId1"/>
          <a:stretch/>
        </p:blipFill>
        <p:spPr>
          <a:xfrm>
            <a:off x="1143000" y="1727280"/>
            <a:ext cx="609588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   </a:t>
            </a: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ЭТУ ОТКРЫТКУ ТЕБЕ ДАРИТ ЮЛЯШКА!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5" name="Picture 2" descr=""/>
          <p:cNvPicPr/>
          <p:nvPr/>
        </p:nvPicPr>
        <p:blipFill>
          <a:blip r:embed="rId1"/>
          <a:stretch/>
        </p:blipFill>
        <p:spPr>
          <a:xfrm>
            <a:off x="539640" y="1600200"/>
            <a:ext cx="720108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211640" y="2636640"/>
            <a:ext cx="417672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МАМОЧКА , ТЫ ЛУЧШЕ ВСЕХ!!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360036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4T14:43:53Z</dcterms:created>
  <dc:creator>Admin</dc:creator>
  <dc:description/>
  <dc:language>en-US</dc:language>
  <cp:lastModifiedBy>Admin</cp:lastModifiedBy>
  <dcterms:modified xsi:type="dcterms:W3CDTF">2013-03-25T07:55:42Z</dcterms:modified>
  <cp:revision>11</cp:revision>
  <dc:subject/>
  <dc:title>               Дорогой и любимой!</dc:title>
</cp:coreProperties>
</file>