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png" ContentType="image/png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2.wmf" ContentType="image/x-wmf"/>
  <Override PartName="/ppt/media/image26.wmf" ContentType="image/x-wmf"/>
  <Override PartName="/ppt/media/image3.wmf" ContentType="image/x-wmf"/>
  <Override PartName="/ppt/media/image28.wmf" ContentType="image/x-wmf"/>
  <Override PartName="/ppt/media/image30.png" ContentType="image/png"/>
  <Override PartName="/ppt/media/image5.wmf" ContentType="image/x-wmf"/>
  <Override PartName="/ppt/media/image35.wmf" ContentType="image/x-wmf"/>
  <Override PartName="/ppt/media/image25.png" ContentType="image/png"/>
  <Override PartName="/ppt/media/image38.png" ContentType="image/png"/>
  <Override PartName="/ppt/media/image41.wmf" ContentType="image/x-wmf"/>
  <Override PartName="/ppt/media/image39.wmf" ContentType="image/x-wmf"/>
  <Override PartName="/ppt/media/image40.wmf" ContentType="image/x-wmf"/>
  <Override PartName="/ppt/media/image43.png" ContentType="image/png"/>
  <Override PartName="/ppt/media/image33.png" ContentType="image/png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11.wmf" ContentType="image/x-wmf"/>
  <Override PartName="/ppt/media/image8.wmf" ContentType="image/x-wmf"/>
  <Override PartName="/ppt/media/image13.png" ContentType="image/png"/>
  <Override PartName="/ppt/media/image48.png" ContentType="image/png"/>
  <Override PartName="/ppt/media/image51.wmf" ContentType="image/x-wmf"/>
  <Override PartName="/ppt/media/image50.wmf" ContentType="image/x-wmf"/>
  <Override PartName="/ppt/media/image32.png" ContentType="image/png"/>
  <Override PartName="/ppt/media/image42.wmf" ContentType="image/x-wmf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DEE-023B-4090-A9B1-18A5FEC9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EFC8-8047-46A3-A578-AD55D0E1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5279-B95B-47F3-9B26-DBED2734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B5C-7118-429C-886B-3FAAEEA7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736F-7D40-4FDC-BE5C-2C423962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C00E-542F-4B76-810C-8AA3AD4D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92D1-2FF0-4BC1-8BF4-5DDA284D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EFE3-A979-47D8-8300-1FD37E6B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EE58-083E-40A2-AFB3-6AAE6E8A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F3E1-AAD5-41BA-A2EA-DA5E9048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F740-10C5-4579-B7AA-0A5C437E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AF3-934C-49A4-B682-121CCC20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75EE-B410-4BC6-9CE6-535DE379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6BA9-DB1C-4801-A366-D9EB2720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BDA1-0B6B-40A6-B491-BAD6A92F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F230-03B2-493C-B12A-46B59ABF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B688-0B77-4A21-80DC-B816DD11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C97-87DF-481E-9EC8-2AAF7AEA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2E37-CD70-41C4-A11B-EF747278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74D-CCEB-47A7-A130-F1591004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A6D-B052-4310-B559-1DCCAEF9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2F6-D27C-443E-AA99-D5C9F3EF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DFF-3909-4E4F-B919-C0C2DF5C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2A0-2F1B-4EBF-98B9-EA6F1EA3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DE88-31EE-4D36-95CB-759B8FCB888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3024-23E2-4054-8CAA-BF744AABD1C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39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7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7.wmf"/><Relationship Id="rId19" Type="http://schemas.openxmlformats.org/officeDocument/2006/relationships/image" Target="../media/image8.wmf"/><Relationship Id="rId20" Type="http://schemas.openxmlformats.org/officeDocument/2006/relationships/image" Target="../media/image7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7.wmf"/><Relationship Id="rId24" Type="http://schemas.openxmlformats.org/officeDocument/2006/relationships/image" Target="../media/image8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8.wmf"/><Relationship Id="rId28" Type="http://schemas.openxmlformats.org/officeDocument/2006/relationships/image" Target="../media/image7.wmf"/><Relationship Id="rId29" Type="http://schemas.openxmlformats.org/officeDocument/2006/relationships/image" Target="../media/image7.wmf"/><Relationship Id="rId30" Type="http://schemas.openxmlformats.org/officeDocument/2006/relationships/image" Target="../media/image8.wmf"/><Relationship Id="rId31" Type="http://schemas.openxmlformats.org/officeDocument/2006/relationships/image" Target="../media/image7.wmf"/><Relationship Id="rId32" Type="http://schemas.openxmlformats.org/officeDocument/2006/relationships/image" Target="../media/image8.wmf"/><Relationship Id="rId33" Type="http://schemas.openxmlformats.org/officeDocument/2006/relationships/image" Target="../media/image7.wmf"/><Relationship Id="rId34" Type="http://schemas.openxmlformats.org/officeDocument/2006/relationships/image" Target="../media/image8.wmf"/><Relationship Id="rId35" Type="http://schemas.openxmlformats.org/officeDocument/2006/relationships/image" Target="../media/image7.wmf"/><Relationship Id="rId36" Type="http://schemas.openxmlformats.org/officeDocument/2006/relationships/image" Target="../media/image8.wmf"/><Relationship Id="rId37" Type="http://schemas.openxmlformats.org/officeDocument/2006/relationships/image" Target="../media/image7.wmf"/><Relationship Id="rId38" Type="http://schemas.openxmlformats.org/officeDocument/2006/relationships/image" Target="../media/image8.wmf"/><Relationship Id="rId3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wmf"/><Relationship Id="rId3" Type="http://schemas.openxmlformats.org/officeDocument/2006/relationships/image" Target="../media/image17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wmf"/><Relationship Id="rId3" Type="http://schemas.openxmlformats.org/officeDocument/2006/relationships/image" Target="../media/image17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Comic Sans MS"/>
              </a:rPr>
              <a:t>ШАР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ccff"/>
          </a:solidFill>
          <a:ln w="38160">
            <a:solidFill>
              <a:srgbClr val="703dff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ультимедийное пособие по стереометрии для 11 клас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ителя математи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У «СОШ № 15» г.Братс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никиной А.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50920" y="476280"/>
            <a:ext cx="770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За площадь сферы примем предел последовательности площадей поверхностей описанных около сферы многогранников при стремлении к нулю наибольшего размера каждой гр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3645000"/>
            <a:ext cx="736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учим формулу для вычисления площади сферы радиуса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54760" y="5176800"/>
            <a:ext cx="227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S =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l-GR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R</a:t>
            </a:r>
            <a:r>
              <a:rPr b="1" lang="en-US" sz="4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116000" y="7245360"/>
            <a:ext cx="7488360" cy="623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8857447"/>
                <a:gd name="adj2" fmla="val 68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8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ПЛОЩАДЬ  СФЕРЫ</a:t>
            </a:r>
            <a:endParaRPr b="1" lang="en-US" sz="1800" spc="1" strike="noStrike">
              <a:ln w="38160">
                <a:solidFill>
                  <a:srgbClr val="00008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3640" y="3284640"/>
            <a:ext cx="2881080" cy="28083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5848E-006 C 0.18299 -0.15431 0.36615 -0.30862 0.38351 -0.44624 C 0.40087 -0.5841 0.21424 -0.80769 0.10417 -0.82669 C -0.0059 -0.84546 -0.19479 -0.55792 -0.27673 -0.56001 C -0.35868 -0.56209 -0.39948 -0.74583 -0.38767 -0.83897 C -0.37586 -0.93188 -0.26788 -1.09731 -0.20555 -1.1177 C -0.14323 -1.13809 -0.04583 -0.98702 -0.01371 -0.96084 E">
                                      <p:cBhvr>
                                        <p:cTn id="451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7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185840" y="3789360"/>
            <a:ext cx="6696000" cy="0"/>
          </a:xfrm>
          <a:prstGeom prst="line">
            <a:avLst/>
          </a:prstGeom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185840" y="980640"/>
            <a:ext cx="3025800" cy="2808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11640" y="981000"/>
            <a:ext cx="3672000" cy="2808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85840" y="3789360"/>
            <a:ext cx="2881440" cy="1368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067280" y="3789000"/>
            <a:ext cx="3816360" cy="1368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43280" y="1773360"/>
            <a:ext cx="2879640" cy="28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068720" y="965160"/>
            <a:ext cx="147600" cy="4192560"/>
          </a:xfrm>
          <a:custGeom>
            <a:avLst/>
            <a:gdLst/>
            <a:ahLst/>
            <a:rect l="l" t="t" r="r" b="b"/>
            <a:pathLst>
              <a:path w="93" h="2641">
                <a:moveTo>
                  <a:pt x="93" y="0"/>
                </a:moveTo>
                <a:lnTo>
                  <a:pt x="0" y="2641"/>
                </a:lnTo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 flipV="1">
            <a:off x="1692360" y="2349360"/>
            <a:ext cx="3240000" cy="719280"/>
          </a:xfrm>
          <a:prstGeom prst="line">
            <a:avLst/>
          </a:prstGeom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32360" y="2349360"/>
            <a:ext cx="1800360" cy="719280"/>
          </a:xfrm>
          <a:prstGeom prst="line">
            <a:avLst/>
          </a:prstGeom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1280" y="188640"/>
            <a:ext cx="2521080" cy="287964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692360" y="189000"/>
            <a:ext cx="2519280" cy="287964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11640" y="189000"/>
            <a:ext cx="720720" cy="2160360"/>
          </a:xfrm>
          <a:prstGeom prst="line">
            <a:avLst/>
          </a:prstGeom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068640"/>
            <a:ext cx="2520720" cy="2736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211280" y="3068640"/>
            <a:ext cx="2521080" cy="2736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211640" y="2349360"/>
            <a:ext cx="720720" cy="3456000"/>
          </a:xfrm>
          <a:prstGeom prst="line">
            <a:avLst/>
          </a:prstGeom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43280" y="1773360"/>
            <a:ext cx="2879640" cy="28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92360" y="3068640"/>
            <a:ext cx="1800000" cy="720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492360" y="3068640"/>
            <a:ext cx="3167280" cy="720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92360" y="3789360"/>
            <a:ext cx="719280" cy="2016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492360" y="189000"/>
            <a:ext cx="719280" cy="3600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924360" y="3429000"/>
            <a:ext cx="2448000" cy="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2842920" y="3429000"/>
            <a:ext cx="1081080" cy="36036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843280" y="1989000"/>
            <a:ext cx="2089080" cy="21600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32360" y="1989000"/>
            <a:ext cx="1440000" cy="36036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843280" y="1052280"/>
            <a:ext cx="1728720" cy="1152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0" y="1052640"/>
            <a:ext cx="1800360" cy="1296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43280" y="3789360"/>
            <a:ext cx="1800000" cy="1008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642920" y="3429000"/>
            <a:ext cx="1729080" cy="1368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924360" y="1989000"/>
            <a:ext cx="1008000" cy="144000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1989000"/>
            <a:ext cx="1440000" cy="144000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1052640"/>
            <a:ext cx="360360" cy="93636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43280" y="2205000"/>
            <a:ext cx="1081080" cy="115272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24360" y="3429000"/>
            <a:ext cx="718920" cy="136836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59280" y="1484280"/>
            <a:ext cx="2879640" cy="2881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140360" y="2349360"/>
            <a:ext cx="2232000" cy="216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2842920" y="2204640"/>
            <a:ext cx="1297080" cy="360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43280" y="3789360"/>
            <a:ext cx="25192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363640" y="3429000"/>
            <a:ext cx="1008360" cy="360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372360" y="2349000"/>
            <a:ext cx="0" cy="107964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843280" y="2204640"/>
            <a:ext cx="0" cy="1584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140000" y="1052640"/>
            <a:ext cx="431640" cy="1512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842920" y="2565360"/>
            <a:ext cx="1297080" cy="1224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140360" y="2565360"/>
            <a:ext cx="1223640" cy="1224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363640" y="2349360"/>
            <a:ext cx="1008360" cy="1440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643280" y="3789360"/>
            <a:ext cx="720720" cy="1008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628640"/>
            <a:ext cx="3600720" cy="360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rcRect l="0" t="44540" r="0" b="0"/>
          <a:stretch/>
        </p:blipFill>
        <p:spPr>
          <a:xfrm>
            <a:off x="179280" y="3357720"/>
            <a:ext cx="3600720" cy="6267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rcRect l="0" t="0" r="0" b="49029"/>
          <a:stretch/>
        </p:blipFill>
        <p:spPr>
          <a:xfrm>
            <a:off x="179280" y="2854440"/>
            <a:ext cx="3600720" cy="5760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rcRect l="0" t="0" r="0" b="48711"/>
          <a:stretch/>
        </p:blipFill>
        <p:spPr>
          <a:xfrm>
            <a:off x="755640" y="1844640"/>
            <a:ext cx="2449440" cy="324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rcRect l="0" t="44035" r="0" b="0"/>
          <a:stretch/>
        </p:blipFill>
        <p:spPr>
          <a:xfrm>
            <a:off x="755640" y="2133720"/>
            <a:ext cx="2449440" cy="353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836720" y="206208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836720" y="3357720"/>
            <a:ext cx="108000" cy="10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36720" y="501336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36720" y="170172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08000" y="5157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908000" y="184464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08000" y="2205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08000" y="350208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908000" y="105372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5640" y="213372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32000" y="213372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79640" y="342900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780000" y="3429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828720" y="2277720"/>
            <a:ext cx="1008000" cy="10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40360" y="213372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09800" y="47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1816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02160" y="299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197440" y="1700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8144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7816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81440" y="126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549440" y="10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7080" y="17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196720" y="0"/>
            <a:ext cx="35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ОБЪЁМ  Ш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59280" y="692280"/>
            <a:ext cx="506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мотрим шар радиус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центром в точк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052440" y="1268280"/>
            <a:ext cx="49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выберем ось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произвольным обр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211640" y="1628640"/>
            <a:ext cx="426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чение шара плоскостью, перпендикулярной к ос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и проходящие через точку М на этой оси, является кругом с центром в точк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11640" y="3141720"/>
            <a:ext cx="455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 прямоугольного треугольник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М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наход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427640" y="3860640"/>
                <a:ext cx="3960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1979640" y="5229360"/>
            <a:ext cx="71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меняя основную формулу для вычисления объёмов, получ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258920" y="5734080"/>
                <a:ext cx="7561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π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  <m:limLow>
                                  <m:e>
                                    <m:limUpp>
                                      <m:e/>
                                      <m:lim>
                                        <m:r>
                                          <m:t xml:space="preserve">R</m:t>
                                        </m:r>
                                      </m:lim>
                                    </m:limUpp>
                                  </m:e>
                                  <m:lim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πx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|</m:t>
                                </m:r>
                                <m:limLow>
                                  <m:e>
                                    <m:limUpp>
                                      <m:e/>
                                      <m:lim>
                                        <m:r>
                                          <m:t xml:space="preserve">R</m:t>
                                        </m:r>
                                      </m:lim>
                                    </m:limUpp>
                                  </m:e>
                                  <m:lim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</m:lim>
                                </m:limLow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π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3559680" y="4576680"/>
            <a:ext cx="490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как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6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500"/>
                            </p:stCondLst>
                            <p:childTnLst>
                              <p:par>
                                <p:cTn id="49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6000"/>
                            </p:stCondLst>
                            <p:childTnLst>
                              <p:par>
                                <p:cTn id="54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5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7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rcRect l="0" t="51267" r="0" b="0"/>
          <a:stretch/>
        </p:blipFill>
        <p:spPr>
          <a:xfrm>
            <a:off x="3851280" y="4508640"/>
            <a:ext cx="3651120" cy="17794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132000" y="2349360"/>
            <a:ext cx="5185080" cy="2881440"/>
          </a:xfrm>
          <a:prstGeom prst="parallelogram">
            <a:avLst>
              <a:gd name="adj" fmla="val 27667"/>
            </a:avLst>
          </a:prstGeom>
          <a:solidFill>
            <a:srgbClr val="ffe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3"/>
          <a:srcRect l="0" t="33521" r="0" b="29005"/>
          <a:stretch/>
        </p:blipFill>
        <p:spPr>
          <a:xfrm>
            <a:off x="3851280" y="3860640"/>
            <a:ext cx="3651120" cy="13687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rcRect l="0" t="0" r="0" b="66489"/>
          <a:stretch/>
        </p:blipFill>
        <p:spPr>
          <a:xfrm>
            <a:off x="3851280" y="2637000"/>
            <a:ext cx="3651120" cy="12236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5"/>
          <a:srcRect l="0" t="48261" r="0" b="0"/>
          <a:stretch/>
        </p:blipFill>
        <p:spPr>
          <a:xfrm>
            <a:off x="3924360" y="3860640"/>
            <a:ext cx="3456000" cy="576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6"/>
          <a:srcRect l="0" t="0" r="0" b="46860"/>
          <a:stretch/>
        </p:blipFill>
        <p:spPr>
          <a:xfrm>
            <a:off x="3924360" y="3357720"/>
            <a:ext cx="3456000" cy="6476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5595840" y="602136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595840" y="4508640"/>
            <a:ext cx="108000" cy="10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95840" y="378936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595840" y="27813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5651640" y="155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651640" y="609300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653440" y="566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65380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65344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813080" y="234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9452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661800" y="177336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В =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26160" y="227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000" y="333360"/>
            <a:ext cx="707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аровым сегменто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называется часть шара, отсекаемая от него какой – нибудь плоск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51640" y="292428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651640" y="393372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1557360"/>
            <a:ext cx="354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Круг, получившийся в сечении, называе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основание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каждого из этих сегмен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16280"/>
            <a:ext cx="325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а длины отрезков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АВ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В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диаметра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А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высотами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сег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51640" y="2924280"/>
            <a:ext cx="0" cy="865080"/>
          </a:xfrm>
          <a:prstGeom prst="line">
            <a:avLst/>
          </a:prstGeom>
          <a:ln w="381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651640" y="3933720"/>
            <a:ext cx="0" cy="2087640"/>
          </a:xfrm>
          <a:prstGeom prst="line">
            <a:avLst/>
          </a:prstGeom>
          <a:ln w="381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95640" y="3381480"/>
            <a:ext cx="3313080" cy="10080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8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44" dur="500" autoRev="1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5" dur="500" autoRev="1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autoRev="1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400"/>
                            </p:stCondLst>
                            <p:childTnLst>
                              <p:par>
                                <p:cTn id="648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9" dur="250" autoRev="1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0" dur="250" autoRev="1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1" dur="250" autoRev="1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78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7800"/>
                            </p:stCondLst>
                            <p:childTnLst>
                              <p:par>
                                <p:cTn id="662" nodeType="afterEffect" fill="hold" presetClass="emph" presetID="1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66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5" dur="1" fill="hold">
                                    <p:stCondLst>
                                      <p:cond evt="end">
                                        <p:tn val="662"/>
                                      </p:cond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700"/>
                            </p:stCondLst>
                            <p:childTnLst>
                              <p:par>
                                <p:cTn id="6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7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700"/>
                            </p:stCondLst>
                            <p:childTnLst>
                              <p:par>
                                <p:cTn id="683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5" dur="1" fill="hold">
                                    <p:stCondLst>
                                      <p:cond evt="end">
                                        <p:tn val="683"/>
                                      </p:cond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8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8" dur="1" fill="hold">
                                    <p:stCondLst>
                                      <p:cond evt="end">
                                        <p:tn val="686"/>
                                      </p:cond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970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3670200" cy="36702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rcRect l="0" t="25614" r="0" b="25091"/>
          <a:stretch/>
        </p:blipFill>
        <p:spPr>
          <a:xfrm>
            <a:off x="250920" y="1484280"/>
            <a:ext cx="3651120" cy="18003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rcRect l="0" t="0" r="0" b="42725"/>
          <a:stretch/>
        </p:blipFill>
        <p:spPr>
          <a:xfrm>
            <a:off x="539640" y="2709720"/>
            <a:ext cx="3095640" cy="6480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rcRect l="0" t="44540" r="0" b="0"/>
          <a:stretch/>
        </p:blipFill>
        <p:spPr>
          <a:xfrm>
            <a:off x="539640" y="3213000"/>
            <a:ext cx="3095640" cy="6271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539640" y="981000"/>
            <a:ext cx="3095640" cy="11304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2050920" y="69228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79640" y="321300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050920" y="162864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50920" y="335772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924360" y="1413000"/>
            <a:ext cx="216000" cy="194472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3767040" y="2023560"/>
            <a:ext cx="116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шар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052720" y="306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052720" y="134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9800" y="18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16360" y="836640"/>
            <a:ext cx="369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Шаровым сло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азывается часть шара, заключённая между двумя параллельными секущими плоск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427640" y="3213000"/>
            <a:ext cx="383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Круги, получившиеся в сечении шара этими плоскостями, называютс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основаниями шарового слоя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124000" y="5445000"/>
            <a:ext cx="63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Расстояние между плоскостями –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высотой шарового сл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50920" y="1628640"/>
            <a:ext cx="0" cy="158436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74560" y="1006560"/>
            <a:ext cx="3005280" cy="1025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7280" y="2733840"/>
            <a:ext cx="3004920" cy="1025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47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9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9000"/>
                            </p:stCondLst>
                            <p:childTnLst>
                              <p:par>
                                <p:cTn id="727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8" dur="500" autoRev="1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9" dur="500" autoRev="1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0" dur="500" autoRev="1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1" dur="1" fill="hold">
                                    <p:stCondLst>
                                      <p:cond evt="end">
                                        <p:tn val="727"/>
                                      </p:cond>
                                    </p:stCondLst>
                                  </p:cTn>
                                  <p:tgtEl>
                                    <p:spTgt spid="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32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500" autoRev="1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4" dur="500" autoRev="1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5" dur="500" autoRev="1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6" dur="1" fill="hold">
                                    <p:stCondLst>
                                      <p:cond evt="end">
                                        <p:tn val="732"/>
                                      </p:cond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8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600"/>
                            </p:stCondLst>
                            <p:childTnLst>
                              <p:par>
                                <p:cTn id="7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6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600"/>
                            </p:stCondLst>
                            <p:childTnLst>
                              <p:par>
                                <p:cTn id="754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6" dur="1" fill="hold">
                                    <p:stCondLst>
                                      <p:cond evt="end">
                                        <p:tn val="754"/>
                                      </p:cond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9600"/>
                            </p:stCondLst>
                            <p:childTnLst>
                              <p:par>
                                <p:cTn id="7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2"/>
          <a:srcRect l="6379" t="0" r="0" b="76633"/>
          <a:stretch/>
        </p:blipFill>
        <p:spPr>
          <a:xfrm>
            <a:off x="250920" y="549360"/>
            <a:ext cx="5400720" cy="143964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395280" y="2205000"/>
            <a:ext cx="4735440" cy="2241720"/>
          </a:xfrm>
          <a:custGeom>
            <a:avLst/>
            <a:gdLst/>
            <a:ahLst/>
            <a:rect l="l" t="t" r="r" b="b"/>
            <a:pathLst>
              <a:path w="2983" h="1412">
                <a:moveTo>
                  <a:pt x="1495" y="1412"/>
                </a:moveTo>
                <a:lnTo>
                  <a:pt x="0" y="0"/>
                </a:lnTo>
                <a:lnTo>
                  <a:pt x="2983" y="0"/>
                </a:lnTo>
                <a:lnTo>
                  <a:pt x="1495" y="1412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ff00ff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3"/>
          <a:srcRect l="0" t="0" r="0" b="45499"/>
          <a:stretch/>
        </p:blipFill>
        <p:spPr>
          <a:xfrm>
            <a:off x="324000" y="1341360"/>
            <a:ext cx="4895640" cy="8654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rcRect l="0" t="44008" r="0" b="0"/>
          <a:stretch/>
        </p:blipFill>
        <p:spPr>
          <a:xfrm>
            <a:off x="324000" y="1989000"/>
            <a:ext cx="4895640" cy="7192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2771640" y="115920"/>
            <a:ext cx="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771640" y="836640"/>
            <a:ext cx="0" cy="388764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700360" y="1916280"/>
            <a:ext cx="108000" cy="1076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1331640" y="1989000"/>
            <a:ext cx="136836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2360" y="4149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он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180760" y="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шар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ег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77380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81440" y="1844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65800" y="35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419640" y="549360"/>
            <a:ext cx="180000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611280" y="3357720"/>
            <a:ext cx="1439640" cy="86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292720" y="1700280"/>
            <a:ext cx="347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b800"/>
                </a:solidFill>
                <a:latin typeface="Times New Roman"/>
              </a:rPr>
              <a:t>Шаровым сектор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зывается тело, полученное вращением кругового сектора с углом, меньшим 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круг прямой, содержащей один из ограничивающих сектор ради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835280" y="537048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аровой сектор состоит из шарового сегмента и кон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400"/>
                            </p:stCondLst>
                            <p:childTnLst>
                              <p:par>
                                <p:cTn id="7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0920" y="1341360"/>
            <a:ext cx="4321080" cy="4319640"/>
          </a:xfrm>
          <a:prstGeom prst="ellipse">
            <a:avLst/>
          </a:prstGeom>
          <a:gradFill rotWithShape="0">
            <a:gsLst>
              <a:gs pos="0">
                <a:srgbClr val="fffacf"/>
              </a:gs>
              <a:gs pos="100000">
                <a:srgbClr val="ffe19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0" t="0" r="0" b="44542"/>
          <a:stretch/>
        </p:blipFill>
        <p:spPr>
          <a:xfrm>
            <a:off x="250920" y="2637000"/>
            <a:ext cx="4370400" cy="938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rcRect l="0" t="45617" r="0" b="0"/>
          <a:stretch/>
        </p:blipFill>
        <p:spPr>
          <a:xfrm>
            <a:off x="250920" y="3429000"/>
            <a:ext cx="4370400" cy="863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338560" y="342900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411280" y="1844280"/>
            <a:ext cx="1368720" cy="16556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20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1800" y="32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феро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называется поверхность, состоящая из всех точек пространства, расположенных на данном расстоянии от данной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88000" y="206064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нная точка называется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центром 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9640" y="3357720"/>
            <a:ext cx="333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нное расстояние –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адиусом 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508640"/>
            <a:ext cx="362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резок, соединяющий две точки сферы и проходящий через её центр, называется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диаметром 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341360"/>
            <a:ext cx="4319640" cy="4319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1844640"/>
            <a:ext cx="2737080" cy="33130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411280" y="1844280"/>
            <a:ext cx="1368720" cy="165564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40000" y="3429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1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1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evt="end">
                                        <p:tn val="34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5" repeatCount="3000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35" repeatCount="3000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5" repeatCount="3000">
                                  <p:stCondLst>
                                    <p:cond delay="8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32000" y="1268280"/>
            <a:ext cx="5038920" cy="504036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8760" y="352440"/>
            <a:ext cx="297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фера получена вращением полуокружност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С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круг диаметр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1800" y="1413000"/>
            <a:ext cx="144360" cy="14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80000" y="5805360"/>
            <a:ext cx="144360" cy="144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3440" y="76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9488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6160" y="623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rcRect l="0" t="0" r="0" b="46609"/>
          <a:stretch/>
        </p:blipFill>
        <p:spPr>
          <a:xfrm>
            <a:off x="3132000" y="2565360"/>
            <a:ext cx="5089680" cy="1295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0" t="47514" r="0" b="0"/>
          <a:stretch/>
        </p:blipFill>
        <p:spPr>
          <a:xfrm>
            <a:off x="3132000" y="3789360"/>
            <a:ext cx="5089680" cy="1273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651640" y="692280"/>
            <a:ext cx="0" cy="590364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0000" y="3573360"/>
            <a:ext cx="144360" cy="144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rcRect l="19974" t="0" r="0" b="0"/>
          <a:stretch/>
        </p:blipFill>
        <p:spPr>
          <a:xfrm>
            <a:off x="5651640" y="3573360"/>
            <a:ext cx="2016000" cy="2519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rcRect l="55373" t="0" r="0" b="20797"/>
          <a:stretch/>
        </p:blipFill>
        <p:spPr>
          <a:xfrm>
            <a:off x="5651640" y="1557360"/>
            <a:ext cx="2249280" cy="403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rcRect l="25694" t="60544" r="0" b="0"/>
          <a:stretch/>
        </p:blipFill>
        <p:spPr>
          <a:xfrm>
            <a:off x="5651640" y="4149720"/>
            <a:ext cx="1873080" cy="2065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rcRect l="49981" t="0" r="0" b="14092"/>
          <a:stretch/>
        </p:blipFill>
        <p:spPr>
          <a:xfrm>
            <a:off x="5651640" y="1557360"/>
            <a:ext cx="1944720" cy="4103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rcRect l="49969" t="0" r="0" b="18963"/>
          <a:stretch/>
        </p:blipFill>
        <p:spPr>
          <a:xfrm>
            <a:off x="5651640" y="1557360"/>
            <a:ext cx="1081080" cy="4032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9"/>
          <a:srcRect l="24919" t="62552" r="0" b="0"/>
          <a:stretch/>
        </p:blipFill>
        <p:spPr>
          <a:xfrm>
            <a:off x="5651640" y="4398840"/>
            <a:ext cx="1081080" cy="1863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0"/>
          <a:srcRect l="49950" t="72492" r="0" b="0"/>
          <a:stretch/>
        </p:blipFill>
        <p:spPr>
          <a:xfrm>
            <a:off x="6012000" y="4894200"/>
            <a:ext cx="720720" cy="1368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1"/>
          <a:srcRect l="49950" t="0" r="0" b="20400"/>
          <a:stretch/>
        </p:blipFill>
        <p:spPr>
          <a:xfrm>
            <a:off x="5651640" y="1557360"/>
            <a:ext cx="720720" cy="4032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2"/>
          <a:srcRect l="24070" t="71079" r="0" b="0"/>
          <a:stretch/>
        </p:blipFill>
        <p:spPr>
          <a:xfrm>
            <a:off x="5651640" y="4869000"/>
            <a:ext cx="720720" cy="1465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3"/>
          <a:srcRect l="50006" t="56882" r="0" b="0"/>
          <a:stretch/>
        </p:blipFill>
        <p:spPr>
          <a:xfrm>
            <a:off x="5940360" y="4149720"/>
            <a:ext cx="432000" cy="2184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4"/>
          <a:srcRect l="49950" t="0" r="0" b="20400"/>
          <a:stretch/>
        </p:blipFill>
        <p:spPr>
          <a:xfrm flipH="1">
            <a:off x="4932360" y="1557360"/>
            <a:ext cx="720720" cy="403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5"/>
          <a:srcRect l="24070" t="71079" r="0" b="0"/>
          <a:stretch/>
        </p:blipFill>
        <p:spPr>
          <a:xfrm flipH="1">
            <a:off x="4932360" y="4869000"/>
            <a:ext cx="720720" cy="1465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6"/>
          <a:srcRect l="50006" t="56882" r="0" b="0"/>
          <a:stretch/>
        </p:blipFill>
        <p:spPr>
          <a:xfrm flipH="1">
            <a:off x="4932000" y="4149720"/>
            <a:ext cx="431640" cy="2184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7"/>
          <a:srcRect l="49969" t="0" r="0" b="18963"/>
          <a:stretch/>
        </p:blipFill>
        <p:spPr>
          <a:xfrm flipH="1">
            <a:off x="4571640" y="1557360"/>
            <a:ext cx="1081080" cy="4032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8"/>
          <a:srcRect l="24919" t="62552" r="0" b="0"/>
          <a:stretch/>
        </p:blipFill>
        <p:spPr>
          <a:xfrm flipH="1">
            <a:off x="4571640" y="4470480"/>
            <a:ext cx="1081080" cy="1863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9"/>
          <a:srcRect l="49950" t="72492" r="0" b="0"/>
          <a:stretch/>
        </p:blipFill>
        <p:spPr>
          <a:xfrm flipH="1">
            <a:off x="4572000" y="4967280"/>
            <a:ext cx="720720" cy="1368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0"/>
          <a:srcRect l="19974" t="0" r="0" b="0"/>
          <a:stretch/>
        </p:blipFill>
        <p:spPr>
          <a:xfrm flipH="1">
            <a:off x="3634920" y="3573360"/>
            <a:ext cx="2016360" cy="25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1"/>
          <a:srcRect l="55404" t="0" r="0" b="20450"/>
          <a:stretch/>
        </p:blipFill>
        <p:spPr>
          <a:xfrm flipH="1">
            <a:off x="3349800" y="1557360"/>
            <a:ext cx="2247840" cy="4049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2"/>
          <a:srcRect l="11292" t="0" r="26450" b="49098"/>
          <a:stretch/>
        </p:blipFill>
        <p:spPr>
          <a:xfrm>
            <a:off x="4067280" y="1413000"/>
            <a:ext cx="1584360" cy="1295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3"/>
          <a:srcRect l="0" t="19898" r="46412" b="0"/>
          <a:stretch/>
        </p:blipFill>
        <p:spPr>
          <a:xfrm>
            <a:off x="3708360" y="1844640"/>
            <a:ext cx="1943280" cy="4057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4"/>
          <a:srcRect l="33298" t="0" r="30813" b="57353"/>
          <a:stretch/>
        </p:blipFill>
        <p:spPr>
          <a:xfrm>
            <a:off x="4643280" y="1341360"/>
            <a:ext cx="1008360" cy="2160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5"/>
          <a:srcRect l="0" t="14228" r="47980" b="0"/>
          <a:stretch/>
        </p:blipFill>
        <p:spPr>
          <a:xfrm>
            <a:off x="4140360" y="1557360"/>
            <a:ext cx="1511280" cy="4344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6"/>
          <a:srcRect l="0" t="36952" r="45941" b="0"/>
          <a:stretch/>
        </p:blipFill>
        <p:spPr>
          <a:xfrm>
            <a:off x="4859280" y="2708280"/>
            <a:ext cx="792360" cy="3193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7"/>
          <a:srcRect l="46641" t="0" r="27597" b="71581"/>
          <a:stretch/>
        </p:blipFill>
        <p:spPr>
          <a:xfrm>
            <a:off x="5292720" y="1268280"/>
            <a:ext cx="358920" cy="1440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8"/>
          <a:srcRect l="0" t="0" r="43220" b="51682"/>
          <a:stretch/>
        </p:blipFill>
        <p:spPr>
          <a:xfrm>
            <a:off x="4859280" y="1268280"/>
            <a:ext cx="504720" cy="2448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9"/>
          <a:srcRect l="0" t="36934" r="45922" b="0"/>
          <a:stretch/>
        </p:blipFill>
        <p:spPr>
          <a:xfrm flipH="1">
            <a:off x="5667480" y="2708280"/>
            <a:ext cx="792000" cy="3193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0"/>
          <a:srcRect l="46666" t="0" r="27578" b="71575"/>
          <a:stretch/>
        </p:blipFill>
        <p:spPr>
          <a:xfrm flipH="1">
            <a:off x="5667480" y="1268280"/>
            <a:ext cx="358560" cy="1440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1"/>
          <a:srcRect l="0" t="0" r="43195" b="51682"/>
          <a:stretch/>
        </p:blipFill>
        <p:spPr>
          <a:xfrm flipH="1">
            <a:off x="5965920" y="1268280"/>
            <a:ext cx="504720" cy="2448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2"/>
          <a:srcRect l="33298" t="0" r="30813" b="57353"/>
          <a:stretch/>
        </p:blipFill>
        <p:spPr>
          <a:xfrm flipH="1">
            <a:off x="5678640" y="1341360"/>
            <a:ext cx="1008000" cy="2160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3"/>
          <a:srcRect l="0" t="15672" r="50440" b="0"/>
          <a:stretch/>
        </p:blipFill>
        <p:spPr>
          <a:xfrm flipH="1">
            <a:off x="5678280" y="1557360"/>
            <a:ext cx="1439640" cy="4272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4"/>
          <a:srcRect l="23984" t="0" r="13374" b="0"/>
          <a:stretch/>
        </p:blipFill>
        <p:spPr>
          <a:xfrm>
            <a:off x="5651640" y="1366920"/>
            <a:ext cx="1368360" cy="21844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5"/>
          <a:srcRect l="49653" t="15641" r="0" b="0"/>
          <a:stretch/>
        </p:blipFill>
        <p:spPr>
          <a:xfrm>
            <a:off x="5651640" y="1628640"/>
            <a:ext cx="1825560" cy="4273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6"/>
          <a:srcRect l="49653" t="0" r="0" b="18994"/>
          <a:stretch/>
        </p:blipFill>
        <p:spPr>
          <a:xfrm>
            <a:off x="5651640" y="1557360"/>
            <a:ext cx="1825560" cy="4103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7"/>
          <a:srcRect l="22583" t="73471" r="37804" b="0"/>
          <a:stretch/>
        </p:blipFill>
        <p:spPr>
          <a:xfrm>
            <a:off x="5651640" y="5229360"/>
            <a:ext cx="1008000" cy="961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8"/>
          <a:srcRect l="60015" t="72492" r="0" b="0"/>
          <a:stretch/>
        </p:blipFill>
        <p:spPr>
          <a:xfrm>
            <a:off x="6516720" y="4869000"/>
            <a:ext cx="1008000" cy="1393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8760" y="2297160"/>
            <a:ext cx="30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о, ограниченное сферой, называется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ша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8760" y="3449520"/>
            <a:ext cx="297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нтр, радиус и диаметр сферы называется также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центр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радиус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диаметром ш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4"/>
                                      </p:cond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evt="end">
                                        <p:tn val="118"/>
                                      </p:cond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evt="end">
                                        <p:tn val="125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evt="end">
                                        <p:tn val="129"/>
                                      </p:cond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evt="end">
                                        <p:tn val="138"/>
                                      </p:cond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1"/>
                                      </p:cond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evt="end">
                                        <p:tn val="159"/>
                                      </p:cond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evt="end">
                                        <p:tn val="164"/>
                                      </p:cond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evt="end">
                                        <p:tn val="168"/>
                                      </p:cond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evt="end">
                                        <p:tn val="172"/>
                                      </p:cond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evt="end">
                                        <p:tn val="181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evt="end">
                                        <p:tn val="186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evt="end">
                                        <p:tn val="190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5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199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4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evt="end">
                                        <p:tn val="208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evt="end">
                                        <p:tn val="212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7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1"/>
                                      </p:cond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evt="end">
                                        <p:tn val="225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evt="end">
                                        <p:tn val="239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evt="end">
                                        <p:tn val="243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292720" y="549360"/>
            <a:ext cx="2881440" cy="28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rcRect l="0" t="50080" r="0" b="0"/>
          <a:stretch/>
        </p:blipFill>
        <p:spPr>
          <a:xfrm>
            <a:off x="5292720" y="1916280"/>
            <a:ext cx="2932200" cy="672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rcRect l="0" t="0" r="0" b="46660"/>
          <a:stretch/>
        </p:blipFill>
        <p:spPr>
          <a:xfrm>
            <a:off x="5292720" y="1268280"/>
            <a:ext cx="2932200" cy="719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rcRect l="0" t="0" r="51667" b="0"/>
          <a:stretch/>
        </p:blipFill>
        <p:spPr>
          <a:xfrm>
            <a:off x="6012000" y="549360"/>
            <a:ext cx="720720" cy="2932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227640" y="836640"/>
            <a:ext cx="108000" cy="1080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1916280"/>
            <a:ext cx="108000" cy="10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907920"/>
            <a:ext cx="358920" cy="100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32360" y="260280"/>
            <a:ext cx="0" cy="3456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2360" y="3716280"/>
            <a:ext cx="360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355640" y="3716280"/>
            <a:ext cx="57636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8520" y="1413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99280" y="62064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43520" y="1844640"/>
            <a:ext cx="125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4720" y="33336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174160" y="36450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8720" y="40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60720" y="3645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0920" y="-84240"/>
            <a:ext cx="40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Уравнение  сф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" y="546120"/>
            <a:ext cx="419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е с тремя неизвестным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уравнением поверхности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1080" y="155736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900000" y="1413000"/>
                <a:ext cx="37432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79280" y="1916280"/>
            <a:ext cx="4629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точк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лежит на данной сфере, то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С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С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т.е. координаты точки М удовлетворяют уравн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440" y="3141720"/>
            <a:ext cx="397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3573360"/>
            <a:ext cx="405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точк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не лежит на данной сфере, то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С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т.е. координаты точки М не удовлетворяют уравн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35280" y="5084640"/>
            <a:ext cx="6696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едовательно,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прямоугольной системе координат уравнение сферы радиуса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с центром 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z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имеет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71080" y="5851440"/>
            <a:ext cx="5219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х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ru-RU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+(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ru-RU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+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79280" y="549360"/>
            <a:ext cx="729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ВЗАИМНОЕ РАСПОЛОЖЕНИЕ СФЕРЫ И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4437000"/>
            <a:ext cx="6480000" cy="1800360"/>
          </a:xfrm>
          <a:prstGeom prst="parallelogram">
            <a:avLst>
              <a:gd name="adj" fmla="val 89982"/>
            </a:avLst>
          </a:prstGeom>
          <a:solidFill>
            <a:srgbClr val="ffe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rcRect l="7195" t="49171" r="8886" b="0"/>
          <a:stretch/>
        </p:blipFill>
        <p:spPr>
          <a:xfrm>
            <a:off x="4714920" y="4149720"/>
            <a:ext cx="2529000" cy="1490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rcRect l="0" t="0" r="0" b="23831"/>
          <a:stretch/>
        </p:blipFill>
        <p:spPr>
          <a:xfrm>
            <a:off x="4572000" y="2781360"/>
            <a:ext cx="2879640" cy="2233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rcRect l="0" t="48300" r="0" b="0"/>
          <a:stretch/>
        </p:blipFill>
        <p:spPr>
          <a:xfrm>
            <a:off x="4788000" y="4941720"/>
            <a:ext cx="2388960" cy="432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rcRect l="0" t="0" r="0" b="46860"/>
          <a:stretch/>
        </p:blipFill>
        <p:spPr>
          <a:xfrm>
            <a:off x="4788000" y="4508640"/>
            <a:ext cx="2458800" cy="504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V="1">
            <a:off x="6012000" y="177336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2000" y="177336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356000" y="4941720"/>
            <a:ext cx="1656000" cy="9352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56000" y="5300280"/>
            <a:ext cx="100800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12000" y="494172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494172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012000" y="4076280"/>
            <a:ext cx="0" cy="792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012000" y="3212640"/>
            <a:ext cx="1008000" cy="792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61440" y="57340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97800" y="450864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57080" y="537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25800" y="19890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09840" y="3860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 (0;0;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53080" y="45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2880" y="3213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2544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6700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г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82000" y="2317680"/>
            <a:ext cx="7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547640" y="2205000"/>
                <a:ext cx="1541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79280" y="2852640"/>
            <a:ext cx="42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Если расстояние от центра сферы до плоскости меньше радиуса сферы, то сечение сферы плоскостью есть окру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25440" y="40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88000" y="4508640"/>
            <a:ext cx="2448000" cy="865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1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4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evt="end">
                                        <p:tn val="306"/>
                                      </p:cond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rcRect l="0" t="51553" r="0" b="0"/>
          <a:stretch/>
        </p:blipFill>
        <p:spPr>
          <a:xfrm>
            <a:off x="4211640" y="4869000"/>
            <a:ext cx="2930400" cy="14205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rcRect l="0" t="76133" r="0" b="0"/>
          <a:stretch/>
        </p:blipFill>
        <p:spPr>
          <a:xfrm>
            <a:off x="4211640" y="5589720"/>
            <a:ext cx="2928960" cy="699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484360" y="3860640"/>
            <a:ext cx="6172200" cy="1727280"/>
          </a:xfrm>
          <a:prstGeom prst="parallelogram">
            <a:avLst>
              <a:gd name="adj" fmla="val 89334"/>
            </a:avLst>
          </a:prstGeom>
          <a:solidFill>
            <a:srgbClr val="ffef66">
              <a:alpha val="40000"/>
            </a:srgbClr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rcRect l="0" t="0" r="0" b="49982"/>
          <a:stretch/>
        </p:blipFill>
        <p:spPr>
          <a:xfrm>
            <a:off x="4211640" y="3357720"/>
            <a:ext cx="2928960" cy="1466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rcRect l="0" t="44540" r="0" b="0"/>
          <a:stretch/>
        </p:blipFill>
        <p:spPr>
          <a:xfrm>
            <a:off x="4211640" y="4724280"/>
            <a:ext cx="2928960" cy="627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rcRect l="0" t="0" r="0" b="49029"/>
          <a:stretch/>
        </p:blipFill>
        <p:spPr>
          <a:xfrm>
            <a:off x="4210200" y="4221000"/>
            <a:ext cx="2928960" cy="576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rcRect l="0" t="0" r="48169" b="0"/>
          <a:stretch/>
        </p:blipFill>
        <p:spPr>
          <a:xfrm>
            <a:off x="4716360" y="3357720"/>
            <a:ext cx="1008000" cy="2949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886160" y="38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934160" y="44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8216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788000" y="4724280"/>
            <a:ext cx="792000" cy="433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9120" y="401760"/>
            <a:ext cx="68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Сечение шара плоскостью есть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120" y="1193760"/>
            <a:ext cx="686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секущая плоскость проходит через центр шара, т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0 и в сечении получается круг радиус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т.е. круг, радиус которого равен радиусу шара. Такой круг называется 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большим кругом ш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84720" y="4221000"/>
            <a:ext cx="2808360" cy="10796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9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cc"/>
                                      </p:to>
                                    </p:animClr>
                                    <p:set>
                                      <p:cBhvr>
                                        <p:cTn id="3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evt="end">
                                        <p:tn val="323"/>
                                      </p:cond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79280" y="2276640"/>
            <a:ext cx="4753080" cy="1800000"/>
          </a:xfrm>
          <a:prstGeom prst="parallelogram">
            <a:avLst>
              <a:gd name="adj" fmla="val 44450"/>
            </a:avLst>
          </a:prstGeom>
          <a:solidFill>
            <a:srgbClr val="ffe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2928960" cy="29322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rcRect l="0" t="0" r="0" b="38841"/>
          <a:stretch/>
        </p:blipFill>
        <p:spPr>
          <a:xfrm>
            <a:off x="1258920" y="1484280"/>
            <a:ext cx="2881440" cy="6476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rcRect l="0" t="42762" r="0" b="0"/>
          <a:stretch/>
        </p:blipFill>
        <p:spPr>
          <a:xfrm>
            <a:off x="1258920" y="1989000"/>
            <a:ext cx="2881440" cy="7718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 flipV="1">
            <a:off x="2700360" y="2060640"/>
            <a:ext cx="0" cy="122400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700360" y="549000"/>
            <a:ext cx="0" cy="1584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700360" y="188640"/>
            <a:ext cx="0" cy="36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00360" y="3284640"/>
            <a:ext cx="15843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979640" y="3284640"/>
            <a:ext cx="720720" cy="576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27280" y="206064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27280" y="321300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33577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41800" y="22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01080" y="177336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(0;0;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236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25440" y="27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3708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70160" y="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27280" y="3213000"/>
            <a:ext cx="108000" cy="1080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73640" y="10731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18560" y="17208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гд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03640" y="285264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едовательно, точк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единственная общая точка сферы и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72428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Если расстояние от центра сферы до плоскости равно радиусу сферы, то сфера и плоскость имеют только одну общую то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336560" y="38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"/>
                            </p:stCondLst>
                            <p:childTnLst>
                              <p:par>
                                <p:cTn id="34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1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evt="end">
                                        <p:tn val="364"/>
                                      </p:cond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564000" y="5013360"/>
            <a:ext cx="5040360" cy="1297080"/>
          </a:xfrm>
          <a:prstGeom prst="parallelogram">
            <a:avLst>
              <a:gd name="adj" fmla="val 64747"/>
            </a:avLst>
          </a:prstGeom>
          <a:solidFill>
            <a:srgbClr val="ffe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932360" y="1197000"/>
            <a:ext cx="2928960" cy="29322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rcRect l="0" t="0" r="0" b="44541"/>
          <a:stretch/>
        </p:blipFill>
        <p:spPr>
          <a:xfrm>
            <a:off x="4932360" y="1989000"/>
            <a:ext cx="2878200" cy="7178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rcRect l="0" t="44494" r="0" b="0"/>
          <a:stretch/>
        </p:blipFill>
        <p:spPr>
          <a:xfrm>
            <a:off x="4930920" y="2635200"/>
            <a:ext cx="2881080" cy="719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372360" y="2708280"/>
            <a:ext cx="0" cy="136836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372360" y="4076640"/>
            <a:ext cx="0" cy="13683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372360" y="1197000"/>
            <a:ext cx="0" cy="151128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372360" y="404280"/>
            <a:ext cx="0" cy="792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72360" y="5445000"/>
            <a:ext cx="15843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579640" y="5445000"/>
            <a:ext cx="792360" cy="792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00720" y="2637000"/>
            <a:ext cx="108000" cy="10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85800" y="573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8144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10520" y="558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1344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86520" y="620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73080" y="2492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(0;0;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02880" y="537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068360" y="1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32720" y="69228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8760" y="1649520"/>
            <a:ext cx="45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гд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уравнению не удовлетворяют координаты никакой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58760" y="3017880"/>
            <a:ext cx="434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Если расстояние от центра сферы до плоскости больше радиуса сферы, то сфера и плоскость не имеют общих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200"/>
                            </p:stCondLst>
                            <p:childTnLst>
                              <p:par>
                                <p:cTn id="38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8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2"/>
          <a:srcRect l="0" t="0" r="0" b="60032"/>
          <a:stretch/>
        </p:blipFill>
        <p:spPr>
          <a:xfrm rot="1600200">
            <a:off x="1042920" y="1744560"/>
            <a:ext cx="3600360" cy="1440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rcRect l="0" t="35310" r="0" b="0"/>
          <a:stretch/>
        </p:blipFill>
        <p:spPr>
          <a:xfrm rot="1597200">
            <a:off x="250560" y="2852640"/>
            <a:ext cx="3600360" cy="2376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rcRect l="0" t="0" r="0" b="47317"/>
          <a:stretch/>
        </p:blipFill>
        <p:spPr>
          <a:xfrm>
            <a:off x="539640" y="2781360"/>
            <a:ext cx="3530880" cy="718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5"/>
          <a:srcRect l="0" t="47964" r="0" b="0"/>
          <a:stretch/>
        </p:blipFill>
        <p:spPr>
          <a:xfrm>
            <a:off x="539640" y="3429000"/>
            <a:ext cx="3527640" cy="6476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 rot="1467600">
            <a:off x="442440" y="1289160"/>
            <a:ext cx="5216760" cy="1784160"/>
          </a:xfrm>
          <a:prstGeom prst="parallelogram">
            <a:avLst>
              <a:gd name="adj" fmla="val 45186"/>
            </a:avLst>
          </a:prstGeom>
          <a:solidFill>
            <a:srgbClr val="ffef66">
              <a:alpha val="40000"/>
            </a:srgbClr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68360" y="328464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2421000"/>
            <a:ext cx="108000" cy="1080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67000" y="2517840"/>
            <a:ext cx="901800" cy="763560"/>
          </a:xfrm>
          <a:custGeom>
            <a:avLst/>
            <a:gdLst/>
            <a:ahLst/>
            <a:rect l="l" t="t" r="r" b="b"/>
            <a:pathLst>
              <a:path w="568" h="481">
                <a:moveTo>
                  <a:pt x="0" y="481"/>
                </a:moveTo>
                <a:lnTo>
                  <a:pt x="568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3080" y="227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10160" y="31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89440" y="198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84360" y="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Касательная плоскость к сф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219640" y="1125360"/>
            <a:ext cx="345600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лоскость, имеющая со сферой только одну общую точку, называетс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касательной плоскость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ф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56360" y="2781360"/>
            <a:ext cx="3887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х общая точка называетс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точкой касани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лоскости и сфе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67280" y="3789360"/>
            <a:ext cx="46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еорема1:</a:t>
            </a:r>
            <a:r>
              <a:rPr b="1" lang="ru-RU" sz="2200" spc="-1" strike="noStrike">
                <a:solidFill>
                  <a:srgbClr val="cc0000"/>
                </a:solidFill>
                <a:latin typeface="Times New Roman"/>
              </a:rPr>
              <a:t>Радиус сферы, проведён- ный в точку касания сферы и плоскости, перпендикулярен касательной плоск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8000" y="5229360"/>
            <a:ext cx="66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Теорема2: 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Если радиус сферы перпендикулярен к плоскости, проходящий через его конец, лежащий на сфере, то эта плоскость является касательной к сфе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7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2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b800"/>
                                      </p:to>
                                    </p:animClr>
                                    <p:set>
                                      <p:cBhvr>
                                        <p:cTn id="42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35" dur="500" fill="hold"/>
                                        <p:tgtEl>
                                          <p:spTgt spid="3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7:16:51Z</dcterms:created>
  <dc:creator>Acer</dc:creator>
  <dc:description/>
  <dc:language>en-US</dc:language>
  <cp:lastModifiedBy>Microsoft</cp:lastModifiedBy>
  <dcterms:modified xsi:type="dcterms:W3CDTF">2011-03-31T14:03:17Z</dcterms:modified>
  <cp:revision>64</cp:revision>
  <dc:subject/>
  <dc:title>Слайд 1</dc:title>
</cp:coreProperties>
</file>