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3.gif" ContentType="image/gif"/>
  <Override PartName="/ppt/media/image4.gif" ContentType="image/gif"/>
  <Override PartName="/ppt/media/image7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3.jpeg" ContentType="image/jpeg"/>
  <Override PartName="/ppt/media/image12.wmf" ContentType="image/x-wmf"/>
  <Override PartName="/ppt/media/CAMERA.WAV" ContentType="audio/x-wav"/>
  <Override PartName="/ppt/media/image5.png" ContentType="image/png"/>
  <Override PartName="/ppt/media/image10.png" ContentType="image/png"/>
  <Override PartName="/ppt/media/WHOOSH.WAV" ContentType="audio/x-wav"/>
  <Override PartName="/ppt/media/image14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A926-73B2-474F-BAFF-D35CDA1F5D7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B53F-4F30-4264-AABC-0864456B4102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C726-10FB-4C5A-85A0-4ECA719441DF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CEE7-2BE5-4324-B966-6FAAD6C40E40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F19B-DCB7-4694-8191-AE643BC14CDD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E878-2EC6-48C9-A4E4-BB8736DE59F4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A6A7-6DA6-4790-9C2E-CA748287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5EBC-FB1B-4CAD-BF7C-201251F8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FAD1-3EEE-4E84-A2E7-EEF1B033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6CDB-F30D-4DDD-8BE2-EB5BE9C4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18C0-97B8-4F8B-811F-27EFF36F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4D6D-04E6-4007-9D06-82F6A5AF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AC83-A662-425B-8593-378EFC4C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F29E-7A82-48F4-9F8C-16DACA68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1EB7-4BC2-4CD7-B3EF-58A46901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F588-FCF4-4B07-9B56-390A88E8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7594-ED1D-4DB6-A8D5-63536A10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0A9-29E8-4163-AD0C-29FA623A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DBED-FFF4-4935-B291-0E18E0C0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F051-45ED-4CE8-9A6D-4CCB85F9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B895-6E2B-4570-99BA-506C4950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C213-DDE7-41F2-A0B2-641349D4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BDF6-08A1-4CFC-9AAF-829D2FFB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6642-AA2C-4A65-8E06-1315AEF0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CA05-C33D-4CC6-9AE9-B8468C73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4DE-16FD-4C4A-855B-6050C152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BF1-068C-40AE-BC70-535D7FD8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ECCA-1ED3-4BA5-A529-7D123D70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814B-373C-4A17-90D8-5F6EF327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116-5B72-47E1-ABCF-85A57CEA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0950-389B-4DAE-8CBE-E2BC3ED93EC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880"/>
              <a:ext cx="3624120" cy="6136200"/>
              <a:chOff x="5406480" y="56880"/>
              <a:chExt cx="3624120" cy="61362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200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480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873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924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104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6640" y="124020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120" y="2930040"/>
                <a:ext cx="523800" cy="3268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320" y="288720"/>
              <a:ext cx="892800" cy="825840"/>
              <a:chOff x="5647320" y="28872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920" y="78372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404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680" y="38844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29800"/>
              <a:chOff x="968760" y="525672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0600"/>
                <a:ext cx="25092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192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383D-3346-4133-8342-FF2F6EB5317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295280" y="10666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133720" y="608796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1332000" y="476280"/>
            <a:ext cx="7200720" cy="405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минутка на уроке в основной школе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1116000" y="479736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e2f04"/>
                </a:solidFill>
                <a:latin typeface="Arial"/>
              </a:rPr>
              <a:t>Проект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e2f04"/>
                </a:solidFill>
                <a:latin typeface="Arial"/>
              </a:rPr>
              <a:t>выполнила</a:t>
            </a:r>
            <a:br>
              <a:rPr sz="2400"/>
            </a:br>
            <a:r>
              <a:rPr b="0" lang="ru-RU" sz="2400" spc="-1" strike="noStrike">
                <a:solidFill>
                  <a:srgbClr val="ce2f04"/>
                </a:solidFill>
                <a:latin typeface="Arial"/>
              </a:rPr>
              <a:t>Полухина Мария </a:t>
            </a:r>
            <a:br>
              <a:rPr sz="2400"/>
            </a:br>
            <a:r>
              <a:rPr b="0" lang="ru-RU" sz="2400" spc="-1" strike="noStrike">
                <a:solidFill>
                  <a:srgbClr val="ce2f04"/>
                </a:solidFill>
                <a:latin typeface="Arial"/>
              </a:rPr>
              <a:t>ученица 6«Б» кл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e2f04"/>
                </a:solidFill>
                <a:latin typeface="Arial"/>
              </a:rPr>
              <a:t>ОГООУ «СШИ №4»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22" descr="Photo-0084"/>
          <p:cNvPicPr/>
          <p:nvPr/>
        </p:nvPicPr>
        <p:blipFill>
          <a:blip r:embed="rId1"/>
          <a:stretch/>
        </p:blipFill>
        <p:spPr>
          <a:xfrm>
            <a:off x="3348000" y="2349360"/>
            <a:ext cx="3168720" cy="2535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d13bf"/>
                </a:solidFill>
                <a:latin typeface="Verdana"/>
              </a:rPr>
              <a:t>Знакомство С НОВЫМИ ФИЗМИНУТКАМ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2" name="Picture 4" descr="Photo-0078"/>
          <p:cNvPicPr/>
          <p:nvPr/>
        </p:nvPicPr>
        <p:blipFill>
          <a:blip r:embed="rId1"/>
          <a:stretch/>
        </p:blipFill>
        <p:spPr>
          <a:xfrm>
            <a:off x="6227640" y="1628640"/>
            <a:ext cx="2498760" cy="1998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Photo-0079"/>
          <p:cNvPicPr/>
          <p:nvPr/>
        </p:nvPicPr>
        <p:blipFill>
          <a:blip r:embed="rId2"/>
          <a:stretch/>
        </p:blipFill>
        <p:spPr>
          <a:xfrm>
            <a:off x="5904000" y="3860640"/>
            <a:ext cx="3240000" cy="2592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Photo-0081"/>
          <p:cNvPicPr/>
          <p:nvPr/>
        </p:nvPicPr>
        <p:blipFill>
          <a:blip r:embed="rId3"/>
          <a:stretch/>
        </p:blipFill>
        <p:spPr>
          <a:xfrm>
            <a:off x="900000" y="2349360"/>
            <a:ext cx="4680000" cy="374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оздравление с Днём учителя и вручение сборника с  физминутками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6" name="Picture 4" descr="Photo-0074"/>
          <p:cNvPicPr/>
          <p:nvPr/>
        </p:nvPicPr>
        <p:blipFill>
          <a:blip r:embed="rId1"/>
          <a:stretch/>
        </p:blipFill>
        <p:spPr>
          <a:xfrm>
            <a:off x="755640" y="2924280"/>
            <a:ext cx="3743280" cy="2993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Photo-0075"/>
          <p:cNvPicPr/>
          <p:nvPr/>
        </p:nvPicPr>
        <p:blipFill>
          <a:blip r:embed="rId2"/>
          <a:stretch/>
        </p:blipFill>
        <p:spPr>
          <a:xfrm>
            <a:off x="4643280" y="2895480"/>
            <a:ext cx="3313440" cy="2649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24364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Verdana"/>
              </a:rPr>
              <a:t>Вывод: После проводимых упражнений дети легко включались в работу и выполняли ее быстрее. Таким образом, восстанавливалось потраченное время урока.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9" name="Picture 3" descr="Photo-0143"/>
          <p:cNvPicPr/>
          <p:nvPr/>
        </p:nvPicPr>
        <p:blipFill>
          <a:blip r:embed="rId1"/>
          <a:stretch/>
        </p:blipFill>
        <p:spPr>
          <a:xfrm>
            <a:off x="539640" y="429264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Photo-0129"/>
          <p:cNvPicPr/>
          <p:nvPr/>
        </p:nvPicPr>
        <p:blipFill>
          <a:blip r:embed="rId2"/>
          <a:stretch/>
        </p:blipFill>
        <p:spPr>
          <a:xfrm>
            <a:off x="5796000" y="4508640"/>
            <a:ext cx="2556000" cy="1915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hoto-0082"/>
          <p:cNvPicPr/>
          <p:nvPr/>
        </p:nvPicPr>
        <p:blipFill>
          <a:blip r:embed="rId3"/>
          <a:stretch/>
        </p:blipFill>
        <p:spPr>
          <a:xfrm>
            <a:off x="3203640" y="3284640"/>
            <a:ext cx="2808360" cy="2246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Стоп, уроки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Стоп, дела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Отдыхать пришла пора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4" descr="PE01821_"/>
          <p:cNvPicPr/>
          <p:nvPr/>
        </p:nvPicPr>
        <p:blipFill>
          <a:blip r:embed="rId1"/>
          <a:stretch/>
        </p:blipFill>
        <p:spPr>
          <a:xfrm>
            <a:off x="2700360" y="3429000"/>
            <a:ext cx="3384360" cy="3218040"/>
          </a:xfrm>
          <a:prstGeom prst="rect">
            <a:avLst/>
          </a:prstGeom>
          <a:ln w="0">
            <a:noFill/>
          </a:ln>
        </p:spPr>
      </p:pic>
      <p:sp>
        <p:nvSpPr>
          <p:cNvPr id="182" name="WordArt 6"/>
          <p:cNvSpPr txBox="1"/>
          <p:nvPr/>
        </p:nvSpPr>
        <p:spPr>
          <a:xfrm>
            <a:off x="2484360" y="260280"/>
            <a:ext cx="462924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минут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3" name="Picture 7" descr="byd"/>
          <p:cNvPicPr/>
          <p:nvPr/>
        </p:nvPicPr>
        <p:blipFill>
          <a:blip r:embed="rId2"/>
          <a:stretch/>
        </p:blipFill>
        <p:spPr>
          <a:xfrm>
            <a:off x="7885080" y="189000"/>
            <a:ext cx="860400" cy="1366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3544920" y="4794120"/>
            <a:ext cx="5599080" cy="18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Если Вы хотите, чтобы жизнь  улыбалась ВАМ, подарите ей сначала своё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ХОРОШЕЕ НАСТРОЕНИЕ и ЗДОРОВЬЕ</a:t>
            </a:r>
            <a:r>
              <a:rPr b="0" lang="en-US" sz="1800" spc="-1" strike="noStrike">
                <a:solidFill>
                  <a:srgbClr val="ff00ff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                          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. Спиноз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84360" y="766080"/>
            <a:ext cx="7272360" cy="338580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d13bf"/>
                </a:solidFill>
                <a:latin typeface="Broadway"/>
              </a:rPr>
              <a:t>Цель проекта:</a:t>
            </a:r>
            <a:r>
              <a:rPr b="0" lang="ru-RU" sz="3600" spc="-1" strike="noStrike">
                <a:solidFill>
                  <a:srgbClr val="7d13bf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7d13bf"/>
                </a:solidFill>
                <a:latin typeface="Showcard Gothic"/>
              </a:rPr>
              <a:t>помочь учителям  пополнить банк имеющихся физминуток новыми, интересными для детей, несущими отдых, разрядку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Picture 5" descr="C:\Documents and Settings\Владислав\Мои документы\Дарья\физкультминутка\дарья\Котяра.gif"/>
          <p:cNvPicPr/>
          <p:nvPr/>
        </p:nvPicPr>
        <p:blipFill>
          <a:blip r:embed="rId1"/>
          <a:stretch/>
        </p:blipFill>
        <p:spPr>
          <a:xfrm>
            <a:off x="642960" y="4143240"/>
            <a:ext cx="2500200" cy="25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324000" y="1989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763640" y="189000"/>
            <a:ext cx="53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d13bf"/>
                </a:solidFill>
                <a:latin typeface="Arial"/>
              </a:rPr>
              <a:t>Проблема: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9" name="Picture 6" descr="2"/>
          <p:cNvPicPr/>
          <p:nvPr/>
        </p:nvPicPr>
        <p:blipFill>
          <a:blip r:embed="rId1"/>
          <a:srcRect l="0" t="0" r="48408" b="0"/>
          <a:stretch/>
        </p:blipFill>
        <p:spPr>
          <a:xfrm>
            <a:off x="7812000" y="189000"/>
            <a:ext cx="1147680" cy="15573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7"/>
          <p:cNvSpPr/>
          <p:nvPr/>
        </p:nvSpPr>
        <p:spPr>
          <a:xfrm>
            <a:off x="357120" y="1285920"/>
            <a:ext cx="7950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По оценкам отечественных и зарубежных специалистов, у современных школьников в последнее время наблюдается снижение темпов роста, отмечается замедление развития. Получение учащимися образования происходит с ущербом для здоровья.  Поэтому создаются здоровьесберегающие программы, одним из требований которых является присутствие на уроке оздоровительных моментов: физкультминуток, дыхательной гимнастики, гимнастики для глаз..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7" descr="C:\Documents and Settings\Владислав\Мои документы\Дарья\физкультминутка\дарья\file_php_id=15436100004f502e9da338892089e3db3a5df8c06c.gif"/>
          <p:cNvPicPr/>
          <p:nvPr/>
        </p:nvPicPr>
        <p:blipFill>
          <a:blip r:embed="rId2"/>
          <a:stretch/>
        </p:blipFill>
        <p:spPr>
          <a:xfrm>
            <a:off x="1071720" y="4572000"/>
            <a:ext cx="32860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Актуальность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900000" y="1629720"/>
            <a:ext cx="748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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Учителя, готовясь к уроку, тратят много сил и времени на поиск заданий обучающего характера.  На поиск разнообразных форм физминуток времени не остаётся. Нет методических пособий с физминутками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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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С ПОЗИЦИИ УЧЕНИКА МНЕ ХОРОШО ИЗВЕСТНО, КАКИЕ ФИЗМИНУТКИ НРАВЯТСЯ ДЕТЯМ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1476360" y="1197000"/>
            <a:ext cx="684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80"/>
              </a:buClr>
              <a:buFont typeface="Odessa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Odessa LET"/>
              </a:rPr>
              <a:t>Выяснить в чем заключаются основные задачи физминуток на урок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Odessa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Odessa LET"/>
              </a:rPr>
              <a:t> </a:t>
            </a:r>
            <a:r>
              <a:rPr b="1" i="1" lang="ru-RU" sz="3200" spc="-1" strike="noStrike">
                <a:solidFill>
                  <a:srgbClr val="800080"/>
                </a:solidFill>
                <a:latin typeface="Odessa LET"/>
              </a:rPr>
              <a:t>Познакомиться с различными формами проведения физминуток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Odessa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Odessa LET"/>
              </a:rPr>
              <a:t>Собрать банк физминуток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AutoShape 4">
            <a:hlinkClick r:id="rId1" action="ppaction://hlinksldjump"/>
          </p:cNvPr>
          <p:cNvSpPr/>
          <p:nvPr/>
        </p:nvSpPr>
        <p:spPr>
          <a:xfrm>
            <a:off x="0" y="333360"/>
            <a:ext cx="8964720" cy="609480"/>
          </a:xfrm>
          <a:custGeom>
            <a:avLst/>
            <a:gdLst>
              <a:gd name="textAreaLeft" fmla="*/ 2241000 w 8964720"/>
              <a:gd name="textAreaRight" fmla="*/ 6723720 w 896472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Verdana"/>
              </a:rPr>
              <a:t>Задачи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6" descr="j0232607"/>
          <p:cNvPicPr/>
          <p:nvPr/>
        </p:nvPicPr>
        <p:blipFill>
          <a:blip r:embed="rId2"/>
          <a:stretch/>
        </p:blipFill>
        <p:spPr>
          <a:xfrm>
            <a:off x="6715080" y="4929120"/>
            <a:ext cx="1714680" cy="192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6"/>
          <p:cNvSpPr/>
          <p:nvPr/>
        </p:nvSpPr>
        <p:spPr>
          <a:xfrm>
            <a:off x="2743200" y="304812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Rectangle 53"/>
          <p:cNvSpPr/>
          <p:nvPr/>
        </p:nvSpPr>
        <p:spPr>
          <a:xfrm>
            <a:off x="395280" y="1715400"/>
            <a:ext cx="792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7d13b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d13bf"/>
                </a:solidFill>
                <a:latin typeface="Arial"/>
              </a:rPr>
              <a:t>Опросить учащихся и учителей о том, какие физминутки проводятся на уроках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7d13b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d13bf"/>
                </a:solidFill>
                <a:latin typeface="Arial"/>
              </a:rPr>
              <a:t>Подобрать новые тексты к физминуткам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7d13b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d13bf"/>
                </a:solidFill>
                <a:latin typeface="Arial"/>
              </a:rPr>
              <a:t>Оформить материа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7d13b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d13b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7d13bf"/>
                </a:solidFill>
                <a:latin typeface="Arial"/>
              </a:rPr>
              <a:t>Ознакомить УЧИТЕЛЕЙ И УЧЕНИКОВ С НОВЫМИ ФИЗМИНУТКАМИ,</a:t>
            </a:r>
            <a:r>
              <a:rPr b="1" lang="ru-RU" sz="2400" spc="-1" strike="noStrike">
                <a:solidFill>
                  <a:srgbClr val="7d13b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7d13bf"/>
                </a:solidFill>
                <a:latin typeface="Arial"/>
              </a:rPr>
              <a:t>ПРОВЕСТИ Мастер- КЛАСС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d13b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7d13b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Rectangle 55"/>
          <p:cNvSpPr/>
          <p:nvPr/>
        </p:nvSpPr>
        <p:spPr>
          <a:xfrm>
            <a:off x="1332000" y="404640"/>
            <a:ext cx="704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d13bf"/>
                </a:solidFill>
                <a:latin typeface="Verdana"/>
              </a:rPr>
              <a:t>ЭТАПЫ РАБОТЫ НАД ПРОЕКТОМ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Picture 56" descr="BD07156_"/>
          <p:cNvPicPr/>
          <p:nvPr/>
        </p:nvPicPr>
        <p:blipFill>
          <a:blip r:embed="rId1"/>
          <a:stretch/>
        </p:blipFill>
        <p:spPr>
          <a:xfrm>
            <a:off x="7315200" y="152280"/>
            <a:ext cx="1589040" cy="1349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C:\Documents and Settings\Владислав\Мои документы\Дарья\физкультминутка\дарья\kids1.jpg"/>
          <p:cNvPicPr/>
          <p:nvPr/>
        </p:nvPicPr>
        <p:blipFill>
          <a:blip r:embed="rId2"/>
          <a:stretch/>
        </p:blipFill>
        <p:spPr>
          <a:xfrm>
            <a:off x="2500200" y="4071960"/>
            <a:ext cx="3857760" cy="2550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1187280" y="401724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14" descr=""/>
          <p:cNvPicPr/>
          <p:nvPr/>
        </p:nvPicPr>
        <p:blipFill>
          <a:blip r:embed="rId1"/>
          <a:stretch/>
        </p:blipFill>
        <p:spPr>
          <a:xfrm>
            <a:off x="7781760" y="5038560"/>
            <a:ext cx="1362240" cy="18194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5"/>
          <p:cNvSpPr/>
          <p:nvPr/>
        </p:nvSpPr>
        <p:spPr>
          <a:xfrm>
            <a:off x="1000080" y="1143000"/>
            <a:ext cx="770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Verdana"/>
              </a:rPr>
              <a:t>подвижная игра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Verdana"/>
              </a:rPr>
              <a:t>имитация трудовых действий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Verdana"/>
              </a:rPr>
              <a:t>произнесение чистоговорок, сопровождающееся действиями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Verdana"/>
              </a:rPr>
              <a:t>физминутки в форме психофизической гимнастики, когда дети мимикой, жестами и движениями изображают разных животных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Verdana"/>
              </a:rPr>
              <a:t>Гимнастика для глаз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1131480" y="404640"/>
            <a:ext cx="68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Формы проведения физминуток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BD14710_"/>
          <p:cNvPicPr/>
          <p:nvPr/>
        </p:nvPicPr>
        <p:blipFill>
          <a:blip r:embed="rId1"/>
          <a:stretch/>
        </p:blipFill>
        <p:spPr>
          <a:xfrm>
            <a:off x="1116000" y="1268280"/>
            <a:ext cx="6858000" cy="114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j0240719"/>
          <p:cNvPicPr/>
          <p:nvPr/>
        </p:nvPicPr>
        <p:blipFill>
          <a:blip r:embed="rId2"/>
          <a:stretch/>
        </p:blipFill>
        <p:spPr>
          <a:xfrm>
            <a:off x="7596360" y="4221000"/>
            <a:ext cx="1161720" cy="18288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Основные задачи физминутк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1187280" y="1773360"/>
            <a:ext cx="712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несение эмоционального заряда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вершенствовании общей моторики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работка четких координированных движений во взаимосвязи с речью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сстановление и активизация организма.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00:17:38Z</dcterms:created>
  <dc:creator>Yu L</dc:creator>
  <dc:description/>
  <dc:language>en-US</dc:language>
  <cp:lastModifiedBy>Слава</cp:lastModifiedBy>
  <dcterms:modified xsi:type="dcterms:W3CDTF">2009-11-26T09:40:40Z</dcterms:modified>
  <cp:revision>27</cp:revision>
  <dc:subject/>
  <dc:title>Заголовок слайда отсутствует</dc:title>
</cp:coreProperties>
</file>