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12.wmf" ContentType="image/x-wmf"/>
  <Override PartName="/ppt/media/CAMERA.WAV" ContentType="audio/x-wav"/>
  <Override PartName="/ppt/media/image5.png" ContentType="image/png"/>
  <Override PartName="/ppt/media/image10.png" ContentType="image/png"/>
  <Override PartName="/ppt/media/WHOOSH.WAV" ContentType="audio/x-wav"/>
  <Override PartName="/ppt/media/image14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C3E-128D-49CE-830E-72557AF901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3AD6-833D-422B-ADE9-C5037C8212A7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943F-4349-448C-9890-0DF843761A33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9179-C367-4627-A01B-94155BBD6DF5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E7A-8990-4539-9A7C-2CD60397EE8F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E41-A920-4C4A-B49C-4041157BBA89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CCF-DE67-43DE-987D-3472C020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B1A-AF5F-42B1-8C57-1C821F6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079-1D9D-420D-B2A6-E6A723AA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195-9A67-48C0-9F95-1DE92781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1711-9883-45C1-964D-080969CB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269A-FAAA-4660-9481-E3CF9590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312-750B-49FC-841E-CB86D8C8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28AA-DA78-4365-894D-1BA6C273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69A-0F24-467E-A818-18B88E5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F4BE-E6A9-4A84-A933-690B56E9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571B-EDEC-4855-A1C5-D8C9F15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F66-8203-4CC7-B4D9-5A49C2A5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41C6-A257-4EB5-871D-05043EFE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BEDA-6E08-49BE-812B-0FD2D343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FE22-4B00-4274-AD3E-A4280D02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706D-E424-4588-B09A-059E5446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ACB5-A28E-412C-8D11-4C26B815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8D5-A329-4D20-8F1F-F6DBBF7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E35-FED3-4A6C-AA69-ED621B10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8E0-1C9E-41BA-8184-947E32DC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154-7040-4690-B760-BBE35936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E55-CF0C-4773-9570-1522BD7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FE5-9AE7-4CF1-BA72-0656A6C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CBE-CD13-4B76-B9B5-06EC5DE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9249-23EC-4E6E-8476-BEBEAF200E5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E890-E14B-48F7-A236-D34AF62BABE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295280" y="10666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133720" y="608796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1332000" y="476280"/>
            <a:ext cx="720072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 на уроке в основной школ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1116000" y="479736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Проек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выполнила</a:t>
            </a:r>
            <a:br>
              <a:rPr sz="2400"/>
            </a:b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Полухина Мария </a:t>
            </a:r>
            <a:br>
              <a:rPr sz="2400"/>
            </a:b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ученица 6«Б» кл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ОГООУ «СШИ №4»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22" descr="Photo-0084"/>
          <p:cNvPicPr/>
          <p:nvPr/>
        </p:nvPicPr>
        <p:blipFill>
          <a:blip r:embed="rId1"/>
          <a:stretch/>
        </p:blipFill>
        <p:spPr>
          <a:xfrm>
            <a:off x="3348000" y="2349360"/>
            <a:ext cx="3168720" cy="253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d13bf"/>
                </a:solidFill>
                <a:latin typeface="Verdana"/>
              </a:rPr>
              <a:t>Знакомство С НОВЫМИ ФИЗМИНУТКА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Photo-0078"/>
          <p:cNvPicPr/>
          <p:nvPr/>
        </p:nvPicPr>
        <p:blipFill>
          <a:blip r:embed="rId1"/>
          <a:stretch/>
        </p:blipFill>
        <p:spPr>
          <a:xfrm>
            <a:off x="6227640" y="1628640"/>
            <a:ext cx="2498760" cy="199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Photo-0079"/>
          <p:cNvPicPr/>
          <p:nvPr/>
        </p:nvPicPr>
        <p:blipFill>
          <a:blip r:embed="rId2"/>
          <a:stretch/>
        </p:blipFill>
        <p:spPr>
          <a:xfrm>
            <a:off x="5904000" y="3860640"/>
            <a:ext cx="3240000" cy="259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Photo-0081"/>
          <p:cNvPicPr/>
          <p:nvPr/>
        </p:nvPicPr>
        <p:blipFill>
          <a:blip r:embed="rId3"/>
          <a:stretch/>
        </p:blipFill>
        <p:spPr>
          <a:xfrm>
            <a:off x="900000" y="2349360"/>
            <a:ext cx="4680000" cy="374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здравление с Днём учителя и вручение сборника с  физминутками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Picture 4" descr="Photo-0074"/>
          <p:cNvPicPr/>
          <p:nvPr/>
        </p:nvPicPr>
        <p:blipFill>
          <a:blip r:embed="rId1"/>
          <a:stretch/>
        </p:blipFill>
        <p:spPr>
          <a:xfrm>
            <a:off x="755640" y="2924280"/>
            <a:ext cx="3743280" cy="299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Photo-0075"/>
          <p:cNvPicPr/>
          <p:nvPr/>
        </p:nvPicPr>
        <p:blipFill>
          <a:blip r:embed="rId2"/>
          <a:stretch/>
        </p:blipFill>
        <p:spPr>
          <a:xfrm>
            <a:off x="4643280" y="2895480"/>
            <a:ext cx="331344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Вывод: После проводимых упражнений дети легко включались в работу и выполняли ее быстрее. Таким образом, восстанавливалось потраченное время урока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3" descr="Photo-0143"/>
          <p:cNvPicPr/>
          <p:nvPr/>
        </p:nvPicPr>
        <p:blipFill>
          <a:blip r:embed="rId1"/>
          <a:stretch/>
        </p:blipFill>
        <p:spPr>
          <a:xfrm>
            <a:off x="539640" y="4292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Photo-0129"/>
          <p:cNvPicPr/>
          <p:nvPr/>
        </p:nvPicPr>
        <p:blipFill>
          <a:blip r:embed="rId2"/>
          <a:stretch/>
        </p:blipFill>
        <p:spPr>
          <a:xfrm>
            <a:off x="5796000" y="4508640"/>
            <a:ext cx="2556000" cy="191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hoto-0082"/>
          <p:cNvPicPr/>
          <p:nvPr/>
        </p:nvPicPr>
        <p:blipFill>
          <a:blip r:embed="rId3"/>
          <a:stretch/>
        </p:blipFill>
        <p:spPr>
          <a:xfrm>
            <a:off x="3203640" y="3284640"/>
            <a:ext cx="2808360" cy="224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оп, уроки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оп, дел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Отдыхать пришла пора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4" descr="PE01821_"/>
          <p:cNvPicPr/>
          <p:nvPr/>
        </p:nvPicPr>
        <p:blipFill>
          <a:blip r:embed="rId1"/>
          <a:stretch/>
        </p:blipFill>
        <p:spPr>
          <a:xfrm>
            <a:off x="2700360" y="3429000"/>
            <a:ext cx="3384360" cy="32180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6"/>
          <p:cNvSpPr txBox="1"/>
          <p:nvPr/>
        </p:nvSpPr>
        <p:spPr>
          <a:xfrm>
            <a:off x="2484360" y="260280"/>
            <a:ext cx="462924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7" descr="byd"/>
          <p:cNvPicPr/>
          <p:nvPr/>
        </p:nvPicPr>
        <p:blipFill>
          <a:blip r:embed="rId2"/>
          <a:stretch/>
        </p:blipFill>
        <p:spPr>
          <a:xfrm>
            <a:off x="7885080" y="189000"/>
            <a:ext cx="86040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544920" y="4794120"/>
            <a:ext cx="559908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Если Вы хотите, чтобы жизнь  улыбалась ВАМ, подарите ей сначала своё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ХОРОШЕЕ НАСТРОЕНИЕ и ЗДОРОВЬЕ</a:t>
            </a: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. Спиноз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84360" y="766080"/>
            <a:ext cx="7272360" cy="338580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d13bf"/>
                </a:solidFill>
                <a:latin typeface="Broadway"/>
              </a:rPr>
              <a:t>Цель проекта:</a:t>
            </a:r>
            <a:r>
              <a:rPr b="0" lang="ru-RU" sz="3600" spc="-1" strike="noStrike">
                <a:solidFill>
                  <a:srgbClr val="7d13b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7d13bf"/>
                </a:solidFill>
                <a:latin typeface="Showcard Gothic"/>
              </a:rPr>
              <a:t>помочь учителям  пополнить банк имеющихся физминуток новыми, интересными для детей, несущими отдых, разрядку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5" descr="C:\Documents and Settings\Владислав\Мои документы\Дарья\физкультминутка\дарья\Котяра.gif"/>
          <p:cNvPicPr/>
          <p:nvPr/>
        </p:nvPicPr>
        <p:blipFill>
          <a:blip r:embed="rId1"/>
          <a:stretch/>
        </p:blipFill>
        <p:spPr>
          <a:xfrm>
            <a:off x="642960" y="414324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24000" y="1989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63640" y="18900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d13bf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6" descr="2"/>
          <p:cNvPicPr/>
          <p:nvPr/>
        </p:nvPicPr>
        <p:blipFill>
          <a:blip r:embed="rId1"/>
          <a:srcRect l="0" t="0" r="48408" b="0"/>
          <a:stretch/>
        </p:blipFill>
        <p:spPr>
          <a:xfrm>
            <a:off x="7812000" y="189000"/>
            <a:ext cx="1147680" cy="1557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357120" y="1285920"/>
            <a:ext cx="7950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По оценкам отечественных и зарубежных специалистов, у современных школьников в последнее время наблюдается снижение темпов роста, отмечается замедление развития. Получение учащимися образования происходит с ущербом для здоровья.  Поэтому создаются здоровьесберегающие программы, одним из требований которых является присутствие на уроке оздоровительных моментов: физкультминуток, дыхательной гимнастики, гимнастики для глаз.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7" descr="C:\Documents and Settings\Владислав\Мои документы\Дарья\физкультминутка\дарья\file_php_id=15436100004f502e9da338892089e3db3a5df8c06c.gif"/>
          <p:cNvPicPr/>
          <p:nvPr/>
        </p:nvPicPr>
        <p:blipFill>
          <a:blip r:embed="rId2"/>
          <a:stretch/>
        </p:blipFill>
        <p:spPr>
          <a:xfrm>
            <a:off x="1071720" y="4572000"/>
            <a:ext cx="3286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ктуальнос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900000" y="162972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Учителя, готовясь к уроку, тратят много сил и времени на поиск заданий обучающего характера.  На поиск разнообразных форм физминуток времени не остаётся. Нет методических пособий с физминуткам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 ПОЗИЦИИ УЧЕНИКА МНЕ ХОРОШО ИЗВЕСТНО, КАКИЕ ФИЗМИНУТКИ НРАВЯТСЯ ДЕТЯ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1476360" y="1197000"/>
            <a:ext cx="68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Выяснить в чем заключаются основные задачи физминуток на уро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 </a:t>
            </a: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Познакомиться с различными формами проведения физмину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Собрать банк физмину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0" y="333360"/>
            <a:ext cx="8964720" cy="60948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6" descr="j0232607"/>
          <p:cNvPicPr/>
          <p:nvPr/>
        </p:nvPicPr>
        <p:blipFill>
          <a:blip r:embed="rId2"/>
          <a:stretch/>
        </p:blipFill>
        <p:spPr>
          <a:xfrm>
            <a:off x="6715080" y="4929120"/>
            <a:ext cx="171468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6"/>
          <p:cNvSpPr/>
          <p:nvPr/>
        </p:nvSpPr>
        <p:spPr>
          <a:xfrm>
            <a:off x="2743200" y="304812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395280" y="171540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просить учащихся и учителей о том, какие физминутки проводятся на урок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Подобрать новые тексты к физминутка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формить матери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знакомить УЧИТЕЛЕЙ И УЧЕНИКОВ С НОВЫМИ ФИЗМИНУТКАМИ,</a:t>
            </a:r>
            <a:r>
              <a:rPr b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ПРОВЕСТИ Мастер- КЛАС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55"/>
          <p:cNvSpPr/>
          <p:nvPr/>
        </p:nvSpPr>
        <p:spPr>
          <a:xfrm>
            <a:off x="1332000" y="404640"/>
            <a:ext cx="70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d13bf"/>
                </a:solidFill>
                <a:latin typeface="Verdana"/>
              </a:rPr>
              <a:t>ЭТАПЫ РАБОТЫ НАД ПРОЕКТОМ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6" descr="BD07156_"/>
          <p:cNvPicPr/>
          <p:nvPr/>
        </p:nvPicPr>
        <p:blipFill>
          <a:blip r:embed="rId1"/>
          <a:stretch/>
        </p:blipFill>
        <p:spPr>
          <a:xfrm>
            <a:off x="7315200" y="152280"/>
            <a:ext cx="1589040" cy="134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Documents and Settings\Владислав\Мои документы\Дарья\физкультминутка\дарья\kids1.jpg"/>
          <p:cNvPicPr/>
          <p:nvPr/>
        </p:nvPicPr>
        <p:blipFill>
          <a:blip r:embed="rId2"/>
          <a:stretch/>
        </p:blipFill>
        <p:spPr>
          <a:xfrm>
            <a:off x="2500200" y="4071960"/>
            <a:ext cx="385776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1187280" y="40172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1"/>
          <a:stretch/>
        </p:blipFill>
        <p:spPr>
          <a:xfrm>
            <a:off x="7781760" y="5038560"/>
            <a:ext cx="1362240" cy="1819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5"/>
          <p:cNvSpPr/>
          <p:nvPr/>
        </p:nvSpPr>
        <p:spPr>
          <a:xfrm>
            <a:off x="1000080" y="114300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подвижная игр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имитация трудовых действий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произнесение чистоговорок, сопровождающееся действиям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физминутки в форме психофизической гимнастики, когда дети мимикой, жестами и движениями изображают разных животны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Гимнастика для гла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131480" y="40464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ормы проведения физминуток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BD14710_"/>
          <p:cNvPicPr/>
          <p:nvPr/>
        </p:nvPicPr>
        <p:blipFill>
          <a:blip r:embed="rId1"/>
          <a:stretch/>
        </p:blipFill>
        <p:spPr>
          <a:xfrm>
            <a:off x="1116000" y="126828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j0240719"/>
          <p:cNvPicPr/>
          <p:nvPr/>
        </p:nvPicPr>
        <p:blipFill>
          <a:blip r:embed="rId2"/>
          <a:stretch/>
        </p:blipFill>
        <p:spPr>
          <a:xfrm>
            <a:off x="7596360" y="4221000"/>
            <a:ext cx="1161720" cy="1828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сновные задачи физминут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187280" y="177336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несение эмоционального заряд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вершенствовании общей моторик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работка четких координированных движений во взаимосвязи с речью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становление и активизация организма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0:17:38Z</dcterms:created>
  <dc:creator>Yu L</dc:creator>
  <dc:description/>
  <dc:language>en-US</dc:language>
  <cp:lastModifiedBy>Слава</cp:lastModifiedBy>
  <dcterms:modified xsi:type="dcterms:W3CDTF">2009-11-26T09:40:40Z</dcterms:modified>
  <cp:revision>27</cp:revision>
  <dc:subject/>
  <dc:title>Заголовок слайда отсутствует</dc:title>
</cp:coreProperties>
</file>