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12.wmf" ContentType="image/x-wmf"/>
  <Override PartName="/ppt/media/CAMERA.WAV" ContentType="audio/x-wav"/>
  <Override PartName="/ppt/media/image5.png" ContentType="image/png"/>
  <Override PartName="/ppt/media/image10.png" ContentType="image/png"/>
  <Override PartName="/ppt/media/WHOOSH.WAV" ContentType="audio/x-wav"/>
  <Override PartName="/ppt/media/image14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FFF9-EA46-42CC-8AB9-202180B184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6CAB-63FC-4419-A7F9-EAD74FBC37E6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6E2-B22B-47E6-9CD9-D580C4E88F14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E0C-EF77-4954-95BB-4D95F0FBEBFA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E2C9-A7F5-4919-8185-49267FA1EE33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AB0B-B62B-47AE-BB07-F5A0E5CBF38C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666-633E-406C-9FB7-1618915E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5CD-6869-4EF8-9F29-E50DF2C7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836-9C35-40D5-8682-E58ACB28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0DB-C015-4A5C-B324-74D16C0A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F54A-C892-4437-A3B2-0ABE3C70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BD50-9735-489E-A997-8BE1EC2F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D70D-2990-411E-995F-DA5B85E0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22CD-05EF-4238-90CE-FCAB69D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550E-E12D-4A0C-8770-04B7E06A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EB41-0538-455E-92BC-C34D1DF8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FEF0-45FD-48F7-997E-8D9E1D61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4AA-9F75-413D-BC29-154C7402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9937-0F9C-4E8F-9820-14BDB9BC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B711-89BF-446F-B04D-32B1D7A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524E-42CA-4B34-AAAC-9ABE89B8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B669-59B7-4CD2-BC16-B6AB5279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D4E-88B6-4063-8DC3-C144A54C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F59-96B8-45A9-8015-F74D6890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6A3-33B5-4497-9651-7B0A43A3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581-EC39-42E1-A62B-663AAC61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3A2-5000-4606-8205-C57CA99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8E4-0F0E-486B-959E-EAC9A50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D64-3AEF-471E-A09B-F550B1CE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462-916F-4B07-BF18-834EBF5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BDA4-34A7-44E3-AAC0-BA5473569CA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B1B3-9582-47BB-93F1-6B9D851E700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295280" y="10666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133720" y="608796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1332000" y="476280"/>
            <a:ext cx="7200720" cy="405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минутка на уроке в основной школ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1116000" y="479736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Проек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выполнила</a:t>
            </a:r>
            <a:br>
              <a:rPr sz="2400"/>
            </a:b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Полухина Мария </a:t>
            </a:r>
            <a:br>
              <a:rPr sz="2400"/>
            </a:b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ученица 6«Б» кл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e2f04"/>
                </a:solidFill>
                <a:latin typeface="Arial"/>
              </a:rPr>
              <a:t>ОГООУ «СШИ №4»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22" descr="Photo-0084"/>
          <p:cNvPicPr/>
          <p:nvPr/>
        </p:nvPicPr>
        <p:blipFill>
          <a:blip r:embed="rId1"/>
          <a:stretch/>
        </p:blipFill>
        <p:spPr>
          <a:xfrm>
            <a:off x="3348000" y="2349360"/>
            <a:ext cx="3168720" cy="253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d13bf"/>
                </a:solidFill>
                <a:latin typeface="Verdana"/>
              </a:rPr>
              <a:t>Знакомство С НОВЫМИ ФИЗМИНУТКА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2" name="Picture 4" descr="Photo-0078"/>
          <p:cNvPicPr/>
          <p:nvPr/>
        </p:nvPicPr>
        <p:blipFill>
          <a:blip r:embed="rId1"/>
          <a:stretch/>
        </p:blipFill>
        <p:spPr>
          <a:xfrm>
            <a:off x="6227640" y="1628640"/>
            <a:ext cx="2498760" cy="199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Photo-0079"/>
          <p:cNvPicPr/>
          <p:nvPr/>
        </p:nvPicPr>
        <p:blipFill>
          <a:blip r:embed="rId2"/>
          <a:stretch/>
        </p:blipFill>
        <p:spPr>
          <a:xfrm>
            <a:off x="5904000" y="3860640"/>
            <a:ext cx="3240000" cy="259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Photo-0081"/>
          <p:cNvPicPr/>
          <p:nvPr/>
        </p:nvPicPr>
        <p:blipFill>
          <a:blip r:embed="rId3"/>
          <a:stretch/>
        </p:blipFill>
        <p:spPr>
          <a:xfrm>
            <a:off x="900000" y="2349360"/>
            <a:ext cx="4680000" cy="374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здравление с Днём учителя и вручение сборника с  физминутками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6" name="Picture 4" descr="Photo-0074"/>
          <p:cNvPicPr/>
          <p:nvPr/>
        </p:nvPicPr>
        <p:blipFill>
          <a:blip r:embed="rId1"/>
          <a:stretch/>
        </p:blipFill>
        <p:spPr>
          <a:xfrm>
            <a:off x="755640" y="2924280"/>
            <a:ext cx="3743280" cy="2993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Photo-0075"/>
          <p:cNvPicPr/>
          <p:nvPr/>
        </p:nvPicPr>
        <p:blipFill>
          <a:blip r:embed="rId2"/>
          <a:stretch/>
        </p:blipFill>
        <p:spPr>
          <a:xfrm>
            <a:off x="4643280" y="2895480"/>
            <a:ext cx="331344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24364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Вывод: После проводимых упражнений дети легко включались в работу и выполняли ее быстрее. Таким образом, восстанавливалось потраченное время урока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9" name="Picture 3" descr="Photo-0143"/>
          <p:cNvPicPr/>
          <p:nvPr/>
        </p:nvPicPr>
        <p:blipFill>
          <a:blip r:embed="rId1"/>
          <a:stretch/>
        </p:blipFill>
        <p:spPr>
          <a:xfrm>
            <a:off x="539640" y="4292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Photo-0129"/>
          <p:cNvPicPr/>
          <p:nvPr/>
        </p:nvPicPr>
        <p:blipFill>
          <a:blip r:embed="rId2"/>
          <a:stretch/>
        </p:blipFill>
        <p:spPr>
          <a:xfrm>
            <a:off x="5796000" y="4508640"/>
            <a:ext cx="2556000" cy="1915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hoto-0082"/>
          <p:cNvPicPr/>
          <p:nvPr/>
        </p:nvPicPr>
        <p:blipFill>
          <a:blip r:embed="rId3"/>
          <a:stretch/>
        </p:blipFill>
        <p:spPr>
          <a:xfrm>
            <a:off x="3203640" y="3284640"/>
            <a:ext cx="2808360" cy="224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оп, уроки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оп, дел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Отдыхать пришла пора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4" descr="PE01821_"/>
          <p:cNvPicPr/>
          <p:nvPr/>
        </p:nvPicPr>
        <p:blipFill>
          <a:blip r:embed="rId1"/>
          <a:stretch/>
        </p:blipFill>
        <p:spPr>
          <a:xfrm>
            <a:off x="2700360" y="3429000"/>
            <a:ext cx="3384360" cy="32180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6"/>
          <p:cNvSpPr txBox="1"/>
          <p:nvPr/>
        </p:nvSpPr>
        <p:spPr>
          <a:xfrm>
            <a:off x="2484360" y="260280"/>
            <a:ext cx="462924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7" descr="byd"/>
          <p:cNvPicPr/>
          <p:nvPr/>
        </p:nvPicPr>
        <p:blipFill>
          <a:blip r:embed="rId2"/>
          <a:stretch/>
        </p:blipFill>
        <p:spPr>
          <a:xfrm>
            <a:off x="7885080" y="189000"/>
            <a:ext cx="860400" cy="136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544920" y="4794120"/>
            <a:ext cx="5599080" cy="18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Если Вы хотите, чтобы жизнь  улыбалась ВАМ, подарите ей сначала своё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Verdana"/>
              </a:rPr>
              <a:t>ХОРОШЕЕ НАСТРОЕНИЕ и ЗДОРОВЬЕ</a:t>
            </a:r>
            <a:r>
              <a:rPr b="0" lang="en-US" sz="1800" spc="-1" strike="noStrike">
                <a:solidFill>
                  <a:srgbClr val="ff00ff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. Спиноз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84360" y="766080"/>
            <a:ext cx="7272360" cy="338580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d13bf"/>
                </a:solidFill>
                <a:latin typeface="Broadway"/>
              </a:rPr>
              <a:t>Цель проекта:</a:t>
            </a:r>
            <a:r>
              <a:rPr b="0" lang="ru-RU" sz="3600" spc="-1" strike="noStrike">
                <a:solidFill>
                  <a:srgbClr val="7d13b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7d13bf"/>
                </a:solidFill>
                <a:latin typeface="Showcard Gothic"/>
              </a:rPr>
              <a:t>помочь учителям  пополнить банк имеющихся физминуток новыми, интересными для детей, несущими отдых, разрядку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5" descr="C:\Documents and Settings\Владислав\Мои документы\Дарья\физкультминутка\дарья\Котяра.gif"/>
          <p:cNvPicPr/>
          <p:nvPr/>
        </p:nvPicPr>
        <p:blipFill>
          <a:blip r:embed="rId1"/>
          <a:stretch/>
        </p:blipFill>
        <p:spPr>
          <a:xfrm>
            <a:off x="642960" y="414324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24000" y="1989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763640" y="18900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d13bf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6" descr="2"/>
          <p:cNvPicPr/>
          <p:nvPr/>
        </p:nvPicPr>
        <p:blipFill>
          <a:blip r:embed="rId1"/>
          <a:srcRect l="0" t="0" r="48408" b="0"/>
          <a:stretch/>
        </p:blipFill>
        <p:spPr>
          <a:xfrm>
            <a:off x="7812000" y="189000"/>
            <a:ext cx="1147680" cy="1557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357120" y="1285920"/>
            <a:ext cx="7950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Verdana"/>
              </a:rPr>
              <a:t>По оценкам отечественных и зарубежных специалистов, у современных школьников в последнее время наблюдается снижение темпов роста, отмечается замедление развития. Получение учащимися образования происходит с ущербом для здоровья.  Поэтому создаются здоровьесберегающие программы, одним из требований которых является присутствие на уроке оздоровительных моментов: физкультминуток, дыхательной гимнастики, гимнастики для глаз..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7" descr="C:\Documents and Settings\Владислав\Мои документы\Дарья\физкультминутка\дарья\file_php_id=15436100004f502e9da338892089e3db3a5df8c06c.gif"/>
          <p:cNvPicPr/>
          <p:nvPr/>
        </p:nvPicPr>
        <p:blipFill>
          <a:blip r:embed="rId2"/>
          <a:stretch/>
        </p:blipFill>
        <p:spPr>
          <a:xfrm>
            <a:off x="1071720" y="4572000"/>
            <a:ext cx="3286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99"/>
                </a:solidFill>
                <a:latin typeface="Verdana"/>
              </a:rPr>
              <a:t>Актуальнос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900000" y="1629720"/>
            <a:ext cx="74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Учителя, готовясь к уроку, тратят много сил и времени на поиск заданий обучающего характера.  На поиск разнообразных форм физминуток времени не остаётся. Нет методических пособий с физминуткам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Wingdings" charset="2"/>
              <a:buChar char="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 ПОЗИЦИИ УЧЕНИКА МНЕ ХОРОШО ИЗВЕСТНО, КАКИЕ ФИЗМИНУТКИ НРАВЯТСЯ ДЕТЯ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1476360" y="1197000"/>
            <a:ext cx="68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Выяснить в чем заключаются основные задачи физминуток на уро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 </a:t>
            </a: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Познакомиться с различными формами проведения физмину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Odessa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Odessa LET"/>
              </a:rPr>
              <a:t>Собрать банк физмину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0" y="333360"/>
            <a:ext cx="8964720" cy="609480"/>
          </a:xfrm>
          <a:custGeom>
            <a:avLst/>
            <a:gdLst>
              <a:gd name="textAreaLeft" fmla="*/ 2241000 w 8964720"/>
              <a:gd name="textAreaRight" fmla="*/ 6723720 w 896472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Verdana"/>
              </a:rPr>
              <a:t>Задач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6" name="Picture 6" descr="j0232607"/>
          <p:cNvPicPr/>
          <p:nvPr/>
        </p:nvPicPr>
        <p:blipFill>
          <a:blip r:embed="rId2"/>
          <a:stretch/>
        </p:blipFill>
        <p:spPr>
          <a:xfrm>
            <a:off x="6715080" y="4929120"/>
            <a:ext cx="171468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6"/>
          <p:cNvSpPr/>
          <p:nvPr/>
        </p:nvSpPr>
        <p:spPr>
          <a:xfrm>
            <a:off x="2743200" y="304812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53"/>
          <p:cNvSpPr/>
          <p:nvPr/>
        </p:nvSpPr>
        <p:spPr>
          <a:xfrm>
            <a:off x="395280" y="171540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просить учащихся и учителей о том, какие физминутки проводятся на урок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Подобрать новые тексты к физминутка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формить материа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Ознакомить УЧИТЕЛЕЙ И УЧЕНИКОВ С НОВЫМИ ФИЗМИНУТКАМИ,</a:t>
            </a:r>
            <a:r>
              <a:rPr b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ПРОВЕСТИ Мастер- КЛАС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d13b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d13b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55"/>
          <p:cNvSpPr/>
          <p:nvPr/>
        </p:nvSpPr>
        <p:spPr>
          <a:xfrm>
            <a:off x="1332000" y="404640"/>
            <a:ext cx="70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d13bf"/>
                </a:solidFill>
                <a:latin typeface="Verdana"/>
              </a:rPr>
              <a:t>ЭТАПЫ РАБОТЫ НАД ПРОЕКТОМ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56" descr="BD07156_"/>
          <p:cNvPicPr/>
          <p:nvPr/>
        </p:nvPicPr>
        <p:blipFill>
          <a:blip r:embed="rId1"/>
          <a:stretch/>
        </p:blipFill>
        <p:spPr>
          <a:xfrm>
            <a:off x="7315200" y="152280"/>
            <a:ext cx="1589040" cy="134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Documents and Settings\Владислав\Мои документы\Дарья\физкультминутка\дарья\kids1.jpg"/>
          <p:cNvPicPr/>
          <p:nvPr/>
        </p:nvPicPr>
        <p:blipFill>
          <a:blip r:embed="rId2"/>
          <a:stretch/>
        </p:blipFill>
        <p:spPr>
          <a:xfrm>
            <a:off x="2500200" y="4071960"/>
            <a:ext cx="385776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1187280" y="401724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14" descr=""/>
          <p:cNvPicPr/>
          <p:nvPr/>
        </p:nvPicPr>
        <p:blipFill>
          <a:blip r:embed="rId1"/>
          <a:stretch/>
        </p:blipFill>
        <p:spPr>
          <a:xfrm>
            <a:off x="7781760" y="5038560"/>
            <a:ext cx="1362240" cy="1819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5"/>
          <p:cNvSpPr/>
          <p:nvPr/>
        </p:nvSpPr>
        <p:spPr>
          <a:xfrm>
            <a:off x="1000080" y="1143000"/>
            <a:ext cx="77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подвижная игр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имитация трудовых действий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произнесение чистоговорок, сопровождающееся действиям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физминутки в форме психофизической гимнастики, когда дети мимикой, жестами и движениями изображают разных животных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Verdana"/>
              </a:rPr>
              <a:t>Гимнастика для гла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1131480" y="40464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ормы проведения физминуток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BD14710_"/>
          <p:cNvPicPr/>
          <p:nvPr/>
        </p:nvPicPr>
        <p:blipFill>
          <a:blip r:embed="rId1"/>
          <a:stretch/>
        </p:blipFill>
        <p:spPr>
          <a:xfrm>
            <a:off x="1116000" y="1268280"/>
            <a:ext cx="6858000" cy="114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j0240719"/>
          <p:cNvPicPr/>
          <p:nvPr/>
        </p:nvPicPr>
        <p:blipFill>
          <a:blip r:embed="rId2"/>
          <a:stretch/>
        </p:blipFill>
        <p:spPr>
          <a:xfrm>
            <a:off x="7596360" y="4221000"/>
            <a:ext cx="1161720" cy="1828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Основные задачи физминут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187280" y="177336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несение эмоционального заряд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вершенствовании общей моторик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работка четких координированных движений во взаимосвязи с речью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становление и активизация организма.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00:17:38Z</dcterms:created>
  <dc:creator>Yu L</dc:creator>
  <dc:description/>
  <dc:language>en-US</dc:language>
  <cp:lastModifiedBy>Слава</cp:lastModifiedBy>
  <dcterms:modified xsi:type="dcterms:W3CDTF">2009-11-26T09:40:40Z</dcterms:modified>
  <cp:revision>27</cp:revision>
  <dc:subject/>
  <dc:title>Заголовок слайда отсутствует</dc:title>
</cp:coreProperties>
</file>