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002-9388-4E91-A418-4C4EB6B0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467-AD62-4891-836F-D3B48B37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2C7D-E193-4F60-9A16-297B8094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B607-4514-4C8A-94BB-C083F5DD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1615-966E-4465-9855-D10846CC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CE8E-B7CC-4A2F-A461-8A528E53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50B8-71A0-4D04-BA43-EEF04A57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5899-A284-44C6-A399-F3387955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422E-FA81-4FAE-913B-7EE82B35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3069-D46B-4CF7-B16A-266933FD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6F16-E0E2-4284-8872-8DB54E3D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88E-53CD-4850-A3B9-B1106909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B86C-7C49-4EFA-A8BA-31D3E0B1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69A1-D6FC-4EFC-99A6-8C6D0F22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CA24-46DC-4BA9-AC5D-0D7165F9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DF65-E2AF-4535-BFCE-147C6D88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1523-07F0-4993-A174-C23926B3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FB08-CD97-4BED-9674-F0858E1B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0DBE-D599-46ED-9527-FBFFEA82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864-8CF0-42B3-8367-327F1303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BFC-6A64-4E8A-AE71-E2B714E0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00F-8E8D-4617-BE09-6B5153BC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3DD6-3135-417F-BA10-30FBBBC9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631-2531-4EDC-AA84-E7C9CBC5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D94D-E3E0-4398-83A4-AF4279A606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1A41-10D0-4EA4-8EA5-9B7FCCA92C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203640" y="1197000"/>
            <a:ext cx="504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змерение времен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3640" y="2349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2000" y="3068640"/>
            <a:ext cx="51832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Автор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учитель начальных классов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Титова И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и группа учащихся 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МОУ СОШ №7 с. Долин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Новоселиц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Ставропольского кр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059280" y="692280"/>
            <a:ext cx="53625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сновополагающий вопро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916360" y="2637000"/>
            <a:ext cx="5832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змерение  времен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419640" y="549360"/>
            <a:ext cx="5184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блемные вопро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9280" y="1844640"/>
            <a:ext cx="568944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в древности определяли врем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часы были в древн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каких предметов и природных материалов измеряли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ча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интерес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987640" y="2349360"/>
            <a:ext cx="5616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- формирование умения работать с большим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объёмом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- формировать критическое мышление, навык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работы в коман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- познакомить с историей возникновения часов, разновидностями ча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- узнать с помощью каких предметов и природных материалов измеряли врем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51280" y="907920"/>
            <a:ext cx="439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32000" y="907920"/>
            <a:ext cx="535320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 результате исследован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чащимися бы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оздана презинт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708360" y="3500280"/>
            <a:ext cx="446400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76720" y="2637000"/>
            <a:ext cx="5256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008"/>
                </a:solidFill>
                <a:latin typeface="Arial"/>
              </a:rPr>
              <a:t>Предварительный этап- 3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008"/>
                </a:solidFill>
                <a:latin typeface="Arial"/>
              </a:rPr>
              <a:t>Процесс обучения- 2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008"/>
                </a:solidFill>
                <a:latin typeface="Arial"/>
              </a:rPr>
              <a:t>Заключительный этап- 1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635280" y="765000"/>
            <a:ext cx="43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тапы и сро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03640" y="1916280"/>
            <a:ext cx="5256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008"/>
                </a:solidFill>
                <a:latin typeface="Arial"/>
              </a:rPr>
              <a:t>Дети учились находить нужную информацию из дополнительной литературы, делать выводы, систематизировать 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008"/>
                </a:solidFill>
                <a:latin typeface="Arial"/>
              </a:rPr>
              <a:t>Проявили большой интерес к изучению данной 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11640" y="765000"/>
            <a:ext cx="360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20:27:12Z</dcterms:created>
  <dc:creator>Владелец</dc:creator>
  <dc:description/>
  <dc:language>en-US</dc:language>
  <cp:lastModifiedBy>Владелец</cp:lastModifiedBy>
  <dcterms:modified xsi:type="dcterms:W3CDTF">2011-01-28T21:06:08Z</dcterms:modified>
  <cp:revision>5</cp:revision>
  <dc:subject/>
  <dc:title>Слайд 1</dc:title>
</cp:coreProperties>
</file>