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F2D-2DD9-4BBA-B8A4-120447A4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8DB9-AA9C-4AB7-BFD1-22EF5D4A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F478-7BA2-456F-BA64-649A31ED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1D7-DE9C-4725-9BB3-3EB3359B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B559-54AA-4EA5-BD46-0F06C12F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C7C6-C955-4483-9ECE-F00FEAFF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4809-607A-4A90-B499-D2B7FC39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5C98-865D-4B2C-89A4-2B78DD80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C3BC-F818-42C2-B930-4650604D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27C5-AD14-484E-92F7-99E93C04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E8B0-97E5-4553-B098-8CBC272F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D7CF-B447-499C-BD80-B1380A51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1DDE-A253-4FBA-A8CC-22DD1D51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AFE6-BC96-4C6D-BE29-341EDA4D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55E4-A26E-4512-93DD-CB22DBE1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57CD-DB42-4972-893A-8651AF61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E93F-86B7-4E6F-98C3-C23C0AB0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3661-47DE-4CE1-B535-874DEDF4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6506-39FF-4951-B11F-462D304F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500D-A4C4-4136-92B5-4A260D35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2A74-3AEF-478C-9B55-5DB7C6E6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DBB0-F2D1-4706-AF01-2050F8C5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75CB-CD57-4087-B009-4FA41B20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571-B4BA-474B-8102-B334C695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5a4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153A-BB90-479D-8F97-88D414434E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5a4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0969-D2AF-4662-A8B6-8D0D85A3CC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5a4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203640" y="1197000"/>
            <a:ext cx="504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змерение времен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3640" y="234936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32000" y="3068640"/>
            <a:ext cx="51832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Автор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учитель начальных классов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Титова И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и группа учащихся 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МОУ СОШ №7 с. Долин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Новоселиц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Ставропольского кр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5a4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059280" y="692280"/>
            <a:ext cx="53625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сновополагающий вопро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916360" y="2637000"/>
            <a:ext cx="5832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змерение  времен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5a4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419640" y="549360"/>
            <a:ext cx="5184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блемные вопро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59280" y="1844640"/>
            <a:ext cx="568944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в древности определяли врем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часы были в древн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каких предметов и природных материалов измеряли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ча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интерес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5a4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987640" y="2349360"/>
            <a:ext cx="56167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- формирование умения работать с большим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объёмом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- формировать критическое мышление, навык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работы в коман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- познакомить с историей возникновения часов, разновидностями ча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- узнать с помощью каких предметов и природных материалов измеряли врем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51280" y="907920"/>
            <a:ext cx="439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5a4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32000" y="907920"/>
            <a:ext cx="535320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 результате исследован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чащимися был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оздана презинт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708360" y="3500280"/>
            <a:ext cx="446400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5a4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76720" y="2637000"/>
            <a:ext cx="5256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008"/>
                </a:solidFill>
                <a:latin typeface="Arial"/>
              </a:rPr>
              <a:t>Предварительный этап- 3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008"/>
                </a:solidFill>
                <a:latin typeface="Arial"/>
              </a:rPr>
              <a:t>Процесс обучения- 2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008"/>
                </a:solidFill>
                <a:latin typeface="Arial"/>
              </a:rPr>
              <a:t>Заключительный этап- 1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635280" y="765000"/>
            <a:ext cx="432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Этапы и сро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5a4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03640" y="1916280"/>
            <a:ext cx="5256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008"/>
                </a:solidFill>
                <a:latin typeface="Arial"/>
              </a:rPr>
              <a:t>Дети учились находить нужную информацию из дополнительной литературы, делать выводы, систематизировать 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008"/>
                </a:solidFill>
                <a:latin typeface="Arial"/>
              </a:rPr>
              <a:t>Проявили большой интерес к изучению данной 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11640" y="765000"/>
            <a:ext cx="360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20:27:12Z</dcterms:created>
  <dc:creator>Владелец</dc:creator>
  <dc:description/>
  <dc:language>en-US</dc:language>
  <cp:lastModifiedBy>Владелец</cp:lastModifiedBy>
  <dcterms:modified xsi:type="dcterms:W3CDTF">2011-01-28T21:06:08Z</dcterms:modified>
  <cp:revision>5</cp:revision>
  <dc:subject/>
  <dc:title>Слайд 1</dc:title>
</cp:coreProperties>
</file>