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AB4-EE16-4364-A109-4319EBA9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D91-2083-4A0A-9B04-D9A3AAF1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4B4-6D56-42F1-8B2E-50DDCFE7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022-8F10-43B8-9D00-92E75A24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ADDB-0329-4C41-8A90-10489FA2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B57C-3250-4EF4-8BFB-C9162FC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61C4-918F-4DAC-8FF2-1417AC75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1A6-7494-4396-9400-B6E73C2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CA0-96B7-4213-8DA9-54B2E53D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9F07-3AA1-4454-9003-9D2349D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CF9-DB73-4B49-9319-1DC40631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262-C5DE-4AD4-ADA1-9DD02D88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38D-AE45-4CE4-8190-B3BEA65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55E-252D-4BFF-8C34-CA5DA67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269-63D3-47C5-BD1E-996A5A5F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FCD9-1B2B-46E4-8673-DCD0CB8E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800C-EE32-4DCF-85EC-0A9F8358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8C7-B137-418C-AB05-88F089D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34A-D0A1-44F3-81CF-1DF5BC3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DA4-786F-4697-AF2F-FA671A79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056-56D9-4F0B-B9C9-2A69D5BE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2AC-2D27-45A6-97D3-6631315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B1D-3A34-4677-A601-748133F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3D6-C5C7-4E72-B2BE-E1E4418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6E30-C343-4C45-ADF8-1D6B05DE9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6C61-D22D-4088-9833-550DE02F5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03640" y="1197000"/>
            <a:ext cx="504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мерение време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2349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3068640"/>
            <a:ext cx="51832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Автор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учитель начальных класс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Титова И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и группа учащихся 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МОУ СОШ №7 с. Доли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Новоселиц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1008"/>
                </a:solidFill>
                <a:latin typeface="Arial"/>
              </a:rPr>
              <a:t>Ставрополь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59280" y="692280"/>
            <a:ext cx="5362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ополагающий вопр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16360" y="263700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мерение  време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419640" y="549360"/>
            <a:ext cx="51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блемные 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1844640"/>
            <a:ext cx="56894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 древности определяли врем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часы были в древ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аких предметов и природных материалов измеряли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тере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87640" y="2349360"/>
            <a:ext cx="5616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ние умения работать с большим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объёмом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формировать критическое мышление, навы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работы в коман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познакомить с историей возникновения часов, разновидностями ча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1008"/>
                </a:solidFill>
                <a:latin typeface="Arial"/>
              </a:rPr>
              <a:t>- узнать с помощью каких предметов и природных материалов измеряли вр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51280" y="907920"/>
            <a:ext cx="439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32000" y="907920"/>
            <a:ext cx="53532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результате исслед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ащимися бы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здана прези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46400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720" y="2637000"/>
            <a:ext cx="5256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едварительный этап- 3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цесс обучения- 2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Заключительный этап- 1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35280" y="765000"/>
            <a:ext cx="43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тапы и сро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8bf9"/>
            </a:gs>
            <a:gs pos="100000">
              <a:srgbClr val="5a4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03640" y="1916280"/>
            <a:ext cx="525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Дети учились находить нужную информацию из дополнительной литературы, делать выводы, систематизировать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008"/>
                </a:solidFill>
                <a:latin typeface="Arial"/>
              </a:rPr>
              <a:t>Проявили большой интерес к изучению данн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11640" y="765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20:27:12Z</dcterms:created>
  <dc:creator>Владелец</dc:creator>
  <dc:description/>
  <dc:language>en-US</dc:language>
  <cp:lastModifiedBy>Владелец</cp:lastModifiedBy>
  <dcterms:modified xsi:type="dcterms:W3CDTF">2011-01-28T21:06:08Z</dcterms:modified>
  <cp:revision>5</cp:revision>
  <dc:subject/>
  <dc:title>Слайд 1</dc:title>
</cp:coreProperties>
</file>