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7E6-F5F5-4FFE-8B54-D4B71551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745-E8D5-4C61-B970-CF92648F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83B9-7137-4867-91E4-2C21CFA4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E6B-D619-4DF8-BAC8-0481678C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338C-4250-4BA0-9C9C-336D3E9F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7072-106A-41A0-9AC5-02F36EDB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83CE-0427-4B43-BA1E-A1108B68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B892-8BDD-4614-B5C4-02A5A619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ABBB-45A3-4C19-9278-4FD9EBD8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0604-F469-4F5E-BC75-8A1EA62E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3712-759B-4924-9714-BA52EAA2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810D-4FE6-412C-B980-DA424C17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36DF-C57B-4A54-93AC-E2C3C290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FE1B-8E55-4E67-9597-B88B34D0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4880-4C09-4084-8DCA-4389CB80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41BB-E2AB-4E26-A861-05291840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3DBE-10D9-4E0F-8D45-169AF985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7FE-2ECD-41CF-947B-F19E5837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67BB-26C7-4A25-839D-2A2669B3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BAAE-FA9A-417D-BC27-5FA480C1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06F-C5AD-4256-B0FD-7FCF843A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AD72-3A05-4C27-A7AE-56139C63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7BD-599D-4734-B55A-1AB7B338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691-BF0A-4694-80D7-1514E2B7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635B-E131-48CC-943C-D6D50AFCF2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1027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028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29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1030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031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032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033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34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035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036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037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038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039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4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041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42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043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1044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1045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1046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1047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1048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1049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050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51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69CE-1080-49E1-B68C-0204C2A2B1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 Black"/>
              </a:rPr>
              <a:t>Сила трения. </a:t>
            </a:r>
            <a:br>
              <a:rPr sz="4000"/>
            </a:b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 Black"/>
              </a:rPr>
              <a:t>Трения в природе и технике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92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Презентацию подготовила ученица 7 класса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Елагина Мар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школы № 13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«Вдохновение»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Учитель физики: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Васильева М.В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2007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АняОпыт 006"/>
          <p:cNvPicPr/>
          <p:nvPr/>
        </p:nvPicPr>
        <p:blipFill>
          <a:blip r:embed="rId1"/>
          <a:stretch/>
        </p:blipFill>
        <p:spPr>
          <a:xfrm>
            <a:off x="1523880" y="228600"/>
            <a:ext cx="1905120" cy="2286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90760" y="228240"/>
            <a:ext cx="53316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2.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304920"/>
            <a:ext cx="6098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 Black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04960" y="2895480"/>
            <a:ext cx="6476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 Black"/>
              </a:rPr>
              <a:t>3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7" name="Picture 12" descr="АняОпыт 003"/>
          <p:cNvPicPr/>
          <p:nvPr/>
        </p:nvPicPr>
        <p:blipFill>
          <a:blip r:embed="rId2"/>
          <a:stretch/>
        </p:blipFill>
        <p:spPr>
          <a:xfrm>
            <a:off x="4648320" y="228600"/>
            <a:ext cx="3429000" cy="1219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АняОпыт 004"/>
          <p:cNvPicPr/>
          <p:nvPr/>
        </p:nvPicPr>
        <p:blipFill>
          <a:blip r:embed="rId3"/>
          <a:stretch/>
        </p:blipFill>
        <p:spPr>
          <a:xfrm>
            <a:off x="4038480" y="2819520"/>
            <a:ext cx="3429000" cy="1143000"/>
          </a:xfrm>
          <a:prstGeom prst="rect">
            <a:avLst/>
          </a:prstGeom>
          <a:ln w="0">
            <a:noFill/>
          </a:ln>
        </p:spPr>
      </p:pic>
      <p:sp>
        <p:nvSpPr>
          <p:cNvPr id="189" name="WordArt 18"/>
          <p:cNvSpPr txBox="1"/>
          <p:nvPr/>
        </p:nvSpPr>
        <p:spPr>
          <a:xfrm>
            <a:off x="1447920" y="4876920"/>
            <a:ext cx="2570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4.</a:t>
            </a:r>
            <a:endParaRPr b="1" lang="en-US" sz="2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pic>
        <p:nvPicPr>
          <p:cNvPr id="190" name="Picture 20" descr="АняОпыт 005"/>
          <p:cNvPicPr/>
          <p:nvPr/>
        </p:nvPicPr>
        <p:blipFill>
          <a:blip r:embed="rId4"/>
          <a:stretch/>
        </p:blipFill>
        <p:spPr>
          <a:xfrm>
            <a:off x="1752480" y="4876920"/>
            <a:ext cx="2971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87000"/>
            <a:ext cx="91440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Arial Black"/>
              </a:rPr>
              <a:t>Выводы</a:t>
            </a:r>
            <a:endParaRPr b="0" lang="en-US" sz="7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2666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 Black"/>
              </a:rPr>
              <a:t>Вес тела больше максимальной силы трения покоя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 Black"/>
              </a:rPr>
              <a:t>2. Максимальная сила трения покоя равна силе трения скольжения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 Black"/>
              </a:rPr>
              <a:t>3. Сила трения скольжения больше силы трения качения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15048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 Black"/>
              </a:rPr>
              <a:t>Опыт по теме: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 Black"/>
              </a:rPr>
              <a:t>изучение зависимости силы трения скольжения от рода трущихся поверхностей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Приборы и материалы: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динамометр, трибометр,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грузы – 2шт., лист бумаги, лист наждачной бумаг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95" name="Group 13"/>
          <p:cNvGrpSpPr/>
          <p:nvPr/>
        </p:nvGrpSpPr>
        <p:grpSpPr>
          <a:xfrm>
            <a:off x="1371600" y="3429000"/>
            <a:ext cx="7086600" cy="3048120"/>
            <a:chOff x="1371600" y="3429000"/>
            <a:chExt cx="7086600" cy="3048120"/>
          </a:xfrm>
        </p:grpSpPr>
        <p:grpSp>
          <p:nvGrpSpPr>
            <p:cNvPr id="196" name="Group 7"/>
            <p:cNvGrpSpPr/>
            <p:nvPr/>
          </p:nvGrpSpPr>
          <p:grpSpPr>
            <a:xfrm>
              <a:off x="1371600" y="3429000"/>
              <a:ext cx="7086600" cy="3048120"/>
              <a:chOff x="1371600" y="3429000"/>
              <a:chExt cx="7086600" cy="3048120"/>
            </a:xfrm>
          </p:grpSpPr>
          <p:sp>
            <p:nvSpPr>
              <p:cNvPr id="197" name="Rectangle 4"/>
              <p:cNvSpPr/>
              <p:nvPr/>
            </p:nvSpPr>
            <p:spPr>
              <a:xfrm>
                <a:off x="1371600" y="3429000"/>
                <a:ext cx="7086600" cy="304812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Line 5"/>
              <p:cNvSpPr/>
              <p:nvPr/>
            </p:nvSpPr>
            <p:spPr>
              <a:xfrm>
                <a:off x="4724280" y="3429000"/>
                <a:ext cx="0" cy="3048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Line 6"/>
              <p:cNvSpPr/>
              <p:nvPr/>
            </p:nvSpPr>
            <p:spPr>
              <a:xfrm>
                <a:off x="1371600" y="4114800"/>
                <a:ext cx="7086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WordArt 8"/>
            <p:cNvSpPr txBox="1"/>
            <p:nvPr/>
          </p:nvSpPr>
          <p:spPr>
            <a:xfrm>
              <a:off x="1447920" y="3581280"/>
              <a:ext cx="31240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Вид трущихся поверхностей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1" name="WordArt 10"/>
            <p:cNvSpPr txBox="1"/>
            <p:nvPr/>
          </p:nvSpPr>
          <p:spPr>
            <a:xfrm>
              <a:off x="4876920" y="3581280"/>
              <a:ext cx="34290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Сила трения скольжения, H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2" name="WordArt 11"/>
            <p:cNvSpPr txBox="1"/>
            <p:nvPr/>
          </p:nvSpPr>
          <p:spPr>
            <a:xfrm>
              <a:off x="1447920" y="4419720"/>
              <a:ext cx="3200400" cy="146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Дерево по дереву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Дерево по гладкой бумаге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Дерево по наждачной бумаге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03" name="WordArt 12"/>
            <p:cNvSpPr txBox="1"/>
            <p:nvPr/>
          </p:nvSpPr>
          <p:spPr>
            <a:xfrm>
              <a:off x="6172200" y="4419720"/>
              <a:ext cx="723960" cy="139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 H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.5 H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.5 H</a:t>
              </a:r>
              <a:endPara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6212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 Black"/>
              </a:rPr>
              <a:t>1.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9320" y="457164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 Black"/>
              </a:rPr>
              <a:t>3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4526640" y="2057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 Black"/>
              </a:rPr>
              <a:t>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8" descr="Изображение 003"/>
          <p:cNvPicPr/>
          <p:nvPr/>
        </p:nvPicPr>
        <p:blipFill>
          <a:blip r:embed="rId1"/>
          <a:stretch/>
        </p:blipFill>
        <p:spPr>
          <a:xfrm>
            <a:off x="1752480" y="152280"/>
            <a:ext cx="4114800" cy="1295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Изображение 004"/>
          <p:cNvPicPr/>
          <p:nvPr/>
        </p:nvPicPr>
        <p:blipFill>
          <a:blip r:embed="rId2"/>
          <a:stretch/>
        </p:blipFill>
        <p:spPr>
          <a:xfrm>
            <a:off x="5029200" y="2057400"/>
            <a:ext cx="388620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Изображение 002"/>
          <p:cNvPicPr/>
          <p:nvPr/>
        </p:nvPicPr>
        <p:blipFill>
          <a:blip r:embed="rId3"/>
          <a:stretch/>
        </p:blipFill>
        <p:spPr>
          <a:xfrm>
            <a:off x="1828800" y="4495680"/>
            <a:ext cx="4114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387000"/>
            <a:ext cx="91440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Arial Black"/>
              </a:rPr>
              <a:t>Выводы</a:t>
            </a:r>
            <a:endParaRPr b="0" lang="en-US" sz="7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360" y="2666880"/>
            <a:ext cx="7848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66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 Black"/>
              </a:rPr>
              <a:t>Сила трения скольжения  зависит от рода трущихся поверхностей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 Black"/>
              </a:rPr>
              <a:t>2.  Сила трения скольжения зависит от шероховатости трущихся поверхностей. Чем более шероховатая поверхность, тем сила трения скольжения больше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Arial Black"/>
              </a:rPr>
              <a:t>Источники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 Black"/>
              </a:rPr>
              <a:t>Фронтальные экспериментальные задания по физике в 6-7 классах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 Black"/>
              </a:rPr>
              <a:t>Пособие для учителей, под редакцией  В. А. Буров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Verdana"/>
              </a:rPr>
              <a:t>Трение в природе и технике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Verdana"/>
              </a:rPr>
              <a:t>Лисовский Л. П., Саломонович А. Е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 Black"/>
              </a:rPr>
              <a:t>http://gimn-sov1.narod.ru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1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5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9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Arial Black"/>
              </a:rPr>
              <a:t>Что такое сила трения?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384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Сила ,    характеризующая соприкосновение одного тела с другим, при котором возникает взаимодействие, препятствующее их относительному движению, называется силой трения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5" name="Picture 5" descr="i"/>
          <p:cNvPicPr/>
          <p:nvPr/>
        </p:nvPicPr>
        <p:blipFill>
          <a:blip r:embed="rId1"/>
          <a:stretch/>
        </p:blipFill>
        <p:spPr>
          <a:xfrm>
            <a:off x="4648320" y="2057400"/>
            <a:ext cx="4267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Arial Black"/>
              </a:rPr>
              <a:t>Причины возникновения силы трения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446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Появляется при соприкосновении тел или их частей друг относительно друга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Возникает благодаря существованию сил взаимодействия между молекулами и атомами соприкасающихся тел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8" name="Picture 10" descr="iлоп"/>
          <p:cNvPicPr/>
          <p:nvPr/>
        </p:nvPicPr>
        <p:blipFill>
          <a:blip r:embed="rId1"/>
          <a:stretch/>
        </p:blipFill>
        <p:spPr>
          <a:xfrm>
            <a:off x="5791320" y="419112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iлоптс"/>
          <p:cNvPicPr/>
          <p:nvPr/>
        </p:nvPicPr>
        <p:blipFill>
          <a:blip r:embed="rId2"/>
          <a:stretch/>
        </p:blipFill>
        <p:spPr>
          <a:xfrm>
            <a:off x="5181480" y="2209680"/>
            <a:ext cx="35053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Arial Black"/>
              </a:rPr>
              <a:t>Виды трения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848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 Black"/>
              </a:rPr>
              <a:t>1.</a:t>
            </a:r>
            <a:r>
              <a:rPr b="0" i="1" lang="ru-RU" sz="2000" spc="-1" strike="noStrike">
                <a:solidFill>
                  <a:srgbClr val="ffff00"/>
                </a:solidFill>
                <a:latin typeface="Arial Black"/>
              </a:rPr>
              <a:t>Трение поко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 Black"/>
              </a:rPr>
              <a:t>       </a:t>
            </a:r>
            <a:r>
              <a:rPr b="0" i="1" lang="ru-RU" sz="2000" spc="-1" strike="noStrike">
                <a:solidFill>
                  <a:srgbClr val="ffcc66"/>
                </a:solidFill>
                <a:latin typeface="Arial Black"/>
              </a:rPr>
              <a:t>Сила существует между покоящимися друг относительно друга телам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 Black"/>
              </a:rPr>
              <a:t>2.</a:t>
            </a:r>
            <a:r>
              <a:rPr b="0" i="1" lang="ru-RU" sz="2000" spc="-1" strike="noStrike">
                <a:solidFill>
                  <a:srgbClr val="ffff00"/>
                </a:solidFill>
                <a:latin typeface="Arial Black"/>
              </a:rPr>
              <a:t>Трение скольжени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 Black"/>
              </a:rPr>
              <a:t>       </a:t>
            </a:r>
            <a:r>
              <a:rPr b="0" i="1" lang="ru-RU" sz="2000" spc="-1" strike="noStrike">
                <a:solidFill>
                  <a:srgbClr val="ffcc66"/>
                </a:solidFill>
                <a:latin typeface="Arial Black"/>
              </a:rPr>
              <a:t>Трение, которое возникает в результате скольжения одного тела по поверхности другого.</a:t>
            </a:r>
            <a:r>
              <a:rPr b="0" i="1" lang="ru-RU" sz="20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 Black"/>
              </a:rPr>
              <a:t>3.</a:t>
            </a:r>
            <a:r>
              <a:rPr b="0" i="1" lang="ru-RU" sz="2000" spc="-1" strike="noStrike">
                <a:solidFill>
                  <a:srgbClr val="ffff00"/>
                </a:solidFill>
                <a:latin typeface="Arial Black"/>
              </a:rPr>
              <a:t>Трение качени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 Black"/>
              </a:rPr>
              <a:t>       </a:t>
            </a:r>
            <a:r>
              <a:rPr b="0" i="1" lang="ru-RU" sz="2000" spc="-1" strike="noStrike">
                <a:solidFill>
                  <a:srgbClr val="ffcc66"/>
                </a:solidFill>
                <a:latin typeface="Arial Black"/>
              </a:rPr>
              <a:t>Трение, которое возникает, когда одно тело катится по поверхности другого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2" name="Picture 7" descr="iлоипа"/>
          <p:cNvPicPr/>
          <p:nvPr/>
        </p:nvPicPr>
        <p:blipFill>
          <a:blip r:embed="rId1"/>
          <a:stretch/>
        </p:blipFill>
        <p:spPr>
          <a:xfrm>
            <a:off x="4724280" y="2666880"/>
            <a:ext cx="1752840" cy="327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iовмиадлочяв"/>
          <p:cNvPicPr/>
          <p:nvPr/>
        </p:nvPicPr>
        <p:blipFill>
          <a:blip r:embed="rId2"/>
          <a:stretch/>
        </p:blipFill>
        <p:spPr>
          <a:xfrm>
            <a:off x="6705720" y="2057400"/>
            <a:ext cx="2209680" cy="1981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iваипь"/>
          <p:cNvPicPr/>
          <p:nvPr/>
        </p:nvPicPr>
        <p:blipFill>
          <a:blip r:embed="rId3"/>
          <a:stretch/>
        </p:blipFill>
        <p:spPr>
          <a:xfrm>
            <a:off x="6629400" y="4724280"/>
            <a:ext cx="2514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5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 Black"/>
              </a:rPr>
              <a:t>С помощью чего измеряется сила трения?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 Black"/>
              </a:rPr>
              <a:t> </a:t>
            </a: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Это можно сделать </a:t>
            </a:r>
            <a:r>
              <a:rPr b="1" i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при помощи динамометра.</a:t>
            </a: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При</a:t>
            </a:r>
            <a:r>
              <a:rPr b="1" i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равномерном</a:t>
            </a: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 движении тела динамометр </a:t>
            </a:r>
            <a:br>
              <a:rPr sz="2400"/>
            </a:b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показывает силу тяги, равную силе трения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66"/>
                </a:solidFill>
                <a:latin typeface="Arial Black"/>
              </a:rPr>
              <a:t>Единица измерения силы трения в СИ  - 1 Ньютон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7" name="Picture 6" descr="iчаптим"/>
          <p:cNvPicPr/>
          <p:nvPr/>
        </p:nvPicPr>
        <p:blipFill>
          <a:blip r:embed="rId1"/>
          <a:stretch/>
        </p:blipFill>
        <p:spPr>
          <a:xfrm>
            <a:off x="2666880" y="4038480"/>
            <a:ext cx="44960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Arial Black"/>
              </a:rPr>
              <a:t>Сила трения в природ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066680" y="3200400"/>
            <a:ext cx="3886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Без трения покоя ни люди, ни животные не могли бы ходить по земле, так как при ходьбе мы отталкиваемся ногами от земли. Не будь трения, предметы выскальзывали бы из рук. У многих растений и животных  имеются различные органы, служащие для хватания (усики растений,  хобот слона, цепкие хвосты лазающих животных). Все они имеют шероховатую поверхность для увеличения силы тр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52236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8" descr="1"/>
          <p:cNvPicPr/>
          <p:nvPr/>
        </p:nvPicPr>
        <p:blipFill>
          <a:blip r:embed="rId1"/>
          <a:stretch/>
        </p:blipFill>
        <p:spPr>
          <a:xfrm>
            <a:off x="5029200" y="2133720"/>
            <a:ext cx="3565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Arial Black"/>
              </a:rPr>
              <a:t>Сила трения в техник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571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 </a:t>
            </a: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В технике сила трения имеет большое значение. Во всех машинах из-за трения нагреваются и изнашиваются движущиеся част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 </a:t>
            </a: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Для уменьшения трения соприкасающиеся поверхности делают гладкими, между ними вводят смазку.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Чтобы уменьшить трение вращающихся валов машин и станков, используют подшипники.  Подшипники бывают  шариковые и роликовые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 </a:t>
            </a: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Простейший подшипник состоит из внешнего кольца и внутреннего кольца. Внутреннее кольцо изготавливают из твердой стали, насаживают на вал. Наружное кольцо закрепляют в корпусе машины.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 Black"/>
              </a:rPr>
              <a:t>При вращении вала внутреннее кольцо катиться на шариках или роликах, находящихся между кольцам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09564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8" descr="ris7"/>
          <p:cNvPicPr/>
          <p:nvPr/>
        </p:nvPicPr>
        <p:blipFill>
          <a:blip r:embed="rId1"/>
          <a:stretch/>
        </p:blipFill>
        <p:spPr>
          <a:xfrm>
            <a:off x="6553080" y="2286000"/>
            <a:ext cx="2313000" cy="14968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9"/>
          <p:cNvSpPr/>
          <p:nvPr/>
        </p:nvSpPr>
        <p:spPr>
          <a:xfrm>
            <a:off x="3386160" y="200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35416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6400800" y="3962520"/>
            <a:ext cx="2742840" cy="2438280"/>
            <a:chOff x="6400800" y="3962520"/>
            <a:chExt cx="2742840" cy="2438280"/>
          </a:xfrm>
        </p:grpSpPr>
        <p:pic>
          <p:nvPicPr>
            <p:cNvPr id="159" name="Picture 11" descr="ris6"/>
            <p:cNvPicPr/>
            <p:nvPr/>
          </p:nvPicPr>
          <p:blipFill>
            <a:blip r:embed="rId2"/>
            <a:stretch/>
          </p:blipFill>
          <p:spPr>
            <a:xfrm>
              <a:off x="7356960" y="3962520"/>
              <a:ext cx="178668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4" descr="ris5"/>
            <p:cNvPicPr/>
            <p:nvPr/>
          </p:nvPicPr>
          <p:blipFill>
            <a:blip r:embed="rId3"/>
            <a:stretch/>
          </p:blipFill>
          <p:spPr>
            <a:xfrm>
              <a:off x="6400800" y="4299480"/>
              <a:ext cx="1514880" cy="204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Arial Black"/>
              </a:rPr>
              <a:t>Задача на тему: </a:t>
            </a:r>
            <a:br>
              <a:rPr sz="4400"/>
            </a:b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Arial Black"/>
              </a:rPr>
              <a:t>сила трения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i="1" lang="ru-RU" sz="2800" spc="-1" strike="noStrike">
                <a:solidFill>
                  <a:srgbClr val="ffff00"/>
                </a:solidFill>
                <a:latin typeface="Arial Black"/>
              </a:rPr>
              <a:t>Дано: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Автомобиль движется равномерно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   </a:t>
            </a:r>
            <a:r>
              <a:rPr b="0" i="1" lang="ru-RU" sz="2800" spc="-1" strike="noStrike">
                <a:solidFill>
                  <a:srgbClr val="ffcc66"/>
                </a:solidFill>
                <a:latin typeface="Arial Black"/>
              </a:rPr>
              <a:t>Используя рисунок, определите силу трения, действующую на автомобиль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i="1" lang="ru-RU" sz="2800" spc="-1" strike="noStrike">
                <a:solidFill>
                  <a:srgbClr val="ffff00"/>
                </a:solidFill>
                <a:latin typeface="Arial Black"/>
              </a:rPr>
              <a:t>Решение: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i="1" lang="ru-RU" sz="2800" spc="-1" strike="noStrike">
                <a:solidFill>
                  <a:srgbClr val="ffff00"/>
                </a:solidFill>
                <a:latin typeface="Arial Black"/>
              </a:rPr>
              <a:t>Масштаб: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 Black"/>
              </a:rPr>
              <a:t>1 деление = 100 </a:t>
            </a: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F</a:t>
            </a:r>
            <a:r>
              <a:rPr b="0" lang="ru-RU" sz="1600" spc="-1" strike="noStrike">
                <a:solidFill>
                  <a:srgbClr val="ffcc66"/>
                </a:solidFill>
                <a:latin typeface="Arial Black"/>
              </a:rPr>
              <a:t>тяги</a:t>
            </a:r>
            <a:r>
              <a:rPr b="0" lang="ru-RU" sz="2800" spc="-1" strike="noStrike">
                <a:solidFill>
                  <a:srgbClr val="ffcc66"/>
                </a:solidFill>
                <a:latin typeface="Arial Black"/>
              </a:rPr>
              <a:t> = 600 </a:t>
            </a: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F</a:t>
            </a:r>
            <a:r>
              <a:rPr b="0" lang="ru-RU" sz="1600" spc="-1" strike="noStrike">
                <a:solidFill>
                  <a:srgbClr val="ffcc66"/>
                </a:solidFill>
                <a:latin typeface="Arial Black"/>
              </a:rPr>
              <a:t>тр</a:t>
            </a:r>
            <a:r>
              <a:rPr b="0" lang="ru-RU" sz="2800" spc="-1" strike="noStrike">
                <a:solidFill>
                  <a:srgbClr val="ffcc66"/>
                </a:solidFill>
                <a:latin typeface="Arial Black"/>
              </a:rPr>
              <a:t> = 600 </a:t>
            </a:r>
            <a:r>
              <a:rPr b="0" lang="en-US" sz="2800" spc="-1" strike="noStrike">
                <a:solidFill>
                  <a:srgbClr val="ffcc66"/>
                </a:solidFill>
                <a:latin typeface="Arial Black"/>
              </a:rPr>
              <a:t>H</a:t>
            </a:r>
            <a:r>
              <a:rPr b="0" lang="ru-RU" sz="2800" spc="-1" strike="noStrike">
                <a:solidFill>
                  <a:srgbClr val="ffcc6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63" name="Group 30"/>
          <p:cNvGrpSpPr/>
          <p:nvPr/>
        </p:nvGrpSpPr>
        <p:grpSpPr>
          <a:xfrm>
            <a:off x="1371600" y="5029200"/>
            <a:ext cx="7620120" cy="1600200"/>
            <a:chOff x="1371600" y="5029200"/>
            <a:chExt cx="7620120" cy="1600200"/>
          </a:xfrm>
        </p:grpSpPr>
        <p:sp>
          <p:nvSpPr>
            <p:cNvPr id="164" name="Line 26"/>
            <p:cNvSpPr/>
            <p:nvPr/>
          </p:nvSpPr>
          <p:spPr>
            <a:xfrm>
              <a:off x="1371600" y="50292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5" name="Group 29"/>
            <p:cNvGrpSpPr/>
            <p:nvPr/>
          </p:nvGrpSpPr>
          <p:grpSpPr>
            <a:xfrm>
              <a:off x="4114800" y="5334120"/>
              <a:ext cx="4876920" cy="1295280"/>
              <a:chOff x="4114800" y="5334120"/>
              <a:chExt cx="4876920" cy="1295280"/>
            </a:xfrm>
          </p:grpSpPr>
          <p:grpSp>
            <p:nvGrpSpPr>
              <p:cNvPr id="166" name="Group 15"/>
              <p:cNvGrpSpPr/>
              <p:nvPr/>
            </p:nvGrpSpPr>
            <p:grpSpPr>
              <a:xfrm>
                <a:off x="5410440" y="5334120"/>
                <a:ext cx="3581280" cy="1295280"/>
                <a:chOff x="5410440" y="5334120"/>
                <a:chExt cx="3581280" cy="1295280"/>
              </a:xfrm>
            </p:grpSpPr>
            <p:grpSp>
              <p:nvGrpSpPr>
                <p:cNvPr id="167" name="Group 13"/>
                <p:cNvGrpSpPr/>
                <p:nvPr/>
              </p:nvGrpSpPr>
              <p:grpSpPr>
                <a:xfrm>
                  <a:off x="5410440" y="5638680"/>
                  <a:ext cx="3581280" cy="990720"/>
                  <a:chOff x="5410440" y="5638680"/>
                  <a:chExt cx="3581280" cy="990720"/>
                </a:xfrm>
              </p:grpSpPr>
              <p:sp>
                <p:nvSpPr>
                  <p:cNvPr id="168" name="Line 6"/>
                  <p:cNvSpPr/>
                  <p:nvPr/>
                </p:nvSpPr>
                <p:spPr>
                  <a:xfrm>
                    <a:off x="5410440" y="6629400"/>
                    <a:ext cx="35812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Line 7"/>
                  <p:cNvSpPr/>
                  <p:nvPr/>
                </p:nvSpPr>
                <p:spPr>
                  <a:xfrm>
                    <a:off x="5410440" y="6477120"/>
                    <a:ext cx="35812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0" name="Group 12"/>
                  <p:cNvGrpSpPr/>
                  <p:nvPr/>
                </p:nvGrpSpPr>
                <p:grpSpPr>
                  <a:xfrm>
                    <a:off x="6858000" y="5638680"/>
                    <a:ext cx="1676160" cy="838440"/>
                    <a:chOff x="6858000" y="5638680"/>
                    <a:chExt cx="1676160" cy="838440"/>
                  </a:xfrm>
                </p:grpSpPr>
                <p:sp>
                  <p:nvSpPr>
                    <p:cNvPr id="171" name="Rectangle 8"/>
                    <p:cNvSpPr/>
                    <p:nvPr/>
                  </p:nvSpPr>
                  <p:spPr>
                    <a:xfrm>
                      <a:off x="6858000" y="5638680"/>
                      <a:ext cx="1676160" cy="457200"/>
                    </a:xfrm>
                    <a:prstGeom prst="rect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Oval 9"/>
                    <p:cNvSpPr/>
                    <p:nvPr/>
                  </p:nvSpPr>
                  <p:spPr>
                    <a:xfrm>
                      <a:off x="6858000" y="6095880"/>
                      <a:ext cx="380520" cy="381240"/>
                    </a:xfrm>
                    <a:prstGeom prst="ellipse">
                      <a:avLst/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Oval 11"/>
                    <p:cNvSpPr/>
                    <p:nvPr/>
                  </p:nvSpPr>
                  <p:spPr>
                    <a:xfrm>
                      <a:off x="8152920" y="6095880"/>
                      <a:ext cx="380880" cy="381240"/>
                    </a:xfrm>
                    <a:prstGeom prst="ellipse">
                      <a:avLst/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74" name="Rectangle 14"/>
                <p:cNvSpPr/>
                <p:nvPr/>
              </p:nvSpPr>
              <p:spPr>
                <a:xfrm>
                  <a:off x="5943600" y="5334120"/>
                  <a:ext cx="914040" cy="76176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Line 19"/>
              <p:cNvSpPr/>
              <p:nvPr/>
            </p:nvSpPr>
            <p:spPr>
              <a:xfrm flipH="1">
                <a:off x="4114800" y="5867280"/>
                <a:ext cx="1828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Line 20"/>
              <p:cNvSpPr/>
              <p:nvPr/>
            </p:nvSpPr>
            <p:spPr>
              <a:xfrm>
                <a:off x="4876920" y="57913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Line 21"/>
              <p:cNvSpPr/>
              <p:nvPr/>
            </p:nvSpPr>
            <p:spPr>
              <a:xfrm>
                <a:off x="5105520" y="57913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Line 22"/>
              <p:cNvSpPr/>
              <p:nvPr/>
            </p:nvSpPr>
            <p:spPr>
              <a:xfrm>
                <a:off x="5334120" y="57150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Line 23"/>
              <p:cNvSpPr/>
              <p:nvPr/>
            </p:nvSpPr>
            <p:spPr>
              <a:xfrm>
                <a:off x="5639040" y="57150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Line 24"/>
              <p:cNvSpPr/>
              <p:nvPr/>
            </p:nvSpPr>
            <p:spPr>
              <a:xfrm>
                <a:off x="4648320" y="5791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3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1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5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64771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 Black"/>
              </a:rPr>
              <a:t>Опыт по теме: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Arial Black"/>
              </a:rPr>
              <a:t>сравнение силы трения покоя, скольжения, качения и веса тела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Приборы и материалы: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динамометр, брусок деревянный, грузы – 2 шт., карандаш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601"/>
              </a:spcBef>
              <a:buClr>
                <a:srgbClr val="ff66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Цена деления шкалы динамометра = 1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601"/>
              </a:spcBef>
              <a:buClr>
                <a:srgbClr val="ff66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Вес бруска с двумя грузами = 2,5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601"/>
              </a:spcBef>
              <a:buClr>
                <a:srgbClr val="ff66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Максимальная сила трения покоя бруска  = 0.9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601"/>
              </a:spcBef>
              <a:buClr>
                <a:srgbClr val="ff66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Сила трения скольжения бруска = 0.9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601"/>
              </a:spcBef>
              <a:buClr>
                <a:srgbClr val="ff66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 Black"/>
              </a:rPr>
              <a:t>Сила трения качения бруска = 0.4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9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7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дим</cp:lastModifiedBy>
  <dcterms:modified xsi:type="dcterms:W3CDTF">2012-10-10T04:18:44Z</dcterms:modified>
  <cp:revision>12</cp:revision>
  <dc:subject/>
  <dc:title>PowerPoint Presentation</dc:title>
</cp:coreProperties>
</file>