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2BF-8A1C-4267-8A9C-676616F4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ACB-80DD-4758-AA43-0EA26D6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9BD-ABAC-465F-B2A0-CB0ECAFB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A1A-9387-4ABA-A5F5-262F431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640-A9E3-4FD1-846F-787C4B63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5EB-A8AA-4748-872F-A5CD0A80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2905-E31B-4F51-9599-61C55CF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78F-93B0-4CCF-9256-C21C34B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2CA5-CFCA-4121-AC48-5D1CCF5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B56-167C-4D94-AE27-83777A9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110C-D85C-4AA4-858B-A1D4ED1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04D-1601-4860-9214-CCBA8DF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162D-5EC2-455A-AF83-A228A52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3E3D-8564-4105-8A1C-C3C75A5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C35-4603-4258-9932-5F1EE9D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CEB-397F-41A6-A37B-36510D44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CBF7-7007-47CB-A61A-9BA9366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BEF-3C76-4130-B889-2FCC11A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116-51A3-4CA7-8DB6-5992ED9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EB9-44C0-4704-8BED-3F86FA0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941-92D8-4982-9D3C-F9B32A1C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FCC-216A-4F58-B10F-0EEB862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A74-005D-4CB1-8223-42CC9D2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981-0A3C-4776-BB8E-37B7074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9CD2-0922-4B79-9B43-C955141DA1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E579-C2A5-448B-8B27-9B819FFD61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. </a:t>
            </a:r>
            <a:br>
              <a:rPr sz="4000"/>
            </a:b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Трения в природе и технике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Презентацию подготовила ученица 7 класс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Елагина Мар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школы № 13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«Вдохновение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Учитель физики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Васильева М.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АняОпыт 006"/>
          <p:cNvPicPr/>
          <p:nvPr/>
        </p:nvPicPr>
        <p:blipFill>
          <a:blip r:embed="rId1"/>
          <a:stretch/>
        </p:blipFill>
        <p:spPr>
          <a:xfrm>
            <a:off x="1523880" y="2286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5331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304920"/>
            <a:ext cx="6098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4960" y="2895480"/>
            <a:ext cx="647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7" name="Picture 12" descr="АняОпыт 003"/>
          <p:cNvPicPr/>
          <p:nvPr/>
        </p:nvPicPr>
        <p:blipFill>
          <a:blip r:embed="rId2"/>
          <a:stretch/>
        </p:blipFill>
        <p:spPr>
          <a:xfrm>
            <a:off x="4648320" y="228600"/>
            <a:ext cx="34290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АняОпыт 004"/>
          <p:cNvPicPr/>
          <p:nvPr/>
        </p:nvPicPr>
        <p:blipFill>
          <a:blip r:embed="rId3"/>
          <a:stretch/>
        </p:blipFill>
        <p:spPr>
          <a:xfrm>
            <a:off x="4038480" y="281952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1447920" y="4876920"/>
            <a:ext cx="257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4.</a:t>
            </a:r>
            <a:endParaRPr b="1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190" name="Picture 20" descr="АняОпыт 005"/>
          <p:cNvPicPr/>
          <p:nvPr/>
        </p:nvPicPr>
        <p:blipFill>
          <a:blip r:embed="rId4"/>
          <a:stretch/>
        </p:blipFill>
        <p:spPr>
          <a:xfrm>
            <a:off x="1752480" y="4876920"/>
            <a:ext cx="2971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Вес тела больше максимальной силы трения поко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2. Максимальная сила трения покоя равна силе трения скольж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3. Сила трения скольжения больше силы трения кач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048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пыт по теме: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изучение зависимости силы трения скольжения от рода трущихся поверхностей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трибометр,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грузы – 2шт., лист бумаги, лист наждачной бумаг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1371600" y="3429000"/>
            <a:ext cx="7086600" cy="3048120"/>
            <a:chOff x="1371600" y="3429000"/>
            <a:chExt cx="7086600" cy="3048120"/>
          </a:xfrm>
        </p:grpSpPr>
        <p:grpSp>
          <p:nvGrpSpPr>
            <p:cNvPr id="196" name="Group 7"/>
            <p:cNvGrpSpPr/>
            <p:nvPr/>
          </p:nvGrpSpPr>
          <p:grpSpPr>
            <a:xfrm>
              <a:off x="1371600" y="3429000"/>
              <a:ext cx="7086600" cy="3048120"/>
              <a:chOff x="1371600" y="3429000"/>
              <a:chExt cx="7086600" cy="304812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1371600" y="3429000"/>
                <a:ext cx="7086600" cy="3048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>
                <a:off x="4724280" y="34290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1371600" y="4114800"/>
                <a:ext cx="7086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WordArt 8"/>
            <p:cNvSpPr txBox="1"/>
            <p:nvPr/>
          </p:nvSpPr>
          <p:spPr>
            <a:xfrm>
              <a:off x="1447920" y="3581280"/>
              <a:ext cx="3124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Вид трущихся поверхностей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10"/>
            <p:cNvSpPr txBox="1"/>
            <p:nvPr/>
          </p:nvSpPr>
          <p:spPr>
            <a:xfrm>
              <a:off x="4876920" y="3581280"/>
              <a:ext cx="34290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Сила трения скольжения,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11"/>
            <p:cNvSpPr txBox="1"/>
            <p:nvPr/>
          </p:nvSpPr>
          <p:spPr>
            <a:xfrm>
              <a:off x="1447920" y="4419720"/>
              <a:ext cx="3200400" cy="14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дереву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гладк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наждачн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12"/>
            <p:cNvSpPr txBox="1"/>
            <p:nvPr/>
          </p:nvSpPr>
          <p:spPr>
            <a:xfrm>
              <a:off x="6172200" y="4419720"/>
              <a:ext cx="723960" cy="13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52664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8" descr="Изображение 003"/>
          <p:cNvPicPr/>
          <p:nvPr/>
        </p:nvPicPr>
        <p:blipFill>
          <a:blip r:embed="rId1"/>
          <a:stretch/>
        </p:blipFill>
        <p:spPr>
          <a:xfrm>
            <a:off x="1752480" y="152280"/>
            <a:ext cx="4114800" cy="129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Изображение 002"/>
          <p:cNvPicPr/>
          <p:nvPr/>
        </p:nvPicPr>
        <p:blipFill>
          <a:blip r:embed="rId3"/>
          <a:stretch/>
        </p:blipFill>
        <p:spPr>
          <a:xfrm>
            <a:off x="1828800" y="449568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Сила трения скольжения  зависит от рода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  Сила трения скольжения зависит от шероховатости трущихся поверхностей. Чем более шероховатая поверхность, тем сила трения скольжения больш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Источники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Фронтальные экспериментальные задания по физике в 6-7 классах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Пособие для учителей, под редакцией  В. А. Буро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Трение в природе и технике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Лисовский Л. П., Саломонович А. 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http://gimn-sov1.narod.r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Что такое сила трения?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84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Сила ,    характеризующая соприкосновение одного тела с другим, при котором возникает взаимодействие, препятствующее их относительному движению, называется силой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5" descr="i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Причины возникновения сил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является при соприкосновении тел или их частей друг относительно друг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Возникает благодаря существованию сил взаимодействия между молекулами и атомами соприкасающихся тел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10" descr="iлоп"/>
          <p:cNvPicPr/>
          <p:nvPr/>
        </p:nvPicPr>
        <p:blipFill>
          <a:blip r:embed="rId1"/>
          <a:stretch/>
        </p:blipFill>
        <p:spPr>
          <a:xfrm>
            <a:off x="5791320" y="41911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лоптс"/>
          <p:cNvPicPr/>
          <p:nvPr/>
        </p:nvPicPr>
        <p:blipFill>
          <a:blip r:embed="rId2"/>
          <a:stretch/>
        </p:blipFill>
        <p:spPr>
          <a:xfrm>
            <a:off x="5181480" y="2209680"/>
            <a:ext cx="3505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Вид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848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1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поко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Сила существует между покоящимися друг относительно друга тела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2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скольж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 в результате скольжения одного тела по поверхности другого.</a:t>
            </a: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3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кач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, когда одно тело катится по поверхности другого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Picture 7" descr="iлоипа"/>
          <p:cNvPicPr/>
          <p:nvPr/>
        </p:nvPicPr>
        <p:blipFill>
          <a:blip r:embed="rId1"/>
          <a:stretch/>
        </p:blipFill>
        <p:spPr>
          <a:xfrm>
            <a:off x="4724280" y="2666880"/>
            <a:ext cx="175284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овмиадлочяв"/>
          <p:cNvPicPr/>
          <p:nvPr/>
        </p:nvPicPr>
        <p:blipFill>
          <a:blip r:embed="rId2"/>
          <a:stretch/>
        </p:blipFill>
        <p:spPr>
          <a:xfrm>
            <a:off x="6705720" y="20574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ваипь"/>
          <p:cNvPicPr/>
          <p:nvPr/>
        </p:nvPicPr>
        <p:blipFill>
          <a:blip r:embed="rId3"/>
          <a:stretch/>
        </p:blipFill>
        <p:spPr>
          <a:xfrm>
            <a:off x="6629400" y="4724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 Black"/>
              </a:rPr>
              <a:t>С помощью чего измеряется сила трения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Это можно сделать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и помощи динамометра.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ри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равномерном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движении тела динамометр </a:t>
            </a:r>
            <a:br>
              <a:rPr sz="2400"/>
            </a:b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казывает силу тяги, равную силе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Единица измерения силы трения в СИ  - 1 Ньютон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6" descr="iчаптим"/>
          <p:cNvPicPr/>
          <p:nvPr/>
        </p:nvPicPr>
        <p:blipFill>
          <a:blip r:embed="rId1"/>
          <a:stretch/>
        </p:blipFill>
        <p:spPr>
          <a:xfrm>
            <a:off x="2666880" y="4038480"/>
            <a:ext cx="4496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природ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66680" y="32004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Без трения покоя ни люди, ни животные не могли бы ходить по земле, так как при ходьбе мы отталкиваемся ногами от земли. Не будь трения, предметы выскальзывали бы из рук. У многих растений и животных  имеются различные органы, служащие для хватания (усики растений,  хобот слона, цепкие хвосты лазающих животных). Все они имеют шероховатую поверхность для увеличения силы тр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2236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1"/>
          <p:cNvPicPr/>
          <p:nvPr/>
        </p:nvPicPr>
        <p:blipFill>
          <a:blip r:embed="rId1"/>
          <a:stretch/>
        </p:blipFill>
        <p:spPr>
          <a:xfrm>
            <a:off x="5029200" y="2133720"/>
            <a:ext cx="356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техн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В технике сила трения имеет большое значение. Во всех машинах из-за трения нагреваются и изнашиваются движущиеся ча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Для уменьшения трения соприкасающиеся поверхности делают гладкими, между ними вводят смазку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Чтобы уменьшить трение вращающихся валов машин и станков, используют подшипники.  Подшипники бывают  шариковые и роликовы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остейший подшипник состоит из внешнего кольца и внутреннего кольца. Внутреннее кольцо изготавливают из твердой стали, насаживают на вал. Наружное кольцо закрепляют в корпусе машины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и вращении вала внутреннее кольцо катиться на шариках или роликах, находящихся между кольца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956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ris7"/>
          <p:cNvPicPr/>
          <p:nvPr/>
        </p:nvPicPr>
        <p:blipFill>
          <a:blip r:embed="rId1"/>
          <a:stretch/>
        </p:blipFill>
        <p:spPr>
          <a:xfrm>
            <a:off x="6553080" y="2286000"/>
            <a:ext cx="2313000" cy="1496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3386160" y="200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5416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6400800" y="3962520"/>
            <a:ext cx="2742840" cy="2438280"/>
            <a:chOff x="6400800" y="3962520"/>
            <a:chExt cx="2742840" cy="2438280"/>
          </a:xfrm>
        </p:grpSpPr>
        <p:pic>
          <p:nvPicPr>
            <p:cNvPr id="159" name="Picture 11" descr="ris6"/>
            <p:cNvPicPr/>
            <p:nvPr/>
          </p:nvPicPr>
          <p:blipFill>
            <a:blip r:embed="rId2"/>
            <a:stretch/>
          </p:blipFill>
          <p:spPr>
            <a:xfrm>
              <a:off x="7356960" y="3962520"/>
              <a:ext cx="17866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4" descr="ris5"/>
            <p:cNvPicPr/>
            <p:nvPr/>
          </p:nvPicPr>
          <p:blipFill>
            <a:blip r:embed="rId3"/>
            <a:stretch/>
          </p:blipFill>
          <p:spPr>
            <a:xfrm>
              <a:off x="6400800" y="4299480"/>
              <a:ext cx="1514880" cy="204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Задача на тему: </a:t>
            </a:r>
            <a:br>
              <a:rPr sz="4400"/>
            </a:b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Дано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Автомобиль движется равномерно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Используя рисунок, определите силу трения, действующую на автомобиль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Решение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Масштаб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1 деление = 1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яги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р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371600" y="5029200"/>
            <a:ext cx="7620120" cy="1600200"/>
            <a:chOff x="1371600" y="5029200"/>
            <a:chExt cx="7620120" cy="1600200"/>
          </a:xfrm>
        </p:grpSpPr>
        <p:sp>
          <p:nvSpPr>
            <p:cNvPr id="164" name="Line 26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Group 29"/>
            <p:cNvGrpSpPr/>
            <p:nvPr/>
          </p:nvGrpSpPr>
          <p:grpSpPr>
            <a:xfrm>
              <a:off x="4114800" y="5334120"/>
              <a:ext cx="4876920" cy="1295280"/>
              <a:chOff x="4114800" y="5334120"/>
              <a:chExt cx="4876920" cy="1295280"/>
            </a:xfrm>
          </p:grpSpPr>
          <p:grpSp>
            <p:nvGrpSpPr>
              <p:cNvPr id="166" name="Group 15"/>
              <p:cNvGrpSpPr/>
              <p:nvPr/>
            </p:nvGrpSpPr>
            <p:grpSpPr>
              <a:xfrm>
                <a:off x="5410440" y="5334120"/>
                <a:ext cx="3581280" cy="1295280"/>
                <a:chOff x="5410440" y="5334120"/>
                <a:chExt cx="3581280" cy="1295280"/>
              </a:xfrm>
            </p:grpSpPr>
            <p:grpSp>
              <p:nvGrpSpPr>
                <p:cNvPr id="167" name="Group 13"/>
                <p:cNvGrpSpPr/>
                <p:nvPr/>
              </p:nvGrpSpPr>
              <p:grpSpPr>
                <a:xfrm>
                  <a:off x="5410440" y="5638680"/>
                  <a:ext cx="3581280" cy="990720"/>
                  <a:chOff x="5410440" y="5638680"/>
                  <a:chExt cx="3581280" cy="990720"/>
                </a:xfrm>
              </p:grpSpPr>
              <p:sp>
                <p:nvSpPr>
                  <p:cNvPr id="168" name="Line 6"/>
                  <p:cNvSpPr/>
                  <p:nvPr/>
                </p:nvSpPr>
                <p:spPr>
                  <a:xfrm>
                    <a:off x="5410440" y="662940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Line 7"/>
                  <p:cNvSpPr/>
                  <p:nvPr/>
                </p:nvSpPr>
                <p:spPr>
                  <a:xfrm>
                    <a:off x="5410440" y="647712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12"/>
                  <p:cNvGrpSpPr/>
                  <p:nvPr/>
                </p:nvGrpSpPr>
                <p:grpSpPr>
                  <a:xfrm>
                    <a:off x="6858000" y="5638680"/>
                    <a:ext cx="1676160" cy="838440"/>
                    <a:chOff x="6858000" y="5638680"/>
                    <a:chExt cx="1676160" cy="838440"/>
                  </a:xfrm>
                </p:grpSpPr>
                <p:sp>
                  <p:nvSpPr>
                    <p:cNvPr id="171" name="Rectangle 8"/>
                    <p:cNvSpPr/>
                    <p:nvPr/>
                  </p:nvSpPr>
                  <p:spPr>
                    <a:xfrm>
                      <a:off x="6858000" y="5638680"/>
                      <a:ext cx="1676160" cy="45720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Oval 9"/>
                    <p:cNvSpPr/>
                    <p:nvPr/>
                  </p:nvSpPr>
                  <p:spPr>
                    <a:xfrm>
                      <a:off x="6858000" y="6095880"/>
                      <a:ext cx="380520" cy="38124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Oval 11"/>
                    <p:cNvSpPr/>
                    <p:nvPr/>
                  </p:nvSpPr>
                  <p:spPr>
                    <a:xfrm>
                      <a:off x="8152920" y="6095880"/>
                      <a:ext cx="380880" cy="38124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4" name="Rectangle 14"/>
                <p:cNvSpPr/>
                <p:nvPr/>
              </p:nvSpPr>
              <p:spPr>
                <a:xfrm>
                  <a:off x="5943600" y="5334120"/>
                  <a:ext cx="914040" cy="7617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Line 19"/>
              <p:cNvSpPr/>
              <p:nvPr/>
            </p:nvSpPr>
            <p:spPr>
              <a:xfrm flipH="1">
                <a:off x="4114800" y="5867280"/>
                <a:ext cx="1828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20"/>
              <p:cNvSpPr/>
              <p:nvPr/>
            </p:nvSpPr>
            <p:spPr>
              <a:xfrm>
                <a:off x="48769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21"/>
              <p:cNvSpPr/>
              <p:nvPr/>
            </p:nvSpPr>
            <p:spPr>
              <a:xfrm>
                <a:off x="51055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22"/>
              <p:cNvSpPr/>
              <p:nvPr/>
            </p:nvSpPr>
            <p:spPr>
              <a:xfrm>
                <a:off x="533412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23"/>
              <p:cNvSpPr/>
              <p:nvPr/>
            </p:nvSpPr>
            <p:spPr>
              <a:xfrm>
                <a:off x="563904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24"/>
              <p:cNvSpPr/>
              <p:nvPr/>
            </p:nvSpPr>
            <p:spPr>
              <a:xfrm>
                <a:off x="4648320" y="5791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4771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Опыт по теме: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сравнение силы трения покоя, скольжения, качения и веса тела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брусок деревянный, грузы – 2 шт., карандаш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Цена деления шкалы динамометра = 1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Вес бруска с двумя грузами = 2,5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Максимальная сила трения покоя бруска  = 0.9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скольжения бруска = 0.9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качения бруска = 0.4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12-10-10T04:18:44Z</dcterms:modified>
  <cp:revision>12</cp:revision>
  <dc:subject/>
  <dc:title>PowerPoint Presentation</dc:title>
</cp:coreProperties>
</file>