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72A5-AFDA-436B-87EC-1F656A11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3BF4-82EB-4076-B914-D404867D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543E-7A8B-4C0F-8AB7-CF5711C45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488D-F5A9-478D-ACD9-84ED7E26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109D-60FD-4FA8-90CF-A839761B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2ADD-E910-4F06-B47B-FC3B35E2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AB1C-A8A8-44BD-A096-AF1E459F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7AAB-126E-483E-90D8-E0BA7877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C758-4B77-4684-AB8E-E9150028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B0ED-295B-40FA-8024-DEF51C68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6521-AD0B-47B6-9A08-09ACB6D6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76DA-E43F-4EF1-8214-1C4CB39E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9586-699E-4F49-8418-167404FC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34FA-B140-4923-9138-C14E00D8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FBD7-FACB-4031-B4B3-C4D9273C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4EE1-126D-4247-987B-C3E14EE5D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B0CE-4A0B-4725-B3D8-D8D45382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6DBB-5704-451E-BF68-BBB130D4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0DEA-4069-402F-8E90-256C561A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710A-6649-4A38-B3F6-94B74932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FE13-2D1A-402B-9B27-D2D56D06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E51B-F5A7-402C-8D47-A51CBC7E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9619-919C-44BF-A527-7A16E2A1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742C-C422-4671-BF8B-CA5C87DF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1" name="AutoShape 3"/>
            <p:cNvSpPr/>
            <p:nvPr/>
          </p:nvSpPr>
          <p:spPr>
            <a:xfrm flipH="1" rot="5400000">
              <a:off x="129600" y="316764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 flipH="1" rot="5400000">
              <a:off x="129600" y="4110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rot="5400000">
              <a:off x="127440" y="504972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 flipH="1" rot="5400000">
              <a:off x="129600" y="339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flipH="1" rot="5400000">
              <a:off x="127440" y="127548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7440" y="222120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8803-C716-4250-A0B2-02DE7647E2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1027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1028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029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8" name="AutoShape 1030"/>
            <p:cNvSpPr/>
            <p:nvPr/>
          </p:nvSpPr>
          <p:spPr>
            <a:xfrm flipH="1" rot="5400000">
              <a:off x="129600" y="316764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031"/>
            <p:cNvSpPr/>
            <p:nvPr/>
          </p:nvSpPr>
          <p:spPr>
            <a:xfrm flipH="1" rot="5400000">
              <a:off x="129600" y="4110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032"/>
            <p:cNvSpPr/>
            <p:nvPr/>
          </p:nvSpPr>
          <p:spPr>
            <a:xfrm flipH="1" rot="5400000">
              <a:off x="127440" y="504972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1033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034"/>
            <p:cNvSpPr/>
            <p:nvPr/>
          </p:nvSpPr>
          <p:spPr>
            <a:xfrm flipH="1" rot="5400000">
              <a:off x="129600" y="339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035"/>
            <p:cNvSpPr/>
            <p:nvPr/>
          </p:nvSpPr>
          <p:spPr>
            <a:xfrm flipH="1" rot="5400000">
              <a:off x="127440" y="127548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036"/>
            <p:cNvSpPr/>
            <p:nvPr/>
          </p:nvSpPr>
          <p:spPr>
            <a:xfrm flipH="1" rot="5400000">
              <a:off x="127440" y="222120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037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038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1039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040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1041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042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1043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1044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1045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1046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1047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1048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1049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1050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051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5643-441D-4D8E-808B-16237A1692E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Arial Black"/>
              </a:rPr>
              <a:t>Сила трения. </a:t>
            </a:r>
            <a:br>
              <a:rPr sz="4000"/>
            </a:b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Arial Black"/>
              </a:rPr>
              <a:t>Трения в природе и технике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92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ru-RU" sz="2800" spc="-1" strike="noStrike">
                <a:solidFill>
                  <a:srgbClr val="ffcc66"/>
                </a:solidFill>
                <a:latin typeface="Arial Black"/>
              </a:rPr>
              <a:t>Презентацию подготовила ученица 7 класса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Arial Black"/>
              </a:rPr>
              <a:t>Елагина Мари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Arial Black"/>
              </a:rPr>
              <a:t>школы № 13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Arial Black"/>
              </a:rPr>
              <a:t>«Вдохновение»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Arial Black"/>
              </a:rPr>
              <a:t>Учитель физики: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Arial Black"/>
              </a:rPr>
              <a:t>Васильева М.В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Arial Black"/>
              </a:rPr>
              <a:t>2007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АняОпыт 006"/>
          <p:cNvPicPr/>
          <p:nvPr/>
        </p:nvPicPr>
        <p:blipFill>
          <a:blip r:embed="rId1"/>
          <a:stretch/>
        </p:blipFill>
        <p:spPr>
          <a:xfrm>
            <a:off x="1523880" y="228600"/>
            <a:ext cx="1905120" cy="2286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90760" y="228240"/>
            <a:ext cx="533160" cy="4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 Black"/>
              </a:rPr>
              <a:t>2.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304920"/>
            <a:ext cx="60984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 Black"/>
              </a:rPr>
              <a:t>1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04960" y="2895480"/>
            <a:ext cx="6476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 Black"/>
              </a:rPr>
              <a:t>3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87" name="Picture 12" descr="АняОпыт 003"/>
          <p:cNvPicPr/>
          <p:nvPr/>
        </p:nvPicPr>
        <p:blipFill>
          <a:blip r:embed="rId2"/>
          <a:stretch/>
        </p:blipFill>
        <p:spPr>
          <a:xfrm>
            <a:off x="4648320" y="228600"/>
            <a:ext cx="3429000" cy="1219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АняОпыт 004"/>
          <p:cNvPicPr/>
          <p:nvPr/>
        </p:nvPicPr>
        <p:blipFill>
          <a:blip r:embed="rId3"/>
          <a:stretch/>
        </p:blipFill>
        <p:spPr>
          <a:xfrm>
            <a:off x="4038480" y="2819520"/>
            <a:ext cx="3429000" cy="1143000"/>
          </a:xfrm>
          <a:prstGeom prst="rect">
            <a:avLst/>
          </a:prstGeom>
          <a:ln w="0">
            <a:noFill/>
          </a:ln>
        </p:spPr>
      </p:pic>
      <p:sp>
        <p:nvSpPr>
          <p:cNvPr id="189" name="WordArt 18"/>
          <p:cNvSpPr txBox="1"/>
          <p:nvPr/>
        </p:nvSpPr>
        <p:spPr>
          <a:xfrm>
            <a:off x="1447920" y="4876920"/>
            <a:ext cx="2570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4.</a:t>
            </a:r>
            <a:endParaRPr b="1" lang="en-US" sz="2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pic>
        <p:nvPicPr>
          <p:cNvPr id="190" name="Picture 20" descr="АняОпыт 005"/>
          <p:cNvPicPr/>
          <p:nvPr/>
        </p:nvPicPr>
        <p:blipFill>
          <a:blip r:embed="rId4"/>
          <a:stretch/>
        </p:blipFill>
        <p:spPr>
          <a:xfrm>
            <a:off x="1752480" y="4876920"/>
            <a:ext cx="29718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387000"/>
            <a:ext cx="91440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00"/>
                </a:solidFill>
                <a:latin typeface="Arial Black"/>
              </a:rPr>
              <a:t>Выводы</a:t>
            </a:r>
            <a:endParaRPr b="0" lang="en-US" sz="7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26665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66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 Black"/>
              </a:rPr>
              <a:t>Вес тела больше максимальной силы трения покоя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 Black"/>
              </a:rPr>
              <a:t>2. Максимальная сила трения покоя равна силе трения скольжения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 Black"/>
              </a:rPr>
              <a:t>3. Сила трения скольжения больше силы трения качения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5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15048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 Black"/>
              </a:rPr>
              <a:t>Опыт по теме: 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Arial Black"/>
              </a:rPr>
              <a:t>изучение зависимости силы трения скольжения от рода трущихся поверхностей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Приборы и материалы: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6600"/>
                </a:solidFill>
                <a:latin typeface="Arial Black"/>
              </a:rPr>
              <a:t>динамометр, трибометр,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6600"/>
                </a:solidFill>
                <a:latin typeface="Arial Black"/>
              </a:rPr>
              <a:t>грузы – 2шт., лист бумаги, лист наждачной бумаги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95" name="Group 13"/>
          <p:cNvGrpSpPr/>
          <p:nvPr/>
        </p:nvGrpSpPr>
        <p:grpSpPr>
          <a:xfrm>
            <a:off x="1371600" y="3429000"/>
            <a:ext cx="7086600" cy="3048120"/>
            <a:chOff x="1371600" y="3429000"/>
            <a:chExt cx="7086600" cy="3048120"/>
          </a:xfrm>
        </p:grpSpPr>
        <p:grpSp>
          <p:nvGrpSpPr>
            <p:cNvPr id="196" name="Group 7"/>
            <p:cNvGrpSpPr/>
            <p:nvPr/>
          </p:nvGrpSpPr>
          <p:grpSpPr>
            <a:xfrm>
              <a:off x="1371600" y="3429000"/>
              <a:ext cx="7086600" cy="3048120"/>
              <a:chOff x="1371600" y="3429000"/>
              <a:chExt cx="7086600" cy="3048120"/>
            </a:xfrm>
          </p:grpSpPr>
          <p:sp>
            <p:nvSpPr>
              <p:cNvPr id="197" name="Rectangle 4"/>
              <p:cNvSpPr/>
              <p:nvPr/>
            </p:nvSpPr>
            <p:spPr>
              <a:xfrm>
                <a:off x="1371600" y="3429000"/>
                <a:ext cx="7086600" cy="3048120"/>
              </a:xfrm>
              <a:prstGeom prst="rect">
                <a:avLst/>
              </a:prstGeom>
              <a:solidFill>
                <a:srgbClr val="9966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Line 5"/>
              <p:cNvSpPr/>
              <p:nvPr/>
            </p:nvSpPr>
            <p:spPr>
              <a:xfrm>
                <a:off x="4724280" y="3429000"/>
                <a:ext cx="0" cy="3048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Line 6"/>
              <p:cNvSpPr/>
              <p:nvPr/>
            </p:nvSpPr>
            <p:spPr>
              <a:xfrm>
                <a:off x="1371600" y="4114800"/>
                <a:ext cx="7086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0" name="WordArt 8"/>
            <p:cNvSpPr txBox="1"/>
            <p:nvPr/>
          </p:nvSpPr>
          <p:spPr>
            <a:xfrm>
              <a:off x="1447920" y="3581280"/>
              <a:ext cx="312408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Вид трущихся поверхностей</a:t>
              </a:r>
              <a:endParaRPr b="0" lang="en-US" sz="2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01" name="WordArt 10"/>
            <p:cNvSpPr txBox="1"/>
            <p:nvPr/>
          </p:nvSpPr>
          <p:spPr>
            <a:xfrm>
              <a:off x="4876920" y="3581280"/>
              <a:ext cx="342900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Сила трения скольжения, H</a:t>
              </a:r>
              <a:endParaRPr b="0" lang="en-US" sz="2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02" name="WordArt 11"/>
            <p:cNvSpPr txBox="1"/>
            <p:nvPr/>
          </p:nvSpPr>
          <p:spPr>
            <a:xfrm>
              <a:off x="1447920" y="4419720"/>
              <a:ext cx="3200400" cy="1466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Дерево по дереву</a:t>
              </a:r>
              <a:endParaRPr b="0" lang="en-US" sz="2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Дерево по гладкой бумаге</a:t>
              </a:r>
              <a:endParaRPr b="0" lang="en-US" sz="2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Дерево по наждачной бумаге</a:t>
              </a:r>
              <a:endParaRPr b="0" lang="en-US" sz="2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03" name="WordArt 12"/>
            <p:cNvSpPr txBox="1"/>
            <p:nvPr/>
          </p:nvSpPr>
          <p:spPr>
            <a:xfrm>
              <a:off x="6172200" y="4419720"/>
              <a:ext cx="723960" cy="139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 H</a:t>
              </a:r>
              <a:endParaRPr b="0" lang="en-US" sz="2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0.5 H</a:t>
              </a:r>
              <a:endParaRPr b="0" lang="en-US" sz="2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.5 H</a:t>
              </a:r>
              <a:endParaRPr b="0" lang="en-US" sz="2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6212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 Black"/>
              </a:rPr>
              <a:t>1.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19320" y="457164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 Black"/>
              </a:rPr>
              <a:t>3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4526640" y="2057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 Black"/>
              </a:rPr>
              <a:t>2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Picture 8" descr="Изображение 003"/>
          <p:cNvPicPr/>
          <p:nvPr/>
        </p:nvPicPr>
        <p:blipFill>
          <a:blip r:embed="rId1"/>
          <a:stretch/>
        </p:blipFill>
        <p:spPr>
          <a:xfrm>
            <a:off x="1752480" y="152280"/>
            <a:ext cx="4114800" cy="1295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Изображение 004"/>
          <p:cNvPicPr/>
          <p:nvPr/>
        </p:nvPicPr>
        <p:blipFill>
          <a:blip r:embed="rId2"/>
          <a:stretch/>
        </p:blipFill>
        <p:spPr>
          <a:xfrm>
            <a:off x="5029200" y="2057400"/>
            <a:ext cx="3886200" cy="1371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Изображение 002"/>
          <p:cNvPicPr/>
          <p:nvPr/>
        </p:nvPicPr>
        <p:blipFill>
          <a:blip r:embed="rId3"/>
          <a:stretch/>
        </p:blipFill>
        <p:spPr>
          <a:xfrm>
            <a:off x="1828800" y="4495680"/>
            <a:ext cx="4114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387000"/>
            <a:ext cx="91440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00"/>
                </a:solidFill>
                <a:latin typeface="Arial Black"/>
              </a:rPr>
              <a:t>Выводы</a:t>
            </a:r>
            <a:endParaRPr b="0" lang="en-US" sz="7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360" y="2666880"/>
            <a:ext cx="7848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ff66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 Black"/>
              </a:rPr>
              <a:t>Сила трения скольжения  зависит от рода трущихся поверхностей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 Black"/>
              </a:rPr>
              <a:t>2.  Сила трения скольжения зависит от шероховатости трущихся поверхностей. Чем более шероховатая поверхность, тем сила трения скольжения больше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8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2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Arial Black"/>
              </a:rPr>
              <a:t>Источники</a:t>
            </a: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 Black"/>
              </a:rPr>
              <a:t>Фронтальные экспериментальные задания по физике в 6-7 классах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 Black"/>
              </a:rPr>
              <a:t>Пособие для учителей, под редакцией  В. А. Буров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Verdana"/>
              </a:rPr>
              <a:t>Трение в природе и технике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Verdana"/>
              </a:rPr>
              <a:t>Лисовский Л. П., Саломонович А. Е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 Black"/>
              </a:rPr>
              <a:t>http://gimn-sov1.narod.ru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3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7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91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95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99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00"/>
                </a:solidFill>
                <a:uFillTx/>
                <a:latin typeface="Arial Black"/>
              </a:rPr>
              <a:t>Что такое сила трения?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280" y="2060640"/>
            <a:ext cx="3848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i="1" lang="ru-RU" sz="2400" spc="-1" strike="noStrike">
                <a:solidFill>
                  <a:srgbClr val="ffcc66"/>
                </a:solidFill>
                <a:latin typeface="Arial Black"/>
              </a:rPr>
              <a:t>Сила ,    характеризующая соприкосновение одного тела с другим, при котором возникает взаимодействие, препятствующее их относительному движению, называется силой трения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5" name="Picture 5" descr="i"/>
          <p:cNvPicPr/>
          <p:nvPr/>
        </p:nvPicPr>
        <p:blipFill>
          <a:blip r:embed="rId1"/>
          <a:stretch/>
        </p:blipFill>
        <p:spPr>
          <a:xfrm>
            <a:off x="4648320" y="2057400"/>
            <a:ext cx="4267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00"/>
                </a:solidFill>
                <a:uFillTx/>
                <a:latin typeface="Arial Black"/>
              </a:rPr>
              <a:t>Причины возникновения силы трения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446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66"/>
                </a:solidFill>
                <a:latin typeface="Arial Black"/>
              </a:rPr>
              <a:t>Появляется при соприкосновении тел или их частей друг относительно друга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66"/>
                </a:solidFill>
                <a:latin typeface="Arial Black"/>
              </a:rPr>
              <a:t>Возникает благодаря существованию сил взаимодействия между молекулами и атомами соприкасающихся тел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8" name="Picture 10" descr="iлоп"/>
          <p:cNvPicPr/>
          <p:nvPr/>
        </p:nvPicPr>
        <p:blipFill>
          <a:blip r:embed="rId1"/>
          <a:stretch/>
        </p:blipFill>
        <p:spPr>
          <a:xfrm>
            <a:off x="5791320" y="4191120"/>
            <a:ext cx="2209680" cy="2286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iлоптс"/>
          <p:cNvPicPr/>
          <p:nvPr/>
        </p:nvPicPr>
        <p:blipFill>
          <a:blip r:embed="rId2"/>
          <a:stretch/>
        </p:blipFill>
        <p:spPr>
          <a:xfrm>
            <a:off x="5181480" y="2209680"/>
            <a:ext cx="35053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00"/>
                </a:solidFill>
                <a:uFillTx/>
                <a:latin typeface="Arial Black"/>
              </a:rPr>
              <a:t>Виды трения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848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 Black"/>
              </a:rPr>
              <a:t>1.</a:t>
            </a:r>
            <a:r>
              <a:rPr b="0" i="1" lang="ru-RU" sz="2000" spc="-1" strike="noStrike">
                <a:solidFill>
                  <a:srgbClr val="ffff00"/>
                </a:solidFill>
                <a:latin typeface="Arial Black"/>
              </a:rPr>
              <a:t>Трение покоя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 Black"/>
              </a:rPr>
              <a:t>       </a:t>
            </a:r>
            <a:r>
              <a:rPr b="0" i="1" lang="ru-RU" sz="2000" spc="-1" strike="noStrike">
                <a:solidFill>
                  <a:srgbClr val="ffcc66"/>
                </a:solidFill>
                <a:latin typeface="Arial Black"/>
              </a:rPr>
              <a:t>Сила существует между покоящимися друг относительно друга телами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 Black"/>
              </a:rPr>
              <a:t>2.</a:t>
            </a:r>
            <a:r>
              <a:rPr b="0" i="1" lang="ru-RU" sz="2000" spc="-1" strike="noStrike">
                <a:solidFill>
                  <a:srgbClr val="ffff00"/>
                </a:solidFill>
                <a:latin typeface="Arial Black"/>
              </a:rPr>
              <a:t>Трение скольжения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 Black"/>
              </a:rPr>
              <a:t>       </a:t>
            </a:r>
            <a:r>
              <a:rPr b="0" i="1" lang="ru-RU" sz="2000" spc="-1" strike="noStrike">
                <a:solidFill>
                  <a:srgbClr val="ffcc66"/>
                </a:solidFill>
                <a:latin typeface="Arial Black"/>
              </a:rPr>
              <a:t>Трение, которое возникает в результате скольжения одного тела по поверхности другого.</a:t>
            </a:r>
            <a:r>
              <a:rPr b="0" i="1" lang="ru-RU" sz="2000" spc="-1" strike="noStrike">
                <a:solidFill>
                  <a:srgbClr val="ff66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 Black"/>
              </a:rPr>
              <a:t>3.</a:t>
            </a:r>
            <a:r>
              <a:rPr b="0" i="1" lang="ru-RU" sz="2000" spc="-1" strike="noStrike">
                <a:solidFill>
                  <a:srgbClr val="ffff00"/>
                </a:solidFill>
                <a:latin typeface="Arial Black"/>
              </a:rPr>
              <a:t>Трение качения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 Black"/>
              </a:rPr>
              <a:t>       </a:t>
            </a:r>
            <a:r>
              <a:rPr b="0" i="1" lang="ru-RU" sz="2000" spc="-1" strike="noStrike">
                <a:solidFill>
                  <a:srgbClr val="ffcc66"/>
                </a:solidFill>
                <a:latin typeface="Arial Black"/>
              </a:rPr>
              <a:t>Трение, которое возникает, когда одно тело катится по поверхности другого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2" name="Picture 7" descr="iлоипа"/>
          <p:cNvPicPr/>
          <p:nvPr/>
        </p:nvPicPr>
        <p:blipFill>
          <a:blip r:embed="rId1"/>
          <a:stretch/>
        </p:blipFill>
        <p:spPr>
          <a:xfrm>
            <a:off x="4724280" y="2666880"/>
            <a:ext cx="1752840" cy="3276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iовмиадлочяв"/>
          <p:cNvPicPr/>
          <p:nvPr/>
        </p:nvPicPr>
        <p:blipFill>
          <a:blip r:embed="rId2"/>
          <a:stretch/>
        </p:blipFill>
        <p:spPr>
          <a:xfrm>
            <a:off x="6705720" y="2057400"/>
            <a:ext cx="2209680" cy="1981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iваипь"/>
          <p:cNvPicPr/>
          <p:nvPr/>
        </p:nvPicPr>
        <p:blipFill>
          <a:blip r:embed="rId3"/>
          <a:stretch/>
        </p:blipFill>
        <p:spPr>
          <a:xfrm>
            <a:off x="6629400" y="4724280"/>
            <a:ext cx="2514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3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1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5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Arial Black"/>
              </a:rPr>
              <a:t>С помощью чего измеряется сила трения?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 Black"/>
              </a:rPr>
              <a:t> </a:t>
            </a:r>
            <a:r>
              <a:rPr b="0" i="1" lang="ru-RU" sz="2400" spc="-1" strike="noStrike">
                <a:solidFill>
                  <a:srgbClr val="ffcc66"/>
                </a:solidFill>
                <a:latin typeface="Arial Black"/>
              </a:rPr>
              <a:t>Это можно сделать </a:t>
            </a:r>
            <a:r>
              <a:rPr b="1" i="1" lang="ru-RU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при помощи динамометра.</a:t>
            </a:r>
            <a:r>
              <a:rPr b="0" i="1" lang="ru-RU" sz="2400" spc="-1" strike="noStrike">
                <a:solidFill>
                  <a:srgbClr val="ffcc6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66"/>
                </a:solidFill>
                <a:latin typeface="Arial Black"/>
              </a:rPr>
              <a:t>При</a:t>
            </a:r>
            <a:r>
              <a:rPr b="1" i="1" lang="ru-RU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равномерном</a:t>
            </a:r>
            <a:r>
              <a:rPr b="0" i="1" lang="ru-RU" sz="2400" spc="-1" strike="noStrike">
                <a:solidFill>
                  <a:srgbClr val="ffcc66"/>
                </a:solidFill>
                <a:latin typeface="Arial Black"/>
              </a:rPr>
              <a:t> движении тела динамометр </a:t>
            </a:r>
            <a:br>
              <a:rPr sz="2400"/>
            </a:br>
            <a:r>
              <a:rPr b="0" i="1" lang="ru-RU" sz="2400" spc="-1" strike="noStrike">
                <a:solidFill>
                  <a:srgbClr val="ffcc66"/>
                </a:solidFill>
                <a:latin typeface="Arial Black"/>
              </a:rPr>
              <a:t>показывает силу тяги, равную силе трения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66"/>
                </a:solidFill>
                <a:latin typeface="Arial Black"/>
              </a:rPr>
              <a:t>Единица измерения силы трения в СИ  - 1 Ньютон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7" name="Picture 6" descr="iчаптим"/>
          <p:cNvPicPr/>
          <p:nvPr/>
        </p:nvPicPr>
        <p:blipFill>
          <a:blip r:embed="rId1"/>
          <a:stretch/>
        </p:blipFill>
        <p:spPr>
          <a:xfrm>
            <a:off x="2666880" y="4038480"/>
            <a:ext cx="44960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6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00"/>
                </a:solidFill>
                <a:uFillTx/>
                <a:latin typeface="Arial Black"/>
              </a:rPr>
              <a:t>Сила трения в природе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066680" y="3200400"/>
            <a:ext cx="3886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Без трения покоя ни люди, ни животные не могли бы ходить по земле, так как при ходьбе мы отталкиваемся ногами от земли. Не будь трения, предметы выскальзывали бы из рук. У многих растений и животных  имеются различные органы, служащие для хватания (усики растений,  хобот слона, цепкие хвосты лазающих животных). Все они имеют шероховатую поверхность для увеличения силы тр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522360" y="4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8" descr="1"/>
          <p:cNvPicPr/>
          <p:nvPr/>
        </p:nvPicPr>
        <p:blipFill>
          <a:blip r:embed="rId1"/>
          <a:stretch/>
        </p:blipFill>
        <p:spPr>
          <a:xfrm>
            <a:off x="5029200" y="2133720"/>
            <a:ext cx="3565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00"/>
                </a:solidFill>
                <a:uFillTx/>
                <a:latin typeface="Arial Black"/>
              </a:rPr>
              <a:t>Сила трения в технике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5715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 Black"/>
              </a:rPr>
              <a:t> </a:t>
            </a:r>
            <a:r>
              <a:rPr b="1" i="1" lang="ru-RU" sz="1600" spc="-1" strike="noStrike">
                <a:solidFill>
                  <a:srgbClr val="ffcc66"/>
                </a:solidFill>
                <a:latin typeface="Arial Black"/>
              </a:rPr>
              <a:t>В технике сила трения имеет большое значение. Во всех машинах из-за трения нагреваются и изнашиваются движущиеся части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 Black"/>
              </a:rPr>
              <a:t> </a:t>
            </a:r>
            <a:r>
              <a:rPr b="1" i="1" lang="ru-RU" sz="1600" spc="-1" strike="noStrike">
                <a:solidFill>
                  <a:srgbClr val="ffcc66"/>
                </a:solidFill>
                <a:latin typeface="Arial Black"/>
              </a:rPr>
              <a:t>Для уменьшения трения соприкасающиеся поверхности делают гладкими, между ними вводят смазку.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 Black"/>
              </a:rPr>
              <a:t>Чтобы уменьшить трение вращающихся валов машин и станков, используют подшипники.  Подшипники бывают  шариковые и роликовые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 Black"/>
              </a:rPr>
              <a:t> </a:t>
            </a:r>
            <a:r>
              <a:rPr b="1" i="1" lang="ru-RU" sz="1600" spc="-1" strike="noStrike">
                <a:solidFill>
                  <a:srgbClr val="ffcc66"/>
                </a:solidFill>
                <a:latin typeface="Arial Black"/>
              </a:rPr>
              <a:t>Простейший подшипник состоит из внешнего кольца и внутреннего кольца. Внутреннее кольцо изготавливают из твердой стали, насаживают на вал. Наружное кольцо закрепляют в корпусе машины.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 Black"/>
              </a:rPr>
              <a:t>При вращении вала внутреннее кольцо катиться на шариках или роликах, находящихся между кольцами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09564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8" descr="ris7"/>
          <p:cNvPicPr/>
          <p:nvPr/>
        </p:nvPicPr>
        <p:blipFill>
          <a:blip r:embed="rId1"/>
          <a:stretch/>
        </p:blipFill>
        <p:spPr>
          <a:xfrm>
            <a:off x="6553080" y="2286000"/>
            <a:ext cx="2313000" cy="14968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9"/>
          <p:cNvSpPr/>
          <p:nvPr/>
        </p:nvSpPr>
        <p:spPr>
          <a:xfrm>
            <a:off x="3386160" y="200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354168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Group 15"/>
          <p:cNvGrpSpPr/>
          <p:nvPr/>
        </p:nvGrpSpPr>
        <p:grpSpPr>
          <a:xfrm>
            <a:off x="6400800" y="3962520"/>
            <a:ext cx="2742840" cy="2438280"/>
            <a:chOff x="6400800" y="3962520"/>
            <a:chExt cx="2742840" cy="2438280"/>
          </a:xfrm>
        </p:grpSpPr>
        <p:pic>
          <p:nvPicPr>
            <p:cNvPr id="159" name="Picture 11" descr="ris6"/>
            <p:cNvPicPr/>
            <p:nvPr/>
          </p:nvPicPr>
          <p:blipFill>
            <a:blip r:embed="rId2"/>
            <a:stretch/>
          </p:blipFill>
          <p:spPr>
            <a:xfrm>
              <a:off x="7356960" y="3962520"/>
              <a:ext cx="178668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4" descr="ris5"/>
            <p:cNvPicPr/>
            <p:nvPr/>
          </p:nvPicPr>
          <p:blipFill>
            <a:blip r:embed="rId3"/>
            <a:stretch/>
          </p:blipFill>
          <p:spPr>
            <a:xfrm>
              <a:off x="6400800" y="4299480"/>
              <a:ext cx="1514880" cy="204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8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00"/>
                </a:solidFill>
                <a:uFillTx/>
                <a:latin typeface="Arial Black"/>
              </a:rPr>
              <a:t>Задача на тему: </a:t>
            </a:r>
            <a:br>
              <a:rPr sz="4400"/>
            </a:br>
            <a:r>
              <a:rPr b="1" i="1" lang="ru-RU" sz="4400" spc="-1" strike="noStrike" u="sng">
                <a:solidFill>
                  <a:srgbClr val="ffff00"/>
                </a:solidFill>
                <a:uFillTx/>
                <a:latin typeface="Arial Black"/>
              </a:rPr>
              <a:t>сила трения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i="1" lang="ru-RU" sz="2800" spc="-1" strike="noStrike">
                <a:solidFill>
                  <a:srgbClr val="ffff00"/>
                </a:solidFill>
                <a:latin typeface="Arial Black"/>
              </a:rPr>
              <a:t>Дано: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               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i="1" lang="ru-RU" sz="2800" spc="-1" strike="noStrike">
                <a:solidFill>
                  <a:srgbClr val="ffcc66"/>
                </a:solidFill>
                <a:latin typeface="Arial Black"/>
              </a:rPr>
              <a:t>Автомобиль движется равномерно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Arial Black"/>
              </a:rPr>
              <a:t>   </a:t>
            </a:r>
            <a:r>
              <a:rPr b="0" i="1" lang="ru-RU" sz="2800" spc="-1" strike="noStrike">
                <a:solidFill>
                  <a:srgbClr val="ffcc66"/>
                </a:solidFill>
                <a:latin typeface="Arial Black"/>
              </a:rPr>
              <a:t>Используя рисунок, определите силу трения, действующую на автомобиль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i="1" lang="ru-RU" sz="2800" spc="-1" strike="noStrike">
                <a:solidFill>
                  <a:srgbClr val="ffff00"/>
                </a:solidFill>
                <a:latin typeface="Arial Black"/>
              </a:rPr>
              <a:t>Решение: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i="1" lang="ru-RU" sz="2800" spc="-1" strike="noStrike">
                <a:solidFill>
                  <a:srgbClr val="ffff00"/>
                </a:solidFill>
                <a:latin typeface="Arial Black"/>
              </a:rPr>
              <a:t>Масштаб: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 Black"/>
              </a:rPr>
              <a:t>1 деление = 100 </a:t>
            </a:r>
            <a:r>
              <a:rPr b="0" lang="en-US" sz="2800" spc="-1" strike="noStrike">
                <a:solidFill>
                  <a:srgbClr val="ffcc66"/>
                </a:solidFill>
                <a:latin typeface="Arial Black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 Black"/>
              </a:rPr>
              <a:t>F</a:t>
            </a:r>
            <a:r>
              <a:rPr b="0" lang="ru-RU" sz="1600" spc="-1" strike="noStrike">
                <a:solidFill>
                  <a:srgbClr val="ffcc66"/>
                </a:solidFill>
                <a:latin typeface="Arial Black"/>
              </a:rPr>
              <a:t>тяги</a:t>
            </a:r>
            <a:r>
              <a:rPr b="0" lang="ru-RU" sz="2800" spc="-1" strike="noStrike">
                <a:solidFill>
                  <a:srgbClr val="ffcc66"/>
                </a:solidFill>
                <a:latin typeface="Arial Black"/>
              </a:rPr>
              <a:t> = 600 </a:t>
            </a:r>
            <a:r>
              <a:rPr b="0" lang="en-US" sz="2800" spc="-1" strike="noStrike">
                <a:solidFill>
                  <a:srgbClr val="ffcc66"/>
                </a:solidFill>
                <a:latin typeface="Arial Black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 Black"/>
              </a:rPr>
              <a:t>F</a:t>
            </a:r>
            <a:r>
              <a:rPr b="0" lang="ru-RU" sz="1600" spc="-1" strike="noStrike">
                <a:solidFill>
                  <a:srgbClr val="ffcc66"/>
                </a:solidFill>
                <a:latin typeface="Arial Black"/>
              </a:rPr>
              <a:t>тр</a:t>
            </a:r>
            <a:r>
              <a:rPr b="0" lang="ru-RU" sz="2800" spc="-1" strike="noStrike">
                <a:solidFill>
                  <a:srgbClr val="ffcc66"/>
                </a:solidFill>
                <a:latin typeface="Arial Black"/>
              </a:rPr>
              <a:t> = 600 </a:t>
            </a:r>
            <a:r>
              <a:rPr b="0" lang="en-US" sz="2800" spc="-1" strike="noStrike">
                <a:solidFill>
                  <a:srgbClr val="ffcc66"/>
                </a:solidFill>
                <a:latin typeface="Arial Black"/>
              </a:rPr>
              <a:t>H</a:t>
            </a:r>
            <a:r>
              <a:rPr b="0" lang="ru-RU" sz="2800" spc="-1" strike="noStrike">
                <a:solidFill>
                  <a:srgbClr val="ffcc6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63" name="Group 30"/>
          <p:cNvGrpSpPr/>
          <p:nvPr/>
        </p:nvGrpSpPr>
        <p:grpSpPr>
          <a:xfrm>
            <a:off x="1371600" y="5029200"/>
            <a:ext cx="7620120" cy="1600200"/>
            <a:chOff x="1371600" y="5029200"/>
            <a:chExt cx="7620120" cy="1600200"/>
          </a:xfrm>
        </p:grpSpPr>
        <p:sp>
          <p:nvSpPr>
            <p:cNvPr id="164" name="Line 26"/>
            <p:cNvSpPr/>
            <p:nvPr/>
          </p:nvSpPr>
          <p:spPr>
            <a:xfrm>
              <a:off x="1371600" y="502920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5" name="Group 29"/>
            <p:cNvGrpSpPr/>
            <p:nvPr/>
          </p:nvGrpSpPr>
          <p:grpSpPr>
            <a:xfrm>
              <a:off x="4114800" y="5334120"/>
              <a:ext cx="4876920" cy="1295280"/>
              <a:chOff x="4114800" y="5334120"/>
              <a:chExt cx="4876920" cy="1295280"/>
            </a:xfrm>
          </p:grpSpPr>
          <p:grpSp>
            <p:nvGrpSpPr>
              <p:cNvPr id="166" name="Group 15"/>
              <p:cNvGrpSpPr/>
              <p:nvPr/>
            </p:nvGrpSpPr>
            <p:grpSpPr>
              <a:xfrm>
                <a:off x="5410440" y="5334120"/>
                <a:ext cx="3581280" cy="1295280"/>
                <a:chOff x="5410440" y="5334120"/>
                <a:chExt cx="3581280" cy="1295280"/>
              </a:xfrm>
            </p:grpSpPr>
            <p:grpSp>
              <p:nvGrpSpPr>
                <p:cNvPr id="167" name="Group 13"/>
                <p:cNvGrpSpPr/>
                <p:nvPr/>
              </p:nvGrpSpPr>
              <p:grpSpPr>
                <a:xfrm>
                  <a:off x="5410440" y="5638680"/>
                  <a:ext cx="3581280" cy="990720"/>
                  <a:chOff x="5410440" y="5638680"/>
                  <a:chExt cx="3581280" cy="990720"/>
                </a:xfrm>
              </p:grpSpPr>
              <p:sp>
                <p:nvSpPr>
                  <p:cNvPr id="168" name="Line 6"/>
                  <p:cNvSpPr/>
                  <p:nvPr/>
                </p:nvSpPr>
                <p:spPr>
                  <a:xfrm>
                    <a:off x="5410440" y="6629400"/>
                    <a:ext cx="358128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Line 7"/>
                  <p:cNvSpPr/>
                  <p:nvPr/>
                </p:nvSpPr>
                <p:spPr>
                  <a:xfrm>
                    <a:off x="5410440" y="6477120"/>
                    <a:ext cx="358128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0" name="Group 12"/>
                  <p:cNvGrpSpPr/>
                  <p:nvPr/>
                </p:nvGrpSpPr>
                <p:grpSpPr>
                  <a:xfrm>
                    <a:off x="6858000" y="5638680"/>
                    <a:ext cx="1676160" cy="838440"/>
                    <a:chOff x="6858000" y="5638680"/>
                    <a:chExt cx="1676160" cy="838440"/>
                  </a:xfrm>
                </p:grpSpPr>
                <p:sp>
                  <p:nvSpPr>
                    <p:cNvPr id="171" name="Rectangle 8"/>
                    <p:cNvSpPr/>
                    <p:nvPr/>
                  </p:nvSpPr>
                  <p:spPr>
                    <a:xfrm>
                      <a:off x="6858000" y="5638680"/>
                      <a:ext cx="1676160" cy="457200"/>
                    </a:xfrm>
                    <a:prstGeom prst="rect">
                      <a:avLst/>
                    </a:prstGeom>
                    <a:blipFill rotWithShape="0">
                      <a:blip r:embed="rId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Oval 9"/>
                    <p:cNvSpPr/>
                    <p:nvPr/>
                  </p:nvSpPr>
                  <p:spPr>
                    <a:xfrm>
                      <a:off x="6858000" y="6095880"/>
                      <a:ext cx="380520" cy="381240"/>
                    </a:xfrm>
                    <a:prstGeom prst="ellipse">
                      <a:avLst/>
                    </a:pr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Oval 11"/>
                    <p:cNvSpPr/>
                    <p:nvPr/>
                  </p:nvSpPr>
                  <p:spPr>
                    <a:xfrm>
                      <a:off x="8152920" y="6095880"/>
                      <a:ext cx="380880" cy="381240"/>
                    </a:xfrm>
                    <a:prstGeom prst="ellipse">
                      <a:avLst/>
                    </a:pr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74" name="Rectangle 14"/>
                <p:cNvSpPr/>
                <p:nvPr/>
              </p:nvSpPr>
              <p:spPr>
                <a:xfrm>
                  <a:off x="5943600" y="5334120"/>
                  <a:ext cx="914040" cy="76176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Line 19"/>
              <p:cNvSpPr/>
              <p:nvPr/>
            </p:nvSpPr>
            <p:spPr>
              <a:xfrm flipH="1">
                <a:off x="4114800" y="5867280"/>
                <a:ext cx="1828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Line 20"/>
              <p:cNvSpPr/>
              <p:nvPr/>
            </p:nvSpPr>
            <p:spPr>
              <a:xfrm>
                <a:off x="4876920" y="57913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Line 21"/>
              <p:cNvSpPr/>
              <p:nvPr/>
            </p:nvSpPr>
            <p:spPr>
              <a:xfrm>
                <a:off x="5105520" y="57913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Line 22"/>
              <p:cNvSpPr/>
              <p:nvPr/>
            </p:nvSpPr>
            <p:spPr>
              <a:xfrm>
                <a:off x="5334120" y="57150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Line 23"/>
              <p:cNvSpPr/>
              <p:nvPr/>
            </p:nvSpPr>
            <p:spPr>
              <a:xfrm>
                <a:off x="5639040" y="57150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Line 24"/>
              <p:cNvSpPr/>
              <p:nvPr/>
            </p:nvSpPr>
            <p:spPr>
              <a:xfrm>
                <a:off x="4648320" y="5791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5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9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3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7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1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5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6477120" cy="13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 Black"/>
              </a:rPr>
              <a:t>Опыт по теме: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Arial Black"/>
              </a:rPr>
              <a:t>сравнение силы трения покоя, скольжения, качения и веса тела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Приборы и материалы: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6600"/>
                </a:solidFill>
                <a:latin typeface="Arial Black"/>
              </a:rPr>
              <a:t>динамометр, брусок деревянный, грузы – 2 шт., карандаши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601"/>
              </a:spcBef>
              <a:buClr>
                <a:srgbClr val="ff66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 Black"/>
              </a:rPr>
              <a:t>Цена деления шкалы динамометра = 1 </a:t>
            </a: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601"/>
              </a:spcBef>
              <a:buClr>
                <a:srgbClr val="ff66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 Black"/>
              </a:rPr>
              <a:t>Вес бруска с двумя грузами = 2,5 </a:t>
            </a: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601"/>
              </a:spcBef>
              <a:buClr>
                <a:srgbClr val="ff66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 Black"/>
              </a:rPr>
              <a:t>Максимальная сила трения покоя бруска  = 0.9</a:t>
            </a: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601"/>
              </a:spcBef>
              <a:buClr>
                <a:srgbClr val="ff66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 Black"/>
              </a:rPr>
              <a:t>Сила трения скольжения бруска = 0.9 </a:t>
            </a: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601"/>
              </a:spcBef>
              <a:buClr>
                <a:srgbClr val="ff66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 Black"/>
              </a:rPr>
              <a:t>Сила трения качения бруска = 0.4 </a:t>
            </a: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1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5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9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53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57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1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дим</cp:lastModifiedBy>
  <dcterms:modified xsi:type="dcterms:W3CDTF">2012-10-10T04:18:44Z</dcterms:modified>
  <cp:revision>12</cp:revision>
  <dc:subject/>
  <dc:title>PowerPoint Presentation</dc:title>
</cp:coreProperties>
</file>