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png" ContentType="image/png"/>
  <Override PartName="/ppt/media/image6.jpeg" ContentType="image/jpeg"/>
  <Override PartName="/ppt/media/image9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85E-A0EC-4FE5-AA3A-66BC85D2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367-5A0A-4602-B969-D8C2C05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87D-91B4-46EE-A48E-EE5E46F2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BF0-31DD-4EB0-B000-288B393A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E802-564A-4071-82C2-893024C2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A50-DFC5-45C0-9095-DB4EBE37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84D0-E96C-409A-9D61-C4A09070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8C67-18A4-4FE4-BDBE-782DE61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8FC-68CC-432B-8563-4B83408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A167-3F0F-4566-A208-D39C7BA3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8705-2F7C-4C81-9E55-6766AAA2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C51-4DBE-4056-9B8C-AB7C7F10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2100-F2A6-41F1-BE6A-FC856A7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55FF-2017-45F2-9226-F65DA273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A97C-4230-40F5-876D-215D8683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9CB-FF12-4D21-8F45-CC7F283D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F197-4C93-474A-85AF-31B27578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BA4-CEBB-489E-8B4D-DB0D24ED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2DA-10F6-4069-BA99-ED456E7E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519-65F3-4766-8CD9-42101814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C1F-4AF0-4B52-A1D0-B235283E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D28-FE44-4127-AE2C-36E08A1A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30C-BA7D-4358-885D-7867D12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C9B-40ED-4D12-9182-47A60BE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20E-B004-4F1F-A476-B480F2F602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91D1-43A9-42FC-A30B-AB4B06E575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03280" y="907920"/>
            <a:ext cx="2521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fornian FB"/>
              </a:rPr>
              <a:t>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fornian FB"/>
              <a:ea typeface="Californian FB"/>
            </a:endParaRPr>
          </a:p>
        </p:txBody>
      </p:sp>
      <p:sp>
        <p:nvSpPr>
          <p:cNvPr id="99" name=""/>
          <p:cNvSpPr txBox="1"/>
          <p:nvPr/>
        </p:nvSpPr>
        <p:spPr>
          <a:xfrm rot="573000">
            <a:off x="2627280" y="184428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51280" y="1844640"/>
            <a:ext cx="712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3463920" cy="22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56360" y="1413000"/>
            <a:ext cx="2811600" cy="28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148360" y="3213000"/>
            <a:ext cx="111744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17002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Определ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Сфера-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это фигура, состоящая из всех точек пространства, удалённых от данной точки на данном расстоянии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Ша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это фигура, состоящая из всех точек пространства, находящихся на расстоянии не большем данного от данной точки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или фигура, ограниченная сферой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Площадь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666699"/>
                </a:solidFill>
                <a:latin typeface="Arial"/>
              </a:rPr>
              <a:t>сфер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6720" y="1628280"/>
            <a:ext cx="58672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пределения площади сферы воспользуемся понятием описанного многогранника. Многогранник называется описанным около сферы (шара) , если сфера касается всех его граней. При этом сфера называется вписанной в многогранник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описанный около сферы многогранник имеет n-граней. Будем неограниченно увеличивать n таким образом, чтобы наибольший размер каждой грани стремился к нулю. За площадь сферы примем предел последовательности площадей поверхностей описанных около сферы многогранников при стремлении к нулю наибольшего размера каждой грани. Можно доказать, что этот предел существует, и получить формулу для вычисления площади сферы радиуса R 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S=4ПR</a:t>
            </a:r>
            <a:r>
              <a:rPr b="0" i="1" lang="en-US" sz="24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42100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924680" y="54936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835280" y="501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900000" y="0"/>
            <a:ext cx="111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Точка О называется центром сферы, R-радиус сферы. </a:t>
            </a:r>
            <a:br>
              <a:rPr sz="2000"/>
            </a:b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Любой отрезок, соединяющий центр и какую-нибудь точку сферы, называется радиусом сферы. Отрезок, соединяющий две точки сферы и проходящий через её центр, называется диаметром сфер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956040" cy="4530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Плоскость, имеющая со сферой только одну общую точку, называется касательной плоскостью к сфере, а их общая точка называется точкой касания плоскости и сферы. </a:t>
            </a: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Теорема: </a:t>
            </a: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Радиус сферы, проведённый в точку касания сферы и плоскости, перпендикулярен к касательной плоскости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39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32000" y="549360"/>
            <a:ext cx="396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99"/>
                </a:solidFill>
                <a:latin typeface="Times New Roman"/>
              </a:rPr>
              <a:t>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99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88000" y="5715000"/>
            <a:ext cx="111744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1314360" cy="1190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324080" cy="11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956720" y="472428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59280" y="0"/>
            <a:ext cx="302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a906d"/>
                </a:solidFill>
                <a:latin typeface="Impact"/>
              </a:rPr>
              <a:t>шар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a906d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492280"/>
            <a:ext cx="43909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Граница шара называется шаровой поверхностью или сферой. Отрезок, соединяющий две точки шаровой поверхности и проходящий через центр шара, называется диаме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Плоскость, проходящая через центр шара, называется диаметральной плоск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ff99"/>
                </a:solidFill>
                <a:latin typeface="Arial"/>
              </a:rPr>
              <a:t>Касательная плоскость имеет с шаром только одну общую точку – точку кас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835360" cy="1838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80000" y="3544920"/>
            <a:ext cx="31352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9a00"/>
                </a:solidFill>
                <a:latin typeface="Arial"/>
              </a:rPr>
              <a:t>Уравнение сфер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66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ямоугольной системе координат уравнение сферы радиу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нтром С (х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у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меет ви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(х-х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+(у-у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+(</a:t>
            </a:r>
            <a:r>
              <a:rPr b="0" i="1" lang="en-US" sz="3200" spc="-1" strike="noStrike">
                <a:solidFill>
                  <a:srgbClr val="ccff99"/>
                </a:solidFill>
                <a:latin typeface="Arial"/>
              </a:rPr>
              <a:t>z-z</a:t>
            </a:r>
            <a:r>
              <a:rPr b="0" i="1" lang="ru-RU" sz="3200" spc="-1" strike="noStrike" baseline="-25000">
                <a:solidFill>
                  <a:srgbClr val="ccff99"/>
                </a:solidFill>
                <a:latin typeface="Arial"/>
              </a:rPr>
              <a:t>0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)</a:t>
            </a:r>
            <a:r>
              <a:rPr b="0" i="1" lang="ru-RU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ff99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ccff99"/>
                </a:solidFill>
                <a:latin typeface="Arial"/>
              </a:rPr>
              <a:t>R</a:t>
            </a:r>
            <a:r>
              <a:rPr b="0" i="1" lang="en-US" sz="3200" spc="-1" strike="noStrike" baseline="30000">
                <a:solidFill>
                  <a:srgbClr val="ccff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2865600" cy="1868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843280" y="4581360"/>
            <a:ext cx="2820960" cy="174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983280" y="333360"/>
            <a:ext cx="2160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15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15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1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Шаровой сегмен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овым сегментом называется часть шара, отсекаемая от него какой-нибудь плоскостью. Круг, получившийся в сечении, называется основанием каждого из этих сег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ъём шарового сег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98920" y="2565360"/>
                <a:ext cx="374508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0720" y="4352760"/>
            <a:ext cx="2628720" cy="2505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01600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2891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Шаровой секто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ровым сектором называется тело, полученное вращением кругового сектора с углом, меньшим 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вокруг прямой, содержащей один из ограничивающих круговой сектор радиу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ула нахождения объ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рового с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32000" y="5805360"/>
                <a:ext cx="3384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51640" y="4005360"/>
            <a:ext cx="1187640" cy="1119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73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877080" y="5021280"/>
            <a:ext cx="22669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0:27:00Z</dcterms:created>
  <dc:creator>Guest</dc:creator>
  <dc:description/>
  <dc:language>en-US</dc:language>
  <cp:lastModifiedBy>Guest</cp:lastModifiedBy>
  <dcterms:modified xsi:type="dcterms:W3CDTF">2006-03-17T02:12:57Z</dcterms:modified>
  <cp:revision>7</cp:revision>
  <dc:subject/>
  <dc:title>Слайд 1</dc:title>
</cp:coreProperties>
</file>