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png" ContentType="image/png"/>
  <Override PartName="/ppt/media/image6.jpeg" ContentType="image/jpeg"/>
  <Override PartName="/ppt/media/image9.gif" ContentType="image/gif"/>
  <Override PartName="/ppt/media/image8.jpeg" ContentType="image/jpeg"/>
  <Override PartName="/ppt/media/image11.png" ContentType="image/pn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png" ContentType="image/pn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16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4A8-A6DE-471F-8AD9-83C8436C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660-A0E4-4CCB-A6B3-7AE9FE74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A5E-3918-4AA5-ACE0-7870A7CB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5B6-551A-459F-AD59-25806ED9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1669-A94E-47F2-A96D-F80FD4A8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D32B-48C6-42C8-9D79-AD53EC43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76AF-D35B-4936-846A-C3EEC87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18C2-E24C-4927-B87A-2D3CDD77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7EB5-E810-43A3-A1F2-81806E81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AC11-A371-4D8A-8098-BD0CC7A3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FD3C-0CCD-4E2C-B0BF-69BDCFA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D35-9493-473B-80BE-2A7B0A84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6E0B-752C-4CB7-8366-94069C2B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FF65-DF91-475E-8816-D639641C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63E5-03F9-41F0-8F46-9CC9E826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C5D2-40DC-4BE1-A70B-88114D5F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A355-FF6D-4677-ADDB-9CDF7C93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70E-CBAD-4420-9974-3499C851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C3D-802F-431D-A09C-E754FB74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337-AA47-42DF-A5D1-811F5B21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F96-F26B-477C-8A6C-DC8FD122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324-7C94-4629-BF76-741E3368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EA1-3825-4146-AD44-311A836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9DB-5A32-4723-BF09-F1A3466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0D89-FBA3-4176-83CD-4F9BBD1DA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E3B6-F911-4DB8-A1E8-752677C346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03280" y="907920"/>
            <a:ext cx="2521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fornian FB"/>
              </a:rPr>
              <a:t>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fornian FB"/>
              <a:ea typeface="Californian FB"/>
            </a:endParaRPr>
          </a:p>
        </p:txBody>
      </p:sp>
      <p:sp>
        <p:nvSpPr>
          <p:cNvPr id="99" name=""/>
          <p:cNvSpPr txBox="1"/>
          <p:nvPr/>
        </p:nvSpPr>
        <p:spPr>
          <a:xfrm rot="573000">
            <a:off x="2627280" y="1844280"/>
            <a:ext cx="252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Ш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51280" y="1844640"/>
            <a:ext cx="712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3463920" cy="22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2811600" cy="28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148360" y="3213000"/>
            <a:ext cx="1117440" cy="114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17002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Сфера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это фигура, состоящая из всех точек пространства, удалённых от данной точки на данном расстоянии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Ша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это фигура, состоящая из всех точек пространства, находящихся на расстоянии не большем данного от данной точки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или фигура, ограниченная сферой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Площадь</a:t>
            </a: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666699"/>
                </a:solidFill>
                <a:latin typeface="Arial"/>
              </a:rPr>
              <a:t>сфер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720" y="1628280"/>
            <a:ext cx="58672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определения площади сферы воспользуемся понятием описанного многогранника. Многогранник называется описанным около сферы (шара) , если сфера касается всех его граней. При этом сфера называется вписанной в многогранник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ь описанный около сферы многогранник имеет n-граней. Будем неограниченно увеличивать n таким образом, чтобы наибольший размер каждой грани стремился к нулю. За площадь сферы примем предел последовательности площадей поверхностей описанных около сферы многогранников при стремлении к нулю наибольшего размера каждой грани. Можно доказать, что этот предел существует, и получить формулу для вычисления площади сферы радиуса R 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S=4ПR</a:t>
            </a:r>
            <a:r>
              <a:rPr b="0" i="1" lang="en-US" sz="24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421000" cy="302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4680" y="54936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835280" y="501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900000" y="0"/>
            <a:ext cx="111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Точка О называется центром сферы, R-радиус сферы. </a:t>
            </a:r>
            <a:br>
              <a:rPr sz="2000"/>
            </a:b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Любой отрезок, соединяющий центр и какую-нибудь точку сферы, называется радиусом сферы. Отрезок, соединяющий две точки сферы и проходящий через её центр, называется диаметром сферы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956040" cy="45306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Плоскость, имеющая со сферой только одну общую точку, называется касательной плоскостью к сфере, а их общая точка называется точкой касания плоскости и сферы. </a:t>
            </a:r>
            <a:br>
              <a:rPr sz="2000"/>
            </a:b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Теорема: </a:t>
            </a:r>
            <a:br>
              <a:rPr sz="2000"/>
            </a:b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Радиус сферы, проведённый в точку касания сферы и плоскости, перпендикулярен к касательной плоскости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32000" y="549360"/>
            <a:ext cx="396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Times New Roman"/>
              </a:rPr>
              <a:t>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5715000"/>
            <a:ext cx="111744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1314360" cy="1190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324080" cy="11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956720" y="472428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59280" y="0"/>
            <a:ext cx="302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a906d"/>
                </a:solidFill>
                <a:latin typeface="Impact"/>
              </a:rPr>
              <a:t>шар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a906d"/>
              </a:solidFill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492280"/>
            <a:ext cx="43909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ccff99"/>
                </a:solidFill>
                <a:latin typeface="Arial"/>
              </a:rPr>
              <a:t>Граница шара называется шаровой поверхностью или сферой. Отрезок, соединяющий две точки шаровой поверхности и проходящий через центр шара, называется диаме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99"/>
                </a:solidFill>
                <a:latin typeface="Arial"/>
              </a:rPr>
              <a:t>Плоскость, проходящая через центр шара, называется диаметральной плоск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99"/>
                </a:solidFill>
                <a:latin typeface="Arial"/>
              </a:rPr>
              <a:t>Касательная плоскость имеет с шаром только одну общую точку – точку ка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835360" cy="1838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580000" y="3544920"/>
            <a:ext cx="3135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9a00"/>
                </a:solidFill>
                <a:latin typeface="Arial"/>
              </a:rPr>
              <a:t>Уравнение сфер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66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ямоугольной системе координат уравнение сферы радиу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нтром С (х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у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меет ви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(х-х</a:t>
            </a:r>
            <a:r>
              <a:rPr b="0" i="1" lang="ru-RU" sz="3200" spc="-1" strike="noStrike" baseline="-25000">
                <a:solidFill>
                  <a:srgbClr val="ccff99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)</a:t>
            </a:r>
            <a:r>
              <a:rPr b="0" i="1" lang="ru-RU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+(у-у</a:t>
            </a:r>
            <a:r>
              <a:rPr b="0" i="1" lang="ru-RU" sz="3200" spc="-1" strike="noStrike" baseline="-25000">
                <a:solidFill>
                  <a:srgbClr val="ccff99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)</a:t>
            </a:r>
            <a:r>
              <a:rPr b="0" i="1" lang="ru-RU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+(</a:t>
            </a:r>
            <a:r>
              <a:rPr b="0" i="1" lang="en-US" sz="3200" spc="-1" strike="noStrike">
                <a:solidFill>
                  <a:srgbClr val="ccff99"/>
                </a:solidFill>
                <a:latin typeface="Arial"/>
              </a:rPr>
              <a:t>z-z</a:t>
            </a:r>
            <a:r>
              <a:rPr b="0" i="1" lang="ru-RU" sz="3200" spc="-1" strike="noStrike" baseline="-25000">
                <a:solidFill>
                  <a:srgbClr val="ccff99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)</a:t>
            </a:r>
            <a:r>
              <a:rPr b="0" i="1" lang="ru-RU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ccff99"/>
                </a:solidFill>
                <a:latin typeface="Arial"/>
              </a:rPr>
              <a:t>R</a:t>
            </a:r>
            <a:r>
              <a:rPr b="0" i="1" lang="en-US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2865600" cy="1868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2820960" cy="174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983280" y="333360"/>
            <a:ext cx="21607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400"/>
                            </p:stCondLst>
                            <p:childTnLst>
                              <p:par>
                                <p:cTn id="11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15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1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15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Шаровой сегмен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овым сегментом называется часть шара, отсекаемая от него какой-нибудь плоскостью. Круг, получившийся в сечении, называется основанием каждого из этих сег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ём шарового сег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98920" y="2565360"/>
                <a:ext cx="374508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0720" y="4352760"/>
            <a:ext cx="2628720" cy="2505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016000" cy="122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2891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Шаровой секто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ровым сектором называется тело, полученное вращением кругового сектора с углом, меньшим 9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вокруг прямой, содержащей один из ограничивающих круговой сектор радиу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ула нахождения объ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рового с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32000" y="5805360"/>
                <a:ext cx="3384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51640" y="4005360"/>
            <a:ext cx="1187640" cy="111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73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877080" y="5021280"/>
            <a:ext cx="22669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0:27:00Z</dcterms:created>
  <dc:creator>Guest</dc:creator>
  <dc:description/>
  <dc:language>en-US</dc:language>
  <cp:lastModifiedBy>Guest</cp:lastModifiedBy>
  <dcterms:modified xsi:type="dcterms:W3CDTF">2006-03-17T02:12:57Z</dcterms:modified>
  <cp:revision>7</cp:revision>
  <dc:subject/>
  <dc:title>Слайд 1</dc:title>
</cp:coreProperties>
</file>