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png" ContentType="image/png"/>
  <Override PartName="/ppt/media/image6.jpeg" ContentType="image/jpeg"/>
  <Override PartName="/ppt/media/image9.gif" ContentType="image/gif"/>
  <Override PartName="/ppt/media/image8.jpeg" ContentType="image/jpeg"/>
  <Override PartName="/ppt/media/image11.png" ContentType="image/pn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png" ContentType="image/pn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16.png" ContentType="image/pn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AC8-83AC-4FDB-B50C-2D30EFF2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053-4C99-4F69-98AD-C9004DDF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F26-53B7-4080-8026-11E14A11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ECA-3C71-4CE2-96D8-92D1FACE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77A2-A6FB-4871-AEB6-426129E6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13BB-54D5-4BA3-9D67-49F05373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E583-C6ED-48D2-893C-A08AADE7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33D1-B484-4278-8473-32175DF4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91A0-9D39-497B-83E9-6ABBF2A6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4BC9-201B-4D3E-B1CF-5DAAEC5C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D715-9178-4C43-81D8-8A7EA102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EDA-449C-4E78-871A-C6319E20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665C-7FBF-47DD-821C-AE305C49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76C0-CA47-4D3B-AD85-9EF39DD9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2715-F75B-4811-94A3-A462F791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9897-12B2-4A8C-9FEF-57556BBE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12D4-0A5C-4E71-833F-D13F87D7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C38-18C6-4FB8-8BB3-A6275F57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072-3F37-4328-B014-B8A26DEC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937-3183-4456-8F7F-4DF64371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6BA-3A87-4DFA-B1D1-1AA17E2D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836-F59F-479A-883E-B85E8E6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3BC-38F7-468E-B61C-23D7D1E8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BD6-DDB4-43CA-8D31-97B51A7C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4B0B-ECA3-453F-B5C4-3695DD17E0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F3C3-C4B5-4C04-ACFF-2CEEC68653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03280" y="907920"/>
            <a:ext cx="2521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fornian FB"/>
              </a:rPr>
              <a:t>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fornian FB"/>
              <a:ea typeface="Californian FB"/>
            </a:endParaRPr>
          </a:p>
        </p:txBody>
      </p:sp>
      <p:sp>
        <p:nvSpPr>
          <p:cNvPr id="99" name=""/>
          <p:cNvSpPr txBox="1"/>
          <p:nvPr/>
        </p:nvSpPr>
        <p:spPr>
          <a:xfrm rot="573000">
            <a:off x="2627280" y="1844280"/>
            <a:ext cx="252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Ш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51280" y="1844640"/>
            <a:ext cx="712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284720" y="4292640"/>
            <a:ext cx="3463920" cy="22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1413000"/>
            <a:ext cx="2811600" cy="28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148360" y="3213000"/>
            <a:ext cx="1117440" cy="114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0" y="17002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Опреде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Сфера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это фигура, состоящая из всех точек пространства, удалённых от данной точки на данном расстоянии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Шар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это фигура, состоящая из всех точек пространства, находящихся на расстоянии не большем данного от данной точки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(или фигура, ограниченная сферой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Площадь</a:t>
            </a: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666699"/>
                </a:solidFill>
                <a:latin typeface="Arial"/>
              </a:rPr>
              <a:t>сфер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76720" y="1628280"/>
            <a:ext cx="58672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определения площади сферы воспользуемся понятием описанного многогранника. Многогранник называется описанным около сферы (шара) , если сфера касается всех его граней. При этом сфера называется вписанной в многогранник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ь описанный около сферы многогранник имеет n-граней. Будем неограниченно увеличивать n таким образом, чтобы наибольший размер каждой грани стремился к нулю. За площадь сферы примем предел последовательности площадей поверхностей описанных около сферы многогранников при стремлении к нулю наибольшего размера каждой грани. Можно доказать, что этот предел существует, и получить формулу для вычисления площади сферы радиуса R 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S=4ПR</a:t>
            </a:r>
            <a:r>
              <a:rPr b="0" i="1" lang="en-US" sz="2400" spc="-1" strike="noStrike" u="sng" baseline="30000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421000" cy="302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1218960" cy="152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924680" y="54936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835280" y="501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900000" y="0"/>
            <a:ext cx="111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Точка О называется центром сферы, R-радиус сферы. </a:t>
            </a:r>
            <a:br>
              <a:rPr sz="2000"/>
            </a:b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Любой отрезок, соединяющий центр и какую-нибудь точку сферы, называется радиусом сферы. Отрезок, соединяющий две точки сферы и проходящий через её центр, называется диаметром сферы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956040" cy="45306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9a00"/>
                </a:solidFill>
                <a:latin typeface="Arial"/>
              </a:rPr>
              <a:t>Плоскость, имеющая со сферой только одну общую точку, называется касательной плоскостью к сфере, а их общая точка называется точкой касания плоскости и сферы. </a:t>
            </a:r>
            <a:br>
              <a:rPr sz="2000"/>
            </a:br>
            <a:r>
              <a:rPr b="0" lang="en-US" sz="2000" spc="-1" strike="noStrike">
                <a:solidFill>
                  <a:srgbClr val="639a00"/>
                </a:solidFill>
                <a:latin typeface="Arial"/>
              </a:rPr>
              <a:t>Теорема: </a:t>
            </a:r>
            <a:br>
              <a:rPr sz="2000"/>
            </a:br>
            <a:r>
              <a:rPr b="0" lang="en-US" sz="2000" spc="-1" strike="noStrike">
                <a:solidFill>
                  <a:srgbClr val="639a00"/>
                </a:solidFill>
                <a:latin typeface="Arial"/>
              </a:rPr>
              <a:t>Радиус сферы, проведённый в точку касания сферы и плоскости, перпендикулярен к касательной плоскости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639a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132000" y="549360"/>
            <a:ext cx="3961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latin typeface="Times New Roman"/>
              </a:rPr>
              <a:t>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88000" y="5715000"/>
            <a:ext cx="111744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1314360" cy="1190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324080" cy="1190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956720" y="472428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59280" y="0"/>
            <a:ext cx="3024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a906d"/>
                </a:solidFill>
                <a:latin typeface="Impact"/>
              </a:rPr>
              <a:t>шар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a906d"/>
              </a:solidFill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492280"/>
            <a:ext cx="43909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ccff99"/>
                </a:solidFill>
                <a:latin typeface="Arial"/>
              </a:rPr>
              <a:t>Граница шара называется шаровой поверхностью или сферой. Отрезок, соединяющий две точки шаровой поверхности и проходящий через центр шара, называется диамет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ff99"/>
                </a:solidFill>
                <a:latin typeface="Arial"/>
              </a:rPr>
              <a:t>Плоскость, проходящая через центр шара, называется диаметральной плоск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ff99"/>
                </a:solidFill>
                <a:latin typeface="Arial"/>
              </a:rPr>
              <a:t>Касательная плоскость имеет с шаром только одну общую точку – точку ка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835360" cy="1838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580000" y="3544920"/>
            <a:ext cx="31352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9a00"/>
                </a:solidFill>
                <a:latin typeface="Arial"/>
              </a:rPr>
              <a:t>Уравнение сфер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6635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ямоугольной системе координат уравнение сферы радиус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центром С (х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у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меет ви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(х-х</a:t>
            </a:r>
            <a:r>
              <a:rPr b="0" i="1" lang="ru-RU" sz="3200" spc="-1" strike="noStrike" baseline="-25000">
                <a:solidFill>
                  <a:srgbClr val="ccff99"/>
                </a:solidFill>
                <a:latin typeface="Arial"/>
              </a:rPr>
              <a:t>0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)</a:t>
            </a:r>
            <a:r>
              <a:rPr b="0" i="1" lang="ru-RU" sz="3200" spc="-1" strike="noStrike" baseline="30000">
                <a:solidFill>
                  <a:srgbClr val="ccff99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+(у-у</a:t>
            </a:r>
            <a:r>
              <a:rPr b="0" i="1" lang="ru-RU" sz="3200" spc="-1" strike="noStrike" baseline="-25000">
                <a:solidFill>
                  <a:srgbClr val="ccff99"/>
                </a:solidFill>
                <a:latin typeface="Arial"/>
              </a:rPr>
              <a:t>0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)</a:t>
            </a:r>
            <a:r>
              <a:rPr b="0" i="1" lang="ru-RU" sz="3200" spc="-1" strike="noStrike" baseline="30000">
                <a:solidFill>
                  <a:srgbClr val="ccff99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+(</a:t>
            </a:r>
            <a:r>
              <a:rPr b="0" i="1" lang="en-US" sz="3200" spc="-1" strike="noStrike">
                <a:solidFill>
                  <a:srgbClr val="ccff99"/>
                </a:solidFill>
                <a:latin typeface="Arial"/>
              </a:rPr>
              <a:t>z-z</a:t>
            </a:r>
            <a:r>
              <a:rPr b="0" i="1" lang="ru-RU" sz="3200" spc="-1" strike="noStrike" baseline="-25000">
                <a:solidFill>
                  <a:srgbClr val="ccff99"/>
                </a:solidFill>
                <a:latin typeface="Arial"/>
              </a:rPr>
              <a:t>0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)</a:t>
            </a:r>
            <a:r>
              <a:rPr b="0" i="1" lang="ru-RU" sz="3200" spc="-1" strike="noStrike" baseline="30000">
                <a:solidFill>
                  <a:srgbClr val="ccff99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=</a:t>
            </a:r>
            <a:r>
              <a:rPr b="0" i="1" lang="en-US" sz="3200" spc="-1" strike="noStrike">
                <a:solidFill>
                  <a:srgbClr val="ccff99"/>
                </a:solidFill>
                <a:latin typeface="Arial"/>
              </a:rPr>
              <a:t>R</a:t>
            </a:r>
            <a:r>
              <a:rPr b="0" i="1" lang="en-US" sz="3200" spc="-1" strike="noStrike" baseline="30000">
                <a:solidFill>
                  <a:srgbClr val="ccff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2865600" cy="1868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2820960" cy="174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983280" y="333360"/>
            <a:ext cx="21607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400"/>
                            </p:stCondLst>
                            <p:childTnLst>
                              <p:par>
                                <p:cTn id="11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15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15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1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Шаровой сегмен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овым сегментом называется часть шара, отсекаемая от него какой-нибудь плоскостью. Круг, получившийся в сечении, называется основанием каждого из этих сег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ъём шарового сегм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98920" y="2565360"/>
                <a:ext cx="374508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0720" y="4352760"/>
            <a:ext cx="2628720" cy="2505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2016000" cy="1228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28916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Шаровой секто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ровым сектором называется тело, полученное вращением кругового сектора с углом, меньшим 9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вокруг прямой, содержащей один из ограничивающих круговой сектор радиу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ула нахождения объ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рового с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32000" y="5805360"/>
                <a:ext cx="33847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51640" y="4005360"/>
            <a:ext cx="1187640" cy="1119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730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877080" y="5021280"/>
            <a:ext cx="22669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0:27:00Z</dcterms:created>
  <dc:creator>Guest</dc:creator>
  <dc:description/>
  <dc:language>en-US</dc:language>
  <cp:lastModifiedBy>Guest</cp:lastModifiedBy>
  <dcterms:modified xsi:type="dcterms:W3CDTF">2006-03-17T02:12:57Z</dcterms:modified>
  <cp:revision>7</cp:revision>
  <dc:subject/>
  <dc:title>Слайд 1</dc:title>
</cp:coreProperties>
</file>