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png" ContentType="image/png"/>
  <Override PartName="/ppt/media/image41.png" ContentType="image/png"/>
  <Override PartName="/ppt/media/image48.jpeg" ContentType="image/jpeg"/>
  <Override PartName="/ppt/media/image58.jpeg" ContentType="image/jpeg"/>
  <Override PartName="/ppt/media/image37.jpeg" ContentType="image/jpeg"/>
  <Override PartName="/ppt/media/image5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FFC-40C4-417A-9038-04A75863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793-1591-4EE8-ACD4-5F19DEAF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452-F560-4061-AAF0-A231A176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B3F-E5F8-456B-AD16-E5D9F47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FD0E1-FAB9-49D0-815C-E47361E3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F009-0315-4FA8-8F22-CAC0F34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C54FC-6CED-4DDC-A164-01F77C63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F5F6C-DF82-4406-81C0-BD61B9EB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76049-F91B-45F2-B6FD-3DBFBF1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C838-9C21-4D7C-AF96-4DD8A927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8939B-89E9-4CCB-BD9D-966CA6A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8A0-488B-4BAC-93AF-8A6F450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6C80-AAE6-4A4A-82BD-D892A68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FA89F-471B-41B8-A582-41ED993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1EDC-B3E5-4043-869B-FB51EE1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B2696-F8D0-4813-8CD4-3CB2319D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8EE27-6841-4976-BB9B-C79C2D4B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EA6-DC41-4B29-AB7E-7009749A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97B-8DC9-4847-89C1-47427062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ADF-3F4D-4C6B-AFF3-56440CA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DFE-3678-4AD7-8E14-DD22D47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25C-86F0-475B-A210-088B131C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D64-29E6-431D-897E-EE92BDD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BEF-EA51-4B57-A3DC-6B4B51E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847-8C35-45C9-B59F-DBF46E174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65A-03C7-4606-8455-B87242DD3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br>
              <a:rPr sz="8000"/>
            </a:b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ОУ Новоуренская 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268280"/>
            <a:ext cx="6400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к  иг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5373720"/>
            <a:ext cx="6400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авашкин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32000" y="3141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812000" y="314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63640" y="33300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асть водного пространства, глубоко вдающаяся в сушу и свободно сообщающаяся с океаном или море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032360" cy="2512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3141720"/>
            <a:ext cx="4019760" cy="259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539640" y="620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908000" y="692280"/>
            <a:ext cx="69328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сто, где водоток (напр., река или ручей) берёт своё начало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08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401940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395280" y="76500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79640" y="260280"/>
            <a:ext cx="678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зёра образующиеся в районах распространения горных пород, при заполнении водой котловин и  полье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019400" cy="3009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1976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684360" y="90792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6048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копления  льда на суше, образованное в результате атмосферных осад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&amp;Rcy;&amp;acy;&amp;scy;&amp;shchcy;&amp;iecy;&amp;lcy;&amp;icy;&amp;ncy;&amp;ycy; &amp;vcy; &amp;tcy;&amp;iecy;&amp;lcy;&amp;iecy; &amp;lcy;&amp;iecy;&amp;dcy;&amp;ncy;&amp;icy;&amp;kcy;&amp;acy;, &amp;ocy;&amp;bcy;&amp;rcy;&amp;acy;&amp;zcy;&amp;ocy;&amp;vcy;&amp;acy;&amp;ncy;&amp;ncy;&amp;ycy;&amp;iecy; &amp;vcy; &amp;pcy;&amp;rcy;&amp;ocy;&amp;tscy;&amp;iecy;&amp;scy;&amp;scy;&amp;iecy; &amp;iecy;&amp;gcy;&amp;ocy; &amp;tcy;&amp;acy;&amp;yacy;&amp;ncy;&amp;icy;&amp;yacy;.&#13;&#10;&amp;Lcy;&amp;iecy;&amp;dcy;&amp;ncy;&amp;icy;&amp;kcy; &amp;Fcy;&amp;rcy;&amp;acy;&amp;ncy;&amp;tscy;&amp;acy; &amp;Icy;&amp;ocy;&amp;scy;&amp;icy;&amp;fcy;&amp;acy; (&amp;Dcy;&amp;zhcy;&amp;ocy;&amp;zcy;&amp;iecy;&amp;fcy;&amp;acy;)(&amp;rcy;&amp;iecy;&amp;gcy;&amp;icy;&amp;ocy;&amp;ncy; &amp;Ucy;&amp;ecy;&amp;scy;&amp;tcy;-&amp;Kcy;&amp;ocy;&amp;scy;&amp;tcy;,&#13;&#10;&amp;zcy;&amp;acy;&amp;pcy;&amp;acy;&amp;dcy;&amp;ncy;&amp;ocy;&amp;iecy; &amp;pcy;&amp;ocy;&amp;bcy;&amp;iecy;&amp;rcy;&amp;iecy;&amp;zhcy;&amp;softcy;&amp;iecy; &amp;YUcy;&amp;zhcy;&amp;ncy;&amp;ocy;&amp;gcy;&amp;ocy; &amp;ocy;&amp;scy;&amp;tcy;&amp;rcy;&amp;ocy;&amp;vcy;&amp;acy;)"/>
          <p:cNvPicPr/>
          <p:nvPr/>
        </p:nvPicPr>
        <p:blipFill>
          <a:blip r:embed="rId2"/>
          <a:stretch/>
        </p:blipFill>
        <p:spPr>
          <a:xfrm>
            <a:off x="395280" y="2421000"/>
            <a:ext cx="3024360" cy="248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8" name="" descr="&amp;Acy;&amp;ncy;&amp;tcy;&amp;acy;&amp;rcy;&amp;kcy;&amp;tcy;&amp;icy;&amp;chcy;&amp;iecy;&amp;scy;&amp;kcy;&amp;icy;&amp;iecy; &amp;pcy;&amp;icy;&amp;ncy;&amp;gcy;&amp;vcy;&amp;icy;&amp;ncy;&amp;ycy; (Pygoscelis antarctica)&#13;&#10;(&amp;scy;&amp;iecy;&amp;mcy;&amp;iecy;&amp;jcy;&amp;scy;&amp;tcy;&amp;vcy;&amp;ocy; &amp;Pcy;&amp;icy;&amp;ncy;&amp;gcy;&amp;vcy;&amp;icy;&amp;ncy;&amp;ocy;&amp;vcy;&amp;ycy;&amp;iecy; - Spheniscidae).&#13;&#10;&amp;Ocy;&amp;scy;&amp;tcy;&amp;rcy;&amp;ocy;&amp;vcy; &amp;KHcy;&amp;acy;&amp;lcy;&amp;fcy; &amp;Mcy;&amp;ucy;&amp;ncy;, &amp;YUcy;&amp;zhcy;&amp;ncy;&amp;ycy;&amp;iecy; &amp;SHcy;&amp;iecy;&amp;tcy;&amp;lcy;&amp;acy;&amp;ncy;&amp;dcy;&amp;scy;&amp;kcy;&amp;icy;&amp;iecy; &amp;ocy;&amp;scy;&amp;tcy;&amp;rcy;&amp;ocy;&amp;vcy;&amp;acy;"/>
          <p:cNvPicPr/>
          <p:nvPr/>
        </p:nvPicPr>
        <p:blipFill>
          <a:blip r:embed="rId3"/>
          <a:stretch/>
        </p:blipFill>
        <p:spPr>
          <a:xfrm>
            <a:off x="5651640" y="2349360"/>
            <a:ext cx="3147840" cy="245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4149720"/>
            <a:ext cx="4019760" cy="250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>
            <a:off x="826920" y="333360"/>
            <a:ext cx="115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79280" y="33336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изкий  уровень воды в реке, озере, обусловленный  периодами сухой или морозной погоды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2924280"/>
            <a:ext cx="5616360" cy="362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3" name=""/>
          <p:cNvSpPr txBox="1"/>
          <p:nvPr/>
        </p:nvSpPr>
        <p:spPr>
          <a:xfrm>
            <a:off x="324000" y="476280"/>
            <a:ext cx="158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692360" y="260280"/>
            <a:ext cx="7005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е  организмы, активно плавающие в толще воды водоемов, способные противостоять течению и самостоятельно перемещаться на значительные расстоян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19400" cy="279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4019400" cy="28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539640" y="69228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275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Естественный водоём, образовавшийся в природном углублении                    и на суш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476280"/>
            <a:ext cx="1224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2852640"/>
            <a:ext cx="5543640" cy="344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72835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иодические вертикальные колебания уровня океана или моря, являющиеся результатом изменения положений Луны и Солнца относительно Зем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1280" y="836640"/>
            <a:ext cx="122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401976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401940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050920" y="404640"/>
            <a:ext cx="634680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глубление в речной долине, по которому постоянное течёт р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404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3671640" cy="274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932360" y="3141720"/>
            <a:ext cx="3659040" cy="293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72104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личество солей в граммах, растворенных в 1 литре  морской воды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‰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333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4019400" cy="26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859280" y="3141720"/>
            <a:ext cx="3780000" cy="26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вторить, обобщить и закрепить знания по теме: «гидросфер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ить уровень ЗУН учащихся по 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050920" y="260280"/>
            <a:ext cx="64915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оризонтальное движение водных масс под действием ве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333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2924280"/>
            <a:ext cx="3743280" cy="320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788000" y="2924280"/>
            <a:ext cx="4019400" cy="3241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835280" y="259920"/>
            <a:ext cx="6851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сто  впадения реки в водохранилище, озеро, море или другую реку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26028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3816360" cy="256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716360" y="3213000"/>
            <a:ext cx="4019760" cy="259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50560" y="259920"/>
            <a:ext cx="69231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тно  слежавшийся, зернистый и частично перекристаллизованный, обычно многолетний снег, точнее — промежуточная стадия между снегом и глетчерным льд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60280"/>
            <a:ext cx="1726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79640" y="3068640"/>
            <a:ext cx="5113440" cy="3416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95280" y="404640"/>
            <a:ext cx="1368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619280" y="3429000"/>
            <a:ext cx="5761080" cy="263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835280" y="333360"/>
            <a:ext cx="68515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 из самых ярко-окрашеных рыб на территории России, близкий родственник лососевых и сиговых рыб, обитает только в Северном полушарии,  населяет чистые холодноводные реки и озе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067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инные волны, порождаемые мощным воздействием на всю толщу воды в океане или другом водоём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549360"/>
            <a:ext cx="151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401940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716360" y="3141720"/>
            <a:ext cx="4176720" cy="30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834920" y="333360"/>
            <a:ext cx="71038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нутреннее  море бассейна Атлантического океана.   Море - здравница Ро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333360"/>
            <a:ext cx="1297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401940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643280" y="2997360"/>
            <a:ext cx="4176720" cy="306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19280" y="259920"/>
            <a:ext cx="72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териковая отмель, выровненная часть подводной окраины материка, примыкающая к суше и характеризующаяся общим с ней геологическим строение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620640"/>
            <a:ext cx="136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6192720" cy="339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4000" y="620640"/>
            <a:ext cx="1511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24000" y="549000"/>
            <a:ext cx="6696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сноводная  рыба , один из наиболее распространённых видов рыб обитающих в Волг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3011400" cy="3127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500720" y="3141720"/>
            <a:ext cx="401940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076480" y="404640"/>
            <a:ext cx="70675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ронкообразное  устье реки, расширяющееся в сторону моря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260280"/>
            <a:ext cx="151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5182920" cy="389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68360" y="333360"/>
            <a:ext cx="65628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ка  на северо-западе Канады  и  в  США (штат Аляска), впадает в Берингово мор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640" y="404640"/>
            <a:ext cx="151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824360" cy="362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693288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уппа  островов, расположенных близко друг к другу и имеющих обычно одно и то же происхождение (материковое, вулканическое, коралловое) и сходное геологическое строе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35280" y="3645000"/>
            <a:ext cx="554328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539640" y="105264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76480" y="260280"/>
            <a:ext cx="68882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ре  в составе Тихого океана, отделяется от него одноимёнными островами и островом Сахалин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89000"/>
            <a:ext cx="136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3889440" cy="2921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643280" y="2852640"/>
            <a:ext cx="4019760" cy="296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628640"/>
          <a:ext cx="8353440" cy="39736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хипел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нто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г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идросфе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ждев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се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об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о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ст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дни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кт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зер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сл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лё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ч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р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иу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унам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ёр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ель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у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стуар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к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Критерии оцени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2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5» - 23 - 28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4» - 17 – 22 ба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3» - 11 – 16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2» - 5   -  10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1» - 0   - 4    ба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92360" y="475920"/>
            <a:ext cx="7005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вокупность организмов, обитающих на грунте и в грунте дна водоём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7770960" cy="2706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539640" y="69228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92360" y="404280"/>
            <a:ext cx="70768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ая большая река  Европы, одна из крупнейших рек на Земле 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024360" cy="31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2997360"/>
            <a:ext cx="4824360" cy="31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468360" y="620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259920"/>
            <a:ext cx="6861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одная оболочка Земли занимающая 3/4 части планет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824360" cy="312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755640" y="549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987640" y="981000"/>
            <a:ext cx="5781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дин из главных типов питания ре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89080" cy="2921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01940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826920" y="907920"/>
            <a:ext cx="115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63640" y="188640"/>
            <a:ext cx="6934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ка в Сибири, одна из величайших рек мира и России. Впадает в Карское море Северного Ледовитого океана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5832360" cy="330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539640" y="76500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76000" y="189000"/>
            <a:ext cx="7148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убокая и длинная впадина на дне океана (5000—7000 м и более), образующаяся путём продавливания одной океанической коры под другую океаническую или континентальную кору  (схождение пли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738680" cy="3110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395280" y="692280"/>
            <a:ext cx="15112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41:19Z</dcterms:created>
  <dc:creator>User</dc:creator>
  <dc:description/>
  <dc:language>en-US</dc:language>
  <cp:lastModifiedBy>User</cp:lastModifiedBy>
  <dcterms:modified xsi:type="dcterms:W3CDTF">2013-11-17T04:32:09Z</dcterms:modified>
  <cp:revision>6</cp:revision>
  <dc:subject/>
  <dc:title>Слайд 1</dc:title>
</cp:coreProperties>
</file>