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57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34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43.png" ContentType="image/png"/>
  <Override PartName="/ppt/media/image53.jpeg" ContentType="image/jpeg"/>
  <Override PartName="/ppt/media/image47.jpeg" ContentType="image/jpeg"/>
  <Override PartName="/ppt/media/image51.png" ContentType="image/png"/>
  <Override PartName="/ppt/media/image41.png" ContentType="image/png"/>
  <Override PartName="/ppt/media/image48.jpeg" ContentType="image/jpeg"/>
  <Override PartName="/ppt/media/image58.jpeg" ContentType="image/jpeg"/>
  <Override PartName="/ppt/media/image37.jpeg" ContentType="image/jpeg"/>
  <Override PartName="/ppt/media/image59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9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9E9-18BB-495C-A9DC-9ED6680E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77D-3049-497A-BAC7-A40042AE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35FF-58C8-47D8-85B4-C0A77567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25C6-1D26-4E2C-95AE-B259428C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5ACCB-A136-4689-8F76-D294B404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65E3B-3322-4388-ADA8-3F1E669A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584BC-3270-471D-AF23-8416DCC3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7C5E9-315A-45C3-A8E7-F7BF0BCA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E4444-06F7-433D-B07C-E1451510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FAF21-8F04-4B7E-B99C-90E46B28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1E613-5A68-4CC6-8DC4-15131E9D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1AE0-7E59-4890-A4BF-B650D3DD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8A301-2748-4F1E-98E4-E533BB76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D1809-4450-4F74-B598-D6986936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B7BB0-CDAF-4C3E-9A1E-5FA715D6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67327-6981-4D72-A073-BA8C7727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97D32-FB04-4E61-B5D5-ACC6A1BE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8093-564F-4E4C-824A-353DA972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DCE-5289-4929-ADC6-25D4E7B5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7BB-AD49-404B-BBFB-827FA16C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B3B-9DC0-47BB-8097-B885A1CC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FA0-8E05-4E4E-AB25-984C8DCF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B339-C79D-4409-9BE6-9BE08E4E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29B-7863-46C3-982B-E08AE2E0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D769-B92B-404A-97C9-AF815F4AD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CA1B-B4F5-4CBE-A18D-7C26583771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3213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br>
              <a:rPr sz="8000"/>
            </a:b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189000"/>
            <a:ext cx="64008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МОУ Новоуренская СО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1268280"/>
            <a:ext cx="6400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урок  иг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84360" y="5373720"/>
            <a:ext cx="6400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Учитель географ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Каравашкина Н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332000" y="314172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812000" y="314172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63640" y="33300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Часть водного пространства, глубоко вдающаяся в сушу и свободно сообщающаяся с океаном или морем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4032360" cy="2512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43280" y="3141720"/>
            <a:ext cx="4019760" cy="2590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539640" y="62064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908000" y="692280"/>
            <a:ext cx="69328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есто, где водоток (напр., река или ручей) берёт своё начало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4103640" cy="3083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4019400" cy="3095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1" name=""/>
          <p:cNvSpPr txBox="1"/>
          <p:nvPr/>
        </p:nvSpPr>
        <p:spPr>
          <a:xfrm>
            <a:off x="395280" y="76500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979640" y="260280"/>
            <a:ext cx="678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Озёра образующиеся в районах распространения горных пород, при заполнении водой котловин и  польев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4019400" cy="3009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4019760" cy="301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5" name=""/>
          <p:cNvSpPr txBox="1"/>
          <p:nvPr/>
        </p:nvSpPr>
        <p:spPr>
          <a:xfrm>
            <a:off x="684360" y="90792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26920" y="260280"/>
            <a:ext cx="6048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копления  льда на суше, образованное в результате атмосферных осад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&amp;Rcy;&amp;acy;&amp;scy;&amp;shchcy;&amp;iecy;&amp;lcy;&amp;icy;&amp;ncy;&amp;ycy; &amp;vcy; &amp;tcy;&amp;iecy;&amp;lcy;&amp;iecy; &amp;lcy;&amp;iecy;&amp;dcy;&amp;ncy;&amp;icy;&amp;kcy;&amp;acy;, &amp;ocy;&amp;bcy;&amp;rcy;&amp;acy;&amp;zcy;&amp;ocy;&amp;vcy;&amp;acy;&amp;ncy;&amp;ncy;&amp;ycy;&amp;iecy; &amp;vcy; &amp;pcy;&amp;rcy;&amp;ocy;&amp;tscy;&amp;iecy;&amp;scy;&amp;scy;&amp;iecy; &amp;iecy;&amp;gcy;&amp;ocy; &amp;tcy;&amp;acy;&amp;yacy;&amp;ncy;&amp;icy;&amp;yacy;.&#13;&#10;&amp;Lcy;&amp;iecy;&amp;dcy;&amp;ncy;&amp;icy;&amp;kcy; &amp;Fcy;&amp;rcy;&amp;acy;&amp;ncy;&amp;tscy;&amp;acy; &amp;Icy;&amp;ocy;&amp;scy;&amp;icy;&amp;fcy;&amp;acy; (&amp;Dcy;&amp;zhcy;&amp;ocy;&amp;zcy;&amp;iecy;&amp;fcy;&amp;acy;)(&amp;rcy;&amp;iecy;&amp;gcy;&amp;icy;&amp;ocy;&amp;ncy; &amp;Ucy;&amp;ecy;&amp;scy;&amp;tcy;-&amp;Kcy;&amp;ocy;&amp;scy;&amp;tcy;,&#13;&#10;&amp;zcy;&amp;acy;&amp;pcy;&amp;acy;&amp;dcy;&amp;ncy;&amp;ocy;&amp;iecy; &amp;pcy;&amp;ocy;&amp;bcy;&amp;iecy;&amp;rcy;&amp;iecy;&amp;zhcy;&amp;softcy;&amp;iecy; &amp;YUcy;&amp;zhcy;&amp;ncy;&amp;ocy;&amp;gcy;&amp;ocy; &amp;ocy;&amp;scy;&amp;tcy;&amp;rcy;&amp;ocy;&amp;vcy;&amp;acy;)"/>
          <p:cNvPicPr/>
          <p:nvPr/>
        </p:nvPicPr>
        <p:blipFill>
          <a:blip r:embed="rId2"/>
          <a:stretch/>
        </p:blipFill>
        <p:spPr>
          <a:xfrm>
            <a:off x="395280" y="2421000"/>
            <a:ext cx="3024360" cy="248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8" name="" descr="&amp;Acy;&amp;ncy;&amp;tcy;&amp;acy;&amp;rcy;&amp;kcy;&amp;tcy;&amp;icy;&amp;chcy;&amp;iecy;&amp;scy;&amp;kcy;&amp;icy;&amp;iecy; &amp;pcy;&amp;icy;&amp;ncy;&amp;gcy;&amp;vcy;&amp;icy;&amp;ncy;&amp;ycy; (Pygoscelis antarctica)&#13;&#10;(&amp;scy;&amp;iecy;&amp;mcy;&amp;iecy;&amp;jcy;&amp;scy;&amp;tcy;&amp;vcy;&amp;ocy; &amp;Pcy;&amp;icy;&amp;ncy;&amp;gcy;&amp;vcy;&amp;icy;&amp;ncy;&amp;ocy;&amp;vcy;&amp;ycy;&amp;iecy; - Spheniscidae).&#13;&#10;&amp;Ocy;&amp;scy;&amp;tcy;&amp;rcy;&amp;ocy;&amp;vcy; &amp;KHcy;&amp;acy;&amp;lcy;&amp;fcy; &amp;Mcy;&amp;ucy;&amp;ncy;, &amp;YUcy;&amp;zhcy;&amp;ncy;&amp;ycy;&amp;iecy; &amp;SHcy;&amp;iecy;&amp;tcy;&amp;lcy;&amp;acy;&amp;ncy;&amp;dcy;&amp;scy;&amp;kcy;&amp;icy;&amp;iecy; &amp;ocy;&amp;scy;&amp;tcy;&amp;rcy;&amp;ocy;&amp;vcy;&amp;acy;"/>
          <p:cNvPicPr/>
          <p:nvPr/>
        </p:nvPicPr>
        <p:blipFill>
          <a:blip r:embed="rId3"/>
          <a:stretch/>
        </p:blipFill>
        <p:spPr>
          <a:xfrm>
            <a:off x="5651640" y="2349360"/>
            <a:ext cx="3147840" cy="2454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484360" y="4149720"/>
            <a:ext cx="4019760" cy="2505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0" name=""/>
          <p:cNvSpPr txBox="1"/>
          <p:nvPr/>
        </p:nvSpPr>
        <p:spPr>
          <a:xfrm>
            <a:off x="826920" y="333360"/>
            <a:ext cx="115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979280" y="333360"/>
            <a:ext cx="698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изкий  уровень воды в реке, озере, обусловленный  периодами сухой или морозной погоды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92360" y="2924280"/>
            <a:ext cx="5616360" cy="362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3" name=""/>
          <p:cNvSpPr txBox="1"/>
          <p:nvPr/>
        </p:nvSpPr>
        <p:spPr>
          <a:xfrm>
            <a:off x="324000" y="476280"/>
            <a:ext cx="1584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692360" y="260280"/>
            <a:ext cx="7005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се  организмы, активно плавающие в толще воды водоемов, способные противостоять течению и самостоятельно перемещаться на значительные расстояни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4019400" cy="279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4019400" cy="2865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7" name=""/>
          <p:cNvSpPr txBox="1"/>
          <p:nvPr/>
        </p:nvSpPr>
        <p:spPr>
          <a:xfrm>
            <a:off x="539640" y="692280"/>
            <a:ext cx="115092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68360" y="260280"/>
            <a:ext cx="6275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Естественный водоём, образовавшийся в природном углублении                    и на суше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26920" y="476280"/>
            <a:ext cx="122400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763640" y="2852640"/>
            <a:ext cx="5543640" cy="3441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692360" y="404640"/>
            <a:ext cx="728352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ериодические вертикальные колебания уровня океана или моря, являющиеся результатом изменения положений Луны и Солнца относительно Земл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11280" y="836640"/>
            <a:ext cx="1224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859280" y="3500280"/>
            <a:ext cx="4019760" cy="301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50920" y="3429000"/>
            <a:ext cx="4019400" cy="3019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050920" y="404640"/>
            <a:ext cx="634680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глубление в речной долине, по которому постоянное течёт ре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9640" y="40464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24000" y="3141720"/>
            <a:ext cx="3671640" cy="2749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932360" y="3141720"/>
            <a:ext cx="3659040" cy="2930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63280" y="333360"/>
            <a:ext cx="72104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оличество солей в граммах, растворенных в 1 литре  морской воды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ahoma"/>
              </a:rPr>
              <a:t>‰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360" y="33336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95280" y="3141720"/>
            <a:ext cx="4019400" cy="2685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4859280" y="3141720"/>
            <a:ext cx="3780000" cy="269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вторить, обобщить и закрепить знания по теме: «гидросфер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пределить уровень ЗУН учащихся по те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050920" y="260280"/>
            <a:ext cx="649152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оризонтальное движение водных масс под действием вет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5280" y="33336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68360" y="2924280"/>
            <a:ext cx="3743280" cy="3209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4788000" y="2924280"/>
            <a:ext cx="4019400" cy="3241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835280" y="259920"/>
            <a:ext cx="68515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есто  впадения реки в водохранилище, озеро, море или другую реку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11280" y="26028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324000" y="3213000"/>
            <a:ext cx="3816360" cy="2565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4716360" y="3213000"/>
            <a:ext cx="4019760" cy="2592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050560" y="259920"/>
            <a:ext cx="692316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тно  слежавшийся, зернистый и частично перекристаллизованный, обычно многолетний снег, точнее — промежуточная стадия между снегом и глетчерным льдо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4000" y="260280"/>
            <a:ext cx="17269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979640" y="3068640"/>
            <a:ext cx="5113440" cy="3416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95280" y="404640"/>
            <a:ext cx="1368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619280" y="3429000"/>
            <a:ext cx="5761080" cy="2635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1835280" y="333360"/>
            <a:ext cx="68515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а  из самых ярко-окрашеных рыб на территории России, близкий родственник лососевых и сиговых рыб, обитает только в Северном полушарии,  населяет чистые холодноводные реки и озер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835280" y="188640"/>
            <a:ext cx="7067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линные волны, порождаемые мощным воздействием на всю толщу воды в океане или другом водоёме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5280" y="549360"/>
            <a:ext cx="151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250920" y="3141720"/>
            <a:ext cx="4019400" cy="3076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716360" y="3141720"/>
            <a:ext cx="4176720" cy="3090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834920" y="333360"/>
            <a:ext cx="71038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нутреннее  море бассейна Атлантического океана.   Море - здравница Росс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5280" y="333360"/>
            <a:ext cx="1297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324000" y="2997360"/>
            <a:ext cx="4019400" cy="3019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4643280" y="2997360"/>
            <a:ext cx="4176720" cy="306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619280" y="259920"/>
            <a:ext cx="728352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териковая отмель, выровненная часть подводной окраины материка, примыкающая к суше и характеризующаяся общим с ней геологическим строением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5280" y="620640"/>
            <a:ext cx="136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692360" y="3141720"/>
            <a:ext cx="6192720" cy="3398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24000" y="620640"/>
            <a:ext cx="15112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Щ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124000" y="549000"/>
            <a:ext cx="66960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есноводная  рыба , один из наиболее распространённых видов рыб обитающих в Волг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84360" y="3141720"/>
            <a:ext cx="3011400" cy="3127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4500720" y="3141720"/>
            <a:ext cx="4019400" cy="3095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076480" y="404640"/>
            <a:ext cx="70675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оронкообразное  устье реки, расширяющееся в сторону моря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5280" y="260280"/>
            <a:ext cx="1512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2195640" y="2565360"/>
            <a:ext cx="5182920" cy="389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268360" y="333360"/>
            <a:ext cx="65628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ека  на северо-западе Канады  и  в  США (штат Аляска), впадает в Берингово море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9640" y="404640"/>
            <a:ext cx="1511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Ю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195640" y="2565360"/>
            <a:ext cx="4824360" cy="3624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908000" y="333360"/>
            <a:ext cx="6932880" cy="30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Группа  островов, расположенных близко друг к другу и имеющих обычно одно и то же происхождение (материковое, вулканическое, коралловое) и сходное геологическое строение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835280" y="3645000"/>
            <a:ext cx="5543280" cy="3019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3" name=""/>
          <p:cNvSpPr txBox="1"/>
          <p:nvPr/>
        </p:nvSpPr>
        <p:spPr>
          <a:xfrm>
            <a:off x="539640" y="1052640"/>
            <a:ext cx="115092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076480" y="260280"/>
            <a:ext cx="688824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оре  в составе Тихого океана, отделяется от него одноимёнными островами и островом Сахалин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5280" y="189000"/>
            <a:ext cx="136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95280" y="2852640"/>
            <a:ext cx="3889440" cy="2921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4643280" y="2852640"/>
            <a:ext cx="4019760" cy="2963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628640"/>
          <a:ext cx="8353440" cy="39736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58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хипела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нто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лг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идросфер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ждев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нисе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об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ли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то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стовы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дни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жен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ктон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зер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ли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сл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лён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че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ь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рн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ариу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унам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ёрн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ель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Щук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стуари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кон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понск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Критерии оценива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627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«5» - 23 - 28 балл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«4» - 17 – 22 бал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«3» - 11 – 16 балл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«2» - 5   -  10 балл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«1» - 0   - 4    бал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92360" y="475920"/>
            <a:ext cx="70056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овокупность организмов, обитающих на грунте и в грунте дна водоём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26920" y="3284640"/>
            <a:ext cx="7770960" cy="2706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6" name=""/>
          <p:cNvSpPr txBox="1"/>
          <p:nvPr/>
        </p:nvSpPr>
        <p:spPr>
          <a:xfrm>
            <a:off x="539640" y="692280"/>
            <a:ext cx="115092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692360" y="404280"/>
            <a:ext cx="707688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амая большая река  Европы, одна из крупнейших рек на Земле 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3024360" cy="3168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851280" y="2997360"/>
            <a:ext cx="4824360" cy="3168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0" name=""/>
          <p:cNvSpPr txBox="1"/>
          <p:nvPr/>
        </p:nvSpPr>
        <p:spPr>
          <a:xfrm>
            <a:off x="468360" y="62064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907640" y="259920"/>
            <a:ext cx="68612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Водная оболочка Земли занимающая 3/4 части планеты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340000" y="3141720"/>
            <a:ext cx="4824360" cy="3120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3" name=""/>
          <p:cNvSpPr txBox="1"/>
          <p:nvPr/>
        </p:nvSpPr>
        <p:spPr>
          <a:xfrm>
            <a:off x="755640" y="54936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987640" y="981000"/>
            <a:ext cx="5781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дин из главных типов питания рек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3889080" cy="2921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500720" y="3500280"/>
            <a:ext cx="4019400" cy="301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7" name=""/>
          <p:cNvSpPr txBox="1"/>
          <p:nvPr/>
        </p:nvSpPr>
        <p:spPr>
          <a:xfrm>
            <a:off x="826920" y="907920"/>
            <a:ext cx="115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63640" y="188640"/>
            <a:ext cx="69343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ка в Сибири, одна из величайших рек мира и России. Впадает в Карское море Северного Ледовитого океана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195640" y="3284640"/>
            <a:ext cx="5832360" cy="3308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0" name=""/>
          <p:cNvSpPr txBox="1"/>
          <p:nvPr/>
        </p:nvSpPr>
        <p:spPr>
          <a:xfrm>
            <a:off x="539640" y="76500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476000" y="189000"/>
            <a:ext cx="71485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лубокая и длинная впадина на дне океана (5000—7000 м и более), образующаяся путём продавливания одной океанической коры под другую океаническую или континентальную кору  (схождение плит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24000" y="3500280"/>
            <a:ext cx="4738680" cy="3110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3" name=""/>
          <p:cNvSpPr txBox="1"/>
          <p:nvPr/>
        </p:nvSpPr>
        <p:spPr>
          <a:xfrm>
            <a:off x="395280" y="692280"/>
            <a:ext cx="15112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3:41:19Z</dcterms:created>
  <dc:creator>User</dc:creator>
  <dc:description/>
  <dc:language>en-US</dc:language>
  <cp:lastModifiedBy>User</cp:lastModifiedBy>
  <dcterms:modified xsi:type="dcterms:W3CDTF">2013-11-17T04:32:09Z</dcterms:modified>
  <cp:revision>6</cp:revision>
  <dc:subject/>
  <dc:title>Слайд 1</dc:title>
</cp:coreProperties>
</file>