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5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57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34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43.png" ContentType="image/png"/>
  <Override PartName="/ppt/media/image53.jpeg" ContentType="image/jpeg"/>
  <Override PartName="/ppt/media/image47.jpeg" ContentType="image/jpeg"/>
  <Override PartName="/ppt/media/image51.png" ContentType="image/png"/>
  <Override PartName="/ppt/media/image41.png" ContentType="image/png"/>
  <Override PartName="/ppt/media/image48.jpeg" ContentType="image/jpeg"/>
  <Override PartName="/ppt/media/image58.jpeg" ContentType="image/jpeg"/>
  <Override PartName="/ppt/media/image37.jpeg" ContentType="image/jpeg"/>
  <Override PartName="/ppt/media/image59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9.png" ContentType="image/png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6DE8-8007-44A1-BA33-153E35CC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0F4F-F01B-48D9-A5B9-EDEC1C59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8950-8716-4C12-870C-277EF931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7BF0-DBD3-44DF-AF1A-9E23D672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F92DC-142A-4CB8-BC98-C42B4488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2F117-FFDB-40DD-9132-0CED592D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3A354-9298-4CCD-8E84-82444A67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6218E-39A7-4CFD-A29B-0A9950E2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06D31-9CFD-4765-BBFF-C74F39FB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909AC-D1EF-40A6-9FB4-E81EDA23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D7923-7BF5-4E5A-A7FE-E49E0759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0FEC-FFC7-43AC-8995-70F20F0B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2D368-2E9B-4523-8F2A-3DDEF8DD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90B25-374F-4827-BC5B-8AF784EC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E407F-5FB8-4AEB-B190-B1C7FDF8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F86E4-057A-4BBC-9065-589B350A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83644-CE2B-4AC0-BB42-2127E5CE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2E63-E7C5-4C37-A91A-CF761FF4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EC6-3E79-4F8E-8267-F33B5848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70E4-71FE-45A4-942E-23FBE6CD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98FA-F11F-4322-ABB8-A40AEAC0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1008-46CF-4E32-95D4-044DC785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430F-559A-4610-9552-1771B69C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3517-DED3-48A0-BDB7-97A11603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6297-6E40-45F8-A7D0-F3F6D951BC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703C-D800-4183-AD26-BA52383C27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3213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br>
              <a:rPr sz="8000"/>
            </a:b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189000"/>
            <a:ext cx="64008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МОУ Новоуренская СОШ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1268280"/>
            <a:ext cx="6400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урок  иг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84360" y="5373720"/>
            <a:ext cx="6400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Учитель географ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Каравашкина Н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332000" y="3141720"/>
            <a:ext cx="28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812000" y="3141720"/>
            <a:ext cx="289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63640" y="333000"/>
            <a:ext cx="6934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Часть водного пространства, глубоко вдающаяся в сушу и свободно сообщающаяся с океаном или морем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4032360" cy="2512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43280" y="3141720"/>
            <a:ext cx="4019760" cy="2590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539640" y="62064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908000" y="692280"/>
            <a:ext cx="69328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есто, где водоток (напр., река или ручей) берёт своё начало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4000" y="3141720"/>
            <a:ext cx="4103640" cy="3083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788000" y="3141720"/>
            <a:ext cx="4019400" cy="3095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1" name=""/>
          <p:cNvSpPr txBox="1"/>
          <p:nvPr/>
        </p:nvSpPr>
        <p:spPr>
          <a:xfrm>
            <a:off x="395280" y="76500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979640" y="260280"/>
            <a:ext cx="678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Озёра образующиеся в районах распространения горных пород, при заполнении водой котловин и  польев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4019400" cy="3009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4019760" cy="3019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5" name=""/>
          <p:cNvSpPr txBox="1"/>
          <p:nvPr/>
        </p:nvSpPr>
        <p:spPr>
          <a:xfrm>
            <a:off x="684360" y="90792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26920" y="260280"/>
            <a:ext cx="6048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копления  льда на суше, образованное в результате атмосферных осад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&amp;Rcy;&amp;acy;&amp;scy;&amp;shchcy;&amp;iecy;&amp;lcy;&amp;icy;&amp;ncy;&amp;ycy; &amp;vcy; &amp;tcy;&amp;iecy;&amp;lcy;&amp;iecy; &amp;lcy;&amp;iecy;&amp;dcy;&amp;ncy;&amp;icy;&amp;kcy;&amp;acy;, &amp;ocy;&amp;bcy;&amp;rcy;&amp;acy;&amp;zcy;&amp;ocy;&amp;vcy;&amp;acy;&amp;ncy;&amp;ncy;&amp;ycy;&amp;iecy; &amp;vcy; &amp;pcy;&amp;rcy;&amp;ocy;&amp;tscy;&amp;iecy;&amp;scy;&amp;scy;&amp;iecy; &amp;iecy;&amp;gcy;&amp;ocy; &amp;tcy;&amp;acy;&amp;yacy;&amp;ncy;&amp;icy;&amp;yacy;.&#13;&#10;&amp;Lcy;&amp;iecy;&amp;dcy;&amp;ncy;&amp;icy;&amp;kcy; &amp;Fcy;&amp;rcy;&amp;acy;&amp;ncy;&amp;tscy;&amp;acy; &amp;Icy;&amp;ocy;&amp;scy;&amp;icy;&amp;fcy;&amp;acy; (&amp;Dcy;&amp;zhcy;&amp;ocy;&amp;zcy;&amp;iecy;&amp;fcy;&amp;acy;)(&amp;rcy;&amp;iecy;&amp;gcy;&amp;icy;&amp;ocy;&amp;ncy; &amp;Ucy;&amp;ecy;&amp;scy;&amp;tcy;-&amp;Kcy;&amp;ocy;&amp;scy;&amp;tcy;,&#13;&#10;&amp;zcy;&amp;acy;&amp;pcy;&amp;acy;&amp;dcy;&amp;ncy;&amp;ocy;&amp;iecy; &amp;pcy;&amp;ocy;&amp;bcy;&amp;iecy;&amp;rcy;&amp;iecy;&amp;zhcy;&amp;softcy;&amp;iecy; &amp;YUcy;&amp;zhcy;&amp;ncy;&amp;ocy;&amp;gcy;&amp;ocy; &amp;ocy;&amp;scy;&amp;tcy;&amp;rcy;&amp;ocy;&amp;vcy;&amp;acy;)"/>
          <p:cNvPicPr/>
          <p:nvPr/>
        </p:nvPicPr>
        <p:blipFill>
          <a:blip r:embed="rId2"/>
          <a:stretch/>
        </p:blipFill>
        <p:spPr>
          <a:xfrm>
            <a:off x="395280" y="2421000"/>
            <a:ext cx="3024360" cy="248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8" name="" descr="&amp;Acy;&amp;ncy;&amp;tcy;&amp;acy;&amp;rcy;&amp;kcy;&amp;tcy;&amp;icy;&amp;chcy;&amp;iecy;&amp;scy;&amp;kcy;&amp;icy;&amp;iecy; &amp;pcy;&amp;icy;&amp;ncy;&amp;gcy;&amp;vcy;&amp;icy;&amp;ncy;&amp;ycy; (Pygoscelis antarctica)&#13;&#10;(&amp;scy;&amp;iecy;&amp;mcy;&amp;iecy;&amp;jcy;&amp;scy;&amp;tcy;&amp;vcy;&amp;ocy; &amp;Pcy;&amp;icy;&amp;ncy;&amp;gcy;&amp;vcy;&amp;icy;&amp;ncy;&amp;ocy;&amp;vcy;&amp;ycy;&amp;iecy; - Spheniscidae).&#13;&#10;&amp;Ocy;&amp;scy;&amp;tcy;&amp;rcy;&amp;ocy;&amp;vcy; &amp;KHcy;&amp;acy;&amp;lcy;&amp;fcy; &amp;Mcy;&amp;ucy;&amp;ncy;, &amp;YUcy;&amp;zhcy;&amp;ncy;&amp;ycy;&amp;iecy; &amp;SHcy;&amp;iecy;&amp;tcy;&amp;lcy;&amp;acy;&amp;ncy;&amp;dcy;&amp;scy;&amp;kcy;&amp;icy;&amp;iecy; &amp;ocy;&amp;scy;&amp;tcy;&amp;rcy;&amp;ocy;&amp;vcy;&amp;acy;"/>
          <p:cNvPicPr/>
          <p:nvPr/>
        </p:nvPicPr>
        <p:blipFill>
          <a:blip r:embed="rId3"/>
          <a:stretch/>
        </p:blipFill>
        <p:spPr>
          <a:xfrm>
            <a:off x="5651640" y="2349360"/>
            <a:ext cx="3147840" cy="2454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484360" y="4149720"/>
            <a:ext cx="4019760" cy="2505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0" name=""/>
          <p:cNvSpPr txBox="1"/>
          <p:nvPr/>
        </p:nvSpPr>
        <p:spPr>
          <a:xfrm>
            <a:off x="826920" y="333360"/>
            <a:ext cx="115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979280" y="333360"/>
            <a:ext cx="698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изкий  уровень воды в реке, озере, обусловленный  периодами сухой или морозной погоды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92360" y="2924280"/>
            <a:ext cx="5616360" cy="362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3" name=""/>
          <p:cNvSpPr txBox="1"/>
          <p:nvPr/>
        </p:nvSpPr>
        <p:spPr>
          <a:xfrm>
            <a:off x="324000" y="476280"/>
            <a:ext cx="1584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692360" y="260280"/>
            <a:ext cx="7005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се  организмы, активно плавающие в толще воды водоемов, способные противостоять течению и самостоятельно перемещаться на значительные расстояни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8360" y="3716280"/>
            <a:ext cx="4019400" cy="279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4019400" cy="2865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7" name=""/>
          <p:cNvSpPr txBox="1"/>
          <p:nvPr/>
        </p:nvSpPr>
        <p:spPr>
          <a:xfrm>
            <a:off x="539640" y="692280"/>
            <a:ext cx="115092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268360" y="260280"/>
            <a:ext cx="6275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Естественный водоём, образовавшийся в природном углублении                    и на суше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26920" y="476280"/>
            <a:ext cx="122400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763640" y="2852640"/>
            <a:ext cx="5543640" cy="3441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692360" y="404640"/>
            <a:ext cx="7283520" cy="26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ериодические вертикальные колебания уровня океана или моря, являющиеся результатом изменения положений Луны и Солнца относительно Земл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11280" y="836640"/>
            <a:ext cx="1224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859280" y="3500280"/>
            <a:ext cx="4019760" cy="3019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250920" y="3429000"/>
            <a:ext cx="4019400" cy="3019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050920" y="404640"/>
            <a:ext cx="634680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глубление в речной долине, по которому постоянное течёт ре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9640" y="40464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324000" y="3141720"/>
            <a:ext cx="3671640" cy="2749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932360" y="3141720"/>
            <a:ext cx="3659040" cy="2930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63280" y="333360"/>
            <a:ext cx="72104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оличество солей в граммах, растворенных в 1 литре  морской воды(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ahoma"/>
              </a:rPr>
              <a:t>‰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8360" y="33336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95280" y="3141720"/>
            <a:ext cx="4019400" cy="2685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4859280" y="3141720"/>
            <a:ext cx="3780000" cy="2695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Цел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вторить, обобщить и закрепить знания по теме: «гидросфер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пределить уровень ЗУН учащихся по те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050920" y="260280"/>
            <a:ext cx="649152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оризонтальное движение водных масс под действием вет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5280" y="33336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468360" y="2924280"/>
            <a:ext cx="3743280" cy="3209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4788000" y="2924280"/>
            <a:ext cx="4019400" cy="3241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835280" y="259920"/>
            <a:ext cx="68515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есто  впадения реки в водохранилище, озеро, море или другую реку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11280" y="26028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324000" y="3213000"/>
            <a:ext cx="3816360" cy="2565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4716360" y="3213000"/>
            <a:ext cx="4019760" cy="2592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050560" y="259920"/>
            <a:ext cx="6923160" cy="26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тно  слежавшийся, зернистый и частично перекристаллизованный, обычно многолетний снег, точнее — промежуточная стадия между снегом и глетчерным льдом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4000" y="260280"/>
            <a:ext cx="172692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1979640" y="3068640"/>
            <a:ext cx="5113440" cy="3416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95280" y="404640"/>
            <a:ext cx="13683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1619280" y="3429000"/>
            <a:ext cx="5761080" cy="2635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1835280" y="333360"/>
            <a:ext cx="68515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а  из самых ярко-окрашеных рыб на территории России, близкий родственник лососевых и сиговых рыб, обитает только в Северном полушарии,  населяет чистые холодноводные реки и озер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835280" y="188640"/>
            <a:ext cx="7067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линные волны, порождаемые мощным воздействием на всю толщу воды в океане или другом водоёме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95280" y="549360"/>
            <a:ext cx="151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250920" y="3141720"/>
            <a:ext cx="4019400" cy="3076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4716360" y="3141720"/>
            <a:ext cx="4176720" cy="3090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834920" y="333360"/>
            <a:ext cx="71038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нутреннее  море бассейна Атлантического океана.   Море - здравница Росс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5280" y="333360"/>
            <a:ext cx="1297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324000" y="2997360"/>
            <a:ext cx="4019400" cy="3019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4643280" y="2997360"/>
            <a:ext cx="4176720" cy="3063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619280" y="259920"/>
            <a:ext cx="7283520" cy="28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териковая отмель, выровненная часть подводной окраины материка, примыкающая к суше и характеризующаяся общим с ней геологическим строением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5280" y="620640"/>
            <a:ext cx="136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692360" y="3141720"/>
            <a:ext cx="6192720" cy="3398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24000" y="620640"/>
            <a:ext cx="15112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Щ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124000" y="549000"/>
            <a:ext cx="66960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есноводная  рыба , один из наиболее распространённых видов рыб обитающих в Волг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684360" y="3141720"/>
            <a:ext cx="3011400" cy="3127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4500720" y="3141720"/>
            <a:ext cx="4019400" cy="3095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076480" y="404640"/>
            <a:ext cx="706752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оронкообразное  устье реки, расширяющееся в сторону моря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5280" y="260280"/>
            <a:ext cx="1512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2195640" y="2565360"/>
            <a:ext cx="5182920" cy="389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268360" y="333360"/>
            <a:ext cx="65628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ека  на северо-западе Канады  и  в  США (штат Аляска), впадает в Берингово море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9640" y="404640"/>
            <a:ext cx="15112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Ю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195640" y="2565360"/>
            <a:ext cx="4824360" cy="3624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908000" y="333360"/>
            <a:ext cx="6932880" cy="30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Группа  островов, расположенных близко друг к другу и имеющих обычно одно и то же происхождение (материковое, вулканическое, коралловое) и сходное геологическое строение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835280" y="3645000"/>
            <a:ext cx="5543280" cy="3019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3" name=""/>
          <p:cNvSpPr txBox="1"/>
          <p:nvPr/>
        </p:nvSpPr>
        <p:spPr>
          <a:xfrm>
            <a:off x="539640" y="1052640"/>
            <a:ext cx="115092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076480" y="260280"/>
            <a:ext cx="688824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оре  в составе Тихого океана, отделяется от него одноимёнными островами и островом Сахалин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95280" y="189000"/>
            <a:ext cx="1368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95280" y="2852640"/>
            <a:ext cx="3889440" cy="2921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4643280" y="2852640"/>
            <a:ext cx="4019760" cy="2963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1628640"/>
          <a:ext cx="8353440" cy="397368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9080"/>
                <a:gridCol w="2087640"/>
              </a:tblGrid>
              <a:tr h="58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хипела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енто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лг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идросфер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ждев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нисе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об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ли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то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стовы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дни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жен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ктон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зер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ли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сл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лёнос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чен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ь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рн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ариу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унам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ёрн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ельф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Щук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стуари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кон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понск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Критерии оценивани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76360" y="1844640"/>
            <a:ext cx="627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«5» - 23 - 28 балл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«4» - 17 – 22 бал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«3» - 11 – 16 балл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«2» - 5   -  10 балл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«1» - 0   - 4    бал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92360" y="475920"/>
            <a:ext cx="70056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овокупность организмов, обитающих на грунте и в грунте дна водоём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26920" y="3284640"/>
            <a:ext cx="7770960" cy="2706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6" name=""/>
          <p:cNvSpPr txBox="1"/>
          <p:nvPr/>
        </p:nvSpPr>
        <p:spPr>
          <a:xfrm>
            <a:off x="539640" y="692280"/>
            <a:ext cx="115092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692360" y="404280"/>
            <a:ext cx="707688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амая большая река  Европы, одна из крупнейших рек на Земле 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5280" y="2997360"/>
            <a:ext cx="3024360" cy="3168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851280" y="2997360"/>
            <a:ext cx="4824360" cy="3168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0" name=""/>
          <p:cNvSpPr txBox="1"/>
          <p:nvPr/>
        </p:nvSpPr>
        <p:spPr>
          <a:xfrm>
            <a:off x="468360" y="62064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907640" y="259920"/>
            <a:ext cx="68612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Водная оболочка Земли занимающая 3/4 части планеты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340000" y="3141720"/>
            <a:ext cx="4824360" cy="3120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3" name=""/>
          <p:cNvSpPr txBox="1"/>
          <p:nvPr/>
        </p:nvSpPr>
        <p:spPr>
          <a:xfrm>
            <a:off x="755640" y="54936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987640" y="981000"/>
            <a:ext cx="5781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дин из главных типов питания рек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3889080" cy="2921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500720" y="3500280"/>
            <a:ext cx="4019400" cy="3019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7" name=""/>
          <p:cNvSpPr txBox="1"/>
          <p:nvPr/>
        </p:nvSpPr>
        <p:spPr>
          <a:xfrm>
            <a:off x="826920" y="907920"/>
            <a:ext cx="115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63640" y="188640"/>
            <a:ext cx="69343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ека в Сибири, одна из величайших рек мира и России. Впадает в Карское море Северного Ледовитого океана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195640" y="3284640"/>
            <a:ext cx="5832360" cy="3308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0" name=""/>
          <p:cNvSpPr txBox="1"/>
          <p:nvPr/>
        </p:nvSpPr>
        <p:spPr>
          <a:xfrm>
            <a:off x="539640" y="765000"/>
            <a:ext cx="11509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476000" y="189000"/>
            <a:ext cx="71485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лубокая и длинная впадина на дне океана (5000—7000 м и более), образующаяся путём продавливания одной океанической коры под другую океаническую или континентальную кору  (схождение плит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24000" y="3500280"/>
            <a:ext cx="4738680" cy="3110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3" name=""/>
          <p:cNvSpPr txBox="1"/>
          <p:nvPr/>
        </p:nvSpPr>
        <p:spPr>
          <a:xfrm>
            <a:off x="395280" y="692280"/>
            <a:ext cx="15112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3:41:19Z</dcterms:created>
  <dc:creator>User</dc:creator>
  <dc:description/>
  <dc:language>en-US</dc:language>
  <cp:lastModifiedBy>User</cp:lastModifiedBy>
  <dcterms:modified xsi:type="dcterms:W3CDTF">2013-11-17T04:32:09Z</dcterms:modified>
  <cp:revision>6</cp:revision>
  <dc:subject/>
  <dc:title>Слайд 1</dc:title>
</cp:coreProperties>
</file>