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2003-C791-43FA-BA21-12B44790CA9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541A-0F9A-4C5F-8C3D-C84D6E0F9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9E7-7311-4D82-B99B-3507F951E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569-19CE-4EB9-8B7F-AF9C3ED554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A0CD-E416-4E8A-AA9C-F5A3DDECB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0A9B-E86F-4D44-885D-218E9C61B1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4C3D-3509-40B6-AA73-A9E8110A3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CB43-6A2D-4A25-8D3C-99DFDD964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63D1-410F-4181-A2FE-C1F61E76E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DFD8-4404-4D52-AC49-60EC5F04CA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2659-0B14-43EC-96B6-FB04A2C07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F044-9A2C-49C7-8B26-888A870A57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4854-8FAF-4062-9846-1F0796A744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DEFC-F237-4A12-9F00-C5E8F96D86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0C36-BFB9-48D6-A229-6C267A167B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291C-121E-4881-BF51-4ED80C105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AutoShape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5508360" y="6524280"/>
            <a:ext cx="34160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У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ООУ 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 «Родничо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35"/>
          <p:cNvSpPr/>
          <p:nvPr/>
        </p:nvSpPr>
        <p:spPr>
          <a:xfrm rot="10800000">
            <a:off x="2297160" y="1627920"/>
            <a:ext cx="6407280" cy="71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WordArt 1036"/>
          <p:cNvSpPr txBox="1"/>
          <p:nvPr/>
        </p:nvSpPr>
        <p:spPr>
          <a:xfrm>
            <a:off x="5435640" y="941400"/>
            <a:ext cx="3355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Портфолио"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WordArt 1037"/>
          <p:cNvSpPr txBox="1"/>
          <p:nvPr/>
        </p:nvSpPr>
        <p:spPr>
          <a:xfrm>
            <a:off x="2306520" y="333360"/>
            <a:ext cx="64389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стиваль исследовательских и творческих работ учащихся</a:t>
            </a:r>
            <a:endParaRPr b="1" lang="en-US" sz="1200" spc="1" strike="noStrike">
              <a:ln w="1908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041"/>
          <p:cNvSpPr txBox="1"/>
          <p:nvPr/>
        </p:nvSpPr>
        <p:spPr>
          <a:xfrm>
            <a:off x="826920" y="313992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</a:t>
            </a:r>
            <a:endParaRPr b="1" i="1" lang="en-US" sz="1200" spc="1" strike="noStrike">
              <a:ln w="1908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86" name="Object 1047"/>
          <p:cNvGraphicFramePr/>
          <p:nvPr/>
        </p:nvGraphicFramePr>
        <p:xfrm>
          <a:off x="214200" y="57240"/>
          <a:ext cx="21304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240"/>
                    <a:ext cx="2130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50"/>
          <p:cNvSpPr/>
          <p:nvPr/>
        </p:nvSpPr>
        <p:spPr>
          <a:xfrm>
            <a:off x="2268360" y="4067280"/>
            <a:ext cx="678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Выполнил: Андрианов Дании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Учебное заведение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класс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2 «Б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Научный руководитель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: Андрианова Елена Леонидовна, учитель </a:t>
            </a:r>
            <a:r>
              <a:rPr b="1" i="1" lang="en-US" sz="2000" spc="-1" strike="noStrike">
                <a:solidFill>
                  <a:srgbClr val="006600"/>
                </a:solidFill>
                <a:latin typeface="Tahoma"/>
              </a:rPr>
              <a:t>I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 категори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Должность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учитель математик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Место работы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1051"/>
          <p:cNvSpPr txBox="1"/>
          <p:nvPr/>
        </p:nvSpPr>
        <p:spPr>
          <a:xfrm>
            <a:off x="1332000" y="2349360"/>
            <a:ext cx="6480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тельский проек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IMG_1759"/>
          <p:cNvPicPr/>
          <p:nvPr/>
        </p:nvPicPr>
        <p:blipFill>
          <a:blip r:embed="rId1"/>
          <a:stretch/>
        </p:blipFill>
        <p:spPr>
          <a:xfrm>
            <a:off x="6372360" y="34131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_1767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380360" y="2133720"/>
            <a:ext cx="1295280" cy="97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Зарядка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865160" y="1623960"/>
            <a:ext cx="2521080" cy="141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Зарядка1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5520" y="1311120"/>
            <a:ext cx="1233360" cy="1729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179280" y="981000"/>
            <a:ext cx="468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тром делаем зарядку, я считаю по порядку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76720" y="1268280"/>
            <a:ext cx="47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ищу зубы, кашу ем. Заряжаюсь на весь день! Мама четко здесь следит, халтурить мне не разрешит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1187280" y="307800"/>
            <a:ext cx="7056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 чего начинается утро?..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2627280" y="3068640"/>
            <a:ext cx="3745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прос в класс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24000" y="3357720"/>
            <a:ext cx="849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omic Sans MS"/>
              </a:rPr>
              <a:t>Интересующие вопросы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) Выяснить, понимают ли мои сверстник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необходимость чистки зубов по утрам?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) Всегда ли мои одноклассники чистят зубы по утрам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) Кто контролирует их, или напоминает им об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правилах гигиены?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250920" y="479736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ОК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и сверстники всё знают о правилах гигиены, но однако им тоже иногда лень чистить зубы по утрам, но их мамы им тоже не дают спуска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95280" y="59500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менно благодаря родителям мы растём здоровыми и крепкими. Они оберегают нас от нашей спутницы лени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258920" y="404640"/>
            <a:ext cx="6697800" cy="6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да- моя подруг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5280" y="981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летом страсть моя вода. В бассейне вся моя семья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5" descr="25_На рек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1480" y="1397160"/>
            <a:ext cx="2630520" cy="17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25_бассеин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20920" y="1628640"/>
            <a:ext cx="3511800" cy="316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мор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488280" y="1332000"/>
            <a:ext cx="2104920" cy="3033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"/>
          <p:cNvSpPr/>
          <p:nvPr/>
        </p:nvSpPr>
        <p:spPr>
          <a:xfrm rot="1410600">
            <a:off x="7093080" y="148104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Здоровью море  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помогает, от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простуды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        защищает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18" descr="песок"/>
          <p:cNvPicPr/>
          <p:nvPr/>
        </p:nvPicPr>
        <p:blipFill>
          <a:blip r:embed="rId4">
            <a:lum contrast="12000"/>
          </a:blip>
          <a:stretch/>
        </p:blipFill>
        <p:spPr>
          <a:xfrm rot="20392200">
            <a:off x="617040" y="2682720"/>
            <a:ext cx="2660760" cy="199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1"/>
          <p:cNvSpPr/>
          <p:nvPr/>
        </p:nvSpPr>
        <p:spPr>
          <a:xfrm rot="20404800">
            <a:off x="286920" y="2916360"/>
            <a:ext cx="1870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 песочке я лежал, свое тело прогревал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Rectangle 22"/>
          <p:cNvSpPr/>
          <p:nvPr/>
        </p:nvSpPr>
        <p:spPr>
          <a:xfrm rot="896400">
            <a:off x="1622160" y="148428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Черное море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395280" y="4797360"/>
            <a:ext cx="52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гда к дедушке хожу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ню с ним всегда топлю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ма веничек запарит, и всегда нам говорит: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жжевельник, пихта, ель – вот и нет в носу соплей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24" descr="ванна8"/>
          <p:cNvPicPr/>
          <p:nvPr/>
        </p:nvPicPr>
        <p:blipFill>
          <a:blip r:embed="rId5"/>
          <a:stretch/>
        </p:blipFill>
        <p:spPr>
          <a:xfrm>
            <a:off x="5867280" y="4079880"/>
            <a:ext cx="27799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619280" y="419040"/>
            <a:ext cx="58896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зультаты проект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04840" y="537372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роектный продук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жет достичь поставленной цели проекта, так как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озволит мне аргументировано убе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их друзей и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сех прочитавш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формацию на стенд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 огромной значимости р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озданного им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одного очаг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ор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формирова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дорового образа жизни детей, а значит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здорового обще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9640" y="162864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е с родителями я обследовал весь дом: узнал о пользе продуктов, которые ем, провёл интересные эксперименты, проанализировал свой образ жизни и пообщался на тему здоровья с одноклассниками. И теперь могу сделать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в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что мои родители правы, когда говорят, чт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ой дом крепость моего здоровь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Я теперь знаю в чём секрет здоровья, знаю, как его поддерживать и укреплять. С удовольствием поделюсь этими секретами со всеми желающими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Picture 6" descr="IMG_2556"/>
          <p:cNvPicPr/>
          <p:nvPr/>
        </p:nvPicPr>
        <p:blipFill>
          <a:blip r:embed="rId1"/>
          <a:stretch/>
        </p:blipFill>
        <p:spPr>
          <a:xfrm>
            <a:off x="5219640" y="1125360"/>
            <a:ext cx="3238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187280" y="126828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в доме тепло,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оздух свеж и уют</a:t>
            </a:r>
            <a:br>
              <a:rPr sz="2300"/>
            </a:br>
            <a:br>
              <a:rPr sz="10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И полезные блюда на кухне вас ждут.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спорт твой товарищ и подруга вод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3274920" y="360360"/>
            <a:ext cx="2449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ыводы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755640" y="1268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619280" y="3602160"/>
            <a:ext cx="56167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твой дом - твоя крепость!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болезнь не страшна.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782640" y="4756320"/>
            <a:ext cx="76327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"</a:t>
            </a:r>
            <a:endParaRPr b="1" lang="en-US" sz="12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95280" y="544500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Уверен в этом я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еперь я понял важность родного очаг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755640" y="18018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755640" y="233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75564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4"/>
          <p:cNvSpPr txBox="1"/>
          <p:nvPr/>
        </p:nvSpPr>
        <p:spPr>
          <a:xfrm>
            <a:off x="2268360" y="360360"/>
            <a:ext cx="47516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ктуальность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1619280" y="981000"/>
            <a:ext cx="72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Comic Sans MS"/>
              </a:rPr>
              <a:t>Я не люблю болеть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ькие лекар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вялое настроени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постоянно надо полоскать горл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что ещё хуже делать уколы и лежать в кроват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68360" y="2781360"/>
            <a:ext cx="835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лезнь отрывает от интересных дел, разлучает с друзьями: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этому мне очень важно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395280" y="4149720"/>
            <a:ext cx="849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 как оно залог хорошего и бодрого настроения и источник сил, которые необходимы, чтобы узнавать новое и интересно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доровье как ключик, который открывает дверь в счастливое и интересное детств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этот ключик хочет найти каждый, желающий сохранить своё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здоровь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которо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не купить ни за какие деньг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WordArt 18"/>
          <p:cNvSpPr txBox="1"/>
          <p:nvPr/>
        </p:nvSpPr>
        <p:spPr>
          <a:xfrm>
            <a:off x="1763640" y="3689280"/>
            <a:ext cx="56167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чём секрет здоровья и где его искать?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J0198790"/>
          <p:cNvPicPr/>
          <p:nvPr/>
        </p:nvPicPr>
        <p:blipFill>
          <a:blip r:embed="rId1"/>
          <a:stretch/>
        </p:blipFill>
        <p:spPr>
          <a:xfrm>
            <a:off x="-108000" y="4400640"/>
            <a:ext cx="2160720" cy="2371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23"/>
          <p:cNvSpPr txBox="1"/>
          <p:nvPr/>
        </p:nvSpPr>
        <p:spPr>
          <a:xfrm>
            <a:off x="2843280" y="260280"/>
            <a:ext cx="3600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Гипотеза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314400">
            <a:off x="404280" y="1339920"/>
            <a:ext cx="3759480" cy="23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, в котором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живу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AutoShape 29"/>
          <p:cNvSpPr/>
          <p:nvPr/>
        </p:nvSpPr>
        <p:spPr>
          <a:xfrm rot="681000">
            <a:off x="4427640" y="1125000"/>
            <a:ext cx="4371840" cy="302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WordArt 36"/>
          <p:cNvSpPr txBox="1"/>
          <p:nvPr/>
        </p:nvSpPr>
        <p:spPr>
          <a:xfrm>
            <a:off x="927000" y="368928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2521080" y="3645000"/>
            <a:ext cx="58910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секрет здорового образа жизн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WordArt 38"/>
          <p:cNvSpPr txBox="1"/>
          <p:nvPr/>
        </p:nvSpPr>
        <p:spPr>
          <a:xfrm>
            <a:off x="395280" y="4121280"/>
            <a:ext cx="20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2494080" y="4076640"/>
            <a:ext cx="618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 с мамой и папой обследовать нашу квартиру и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2771640" y="4705200"/>
            <a:ext cx="60296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ствуют ли созданные условия здоровому образу жизн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считать наш дом крепостью здоровья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8791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Мои родители считают, что «мой дом – крепость моего здоровья».</a:t>
            </a:r>
            <a:endParaRPr b="1" lang="en-US" sz="26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05" name="Rectangle 41"/>
          <p:cNvSpPr/>
          <p:nvPr/>
        </p:nvSpPr>
        <p:spPr>
          <a:xfrm rot="673200">
            <a:off x="4927680" y="2382840"/>
            <a:ext cx="324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ща, которую я кушаю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я в доме 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й образ жизни.</a:t>
            </a:r>
            <a:br>
              <a:rPr sz="1600"/>
            </a:b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WordArt 42"/>
          <p:cNvSpPr txBox="1"/>
          <p:nvPr/>
        </p:nvSpPr>
        <p:spPr>
          <a:xfrm rot="694200">
            <a:off x="5265720" y="2222640"/>
            <a:ext cx="2978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редмет исследования</a:t>
            </a:r>
            <a:endParaRPr b="1" lang="en-US" sz="12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7" name="WordArt 43"/>
          <p:cNvSpPr txBox="1"/>
          <p:nvPr/>
        </p:nvSpPr>
        <p:spPr>
          <a:xfrm rot="21304200">
            <a:off x="777960" y="2217240"/>
            <a:ext cx="27385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 исследования</a:t>
            </a:r>
            <a:endParaRPr b="1" lang="en-US" sz="1200" spc="1" strike="noStrike">
              <a:ln w="15840">
                <a:solidFill>
                  <a:srgbClr val="ff66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2487600" y="5602320"/>
            <a:ext cx="6637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снить отношение сверстников к здоровому образу жизни, кто заботится об их здоровье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971640" y="403200"/>
            <a:ext cx="69850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роха сын к отцу пришёл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7936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И спросила крох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Почему так говорят: мой дом – моё здоровье?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5877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Папочка меня обнял и с улыбкою сказал: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Давай-ка дом наш обойдём и ответ с тобой найдём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7" descr="1_Кроха сы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811160"/>
            <a:ext cx="66960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84360" y="476280"/>
            <a:ext cx="7848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я на кухн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3804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3_загляни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16680" y="3500280"/>
            <a:ext cx="24429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87280" y="3860640"/>
            <a:ext cx="40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сь холодильник я изучил и навсегда для себя уяснил:</a:t>
            </a: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«Белки, витамины, жиры, углеводы в питании очень нужны и для здоровья важны»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38040" y="1025640"/>
            <a:ext cx="842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49560" indent="-394956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папой мы пришли на кухню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мама варит нам обед.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ахнет  очень, очен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кусно. Борщ сегодн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обед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276720" y="2387520"/>
            <a:ext cx="478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уп полезен всем, всем, всем.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м его я каждый ден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9" descr="2_мама варит обе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330200" y="1484280"/>
            <a:ext cx="1729080" cy="153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252720" y="3100320"/>
            <a:ext cx="791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улыбкой мама предложил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«В  холодильник  загляни,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зную еду найди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1042920" y="909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684360" y="140004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ддувает ли холодный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здух в окна и двери?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2440" y="312408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Проверяем окна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11280" y="312408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Comic Sans MS"/>
              </a:rPr>
              <a:t>Проверяем двери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9280" y="1989000"/>
            <a:ext cx="42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помощью свеч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верим наде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верных и оконных проём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дом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24000" y="486900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кна, двери на замок, не войдёт к нам холодок. Свечкой всё перепроверил. Нет в квартире сквозняка. Значит нам в квартире нашей не страшна теперь зима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12" descr="13_проверяем окн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" y="3444840"/>
            <a:ext cx="1811160" cy="12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4_проверяем двери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85880" y="3444840"/>
            <a:ext cx="1727280" cy="13525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8"/>
          <p:cNvSpPr txBox="1"/>
          <p:nvPr/>
        </p:nvSpPr>
        <p:spPr>
          <a:xfrm>
            <a:off x="395280" y="23184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19"/>
          <p:cNvSpPr/>
          <p:nvPr/>
        </p:nvSpPr>
        <p:spPr>
          <a:xfrm rot="16200000">
            <a:off x="2233440" y="3754440"/>
            <a:ext cx="489600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WordArt 20"/>
          <p:cNvSpPr txBox="1"/>
          <p:nvPr/>
        </p:nvSpPr>
        <p:spPr>
          <a:xfrm>
            <a:off x="5364000" y="90504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21"/>
          <p:cNvSpPr txBox="1"/>
          <p:nvPr/>
        </p:nvSpPr>
        <p:spPr>
          <a:xfrm>
            <a:off x="5148360" y="1411200"/>
            <a:ext cx="324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ак надо одеваться,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если дома +24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356000" y="191628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толстовку, шерстяные носки и теплые брюки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6516720" y="192888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носоч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ёгкую футбол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шорты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4" descr="17_одет не по погоде"/>
          <p:cNvPicPr/>
          <p:nvPr/>
        </p:nvPicPr>
        <p:blipFill>
          <a:blip r:embed="rId3">
            <a:lum contrast="24000"/>
            <a:alphaModFix amt="50000"/>
          </a:blip>
          <a:stretch/>
        </p:blipFill>
        <p:spPr>
          <a:xfrm>
            <a:off x="4932360" y="2924280"/>
            <a:ext cx="1473120" cy="220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6_одет по погоде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948360" y="2924280"/>
            <a:ext cx="1649520" cy="2201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6"/>
          <p:cNvSpPr/>
          <p:nvPr/>
        </p:nvSpPr>
        <p:spPr>
          <a:xfrm>
            <a:off x="4788000" y="5157720"/>
            <a:ext cx="40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ужно одеваться в шортики и футболку. Иначе можно вспотеть. А это может привести к простуд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10_зал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052640"/>
            <a:ext cx="3384720" cy="3084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851280" y="981000"/>
            <a:ext cx="47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усть мамины цветы растут, уют в квартире создаю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95640" y="1700280"/>
            <a:ext cx="605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Кислород обогащают,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строенье поднимают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407880" y="28260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6" descr="15_Цветы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92360" y="2276640"/>
            <a:ext cx="205740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395280" y="4581360"/>
            <a:ext cx="547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ли душно в доме стан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вовсе не бед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амочка окно откроет и проветрит вес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ш дом: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вс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микробы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улетят, нам они не навредят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4" descr="Проветривание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046920" y="3789360"/>
            <a:ext cx="241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18_на веранде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00360" y="1268280"/>
            <a:ext cx="5883120" cy="50101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404640" y="345960"/>
            <a:ext cx="8352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моего образа жизни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13372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 сейчас  зов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с  в  гости 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й    большой спортивный зал. Папа под  него веранду  в доме мне  арендова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1533600" y="307800"/>
            <a:ext cx="63370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порт  - мой товарищ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23720" y="922320"/>
            <a:ext cx="828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 по канату забраться, могу и на кольцах качаться, могу подтянуться, с мячом поиграть, в перчатках боксиров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дротик метат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14" descr="23_бокс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27280" y="1700280"/>
            <a:ext cx="1087560" cy="1297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Фут"/>
          <p:cNvPicPr/>
          <p:nvPr/>
        </p:nvPicPr>
        <p:blipFill>
          <a:blip r:embed="rId2"/>
          <a:stretch/>
        </p:blipFill>
        <p:spPr>
          <a:xfrm>
            <a:off x="6602400" y="2247840"/>
            <a:ext cx="2160720" cy="134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20_на кольцах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763640" y="2828880"/>
            <a:ext cx="1182600" cy="107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9_по канату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258920" y="1700280"/>
            <a:ext cx="1019160" cy="127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22_с мячом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41280" y="2565360"/>
            <a:ext cx="984240" cy="130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24_дротик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619440" y="2492280"/>
            <a:ext cx="1009800" cy="1368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2"/>
          <p:cNvSpPr/>
          <p:nvPr/>
        </p:nvSpPr>
        <p:spPr>
          <a:xfrm>
            <a:off x="4576680" y="1844640"/>
            <a:ext cx="446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жу я с папой на футбол, ем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забиваю гол!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250920" y="3860640"/>
            <a:ext cx="279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ба ролики купила и кататься научила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2857680" y="3860640"/>
            <a:ext cx="3730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дедом в теннис я игра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бщем, я не унываю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33" descr="Рол"/>
          <p:cNvPicPr/>
          <p:nvPr/>
        </p:nvPicPr>
        <p:blipFill>
          <a:blip r:embed="rId7"/>
          <a:stretch/>
        </p:blipFill>
        <p:spPr>
          <a:xfrm>
            <a:off x="839880" y="4508640"/>
            <a:ext cx="1585800" cy="195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Тен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4189320" y="4510080"/>
            <a:ext cx="11746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5"/>
          <p:cNvSpPr/>
          <p:nvPr/>
        </p:nvSpPr>
        <p:spPr>
          <a:xfrm rot="16200000">
            <a:off x="1908720" y="5134320"/>
            <a:ext cx="230364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5435640" y="4653000"/>
            <a:ext cx="3384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вод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порт - как доктор от хандры, для задорной детвор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илу духа поднимает, организм наш закаляе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0:47:32Z</dcterms:created>
  <dc:creator>Андрианова Елена Леонидовна</dc:creator>
  <dc:description/>
  <dc:language>en-US</dc:language>
  <cp:lastModifiedBy>Пользователь</cp:lastModifiedBy>
  <dcterms:modified xsi:type="dcterms:W3CDTF">2013-07-06T10:54:37Z</dcterms:modified>
  <cp:revision>175</cp:revision>
  <dc:subject/>
  <dc:title>[Предприятие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