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2.png" ContentType="image/png"/>
  <Override PartName="/ppt/media/image24.jpeg" ContentType="image/jpeg"/>
  <Override PartName="/ppt/media/image27.jpeg" ContentType="image/jpeg"/>
  <Override PartName="/ppt/media/image6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8DA0-733C-4F00-B39E-4C249B3AE4F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3A66-9B98-423A-9B62-63DA394366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6847-F95F-4085-939F-F3F73089A6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93E5-DA02-46C4-9A44-3CB43920CB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6AF9-4A91-431A-95B0-CD9D51BBFA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3C5E-CBD1-4806-AFCC-36DEEF5516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9DBD-6958-4FBB-8E68-D8335569D6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F80D-CBBF-4803-A3E4-0469013352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CAF8-E60C-42A8-B2DE-94B778F3E7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2B67-2C57-4F42-A7F9-B1DEAEE43D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2B9E-54E0-4182-A1E1-50DAFDAC4B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A2FB-A7F5-4BE6-922B-AB8ABCE399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6FCD-C6F4-4BD1-93CE-B376765580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FFC3-4EF4-42FD-AE39-62AAE04F3C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152C-8874-42E4-A7A2-CC8AAC1731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E82F-7372-40B3-BCDA-E4EBDFB9F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29"/>
            </a:avLst>
          </a:prstGeom>
          <a:solidFill>
            <a:srgbClr val="ffad3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AutoShape 9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29"/>
            </a:avLst>
          </a:prstGeom>
          <a:solidFill>
            <a:srgbClr val="ffad3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sldNum" idx="1"/>
          </p:nvPr>
        </p:nvSpPr>
        <p:spPr>
          <a:xfrm>
            <a:off x="5508360" y="6524280"/>
            <a:ext cx="34160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У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ДООУ Д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 «Родничо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35"/>
          <p:cNvSpPr/>
          <p:nvPr/>
        </p:nvSpPr>
        <p:spPr>
          <a:xfrm rot="10800000">
            <a:off x="2297160" y="1627920"/>
            <a:ext cx="6407280" cy="716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WordArt 1036"/>
          <p:cNvSpPr txBox="1"/>
          <p:nvPr/>
        </p:nvSpPr>
        <p:spPr>
          <a:xfrm>
            <a:off x="5435640" y="941400"/>
            <a:ext cx="3355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Портфолио"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4" name="WordArt 1037"/>
          <p:cNvSpPr txBox="1"/>
          <p:nvPr/>
        </p:nvSpPr>
        <p:spPr>
          <a:xfrm>
            <a:off x="2306520" y="333360"/>
            <a:ext cx="643896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стиваль исследовательских и творческих работ учащихся</a:t>
            </a:r>
            <a:endParaRPr b="1" lang="en-US" sz="1200" spc="1" strike="noStrike">
              <a:ln w="1908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1041"/>
          <p:cNvSpPr txBox="1"/>
          <p:nvPr/>
        </p:nvSpPr>
        <p:spPr>
          <a:xfrm>
            <a:off x="826920" y="313992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0000cc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3d4a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Мой дом - моё здоровье</a:t>
            </a:r>
            <a:endParaRPr b="1" i="1" lang="en-US" sz="1200" spc="1" strike="noStrike">
              <a:ln w="19080">
                <a:solidFill>
                  <a:srgbClr val="0000cc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3d4a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graphicFrame>
        <p:nvGraphicFramePr>
          <p:cNvPr id="86" name="Object 1047"/>
          <p:cNvGraphicFramePr/>
          <p:nvPr/>
        </p:nvGraphicFramePr>
        <p:xfrm>
          <a:off x="214200" y="57240"/>
          <a:ext cx="213048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0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7240"/>
                    <a:ext cx="21304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050"/>
          <p:cNvSpPr/>
          <p:nvPr/>
        </p:nvSpPr>
        <p:spPr>
          <a:xfrm>
            <a:off x="2268360" y="4067280"/>
            <a:ext cx="6780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Выполнил: Андрианов Даниил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Учебное заведение: 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МОУ - СОШ № 8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класс: 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2 «Б»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Научный руководитель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: Андрианова Елена Леонидовна, учитель </a:t>
            </a:r>
            <a:r>
              <a:rPr b="1" i="1" lang="en-US" sz="2000" spc="-1" strike="noStrike">
                <a:solidFill>
                  <a:srgbClr val="006600"/>
                </a:solidFill>
                <a:latin typeface="Tahoma"/>
              </a:rPr>
              <a:t>I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 категории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Должность: 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учитель математики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Место работы: 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МОУ - СОШ № 8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WordArt 1051"/>
          <p:cNvSpPr txBox="1"/>
          <p:nvPr/>
        </p:nvSpPr>
        <p:spPr>
          <a:xfrm>
            <a:off x="1332000" y="2349360"/>
            <a:ext cx="6480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тельский проект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4" descr="IMG_1759"/>
          <p:cNvPicPr/>
          <p:nvPr/>
        </p:nvPicPr>
        <p:blipFill>
          <a:blip r:embed="rId1"/>
          <a:stretch/>
        </p:blipFill>
        <p:spPr>
          <a:xfrm>
            <a:off x="6372360" y="341316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MG_1767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380360" y="2133720"/>
            <a:ext cx="1295280" cy="97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Зарядка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1865160" y="1623960"/>
            <a:ext cx="2521080" cy="1416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Зарядка1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25520" y="1311120"/>
            <a:ext cx="1233360" cy="1729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179280" y="981000"/>
            <a:ext cx="468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тром делаем зарядку, я считаю по порядку!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176720" y="1268280"/>
            <a:ext cx="47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ищу зубы, кашу ем. Заряжаюсь на весь день! Мама четко здесь следит, халтурить мне не разрешит.</a:t>
            </a:r>
            <a:br>
              <a:rPr sz="1800"/>
            </a:b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1187280" y="307800"/>
            <a:ext cx="7056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 чего начинается утро?..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10"/>
          <p:cNvSpPr txBox="1"/>
          <p:nvPr/>
        </p:nvSpPr>
        <p:spPr>
          <a:xfrm>
            <a:off x="2627280" y="3068640"/>
            <a:ext cx="37450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прос в классе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24000" y="3357720"/>
            <a:ext cx="849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Comic Sans MS"/>
              </a:rPr>
              <a:t>Интересующие вопросы: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) Выяснить, понимают ли мои сверстник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необходимость чистки зубов по утрам?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) Всегда ли мои одноклассники чистят зубы по утрам?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3) Кто контролирует их, или напоминает им об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правилах гигиены?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250920" y="4797360"/>
            <a:ext cx="835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ОКАЗЫВАЕТСЯ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и сверстники всё знают о правилах гигиены, но однако им тоже иногда лень чистить зубы по утрам, но их мамы им тоже не дают спуска.</a:t>
            </a:r>
            <a:br>
              <a:rPr sz="1800"/>
            </a:b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95280" y="59500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менно благодаря родителям мы растём здоровыми и крепкими. Они оберегают нас от нашей спутницы лени. 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258920" y="404640"/>
            <a:ext cx="6697800" cy="6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ода- моя подруга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95280" y="981000"/>
            <a:ext cx="82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летом страсть моя вода. В бассейне вся моя семья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Picture 5" descr="25_На рек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1480" y="1397160"/>
            <a:ext cx="2630520" cy="1725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25_бассеин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20920" y="1628640"/>
            <a:ext cx="3511800" cy="3165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море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488280" y="1332000"/>
            <a:ext cx="2104920" cy="3033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7"/>
          <p:cNvSpPr/>
          <p:nvPr/>
        </p:nvSpPr>
        <p:spPr>
          <a:xfrm rot="1410600">
            <a:off x="7093080" y="1481040"/>
            <a:ext cx="1869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0000"/>
                </a:solidFill>
                <a:latin typeface="Monotype Corsiva"/>
              </a:rPr>
              <a:t>Здоровью море   </a:t>
            </a:r>
            <a:br>
              <a:rPr sz="1600"/>
            </a:br>
            <a:r>
              <a:rPr b="1" lang="ru-RU" sz="1600" spc="-1" strike="noStrike">
                <a:solidFill>
                  <a:srgbClr val="720000"/>
                </a:solidFill>
                <a:latin typeface="Monotype Corsiva"/>
              </a:rPr>
              <a:t>      помогает, от </a:t>
            </a:r>
            <a:br>
              <a:rPr sz="1600"/>
            </a:br>
            <a:r>
              <a:rPr b="1" lang="ru-RU" sz="1600" spc="-1" strike="noStrike">
                <a:solidFill>
                  <a:srgbClr val="720000"/>
                </a:solidFill>
                <a:latin typeface="Monotype Corsiva"/>
              </a:rPr>
              <a:t>         простуды </a:t>
            </a:r>
            <a:br>
              <a:rPr sz="1600"/>
            </a:br>
            <a:r>
              <a:rPr b="1" lang="ru-RU" sz="1600" spc="-1" strike="noStrike">
                <a:solidFill>
                  <a:srgbClr val="720000"/>
                </a:solidFill>
                <a:latin typeface="Monotype Corsiva"/>
              </a:rPr>
              <a:t>                 защищает.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0" name="Picture 18" descr="песок"/>
          <p:cNvPicPr/>
          <p:nvPr/>
        </p:nvPicPr>
        <p:blipFill>
          <a:blip r:embed="rId4">
            <a:lum contrast="12000"/>
          </a:blip>
          <a:stretch/>
        </p:blipFill>
        <p:spPr>
          <a:xfrm rot="20392200">
            <a:off x="617040" y="2682720"/>
            <a:ext cx="2660760" cy="199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1"/>
          <p:cNvSpPr/>
          <p:nvPr/>
        </p:nvSpPr>
        <p:spPr>
          <a:xfrm rot="20404800">
            <a:off x="286920" y="2916360"/>
            <a:ext cx="1870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На песочке я лежал, свое тело прогревал.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Rectangle 22"/>
          <p:cNvSpPr/>
          <p:nvPr/>
        </p:nvSpPr>
        <p:spPr>
          <a:xfrm rot="896400">
            <a:off x="1622160" y="1484280"/>
            <a:ext cx="1869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Monotype Corsiva"/>
              </a:rPr>
              <a:t>Черное море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395280" y="4797360"/>
            <a:ext cx="525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гда к дедушке хожу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аню с ним всегда топлю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ма веничек запарит, и всегда нам говорит: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можжевельник, пихта, ель – вот и нет в носу соплей!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24" descr="ванна8"/>
          <p:cNvPicPr/>
          <p:nvPr/>
        </p:nvPicPr>
        <p:blipFill>
          <a:blip r:embed="rId5"/>
          <a:stretch/>
        </p:blipFill>
        <p:spPr>
          <a:xfrm>
            <a:off x="5867280" y="4079880"/>
            <a:ext cx="27799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619280" y="419040"/>
            <a:ext cx="58896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Результаты проекта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04840" y="5373720"/>
            <a:ext cx="874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Проектный продук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ожет достичь поставленной цели проекта, так как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позволит мне аргументировано убед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оих друзей и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сех прочитавш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нформацию на стенде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 огромной значимости родител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созданного им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одного очаг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пор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формирован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дорового образа жизни детей, а значит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здорового общест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39640" y="1628640"/>
            <a:ext cx="453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месте с родителями я обследовал весь дом: узнал о пользе продуктов, которые ем, провёл интересные эксперименты, проанализировал свой образ жизни и пообщался на тему здоровья с одноклассниками. И теперь могу сделать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ыво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что мои родители правы, когда говорят, что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мой дом крепость моего здоровь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Я теперь знаю в чём секрет здоровья, знаю, как его поддерживать и укреплять. С удовольствием поделюсь этими секретами со всеми желающими.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8" name="Picture 6" descr="IMG_2556"/>
          <p:cNvPicPr/>
          <p:nvPr/>
        </p:nvPicPr>
        <p:blipFill>
          <a:blip r:embed="rId1"/>
          <a:stretch/>
        </p:blipFill>
        <p:spPr>
          <a:xfrm>
            <a:off x="5219640" y="1125360"/>
            <a:ext cx="3238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187280" y="1268280"/>
            <a:ext cx="763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Если в доме тепло,</a:t>
            </a:r>
            <a:br>
              <a:rPr sz="2300"/>
            </a:br>
            <a:br>
              <a:rPr sz="1500"/>
            </a:b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Воздух свеж и уют</a:t>
            </a:r>
            <a:br>
              <a:rPr sz="2300"/>
            </a:br>
            <a:br>
              <a:rPr sz="1000"/>
            </a:b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И полезные блюда на кухне вас ждут.</a:t>
            </a:r>
            <a:br>
              <a:rPr sz="2300"/>
            </a:br>
            <a:br>
              <a:rPr sz="1500"/>
            </a:b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Если спорт твой товарищ и подруга вода.</a:t>
            </a:r>
            <a:endParaRPr b="1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3274920" y="360360"/>
            <a:ext cx="24494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ыводы: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755640" y="1268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1619280" y="3602160"/>
            <a:ext cx="561672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 твой дом - твоя крепость!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болезнь не страшна.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782640" y="4756320"/>
            <a:ext cx="763272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Мой дом - моё здоровье"</a:t>
            </a:r>
            <a:endParaRPr b="1" lang="en-US" sz="12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95280" y="544500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Уверен в этом я.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Теперь я понял важность родного очага.</a:t>
            </a:r>
            <a:endParaRPr b="1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755640" y="18018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9"/>
          <p:cNvSpPr txBox="1"/>
          <p:nvPr/>
        </p:nvSpPr>
        <p:spPr>
          <a:xfrm>
            <a:off x="755640" y="233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10"/>
          <p:cNvSpPr txBox="1"/>
          <p:nvPr/>
        </p:nvSpPr>
        <p:spPr>
          <a:xfrm>
            <a:off x="755640" y="29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4"/>
          <p:cNvSpPr txBox="1"/>
          <p:nvPr/>
        </p:nvSpPr>
        <p:spPr>
          <a:xfrm>
            <a:off x="2268360" y="360360"/>
            <a:ext cx="47516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Актуальность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1619280" y="981000"/>
            <a:ext cx="720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Comic Sans MS"/>
              </a:rPr>
              <a:t>Я не люблю болеть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орькие лекарства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вялое настроени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постоянно надо полоскать горл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и что ещё хуже делать уколы и лежать в кровати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468360" y="2781360"/>
            <a:ext cx="835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олезнь отрывает от интересных дел, разлучает с друзьями: </a:t>
            </a:r>
            <a:br>
              <a:rPr sz="2000"/>
            </a:br>
            <a:br>
              <a:rPr sz="1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этому мне очень важно узнать: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395280" y="4149720"/>
            <a:ext cx="849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ак как оно залог хорошего и бодрого настроения и источник сил, которые необходимы, чтобы узнавать новое и интересно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доровье как ключик, который открывает дверь в счастливое и интересное детств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этот ключик хочет найти каждый, желающий сохранить своё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здоровье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, которое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не купить ни за какие деньг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WordArt 18"/>
          <p:cNvSpPr txBox="1"/>
          <p:nvPr/>
        </p:nvSpPr>
        <p:spPr>
          <a:xfrm>
            <a:off x="1763640" y="3689280"/>
            <a:ext cx="56167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чём секрет здоровья и где его искать?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0" descr="J0198790"/>
          <p:cNvPicPr/>
          <p:nvPr/>
        </p:nvPicPr>
        <p:blipFill>
          <a:blip r:embed="rId1"/>
          <a:stretch/>
        </p:blipFill>
        <p:spPr>
          <a:xfrm>
            <a:off x="-108000" y="4400640"/>
            <a:ext cx="2160720" cy="2371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23"/>
          <p:cNvSpPr txBox="1"/>
          <p:nvPr/>
        </p:nvSpPr>
        <p:spPr>
          <a:xfrm>
            <a:off x="2843280" y="260280"/>
            <a:ext cx="360036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Гипотеза: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AutoShape 28"/>
          <p:cNvSpPr/>
          <p:nvPr/>
        </p:nvSpPr>
        <p:spPr>
          <a:xfrm rot="21314400">
            <a:off x="404280" y="1339920"/>
            <a:ext cx="3759480" cy="237636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м, в котором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живу.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AutoShape 29"/>
          <p:cNvSpPr/>
          <p:nvPr/>
        </p:nvSpPr>
        <p:spPr>
          <a:xfrm rot="681000">
            <a:off x="4427640" y="1125000"/>
            <a:ext cx="4371840" cy="30258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WordArt 36"/>
          <p:cNvSpPr txBox="1"/>
          <p:nvPr/>
        </p:nvSpPr>
        <p:spPr>
          <a:xfrm>
            <a:off x="927000" y="3689280"/>
            <a:ext cx="15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2521080" y="3645000"/>
            <a:ext cx="58910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ыть секрет здорового образа жизни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WordArt 38"/>
          <p:cNvSpPr txBox="1"/>
          <p:nvPr/>
        </p:nvSpPr>
        <p:spPr>
          <a:xfrm>
            <a:off x="395280" y="4121280"/>
            <a:ext cx="2089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2494080" y="4076640"/>
            <a:ext cx="6181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месте с мамой и папой обследовать нашу квартиру и узнать: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2771640" y="4705200"/>
            <a:ext cx="602964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ствуют ли созданные условия здоровому образу жизни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ли считать наш дом крепостью здоровья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879120"/>
            <a:ext cx="80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Мои родители считают, что «мой дом – крепость моего здоровья».</a:t>
            </a:r>
            <a:endParaRPr b="1" lang="en-US" sz="26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05" name="Rectangle 41"/>
          <p:cNvSpPr/>
          <p:nvPr/>
        </p:nvSpPr>
        <p:spPr>
          <a:xfrm rot="673200">
            <a:off x="4927680" y="2382840"/>
            <a:ext cx="3240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ща, которую я кушаю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ловия в доме 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й образ жизни.</a:t>
            </a:r>
            <a:br>
              <a:rPr sz="1600"/>
            </a:b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WordArt 42"/>
          <p:cNvSpPr txBox="1"/>
          <p:nvPr/>
        </p:nvSpPr>
        <p:spPr>
          <a:xfrm rot="694200">
            <a:off x="5265720" y="2222640"/>
            <a:ext cx="297828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редмет исследования</a:t>
            </a:r>
            <a:endParaRPr b="1" lang="en-US" sz="12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07" name="WordArt 43"/>
          <p:cNvSpPr txBox="1"/>
          <p:nvPr/>
        </p:nvSpPr>
        <p:spPr>
          <a:xfrm rot="21304200">
            <a:off x="777960" y="2217240"/>
            <a:ext cx="273852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бъект исследования</a:t>
            </a:r>
            <a:endParaRPr b="1" lang="en-US" sz="1200" spc="1" strike="noStrike">
              <a:ln w="15840">
                <a:solidFill>
                  <a:srgbClr val="ff66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08" name="Rectangle 44"/>
          <p:cNvSpPr/>
          <p:nvPr/>
        </p:nvSpPr>
        <p:spPr>
          <a:xfrm>
            <a:off x="2487600" y="5602320"/>
            <a:ext cx="66373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яснить отношение сверстников к здоровому образу жизни, кто заботится об их здоровье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971640" y="403200"/>
            <a:ext cx="69850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роха сын к отцу пришёл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79360" y="1039680"/>
            <a:ext cx="842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И спросила кроха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Почему так говорят: мой дом – моё здоровье?»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24000" y="587700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Comic Sans MS"/>
              </a:rPr>
              <a:t>Папочка меня обнял и с улыбкою сказал: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Давай-ка дом наш обойдём и ответ с тобой найдём»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Picture 7" descr="1_Кроха сын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116000" y="1811160"/>
            <a:ext cx="66960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684360" y="476280"/>
            <a:ext cx="784836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ния на кухне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38040" y="1039680"/>
            <a:ext cx="842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3_загляни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016680" y="3500280"/>
            <a:ext cx="2442960" cy="3024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187280" y="3860640"/>
            <a:ext cx="403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сь холодильник я изучил и навсегда для себя уяснил:</a:t>
            </a:r>
            <a:r>
              <a:rPr b="1" lang="ru-RU" sz="2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«Белки, витамины, жиры, углеводы в питании очень нужны и для здоровья важны»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38040" y="1025640"/>
            <a:ext cx="842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49560" indent="-394956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Comic Sans MS"/>
              </a:rPr>
              <a:t>С папой мы пришли на кухню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мама варит нам обед. </a:t>
            </a:r>
            <a:br>
              <a:rPr sz="2000"/>
            </a:br>
            <a:br>
              <a:rPr sz="1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ахнет  очень, очень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кусно. Борщ сегодн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обед.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276720" y="2387520"/>
            <a:ext cx="478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уп полезен всем, всем, всем.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Ем его я каждый день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9" descr="2_мама варит обед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330200" y="1484280"/>
            <a:ext cx="1729080" cy="1533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"/>
          <p:cNvSpPr/>
          <p:nvPr/>
        </p:nvSpPr>
        <p:spPr>
          <a:xfrm>
            <a:off x="252720" y="3100320"/>
            <a:ext cx="791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Comic Sans MS"/>
              </a:rPr>
              <a:t>С улыбкой мама предложила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«В  холодильник  загляни,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езную еду найди»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1042920" y="909720"/>
            <a:ext cx="23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ксперимент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684360" y="1400040"/>
            <a:ext cx="36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оддувает ли холодный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оздух в окна и двери? 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52440" y="312408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Arial"/>
              </a:rPr>
              <a:t>Проверяем окна: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411280" y="3124080"/>
            <a:ext cx="23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Comic Sans MS"/>
              </a:rPr>
              <a:t>Проверяем двери: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79280" y="1989000"/>
            <a:ext cx="42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 помощью свеч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оверим надежност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верных и оконных проёмов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доме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24000" y="486900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кна, двери на замок, не войдёт к нам холодок. Свечкой всё перепроверил. Нет в квартире сквозняка. Значит нам в квартире нашей не страшна теперь зима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12" descr="13_проверяем окна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" y="3444840"/>
            <a:ext cx="1811160" cy="1290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14_проверяем двери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85880" y="3444840"/>
            <a:ext cx="1727280" cy="1352520"/>
          </a:xfrm>
          <a:prstGeom prst="rect">
            <a:avLst/>
          </a:prstGeom>
          <a:ln w="0">
            <a:noFill/>
          </a:ln>
        </p:spPr>
      </p:pic>
      <p:sp>
        <p:nvSpPr>
          <p:cNvPr id="129" name="WordArt 18"/>
          <p:cNvSpPr txBox="1"/>
          <p:nvPr/>
        </p:nvSpPr>
        <p:spPr>
          <a:xfrm>
            <a:off x="395280" y="231840"/>
            <a:ext cx="828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ние условий в доме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Rectangle 19"/>
          <p:cNvSpPr/>
          <p:nvPr/>
        </p:nvSpPr>
        <p:spPr>
          <a:xfrm rot="16200000">
            <a:off x="2233440" y="3754440"/>
            <a:ext cx="4896000" cy="698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WordArt 20"/>
          <p:cNvSpPr txBox="1"/>
          <p:nvPr/>
        </p:nvSpPr>
        <p:spPr>
          <a:xfrm>
            <a:off x="5364000" y="905040"/>
            <a:ext cx="23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ксперимент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21"/>
          <p:cNvSpPr txBox="1"/>
          <p:nvPr/>
        </p:nvSpPr>
        <p:spPr>
          <a:xfrm>
            <a:off x="5148360" y="1411200"/>
            <a:ext cx="324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ак надо одеваться,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если дома +24 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4356000" y="1916280"/>
            <a:ext cx="25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Arial"/>
              </a:rPr>
              <a:t>Условия: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дел толстовку, шерстяные носки и теплые брюки.</a:t>
            </a:r>
            <a:endParaRPr b="1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6516720" y="192888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Arial"/>
              </a:rPr>
              <a:t>Условия: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дел носочк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лёгкую футбол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 шорты.</a:t>
            </a:r>
            <a:endParaRPr b="1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24" descr="17_одет не по погоде"/>
          <p:cNvPicPr/>
          <p:nvPr/>
        </p:nvPicPr>
        <p:blipFill>
          <a:blip r:embed="rId3">
            <a:lum contrast="24000"/>
            <a:alphaModFix amt="50000"/>
          </a:blip>
          <a:stretch/>
        </p:blipFill>
        <p:spPr>
          <a:xfrm>
            <a:off x="4932360" y="2924280"/>
            <a:ext cx="1473120" cy="2201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6_одет по погоде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948360" y="2924280"/>
            <a:ext cx="1649520" cy="2201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6"/>
          <p:cNvSpPr/>
          <p:nvPr/>
        </p:nvSpPr>
        <p:spPr>
          <a:xfrm>
            <a:off x="4788000" y="5157720"/>
            <a:ext cx="40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ужно одеваться в шортики и футболку. Иначе можно вспотеть. А это может привести к простуде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10_зал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1052640"/>
            <a:ext cx="3384720" cy="3084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3851280" y="981000"/>
            <a:ext cx="47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усть мамины цветы растут, уют в квартире создают.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995640" y="1700280"/>
            <a:ext cx="6050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Кислород обогащают,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настроенье поднимают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WordArt 12"/>
          <p:cNvSpPr txBox="1"/>
          <p:nvPr/>
        </p:nvSpPr>
        <p:spPr>
          <a:xfrm>
            <a:off x="407880" y="282600"/>
            <a:ext cx="828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ние условий в доме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Picture 6" descr="15_Цветы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492360" y="2276640"/>
            <a:ext cx="2057400" cy="2232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395280" y="4581360"/>
            <a:ext cx="5473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сли душно в доме станет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вовсе не бед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амочка окно откроет и проветрит вес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ш дом: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все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микробы </a:t>
            </a: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улетят, нам они не навредят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14" descr="Проветривание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046920" y="3789360"/>
            <a:ext cx="2412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18_на веранде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700360" y="1268280"/>
            <a:ext cx="5883120" cy="50101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4"/>
          <p:cNvSpPr txBox="1"/>
          <p:nvPr/>
        </p:nvSpPr>
        <p:spPr>
          <a:xfrm>
            <a:off x="404640" y="345960"/>
            <a:ext cx="83520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ние моего образа жизни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24000" y="2133720"/>
            <a:ext cx="25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 сейчас  зову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ас  в  гости  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й    большой спортивный зал. Папа под  него веранду  в доме мне  арендовал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1533600" y="307800"/>
            <a:ext cx="63370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порт  - мой товарищ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23720" y="922320"/>
            <a:ext cx="828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гу по канату забраться, могу и на кольцах качаться, могу подтянуться, с мячом поиграть, в перчатках боксирова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дротик метать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14" descr="23_бокс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627280" y="1700280"/>
            <a:ext cx="1087560" cy="1297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Фут"/>
          <p:cNvPicPr/>
          <p:nvPr/>
        </p:nvPicPr>
        <p:blipFill>
          <a:blip r:embed="rId2"/>
          <a:stretch/>
        </p:blipFill>
        <p:spPr>
          <a:xfrm>
            <a:off x="6602400" y="2247840"/>
            <a:ext cx="2160720" cy="134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4" descr="20_на кольцах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1763640" y="2828880"/>
            <a:ext cx="1182600" cy="1077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9_по канату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1258920" y="1700280"/>
            <a:ext cx="1019160" cy="1271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22_с мячом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41280" y="2565360"/>
            <a:ext cx="984240" cy="130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24_дротик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3619440" y="2492280"/>
            <a:ext cx="1009800" cy="1368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2"/>
          <p:cNvSpPr/>
          <p:nvPr/>
        </p:nvSpPr>
        <p:spPr>
          <a:xfrm>
            <a:off x="4576680" y="1844640"/>
            <a:ext cx="446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жу я с папой на футбол, ему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 забиваю гол!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Rectangle 31"/>
          <p:cNvSpPr/>
          <p:nvPr/>
        </p:nvSpPr>
        <p:spPr>
          <a:xfrm>
            <a:off x="250920" y="3860640"/>
            <a:ext cx="2795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аба ролики купила и кататься научила. 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2857680" y="3860640"/>
            <a:ext cx="3730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 дедом в теннис я играю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общем, я не унываю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Picture 33" descr="Рол"/>
          <p:cNvPicPr/>
          <p:nvPr/>
        </p:nvPicPr>
        <p:blipFill>
          <a:blip r:embed="rId7"/>
          <a:stretch/>
        </p:blipFill>
        <p:spPr>
          <a:xfrm>
            <a:off x="839880" y="4508640"/>
            <a:ext cx="1585800" cy="1950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4" descr="Тен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4189320" y="4510080"/>
            <a:ext cx="1174680" cy="1943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5"/>
          <p:cNvSpPr/>
          <p:nvPr/>
        </p:nvSpPr>
        <p:spPr>
          <a:xfrm rot="16200000">
            <a:off x="1908720" y="5134320"/>
            <a:ext cx="2303640" cy="698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5435640" y="4653000"/>
            <a:ext cx="338436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ывод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порт - как доктор от хандры, для задорной детвор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илу духа поднимает, организм наш закаляет.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0:47:32Z</dcterms:created>
  <dc:creator>Андрианова Елена Леонидовна</dc:creator>
  <dc:description/>
  <dc:language>en-US</dc:language>
  <cp:lastModifiedBy>Пользователь</cp:lastModifiedBy>
  <dcterms:modified xsi:type="dcterms:W3CDTF">2013-07-06T10:54:37Z</dcterms:modified>
  <cp:revision>175</cp:revision>
  <dc:subject/>
  <dc:title>[Предприятие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