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7.png" ContentType="image/png"/>
  <Override PartName="/ppt/media/image4.jpeg" ContentType="image/jpeg"/>
  <Override PartName="/ppt/media/image22.gif" ContentType="image/gif"/>
  <Override PartName="/ppt/media/image21.png" ContentType="image/png"/>
  <Override PartName="/ppt/media/image19.png" ContentType="image/png"/>
  <Override PartName="/ppt/media/image18.jpeg" ContentType="image/jpeg"/>
  <Override PartName="/ppt/media/image3.jpeg" ContentType="image/jpeg"/>
  <Override PartName="/ppt/media/image15.png" ContentType="image/png"/>
  <Override PartName="/ppt/media/image23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B30-1140-4726-A23E-65999293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04D-A827-4C7A-A1DA-081F2EFC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A05-FD0D-4D34-849C-969600B5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792-2549-4A46-BB14-2576927B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D8B5-677A-4963-ADF2-B4D93E73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E92D-AEF4-4C71-B3FA-2987286C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5299-EB64-40E6-BAD4-D5E930B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340A-6C94-4CC6-9C6E-E116100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7D3-1B45-4C0F-93AB-7912F055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A974-BB9E-4DF9-A5EB-F19F1410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B164-FDA4-4914-933A-15A1EF3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E5D-172F-401B-806C-4176771B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064E-3DAB-4217-903F-120F4C42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1E26-D1AF-42A1-B7EF-578FC374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DB63-4B33-4C49-B2FA-3EFC9F9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6EB2-8C50-458B-83A2-3079DE7F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57FE-C7C8-42AF-A70A-DCDEFB42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BD2-4120-44C2-9948-F4D92D96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6BF-B5E2-4846-BE77-760DE28A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85F-F21D-4649-9D59-13B61410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5BB-B658-4B1F-9447-5497B0D8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088-607F-40DA-A903-A838ED1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1E7-D7BF-4B47-BE24-0942856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23D-97C7-47BE-8C64-3AB0900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3" name="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687160" y="353520"/>
            <a:ext cx="202680" cy="6504120"/>
            <a:chOff x="8687160" y="35352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 rot="10800000">
              <a:off x="8686800" y="35352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0800000">
              <a:off x="8813520" y="60120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9" name="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12" name=""/>
            <p:cNvSpPr/>
            <p:nvPr/>
          </p:nvSpPr>
          <p:spPr>
            <a:xfrm flipH="1" rot="5400000">
              <a:off x="5562720" y="347904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5400000">
              <a:off x="5699880" y="346284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0A4A-4AFA-4E0E-AAE7-4DDD82F8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415080" y="184680"/>
            <a:ext cx="651240" cy="1034640"/>
            <a:chOff x="415080" y="184680"/>
            <a:chExt cx="651240" cy="1034640"/>
          </a:xfrm>
        </p:grpSpPr>
        <p:sp>
          <p:nvSpPr>
            <p:cNvPr id="19" name=""/>
            <p:cNvSpPr/>
            <p:nvPr/>
          </p:nvSpPr>
          <p:spPr>
            <a:xfrm>
              <a:off x="416160" y="184680"/>
              <a:ext cx="650160" cy="1028880"/>
            </a:xfrm>
            <a:custGeom>
              <a:avLst/>
              <a:gdLst/>
              <a:ahLst/>
              <a:rect l="l" t="t" r="r" b="b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5280" y="684720"/>
              <a:ext cx="110520" cy="19440"/>
            </a:xfrm>
            <a:custGeom>
              <a:avLst/>
              <a:gdLst/>
              <a:ahLst/>
              <a:rect l="l" t="t" r="r" b="b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7600" y="684720"/>
              <a:ext cx="74160" cy="1764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89480" y="686880"/>
              <a:ext cx="44280" cy="15480"/>
            </a:xfrm>
            <a:custGeom>
              <a:avLst/>
              <a:gdLst/>
              <a:ahLst/>
              <a:rect l="l" t="t" r="r" b="b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1000" y="687600"/>
              <a:ext cx="20880" cy="136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9320" y="264960"/>
              <a:ext cx="83520" cy="190800"/>
            </a:xfrm>
            <a:custGeom>
              <a:avLst/>
              <a:gdLst/>
              <a:ahLst/>
              <a:rect l="l" t="t" r="r" b="b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1440" y="266040"/>
              <a:ext cx="36000" cy="186120"/>
            </a:xfrm>
            <a:custGeom>
              <a:avLst/>
              <a:gdLst/>
              <a:ahLst/>
              <a:rect l="l" t="t" r="r" b="b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2200" y="266040"/>
              <a:ext cx="36000" cy="188640"/>
            </a:xfrm>
            <a:custGeom>
              <a:avLst/>
              <a:gdLst/>
              <a:ahLst/>
              <a:rect l="l" t="t" r="r" b="b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62840" y="199440"/>
              <a:ext cx="87120" cy="63000"/>
            </a:xfrm>
            <a:custGeom>
              <a:avLst/>
              <a:gdLst/>
              <a:ahLst/>
              <a:rect l="l" t="t" r="r" b="b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9000" y="266040"/>
              <a:ext cx="25200" cy="185040"/>
            </a:xfrm>
            <a:custGeom>
              <a:avLst/>
              <a:gdLst/>
              <a:ahLst/>
              <a:rect l="l" t="t" r="r" b="b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78680" y="266040"/>
              <a:ext cx="23040" cy="188640"/>
            </a:xfrm>
            <a:custGeom>
              <a:avLst/>
              <a:gdLst/>
              <a:ahLst/>
              <a:rect l="l" t="t" r="r" b="b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77600" y="200520"/>
              <a:ext cx="56160" cy="60840"/>
            </a:xfrm>
            <a:custGeom>
              <a:avLst/>
              <a:gdLst/>
              <a:ahLst/>
              <a:rect l="l" t="t" r="r" b="b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22240" y="266040"/>
              <a:ext cx="16920" cy="185040"/>
            </a:xfrm>
            <a:custGeom>
              <a:avLst/>
              <a:gdLst/>
              <a:ahLst/>
              <a:rect l="l" t="t" r="r" b="b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83000" y="266040"/>
              <a:ext cx="12600" cy="186840"/>
            </a:xfrm>
            <a:custGeom>
              <a:avLst/>
              <a:gdLst/>
              <a:ahLst/>
              <a:rect l="l" t="t" r="r" b="b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4880" y="200520"/>
              <a:ext cx="28440" cy="59040"/>
            </a:xfrm>
            <a:custGeom>
              <a:avLst/>
              <a:gdLst/>
              <a:ahLst/>
              <a:rect l="l" t="t" r="r" b="b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05320" y="200520"/>
              <a:ext cx="9360" cy="59040"/>
            </a:xfrm>
            <a:custGeom>
              <a:avLst/>
              <a:gdLst/>
              <a:ahLst/>
              <a:rect l="l" t="t" r="r" b="b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30920" y="476280"/>
              <a:ext cx="299520" cy="473040"/>
            </a:xfrm>
            <a:custGeom>
              <a:avLst/>
              <a:gdLst/>
              <a:ahLst/>
              <a:rect l="l" t="t" r="r" b="b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15080" y="923760"/>
              <a:ext cx="534240" cy="295200"/>
            </a:xfrm>
            <a:custGeom>
              <a:avLst/>
              <a:gdLst/>
              <a:ahLst/>
              <a:rect l="l" t="t" r="r" b="b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31000" y="879480"/>
              <a:ext cx="403920" cy="46080"/>
            </a:xfrm>
            <a:custGeom>
              <a:avLst/>
              <a:gdLst/>
              <a:ahLst/>
              <a:rect l="l" t="t" r="r" b="b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47880" y="1135080"/>
              <a:ext cx="34920" cy="84240"/>
            </a:xfrm>
            <a:custGeom>
              <a:avLst/>
              <a:gdLst/>
              <a:ahLst/>
              <a:rect l="l" t="t" r="r" b="b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45440" y="1044360"/>
              <a:ext cx="20160" cy="7956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25200" y="821160"/>
              <a:ext cx="113760" cy="107280"/>
            </a:xfrm>
            <a:custGeom>
              <a:avLst/>
              <a:gdLst/>
              <a:ahLst/>
              <a:rect l="l" t="t" r="r" b="b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50960" y="476280"/>
              <a:ext cx="135720" cy="207360"/>
            </a:xfrm>
            <a:custGeom>
              <a:avLst/>
              <a:gdLst/>
              <a:ahLst/>
              <a:rect l="l" t="t" r="r" b="b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280" y="477360"/>
              <a:ext cx="128520" cy="206640"/>
            </a:xfrm>
            <a:custGeom>
              <a:avLst/>
              <a:gdLst/>
              <a:ahLst/>
              <a:rect l="l" t="t" r="r" b="b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59600" y="477360"/>
              <a:ext cx="119880" cy="206640"/>
            </a:xfrm>
            <a:custGeom>
              <a:avLst/>
              <a:gdLst/>
              <a:ahLst/>
              <a:rect l="l" t="t" r="r" b="b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5000" y="477360"/>
              <a:ext cx="111240" cy="206640"/>
            </a:xfrm>
            <a:custGeom>
              <a:avLst/>
              <a:gdLst/>
              <a:ahLst/>
              <a:rect l="l" t="t" r="r" b="b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0040" y="477360"/>
              <a:ext cx="104040" cy="206640"/>
            </a:xfrm>
            <a:custGeom>
              <a:avLst/>
              <a:gdLst/>
              <a:ahLst/>
              <a:rect l="l" t="t" r="r" b="b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4360" y="477360"/>
              <a:ext cx="96480" cy="206640"/>
            </a:xfrm>
            <a:custGeom>
              <a:avLst/>
              <a:gdLst/>
              <a:ahLst/>
              <a:rect l="l" t="t" r="r" b="b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8680" y="478440"/>
              <a:ext cx="88200" cy="205560"/>
            </a:xfrm>
            <a:custGeom>
              <a:avLst/>
              <a:gdLst/>
              <a:ahLst/>
              <a:rect l="l" t="t" r="r" b="b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3720" y="478440"/>
              <a:ext cx="79560" cy="205560"/>
            </a:xfrm>
            <a:custGeom>
              <a:avLst/>
              <a:gdLst/>
              <a:ahLst/>
              <a:rect l="l" t="t" r="r" b="b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89480" y="479160"/>
              <a:ext cx="70920" cy="204480"/>
            </a:xfrm>
            <a:custGeom>
              <a:avLst/>
              <a:gdLst/>
              <a:ahLst/>
              <a:rect l="l" t="t" r="r" b="b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880" y="479160"/>
              <a:ext cx="63360" cy="204480"/>
            </a:xfrm>
            <a:custGeom>
              <a:avLst/>
              <a:gdLst/>
              <a:ahLst/>
              <a:rect l="l" t="t" r="r" b="b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8840" y="479160"/>
              <a:ext cx="55080" cy="204480"/>
            </a:xfrm>
            <a:custGeom>
              <a:avLst/>
              <a:gdLst/>
              <a:ahLst/>
              <a:rect l="l" t="t" r="r" b="b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3160" y="479160"/>
              <a:ext cx="47520" cy="204480"/>
            </a:xfrm>
            <a:custGeom>
              <a:avLst/>
              <a:gdLst/>
              <a:ahLst/>
              <a:rect l="l" t="t" r="r" b="b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0920" y="550440"/>
              <a:ext cx="52200" cy="122040"/>
            </a:xfrm>
            <a:custGeom>
              <a:avLst/>
              <a:gdLst/>
              <a:ahLst/>
              <a:rect l="l" t="t" r="r" b="b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920" y="451440"/>
              <a:ext cx="133560" cy="20880"/>
            </a:xfrm>
            <a:custGeom>
              <a:avLst/>
              <a:gdLst/>
              <a:ahLst/>
              <a:rect l="l" t="t" r="r" b="b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8920" y="458640"/>
              <a:ext cx="109080" cy="1188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1280" y="653400"/>
              <a:ext cx="158040" cy="73800"/>
            </a:xfrm>
            <a:custGeom>
              <a:avLst/>
              <a:gdLst/>
              <a:ahLst/>
              <a:rect l="l" t="t" r="r" b="b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1480" y="452160"/>
              <a:ext cx="91080" cy="18360"/>
            </a:xfrm>
            <a:custGeom>
              <a:avLst/>
              <a:gdLst/>
              <a:ahLst/>
              <a:rect l="l" t="t" r="r" b="b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1240" y="458640"/>
              <a:ext cx="73440" cy="1188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2240" y="661680"/>
              <a:ext cx="108360" cy="53280"/>
            </a:xfrm>
            <a:custGeom>
              <a:avLst/>
              <a:gdLst/>
              <a:ahLst/>
              <a:rect l="l" t="t" r="r" b="b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6240" y="454320"/>
              <a:ext cx="55080" cy="15480"/>
            </a:xfrm>
            <a:custGeom>
              <a:avLst/>
              <a:gdLst/>
              <a:ahLst/>
              <a:rect l="l" t="t" r="r" b="b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760" y="458640"/>
              <a:ext cx="43560" cy="1188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8080" y="671760"/>
              <a:ext cx="68040" cy="3600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1000" y="455040"/>
              <a:ext cx="25200" cy="1368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640" y="458640"/>
              <a:ext cx="20160" cy="118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55360" y="678240"/>
              <a:ext cx="32760" cy="2304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1440" y="763560"/>
              <a:ext cx="43560" cy="3204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9920" y="744120"/>
              <a:ext cx="63360" cy="1476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9000" y="763560"/>
              <a:ext cx="26280" cy="3204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1440" y="744120"/>
              <a:ext cx="38160" cy="1476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560" y="763560"/>
              <a:ext cx="11520" cy="3204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2240" y="744120"/>
              <a:ext cx="16920" cy="1476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0280" y="726480"/>
              <a:ext cx="57600" cy="5076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2920" y="711720"/>
              <a:ext cx="61200" cy="50760"/>
            </a:xfrm>
            <a:custGeom>
              <a:avLst/>
              <a:gdLst/>
              <a:ahLst/>
              <a:rect l="l" t="t" r="r" b="b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43560" y="700560"/>
              <a:ext cx="44280" cy="3132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5320" y="727560"/>
              <a:ext cx="39240" cy="41400"/>
            </a:xfrm>
            <a:custGeom>
              <a:avLst/>
              <a:gdLst/>
              <a:ahLst/>
              <a:rect l="l" t="t" r="r" b="b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63720" y="721080"/>
              <a:ext cx="45360" cy="406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50760" y="708120"/>
              <a:ext cx="31680" cy="2124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02160" y="730080"/>
              <a:ext cx="25200" cy="3312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3080" y="726480"/>
              <a:ext cx="29880" cy="3060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60480" y="712440"/>
              <a:ext cx="14760" cy="129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4440" y="708840"/>
              <a:ext cx="60480" cy="36720"/>
            </a:xfrm>
            <a:custGeom>
              <a:avLst/>
              <a:gdLst/>
              <a:ahLst/>
              <a:rect l="l" t="t" r="r" b="b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83080" y="709920"/>
              <a:ext cx="41400" cy="2772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0280" y="712440"/>
              <a:ext cx="21240" cy="1548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8840" y="669240"/>
              <a:ext cx="161280" cy="70200"/>
            </a:xfrm>
            <a:custGeom>
              <a:avLst/>
              <a:gdLst/>
              <a:ahLst/>
              <a:rect l="l" t="t" r="r" b="b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7640" y="718920"/>
              <a:ext cx="47880" cy="1944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28440" y="684720"/>
              <a:ext cx="42480" cy="3024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4880" y="480960"/>
              <a:ext cx="106200" cy="101880"/>
            </a:xfrm>
            <a:custGeom>
              <a:avLst/>
              <a:gdLst/>
              <a:ahLst/>
              <a:rect l="l" t="t" r="r" b="b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1360" y="604080"/>
              <a:ext cx="42120" cy="4068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1760" y="957240"/>
              <a:ext cx="58320" cy="55440"/>
            </a:xfrm>
            <a:custGeom>
              <a:avLst/>
              <a:gdLst/>
              <a:ahLst/>
              <a:rect l="l" t="t" r="r" b="b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080" y="838800"/>
              <a:ext cx="45720" cy="2664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00" y="805320"/>
              <a:ext cx="36000" cy="2016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280" y="480960"/>
              <a:ext cx="107280" cy="101880"/>
            </a:xfrm>
            <a:custGeom>
              <a:avLst/>
              <a:gdLst/>
              <a:ahLst/>
              <a:rect l="l" t="t" r="r" b="b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440" y="482040"/>
              <a:ext cx="99720" cy="96120"/>
            </a:xfrm>
            <a:custGeom>
              <a:avLst/>
              <a:gdLst/>
              <a:ahLst/>
              <a:rect l="l" t="t" r="r" b="b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5520" y="483120"/>
              <a:ext cx="93240" cy="89640"/>
            </a:xfrm>
            <a:custGeom>
              <a:avLst/>
              <a:gdLst/>
              <a:ahLst/>
              <a:rect l="l" t="t" r="r" b="b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7320" y="483840"/>
              <a:ext cx="87120" cy="83160"/>
            </a:xfrm>
            <a:custGeom>
              <a:avLst/>
              <a:gdLst/>
              <a:ahLst/>
              <a:rect l="l" t="t" r="r" b="b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8760" y="484560"/>
              <a:ext cx="80640" cy="76680"/>
            </a:xfrm>
            <a:custGeom>
              <a:avLst/>
              <a:gdLst/>
              <a:ahLst/>
              <a:rect l="l" t="t" r="r" b="b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0920" y="486720"/>
              <a:ext cx="74160" cy="70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720" y="487440"/>
              <a:ext cx="66960" cy="63720"/>
            </a:xfrm>
            <a:custGeom>
              <a:avLst/>
              <a:gdLst/>
              <a:ahLst/>
              <a:rect l="l" t="t" r="r" b="b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800" y="488520"/>
              <a:ext cx="60480" cy="5832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6320" y="489240"/>
              <a:ext cx="54000" cy="5184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040" y="490320"/>
              <a:ext cx="47880" cy="4608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8480" y="491040"/>
              <a:ext cx="42120" cy="396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0280" y="492120"/>
              <a:ext cx="34920" cy="3312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80" y="606960"/>
              <a:ext cx="42480" cy="4068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920" y="606960"/>
              <a:ext cx="39240" cy="3852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1640" y="608040"/>
              <a:ext cx="37080" cy="3492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640" y="608040"/>
              <a:ext cx="34920" cy="3312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2720" y="608760"/>
              <a:ext cx="32040" cy="3060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2720" y="609840"/>
              <a:ext cx="29880" cy="2772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3800" y="609840"/>
              <a:ext cx="26280" cy="2484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800" y="609840"/>
              <a:ext cx="24120" cy="2304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6320" y="610560"/>
              <a:ext cx="20880" cy="2016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6320" y="610560"/>
              <a:ext cx="18720" cy="183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040" y="610560"/>
              <a:ext cx="15840" cy="165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040" y="611640"/>
              <a:ext cx="13680" cy="126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7000" y="960120"/>
              <a:ext cx="58320" cy="55440"/>
            </a:xfrm>
            <a:custGeom>
              <a:avLst/>
              <a:gdLst/>
              <a:ahLst/>
              <a:rect l="l" t="t" r="r" b="b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720" y="960840"/>
              <a:ext cx="54000" cy="5184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9160" y="960840"/>
              <a:ext cx="50760" cy="4896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9880" y="961560"/>
              <a:ext cx="46440" cy="4536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9880" y="961560"/>
              <a:ext cx="44280" cy="424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1320" y="962640"/>
              <a:ext cx="39960" cy="3780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2040" y="963720"/>
              <a:ext cx="37080" cy="352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480" y="963720"/>
              <a:ext cx="32760" cy="3240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00" y="964800"/>
              <a:ext cx="28440" cy="2772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4200" y="964800"/>
              <a:ext cx="26280" cy="2484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280" y="965520"/>
              <a:ext cx="23040" cy="20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360" y="965520"/>
              <a:ext cx="18720" cy="183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6160" y="834120"/>
              <a:ext cx="44280" cy="1908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8320" y="834120"/>
              <a:ext cx="42120" cy="183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9400" y="834120"/>
              <a:ext cx="40320" cy="176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560" y="834120"/>
              <a:ext cx="37080" cy="16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720" y="834120"/>
              <a:ext cx="34920" cy="154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5520" y="834120"/>
              <a:ext cx="32040" cy="1440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7680" y="834840"/>
              <a:ext cx="28440" cy="129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200" y="834840"/>
              <a:ext cx="25200" cy="108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360" y="834840"/>
              <a:ext cx="23040" cy="1008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3080" y="834840"/>
              <a:ext cx="21240" cy="900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5240" y="834840"/>
              <a:ext cx="18000" cy="82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8480" y="834840"/>
              <a:ext cx="13680" cy="75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8800" y="801720"/>
              <a:ext cx="36000" cy="154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0960" y="801720"/>
              <a:ext cx="32760" cy="144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3120" y="802440"/>
              <a:ext cx="29520" cy="12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200" y="802440"/>
              <a:ext cx="28440" cy="1188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280" y="802440"/>
              <a:ext cx="27360" cy="1080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440" y="802440"/>
              <a:ext cx="24480" cy="10800"/>
            </a:xfrm>
            <a:custGeom>
              <a:avLst/>
              <a:gdLst/>
              <a:ahLst/>
              <a:rect l="l" t="t" r="r" b="b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8520" y="802440"/>
              <a:ext cx="21960" cy="100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9600" y="802440"/>
              <a:ext cx="20160" cy="900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1760" y="802440"/>
              <a:ext cx="18000" cy="82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840" y="802440"/>
              <a:ext cx="15840" cy="720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000" y="802440"/>
              <a:ext cx="13680" cy="64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5720" y="803160"/>
              <a:ext cx="11520" cy="43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6480" y="516240"/>
              <a:ext cx="39240" cy="3780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3520" y="621000"/>
              <a:ext cx="14400" cy="14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000" y="979560"/>
              <a:ext cx="20880" cy="201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480" y="812520"/>
              <a:ext cx="244440" cy="53640"/>
            </a:xfrm>
            <a:custGeom>
              <a:avLst/>
              <a:gdLst/>
              <a:ahLst/>
              <a:rect l="l" t="t" r="r" b="b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280" y="1012680"/>
              <a:ext cx="140040" cy="41400"/>
            </a:xfrm>
            <a:custGeom>
              <a:avLst/>
              <a:gdLst/>
              <a:ahLst/>
              <a:rect l="l" t="t" r="r" b="b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8280" y="1020240"/>
              <a:ext cx="138960" cy="29520"/>
            </a:xfrm>
            <a:custGeom>
              <a:avLst/>
              <a:gdLst/>
              <a:ahLst/>
              <a:rect l="l" t="t" r="r" b="b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9360" y="1025640"/>
              <a:ext cx="137880" cy="17280"/>
            </a:xfrm>
            <a:custGeom>
              <a:avLst/>
              <a:gdLst/>
              <a:ahLst/>
              <a:rect l="l" t="t" r="r" b="b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8080" y="1014840"/>
              <a:ext cx="53640" cy="59040"/>
            </a:xfrm>
            <a:custGeom>
              <a:avLst/>
              <a:gdLst/>
              <a:ahLst/>
              <a:rect l="l" t="t" r="r" b="b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1920" y="992520"/>
              <a:ext cx="90000" cy="88560"/>
            </a:xfrm>
            <a:custGeom>
              <a:avLst/>
              <a:gdLst/>
              <a:ahLst/>
              <a:rect l="l" t="t" r="r" b="b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2080" y="989640"/>
              <a:ext cx="73440" cy="8964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5320" y="992520"/>
              <a:ext cx="68760" cy="8496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6400" y="994320"/>
              <a:ext cx="66960" cy="8208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8560" y="997200"/>
              <a:ext cx="63360" cy="77400"/>
            </a:xfrm>
            <a:custGeom>
              <a:avLst/>
              <a:gdLst/>
              <a:ahLst/>
              <a:rect l="l" t="t" r="r" b="b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0720" y="999000"/>
              <a:ext cx="60480" cy="7488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1440" y="1001520"/>
              <a:ext cx="58320" cy="7020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960" y="1003680"/>
              <a:ext cx="55080" cy="6732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6120" y="1006200"/>
              <a:ext cx="51840" cy="63000"/>
            </a:xfrm>
            <a:custGeom>
              <a:avLst/>
              <a:gdLst/>
              <a:ahLst/>
              <a:rect l="l" t="t" r="r" b="b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8280" y="1008000"/>
              <a:ext cx="48600" cy="6012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0080" y="1010880"/>
              <a:ext cx="45720" cy="554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2240" y="1013760"/>
              <a:ext cx="41400" cy="5184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3320" y="1016640"/>
              <a:ext cx="39960" cy="47160"/>
            </a:xfrm>
            <a:custGeom>
              <a:avLst/>
              <a:gdLst/>
              <a:ahLst/>
              <a:rect l="l" t="t" r="r" b="b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38160" cy="11620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212" name="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52280" y="3809880"/>
            <a:ext cx="2819160" cy="2705040"/>
            <a:chOff x="152280" y="3809880"/>
            <a:chExt cx="2819160" cy="2705040"/>
          </a:xfrm>
        </p:grpSpPr>
        <p:sp>
          <p:nvSpPr>
            <p:cNvPr id="215" name=""/>
            <p:cNvSpPr/>
            <p:nvPr/>
          </p:nvSpPr>
          <p:spPr>
            <a:xfrm>
              <a:off x="152280" y="4493880"/>
              <a:ext cx="1508040" cy="1306080"/>
            </a:xfrm>
            <a:prstGeom prst="hexagon">
              <a:avLst>
                <a:gd name="adj" fmla="val 2886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7880" y="380988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5120" y="520884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687160" y="353520"/>
            <a:ext cx="202680" cy="6504120"/>
            <a:chOff x="8687160" y="353520"/>
            <a:chExt cx="202680" cy="6504120"/>
          </a:xfrm>
        </p:grpSpPr>
        <p:sp>
          <p:nvSpPr>
            <p:cNvPr id="219" name=""/>
            <p:cNvSpPr/>
            <p:nvPr/>
          </p:nvSpPr>
          <p:spPr>
            <a:xfrm flipH="1" rot="10800000">
              <a:off x="8686800" y="35352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8813520" y="60120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222" name="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225" name=""/>
            <p:cNvSpPr/>
            <p:nvPr/>
          </p:nvSpPr>
          <p:spPr>
            <a:xfrm flipH="1" rot="5400000">
              <a:off x="5562720" y="347904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5699880" y="346284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3040-F9AF-4852-9DB6-A264D42B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Давайте пожелаем друг другу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Горта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0" t="0" r="46943" b="0"/>
          <a:stretch/>
        </p:blipFill>
        <p:spPr>
          <a:xfrm>
            <a:off x="685800" y="1676520"/>
            <a:ext cx="2895480" cy="4190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9000" y="1371240"/>
            <a:ext cx="5105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Гортань расположен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верхней части ше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Её стенки образов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хрящами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единены между соб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вязками.  В самой уз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части гортани наход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голосовой апп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58514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88640"/>
            <a:ext cx="70106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Образование зву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3716280"/>
            <a:ext cx="52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Book Antiqua"/>
              </a:rPr>
              <a:t>Человек молчит – голосовая щель треугольной форм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638680" y="990720"/>
            <a:ext cx="2971800" cy="502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295280"/>
            <a:ext cx="2087640" cy="18288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838080"/>
            <a:ext cx="2087640" cy="22100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4572000"/>
            <a:ext cx="5616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Book Antiqua"/>
              </a:rPr>
              <a:t>Выдыхаемый воздух колеблет голосовые связки, в результате возникает зву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Гортань принимает участие в образовании  голоса 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838080"/>
            <a:ext cx="2087640" cy="228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352680" cy="4953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rcRect l="0" t="0" r="47526" b="0"/>
          <a:stretch/>
        </p:blipFill>
        <p:spPr>
          <a:xfrm>
            <a:off x="609480" y="1828800"/>
            <a:ext cx="2210040" cy="38098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352680" y="28195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209320" y="2819520"/>
            <a:ext cx="11430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09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х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Трахе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3760" y="456840"/>
            <a:ext cx="33526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Из гортани воздух попадает в трахе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рахея -  это трубка длинной 10-1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5257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Трахея.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Брон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19920" y="533160"/>
            <a:ext cx="2666880" cy="601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Arial"/>
              </a:rPr>
              <a:t>Нижний конец трахеи разделяется на два главных бронха: левый и правый. Каждый бронх многократно ветвится на более мелкие веточки. Самые мелкие бронхи оканчиваются лёгочными пузырьками.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Трахея обеспечивает прохождение воздуха в брон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з бронхов воздух проходит в лёг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3" descr="Bronhitus.jpg"/>
          <p:cNvPicPr/>
          <p:nvPr/>
        </p:nvPicPr>
        <p:blipFill>
          <a:blip r:embed="rId1"/>
          <a:stretch/>
        </p:blipFill>
        <p:spPr>
          <a:xfrm>
            <a:off x="533520" y="762120"/>
            <a:ext cx="3657600" cy="347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6" name="Рисунок 5" descr="517.jpg"/>
          <p:cNvPicPr/>
          <p:nvPr/>
        </p:nvPicPr>
        <p:blipFill>
          <a:blip r:embed="rId2"/>
          <a:stretch/>
        </p:blipFill>
        <p:spPr>
          <a:xfrm>
            <a:off x="3657600" y="762120"/>
            <a:ext cx="2438280" cy="342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7" name="Рисунок 6" descr="26_legAlveoli.jpg"/>
          <p:cNvPicPr/>
          <p:nvPr/>
        </p:nvPicPr>
        <p:blipFill>
          <a:blip r:embed="rId3"/>
          <a:stretch/>
        </p:blipFill>
        <p:spPr>
          <a:xfrm>
            <a:off x="533520" y="4267080"/>
            <a:ext cx="4066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86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Лег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699000" cy="42670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570120" cy="48006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5714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Многочисленные легочные пузырьки и ветвящиеся бронхи образуют лег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Газообмен в лёгк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 лёгких происходит газообмен: кислород поступает в кровь, углекислый газ из крови выходит в лёг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657600" y="552600"/>
            <a:ext cx="4118040" cy="6305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35268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2362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1676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3048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3886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5029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1447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согл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совая по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рт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28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ах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3657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он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81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е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71640" y="1989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36000" y="1728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оставьте свой вопрос по теме урок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914400"/>
          <a:ext cx="8229600" cy="570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Вопро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Отве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во значение …………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ыхании человек получает кислород, а углекислый газ удаляется из организм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органы образуют ……    ……       …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тельная система человека состоит из дыхательных путей и легки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значение имеет кислород  для  …. …. 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 нужен каждой клетке человеческого организ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значение в дыхании имеет   …..     ……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осовой полости воздух очищается, увлажняется и согревается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образуются …… …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тань участвует в образовании звуков реч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Провести эксперимент: «Правильно ли вы дышите?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Читать текст «Значение дыхания»,  стр. 115; составить рассказ о путешествии кислорода по вашему 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читать текст  на стр. 116 «Органы дыхательной системы». Ответить на вопрос: Почему необходимо дышать через н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6" descr="096.gif"/>
          <p:cNvPicPr/>
          <p:nvPr/>
        </p:nvPicPr>
        <p:blipFill>
          <a:blip r:embed="rId1"/>
          <a:stretch/>
        </p:blipFill>
        <p:spPr>
          <a:xfrm>
            <a:off x="6858000" y="5410080"/>
            <a:ext cx="1447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Нам в этом мире многое да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Расти, искать и ошибать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Но, главное дано </a:t>
            </a: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дышат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MOI12"/>
          <p:cNvPicPr/>
          <p:nvPr/>
        </p:nvPicPr>
        <p:blipFill>
          <a:blip r:embed="rId1"/>
          <a:stretch/>
        </p:blipFill>
        <p:spPr>
          <a:xfrm>
            <a:off x="5943600" y="441972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669900"/>
                </a:solidFill>
                <a:latin typeface="Arial"/>
              </a:rPr>
              <a:t>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800" spc="-1" strike="noStrike">
                <a:solidFill>
                  <a:srgbClr val="0033cc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7200" spc="-1" strike="noStrike">
                <a:solidFill>
                  <a:srgbClr val="3399ff"/>
                </a:solidFill>
                <a:latin typeface="Arial"/>
              </a:rPr>
              <a:t>е</a:t>
            </a:r>
            <a:r>
              <a:rPr b="1" lang="en-US" sz="6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en-US" sz="8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1" lang="en-US" sz="7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42640" y="15235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«Органы дыхания. Значение дыхания в жизни человека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Наша 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2666880" y="228600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.Ответить на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Зачем мы дыш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. Узнать из каких органов состоит дыхательная система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дых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1.  организм получает кислоро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2.  углекислый газ  удаляется из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3.   кислород необходим для работы каждой клетке орган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304920" y="152280"/>
            <a:ext cx="8533440" cy="6553080"/>
            <a:chOff x="304920" y="152280"/>
            <a:chExt cx="8533440" cy="6553080"/>
          </a:xfrm>
        </p:grpSpPr>
        <p:cxnSp>
          <p:nvCxnSpPr>
            <p:cNvPr id="279" name="_s14340"/>
            <p:cNvCxnSpPr>
              <a:stCxn id="280" idx="1"/>
              <a:endCxn id="281" idx="2"/>
            </p:cNvCxnSpPr>
            <p:nvPr/>
          </p:nvCxnSpPr>
          <p:spPr>
            <a:xfrm rot="10800000">
              <a:off x="5324040" y="1591560"/>
              <a:ext cx="488160" cy="4829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2" name="_s14341"/>
            <p:cNvCxnSpPr>
              <a:stCxn id="283" idx="1"/>
              <a:endCxn id="281" idx="2"/>
            </p:cNvCxnSpPr>
            <p:nvPr/>
          </p:nvCxnSpPr>
          <p:spPr>
            <a:xfrm rot="10800000">
              <a:off x="5324040" y="1591560"/>
              <a:ext cx="488160" cy="3976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4" name="_s14342"/>
            <p:cNvCxnSpPr>
              <a:stCxn id="285" idx="1"/>
              <a:endCxn id="281" idx="2"/>
            </p:cNvCxnSpPr>
            <p:nvPr/>
          </p:nvCxnSpPr>
          <p:spPr>
            <a:xfrm rot="10800000">
              <a:off x="5324040" y="1591560"/>
              <a:ext cx="488160" cy="31244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6" name="_s14343"/>
            <p:cNvCxnSpPr>
              <a:stCxn id="287" idx="1"/>
              <a:endCxn id="281" idx="2"/>
            </p:cNvCxnSpPr>
            <p:nvPr/>
          </p:nvCxnSpPr>
          <p:spPr>
            <a:xfrm rot="10800000">
              <a:off x="5324040" y="1591560"/>
              <a:ext cx="488160" cy="22687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8" name="_s14344"/>
            <p:cNvCxnSpPr>
              <a:stCxn id="289" idx="1"/>
              <a:endCxn id="281" idx="2"/>
            </p:cNvCxnSpPr>
            <p:nvPr/>
          </p:nvCxnSpPr>
          <p:spPr>
            <a:xfrm rot="10800000">
              <a:off x="5324040" y="1591560"/>
              <a:ext cx="488160" cy="14130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90" name="_s14345"/>
            <p:cNvCxnSpPr>
              <a:stCxn id="291" idx="1"/>
              <a:endCxn id="281" idx="2"/>
            </p:cNvCxnSpPr>
            <p:nvPr/>
          </p:nvCxnSpPr>
          <p:spPr>
            <a:xfrm rot="10800000">
              <a:off x="5324040" y="1591560"/>
              <a:ext cx="488160" cy="5572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92" name="_s14346"/>
            <p:cNvCxnSpPr>
              <a:stCxn id="281" idx="0"/>
              <a:endCxn id="293" idx="2"/>
            </p:cNvCxnSpPr>
            <p:nvPr/>
          </p:nvCxnSpPr>
          <p:spPr>
            <a:xfrm flipV="1" rot="16200000">
              <a:off x="4316760" y="-13320"/>
              <a:ext cx="258480" cy="1757160"/>
            </a:xfrm>
            <a:prstGeom prst="bentConnector3">
              <a:avLst>
                <a:gd name="adj1" fmla="val 4435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94" name="_s14347"/>
            <p:cNvCxnSpPr>
              <a:stCxn id="295" idx="0"/>
              <a:endCxn id="293" idx="2"/>
            </p:cNvCxnSpPr>
            <p:nvPr/>
          </p:nvCxnSpPr>
          <p:spPr>
            <a:xfrm flipH="1" flipV="1" rot="5400000">
              <a:off x="2559960" y="-13680"/>
              <a:ext cx="258480" cy="1757880"/>
            </a:xfrm>
            <a:prstGeom prst="bentConnector3">
              <a:avLst>
                <a:gd name="adj1" fmla="val 44351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93" name="_s14348"/>
            <p:cNvSpPr/>
            <p:nvPr/>
          </p:nvSpPr>
          <p:spPr>
            <a:xfrm>
              <a:off x="2062080" y="15228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ыхательная систем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4349"/>
            <p:cNvSpPr/>
            <p:nvPr/>
          </p:nvSpPr>
          <p:spPr>
            <a:xfrm>
              <a:off x="304920" y="100800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Лег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4350"/>
            <p:cNvSpPr/>
            <p:nvPr/>
          </p:nvSpPr>
          <p:spPr>
            <a:xfrm>
              <a:off x="3818520" y="100800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ыхатель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4351"/>
            <p:cNvSpPr/>
            <p:nvPr/>
          </p:nvSpPr>
          <p:spPr>
            <a:xfrm>
              <a:off x="5826600" y="186372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совая пол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4352"/>
            <p:cNvSpPr/>
            <p:nvPr/>
          </p:nvSpPr>
          <p:spPr>
            <a:xfrm>
              <a:off x="5826600" y="2719440"/>
              <a:ext cx="3008520" cy="570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соглот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4353"/>
            <p:cNvSpPr/>
            <p:nvPr/>
          </p:nvSpPr>
          <p:spPr>
            <a:xfrm>
              <a:off x="5826600" y="3575160"/>
              <a:ext cx="3008520" cy="570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лот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4354"/>
            <p:cNvSpPr/>
            <p:nvPr/>
          </p:nvSpPr>
          <p:spPr>
            <a:xfrm>
              <a:off x="5826600" y="4430880"/>
              <a:ext cx="3008520" cy="568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та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4355"/>
            <p:cNvSpPr/>
            <p:nvPr/>
          </p:nvSpPr>
          <p:spPr>
            <a:xfrm>
              <a:off x="5826600" y="5285160"/>
              <a:ext cx="3008520" cy="568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ах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4356"/>
            <p:cNvSpPr/>
            <p:nvPr/>
          </p:nvSpPr>
          <p:spPr>
            <a:xfrm>
              <a:off x="5826600" y="6139080"/>
              <a:ext cx="3008520" cy="566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ронх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533840" cy="45338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489200" cy="556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Носовая по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Носовая по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 носовой полости воздух очищается, увлажняется и согре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Из носовой полости воздух через носоглотку попадает в гло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Из глотки воздух попадает в горт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rcRect l="5952" t="3613" r="22999" b="9639"/>
          <a:stretch/>
        </p:blipFill>
        <p:spPr>
          <a:xfrm>
            <a:off x="685800" y="1523880"/>
            <a:ext cx="3962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ion</cp:lastModifiedBy>
  <dcterms:modified xsi:type="dcterms:W3CDTF">2013-05-08T17:13:55Z</dcterms:modified>
  <cp:revision>17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